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E35E-492D-493B-A929-20FED66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4CD-E34F-4765-AAEA-F30396E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6295-0B28-4744-BA88-5871ADD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DD7A-B463-424B-BF41-FC238B89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1730-BD12-4C79-8FA9-0F176100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EEDE-8686-46DE-B475-FFE16BB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03C6-D163-4A88-A647-677D8A37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D1F5-01C5-47CF-9B83-3DD2493D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44D2-07C2-403E-9B2E-E66102CE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173B-DCE8-4CDD-8AAD-DA224264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E63F-7096-4425-A9CC-116D72BA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A7B5-A659-4171-B1F2-12F43FD1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DA2F-CCF3-4D06-A142-ACD07977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E64A-3AD8-4E7C-822A-0F6712BB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B366-9AE3-4BF5-8C9C-4782365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E1C0-C10B-458E-96C7-293F5D8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7B71-5CEF-4001-B803-DF89406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72EB-2622-4014-9D18-5F96F9B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99D8-7198-44FF-A000-8FE9EAB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4E10-1A75-4366-BEC4-971C88C7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8A97-15EA-415A-AC5E-40C8E06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808-5FB0-4EE6-8C3D-F0DC91B1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FE8-E3E5-4F86-81D9-6F553C47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18D-DEEF-4A05-A619-767009B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DAC-B829-4944-9431-3494CD6F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058-9B2D-498C-A031-6C50F42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27D-018A-4697-811C-1E9887B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6E8-0488-4741-80A1-122F0FD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422-18F3-42B1-8047-3354264A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985-1469-4C7E-82A5-8E2FCDA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76B-3C20-4EE0-BE7C-6F741BC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073-98C0-42EB-A314-FC821B0B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3CF-7106-4114-86F0-F3E44C6D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389E-8E09-487E-8754-47137598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2DDB-9A7A-48B1-BAA4-35778471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8636-9DBE-425B-BB88-4D1D966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5117-1B07-4271-840A-80233324F2E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2"/>
          <p:cNvSpPr/>
          <p:nvPr/>
        </p:nvSpPr>
        <p:spPr>
          <a:xfrm>
            <a:off x="3571920" y="6500880"/>
            <a:ext cx="557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717272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8425255/6/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 真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893138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3571920" y="6500880"/>
            <a:ext cx="557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717272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8425255/6/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 真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893138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571920" y="6500880"/>
            <a:ext cx="557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717272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8425255/6/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 真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893138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"/>
          <p:cNvSpPr/>
          <p:nvPr/>
        </p:nvSpPr>
        <p:spPr>
          <a:xfrm>
            <a:off x="3571920" y="6500880"/>
            <a:ext cx="557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717272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8425255/6/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 真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893138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3571920" y="6500880"/>
            <a:ext cx="557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717272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8425255/6/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 真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893138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2"/>
          <p:cNvSpPr/>
          <p:nvPr/>
        </p:nvSpPr>
        <p:spPr>
          <a:xfrm>
            <a:off x="3571920" y="6500880"/>
            <a:ext cx="5572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717272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电话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58425255/6/7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 真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0-893138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2C74-A3E9-4157-8D10-80FB5BA2D4E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8FD-C90B-420D-9671-80E062C2B53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979640" y="537372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隶书"/>
              </a:rPr>
              <a:t>                         </a:t>
            </a:r>
            <a:r>
              <a:rPr b="1" lang="zh-CN" sz="4800" spc="-1" strike="noStrike">
                <a:solidFill>
                  <a:srgbClr val="c0504d"/>
                </a:solidFill>
                <a:latin typeface="Calibri"/>
                <a:ea typeface="隶书"/>
              </a:rPr>
              <a:t>季羡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3"/>
          <p:cNvSpPr txBox="1"/>
          <p:nvPr/>
        </p:nvSpPr>
        <p:spPr>
          <a:xfrm>
            <a:off x="1332000" y="4627440"/>
            <a:ext cx="313848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13500000" blurRad="0" rotWithShape="0">
                    <a:srgbClr val="990000">
                      <a:alpha val="50000"/>
                    </a:srgbClr>
                  </a:outerShdw>
                </a:effectLst>
                <a:latin typeface="宋体"/>
              </a:rPr>
              <a:t>成  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13500000" blurRad="0" rotWithShape="0">
                  <a:srgbClr val="99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四、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微软雅黑"/>
              </a:rPr>
              <a:t>分析论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。对于有些隐含的中心论点，需要我们分析文章所用的论据，看这些论据为了证明什么，此处“什么”即中心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五、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  <a:ea typeface="微软雅黑"/>
              </a:rPr>
              <a:t>归纳综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微软雅黑"/>
              </a:rPr>
              <a:t>，有时中心论点分解为好几个分论点，这就需要逐个分析，再综合归纳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395280" y="152280"/>
            <a:ext cx="8353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议论文中用来证明论点，支撑论点的材料即论据，它为论点服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1905120" y="2209680"/>
            <a:ext cx="236196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事实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道理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191120" y="2209680"/>
            <a:ext cx="45720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凡能证明论点的事实都可以作为事实论据，包括事例和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凡科学原理、名言谚语、格言警句都可作事理论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52280" y="3184560"/>
            <a:ext cx="175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论据分两大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1828800" y="2514600"/>
            <a:ext cx="152280" cy="2743200"/>
          </a:xfrm>
          <a:custGeom>
            <a:avLst/>
            <a:gdLst>
              <a:gd name="textAreaLeft" fmla="*/ 44640 w 152280"/>
              <a:gd name="textAreaRight" fmla="*/ 152640 w 15228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日期占位符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事实论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囊萤——据说晋朝车胤，幼时家境贫寒，无钱买油点灯读书，于是夏夜捉萤火虫放入布袋，凭着萤火虫发出的亮光读书，后博学多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3" descr="锦鸡"/>
          <p:cNvPicPr/>
          <p:nvPr/>
        </p:nvPicPr>
        <p:blipFill>
          <a:blip r:embed="rId1"/>
          <a:srcRect l="20622" t="4122" r="21649" b="0"/>
          <a:stretch/>
        </p:blipFill>
        <p:spPr>
          <a:xfrm>
            <a:off x="4876920" y="1197000"/>
            <a:ext cx="4267080" cy="5315040"/>
          </a:xfrm>
          <a:prstGeom prst="rect">
            <a:avLst/>
          </a:prstGeom>
          <a:ln w="0">
            <a:noFill/>
          </a:ln>
        </p:spPr>
      </p:pic>
      <p:sp>
        <p:nvSpPr>
          <p:cNvPr id="433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826920" y="1219320"/>
            <a:ext cx="7631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论题——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微软雅黑"/>
              </a:rPr>
              <a:t>成功之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中心论点——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微软雅黑"/>
              </a:rPr>
              <a:t>勤奋是成功之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85800" y="32767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四、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分析论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对于有些隐含的中心论点，需要我们分析文章所用的论据，看这些论据为了证明什么，此处“什么”即中心论点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684360" y="4762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课文，把握关键句，理清文章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900000" y="285264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979640" y="1700280"/>
            <a:ext cx="2519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出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547640" y="1916280"/>
            <a:ext cx="287640" cy="3313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4429080" y="1700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谈对成功的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442764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450072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4500720" y="3857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机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4284720" y="285264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4284720" y="4724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希望人们能通过勤奋使学习、工作走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2" descr="图片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229360"/>
            <a:ext cx="1342800" cy="1441440"/>
          </a:xfrm>
          <a:prstGeom prst="rect">
            <a:avLst/>
          </a:prstGeom>
          <a:ln w="0">
            <a:noFill/>
          </a:ln>
        </p:spPr>
      </p:pic>
      <p:sp>
        <p:nvSpPr>
          <p:cNvPr id="448" name="日期占位符 1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608040" y="-3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探究练习一：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755640" y="112536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一：电视剧《我的太阳》中有位女舞蹈演员，为了艺术上有所成就，不仅天天苦练，而且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还不愿生孩子，搞得婆媳关系很紧张，宁肯离婚也不让步。可是她专业成绩平平，一共也没当过几回主角，这位演员作出了这么大的牺牲，最后却不得不忍痛离开舞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二：有人说杨丽萍就是专门为舞蹈而生的，她的好多作品都给人们留下难以磨灭的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53132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参考：成功路上，必须承认人与人之间天资是不相同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523880" y="9144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140040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探究练习二：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684360" y="1052640"/>
            <a:ext cx="748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一：王安石《伤仲永》一文中的方仲永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时就认识书写工具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就能指物作诗。邻居家有事常喊他去作诗并给他报酬。其父觉得有利可图，便拉着他到处赚钱，不让其学习，结果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时“泯然众人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二：据《青年博览》刊载，少年大学生钱某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时就会微积分，被认为是神童，进入合肥科技大学学习。平时，学生们上课，他却在校园里野逛，成绩一落千丈。老师多次劝说仍无进步，后来退学当了油漆工，从此告别神童生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三：南北朝时的江淹，少时笃志好学，其诗幽丽精工，《恨赋》、《别赋》脍炙人口，晚年满足安逸生活，再也写不出好文章来，人称“江郎才尽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3677400" y="60022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参考：如果不勤奋，则天资再高也毫无用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日期占位符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1692360" y="9810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612720" y="262080"/>
            <a:ext cx="5327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Arial"/>
                <a:ea typeface="微软雅黑"/>
              </a:rPr>
              <a:t>    </a:t>
            </a:r>
            <a:r>
              <a:rPr b="1" lang="zh-CN" sz="4000" spc="-1" strike="noStrike">
                <a:solidFill>
                  <a:srgbClr val="1f497d"/>
                </a:solidFill>
                <a:latin typeface="Arial"/>
                <a:ea typeface="微软雅黑"/>
              </a:rPr>
              <a:t>探究练习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826920" y="1052640"/>
            <a:ext cx="749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材料一：凡尔纳是法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世纪著名的科幻小说家，自从他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岁那年发表第一部科幻小说起，平均每年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到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部作品问世，是世界第一流的多产作家。然而他的第一部科幻小说《气球上的星期五》完稿后，先后寄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家出版社，都被退了回来。凡尔纳一气之下，准备付之一炬时，他的妻子一把夺过，劝他不要灰心，再试一次。第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家出版社的经理赫哲尔读后，极为欣赏，不但决定立即出版，而且还与他订了一个为期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年的合同，他的科幻小说很快风行全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材料二：著名喜剧演员卓别林在一次临时安排的特别演出中，显示了他卓越的艺术才能。那时他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岁，当喜剧演员的母亲在演出里嗓子突然哑了，她不得不离开舞台。面对一片混乱，有人建议让卓别林上台代替母亲表演。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岁的卓别林面对灿烂的为桃和挤满剧场的观众，无拘无束地唱了一首歌，接着又 说又唱又舞，表演了几个节目，后来情不自禁地学着母亲沙哑的嗓音唱歌，得到了观众热烈的掌声。正是这次偶然的机会，决定了卓别林今后的生活道路，成为杰出的电影表演艺术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426560" y="61657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参考：机遇其实是存在的，而且有时候影响极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日期占位符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342900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-1062000" y="0"/>
            <a:ext cx="761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Arial"/>
                <a:ea typeface="微软雅黑"/>
              </a:rPr>
              <a:t>  </a:t>
            </a:r>
            <a:r>
              <a:rPr b="1" lang="zh-CN" sz="4000" spc="-1" strike="noStrike">
                <a:solidFill>
                  <a:srgbClr val="1f497d"/>
                </a:solidFill>
                <a:latin typeface="Arial"/>
                <a:ea typeface="微软雅黑"/>
              </a:rPr>
              <a:t>探究练习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666880" y="13716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295280" y="91440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一：我国数学家陈景润为解决“哥德巴赫猜想”，坚持每天凌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起床学外语，同时每天去图书馆。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中午，管理员临走时曾大声喊问里面是否有人，但全神贯注的陈没有听见，被反锁在里面，后来他毫不在意的微笑一下，又重回书堆中。最终他成为数学大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材料二：贝多芬小时候弹钢琴专注时，手指在键盘上磨得滚烫。为长期弹下去，他在琴旁放一盆凉水，把手指浸在水中泡凉后接着弹，水撩在地板上积少成多，漏到楼下房东家里却浑然不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403280" y="474984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参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勤奋，完全由我们自己决定，我们必须在这一项上狠下功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做学问或干事业，勤奋是成功的必由之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日期占位符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天资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勤奋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zh-CN" sz="4400" spc="-1" strike="noStrike">
                <a:solidFill>
                  <a:srgbClr val="c0504d"/>
                </a:solidFill>
                <a:latin typeface="Calibri"/>
              </a:rPr>
              <a:t>机遇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zh-CN" sz="4400" spc="-1" strike="noStrike">
                <a:solidFill>
                  <a:srgbClr val="993300"/>
                </a:solidFill>
                <a:latin typeface="Calibri"/>
              </a:rPr>
              <a:t>成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90720" y="3962520"/>
            <a:ext cx="1218960" cy="119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无能为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52880" y="4114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029200" y="3962520"/>
            <a:ext cx="1143000" cy="119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无能为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971800" y="3962520"/>
            <a:ext cx="1143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自己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 flipV="1">
            <a:off x="1600200" y="28191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 flipV="1">
            <a:off x="3581280" y="28191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 flipV="1">
            <a:off x="5562720" y="28191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0"/>
          <p:cNvGrpSpPr/>
          <p:nvPr/>
        </p:nvGrpSpPr>
        <p:grpSpPr>
          <a:xfrm>
            <a:off x="3505320" y="1523880"/>
            <a:ext cx="3962160" cy="533520"/>
            <a:chOff x="3505320" y="1523880"/>
            <a:chExt cx="3962160" cy="533520"/>
          </a:xfrm>
        </p:grpSpPr>
        <p:sp>
          <p:nvSpPr>
            <p:cNvPr id="478" name="Line 11"/>
            <p:cNvSpPr/>
            <p:nvPr/>
          </p:nvSpPr>
          <p:spPr>
            <a:xfrm>
              <a:off x="3505320" y="1523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3505320" y="1523880"/>
              <a:ext cx="39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7467480" y="1523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14"/>
          <p:cNvSpPr/>
          <p:nvPr/>
        </p:nvSpPr>
        <p:spPr>
          <a:xfrm>
            <a:off x="4724280" y="1004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日期占位符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78920" y="1989000"/>
            <a:ext cx="53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季羡林（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11——2009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北京大学教授，中科院院士，著名古文字学家、历史学家、作家。曾任中国科学院哲学社会科学部委员，北京大学副校长，中国社会科学院南亚研究所所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3" descr="季羡林2"/>
          <p:cNvPicPr/>
          <p:nvPr/>
        </p:nvPicPr>
        <p:blipFill>
          <a:blip r:embed="rId1"/>
          <a:stretch/>
        </p:blipFill>
        <p:spPr>
          <a:xfrm>
            <a:off x="5410080" y="1219320"/>
            <a:ext cx="3564000" cy="44956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895320" y="574560"/>
            <a:ext cx="41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日期占位符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24000" y="907920"/>
            <a:ext cx="83055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Arial"/>
                <a:ea typeface="微软雅黑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Arial"/>
                <a:ea typeface="微软雅黑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、作者是怎样来论述勤奋是成功的根本条件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家喻户晓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引用韩愈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引用王国维的经典比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6435720" y="396252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673680" y="42195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勤奋是成功之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映雪——晋代孙康，好学而家贫，于严寒的冬夜坐在雪地里，利用白雪的反光苦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3" descr="1477"/>
          <p:cNvPicPr/>
          <p:nvPr/>
        </p:nvPicPr>
        <p:blipFill>
          <a:blip r:embed="rId1"/>
          <a:srcRect l="0" t="0" r="4624" b="0"/>
          <a:stretch/>
        </p:blipFill>
        <p:spPr>
          <a:xfrm>
            <a:off x="5372280" y="2060640"/>
            <a:ext cx="3771720" cy="4314600"/>
          </a:xfrm>
          <a:prstGeom prst="rect">
            <a:avLst/>
          </a:prstGeom>
          <a:ln w="0">
            <a:noFill/>
          </a:ln>
        </p:spPr>
      </p:pic>
      <p:sp>
        <p:nvSpPr>
          <p:cNvPr id="489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107640" y="126792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悬梁——西汉人孙敬，好学，读书至夜不息。为了不使自己瞌睡，用绳系住自己的发髻，悬于屋梁，坚持多年，后终年成一代名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3" descr="1559"/>
          <p:cNvPicPr/>
          <p:nvPr/>
        </p:nvPicPr>
        <p:blipFill>
          <a:blip r:embed="rId1"/>
          <a:srcRect l="0" t="0" r="1415" b="0"/>
          <a:stretch/>
        </p:blipFill>
        <p:spPr>
          <a:xfrm>
            <a:off x="4724280" y="1828800"/>
            <a:ext cx="4343400" cy="5019840"/>
          </a:xfrm>
          <a:prstGeom prst="rect">
            <a:avLst/>
          </a:prstGeom>
          <a:ln w="0">
            <a:noFill/>
          </a:ln>
        </p:spPr>
      </p:pic>
      <p:sp>
        <p:nvSpPr>
          <p:cNvPr id="492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刺股——战国时辩士苏秦游说秦王失败后，发愤读书，日夜不息。疲惫欲睡之际，以锥刺自己的大腿，驱除睡意，勤奋学习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3" descr="梅花"/>
          <p:cNvPicPr/>
          <p:nvPr/>
        </p:nvPicPr>
        <p:blipFill>
          <a:blip r:embed="rId1"/>
          <a:srcRect l="21875" t="0" r="17189" b="0"/>
          <a:stretch/>
        </p:blipFill>
        <p:spPr>
          <a:xfrm>
            <a:off x="4938840" y="1676520"/>
            <a:ext cx="3900240" cy="4800600"/>
          </a:xfrm>
          <a:prstGeom prst="rect">
            <a:avLst/>
          </a:prstGeom>
          <a:ln w="0">
            <a:noFill/>
          </a:ln>
        </p:spPr>
      </p:pic>
      <p:sp>
        <p:nvSpPr>
          <p:cNvPr id="495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5003640" y="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道理论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2061000" y="1119960"/>
            <a:ext cx="44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A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业精于勤，荒于嬉；行成于思，毁于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70520" y="17733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B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焚膏油以继晷，恒兀兀以穷年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882720" y="256464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昨夜西风凋碧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独上高楼，望尽天涯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26920" y="385272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写的是作者一夜难眠，晨起登高，极目远眺，西风黄叶，天涯路长，想和思念的人通个音信，却因山长水阔而不知道她在何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755640" y="55116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王国维以此说明第一境界：高瞻远瞩，选定目标。故也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立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。作者解释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预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日期占位符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2112480" y="1337400"/>
            <a:ext cx="39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带渐宽终不悔，为伊消的人憔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16000" y="26978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诗写作者独自登上高楼，心中的愁苦难言。想借酒浇愁，强扮欢颜，终觉无味。最后两句点题：原来在思念一个女子，为了她，自己一天天憔悴下去也在所不惜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1042920" y="47196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王国维以此比喻为第二境界：百折不挠，艰苦奋斗。故也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追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。作者解释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勤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2006640" y="54864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里寻他千百度，蓦然回首，那人却在，灯火阑珊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26920" y="19814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这首诗写上元之夜，灯月交辉、车马喧闹。观灯女郎，笑语幽香，飘然而过。然而意中人千寻万觅，杳无踪影，似乎已经绝望了。谁料蓦然回首，竟看见他在灯火阑珊之处。悲喜交集，戛然而止，令人回味无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900000" y="42868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王国维以此比喻为第三境界：豁然开朗，妙手得之。故也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获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。作者解释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成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539640" y="1917720"/>
            <a:ext cx="821052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蝶恋花（晏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槛菊愁烟兰泣露。罗幕轻寒，燕子双飞去。明月不谙离别苦，斜光到晓穿朱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昨夜西风凋碧树。独上高楼，望尽天涯路。欲寄彩笺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jiān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）无尺素，山长水阔知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539640" y="1765440"/>
            <a:ext cx="82105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凤栖梧（柳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伫倚危楼风细细，望极春愁，黯黯生天际。草色烟光残照里，无言谁会凭栏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拟把疏狂图一醉，对酒当歌，强乐还无味。衣带渐宽终不悔，为伊消得人憔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81080" y="1468440"/>
            <a:ext cx="89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青玉案（辛弃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东风夜放花千树，更吹落，星如雨。宝马雕车香满路，风箫声动，玉壶光转，一夜鱼龙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　　蛾儿、雪柳、黄金缕，笑语盈盈暗香去。众里寻他千百度，蓦然回首，那人却在灯火阑珊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日期占位符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3606840" y="316476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季老说过，自己喜欢的人“是这样的：质朴，淳厚，诚恳，平易；骨头硬，心肠软；怀真情，讲真话；不阿谀奉承，不背后议论；不人前一面，人后一面；无哗众取宠之意，有实事求是之心；不是丝毫不考虑个人利益，而是多为别人考虑；关键是一个‘真’字，是性情中人；最高水平当然是孟子说的‘富贵不能淫，贫贱不能移，威武不能屈’。”季老也正是这样品德崇高、个性坚毅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F2004051010150100000"/>
          <p:cNvPicPr/>
          <p:nvPr/>
        </p:nvPicPr>
        <p:blipFill>
          <a:blip r:embed="rId1"/>
          <a:stretch/>
        </p:blipFill>
        <p:spPr>
          <a:xfrm>
            <a:off x="0" y="1125360"/>
            <a:ext cx="3492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836640"/>
            <a:ext cx="8839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王国维的三种境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微软雅黑"/>
              </a:rPr>
              <a:t>第一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：“昨夜西风凋碧树。独上高楼，望尽天涯路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——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高瞻远瞩，选定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微软雅黑"/>
              </a:rPr>
              <a:t>第二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：“衣带渐宽终不悔，为伊消得人憔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——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百折不挠，艰苦奋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微软雅黑"/>
              </a:rPr>
              <a:t>第三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：“众里寻他千百度。蓦然回首，那人却在，灯火阑珊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——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豁然开朗，妙手得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308720" y="2355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（立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727236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（追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7308720" y="508464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（获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日期占位符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思考：拓展观点，我看成功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27000" y="1663560"/>
            <a:ext cx="8748720" cy="26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对于成功所需条件的看法，从不同的角度看可能观点未必相同，请你结合自己的学习、生活、阅读体验谈谈你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成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在某些时候，不仅需要天资、勤奋与机遇，还需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请同学们替这个省略号补充上你认为成功还需要的重要因素，说说理由。</a:t>
            </a:r>
            <a:r>
              <a:rPr b="0" lang="zh-CN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42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资料参考：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468360" y="990720"/>
            <a:ext cx="7632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人认为成功要耐得住寂寞；有人认为自卑是成功的障碍；有人认为成功需要锲而不舍的精神；需要点滴的积累、需要大胆的尝试、勇于面对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468360" y="2254320"/>
            <a:ext cx="76201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你想要获得成功，就要以持之以恒为朋友，以经验为顾问，以耐心为兄弟，以希望为守望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默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436680" y="3789360"/>
            <a:ext cx="769608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因斯坦的成功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=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艰苦劳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正确方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少说空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80960" y="5013360"/>
            <a:ext cx="7620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嘉诚认为成功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理性智商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情绪智商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心灵智商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日期占位符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071440" y="0"/>
            <a:ext cx="7072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有关成功的名言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1" name="Line 4"/>
          <p:cNvSpPr/>
          <p:nvPr/>
        </p:nvSpPr>
        <p:spPr>
          <a:xfrm>
            <a:off x="6156360" y="907920"/>
            <a:ext cx="2879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"/>
          <p:cNvSpPr/>
          <p:nvPr/>
        </p:nvSpPr>
        <p:spPr>
          <a:xfrm>
            <a:off x="108000" y="907920"/>
            <a:ext cx="2879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"/>
          <p:cNvSpPr/>
          <p:nvPr/>
        </p:nvSpPr>
        <p:spPr>
          <a:xfrm>
            <a:off x="1117440" y="5803920"/>
            <a:ext cx="6913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332000" y="1303200"/>
            <a:ext cx="7273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天才，是百分之一的灵感加百分之九十九的汗水。”——爱迪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天才就是劳动。”——高尔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才能来自于勤奋学习。”——钱伟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我决不相信，任何先天的和后天的才能，可以无需坚定的长期苦干的品质而得到成功的。”——狄更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锲而舍之，朽木不折；锲而不舍，金石可镂。”——荀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10"/>
          <p:cNvPicPr/>
          <p:nvPr/>
        </p:nvPicPr>
        <p:blipFill>
          <a:blip r:embed="rId1"/>
          <a:srcRect l="0" t="0" r="0" b="13"/>
          <a:stretch/>
        </p:blipFill>
        <p:spPr>
          <a:xfrm>
            <a:off x="108000" y="2637000"/>
            <a:ext cx="1535040" cy="5051160"/>
          </a:xfrm>
          <a:prstGeom prst="rect">
            <a:avLst/>
          </a:prstGeom>
          <a:ln w="0">
            <a:noFill/>
          </a:ln>
        </p:spPr>
      </p:pic>
      <p:sp>
        <p:nvSpPr>
          <p:cNvPr id="536" name="日期占位符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</a:rPr>
              <a:t>中心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3200" spc="-1" strike="noStrike">
                <a:solidFill>
                  <a:srgbClr val="c0504d"/>
                </a:solidFill>
                <a:latin typeface="Calibri"/>
              </a:rPr>
              <a:t>文章以个人经历说道理，分析成功的三个必要条件，指出无论是治学或是干事业，都不能只依赖天资和机遇，只有通过勤奋，才能走向成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4" descr="水墨画"/>
          <p:cNvPicPr/>
          <p:nvPr/>
        </p:nvPicPr>
        <p:blipFill>
          <a:blip r:embed="rId1"/>
          <a:stretch/>
        </p:blipFill>
        <p:spPr>
          <a:xfrm>
            <a:off x="3900600" y="3573360"/>
            <a:ext cx="5279760" cy="396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柳叶"/>
          <p:cNvPicPr/>
          <p:nvPr/>
        </p:nvPicPr>
        <p:blipFill>
          <a:blip r:embed="rId2"/>
          <a:stretch/>
        </p:blipFill>
        <p:spPr>
          <a:xfrm>
            <a:off x="5597640" y="-20520"/>
            <a:ext cx="3654360" cy="2813040"/>
          </a:xfrm>
          <a:prstGeom prst="rect">
            <a:avLst/>
          </a:prstGeom>
          <a:ln w="0">
            <a:noFill/>
          </a:ln>
        </p:spPr>
      </p:pic>
      <p:sp>
        <p:nvSpPr>
          <p:cNvPr id="541" name="日期占位符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标题 1"/>
          <p:cNvSpPr/>
          <p:nvPr/>
        </p:nvSpPr>
        <p:spPr>
          <a:xfrm>
            <a:off x="728640" y="5029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观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动印象：智者永，仁者寿，长者随心所欲，曾经的红衣少年，如今的白发先生，留德十年寒窗苦，牛棚杂忆密辛多，心有良知璞玉，笔下道德文章。一介布衣，言有物，行有格，贫贱不移，荣辱不惊。 　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颁奖词：学问铸成大地的风景，他把心汇入传说，把心留在东方。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743120" y="43020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539640" y="404640"/>
            <a:ext cx="7810560" cy="63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       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论证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 要   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论点分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论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论证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论证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论证语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60640" y="766800"/>
            <a:ext cx="6778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论文        驳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论           驳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点           论据        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心论点    分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实论据    道理论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举例论证    道理论证    比喻论证  对比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2127240" y="3830760"/>
            <a:ext cx="387360" cy="1744560"/>
          </a:xfrm>
          <a:custGeom>
            <a:avLst/>
            <a:gdLst>
              <a:gd name="textAreaLeft" fmla="*/ 247680 w 387360"/>
              <a:gd name="textAreaRight" fmla="*/ 387720 w 387360"/>
              <a:gd name="textAreaTop" fmla="*/ 45360 h 1744560"/>
              <a:gd name="textAreaBottom" fmla="*/ 1699200 h 174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3747960" y="3497400"/>
            <a:ext cx="144720" cy="934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745080" y="4737240"/>
            <a:ext cx="147600" cy="1511280"/>
          </a:xfrm>
          <a:custGeom>
            <a:avLst/>
            <a:gdLst>
              <a:gd name="textAreaLeft" fmla="*/ 94320 w 147600"/>
              <a:gd name="textAreaRight" fmla="*/ 147960 w 1476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2756160" y="374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基本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2745360" y="527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见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4147920" y="4632480"/>
            <a:ext cx="7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并列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照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层进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分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892680" y="3365640"/>
            <a:ext cx="190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出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决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2645280" y="6172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严谨  概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8350200" y="1789200"/>
            <a:ext cx="57636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议论文知识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032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论证的方法：</a:t>
            </a: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）举例论证：用确凿、充分、有代表性的事例证明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）道理论证：用科学原因、定律和公认的谚语、格言等证明中心论点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）正反对比论证：用正反两方面的论点、论据对比，在对比中证明论点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）比喻论证：用比喻的方法论证。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7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152280" y="2911320"/>
            <a:ext cx="1981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议论文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三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286000" y="1996920"/>
            <a:ext cx="129528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论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论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2124000" y="2276640"/>
            <a:ext cx="228600" cy="2361960"/>
          </a:xfrm>
          <a:custGeom>
            <a:avLst/>
            <a:gdLst>
              <a:gd name="textAreaLeft" fmla="*/ 66960 w 228600"/>
              <a:gd name="textAreaRight" fmla="*/ 228960 w 228600"/>
              <a:gd name="textAreaTop" fmla="*/ 98280 h 2361960"/>
              <a:gd name="textAreaBottom" fmla="*/ 226368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8305920" y="3368520"/>
            <a:ext cx="228600" cy="1981440"/>
          </a:xfrm>
          <a:custGeom>
            <a:avLst/>
            <a:gdLst>
              <a:gd name="textAreaLeft" fmla="*/ 0 w 228600"/>
              <a:gd name="textAreaRight" fmla="*/ 160560 w 228600"/>
              <a:gd name="textAreaTop" fmla="*/ 82440 h 1981440"/>
              <a:gd name="textAreaBottom" fmla="*/ 18990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6"/>
          <p:cNvGrpSpPr/>
          <p:nvPr/>
        </p:nvGrpSpPr>
        <p:grpSpPr>
          <a:xfrm>
            <a:off x="8534520" y="2374920"/>
            <a:ext cx="304560" cy="2060280"/>
            <a:chOff x="8534520" y="2374920"/>
            <a:chExt cx="304560" cy="2060280"/>
          </a:xfrm>
        </p:grpSpPr>
        <p:sp>
          <p:nvSpPr>
            <p:cNvPr id="413" name="Line 7"/>
            <p:cNvSpPr/>
            <p:nvPr/>
          </p:nvSpPr>
          <p:spPr>
            <a:xfrm>
              <a:off x="8534520" y="4435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>
              <a:off x="8839080" y="237816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H="1">
              <a:off x="8534520" y="2374920"/>
              <a:ext cx="30456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0"/>
          <p:cNvSpPr/>
          <p:nvPr/>
        </p:nvSpPr>
        <p:spPr>
          <a:xfrm>
            <a:off x="3413160" y="2073240"/>
            <a:ext cx="5406840" cy="27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文章的核心和统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为证明论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实现论据证明论点的手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632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中心论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论点是对所议论问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论题）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所持的见解和主张，是议论文的灵魂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把握文章的中心论点，是议论文阅读理解的关键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80880" y="43434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阅读《成功》，指出本文的论题和中心论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觅食"/>
          <p:cNvPicPr/>
          <p:nvPr/>
        </p:nvPicPr>
        <p:blipFill>
          <a:blip r:embed="rId1"/>
          <a:srcRect l="29378" t="0" r="33125" b="0"/>
          <a:stretch/>
        </p:blipFill>
        <p:spPr>
          <a:xfrm>
            <a:off x="6324480" y="1219320"/>
            <a:ext cx="2819520" cy="5638680"/>
          </a:xfrm>
          <a:prstGeom prst="rect">
            <a:avLst/>
          </a:prstGeom>
          <a:ln w="0">
            <a:noFill/>
          </a:ln>
        </p:spPr>
      </p:pic>
      <p:sp>
        <p:nvSpPr>
          <p:cNvPr id="420" name="日期占位符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900000" y="1197000"/>
            <a:ext cx="7920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寻找文章的中心论点有如下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一、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看标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，有时议论文标题即其中心论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二、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看开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。开篇点题，开门见山是议论文的常见写法，因而许多文章的中心论点都出现在开头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三、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微软雅黑"/>
              </a:rPr>
              <a:t>看结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。一些议论文中，通过摆事实讲道理，至文末得出结论，该结论即中心论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1:57:58Z</dcterms:created>
  <dc:creator/>
  <dc:description/>
  <dc:language>en-US</dc:language>
  <cp:lastModifiedBy/>
  <dcterms:modified xsi:type="dcterms:W3CDTF">2013-02-14T05:52:11Z</dcterms:modified>
  <cp:revision>0</cp:revision>
  <dc:subject/>
  <dc:title/>
</cp:coreProperties>
</file>