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9974-AD4A-4D55-8C28-BDC20F42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1937-4EC7-4D68-93DB-EDB70D79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E0B1-68C9-4BE6-900A-464F1CE2F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C1BF-CF0C-4BB6-93B5-88DA0E9E2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6888-B449-4ED3-B8E7-1E7C5748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9347-6570-4A86-9546-04493203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F57B-44E4-43F4-832C-47D5BC45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E622-A2F3-4EEA-80AB-7AD9F0FE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ED86-68E8-4B68-B5AC-23207822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E6E9-8537-4D98-899A-D894F54A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D842-9D06-4FA1-8E31-E53A75B7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F94A-FA60-4A82-8D29-EF411146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0A5B-4697-4FA9-8AA3-27639E3D79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1ST.WAV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260,5,&#24187;&#28783;&#29255; 5" TargetMode="External"/><Relationship Id="rId2" Type="http://schemas.openxmlformats.org/officeDocument/2006/relationships/hyperlink" Target="260,5,&#24187;&#28783;&#29255; 5" TargetMode="External"/><Relationship Id="rId3" Type="http://schemas.openxmlformats.org/officeDocument/2006/relationships/hyperlink" Target="260,5,&#24187;&#28783;&#29255; 5" TargetMode="External"/><Relationship Id="rId4" Type="http://schemas.openxmlformats.org/officeDocument/2006/relationships/hyperlink" Target="260,5,&#24187;&#28783;&#29255; 5" TargetMode="External"/><Relationship Id="rId5" Type="http://schemas.openxmlformats.org/officeDocument/2006/relationships/hyperlink" Target="260,5,&#24187;&#28783;&#29255; 5" TargetMode="External"/><Relationship Id="rId6" Type="http://schemas.openxmlformats.org/officeDocument/2006/relationships/hyperlink" Target="260,5,&#24187;&#28783;&#29255; 5" TargetMode="External"/><Relationship Id="rId7" Type="http://schemas.openxmlformats.org/officeDocument/2006/relationships/hyperlink" Target="260,5,&#24187;&#28783;&#29255; 5" TargetMode="External"/><Relationship Id="rId8" Type="http://schemas.openxmlformats.org/officeDocument/2006/relationships/hyperlink" Target="260,5,&#24187;&#28783;&#29255; 5" TargetMode="External"/><Relationship Id="rId9" Type="http://schemas.openxmlformats.org/officeDocument/2006/relationships/image" Target="../media/image3.png"/><Relationship Id="rId10" Type="http://schemas.openxmlformats.org/officeDocument/2006/relationships/image" Target="../media/image4.wmf"/><Relationship Id="rId11" Type="http://schemas.openxmlformats.org/officeDocument/2006/relationships/hyperlink" Target="260,5,&#24187;&#28783;&#29255; 5" TargetMode="External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ing.wav" TargetMode="External"/><Relationship Id="rId2" Type="http://schemas.openxmlformats.org/officeDocument/2006/relationships/hyperlink" Target="file:///tmp/home/.config/libreoffice/4/user/gallery/Ring.wav" TargetMode="External"/><Relationship Id="rId3" Type="http://schemas.openxmlformats.org/officeDocument/2006/relationships/hyperlink" Target="file:///tmp/home/.config/libreoffice/4/user/gallery/Ring.wav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ing.wav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47c83"/>
              </a:gs>
              <a:gs pos="100000">
                <a:srgbClr val="ba0d04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2895480" y="685800"/>
            <a:ext cx="26672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0099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口技</a:t>
            </a:r>
            <a:endParaRPr b="1" i="1" lang="en-US" sz="1800" spc="1" strike="noStrike">
              <a:ln w="12600">
                <a:solidFill>
                  <a:srgbClr val="0099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3" name="Object 4" descr=""/>
          <p:cNvPicPr/>
          <p:nvPr/>
        </p:nvPicPr>
        <p:blipFill>
          <a:blip r:embed="rId1"/>
          <a:stretch/>
        </p:blipFill>
        <p:spPr>
          <a:xfrm>
            <a:off x="6350040" y="2744640"/>
            <a:ext cx="2793960" cy="41133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6163200" y="1547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隶书"/>
              </a:rPr>
              <a:t>林嗣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057400" y="396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>
            <a:hlinkClick r:id="rId2"/>
          </p:cNvPr>
          <p:cNvSpPr/>
          <p:nvPr/>
        </p:nvSpPr>
        <p:spPr>
          <a:xfrm>
            <a:off x="7010280" y="3200400"/>
            <a:ext cx="1371600" cy="457200"/>
          </a:xfrm>
          <a:custGeom>
            <a:avLst/>
            <a:gdLst>
              <a:gd name="textAreaLeft" fmla="*/ 28440 w 1371600"/>
              <a:gd name="textAreaRight" fmla="*/ 1343160 w 13716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416" y="1350"/>
                </a:lnTo>
                <a:lnTo>
                  <a:pt x="1350" y="135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416" y="20250"/>
                </a:lnTo>
                <a:lnTo>
                  <a:pt x="63416" y="135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63416" y="2025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a4032"/>
                </a:solidFill>
                <a:latin typeface="Times New Roman"/>
                <a:ea typeface="隶书"/>
              </a:rPr>
              <a:t>作者作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7010280" y="3886200"/>
            <a:ext cx="1371600" cy="457200"/>
          </a:xfrm>
          <a:custGeom>
            <a:avLst/>
            <a:gdLst>
              <a:gd name="textAreaLeft" fmla="*/ 28440 w 1371600"/>
              <a:gd name="textAreaRight" fmla="*/ 1343160 w 13716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416" y="1350"/>
                </a:lnTo>
                <a:lnTo>
                  <a:pt x="1350" y="135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416" y="20250"/>
                </a:lnTo>
                <a:lnTo>
                  <a:pt x="63416" y="135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63416" y="2025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7010280" y="3886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a4032"/>
                </a:solidFill>
                <a:latin typeface="Times New Roman"/>
                <a:ea typeface="隶书"/>
              </a:rPr>
              <a:t>检查预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7010280" y="4572000"/>
            <a:ext cx="1371600" cy="457200"/>
          </a:xfrm>
          <a:custGeom>
            <a:avLst/>
            <a:gdLst>
              <a:gd name="textAreaLeft" fmla="*/ 28440 w 1371600"/>
              <a:gd name="textAreaRight" fmla="*/ 1343160 w 13716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416" y="1350"/>
                </a:lnTo>
                <a:lnTo>
                  <a:pt x="1350" y="135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416" y="20250"/>
                </a:lnTo>
                <a:lnTo>
                  <a:pt x="63416" y="135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63416" y="2025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a4032"/>
                </a:solidFill>
                <a:latin typeface="Times New Roman"/>
                <a:ea typeface="隶书"/>
              </a:rPr>
              <a:t>导读思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/>
          <p:cNvSpPr/>
          <p:nvPr/>
        </p:nvSpPr>
        <p:spPr>
          <a:xfrm>
            <a:off x="7010280" y="5257800"/>
            <a:ext cx="1371600" cy="457200"/>
          </a:xfrm>
          <a:custGeom>
            <a:avLst/>
            <a:gdLst>
              <a:gd name="textAreaLeft" fmla="*/ 28440 w 1371600"/>
              <a:gd name="textAreaRight" fmla="*/ 1343160 w 13716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416" y="1350"/>
                </a:lnTo>
                <a:lnTo>
                  <a:pt x="1350" y="135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416" y="20250"/>
                </a:lnTo>
                <a:lnTo>
                  <a:pt x="63416" y="135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63416" y="2025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7010280" y="5257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a4032"/>
                </a:solidFill>
                <a:latin typeface="Times New Roman"/>
                <a:ea typeface="隶书"/>
              </a:rPr>
              <a:t>主题板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7010280" y="5943600"/>
            <a:ext cx="1371600" cy="457200"/>
          </a:xfrm>
          <a:custGeom>
            <a:avLst/>
            <a:gdLst>
              <a:gd name="textAreaLeft" fmla="*/ 28440 w 1371600"/>
              <a:gd name="textAreaRight" fmla="*/ 1343160 w 13716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416" y="1350"/>
                </a:lnTo>
                <a:lnTo>
                  <a:pt x="1350" y="135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416" y="20250"/>
                </a:lnTo>
                <a:lnTo>
                  <a:pt x="63416" y="135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63416" y="2025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7010280" y="5943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a4032"/>
                </a:solidFill>
                <a:latin typeface="Times New Roman"/>
                <a:ea typeface="隶书"/>
              </a:rPr>
              <a:t>想想做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1042920" y="1108800"/>
            <a:ext cx="7321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未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未几：不多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夫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齁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ō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：打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〕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声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妇拍儿亦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渐拍渐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微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鼠作作索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作索索：老鼠活动的声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盆器倾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倾侧：翻倒倾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妇梦中咳嗽。宾客意少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意少舒：心情稍微放松了些。少，稍微。舒，伸展、松弛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稍稍正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116000" y="4852800"/>
            <a:ext cx="62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没隔多久，丈夫的鼾声响起来了，妇人拍孩子的声音也渐渐地拍一会儿停一会儿。隐隐地听到老鼠悉悉索索的声音，盆碗等器物打翻的声音，妇人在梦中咳嗽的声音。客人们听到这里，心情稍微放松了些，把身子稍稍坐正了一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324000" y="2156040"/>
            <a:ext cx="852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忽一人大呼“火起”，夫起大呼，妇亦起大呼。两儿齐哭。俄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俄而：一会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百千人大呼，百千儿哭，百千犬吠。中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间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ià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：夹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力拉崩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力拉崩倒：劈里啪啦，房屋倒塌。力拉，拟声词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之声，火爆声，呼呼风声，百千齐作；又夹百千求救声，曳屋许许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曳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屋许许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ǔh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声：（众人）拉塌（燃烧着的）房屋时一齐用力的呼喊声。曳，拉。许许，拟声词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抢夺声，泼水声。凡所应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凡所应有：凡是（在这种情况下）应该有的（声音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无所不有。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虽：即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有百手，手有百指，不能指其一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能指其一端：不能指明其中的（任何）一种（声音）。形容口技摹拟的各种声响同时发出，交织成一片，使人不能一一辨识。一端，一头，这里是“一种”的意思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人有百口，口有百舌，不能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名：说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一处也。于是宾客无不变色离席，奋袖出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奋袖出臂：扬起袖子，露出手臂。奋，扬起、举起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两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股：大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战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战战：哆嗦的样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几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ī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：几乎，差点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欲先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179280" y="320112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突然有一个人大声喊着：“失火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丈夫起身大叫，妻子也起身大叫，两个孩子一齐哭了起来。刹时间，成百上千的人大喊起来，成百上千的小孩儿哭了起来，成百上千的狗叫了起来。中间夹着劈里啪啦房屋倒塌的声音，烈火燃烧而发出的爆烈声，呼呼的风声，千百种声音一齐响了起来；还夹杂着成百上千人的求救声，救火的人们拉倒燃烧着的房子时一齐用力发出的呼喊声，在火中抢夺物件的声音，泼水的声音。凡是应该有的声音，没有一样没有。即使一个人有上百只手，一只手上有上百个指头，也不能明确指出哪一种声音来；即使一个人有上百张嘴，一张嘴有上百条舌头，也不能说出其中的一个地方来。在这种情况下，客人们没有一个不吓得变了脸色，离开座位，扬起衣袖，露出手臂，两腿索索直抖，几乎都想争先恐后地逃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1403280" y="1262880"/>
            <a:ext cx="619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忽然抚尺一下，群响毕绝。撤屏视之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一人、一桌、一椅、一扇、一抚尺而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476360" y="3483000"/>
            <a:ext cx="64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忽然醒木一拍，各种声响全部消失。撤掉围幕一看里面，仍只有一个人、一张桌子、一把椅子、一把扇子、一块醒木罢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609480" y="1600200"/>
            <a:ext cx="85345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隶书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、全文分几部分？主体部分根据口技表演的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ea typeface="隶书"/>
                <a:hlinkClick r:id="rId1"/>
              </a:rPr>
              <a:t>声响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点可分为几个阶段？你能各用一个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ea typeface="隶书"/>
                <a:hlinkClick r:id="rId2"/>
              </a:rPr>
              <a:t>形容词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概括其声响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点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609480" y="2819520"/>
            <a:ext cx="8153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隶书"/>
                <a:ea typeface="隶书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、随着每一阶段口技声响的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隶书"/>
                <a:ea typeface="隶书"/>
                <a:hlinkClick r:id="rId3"/>
              </a:rPr>
              <a:t>变化</a:t>
            </a:r>
            <a:r>
              <a:rPr b="1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？听众的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隶书"/>
                <a:ea typeface="隶书"/>
                <a:hlinkClick r:id="rId4"/>
              </a:rPr>
              <a:t>神情</a:t>
            </a:r>
            <a:r>
              <a:rPr b="1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、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隶书"/>
                <a:ea typeface="隶书"/>
                <a:hlinkClick r:id="rId5"/>
              </a:rPr>
              <a:t>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隶书"/>
                <a:ea typeface="隶书"/>
                <a:hlinkClick r:id="rId6"/>
              </a:rPr>
              <a:t>作</a:t>
            </a:r>
            <a:r>
              <a:rPr b="1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又有怎样的变化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185200" y="4648320"/>
            <a:ext cx="4569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隶书"/>
                <a:ea typeface="隶书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、文章首尾都提到“一桌、一椅、一扇、一抚尺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已”，这句话对文章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隶书"/>
                <a:ea typeface="隶书"/>
                <a:hlinkClick r:id="rId7"/>
              </a:rPr>
              <a:t>结构</a:t>
            </a:r>
            <a:r>
              <a:rPr b="1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和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隶书"/>
                <a:ea typeface="隶书"/>
                <a:hlinkClick r:id="rId8"/>
              </a:rPr>
              <a:t>表现口技人的演出</a:t>
            </a:r>
            <a:r>
              <a:rPr b="1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各有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作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6705720" y="6324480"/>
            <a:ext cx="304560" cy="228600"/>
          </a:xfrm>
          <a:custGeom>
            <a:avLst/>
            <a:gdLst>
              <a:gd name="textAreaLeft" fmla="*/ 14040 w 304560"/>
              <a:gd name="textAreaRight" fmla="*/ 290520 w 30456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416" y="1350"/>
                </a:lnTo>
                <a:lnTo>
                  <a:pt x="1350" y="135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416" y="20250"/>
                </a:lnTo>
                <a:lnTo>
                  <a:pt x="27416" y="135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16" y="2025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766" h="21600">
                <a:moveTo>
                  <a:pt x="7339" y="10800"/>
                </a:moveTo>
                <a:lnTo>
                  <a:pt x="21427" y="3756"/>
                </a:lnTo>
                <a:lnTo>
                  <a:pt x="21427" y="17844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">
            <a:hlinkClick r:id="" action="ppaction://hlinkshowjump?jump=nextslide"/>
          </p:cNvPr>
          <p:cNvSpPr/>
          <p:nvPr/>
        </p:nvSpPr>
        <p:spPr>
          <a:xfrm>
            <a:off x="7010280" y="6324480"/>
            <a:ext cx="304920" cy="228600"/>
          </a:xfrm>
          <a:custGeom>
            <a:avLst/>
            <a:gdLst>
              <a:gd name="textAreaLeft" fmla="*/ 14040 w 304920"/>
              <a:gd name="textAreaRight" fmla="*/ 290880 w 30492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50" y="1350"/>
                </a:lnTo>
                <a:lnTo>
                  <a:pt x="1350" y="135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50" y="20250"/>
                </a:lnTo>
                <a:lnTo>
                  <a:pt x="27450" y="135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50" y="2025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800" h="21600">
                <a:moveTo>
                  <a:pt x="7356" y="3756"/>
                </a:moveTo>
                <a:lnTo>
                  <a:pt x="21444" y="10800"/>
                </a:lnTo>
                <a:lnTo>
                  <a:pt x="7356" y="17844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8"/>
          <p:cNvGrpSpPr/>
          <p:nvPr/>
        </p:nvGrpSpPr>
        <p:grpSpPr>
          <a:xfrm>
            <a:off x="1752480" y="533520"/>
            <a:ext cx="5715000" cy="1028160"/>
            <a:chOff x="1752480" y="533520"/>
            <a:chExt cx="5715000" cy="1028160"/>
          </a:xfrm>
        </p:grpSpPr>
        <p:sp>
          <p:nvSpPr>
            <p:cNvPr id="97" name="WordArt 9"/>
            <p:cNvSpPr txBox="1"/>
            <p:nvPr/>
          </p:nvSpPr>
          <p:spPr>
            <a:xfrm>
              <a:off x="2971800" y="533520"/>
              <a:ext cx="2770200" cy="76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1428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800080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导读思考</a:t>
              </a:r>
              <a:endPara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  <p:pic>
          <p:nvPicPr>
            <p:cNvPr id="98" name="Picture 10" descr="BD10262_"/>
            <p:cNvPicPr/>
            <p:nvPr/>
          </p:nvPicPr>
          <p:blipFill>
            <a:blip r:embed="rId9"/>
            <a:stretch/>
          </p:blipFill>
          <p:spPr>
            <a:xfrm>
              <a:off x="1752480" y="990360"/>
              <a:ext cx="571500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Group 11"/>
          <p:cNvGrpSpPr/>
          <p:nvPr/>
        </p:nvGrpSpPr>
        <p:grpSpPr>
          <a:xfrm>
            <a:off x="3352680" y="5638680"/>
            <a:ext cx="4495680" cy="990720"/>
            <a:chOff x="3352680" y="5638680"/>
            <a:chExt cx="4495680" cy="990720"/>
          </a:xfrm>
        </p:grpSpPr>
        <p:pic>
          <p:nvPicPr>
            <p:cNvPr id="100" name="Object 12" descr=""/>
            <p:cNvPicPr/>
            <p:nvPr/>
          </p:nvPicPr>
          <p:blipFill>
            <a:blip r:embed="rId10"/>
            <a:stretch/>
          </p:blipFill>
          <p:spPr>
            <a:xfrm>
              <a:off x="3352680" y="5638680"/>
              <a:ext cx="109332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WordArt 13"/>
            <p:cNvSpPr txBox="1"/>
            <p:nvPr/>
          </p:nvSpPr>
          <p:spPr>
            <a:xfrm>
              <a:off x="4567680" y="5802120"/>
              <a:ext cx="3280680" cy="736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ln w="9360">
                    <a:solidFill>
                      <a:srgbClr val="cc99ff"/>
                    </a:solidFill>
                    <a:miter/>
                  </a:ln>
                  <a:solidFill>
                    <a:srgbClr val="ff9900"/>
                  </a:solidFill>
                  <a:latin typeface="黑体"/>
                </a:rPr>
                <a:t>让我们讨论一下吧！</a:t>
              </a:r>
              <a:endParaRPr b="0" i="1" lang="en-US" sz="1800" spc="-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9900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102" name="Text Box 14"/>
          <p:cNvSpPr/>
          <p:nvPr/>
        </p:nvSpPr>
        <p:spPr>
          <a:xfrm>
            <a:off x="609480" y="373392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、本文通过确切而真实的抓住口技表演者发出的声响、听众的反应，生动再现出的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隶书"/>
                <a:ea typeface="隶书"/>
                <a:hlinkClick r:id="rId11"/>
              </a:rPr>
              <a:t>故事情节</a:t>
            </a:r>
            <a:r>
              <a:rPr b="1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有什么特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Line 2"/>
          <p:cNvSpPr/>
          <p:nvPr/>
        </p:nvSpPr>
        <p:spPr>
          <a:xfrm>
            <a:off x="1828800" y="4495680"/>
            <a:ext cx="56386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>
            <a:hlinkClick r:id="rId1"/>
          </p:cNvPr>
          <p:cNvSpPr/>
          <p:nvPr/>
        </p:nvSpPr>
        <p:spPr>
          <a:xfrm>
            <a:off x="2700000" y="4495680"/>
            <a:ext cx="1643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疏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小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>
            <a:hlinkClick r:id="rId2"/>
          </p:cNvPr>
          <p:cNvSpPr/>
          <p:nvPr/>
        </p:nvSpPr>
        <p:spPr>
          <a:xfrm>
            <a:off x="4879800" y="4330440"/>
            <a:ext cx="5461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大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>
            <a:hlinkClick r:id="rId3"/>
          </p:cNvPr>
          <p:cNvSpPr/>
          <p:nvPr/>
        </p:nvSpPr>
        <p:spPr>
          <a:xfrm>
            <a:off x="5869800" y="4330440"/>
            <a:ext cx="9118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密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疏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6"/>
          <p:cNvSpPr/>
          <p:nvPr/>
        </p:nvSpPr>
        <p:spPr>
          <a:xfrm flipV="1">
            <a:off x="2514600" y="990720"/>
            <a:ext cx="0" cy="3962160"/>
          </a:xfrm>
          <a:prstGeom prst="line">
            <a:avLst/>
          </a:prstGeom>
          <a:ln w="57240">
            <a:solidFill>
              <a:srgbClr val="00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914400" y="3124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伸颈侧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微笑默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403640" y="2438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意少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1236240" y="14479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变色出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股战欲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7315200" y="3657600"/>
            <a:ext cx="1828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正面描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99"/>
                </a:solidFill>
                <a:latin typeface="Times New Roman"/>
                <a:ea typeface="幼圆"/>
              </a:rPr>
              <a:t>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幼圆"/>
              </a:rPr>
              <a:t>口技表演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幼圆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声音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幼圆"/>
              </a:rPr>
              <a:t>的变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828800" y="210960"/>
            <a:ext cx="1828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侧面描写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宾客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的反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2666880" y="3809880"/>
            <a:ext cx="1219320" cy="0"/>
          </a:xfrm>
          <a:prstGeom prst="line">
            <a:avLst/>
          </a:prstGeom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3733920" y="28638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99"/>
                </a:solidFill>
                <a:latin typeface="Times New Roman"/>
                <a:ea typeface="华文行楷"/>
              </a:rPr>
              <a:t>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4"/>
          <p:cNvSpPr/>
          <p:nvPr/>
        </p:nvSpPr>
        <p:spPr>
          <a:xfrm>
            <a:off x="4800600" y="2895480"/>
            <a:ext cx="1066680" cy="0"/>
          </a:xfrm>
          <a:prstGeom prst="line">
            <a:avLst/>
          </a:prstGeom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5029200" y="2286000"/>
            <a:ext cx="5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99"/>
                </a:solidFill>
                <a:latin typeface="Times New Roman"/>
                <a:ea typeface="华文行楷"/>
              </a:rPr>
              <a:t>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6"/>
          <p:cNvSpPr/>
          <p:nvPr/>
        </p:nvSpPr>
        <p:spPr>
          <a:xfrm>
            <a:off x="7010280" y="1600200"/>
            <a:ext cx="1295640" cy="0"/>
          </a:xfrm>
          <a:prstGeom prst="line">
            <a:avLst/>
          </a:prstGeom>
          <a:ln w="7632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5928120" y="17208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99"/>
                </a:solidFill>
                <a:latin typeface="Times New Roman"/>
                <a:ea typeface="华文行楷"/>
              </a:rPr>
              <a:t>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6346440" y="533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情节发展情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380880" y="5486400"/>
            <a:ext cx="83822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       </a:t>
            </a:r>
            <a:r>
              <a:rPr b="1" i="1" lang="en-US" sz="2800" spc="-1" strike="noStrike">
                <a:solidFill>
                  <a:srgbClr val="ffffff"/>
                </a:solidFill>
                <a:latin typeface="幼圆"/>
                <a:ea typeface="幼圆"/>
              </a:rPr>
              <a:t>“</a:t>
            </a:r>
            <a:r>
              <a:rPr b="1" i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一桌、一椅、一扇、一抚尺而已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66ffff"/>
                </a:solidFill>
                <a:latin typeface="幼圆"/>
                <a:ea typeface="幼圆"/>
              </a:rPr>
              <a:t>             </a:t>
            </a:r>
            <a:r>
              <a:rPr b="1" i="1" lang="zh-CN" sz="2400" spc="-1" strike="noStrike">
                <a:solidFill>
                  <a:srgbClr val="ffff00"/>
                </a:solidFill>
                <a:latin typeface="幼圆"/>
                <a:ea typeface="幼圆"/>
              </a:rPr>
              <a:t>简单的道具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幼圆"/>
              </a:rPr>
              <a:t>——</a:t>
            </a:r>
            <a:r>
              <a:rPr b="1" i="1" lang="zh-CN" sz="2400" spc="-1" strike="noStrike">
                <a:solidFill>
                  <a:srgbClr val="ffff00"/>
                </a:solidFill>
                <a:latin typeface="幼圆"/>
                <a:ea typeface="幼圆"/>
              </a:rPr>
              <a:t>衬托表演者高超的技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00"/>
                </a:solidFill>
                <a:latin typeface="幼圆"/>
                <a:ea typeface="幼圆"/>
              </a:rPr>
              <a:t>                           </a:t>
            </a:r>
            <a:r>
              <a:rPr b="1" i="1" lang="zh-CN" sz="2400" spc="-1" strike="noStrike">
                <a:solidFill>
                  <a:srgbClr val="ffff00"/>
                </a:solidFill>
                <a:latin typeface="幼圆"/>
                <a:ea typeface="幼圆"/>
              </a:rPr>
              <a:t>首尾照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 flipV="1">
            <a:off x="3886200" y="2895480"/>
            <a:ext cx="914400" cy="914400"/>
          </a:xfrm>
          <a:prstGeom prst="line">
            <a:avLst/>
          </a:prstGeom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1"/>
          <p:cNvSpPr/>
          <p:nvPr/>
        </p:nvSpPr>
        <p:spPr>
          <a:xfrm flipV="1">
            <a:off x="5867280" y="1600200"/>
            <a:ext cx="1143000" cy="1295280"/>
          </a:xfrm>
          <a:prstGeom prst="line">
            <a:avLst/>
          </a:prstGeom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2743200" y="318456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99"/>
                </a:solidFill>
                <a:latin typeface="Times New Roman"/>
                <a:ea typeface="华文行楷"/>
              </a:rPr>
              <a:t>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7315200" y="9748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99"/>
                </a:solidFill>
                <a:latin typeface="Times New Roman"/>
                <a:ea typeface="华文行楷"/>
              </a:rPr>
              <a:t>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4"/>
          <p:cNvSpPr/>
          <p:nvPr/>
        </p:nvSpPr>
        <p:spPr>
          <a:xfrm>
            <a:off x="7122600" y="1628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00"/>
                </a:solidFill>
                <a:latin typeface="幼圆"/>
                <a:ea typeface="幼圆"/>
              </a:rPr>
              <a:t>首尾照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2590920" y="3809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幼圆"/>
              </a:rPr>
              <a:t>铺垫衬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4114800" y="342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幼圆"/>
              </a:rPr>
              <a:t>渐入佳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7"/>
          <p:cNvSpPr/>
          <p:nvPr/>
        </p:nvSpPr>
        <p:spPr>
          <a:xfrm>
            <a:off x="5029200" y="28954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幼圆"/>
              </a:rPr>
              <a:t>欲扬先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8"/>
          <p:cNvSpPr/>
          <p:nvPr/>
        </p:nvSpPr>
        <p:spPr>
          <a:xfrm>
            <a:off x="6324480" y="22096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幼圆"/>
              </a:rPr>
              <a:t>推向高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3"/>
          <p:cNvSpPr txBox="1"/>
          <p:nvPr/>
        </p:nvSpPr>
        <p:spPr>
          <a:xfrm>
            <a:off x="6172200" y="5410080"/>
            <a:ext cx="1981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Deflate">
              <a:avLst>
                <a:gd name="adj" fmla="val 44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黑体"/>
              </a:rPr>
              <a:t>再见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2" name="WordArt 4"/>
          <p:cNvSpPr txBox="1"/>
          <p:nvPr/>
        </p:nvSpPr>
        <p:spPr>
          <a:xfrm rot="20698800">
            <a:off x="5866920" y="0"/>
            <a:ext cx="24307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黑体"/>
              </a:rPr>
              <a:t>练习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786040" y="838080"/>
            <a:ext cx="348444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  <a:ea typeface="隶书"/>
              </a:rPr>
              <a:t>一、时间词填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幼圆"/>
                <a:ea typeface="幼圆"/>
              </a:rPr>
              <a:t>1</a:t>
            </a:r>
            <a:r>
              <a:rPr b="1" lang="zh-CN" sz="2000" spc="-1" strike="noStrike">
                <a:solidFill>
                  <a:srgbClr val="ffff00"/>
                </a:solidFill>
                <a:latin typeface="幼圆"/>
                <a:ea typeface="幼圆"/>
              </a:rPr>
              <a:t>、表示突然发生：（     ）、（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幼圆"/>
                <a:ea typeface="幼圆"/>
              </a:rPr>
              <a:t>2</a:t>
            </a:r>
            <a:r>
              <a:rPr b="1" lang="zh-CN" sz="2000" spc="-1" strike="noStrike">
                <a:solidFill>
                  <a:srgbClr val="ffff00"/>
                </a:solidFill>
                <a:latin typeface="幼圆"/>
                <a:ea typeface="幼圆"/>
              </a:rPr>
              <a:t>、表示几件事同时发生：（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幼圆"/>
                <a:ea typeface="幼圆"/>
              </a:rPr>
              <a:t>3</a:t>
            </a:r>
            <a:r>
              <a:rPr b="1" lang="zh-CN" sz="2000" spc="-1" strike="noStrike">
                <a:solidFill>
                  <a:srgbClr val="ffff00"/>
                </a:solidFill>
                <a:latin typeface="幼圆"/>
                <a:ea typeface="幼圆"/>
              </a:rPr>
              <a:t>、表示两件事相继发生：（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幼圆"/>
                <a:ea typeface="幼圆"/>
              </a:rPr>
              <a:t>4</a:t>
            </a:r>
            <a:r>
              <a:rPr b="1" lang="zh-CN" sz="2000" spc="-1" strike="noStrike">
                <a:solidFill>
                  <a:srgbClr val="ffff00"/>
                </a:solidFill>
                <a:latin typeface="幼圆"/>
                <a:ea typeface="幼圆"/>
              </a:rPr>
              <a:t>、表示在特定的某个时间内发生：（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幼圆"/>
                <a:ea typeface="幼圆"/>
              </a:rPr>
              <a:t>5</a:t>
            </a:r>
            <a:r>
              <a:rPr b="1" lang="zh-CN" sz="2000" spc="-1" strike="noStrike">
                <a:solidFill>
                  <a:srgbClr val="ffff00"/>
                </a:solidFill>
                <a:latin typeface="幼圆"/>
                <a:ea typeface="幼圆"/>
              </a:rPr>
              <a:t>、表示过了很短时间就发生：（      ）、（      ）、（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3200400" y="1219320"/>
            <a:ext cx="5257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忽                 忽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             </a:t>
            </a: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一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             </a:t>
            </a: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俄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                            </a:t>
            </a: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是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                   </a:t>
            </a: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既而                少顷                未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838080" y="28195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（少顷、既而、是时、一时、未几、忽、俄而、忽然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8"/>
          <p:cNvGrpSpPr/>
          <p:nvPr/>
        </p:nvGrpSpPr>
        <p:grpSpPr>
          <a:xfrm>
            <a:off x="-1168920" y="3124080"/>
            <a:ext cx="11378880" cy="1496160"/>
            <a:chOff x="-1168920" y="3124080"/>
            <a:chExt cx="11378880" cy="1496160"/>
          </a:xfrm>
        </p:grpSpPr>
        <p:sp>
          <p:nvSpPr>
            <p:cNvPr id="137" name="Text Box 9"/>
            <p:cNvSpPr/>
            <p:nvPr/>
          </p:nvSpPr>
          <p:spPr>
            <a:xfrm>
              <a:off x="-1168920" y="3124080"/>
              <a:ext cx="11378880" cy="14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99"/>
                  </a:solidFill>
                  <a:latin typeface="Times New Roman"/>
                  <a:ea typeface="隶书"/>
                </a:rPr>
                <a:t>二、指出下列短语与课文中短语用法相同的词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99"/>
                  </a:solidFill>
                  <a:latin typeface="Times New Roman"/>
                  <a:ea typeface="隶书"/>
                </a:rPr>
                <a:t>               </a:t>
              </a:r>
              <a:r>
                <a:rPr b="1" lang="zh-CN" sz="2000" spc="-1" strike="noStrike">
                  <a:solidFill>
                    <a:srgbClr val="ffff00"/>
                  </a:solidFill>
                  <a:latin typeface="幼圆"/>
                  <a:ea typeface="幼圆"/>
                </a:rPr>
                <a:t>丑态毕露             心情舒畅               至理名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00"/>
                  </a:solidFill>
                  <a:latin typeface="幼圆"/>
                  <a:ea typeface="幼圆"/>
                </a:rPr>
                <a:t>众妙毕备 毕业典礼  宾客意少舒 动作舒缓  不能名其一处 莫可名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  <a:ea typeface="隶书"/>
                </a:rPr>
                <a:t>               </a:t>
              </a:r>
              <a:r>
                <a:rPr b="1" lang="zh-CN" sz="2000" spc="-1" strike="noStrike">
                  <a:solidFill>
                    <a:srgbClr val="ffff00"/>
                  </a:solidFill>
                  <a:latin typeface="幼圆"/>
                  <a:ea typeface="幼圆"/>
                </a:rPr>
                <a:t>毕生精力             舒筋活血</a:t>
              </a: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  <a:ea typeface="隶书"/>
                </a:rPr>
                <a:t>                         </a:t>
              </a:r>
              <a:r>
                <a:rPr b="1" lang="zh-CN" sz="2000" spc="-1" strike="noStrike">
                  <a:solidFill>
                    <a:srgbClr val="ffff00"/>
                  </a:solidFill>
                  <a:latin typeface="Times New Roman"/>
                  <a:ea typeface="幼圆"/>
                </a:rPr>
                <a:t>有名无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10"/>
            <p:cNvSpPr/>
            <p:nvPr/>
          </p:nvSpPr>
          <p:spPr>
            <a:xfrm>
              <a:off x="1676520" y="3657600"/>
              <a:ext cx="77760" cy="695160"/>
            </a:xfrm>
            <a:custGeom>
              <a:avLst/>
              <a:gdLst>
                <a:gd name="textAreaLeft" fmla="*/ 49680 w 77760"/>
                <a:gd name="textAreaRight" fmla="*/ 78120 w 77760"/>
                <a:gd name="textAreaTop" fmla="*/ 18000 h 695160"/>
                <a:gd name="textAreaBottom" fmla="*/ 677160 h 69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11"/>
            <p:cNvSpPr/>
            <p:nvPr/>
          </p:nvSpPr>
          <p:spPr>
            <a:xfrm>
              <a:off x="4343400" y="3733560"/>
              <a:ext cx="77760" cy="695520"/>
            </a:xfrm>
            <a:custGeom>
              <a:avLst/>
              <a:gdLst>
                <a:gd name="textAreaLeft" fmla="*/ 49680 w 77760"/>
                <a:gd name="textAreaRight" fmla="*/ 78120 w 77760"/>
                <a:gd name="textAreaTop" fmla="*/ 18000 h 695520"/>
                <a:gd name="textAreaBottom" fmla="*/ 677520 h 69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2"/>
            <p:cNvSpPr/>
            <p:nvPr/>
          </p:nvSpPr>
          <p:spPr>
            <a:xfrm>
              <a:off x="7239240" y="3733560"/>
              <a:ext cx="77760" cy="695520"/>
            </a:xfrm>
            <a:custGeom>
              <a:avLst/>
              <a:gdLst>
                <a:gd name="textAreaLeft" fmla="*/ 49680 w 77760"/>
                <a:gd name="textAreaRight" fmla="*/ 78120 w 77760"/>
                <a:gd name="textAreaTop" fmla="*/ 18000 h 695520"/>
                <a:gd name="textAreaBottom" fmla="*/ 677520 h 69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13"/>
          <p:cNvSpPr/>
          <p:nvPr/>
        </p:nvSpPr>
        <p:spPr>
          <a:xfrm>
            <a:off x="609480" y="4724280"/>
            <a:ext cx="51055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  <a:ea typeface="隶书"/>
              </a:rPr>
              <a:t>三、作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幼圆"/>
              </a:rPr>
              <a:t>     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幼圆"/>
              </a:rPr>
              <a:t>试作一个场景描写，注意摹 写的顺 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幼圆"/>
              </a:rPr>
              <a:t>   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幼圆"/>
              </a:rPr>
              <a:t>（注意观察全班观看一个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幼圆"/>
              </a:rPr>
              <a:t>vcd“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幼圆"/>
              </a:rPr>
              <a:t>精彩片段”        的情形，然后完成写作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Object 14" descr=""/>
          <p:cNvPicPr/>
          <p:nvPr/>
        </p:nvPicPr>
        <p:blipFill>
          <a:blip r:embed="rId1"/>
          <a:stretch/>
        </p:blipFill>
        <p:spPr>
          <a:xfrm>
            <a:off x="6473880" y="1295280"/>
            <a:ext cx="952560" cy="114300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15"/>
          <p:cNvSpPr/>
          <p:nvPr/>
        </p:nvSpPr>
        <p:spPr>
          <a:xfrm flipV="1">
            <a:off x="7696080" y="6247800"/>
            <a:ext cx="457200" cy="228600"/>
          </a:xfrm>
          <a:custGeom>
            <a:avLst/>
            <a:gdLst>
              <a:gd name="textAreaLeft" fmla="*/ 14040 w 457200"/>
              <a:gd name="textAreaRight" fmla="*/ 443160 w 45720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816" y="1350"/>
                </a:lnTo>
                <a:lnTo>
                  <a:pt x="1350" y="135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816" y="20250"/>
                </a:lnTo>
                <a:lnTo>
                  <a:pt x="41816" y="135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816" y="2025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3166" h="21600">
                <a:moveTo>
                  <a:pt x="14539" y="10800"/>
                </a:moveTo>
                <a:lnTo>
                  <a:pt x="28627" y="3756"/>
                </a:lnTo>
                <a:lnTo>
                  <a:pt x="28627" y="1784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4305240" y="419112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幼圆"/>
              </a:rPr>
              <a:t>舒筋活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7238880" y="3851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幼圆"/>
              </a:rPr>
              <a:t>莫可名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1657440" y="3505320"/>
            <a:ext cx="123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幼圆"/>
              </a:rPr>
              <a:t>丑态毕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971640" y="1125360"/>
            <a:ext cx="7129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词多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乳   是   绝   间   作   妙   指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词类活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宴             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全文可分为三段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一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一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交代口技表演者和表演的时间、地点、设施、道具，以及开演前的气氛。这是下文记叙精彩表演的铺垫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二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二至四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写表演者的精彩表演和听众的反应。这是全文的主体，描写口技艺人所表演的两个场面：一是一个四口之家在深夜由睡而醒、由醒复睡的情形；二是发生在这个家庭附近的一场大火灾的情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一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二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写表演一家人深夜被犬吠惊醒的情形，以及宾客对口技表演的由衷赞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二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三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写表演一家人由醒复睡的情形，以及宾客的情绪变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三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四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写表演一场突然而至的大火灾的情形，以及宾客以假为真的神态、动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三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五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写表演结束时的情景。再次交代表演者的道具仅“一桌、一椅、一扇、一抚尺而已”。与首节相呼应，说明刚才的精彩表演的确是从“口”中发出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以动写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课文中的以下两处是怎样以动写静、表现深夜寂静气氛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①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遥闻深巷中犬吠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犬吠声是远远听到从深巷中传来的，这是营造夜深人静的氛围，把听众带人特定的生活情境中，使听众的注意力自然地被“犬吠”声所吸引。这一句既是以动写静，烘托深夜的寂静气氛，又是使一户人家由妇人初醒到全家喧闹的铺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②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微闻有鼠作作索索，盆器倾侧，妇梦中咳嗽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是用老鼠偷食声、盆器倾侧声、妇人蒙眬中的咳嗽声为反衬，加重深夜的静谧气氛，表现一家人由醒复睡后的沉寂状态，并为下面即将表现的大火灾蓄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6" name="Picture 4" descr="风子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WordArt 5"/>
            <p:cNvSpPr txBox="1"/>
            <p:nvPr/>
          </p:nvSpPr>
          <p:spPr>
            <a:xfrm>
              <a:off x="1066680" y="457200"/>
              <a:ext cx="259092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Down">
                <a:avLst>
                  <a:gd name="adj" fmla="val 4347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cc00ff"/>
                    </a:solidFill>
                    <a:miter/>
                  </a:ln>
                  <a:solidFill>
                    <a:srgbClr val="666699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隶书"/>
                </a:rPr>
                <a:t>作者作品</a:t>
              </a:r>
              <a:endParaRPr b="0" lang="en-US" sz="1800" spc="-1" strike="noStrike">
                <a:ln w="9360">
                  <a:solidFill>
                    <a:srgbClr val="cc00ff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58" name="Text Box 6"/>
          <p:cNvSpPr/>
          <p:nvPr/>
        </p:nvSpPr>
        <p:spPr>
          <a:xfrm>
            <a:off x="838080" y="18288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cc66ff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cc66ff"/>
                </a:solidFill>
                <a:latin typeface="隶书"/>
                <a:ea typeface="隶书"/>
              </a:rPr>
              <a:t>、林嗣环，字铁崖，清朝福建晋江人，顺治年间进士。著有</a:t>
            </a:r>
            <a:r>
              <a:rPr b="1" lang="en-US" sz="2800" spc="-1" strike="noStrike">
                <a:solidFill>
                  <a:srgbClr val="cc66ff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cc66ff"/>
                </a:solidFill>
                <a:latin typeface="隶书"/>
                <a:ea typeface="隶书"/>
              </a:rPr>
              <a:t>铁崖文集</a:t>
            </a:r>
            <a:r>
              <a:rPr b="1" lang="en-US" sz="2800" spc="-1" strike="noStrike">
                <a:solidFill>
                  <a:srgbClr val="cc66ff"/>
                </a:solidFill>
                <a:latin typeface="隶书"/>
                <a:ea typeface="隶书"/>
              </a:rPr>
              <a:t>》</a:t>
            </a:r>
            <a:r>
              <a:rPr b="1" lang="zh-CN" sz="2800" spc="-1" strike="noStrike">
                <a:solidFill>
                  <a:srgbClr val="cc66ff"/>
                </a:solidFill>
                <a:latin typeface="隶书"/>
                <a:ea typeface="隶书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838080" y="28954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1" lang="en-US" sz="2800" spc="-1" strike="noStrike">
                <a:solidFill>
                  <a:srgbClr val="cc66ff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cc66ff"/>
                </a:solidFill>
                <a:latin typeface="隶书"/>
                <a:ea typeface="隶书"/>
              </a:rPr>
              <a:t>、</a:t>
            </a:r>
            <a:r>
              <a:rPr b="1" lang="en-US" sz="2800" spc="-1" strike="noStrike">
                <a:solidFill>
                  <a:srgbClr val="cc66ff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cc66ff"/>
                </a:solidFill>
                <a:latin typeface="隶书"/>
                <a:ea typeface="隶书"/>
              </a:rPr>
              <a:t>口技</a:t>
            </a:r>
            <a:r>
              <a:rPr b="1" lang="en-US" sz="2800" spc="-1" strike="noStrike">
                <a:solidFill>
                  <a:srgbClr val="cc66ff"/>
                </a:solidFill>
                <a:latin typeface="隶书"/>
                <a:ea typeface="隶书"/>
              </a:rPr>
              <a:t>》</a:t>
            </a:r>
            <a:r>
              <a:rPr b="1" lang="zh-CN" sz="2800" spc="-1" strike="noStrike">
                <a:solidFill>
                  <a:srgbClr val="cc66ff"/>
                </a:solidFill>
                <a:latin typeface="隶书"/>
                <a:ea typeface="隶书"/>
              </a:rPr>
              <a:t>原为他的</a:t>
            </a:r>
            <a:r>
              <a:rPr b="1" lang="en-US" sz="2800" spc="-1" strike="noStrike">
                <a:solidFill>
                  <a:srgbClr val="cc66ff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cc66ff"/>
                </a:solidFill>
                <a:latin typeface="隶书"/>
                <a:ea typeface="隶书"/>
              </a:rPr>
              <a:t>秋声诗</a:t>
            </a:r>
            <a:r>
              <a:rPr b="1" lang="en-US" sz="2800" spc="-1" strike="noStrike">
                <a:solidFill>
                  <a:srgbClr val="cc66ff"/>
                </a:solidFill>
                <a:latin typeface="隶书"/>
                <a:ea typeface="隶书"/>
              </a:rPr>
              <a:t>》</a:t>
            </a:r>
            <a:r>
              <a:rPr b="1" lang="zh-CN" sz="2800" spc="-1" strike="noStrike">
                <a:solidFill>
                  <a:srgbClr val="cc66ff"/>
                </a:solidFill>
                <a:latin typeface="隶书"/>
                <a:ea typeface="隶书"/>
              </a:rPr>
              <a:t>的序言。原意是借口技人的“善画声”（善于绘声绘色地描写生活），说明</a:t>
            </a:r>
            <a:r>
              <a:rPr b="1" lang="en-US" sz="2800" spc="-1" strike="noStrike">
                <a:solidFill>
                  <a:srgbClr val="cc66ff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cc66ff"/>
                </a:solidFill>
                <a:latin typeface="隶书"/>
                <a:ea typeface="隶书"/>
              </a:rPr>
              <a:t>秋声诗</a:t>
            </a:r>
            <a:r>
              <a:rPr b="1" lang="en-US" sz="2800" spc="-1" strike="noStrike">
                <a:solidFill>
                  <a:srgbClr val="cc66ff"/>
                </a:solidFill>
                <a:latin typeface="隶书"/>
                <a:ea typeface="隶书"/>
              </a:rPr>
              <a:t>》</a:t>
            </a:r>
            <a:r>
              <a:rPr b="1" lang="zh-CN" sz="2800" spc="-1" strike="noStrike">
                <a:solidFill>
                  <a:srgbClr val="cc66ff"/>
                </a:solidFill>
                <a:latin typeface="隶书"/>
                <a:ea typeface="隶书"/>
              </a:rPr>
              <a:t>也是“善画声”的诗作。细读</a:t>
            </a:r>
            <a:r>
              <a:rPr b="1" lang="en-US" sz="2800" spc="-1" strike="noStrike">
                <a:solidFill>
                  <a:srgbClr val="cc66ff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cc66ff"/>
                </a:solidFill>
                <a:latin typeface="隶书"/>
                <a:ea typeface="隶书"/>
              </a:rPr>
              <a:t>口技</a:t>
            </a:r>
            <a:r>
              <a:rPr b="1" lang="en-US" sz="2800" spc="-1" strike="noStrike">
                <a:solidFill>
                  <a:srgbClr val="cc66ff"/>
                </a:solidFill>
                <a:latin typeface="隶书"/>
                <a:ea typeface="隶书"/>
              </a:rPr>
              <a:t>》</a:t>
            </a:r>
            <a:r>
              <a:rPr b="1" lang="zh-CN" sz="2800" spc="-1" strike="noStrike">
                <a:solidFill>
                  <a:srgbClr val="cc66ff"/>
                </a:solidFill>
                <a:latin typeface="隶书"/>
                <a:ea typeface="隶书"/>
              </a:rPr>
              <a:t>，可以看出作者确实善于抓住三个场景，绘声绘色的描写一家四口人在一场火警前后的情景，使我们感到口技表演真正达到了形神兼备的迷人地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6553080" y="6248520"/>
            <a:ext cx="381240" cy="304560"/>
          </a:xfrm>
          <a:custGeom>
            <a:avLst/>
            <a:gdLst>
              <a:gd name="textAreaLeft" fmla="*/ 18720 w 381240"/>
              <a:gd name="textAreaRight" fmla="*/ 362520 w 381240"/>
              <a:gd name="textAreaTop" fmla="*/ 18720 h 304560"/>
              <a:gd name="textAreaBottom" fmla="*/ 285840 h 304560"/>
            </a:gdLst>
            <a:ahLst/>
            <a:rect l="textAreaLeft" t="textAreaTop" r="textAreaRight" b="textAreaBottom"/>
            <a:pathLst>
              <a:path w="27032" h="21600">
                <a:moveTo>
                  <a:pt x="0" y="0"/>
                </a:moveTo>
                <a:lnTo>
                  <a:pt x="27032" y="0"/>
                </a:lnTo>
                <a:lnTo>
                  <a:pt x="27032" y="21600"/>
                </a:lnTo>
                <a:lnTo>
                  <a:pt x="0" y="21600"/>
                </a:lnTo>
                <a:close/>
              </a:path>
              <a:path fill="lightenLess" w="27032" h="21600">
                <a:moveTo>
                  <a:pt x="0" y="0"/>
                </a:moveTo>
                <a:lnTo>
                  <a:pt x="27032" y="0"/>
                </a:lnTo>
                <a:lnTo>
                  <a:pt x="25682" y="1350"/>
                </a:lnTo>
                <a:lnTo>
                  <a:pt x="1350" y="1350"/>
                </a:lnTo>
                <a:close/>
              </a:path>
              <a:path fill="darken" w="27032" h="21600">
                <a:moveTo>
                  <a:pt x="27032" y="0"/>
                </a:moveTo>
                <a:lnTo>
                  <a:pt x="27032" y="21600"/>
                </a:lnTo>
                <a:lnTo>
                  <a:pt x="25682" y="20250"/>
                </a:lnTo>
                <a:lnTo>
                  <a:pt x="25682" y="1350"/>
                </a:lnTo>
                <a:close/>
              </a:path>
              <a:path fill="darkenLess" w="27032" h="21600">
                <a:moveTo>
                  <a:pt x="2703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682" y="20250"/>
                </a:lnTo>
                <a:close/>
              </a:path>
              <a:path fill="lighten" w="2703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032" h="21600">
                <a:moveTo>
                  <a:pt x="6472" y="10800"/>
                </a:moveTo>
                <a:lnTo>
                  <a:pt x="20560" y="3756"/>
                </a:lnTo>
                <a:lnTo>
                  <a:pt x="20560" y="17844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6934320" y="6248520"/>
            <a:ext cx="380880" cy="304560"/>
          </a:xfrm>
          <a:custGeom>
            <a:avLst/>
            <a:gdLst>
              <a:gd name="textAreaLeft" fmla="*/ 18720 w 380880"/>
              <a:gd name="textAreaRight" fmla="*/ 362160 w 380880"/>
              <a:gd name="textAreaTop" fmla="*/ 18720 h 304560"/>
              <a:gd name="textAreaBottom" fmla="*/ 28584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56" y="1350"/>
                </a:lnTo>
                <a:lnTo>
                  <a:pt x="1350" y="135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56" y="20250"/>
                </a:lnTo>
                <a:lnTo>
                  <a:pt x="25656" y="135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656" y="2025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006" h="21600">
                <a:moveTo>
                  <a:pt x="6459" y="3756"/>
                </a:moveTo>
                <a:lnTo>
                  <a:pt x="20547" y="10800"/>
                </a:lnTo>
                <a:lnTo>
                  <a:pt x="6459" y="17844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正面描写与侧面描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文描写口技表演，抓住了表演者和听众两个方面：一方面描写口技艺人的表演，直接表现其高超技艺，这是正面描写；另一方面描写听众的神态、动作，以听众的反应烘托其高超技艺，这是侧面描写。在描写表演过程的三部分中，都是先写口技艺人的表演，后写听众的反应，从而使表演和效果联系起来，以听众的反应为烘托，从侧面表现口技表演之“善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课文首尾两次交代极其简单的道具，表明口技不是靠其他器物发声，而仅仅是靠一张嘴发声，突出其技艺在“口”，也是从侧面表现表演者口技的不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文运用侧面描写表现口技表演的魅力，烘托表演者的高超技艺，增强了文章的感染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描摹音响的语句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表现深夜一家四口由睡到醒、由醒入睡的过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①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遥闻深巷中犬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众妙毕备”，写声音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由远而近，由外而内，由小而大，由分而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生动地表现了一个四口之家在深夜由睡而醒的情形。其中“遥闻深巷中犬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絮絮不止”，写深夜的寂静氛围以及一家四口陆续醒来后的各种声音；“当是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众妙毕备”合写五种声音，犹如一部大合唱，使人感到一家四口在静夜的喧闹气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②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夫齁声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妇梦中咳嗽”，写声音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由大而小，由密而疏，微闻余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表现了一家人由醒复睡的情形。“齁声起”，写丈夫由醒到睡；“渐拍渐止”，写出拍儿声由大到小的变化，说明妇人和小儿正慢慢入睡；“微闻”的“微”字，表示声音很弱。老鼠作作索索声，盆器倾侧声，妇人梦中咳嗽声，都很轻微，衬托了深夜寂静的氛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表现从失火到救火的情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①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忽一人大呼‘火起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百千犬吠”，写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响声大作，由少而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②“中间力拉崩倒之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能名其一处也”，写声音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百千齐作，应有尽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逼真地表现了发生在这个家庭附近的一场大火灾的情形。先写发现火情、火势漫延和人们救火的情景；总写火场的声音之多之杂。极力渲染火场的紧张气氛，人的慌乱，犹如置身于救火现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文三次描述听众的反应效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三处侧面描写，层层深入，生动细腻地刻画出听众的心理变化过程，表现了这场精彩的演出对听众具有巨大吸引力的表演效果，从而烘托了口技表演者技艺的高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、给下边字注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少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   )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无敢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   )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夫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大儿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   )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犬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   )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呓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语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   )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曳屋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许许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   )(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   )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间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   )   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几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欲先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二、朗读下列语句，停顿正确的一组是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京中／有善／口技者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京中／有／善／口技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中间／力拉崩倒之声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中／间／力拉崩倒之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．①③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．②③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．①④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．②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-24120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三、解释下边句中的词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640" y="549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满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坐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寂然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    )     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宾客大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    )(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施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八尺屏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    )    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中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间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力拉崩倒之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不能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其一处也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    )    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京中有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善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口技者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妇抚儿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    )          8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众宾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团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坐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曳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屋许许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    )      1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袖出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两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股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战战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    )        1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几欲先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四、指出下列句中加点词的古今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闻屏障中抚尺一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古义：                   今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当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，妇手拍儿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古义：                   今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虽人有百手，手有百指，不能指其一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古义：                   今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于是宾客无不变色离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古义：                   今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两股战战，几欲先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古义：                   今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五、指出下列句中“之”的含义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于厅事之东北角，施八尺屏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妇拍而呜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中间力拉崩倒之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撤屏视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六、用现代汉语翻译下列句子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凡所应有，无所不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虽人有百手，手有百指，不能指其一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于是宾客无不变色离席，奋袖出臂，两股战战，几欲先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中间力拉崩倒之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正确朗读下列词语中的加点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少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ǐng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喧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á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叱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ì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犬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èi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呓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ì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齁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ōu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àn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曳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è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几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ī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许许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ǐng   huá   chì   fèi   yì   yè    hǔ    hōu    jiàn   jī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同“座”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适逢，设宴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摆放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夹杂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说出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擅长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喂奶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聚集、集合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拉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展开、扬起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大腿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几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四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古义：只。  今义：表示转折关系的关联词。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古义：这、这个。  今义：判断动词。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古义：即使。  今义：虽然。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古义：在这种情况下。  今义：表示承接关系的连词。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古义：跑。今义：行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五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。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他，代小儿。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。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代屏障里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六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凡是在这种情况下应该有的声音都有了。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即使一个人有上百只手，一只手有上百个手指，也不能指明其中的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任何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种声音。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这种情况下，所有在场的听众没有一个不吓得变了脸色、离开座位，扬起袖子、露出手臂，两条大腿哆哆嗦嗦，几乎都要争先恐后地跑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中间夹着劈里啪啦房屋倒塌的声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696400" y="15228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3399"/>
                </a:solidFill>
                <a:latin typeface="隶书"/>
                <a:ea typeface="华文楷体"/>
              </a:rPr>
              <a:t>学习难解词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76320" y="1066680"/>
            <a:ext cx="95248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古今异义的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但（       ）、虽（       ）、走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古今词义略有差别的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会（       ）、厅事（       ）   施（       ）、闻（         ）、  奋（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词类活用：宴（                  ）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乳（        ）、名（         ）、善（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7010280" y="190512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7524720" y="61657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擅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639800" y="19051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3962520" y="19051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即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927000" y="3733920"/>
            <a:ext cx="143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适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4356000" y="3733920"/>
            <a:ext cx="158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厅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7162920" y="37339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放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990720" y="43434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听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4231800" y="5229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举行宴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1332000" y="623736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喂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4356000" y="616572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说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4495680" y="447984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宋体"/>
              </a:rPr>
              <a:t>卷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理解下列句子中加点的词的意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会宾客大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会：适逢，正赶上，恰好。    宴：举行宴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但闻屏障中抚尺一下，满坐寂然，无敢哗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但：只。    闻：听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妇抚儿乳，儿含乳啼，妇拍而呜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乳：喂奶    呜：发出呜呜的声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宾客意少舒，稍稍正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少：稍微。    稍稍：渐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有百口，口有百舌，不能名其一处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名：说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于是宾客无不变色离席，奋臂出袖，两股战战，几欲先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股：腿。    走：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611280" y="1569240"/>
            <a:ext cx="6770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京中有善口技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会：适逢，正赶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宾客大宴，于厅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厅事：大厅，客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之东北角，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施：设置，安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八尺屏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屏障：指屏风、围帐一类用来隔断视线的东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口技人坐屏障中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一桌、一椅、一扇、一抚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抚尺：艺人表演用的道具，也叫“醒木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〕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而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众宾团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团坐：围绕而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少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少顷：一会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但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闻：听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屏障中抚尺一下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满坐寂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满坐寂然：全场静悄悄的。坐，同“座”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〕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无敢哗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539640" y="5132520"/>
            <a:ext cx="77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京城里有一个善于表演口技的人。一天，正好碰上有一家大摆酒席请客，在客厅的东北角上安放了一个八尺宽的围幕，这位表演口技的艺人坐在围幕中，里面只放了一张桌子、一把椅子、一把扇子、一块醒木罢了。客人们围坐在一起。过了一会儿，只听得围幕里醒木一拍，全场都安静下来，没有一个敢大声说话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1116000" y="1646640"/>
            <a:ext cx="6472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遥闻深巷中犬吠，便有妇人惊觉欠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欠伸：打呵欠，伸懒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其夫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呓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语：说梦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。既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既而：不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儿醒，大啼。夫亦醒。妇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抚：抚摸，安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儿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乳：喂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儿含乳啼，妇拍而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呜：指轻声哼唱着哄小孩入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之。又一大儿醒，絮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絮絮：连续不断地说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止。当是时，妇手拍儿声，口中呜声，儿含乳啼声，大儿初醒声，夫叱大儿声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一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时：同一时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〕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齐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众妙毕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众妙毕备：各种妙处都具备，意思是各种声音都摹仿得极像。毕，全、都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〕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满坐宾客无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伸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侧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侧目：偏着头看，形容听得入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笑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默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默叹：默默地赞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以为妙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539640" y="2968560"/>
            <a:ext cx="796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听到远远的深巷里一阵狗叫声，就有一个妇人被惊醒，打着哈欠，伸着懒腰，她丈夫说着梦话。一会儿小孩子醒了，大声哭着。丈夫也被吵醒。妇人拍着孩子，给他喂奶，孩子口里含着乳头还是哭，妇人一面拍着孩子，一面呜呜地哼唱着哄他睡觉。又一个大孩子也醒了，唠唠叨叨地说个不停。这时候，妇人用手拍孩子的声音，口中呜呜哼唱的声音，小孩子含着乳头啼哭的声音，大孩刚刚醒来的声音，丈夫大声呵斥大孩子的声音，同时都响了起来，各种声音都表演得惟妙惟肖。全场客人没有一个不伸长脖子，偏着头凝神地听着，微笑着，暗暗赞叹着，认为妙极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00:04:47Z</dcterms:created>
  <dc:creator>1</dc:creator>
  <dc:description>1</dc:description>
  <cp:keywords>1</cp:keywords>
  <dc:language>en-US</dc:language>
  <cp:lastModifiedBy>微软用户</cp:lastModifiedBy>
  <dcterms:modified xsi:type="dcterms:W3CDTF">2015-01-12T21:48:14Z</dcterms:modified>
  <cp:revision>1</cp:revision>
  <dc:subject>1</dc:subject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