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093-0278-4F5A-A179-B6ACE926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802-5F47-4424-BB16-01E15B81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523-013D-4E86-BAD7-5AEC40ED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710-AA7F-4856-9F8A-4326DCDF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AF3-F9EF-42F3-A9BE-30CB973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A81-D10B-4AF6-977A-759A4C3F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C47-3CBE-42C4-8C4D-EE5AB37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A0B-F7B4-4F2F-8756-2416128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F90-2C9A-41C2-AC02-E7BE32A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D01-46C4-4847-B40C-FD63F42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C9D-12DE-4C9B-850F-9823CD84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959-F75C-4811-BFC6-F2957A4C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file:///../../../../&#30446;&#24405;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6.xml"/><Relationship Id="rId8" Type="http://schemas.openxmlformats.org/officeDocument/2006/relationships/image" Target="../media/image5.png"/><Relationship Id="rId9" Type="http://schemas.openxmlformats.org/officeDocument/2006/relationships/slide" Target="slide8.xml"/><Relationship Id="rId10" Type="http://schemas.openxmlformats.org/officeDocument/2006/relationships/image" Target="../media/image6.png"/><Relationship Id="rId11" Type="http://schemas.openxmlformats.org/officeDocument/2006/relationships/slide" Target="slide10.xml"/><Relationship Id="rId12" Type="http://schemas.openxmlformats.org/officeDocument/2006/relationships/image" Target="../media/image7.png"/><Relationship Id="rId13" Type="http://schemas.openxmlformats.org/officeDocument/2006/relationships/slide" Target="slide2.xml"/><Relationship Id="rId14" Type="http://schemas.openxmlformats.org/officeDocument/2006/relationships/image" Target="../media/image8.png"/><Relationship Id="rId15" Type="http://schemas.openxmlformats.org/officeDocument/2006/relationships/slide" Target="slide4.xml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file:///../../../../&#30446;&#24405;.ppt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-9360" y="1758960"/>
            <a:ext cx="890280" cy="2556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-9360" y="2179800"/>
            <a:ext cx="890280" cy="255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-9360" y="2602080"/>
            <a:ext cx="890280" cy="255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-9360" y="917640"/>
            <a:ext cx="890280" cy="255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-9360" y="1338120"/>
            <a:ext cx="89028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4713120"/>
            <a:ext cx="1359000" cy="9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808B-A3CD-4FFB-B9A1-7C61665E54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1240" y="1101600"/>
            <a:ext cx="4951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2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沙漠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998800" y="2176560"/>
            <a:ext cx="50832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49240" y="835200"/>
            <a:ext cx="747252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6520" y="1609560"/>
            <a:ext cx="8310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快速阅读文章，用简洁的语言概括文章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根据记叙内容划分文章层次，注意语言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同学们谈谈读了这篇文章有什么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4840" y="708120"/>
            <a:ext cx="2033280" cy="5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01480" y="876240"/>
            <a:ext cx="7648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宋体"/>
                <a:ea typeface="Arial"/>
              </a:rPr>
              <a:t>1.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快速阅读文章，用简洁的语言概括文章的内容</a:t>
            </a:r>
            <a:r>
              <a:rPr b="0" lang="zh-CN" sz="2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章写了“我”濒临死亡的处境以及面对死亡，从痛苦绝望到坚定顽强的心理活动过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2360" y="2289240"/>
            <a:ext cx="82486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请根据记叙内容划分文章层次，注意语言标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）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沙漠里濒临死亡痛苦挣扎的情景和心理活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）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自己埋在沙子里宁静的心理活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部分（第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）：回归现实，继续走下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34800" y="431640"/>
            <a:ext cx="85521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请同学们谈谈读了这篇文章有什么感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感受到主人公遇险后碰到了一系列困难，很惊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感受到了沙漠的可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遇险后，主人公展开了一系列自救活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感受到主人公的内心有过一系列的斗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感受到遇险后，主人公有了一系列心理活动，并贯穿全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感受到主人公强烈的求生欲望，以及主人公对责任、事业、生命的思索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30360" y="1747800"/>
            <a:ext cx="8129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同学们找一找，作者坠机后遇到了哪些困难？在这些困难中，“我”有了哪些生理上的不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者为什么能从绝望、痛苦中转而变得平静、乐观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者的这种冒险是为了个人的利益吗？不然那他是为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360" y="1366920"/>
            <a:ext cx="29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、研读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757080"/>
            <a:ext cx="1873440" cy="1810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1042920" y="1103040"/>
            <a:ext cx="1873440" cy="18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492360"/>
            <a:ext cx="459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1200" y="693720"/>
            <a:ext cx="203364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5720" y="584280"/>
            <a:ext cx="79693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Arial"/>
              </a:rPr>
              <a:t>1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请同学们找一找，作者坠机后遇到了哪些困难？在这些困难中，“我”有了哪些生理上的不适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遇到的困难：血液因缺水而循环不畅，寒气逼人，干渴；寒风越刮越猛，吹得他团团转；感到呼吸困难；找不到任何水，连露水也没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理上的不适：（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产生幻影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感到疲倦、错乱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呼吸困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6880" y="541440"/>
            <a:ext cx="842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作者为什么能从绝望、痛苦中转而变得平静、乐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认为他的死亡是人的忍耐力所致，决不是他的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能够回去，他会卷土重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的冒险是去寻找自己的真理，这就是对人类的责任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认为为人类的命运而死是死得其所，所以他不抱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08040" y="1922400"/>
            <a:ext cx="184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5120" y="552600"/>
            <a:ext cx="8197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者的这种冒险是为了个人的利益吗？不然那他是为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热爱自己的生命，但是人的幸福不在于自由，而在于对一个责任的承担。这个责任就是对人类崭新的建设事业负责，对人类的命运尽一点点责任。为此冒险是值得的，是崇高的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8720" y="1374840"/>
            <a:ext cx="71150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品析以下语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的血液因缺水而循环不畅，寒气逼人，但这不只是夜晚的寒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寒风就像平原上的骑兵向我直冲过来，我只好团团转以躲避它的来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8200" y="649440"/>
            <a:ext cx="356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、品析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66640" y="623880"/>
            <a:ext cx="7913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我的血液因缺水而循环不畅，寒气逼人，但这不只是夜晚的寒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了在生命面临缺水和寒冷双重威胁下死神即将来临的感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寒风就像平原上的骑兵向我直冲过来，我只好团团转以躲避它的来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比喻的修辞方法，生动贴切地描述出夜晚沙漠寒风对生命的威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0" r="0" b="11049"/>
          <a:stretch/>
        </p:blipFill>
        <p:spPr>
          <a:xfrm>
            <a:off x="843120" y="920880"/>
            <a:ext cx="747396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98600" y="1120680"/>
            <a:ext cx="7972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什么样的生活是你向往的生活？人生怎样才算成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散角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我向往一种轰轰烈烈的生活，成就一番伟业是人生成功的标志。古有秦始皇，今有毛泽东，他们就是用自己的智慧和胆略推动了历史的进步，他们是我崇拜的英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散角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我喜欢一种平静的生活，平平淡淡做事就是人生的成功。尽管人类有许多杰出人物，但绝大多数的人都是普通平凡的。这些人是构成人类群体的基础。没有这些平凡而普通的人的默默奉献，英雄也难以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98600" y="558720"/>
            <a:ext cx="203364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16040" y="873000"/>
            <a:ext cx="78786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散角度</a:t>
            </a: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我喜欢一种拥有大量财富的生活，财富的多少是人生成败的标志，因为在当今商品经济社会中，人们的生活基础就是物质财富，没有财富，其他一切都无从谈起。拥有了财富，人类的精神文明、生态文明、政治文明才会得到促进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散角度</a:t>
            </a: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我喜欢一种充满诗情画意的生活，精神的富足和心灵的愉悦是我的追求，以微笑面对世界是我幸福的证明。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55760" y="192096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缺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06640" y="192096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寒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0000" y="192096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寒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1200" y="3308400"/>
            <a:ext cx="10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幻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01000" y="330048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疲倦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错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7240" y="3308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呼吸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37800" y="447516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痛苦  绝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19320" y="45244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平静  乐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1720" y="4319640"/>
            <a:ext cx="132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事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9280" y="472752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32200" y="2643120"/>
            <a:ext cx="0" cy="44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86040" y="2655720"/>
            <a:ext cx="0" cy="4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32200" y="3940200"/>
            <a:ext cx="0" cy="4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22680" y="3925800"/>
            <a:ext cx="0" cy="4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72480" y="1590840"/>
            <a:ext cx="0" cy="3301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9400" y="1714680"/>
            <a:ext cx="146016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为了人类的事业尽一点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热爱生命，毅力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63600" y="701640"/>
            <a:ext cx="203364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38240" y="2270160"/>
            <a:ext cx="7081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人生能有几回搏，此时不搏何时搏。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   ——</a:t>
            </a: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容国团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886120" y="685800"/>
            <a:ext cx="30351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84480" y="1506600"/>
            <a:ext cx="4496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9720" y="825480"/>
            <a:ext cx="740736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1960" y="1576440"/>
            <a:ext cx="80089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理清课文叙述的顺序及线索，整体感知课文内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学习用心理描写塑造人物，表现人物性格的写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在熏陶感染中引导学生体味生命的意义，正确对待挫折和失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矩形 9" descr=""/>
          <p:cNvPicPr/>
          <p:nvPr/>
        </p:nvPicPr>
        <p:blipFill>
          <a:blip r:embed="rId2"/>
          <a:srcRect l="9627" t="0" r="7848" b="25821"/>
          <a:stretch/>
        </p:blipFill>
        <p:spPr>
          <a:xfrm>
            <a:off x="2773440" y="606600"/>
            <a:ext cx="2774880" cy="6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84480" y="1506600"/>
            <a:ext cx="4496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03400" y="803160"/>
            <a:ext cx="70927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25920" y="915840"/>
            <a:ext cx="5079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圣埃克絮佩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900-1944)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法国作家。他是法国最早的一代飞行员之一，是撒哈拉航线的飞行员。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3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的一次飞行中，飞机坠毁在利比亚沙漠。他的小说特点是围绕他本人的航空经历，描述了当时法国飞行员的惊险豪迈的生活。他的代表作有《南方邮件》《夜航》《人类的大地》《空军飞行员》《小王子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17480" y="1333440"/>
            <a:ext cx="2678040" cy="368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39840" y="617400"/>
            <a:ext cx="203652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82760" y="128592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《在沙漠中心》选自《人类的大地》。《人类的大地》是一本由八篇文章组成的散文集，每章都有一个主题，独立成篇，从航线说到同志、飞行、飞机和行星、绿洲、沙漠、沙漠中心，最后归结到人。贯穿这些文章的线索是飞行员的感受、激情和思索，是一种崇高的“使命感”，是作者对友谊、责任、勇气、毅力的颂扬，是对人类、文明、战争、品质的深层思考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6880" y="695160"/>
            <a:ext cx="203364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82640" y="1600200"/>
            <a:ext cx="4719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53920" y="2457360"/>
            <a:ext cx="7543800" cy="2733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硌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  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住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 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射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  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疲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倦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带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犁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铧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真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卷土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来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 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芸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芸众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4560" y="2136600"/>
            <a:ext cx="12571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ɡ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2087640"/>
            <a:ext cx="1122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11760" y="2090880"/>
            <a:ext cx="10760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27160" y="314640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j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38720" y="3146400"/>
            <a:ext cx="8236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hu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5080" y="2111400"/>
            <a:ext cx="9396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shā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33360" y="3986280"/>
            <a:ext cx="11368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hó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8040" y="3951360"/>
            <a:ext cx="1300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8680" y="3146400"/>
            <a:ext cx="8240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q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6440" y="3146400"/>
            <a:ext cx="8236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d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0520" y="765000"/>
            <a:ext cx="2033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6720" y="426960"/>
            <a:ext cx="367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、记一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6720" y="1062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卷土重来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720" y="42433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领   略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6720" y="3678120"/>
            <a:ext cx="24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福   地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6720" y="1730520"/>
            <a:ext cx="20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芸芸众生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25956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死得其所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6720" y="310500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真   谛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73320" y="106200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失败之后重新恢复势力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3320" y="425124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事物的情况，进而认识它的意义，或者辨别它的滋味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73320" y="36576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幸福的地方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73320" y="170496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佛教指一切有生命的东西，一般也用来指众多的平常人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73320" y="261288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死得有意义、有价值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73320" y="31179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实的意义或道理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 www.xiexingcun.com【全免费】</dc:creator>
  <dc:description>语文备课大师 www.xiexingcun.com【全免费】</dc:description>
  <dc:language>en-US</dc:language>
  <cp:lastModifiedBy>USER</cp:lastModifiedBy>
  <dcterms:modified xsi:type="dcterms:W3CDTF">2015-03-09T00:19:06Z</dcterms:modified>
  <cp:revision>0</cp:revision>
  <dc:subject> </dc:subject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