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3.jpeg" ContentType="image/jpeg"/>
  <Override PartName="/ppt/media/image10.png" ContentType="image/png"/>
  <Override PartName="/ppt/media/image9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5.gif" ContentType="image/gif"/>
  <Override PartName="/ppt/media/image6.gif" ContentType="image/gif"/>
  <Override PartName="/ppt/media/image23.gif" ContentType="image/gif"/>
  <Override PartName="/ppt/media/image5.jpeg" ContentType="image/jpeg"/>
  <Override PartName="/ppt/media/image22.gif" ContentType="image/gif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21.gif" ContentType="image/gif"/>
  <Override PartName="/ppt/media/image19.gif" ContentType="image/gi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86D-90DD-4E3C-9F50-755809D1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95A-57FC-49B3-AAE2-6DC61EBB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77F-C9B1-49AE-9C16-AA890DE8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98E-8024-4A15-800E-5079BE62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C4F4-CC02-496F-AE93-A9291939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62CF-190A-43F4-ADE2-47CA6C95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23FB-3083-4148-B1C4-019CD1C5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7BBE-E39E-4E92-97EF-930776C0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4A5F-A7FE-4C8A-8217-78E2D588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B428-0CF3-4494-8001-8A6852A5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A438-EA5E-4408-A0D7-0D8D824D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D9B-6FBC-4975-8824-8EA5753F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5B4C-DE0A-4546-B629-825B914D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0D9C-DA3B-4F69-851F-8A72CF50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2624-E991-4205-A368-5B1921C2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660D-40DE-4111-BC0E-1BDE4954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192C-6348-4580-84DC-BE6AA944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4D2-C8B9-4E21-BA89-DEA131F1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05F-BADF-4809-8B68-B379E85A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396-62E4-4C32-9576-9969539E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7BA-21D5-40F1-AE36-B00AB1AA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E650-75F3-406B-9A30-EC80C745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DF4-48E3-43FD-A05C-D19ED6EC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069B-A039-446E-A7A4-4CF44238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7BBE-5701-49F6-BD85-9FBD45C95B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B63C-0740-4237-9CE8-A33D302052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image" Target="../media/image20.gif"/><Relationship Id="rId11" Type="http://schemas.openxmlformats.org/officeDocument/2006/relationships/image" Target="../media/image21.gif"/><Relationship Id="rId12" Type="http://schemas.openxmlformats.org/officeDocument/2006/relationships/image" Target="../media/image22.gif"/><Relationship Id="rId13" Type="http://schemas.openxmlformats.org/officeDocument/2006/relationships/image" Target="../media/image23.gif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64,7,&#24187;&#28783;&#29255; 7" TargetMode="External"/><Relationship Id="rId2" Type="http://schemas.openxmlformats.org/officeDocument/2006/relationships/hyperlink" Target="264,7,&#24187;&#28783;&#29255; 7" TargetMode="External"/><Relationship Id="rId3" Type="http://schemas.openxmlformats.org/officeDocument/2006/relationships/hyperlink" Target="268,8,&#24187;&#28783;&#29255; 8" TargetMode="External"/><Relationship Id="rId4" Type="http://schemas.openxmlformats.org/officeDocument/2006/relationships/hyperlink" Target="265,9,&#24187;&#28783;&#29255; 9" TargetMode="External"/><Relationship Id="rId5" Type="http://schemas.openxmlformats.org/officeDocument/2006/relationships/hyperlink" Target="265,9,&#24187;&#28783;&#29255; 9" TargetMode="External"/><Relationship Id="rId6" Type="http://schemas.openxmlformats.org/officeDocument/2006/relationships/hyperlink" Target="266,11,&#24187;&#28783;&#29255; 11" TargetMode="External"/><Relationship Id="rId7" Type="http://schemas.openxmlformats.org/officeDocument/2006/relationships/hyperlink" Target="266,11,&#24187;&#28783;&#29255; 11" TargetMode="External"/><Relationship Id="rId8" Type="http://schemas.openxmlformats.org/officeDocument/2006/relationships/hyperlink" Target="266,11,&#24187;&#28783;&#29255; 11" TargetMode="External"/><Relationship Id="rId9" Type="http://schemas.openxmlformats.org/officeDocument/2006/relationships/hyperlink" Target="267,12,&#24187;&#28783;&#29255; 12" TargetMode="External"/><Relationship Id="rId10" Type="http://schemas.openxmlformats.org/officeDocument/2006/relationships/hyperlink" Target="267,12,&#24187;&#28783;&#29255; 12" TargetMode="External"/><Relationship Id="rId11" Type="http://schemas.openxmlformats.org/officeDocument/2006/relationships/hyperlink" Target="267,12,&#24187;&#28783;&#29255; 12" TargetMode="External"/><Relationship Id="rId12" Type="http://schemas.openxmlformats.org/officeDocument/2006/relationships/hyperlink" Target="267,12,&#24187;&#28783;&#29255; 12" TargetMode="External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72200" y="533520"/>
            <a:ext cx="2971800" cy="4219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4229280" y="1484280"/>
            <a:ext cx="1711080" cy="367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056120" cy="279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80880" y="3352680"/>
            <a:ext cx="3505320" cy="3200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18280" y="5040360"/>
            <a:ext cx="220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牛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816200" y="1720800"/>
            <a:ext cx="664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”作为庸俗大众中的一员，来“观赏”老虎。在“不羁的灵魂”面前，感到了自己人格的卑微、心灵的堕落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44000" y="6021360"/>
            <a:ext cx="360360" cy="3603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11120" y="1865160"/>
            <a:ext cx="621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在表现华南虎对自由的火一般的渴望，歌颂华南虎在逆境中爆发的火一般的生命力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17080" y="6093000"/>
            <a:ext cx="358560" cy="360360"/>
          </a:xfrm>
          <a:custGeom>
            <a:avLst/>
            <a:gdLst>
              <a:gd name="textAreaLeft" fmla="*/ 22320 w 358560"/>
              <a:gd name="textAreaRight" fmla="*/ 336240 w 3585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50" y="20358"/>
                </a:lnTo>
                <a:lnTo>
                  <a:pt x="20250" y="135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350" y="20358"/>
                </a:lnTo>
                <a:lnTo>
                  <a:pt x="20250" y="2035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58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71640" y="1125360"/>
            <a:ext cx="7292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”明白了被人类囚禁在笼中的是一个不屈服、高尚的生命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”明白了在这个“不羁的灵魂”面前人类的庸俗和无知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”明白了在困境中，人应该保持独立、健全、高尚的人格，奋然前行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17080" y="6093000"/>
            <a:ext cx="287280" cy="36036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360360"/>
              <a:gd name="textAreaBottom" fmla="*/ 34272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50" y="25738"/>
                </a:lnTo>
                <a:lnTo>
                  <a:pt x="20250" y="135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350" y="25738"/>
                </a:lnTo>
                <a:lnTo>
                  <a:pt x="20250" y="2573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350" y="1350"/>
                </a:lnTo>
                <a:lnTo>
                  <a:pt x="1350" y="25738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43120" y="98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88400" y="287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隶书"/>
              </a:rPr>
              <a:t>体验反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1341360"/>
            <a:ext cx="748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如你就是那只被囚在“铁笼”中的华南虎，当时你会怎样想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如你是观众，当你看到“铁笼”中的华南虎时，你又会怎样想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选择一个角色用第一人称写一段话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lastslide"/>
          </p:cNvPr>
          <p:cNvSpPr/>
          <p:nvPr/>
        </p:nvSpPr>
        <p:spPr>
          <a:xfrm>
            <a:off x="8317080" y="6093000"/>
            <a:ext cx="287280" cy="36036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360360"/>
              <a:gd name="textAreaBottom" fmla="*/ 34272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50" y="25738"/>
                </a:lnTo>
                <a:lnTo>
                  <a:pt x="20250" y="135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350" y="25738"/>
                </a:lnTo>
                <a:lnTo>
                  <a:pt x="20250" y="2573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350" y="1350"/>
                </a:lnTo>
                <a:lnTo>
                  <a:pt x="1350" y="25738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1828800"/>
            <a:ext cx="6324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再次诵读诗歌，体会诗中最能震慑人心、表现主题的诗句。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4292640"/>
            <a:ext cx="8497800" cy="866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284720" y="4076640"/>
            <a:ext cx="1303200" cy="1006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508720" y="2492280"/>
            <a:ext cx="1828800" cy="971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50920" y="1125360"/>
            <a:ext cx="1428480" cy="1225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7451640" y="1125360"/>
            <a:ext cx="865440" cy="694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-322200" y="3500280"/>
            <a:ext cx="3022560" cy="1152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533520" y="5721480"/>
            <a:ext cx="609480" cy="422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8101080" y="5589720"/>
            <a:ext cx="788760" cy="707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5796000" y="5805360"/>
            <a:ext cx="1428840" cy="746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2340000" y="620640"/>
            <a:ext cx="455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万类霜天竞自由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1"/>
          <a:stretch/>
        </p:blipFill>
        <p:spPr>
          <a:xfrm>
            <a:off x="6443640" y="5300640"/>
            <a:ext cx="361800" cy="322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2"/>
          <a:stretch/>
        </p:blipFill>
        <p:spPr>
          <a:xfrm>
            <a:off x="380880" y="5410080"/>
            <a:ext cx="1022400" cy="1114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3"/>
          <a:stretch/>
        </p:blipFill>
        <p:spPr>
          <a:xfrm>
            <a:off x="3348000" y="508464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71640" y="2781360"/>
            <a:ext cx="1182960" cy="1303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92720" cy="4214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1280" y="907920"/>
            <a:ext cx="853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8e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d9d8ec"/>
                </a:solidFill>
                <a:latin typeface="Arial"/>
              </a:rPr>
              <a:t>你了解哪些有关“虎” 的成语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606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673200"/>
            <a:ext cx="3322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d8ec"/>
                </a:solidFill>
                <a:latin typeface="Arial"/>
                <a:ea typeface="黑体"/>
              </a:rPr>
              <a:t>感情朗读</a:t>
            </a:r>
            <a:r>
              <a:rPr b="1" lang="en-US" sz="3600" spc="-1" strike="noStrike">
                <a:solidFill>
                  <a:srgbClr val="d9d8ec"/>
                </a:solidFill>
                <a:latin typeface="Arial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260280"/>
            <a:ext cx="3168720" cy="78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9d8ec"/>
                </a:solidFill>
                <a:latin typeface="Arial"/>
                <a:ea typeface="华文彩云"/>
              </a:rPr>
              <a:t>感情朗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728720"/>
            <a:ext cx="39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教师范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285264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生品读（放声朗读、 注重情感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746280"/>
            <a:ext cx="4043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15000" y="858960"/>
            <a:ext cx="102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说笼中的华南虎是一只怎样的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5240" y="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  <a:ea typeface="隶书"/>
              </a:rPr>
              <a:t>整体感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70028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可用如下句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从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看出，           华南虎是一只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老虎 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37800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cc"/>
                </a:solidFill>
                <a:latin typeface="Arial"/>
              </a:rPr>
              <a:t>我们可以这样说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这是一只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威严、高傲、向往自由、蔑视世俗、威武不屈、勇于抗争，维护着自己的尊严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隶书"/>
                <a:ea typeface="隶书"/>
              </a:rPr>
              <a:t>…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的华南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学生质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预习、美读课文的过程中，你有什么疑问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问题整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48920" y="333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  <a:ea typeface="隶书"/>
              </a:rPr>
              <a:t>互动释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8200" y="1477800"/>
            <a:ext cx="707688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  <a:hlinkClick r:id="rId1"/>
              </a:rPr>
              <a:t>华南虎的心灵为什么会感觉“屈辱”</a:t>
            </a:r>
            <a:r>
              <a:rPr b="0" lang="en-US" sz="32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  <a:hlinkClick r:id="rId2"/>
              </a:rPr>
              <a:t>?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  <a:hlinkClick r:id="rId3"/>
              </a:rPr>
              <a:t>观众为什么是“可怜而可笑”的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  <a:hlinkClick r:id="rId4"/>
              </a:rPr>
              <a:t>在华南虎面前，“我”为什么会感到“羞愧” </a:t>
            </a:r>
            <a:r>
              <a:rPr b="0" lang="en-US" sz="32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  <a:hlinkClick r:id="rId5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  <a:hlinkClick r:id="rId6"/>
              </a:rPr>
              <a:t>为什么“我看见了火焰似的斑纹和火焰似的眼睛</a:t>
            </a:r>
            <a:r>
              <a:rPr b="0" lang="en-US" sz="32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  <a:hlinkClick r:id="rId7"/>
              </a:rPr>
              <a:t>……”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  <a:hlinkClick r:id="rId8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  <a:hlinkClick r:id="rId9"/>
              </a:rPr>
              <a:t>“我终于明白</a:t>
            </a:r>
            <a:r>
              <a:rPr b="0" lang="en-US" sz="32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  <a:hlinkClick r:id="rId10"/>
              </a:rPr>
              <a:t>……”“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  <a:hlinkClick r:id="rId11"/>
              </a:rPr>
              <a:t>我”明白些什么</a:t>
            </a:r>
            <a:r>
              <a:rPr b="0" lang="en-US" sz="32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  <a:hlinkClick r:id="rId12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3"/>
          <a:stretch/>
        </p:blipFill>
        <p:spPr>
          <a:xfrm>
            <a:off x="7067520" y="5373720"/>
            <a:ext cx="2076480" cy="1303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6237360"/>
            <a:ext cx="360360" cy="3603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9640" y="1936800"/>
            <a:ext cx="806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自己的尊严被践踏、自由被剥夺而感到“屈辱”；为生活在这个自由被剥夺、人格被侮辱的世界而感到“屈辱”。 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8360" y="6093000"/>
            <a:ext cx="360360" cy="3603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84200" y="1865160"/>
            <a:ext cx="6932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观众不知道自己的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无耻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反而用“砸”“呵斥”“劝诱”的方式来对待高贵的华南虎；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卑微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他们即便是面对华南虎威严的背影也会感到“胆怯”，所以说他们“可怜”、“可笑”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7080" y="6021360"/>
            <a:ext cx="360360" cy="43200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50" y="24540"/>
                </a:lnTo>
                <a:lnTo>
                  <a:pt x="20250" y="135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350" y="24540"/>
                </a:lnTo>
                <a:lnTo>
                  <a:pt x="20250" y="2454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4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2T06:45:18Z</dcterms:created>
  <dc:creator>1</dc:creator>
  <dc:description>1</dc:description>
  <cp:keywords>1</cp:keywords>
  <dc:language>en-US</dc:language>
  <cp:lastModifiedBy>sjzz</cp:lastModifiedBy>
  <dcterms:modified xsi:type="dcterms:W3CDTF">2015-01-12T21:48:14Z</dcterms:modified>
  <cp:revision>1</cp:revision>
  <dc:subject>1</dc:subject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