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7.jpeg" ContentType="image/jpeg"/>
  <Override PartName="/ppt/media/image50.gif" ContentType="image/gif"/>
  <Override PartName="/ppt/media/image56.jpeg" ContentType="image/jpeg"/>
  <Override PartName="/ppt/media/image49.jpeg" ContentType="image/jpeg"/>
  <Override PartName="/ppt/media/image48.gif" ContentType="image/gif"/>
  <Override PartName="/ppt/media/image47.jpeg" ContentType="image/jpeg"/>
  <Override PartName="/ppt/media/image46.gif" ContentType="image/gif"/>
  <Override PartName="/ppt/media/image65.jpeg" ContentType="image/jpeg"/>
  <Override PartName="/ppt/media/image43.jpeg" ContentType="image/jpeg"/>
  <Override PartName="/ppt/media/image40.gif" ContentType="image/gif"/>
  <Override PartName="/ppt/media/image55.jpeg" ContentType="image/jpeg"/>
  <Override PartName="/ppt/media/image38.gif" ContentType="image/gif"/>
  <Override PartName="/ppt/media/image36.png" ContentType="image/png"/>
  <Override PartName="/ppt/media/image9.jpeg" ContentType="image/jpeg"/>
  <Override PartName="/ppt/media/image34.gif" ContentType="image/gif"/>
  <Override PartName="/ppt/media/image33.jpeg" ContentType="image/jpeg"/>
  <Override PartName="/ppt/media/image32.jpeg" ContentType="image/jpeg"/>
  <Override PartName="/ppt/media/image31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22.png" ContentType="image/png"/>
  <Override PartName="/ppt/media/image24.jpeg" ContentType="image/jpeg"/>
  <Override PartName="/ppt/media/image83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17.jpeg" ContentType="image/jpeg"/>
  <Override PartName="/ppt/media/image77.png" ContentType="image/png"/>
  <Override PartName="/ppt/media/image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21.png" ContentType="image/png"/>
  <Override PartName="/ppt/media/image67.jpeg" ContentType="image/jpeg"/>
  <Override PartName="/ppt/media/image64.jpeg" ContentType="image/jpeg"/>
  <Override PartName="/ppt/media/image7.jpeg" ContentType="image/jpeg"/>
  <Override PartName="/ppt/media/image35.gif" ContentType="image/gif"/>
  <Override PartName="/ppt/media/image66.png" ContentType="image/png"/>
  <Override PartName="/ppt/media/image82.gif" ContentType="image/gif"/>
  <Override PartName="/ppt/media/image74.jpeg" ContentType="image/jpeg"/>
  <Override PartName="/ppt/media/image81.jpeg" ContentType="image/jpeg"/>
  <Override PartName="/ppt/media/image70.jpeg" ContentType="image/jpeg"/>
  <Override PartName="/ppt/media/image76.png" ContentType="image/png"/>
  <Override PartName="/ppt/media/image30.jpeg" ContentType="image/jpeg"/>
  <Override PartName="/ppt/media/image80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jpeg" ContentType="image/jpeg"/>
  <Override PartName="/ppt/media/image20.png" ContentType="image/png"/>
  <Override PartName="/ppt/media/image51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37.gif" ContentType="image/gif"/>
  <Override PartName="/ppt/media/image25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45.gif" ContentType="image/gif"/>
  <Override PartName="/ppt/media/image13.jpeg" ContentType="image/jpeg"/>
  <Override PartName="/ppt/media/image41.gif" ContentType="image/gif"/>
  <Override PartName="/ppt/media/image44.png" ContentType="image/png"/>
  <Override PartName="/ppt/media/image75.jpeg" ContentType="image/jpeg"/>
  <Override PartName="/ppt/media/image2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030-0189-4871-BD67-7DC7867E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502-EEEC-484C-8947-D3423030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A21-3174-4C7A-9E5E-CBFBFFFA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15F-951C-4625-BE6D-FBBF05FB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E8A7-068A-410A-B259-F893090A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29B2-12E6-4C47-AAF2-09474CB0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BB1C-3284-482C-BEF7-AD836CD0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8008-ADD9-4B07-88B3-CD8B4590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6F1F-44C2-47F9-9906-6D981544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87D2-FE76-48BF-A53D-3838997D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986B-667E-43F4-A898-AED88C3B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716-1D96-4FCB-9CDE-27C6DBFA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3617-8A37-4384-B20D-B9B72FB3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A925-BD0C-474B-945D-EC57AA20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87B0-CD35-452C-8F58-A3ED64ED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47A5-C51E-4CD5-BC7D-784590CF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42FA-6B51-4129-B128-D7CA5E1F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469-311C-46DE-9A6A-85C0E96A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1F0-088A-4770-9C84-9A206F91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3C4-1DA5-459B-A9BB-63D04028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42F-A983-45FF-956F-440089FE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34A-5A06-4E07-9545-CF720D96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15B-28BE-47BC-BBDC-1E2C5804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973-4977-47ED-96CE-DFD928EC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7FCF-35C8-478E-A231-EF3F3F851F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D9CD-4BE0-481B-97C5-4C620BCEBA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audio" Target="file:///tmp/home/.config/libreoffice/4/user/gallery/chimes.wav" TargetMode="External"/><Relationship Id="rId19" Type="http://schemas.microsoft.com/office/2007/relationships/media" Target="file:///tmp/home/.config/libreoffice/4/user/gallery/chimes.wav" TargetMode="External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jpeg"/><Relationship Id="rId26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8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gif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r?u=http://zymlove.nease.net/images/toolphoto/flash03.jpg&amp;f=http://zymlove.nease.net/flash/01.htm&amp;c=baidu" TargetMode="External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rdc.gifu-u.ac.jp/mmdb/gifuhaku/honyurui/honyu1/17.jpg&amp;imgrefurl=http://www.hatena.ne.jp/1092743720&amp;h=480&amp;w=640&amp;sz=72&amp;tbnid=Cvax-w44RXoJ:&amp;tbnh=101&amp;tbnw=135&amp;start=3&amp;prev=/images%3Fq%3D%25E9%25A9%25AC%26hl%3Dzh-CN%26lr%3D%26ie%3DUTF-8%26inlang%3Dzh-CN%26newwindow%3D1%26sa%3DG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.baidu.com/ir?u=http://kokora.nease.net/collection/baby001.gif&amp;f=http://kokora.nease.net/collection1.htm&amp;c=baidu" TargetMode="External"/><Relationship Id="rId2" Type="http://schemas.openxmlformats.org/officeDocument/2006/relationships/hyperlink" Target="http://image.baidu.com/ir?u=http://kokora.nease.net/collection/baby008.gif&amp;f=http://kokora.nease.net/collection1.htm&amp;c=baidu" TargetMode="External"/><Relationship Id="rId3" Type="http://schemas.openxmlformats.org/officeDocument/2006/relationships/hyperlink" Target="http://image.baidu.com/ir?u=http://www.slsyxx.net/shishe/dongwu/&#22270;&#20687;/PTW_017_GIF.jpg&amp;f=http://www.slsyxx.net/shishe/dongwu/&amp;c=baidu" TargetMode="External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hyperlink" Target="http://image.baidu.com/ir?u=http://www.hrbxdw.com/images/danwei_1.jpg&amp;f=http://www.hrbxdw.com/danwei.asp&amp;c=baidu" TargetMode="External"/><Relationship Id="rId3" Type="http://schemas.openxmlformats.org/officeDocument/2006/relationships/image" Target="../media/image64.jpeg"/><Relationship Id="rId4" Type="http://schemas.openxmlformats.org/officeDocument/2006/relationships/hyperlink" Target="http://image.baidu.com/ir?u=http://www.szsysx.com/homepage/student/13y/0003.GIF&amp;f=http://www.szsysx.com/homepage/student/13y/animal%20picture.htm&amp;c=baidu" TargetMode="External"/><Relationship Id="rId5" Type="http://schemas.openxmlformats.org/officeDocument/2006/relationships/image" Target="../media/image65.jpeg"/><Relationship Id="rId6" Type="http://schemas.openxmlformats.org/officeDocument/2006/relationships/hyperlink" Target="http://www.slsyxx.net/shishe/dongwu/&#22270;&#20687;/PTW_118_GIF.jpg" TargetMode="External"/><Relationship Id="rId7" Type="http://schemas.openxmlformats.org/officeDocument/2006/relationships/image" Target="../media/image66.png"/><Relationship Id="rId8" Type="http://schemas.openxmlformats.org/officeDocument/2006/relationships/hyperlink" Target="http://image.baidu.com/ir?u=http://www.szsysx.com/homepage/student/13y/0062.GIF&amp;f=http://www.szsysx.com/homepage/student/13y/animal%20picture.htm&amp;c=baidu" TargetMode="External"/><Relationship Id="rId9" Type="http://schemas.openxmlformats.org/officeDocument/2006/relationships/image" Target="../media/image67.jpe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hyperlink" Target="http://image.baidu.com/ir?u=http://www.xmqpnqxx.com/students/32qianpunanquxiaoxue02hongtaojiangzhida/images/land8.jpg&amp;f=http://www.xmqpnqxx.com/students/32qianpunanquxiaoxue02hongtaojiangzhida/daxiongmao.htm&amp;c=baidu" TargetMode="External"/><Relationship Id="rId8" Type="http://schemas.openxmlformats.org/officeDocument/2006/relationships/image" Target="../media/image74.jpe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image.baidu.com/ir?u=http://www.szsysx.com/homepage/student/13y/0003.GIF&amp;f=http://www.szsysx.com/homepage/student/13y/animal%20picture.htm&amp;c=baidu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image.baidu.com/ir?u=http://www.szsysx.com/homepage/student/13y/0003.GIF&amp;f=http://www.szsysx.com/homepage/student/13y/animal%20picture.htm&amp;c=baidu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7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18"/>
            <p:extLst>
              <p:ext uri="{DAA4B4D4-6D71-4841-9C94-3DE7FCFB9230}">
                <p14:media r:link="rId19"/>
              </p:ext>
            </p:extLst>
          </p:nvPr>
        </p:nvPicPr>
        <p:blipFill>
          <a:blip r:embed="rId20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8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1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5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15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75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35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9500"/>
                            </p:stCondLst>
                            <p:childTnLst>
                              <p:par>
                                <p:cTn id="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45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8500"/>
                            </p:stCondLst>
                            <p:childTnLst>
                              <p:par>
                                <p:cTn id="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95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1500"/>
                            </p:stCondLst>
                            <p:childTnLst>
                              <p:par>
                                <p:cTn id="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2500"/>
                            </p:stCondLst>
                            <p:childTnLst>
                              <p:par>
                                <p:cTn id="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7500"/>
                            </p:stCondLst>
                            <p:childTnLst>
                              <p:par>
                                <p:cTn id="10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8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9000"/>
                            </p:stCondLst>
                            <p:childTnLst>
                              <p:par>
                                <p:cTn id="1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9144000" cy="2745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920" y="37296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249228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合作探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26920" y="4508640"/>
            <a:ext cx="1752840" cy="1904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27484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218040" y="765000"/>
            <a:ext cx="44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被征服之后的马具有怎样的品格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17002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8ec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d9d8ec"/>
                </a:solidFill>
                <a:latin typeface="隶书"/>
                <a:ea typeface="隶书"/>
              </a:rPr>
              <a:t>勇毅</a:t>
            </a:r>
            <a:r>
              <a:rPr b="0" lang="zh-CN" sz="4000" spc="-1" strike="noStrike">
                <a:solidFill>
                  <a:srgbClr val="d9d8ec"/>
                </a:solidFill>
                <a:latin typeface="隶书"/>
                <a:ea typeface="隶书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与主人同生死，共荣辱，精神抖擞，耀武扬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2130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d8ec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d9d8ec"/>
                </a:solidFill>
                <a:latin typeface="隶书"/>
                <a:ea typeface="隶书"/>
              </a:rPr>
              <a:t>驯良</a:t>
            </a:r>
            <a:r>
              <a:rPr b="0" lang="zh-CN" sz="4000" spc="-1" strike="noStrike">
                <a:solidFill>
                  <a:srgbClr val="d9d8ec"/>
                </a:solidFill>
                <a:latin typeface="隶书"/>
                <a:ea typeface="隶书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服从主人操纵，满足主人的愿望，无保留的奉献自己，甚至生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716360" y="5516640"/>
            <a:ext cx="3672000" cy="1341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371600" y="5516640"/>
            <a:ext cx="3352680" cy="1341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68360" y="0"/>
            <a:ext cx="2292480" cy="1517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-605520" y="425520"/>
            <a:ext cx="139932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8ec"/>
                </a:solidFill>
                <a:latin typeface="华文琥珀"/>
                <a:ea typeface="华文琥珀"/>
              </a:rPr>
              <a:t>家马</a:t>
            </a:r>
            <a:r>
              <a:rPr b="0" lang="en-US" sz="2800" spc="-1" strike="noStrike">
                <a:solidFill>
                  <a:srgbClr val="ff3300"/>
                </a:solidFill>
                <a:latin typeface="华文琥珀"/>
                <a:ea typeface="华文琥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欣赏人类驯养的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371600" y="5516640"/>
            <a:ext cx="3352680" cy="1341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16360" y="5516640"/>
            <a:ext cx="3672000" cy="13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964200" y="5589720"/>
            <a:ext cx="2179800" cy="987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979640" y="19782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79280" y="5392800"/>
            <a:ext cx="1440000" cy="1349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46200" y="692280"/>
            <a:ext cx="8497800" cy="764280"/>
          </a:xfrm>
          <a:prstGeom prst="rect">
            <a:avLst/>
          </a:prstGeom>
          <a:gradFill rotWithShape="0">
            <a:gsLst>
              <a:gs pos="0">
                <a:srgbClr val="000000">
                  <a:alpha val="49019"/>
                </a:srgbClr>
              </a:gs>
              <a:gs pos="100000">
                <a:srgbClr val="fefefe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说说家马的苦难有哪些？你有什么感受？找文中有关语句说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04920" y="3049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家马的苦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143000"/>
            <a:ext cx="1295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衔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马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铁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704960" y="1447920"/>
            <a:ext cx="2714760" cy="1828800"/>
            <a:chOff x="1704960" y="1447920"/>
            <a:chExt cx="2714760" cy="1828800"/>
          </a:xfrm>
        </p:grpSpPr>
        <p:sp>
          <p:nvSpPr>
            <p:cNvPr id="204" name=""/>
            <p:cNvSpPr/>
            <p:nvPr/>
          </p:nvSpPr>
          <p:spPr>
            <a:xfrm>
              <a:off x="1704960" y="1447920"/>
              <a:ext cx="123840" cy="1828800"/>
            </a:xfrm>
            <a:custGeom>
              <a:avLst/>
              <a:gdLst>
                <a:gd name="textAreaLeft" fmla="*/ 0 w 123840"/>
                <a:gd name="textAreaRight" fmla="*/ 44640 w 1238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2480" y="1828800"/>
              <a:ext cx="26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残忍的禁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222800" y="1905120"/>
            <a:ext cx="4083120" cy="642600"/>
            <a:chOff x="4222800" y="1905120"/>
            <a:chExt cx="4083120" cy="642600"/>
          </a:xfrm>
        </p:grpSpPr>
        <p:sp>
          <p:nvSpPr>
            <p:cNvPr id="207" name=""/>
            <p:cNvSpPr/>
            <p:nvPr/>
          </p:nvSpPr>
          <p:spPr>
            <a:xfrm>
              <a:off x="4222800" y="2057040"/>
              <a:ext cx="654120" cy="380880"/>
            </a:xfrm>
            <a:prstGeom prst="rightArrow">
              <a:avLst>
                <a:gd name="adj1" fmla="val 50000"/>
                <a:gd name="adj2" fmla="val 4293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19051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天性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被彻底</a:t>
              </a: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摧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57200" y="3429000"/>
            <a:ext cx="3048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戴黄金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妍丽的撮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项鬣编成细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身盖丝绸锦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429000" y="3657600"/>
            <a:ext cx="1142640" cy="2590560"/>
            <a:chOff x="3429000" y="3657600"/>
            <a:chExt cx="1142640" cy="2590560"/>
          </a:xfrm>
        </p:grpSpPr>
        <p:sp>
          <p:nvSpPr>
            <p:cNvPr id="211" name=""/>
            <p:cNvSpPr/>
            <p:nvPr/>
          </p:nvSpPr>
          <p:spPr>
            <a:xfrm>
              <a:off x="3429000" y="3657600"/>
              <a:ext cx="244800" cy="2590560"/>
            </a:xfrm>
            <a:custGeom>
              <a:avLst/>
              <a:gdLst>
                <a:gd name="textAreaLeft" fmla="*/ 0 w 244800"/>
                <a:gd name="textAreaRight" fmla="*/ 88200 w 24480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6880" y="4654080"/>
              <a:ext cx="734760" cy="597600"/>
            </a:xfrm>
            <a:prstGeom prst="rightArrow">
              <a:avLst>
                <a:gd name="adj1" fmla="val 50000"/>
                <a:gd name="adj2" fmla="val 3073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2057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724280" y="45720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沦为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奴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玩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6908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00000" y="22860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马原本是什么样的动物呢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0666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充沛的精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高贵的精神，不受拘束，没有节制，不屑于受人照顾，强壮、轻捷、遒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27432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天性绝不凶猛，豪迈而犷野，群居，团结，不争斗，和平生活，不妒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659640" y="5013360"/>
            <a:ext cx="2895480" cy="2133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87280" y="501336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身材高大，身体各部分配合得最匀称，最优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057400" y="5867280"/>
            <a:ext cx="45720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324000" y="1341360"/>
            <a:ext cx="1223280" cy="3018600"/>
            <a:chOff x="324000" y="1341360"/>
            <a:chExt cx="1223280" cy="3018600"/>
          </a:xfrm>
        </p:grpSpPr>
        <p:sp>
          <p:nvSpPr>
            <p:cNvPr id="225" name=""/>
            <p:cNvSpPr/>
            <p:nvPr/>
          </p:nvSpPr>
          <p:spPr>
            <a:xfrm>
              <a:off x="324000" y="1341360"/>
              <a:ext cx="7189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Arial"/>
                </a:rPr>
                <a:t>内在的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58560" y="1484280"/>
              <a:ext cx="288720" cy="280836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72720 h 2808360"/>
                <a:gd name="textAreaBottom" fmla="*/ 2735640 h 28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5280" y="4941720"/>
            <a:ext cx="936720" cy="1739880"/>
            <a:chOff x="395280" y="4941720"/>
            <a:chExt cx="936720" cy="1739880"/>
          </a:xfrm>
        </p:grpSpPr>
        <p:sp>
          <p:nvSpPr>
            <p:cNvPr id="228" name=""/>
            <p:cNvSpPr/>
            <p:nvPr/>
          </p:nvSpPr>
          <p:spPr>
            <a:xfrm>
              <a:off x="395280" y="4941720"/>
              <a:ext cx="647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外在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16000" y="5300640"/>
              <a:ext cx="216000" cy="1008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欣赏天然野生的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24000" y="1098720"/>
            <a:ext cx="8280360" cy="5759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467480" y="6019920"/>
            <a:ext cx="993960" cy="422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280360" cy="573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38080" y="8380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课文第五段描绘野马的外形时，还写到了其他的一些动物，这样写的作用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400800" y="4191120"/>
            <a:ext cx="16686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033280" y="2513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3098880"/>
            <a:ext cx="2664000" cy="3759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132000" y="2205000"/>
            <a:ext cx="1828800" cy="2535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5265720" y="836640"/>
            <a:ext cx="3878280" cy="581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8360" y="6453360"/>
            <a:ext cx="755640" cy="404640"/>
          </a:xfrm>
          <a:custGeom>
            <a:avLst/>
            <a:gdLst>
              <a:gd name="textAreaLeft" fmla="*/ 25200 w 755640"/>
              <a:gd name="textAreaRight" fmla="*/ 730440 w 75564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40320" h="21600">
                <a:moveTo>
                  <a:pt x="0" y="0"/>
                </a:moveTo>
                <a:lnTo>
                  <a:pt x="40320" y="0"/>
                </a:lnTo>
                <a:lnTo>
                  <a:pt x="40320" y="21600"/>
                </a:lnTo>
                <a:lnTo>
                  <a:pt x="0" y="21600"/>
                </a:lnTo>
                <a:close/>
              </a:path>
              <a:path fill="lightenLess" w="40320" h="21600">
                <a:moveTo>
                  <a:pt x="0" y="0"/>
                </a:moveTo>
                <a:lnTo>
                  <a:pt x="40320" y="0"/>
                </a:lnTo>
                <a:lnTo>
                  <a:pt x="38970" y="1350"/>
                </a:lnTo>
                <a:lnTo>
                  <a:pt x="1350" y="1350"/>
                </a:lnTo>
                <a:close/>
              </a:path>
              <a:path fill="darken" w="40320" h="21600">
                <a:moveTo>
                  <a:pt x="40320" y="0"/>
                </a:moveTo>
                <a:lnTo>
                  <a:pt x="40320" y="21600"/>
                </a:lnTo>
                <a:lnTo>
                  <a:pt x="38970" y="20250"/>
                </a:lnTo>
                <a:lnTo>
                  <a:pt x="38970" y="1350"/>
                </a:lnTo>
                <a:close/>
              </a:path>
              <a:path fill="darkenLess" w="40320" h="21600">
                <a:moveTo>
                  <a:pt x="403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970" y="20250"/>
                </a:lnTo>
                <a:close/>
              </a:path>
              <a:path fill="lighten" w="403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320" h="21600">
                <a:moveTo>
                  <a:pt x="13116" y="10800"/>
                </a:moveTo>
                <a:lnTo>
                  <a:pt x="27204" y="3756"/>
                </a:lnTo>
                <a:lnTo>
                  <a:pt x="27204" y="1784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46320" y="2492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节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012000" y="0"/>
            <a:ext cx="3449520" cy="2997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3313080" cy="25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3549600" cy="2438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201080" y="4581360"/>
            <a:ext cx="194292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Arial"/>
                <a:ea typeface="幼圆"/>
              </a:rPr>
              <a:t>布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7760" y="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义务教育人教版七级语文教学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957800">
            <a:off x="6084360" y="333000"/>
            <a:ext cx="154332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468360" y="549360"/>
          <a:ext cx="8424720" cy="5710320"/>
        </p:xfrm>
        <a:graphic>
          <a:graphicData uri="http://schemas.openxmlformats.org/drawingml/2006/table">
            <a:tbl>
              <a:tblPr/>
              <a:tblGrid>
                <a:gridCol w="3919680"/>
                <a:gridCol w="450504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对比双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作  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14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马和狮子、驴子、牛、骆驼等的体形的比较　　　　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说明马是身材高大而各部分又都配合得最匀称、最优美的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18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马与牛、驴的头颅的比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突出马的头部比例整齐，给人一种轻捷的神情，恰好与颈部的美相得益彰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18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马与牛、驴、骆驼、犀牛、狮子的眼睛、耳朵、尾巴的比较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突出马的眼睛闪闪有光且目光坦率，各部位配合优美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1447920" y="152280"/>
            <a:ext cx="6400800" cy="4876920"/>
            <a:chOff x="1447920" y="152280"/>
            <a:chExt cx="6400800" cy="4876920"/>
          </a:xfrm>
        </p:grpSpPr>
        <p:sp>
          <p:nvSpPr>
            <p:cNvPr id="250" name=""/>
            <p:cNvSpPr/>
            <p:nvPr/>
          </p:nvSpPr>
          <p:spPr>
            <a:xfrm>
              <a:off x="1447920" y="1218960"/>
              <a:ext cx="6400800" cy="1447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2057400" y="152280"/>
              <a:ext cx="464832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方正姚体"/>
                </a:rPr>
                <a:t>美的舞台</a:t>
              </a:r>
              <a:endParaRPr b="0" lang="en-US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姚体"/>
                <a:ea typeface="方正姚体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38840" y="2666880"/>
              <a:ext cx="1218960" cy="236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83560" y="685800"/>
            <a:ext cx="2693160" cy="2133720"/>
            <a:chOff x="583560" y="685800"/>
            <a:chExt cx="2693160" cy="2133720"/>
          </a:xfrm>
        </p:grpSpPr>
        <p:pic>
          <p:nvPicPr>
            <p:cNvPr id="254" name="" descr=""/>
            <p:cNvPicPr/>
            <p:nvPr/>
          </p:nvPicPr>
          <p:blipFill>
            <a:blip r:embed="rId4"/>
            <a:stretch/>
          </p:blipFill>
          <p:spPr>
            <a:xfrm>
              <a:off x="1524240" y="685800"/>
              <a:ext cx="1752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83560" y="1219320"/>
              <a:ext cx="7898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d9d8ec"/>
                  </a:solidFill>
                  <a:latin typeface="华文琥珀"/>
                  <a:ea typeface="华文琥珀"/>
                </a:rPr>
                <a:t>家马</a:t>
              </a:r>
              <a:r>
                <a:rPr b="0" lang="en-US" sz="2800" spc="-1" strike="noStrike">
                  <a:solidFill>
                    <a:srgbClr val="ff3300"/>
                  </a:solidFill>
                  <a:latin typeface="华文琥珀"/>
                  <a:ea typeface="华文琥珀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954760" y="152280"/>
            <a:ext cx="2808360" cy="2819520"/>
            <a:chOff x="5954760" y="152280"/>
            <a:chExt cx="2808360" cy="2819520"/>
          </a:xfrm>
        </p:grpSpPr>
        <p:pic>
          <p:nvPicPr>
            <p:cNvPr id="257" name="" descr=""/>
            <p:cNvPicPr/>
            <p:nvPr/>
          </p:nvPicPr>
          <p:blipFill>
            <a:blip r:embed="rId5"/>
            <a:stretch/>
          </p:blipFill>
          <p:spPr>
            <a:xfrm>
              <a:off x="5954760" y="152280"/>
              <a:ext cx="22748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973280" y="1371600"/>
              <a:ext cx="7898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6600cc"/>
                  </a:solidFill>
                  <a:latin typeface="华文琥珀"/>
                  <a:ea typeface="华文琥珀"/>
                </a:rPr>
                <a:t>野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379960" y="1143000"/>
            <a:ext cx="3153960" cy="4359240"/>
            <a:chOff x="2379960" y="1143000"/>
            <a:chExt cx="3153960" cy="4359240"/>
          </a:xfrm>
        </p:grpSpPr>
        <p:sp>
          <p:nvSpPr>
            <p:cNvPr id="260" name=""/>
            <p:cNvSpPr/>
            <p:nvPr/>
          </p:nvSpPr>
          <p:spPr>
            <a:xfrm>
              <a:off x="4238640" y="1143000"/>
              <a:ext cx="1295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Times New Roman"/>
                </a:rPr>
                <a:t>？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9960" y="2987640"/>
              <a:ext cx="292536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谁更</a:t>
              </a:r>
              <a:r>
                <a:rPr b="0" lang="zh-CN" sz="5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美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00000" y="907920"/>
            <a:ext cx="768852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我为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梁晓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军马的一生是豪迈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赛马的一生是荣耀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野马的一生是自由奔放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役马的一生如牛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定了辛劳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在对生命形式的选择时，我竟不幸没了做人的资格，那么我恳求造物主赐我为一匹野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/>
          </p:cNvPr>
          <p:cNvSpPr/>
          <p:nvPr/>
        </p:nvSpPr>
        <p:spPr>
          <a:xfrm>
            <a:off x="400068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2411280" y="3357720"/>
            <a:ext cx="4267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华文中宋"/>
              </a:rPr>
              <a:t>请到课外加油站</a:t>
            </a:r>
            <a:endParaRPr b="0" lang="en-US" sz="4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55640" y="0"/>
            <a:ext cx="756144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总结存储 扩展延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55640" y="1052640"/>
            <a:ext cx="76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800" spc="-1" strike="noStrike" u="sng">
                <a:solidFill>
                  <a:srgbClr val="6767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3203640" y="1844640"/>
            <a:ext cx="316872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老马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1"/>
          </p:cNvPr>
          <p:cNvSpPr/>
          <p:nvPr/>
        </p:nvSpPr>
        <p:spPr>
          <a:xfrm>
            <a:off x="409572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2"/>
          </p:cNvPr>
          <p:cNvSpPr/>
          <p:nvPr/>
        </p:nvSpPr>
        <p:spPr>
          <a:xfrm>
            <a:off x="409572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3"/>
          </p:cNvPr>
          <p:cNvSpPr/>
          <p:nvPr/>
        </p:nvSpPr>
        <p:spPr>
          <a:xfrm>
            <a:off x="411948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200400" y="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老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●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臧克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990720"/>
            <a:ext cx="47242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华文新魏"/>
              </a:rPr>
              <a:t>总得叫大车装个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华文新魏"/>
              </a:rPr>
              <a:t>它横竖不说一句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华文新魏"/>
              </a:rPr>
              <a:t>背上的压力往肉里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华文新魏"/>
              </a:rPr>
              <a:t>它把头沉重的垂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华文新魏"/>
              </a:rPr>
              <a:t>这刻不知道下刻的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华文新魏"/>
              </a:rPr>
              <a:t>它的泪只往心里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华文新魏"/>
              </a:rPr>
              <a:t>眼里飘来一道鞭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华文新魏"/>
              </a:rPr>
              <a:t>它抬头望望前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990720"/>
            <a:ext cx="224784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00"/>
                </a:solidFill>
                <a:latin typeface="华文彩云"/>
              </a:rPr>
              <a:t>跟我来读</a:t>
            </a:r>
            <a:endParaRPr b="1" lang="en-US" sz="4400" spc="-1" strike="noStrike">
              <a:ln w="9360">
                <a:solidFill>
                  <a:srgbClr val="000099"/>
                </a:solidFill>
                <a:miter/>
              </a:ln>
              <a:solidFill>
                <a:srgbClr val="000000"/>
              </a:solidFill>
              <a:latin typeface="华文彩云"/>
              <a:ea typeface="华文彩云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457200"/>
            <a:ext cx="981000" cy="16668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457200"/>
            <a:ext cx="828720" cy="16002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299736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　作业：仿照课文的写法描写一种你喜欢的动物（不少于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00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字）并为它画一幅小插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05520" y="5257800"/>
            <a:ext cx="1638360" cy="11048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48120" y="1447920"/>
            <a:ext cx="1143000" cy="761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1828800" y="1066680"/>
            <a:ext cx="380988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欢迎进入动物乐园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048120" cy="33526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3581280" cy="2590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66880" cy="33526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2666880" y="3352680"/>
            <a:ext cx="3048120" cy="35053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0" y="3352680"/>
            <a:ext cx="2666880" cy="35053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5715000" y="1981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0"/>
            <a:ext cx="34290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0" y="-6015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519120" cy="6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"/>
                            </p:stCondLst>
                            <p:childTnLst>
                              <p:par>
                                <p:cTn id="4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9" dur="1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201080" y="4581360"/>
            <a:ext cx="194292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Arial"/>
                <a:ea typeface="幼圆"/>
              </a:rPr>
              <a:t>布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-531720" y="17640"/>
            <a:ext cx="9675720" cy="68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371920"/>
          </a:xfrm>
          <a:prstGeom prst="rect">
            <a:avLst/>
          </a:prstGeom>
          <a:ln w="127080">
            <a:solidFill>
              <a:srgbClr val="0080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2133720" y="22860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隶书"/>
              </a:rPr>
              <a:t>请爱护人类的朋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-74520" y="152280"/>
            <a:ext cx="2085840" cy="1739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685800" y="533520"/>
            <a:ext cx="2590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善待动物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76720" y="1600200"/>
            <a:ext cx="2590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珍爱生命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1828800" y="1981080"/>
            <a:ext cx="4572000" cy="23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再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304920"/>
            <a:ext cx="89154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Verdana"/>
              </a:rPr>
              <a:t>作家作品简介</a:t>
            </a:r>
            <a:r>
              <a:rPr b="1" lang="en-US" sz="3600" spc="-1" strike="noStrike">
                <a:solidFill>
                  <a:srgbClr val="000003"/>
                </a:solidFill>
                <a:latin typeface="Verdana"/>
              </a:rPr>
              <a:t>:</a:t>
            </a:r>
            <a:br>
              <a:rPr sz="3600"/>
            </a:br>
            <a:r>
              <a:rPr b="1" lang="zh-CN" sz="3600" spc="-1" strike="noStrike">
                <a:solidFill>
                  <a:srgbClr val="000003"/>
                </a:solidFill>
                <a:latin typeface="Verdana"/>
              </a:rPr>
              <a:t>《马》选自《世界散文精华</a:t>
            </a:r>
            <a:r>
              <a:rPr b="1" lang="en-US" sz="3600" spc="-1" strike="noStrike">
                <a:solidFill>
                  <a:srgbClr val="000003"/>
                </a:solidFill>
                <a:latin typeface="Verdana"/>
              </a:rPr>
              <a:t>.</a:t>
            </a:r>
            <a:r>
              <a:rPr b="1" lang="zh-CN" sz="3600" spc="-1" strike="noStrike">
                <a:solidFill>
                  <a:srgbClr val="000003"/>
                </a:solidFill>
                <a:latin typeface="Verdana"/>
              </a:rPr>
              <a:t>欧洲卷》，范希衡译。本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文作者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布封</a:t>
            </a:r>
            <a:r>
              <a:rPr b="1" lang="zh-CN" sz="3600" spc="-1" strike="noStrike">
                <a:solidFill>
                  <a:srgbClr val="000003"/>
                </a:solidFill>
                <a:latin typeface="Verdana"/>
              </a:rPr>
              <a:t>（</a:t>
            </a:r>
            <a:r>
              <a:rPr b="1" lang="en-US" sz="3600" spc="-1" strike="noStrike">
                <a:solidFill>
                  <a:srgbClr val="000003"/>
                </a:solidFill>
                <a:latin typeface="Verdana"/>
              </a:rPr>
              <a:t>1707—1788</a:t>
            </a:r>
            <a:r>
              <a:rPr b="1" lang="zh-CN" sz="3600" spc="-1" strike="noStrike">
                <a:solidFill>
                  <a:srgbClr val="000003"/>
                </a:solidFill>
                <a:latin typeface="Verdana"/>
              </a:rPr>
              <a:t>），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法国</a:t>
            </a:r>
            <a:r>
              <a:rPr b="1" lang="zh-CN" sz="4000" spc="-1" strike="noStrike">
                <a:solidFill>
                  <a:srgbClr val="d9d8ec"/>
                </a:solidFill>
                <a:latin typeface="Verdana"/>
              </a:rPr>
              <a:t>博物学家、作家</a:t>
            </a:r>
            <a:r>
              <a:rPr b="1" lang="zh-CN" sz="3600" spc="-1" strike="noStrike">
                <a:solidFill>
                  <a:srgbClr val="000003"/>
                </a:solidFill>
                <a:latin typeface="Verdana"/>
              </a:rPr>
              <a:t>。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布封是人文主义思想的继承者和宣传者，在他的作品中惯常用人性化的笔触描摹动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000003"/>
                </a:solidFill>
                <a:latin typeface="Verdana"/>
              </a:rPr>
              <a:t>用</a:t>
            </a:r>
            <a:r>
              <a:rPr b="1" lang="en-US" sz="3600" spc="-1" strike="noStrike">
                <a:solidFill>
                  <a:srgbClr val="000003"/>
                </a:solidFill>
                <a:latin typeface="Verdana"/>
              </a:rPr>
              <a:t>40</a:t>
            </a:r>
            <a:r>
              <a:rPr b="1" lang="zh-CN" sz="3600" spc="-1" strike="noStrike">
                <a:solidFill>
                  <a:srgbClr val="000003"/>
                </a:solidFill>
                <a:latin typeface="Verdana"/>
              </a:rPr>
              <a:t>年时间写成</a:t>
            </a:r>
            <a:r>
              <a:rPr b="1" lang="en-US" sz="3600" spc="-1" strike="noStrike">
                <a:solidFill>
                  <a:srgbClr val="000003"/>
                </a:solidFill>
                <a:latin typeface="Verdana"/>
              </a:rPr>
              <a:t>36</a:t>
            </a:r>
            <a:r>
              <a:rPr b="1" lang="zh-CN" sz="3600" spc="-1" strike="noStrike">
                <a:solidFill>
                  <a:srgbClr val="000003"/>
                </a:solidFill>
                <a:latin typeface="Verdana"/>
              </a:rPr>
              <a:t>卷巨册的</a:t>
            </a:r>
            <a:r>
              <a:rPr b="1" lang="zh-CN" sz="4000" spc="-1" strike="noStrike">
                <a:solidFill>
                  <a:srgbClr val="9900cc"/>
                </a:solidFill>
                <a:latin typeface="Verdana"/>
              </a:rPr>
              <a:t>《自然史》</a:t>
            </a:r>
            <a:r>
              <a:rPr b="1" lang="zh-CN" sz="3600" spc="-1" strike="noStrike">
                <a:solidFill>
                  <a:srgbClr val="000003"/>
                </a:solidFill>
                <a:latin typeface="Verdana"/>
              </a:rPr>
              <a:t>。《自然史》是一部博物志，包括《地球形成史》《动物史》《人类史》《鸟类史》《爬虫类史》《自然的分期》等几大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55640" y="1052640"/>
            <a:ext cx="76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765000"/>
            <a:ext cx="8381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二、整体感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  <a:ea typeface="华文楷体"/>
              </a:rPr>
              <a:t>　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　１、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检查预习，疏通字词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1219320"/>
            <a:ext cx="83581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剽悍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慷慨         抖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良        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驾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窥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鞍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辔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羁绊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疮痍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阔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观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妍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丽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毛      项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鬣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 无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庇荫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野         妒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畸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形        相得益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字词积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1341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kāngkǎ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15280" y="1341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dǒusǒ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341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piāoh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20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xù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6000" y="1989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jià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2060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kuīs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2781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p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2708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jīb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72360" y="2708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chuāngy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ch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3357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z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08720" y="3284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4076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zu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4076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l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08720" y="3933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y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4724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bìyì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4724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guǎ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4638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530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j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5373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zh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4360" y="5300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q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6021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8ec"/>
                </a:solidFill>
                <a:latin typeface="Arial"/>
              </a:rPr>
              <a:t>z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7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843280" y="404640"/>
            <a:ext cx="432108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仿宋_GB2312"/>
              </a:rPr>
              <a:t>我能行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3500280"/>
            <a:ext cx="62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本文写了哪两种生存状态下的马？分别有什么特性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3789360"/>
            <a:ext cx="597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 rot="5400000">
            <a:off x="-1913040" y="2533680"/>
            <a:ext cx="6166080" cy="161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自主学习</a:t>
            </a:r>
            <a:endParaRPr b="1" lang="en-US" sz="80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2060640"/>
            <a:ext cx="60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择你最喜欢的方式快速地阅读课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问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rId2"/>
          </p:cNvPr>
          <p:cNvSpPr/>
          <p:nvPr/>
        </p:nvSpPr>
        <p:spPr>
          <a:xfrm>
            <a:off x="415764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57200" y="2514600"/>
            <a:ext cx="3352680" cy="392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3809880" y="2514600"/>
            <a:ext cx="3048120" cy="3886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83808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黑体"/>
              </a:rPr>
              <a:t>文章描写了哪两类马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8195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人工驯养的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2819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天然野生的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rId2"/>
          </p:cNvPr>
          <p:cNvSpPr/>
          <p:nvPr/>
        </p:nvSpPr>
        <p:spPr>
          <a:xfrm>
            <a:off x="415764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57200" y="2133720"/>
            <a:ext cx="3970440" cy="4306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427640" y="2205000"/>
            <a:ext cx="4465440" cy="4195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480" y="83808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黑体"/>
              </a:rPr>
              <a:t>两类马各自最突出的特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819520"/>
            <a:ext cx="3189240" cy="1068840"/>
          </a:xfrm>
          <a:prstGeom prst="rect">
            <a:avLst/>
          </a:prstGeom>
          <a:gradFill rotWithShape="0">
            <a:gsLst>
              <a:gs pos="0">
                <a:srgbClr val="000000">
                  <a:alpha val="49019"/>
                </a:srgbClr>
              </a:gs>
              <a:gs pos="100000">
                <a:srgbClr val="fefefe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人工驯养的马 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----------------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驯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2852640"/>
            <a:ext cx="4392720" cy="1323000"/>
          </a:xfrm>
          <a:prstGeom prst="rect">
            <a:avLst/>
          </a:prstGeom>
          <a:gradFill rotWithShape="0">
            <a:gsLst>
              <a:gs pos="0">
                <a:srgbClr val="000000">
                  <a:alpha val="49019"/>
                </a:srgbClr>
              </a:gs>
              <a:gs pos="100000">
                <a:srgbClr val="fefefe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天然野生的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----------------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自由自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52:58Z</dcterms:created>
  <dc:creator>1</dc:creator>
  <dc:description>1</dc:description>
  <cp:keywords>1</cp:keywords>
  <dc:language>en-US</dc:language>
  <cp:lastModifiedBy>tangxuzhou</cp:lastModifiedBy>
  <dcterms:modified xsi:type="dcterms:W3CDTF">2015-01-12T21:48:14Z</dcterms:modified>
  <cp:revision>1</cp:revision>
  <dc:subject>1</dc:subject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