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roonen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61240" y="0"/>
            <a:ext cx="482760" cy="507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790440" y="2205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中国石拱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188400" y="386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茅以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24520" y="6305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八年级语文上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37840" y="169560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用张嘉贞和张鷟的话各说明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0800" y="26748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用张嘉贞的话：是为了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30800" y="311616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21200" y="261144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赵州桥构造的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奇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60120" y="39085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用张鷟的话：是为了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14800" y="434016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72440" y="38354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赵州桥的形式优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21031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55200" y="4016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卢沟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287440"/>
            <a:ext cx="158760" cy="3878280"/>
          </a:xfrm>
          <a:custGeom>
            <a:avLst/>
            <a:gdLst>
              <a:gd name="textAreaLeft" fmla="*/ 101520 w 158760"/>
              <a:gd name="textAreaRight" fmla="*/ 159120 w 158760"/>
              <a:gd name="textAreaTop" fmla="*/ 100800 h 3878280"/>
              <a:gd name="textAreaBottom" fmla="*/ 3777480 h 387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204804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形式优美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2576520"/>
            <a:ext cx="56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卢沟晓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旁石柱上不同姿态的狮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36561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结构坚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42321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岸河堤被冲毁，卢沟桥从未出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5024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历史悠久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5672160"/>
            <a:ext cx="51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建于公元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89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9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12794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阅读课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段，思考：作者从哪些方面说明卢沟桥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21031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522760" y="2117880"/>
            <a:ext cx="257508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全桥只有一个大拱，长达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.4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桥洞不是普通半圆形，而是一张弓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拱的两肩上，各有两个小拱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拱由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道拱圈拼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全桥结构均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94040" y="2117880"/>
            <a:ext cx="172872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5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81360" y="2117880"/>
            <a:ext cx="191268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横跨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洨河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2117880"/>
            <a:ext cx="90972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22760" y="1413000"/>
            <a:ext cx="25750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构特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94040" y="1413000"/>
            <a:ext cx="1728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81360" y="1413000"/>
            <a:ext cx="19126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  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1413000"/>
            <a:ext cx="909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413000"/>
            <a:ext cx="712620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2117880"/>
            <a:ext cx="7126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5587920"/>
            <a:ext cx="7126200" cy="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1413000"/>
            <a:ext cx="1440" cy="417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81360" y="1413000"/>
            <a:ext cx="1440" cy="417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94040" y="1413000"/>
            <a:ext cx="1800" cy="417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22760" y="1413000"/>
            <a:ext cx="1800" cy="417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97840" y="1413000"/>
            <a:ext cx="1440" cy="417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21031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1116000" y="1484280"/>
            <a:ext cx="7027920" cy="3672000"/>
            <a:chOff x="1116000" y="1484280"/>
            <a:chExt cx="7027920" cy="3672000"/>
          </a:xfrm>
        </p:grpSpPr>
        <p:sp>
          <p:nvSpPr>
            <p:cNvPr id="133" name=""/>
            <p:cNvSpPr/>
            <p:nvPr/>
          </p:nvSpPr>
          <p:spPr>
            <a:xfrm>
              <a:off x="5140440" y="2166840"/>
              <a:ext cx="3003480" cy="29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由</a:t>
              </a:r>
              <a:r>
                <a:rPr b="0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1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半圆形石拱组成，每个石拱长度不一，自</a:t>
              </a:r>
              <a:r>
                <a:rPr b="0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6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米到</a:t>
              </a:r>
              <a:r>
                <a:rPr b="0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1.6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米</a:t>
              </a:r>
              <a:r>
                <a:rPr b="0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桥宽约</a:t>
              </a:r>
              <a:r>
                <a:rPr b="0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米，路面平坦，几乎与河面平行。每个石拱之间有石砌桥墩，把</a:t>
              </a:r>
              <a:r>
                <a:rPr b="0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1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石拱联成一个整体，是一座联拱石桥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89400" y="2166840"/>
              <a:ext cx="1751040" cy="29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公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189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192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之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11320" y="2166840"/>
              <a:ext cx="1378080" cy="29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上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16000" y="2166840"/>
              <a:ext cx="895320" cy="29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40440" y="1484280"/>
              <a:ext cx="30034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结构特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89400" y="1484280"/>
              <a:ext cx="175104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修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年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11320" y="1484280"/>
              <a:ext cx="13780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位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16000" y="1484280"/>
              <a:ext cx="8953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名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16000" y="1484280"/>
              <a:ext cx="702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16000" y="2166840"/>
              <a:ext cx="702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16000" y="5156280"/>
              <a:ext cx="702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16000" y="1484280"/>
              <a:ext cx="0" cy="3672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11320" y="1484280"/>
              <a:ext cx="0" cy="367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89400" y="1484280"/>
              <a:ext cx="0" cy="367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40440" y="1484280"/>
              <a:ext cx="0" cy="367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43920" y="1484280"/>
              <a:ext cx="0" cy="3672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74840" y="2898360"/>
              <a:ext cx="199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5680" y="2846880"/>
              <a:ext cx="69048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21031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70000" y="16286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石拱桥取得光辉成就的原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1760" y="2362320"/>
            <a:ext cx="7521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条理清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确：“首先”、“其次”、“再次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人到物，由主到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25640" y="4343400"/>
            <a:ext cx="7113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语言精炼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确：用料省、结构巧、强度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个字概括了设计施工的优良传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32130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28000" y="3581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逻辑顺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21031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71640" y="1125360"/>
            <a:ext cx="32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走近作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989000"/>
            <a:ext cx="5616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茅以升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96-1989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江苏省镇江市人，著名的桥梁专家。毕业于唐山工业专门学校，后赴美留学，获土木工程博士学位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代，设计并主持修建了我国第一座现代化大桥——钱塘江大桥。他为我国桥梁设计、建设事业作出了杰出的贡献，同时致力于研究和教学工作，培养了大批专门人才，并撰写了大量介绍桥梁知识的文章，著有《中国桥梁史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227640" y="1989000"/>
            <a:ext cx="2421000" cy="2967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11280" y="0"/>
            <a:ext cx="268128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1844640"/>
            <a:ext cx="8540640" cy="39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确读出下列词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洨河　　　匀称　　 张鷟　　　　惟妙惟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弧形　　　拱桥 　  和谐        饮   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桥墩      郦道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80120" y="2887560"/>
            <a:ext cx="87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(zhu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ó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768080" y="2887560"/>
            <a:ext cx="8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(xià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82840" y="396864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( h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8560" y="3968640"/>
            <a:ext cx="8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(gǒ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64640" y="39686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(xi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21000" y="396864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(jià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4976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(dū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ｎ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7760" y="504828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（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ì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38800" y="2797200"/>
            <a:ext cx="8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(x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á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71840" y="279720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(ch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è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5520" y="1125360"/>
            <a:ext cx="942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悠久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杰作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雄姿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谐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推崇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胜景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巧妙绝伦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地取材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81280" y="11001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代久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24920" y="17733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色的、超过一般水平的作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54320" y="23241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威武雄伟的姿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65160" y="29005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配合得适当、匀称而协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03600" y="350028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分重视，并作很高的评价。崇，尊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43760" y="412416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优美的景色。 胜，优美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95560" y="4622760"/>
            <a:ext cx="6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容非常灵巧，独一无二，没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可以相比的。伦：同类、同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78160" y="53481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当地找所需要的材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200484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7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00880" y="2205000"/>
            <a:ext cx="116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间顺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间顺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逻辑顺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79760" y="2205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时间先后、朝代先后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23960" y="292428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从上到下、从里到外、从南到北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78560" y="3500280"/>
            <a:ext cx="94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从因到果、从整体到局部、从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般到特殊、从主到次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6200" y="126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说明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200484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16000" y="2060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打比方、举例子、作比较、分类别、列数字、下定义、画图表、引用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57480" y="1125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说明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70960" y="3068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准确的说明语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17440" y="378936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谓准确，就是按照事物的情况，选用最恰当的词语，恰如其分地把事物的特征、本质和规律性表达出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5229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要表现在数量、程度、范围等方面用词准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200484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16000" y="162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阅读课文，概括文中写了石拱桥的哪些特征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90920" y="29242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形式优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87680" y="3789360"/>
            <a:ext cx="33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结构坚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6760" y="4581360"/>
            <a:ext cx="3657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历史悠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21031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87480" y="1341360"/>
            <a:ext cx="72198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朗读课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段，思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是怎样围绕赵州桥来说明中国石拱桥的特点的？作者的写作思路怎样？用了什么说明结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0560" y="3284640"/>
            <a:ext cx="228600" cy="1904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63840" y="3429000"/>
            <a:ext cx="646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段：赵州桥的位置、建造时间及解放后的修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段：赵州桥的长度、宽度、设计施工的精巧分四点说明。设计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21031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70120" y="2895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赵州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46280" y="1295280"/>
            <a:ext cx="76320" cy="4419720"/>
          </a:xfrm>
          <a:custGeom>
            <a:avLst/>
            <a:gdLst>
              <a:gd name="textAreaLeft" fmla="*/ 48960 w 76320"/>
              <a:gd name="textAreaRight" fmla="*/ 76320 w 763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74880" y="990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形式优美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4880" y="1676520"/>
            <a:ext cx="54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月出云，长虹饮涧”（图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74880" y="2590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结构坚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4880" y="3352680"/>
            <a:ext cx="53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0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仍保持原来的雄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4880" y="42670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历史悠久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74880" y="5257800"/>
            <a:ext cx="47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建于公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21031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4T04:46:23Z</dcterms:created>
  <dc:creator>曾衍村</dc:creator>
  <dc:description/>
  <dc:language>en-US</dc:language>
  <cp:lastModifiedBy>Administrator</cp:lastModifiedBy>
  <dcterms:modified xsi:type="dcterms:W3CDTF">2012-08-05T05:02:19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81</vt:lpwstr>
  </property>
</Properties>
</file>