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gif" ContentType="image/gi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41A-1984-4F27-9582-5F18488B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BE3-9AFA-41A5-8DB6-92946E54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D20-2482-468A-A250-559E62BD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51B-1613-45C6-9AE3-F7F5C8D1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9A9-620A-42BC-BA31-8C0CD14C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E32-5D3D-4718-8D08-8EC08BB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14E-2E8D-41C0-9B67-8E7AB8DA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7A6-6D31-444F-A752-3E4709C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B6B-DB89-435D-B877-AAA97FC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8A8-0212-4FA5-ACCB-7320DD2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FF1-B76B-4363-BCA1-895B248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32C-1094-4907-822B-BE35CFD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D990-FED2-4CDA-8B21-206B11919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54" t="2566" r="19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1752480"/>
            <a:ext cx="7162920" cy="381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566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宋体"/>
              </a:rPr>
              <a:t>中国石拱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7301"/>
                </a:moveTo>
                <a:lnTo>
                  <a:pt x="11904" y="7301"/>
                </a:lnTo>
                <a:lnTo>
                  <a:pt x="12287" y="7667"/>
                </a:lnTo>
                <a:lnTo>
                  <a:pt x="21495" y="7667"/>
                </a:lnTo>
                <a:lnTo>
                  <a:pt x="22052" y="8224"/>
                </a:lnTo>
                <a:lnTo>
                  <a:pt x="22052" y="8772"/>
                </a:lnTo>
                <a:lnTo>
                  <a:pt x="23897" y="8772"/>
                </a:lnTo>
                <a:lnTo>
                  <a:pt x="24263" y="8224"/>
                </a:lnTo>
                <a:lnTo>
                  <a:pt x="25003" y="8224"/>
                </a:lnTo>
                <a:lnTo>
                  <a:pt x="25003" y="13376"/>
                </a:lnTo>
                <a:lnTo>
                  <a:pt x="24263" y="13376"/>
                </a:lnTo>
                <a:lnTo>
                  <a:pt x="23897" y="12828"/>
                </a:lnTo>
                <a:lnTo>
                  <a:pt x="22052" y="12828"/>
                </a:lnTo>
                <a:lnTo>
                  <a:pt x="22052" y="14107"/>
                </a:lnTo>
                <a:lnTo>
                  <a:pt x="12469" y="14107"/>
                </a:lnTo>
                <a:lnTo>
                  <a:pt x="12469" y="9877"/>
                </a:lnTo>
                <a:lnTo>
                  <a:pt x="12287" y="9877"/>
                </a:lnTo>
                <a:lnTo>
                  <a:pt x="11904" y="10243"/>
                </a:lnTo>
                <a:lnTo>
                  <a:pt x="10990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6094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卢沟桥与赵州桥有哪些异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905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371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永定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比洨河更宽的大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051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赵州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但距今也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八百多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438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外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4382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赵州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长得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略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桥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更平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5812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个长度各不相同的石拱相连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联拱石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971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千态万状的石狮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7242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中外都享有盛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334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抗日战争的纪念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81640" y="3581280"/>
            <a:ext cx="2862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295280" y="1219320"/>
            <a:ext cx="4190760" cy="3174840"/>
            <a:chOff x="1295280" y="1219320"/>
            <a:chExt cx="4190760" cy="3174840"/>
          </a:xfrm>
        </p:grpSpPr>
        <p:sp>
          <p:nvSpPr>
            <p:cNvPr id="115" name=""/>
            <p:cNvSpPr/>
            <p:nvPr/>
          </p:nvSpPr>
          <p:spPr>
            <a:xfrm>
              <a:off x="1297080" y="1224000"/>
              <a:ext cx="418896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295280" y="1219320"/>
              <a:ext cx="3774240" cy="1927080"/>
              <a:chOff x="1295280" y="1219320"/>
              <a:chExt cx="3774240" cy="19270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1297080" y="1224000"/>
                <a:ext cx="3769920" cy="1917720"/>
                <a:chOff x="1297080" y="1224000"/>
                <a:chExt cx="3769920" cy="19177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97080" y="1224000"/>
                  <a:ext cx="376992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卢沟晓月卢沟桥拂晓晨景，斜月低垂，晨霭苍茫，西山诸峰，笼罩轻烟，古桑干河，晓雾蒙蒙，如同一幅月色迷离的画境，故称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卢沟晓月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"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，卢沟桥的东头是宛平城，１９３７年７月７日卢沟桥事变即发生于此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97080" y="1224000"/>
                  <a:ext cx="376992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295280" y="1219320"/>
                <a:ext cx="3774240" cy="19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287964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467840" cy="419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中举了赵州桥、卢沟桥两个例子，是说明中国石拱桥只有这两种形式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990720"/>
            <a:ext cx="6172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为什么课文中单举赵州桥、卢沟桥这两个例子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2362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历史悠久、结构坚固、形式优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733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赵州桥：单拱、拱上加拱 、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道拱圈拼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卢沟桥：联拱、 石狮百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666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共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44956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685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石拱桥取得光辉成就的原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76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首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劳动人民的勤劳和智慧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设计施工有优良传统 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562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再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富有建筑用的各种石料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制作石料的工艺精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590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048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建筑技术上的创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6483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料省、结构巧、强度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9907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石拱桥现代的发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2438280"/>
            <a:ext cx="2057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长虹大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505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双曲拱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905120"/>
            <a:ext cx="609840" cy="3429000"/>
          </a:xfrm>
          <a:custGeom>
            <a:avLst/>
            <a:gdLst>
              <a:gd name="textAreaLeft" fmla="*/ 389520 w 609840"/>
              <a:gd name="textAreaRight" fmla="*/ 610200 w 6098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1752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说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8195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例说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2743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87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结发展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5328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19098" y="10800"/>
                </a:moveTo>
                <a:lnTo>
                  <a:pt x="8593" y="17806"/>
                </a:lnTo>
                <a:lnTo>
                  <a:pt x="8593" y="3794"/>
                </a:lnTo>
                <a:close/>
              </a:path>
              <a:path fill="darken" w="31199" h="21600">
                <a:moveTo>
                  <a:pt x="20943" y="3794"/>
                </a:moveTo>
                <a:lnTo>
                  <a:pt x="20943" y="17806"/>
                </a:lnTo>
                <a:lnTo>
                  <a:pt x="22606" y="17806"/>
                </a:lnTo>
                <a:lnTo>
                  <a:pt x="226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79246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6257880" cy="41004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79246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9360" y="1752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拱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438280"/>
            <a:ext cx="0" cy="15242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石拱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9832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976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代的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53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赵州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5360" y="39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卢沟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0800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432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1784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单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6280" y="121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肩加小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38320" y="1676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拱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8920" y="1981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构匀称和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99960" y="243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历史悠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7628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结构坚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628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形式优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3224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联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5716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柱头石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276720"/>
            <a:ext cx="228600" cy="2361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362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6668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9907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5000" y="0"/>
            <a:ext cx="9009000" cy="1052640"/>
            <a:chOff x="135000" y="0"/>
            <a:chExt cx="9009000" cy="1052640"/>
          </a:xfrm>
        </p:grpSpPr>
        <p:grpSp>
          <p:nvGrpSpPr>
            <p:cNvPr id="176" name=""/>
            <p:cNvGrpSpPr/>
            <p:nvPr/>
          </p:nvGrpSpPr>
          <p:grpSpPr>
            <a:xfrm>
              <a:off x="425520" y="108000"/>
              <a:ext cx="711360" cy="474840"/>
              <a:chOff x="425520" y="108000"/>
              <a:chExt cx="711360" cy="474840"/>
            </a:xfrm>
          </p:grpSpPr>
          <p:sp>
            <p:nvSpPr>
              <p:cNvPr id="177" name=""/>
              <p:cNvSpPr/>
              <p:nvPr/>
            </p:nvSpPr>
            <p:spPr>
              <a:xfrm>
                <a:off x="425520" y="108000"/>
                <a:ext cx="437400" cy="474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85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49360" y="530280"/>
              <a:ext cx="737640" cy="474840"/>
              <a:chOff x="549360" y="530280"/>
              <a:chExt cx="737640" cy="474840"/>
            </a:xfrm>
          </p:grpSpPr>
          <p:sp>
            <p:nvSpPr>
              <p:cNvPr id="180" name=""/>
              <p:cNvSpPr/>
              <p:nvPr/>
            </p:nvSpPr>
            <p:spPr>
              <a:xfrm>
                <a:off x="549360" y="5302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180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3500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0040" y="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510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92564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结构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22860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1828440"/>
            <a:ext cx="45720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2670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572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历史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9907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2438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得成就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2133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1055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3341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虹大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曲拱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6172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结发展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95280" y="10666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明文有一定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说明顺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82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空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2004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逻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序（从整体到局部、从一般到具体、从原因到结果、从现象到本质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8153280" y="62485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00120" y="2057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石拱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43828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1981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石拱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86320" y="1752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赵州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6320" y="2362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卢沟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666880"/>
            <a:ext cx="3812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523880"/>
            <a:ext cx="304560" cy="2514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2666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3880" y="4495680"/>
            <a:ext cx="4496040" cy="764280"/>
            <a:chOff x="1523880" y="4495680"/>
            <a:chExt cx="4496040" cy="764280"/>
          </a:xfrm>
        </p:grpSpPr>
        <p:sp>
          <p:nvSpPr>
            <p:cNvPr id="216" name=""/>
            <p:cNvSpPr/>
            <p:nvPr/>
          </p:nvSpPr>
          <p:spPr>
            <a:xfrm>
              <a:off x="1523880" y="44956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</a:rPr>
                <a:t>一般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4952880"/>
              <a:ext cx="1143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44956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</a:rPr>
                <a:t>特殊</a:t>
              </a: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10552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旅人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江东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3733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虹大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240" y="1447920"/>
            <a:ext cx="152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38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逻辑顺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1143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明方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13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2133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例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057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类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124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资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594360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12952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找出各段讲的是什么事物，然后运用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合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原则，划分出文章的段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78136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743200"/>
            <a:ext cx="1905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石拱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352680"/>
            <a:ext cx="4953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中国石拱桥的古代状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114800"/>
            <a:ext cx="5181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中国石拱桥的当代发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447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石拱桥的特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9907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出现—较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形式—优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结构—坚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4572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找出说明石拱桥特点的词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1430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590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是怎样说明这些特点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200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式优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98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坚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124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外部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733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内部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343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但……，而且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191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递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429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从外到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明石拱桥形式优美、结构坚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3880" y="762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国的石拱桥有哪些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676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悠久的历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乎到处都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小不一，形式多样，有许多是惊人的杰作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676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514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581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多样、杰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23001" t="27336" r="26000" b="23335"/>
          <a:stretch/>
        </p:blipFill>
        <p:spPr>
          <a:xfrm>
            <a:off x="2362320" y="1676520"/>
            <a:ext cx="4724280" cy="393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石拱桥的杰作之一——赵州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描写了有关赵州桥的哪些内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地理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1447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历史悠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86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建造的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整修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1240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描写突出了赵州桥的什么特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962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历史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962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坚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962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美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800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石拱桥的一般特点，那么赵州桥的独特之处体现在哪里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895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设计科学，施工巧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066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有一个大拱，没有陡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438280"/>
            <a:ext cx="2362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拱上加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200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拱圈组成大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结构匀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523880"/>
            <a:ext cx="380880" cy="350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1447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度的技术水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9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外形的美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41911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4038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朽的艺术价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石拱桥的又一杰作—卢沟桥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2-03-11T09:25:03Z</dcterms:modified>
  <cp:revision>0</cp:revision>
  <dc:subject/>
  <dc:title/>
</cp:coreProperties>
</file>