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gif" ContentType="image/gif"/>
  <Override PartName="/ppt/media/image14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9.wmf" ContentType="image/x-wmf"/>
  <Override PartName="/ppt/media/image20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790-41C7-40CB-8A74-6A17707C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0F2D-3456-4F16-8E1D-6C0091AA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113-629C-495B-AF00-C3CC959F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4C7C-4AAB-47A5-8785-3FA5E612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559B-0D83-4B37-B7CF-6D5BF116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467-6ADB-4B0B-AB1C-95E9E93F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EA7-F324-438B-A2AD-34ABC018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1B1-7CF0-402E-AE88-26DDCB13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37E-EFB2-41DF-BC75-F7CD3B3B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2E78-778B-47C8-BF61-D0AF2835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15A-E54A-4889-A9D1-1A44057D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2D6-E004-4F22-912B-85002AF9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6EE9-1728-43E4-8CE7-261535EF80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9.wmf"/><Relationship Id="rId3" Type="http://schemas.openxmlformats.org/officeDocument/2006/relationships/slide" Target="slide27.xml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16000" y="105264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故宫博物院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5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7056360" cy="585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685440" cy="6456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8000" y="5805360"/>
            <a:ext cx="22320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573408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太和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8000" y="5734080"/>
            <a:ext cx="23032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573408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中和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108000" y="189000"/>
            <a:ext cx="9396360" cy="5656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635280" y="595008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保和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6021360"/>
            <a:ext cx="3564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603396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太和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464000" cy="325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4500720" cy="3284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3352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08000" y="3500280"/>
            <a:ext cx="4464000" cy="325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1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993080" cy="6518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21040" y="981000"/>
            <a:ext cx="6069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殿顶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中央藻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8000" y="3897360"/>
            <a:ext cx="4824360" cy="2960640"/>
          </a:xfrm>
          <a:prstGeom prst="rect">
            <a:avLst/>
          </a:prstGeom>
          <a:ln w="0">
            <a:noFill/>
          </a:ln>
        </p:spPr>
      </p:pic>
      <p:pic>
        <p:nvPicPr>
          <p:cNvPr id="88" name="taihemenshangdexiaoshao" descr=""/>
          <p:cNvPicPr/>
          <p:nvPr/>
        </p:nvPicPr>
        <p:blipFill>
          <a:blip r:embed="rId2"/>
          <a:stretch/>
        </p:blipFill>
        <p:spPr>
          <a:xfrm>
            <a:off x="108000" y="0"/>
            <a:ext cx="5472000" cy="4105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932360" y="1744560"/>
            <a:ext cx="4103640" cy="5113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932360" y="333360"/>
            <a:ext cx="388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故宫博物院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356360" cy="3503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392720" cy="3500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79280" y="3591000"/>
            <a:ext cx="4356360" cy="3267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643280" y="3651120"/>
            <a:ext cx="4392720" cy="3206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4643280" y="3573360"/>
            <a:ext cx="43927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708360" cy="2473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5013360"/>
            <a:ext cx="3995640" cy="1844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635280" y="0"/>
            <a:ext cx="53946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1423000">
            <a:off x="250920" y="260280"/>
            <a:ext cx="3241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故宫全景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3672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23018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隶书"/>
              </a:rPr>
              <a:t>故宫概况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10800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宫位于北京市中心，也称“紫禁城”。始建于明永乐四年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0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，建成于永乐十八年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，距今约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年的历史。今天人们称它为故宫，意为过去的皇宫。这里曾居住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皇帝，是明清两代的皇宫，现称为“故宫博物院”。故宫的整个建筑金碧辉煌，庄严绚丽，被誉为世界五大宫之一（北京故宫、法国凡尔赛宫、英国白金汉宫、美国白宫、俄罗斯克里姆林宫），并被联合国教科文组织列为“世界文化遗产”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0920" y="189000"/>
            <a:ext cx="1187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5373720"/>
            <a:ext cx="1079640" cy="3603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华文新魏"/>
              </a:rPr>
              <a:t>午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360" y="458136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71640" y="4941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71600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4869000"/>
            <a:ext cx="14292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9640" y="4869000"/>
            <a:ext cx="14436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4869000"/>
            <a:ext cx="14436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4869000"/>
            <a:ext cx="14436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3645000"/>
            <a:ext cx="9144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武英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313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3284640"/>
            <a:ext cx="2447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3357720"/>
            <a:ext cx="1079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保和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4076640"/>
            <a:ext cx="187308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太和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3716280"/>
            <a:ext cx="792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华文新魏"/>
              </a:rPr>
              <a:t>中和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16360" y="2563920"/>
            <a:ext cx="158256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乾清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347280" y="2205000"/>
            <a:ext cx="7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华文新魏"/>
              </a:rPr>
              <a:t>交泰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3640" y="177156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坤宁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1484280"/>
            <a:ext cx="288144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华文新魏"/>
              </a:rPr>
              <a:t>御花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00360" y="692280"/>
            <a:ext cx="2160720" cy="40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神武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4797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汉白玉石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3716280"/>
            <a:ext cx="865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文华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4788000" y="5084280"/>
            <a:ext cx="107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6000" y="515772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金水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5157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472608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932000" y="465300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4869000"/>
            <a:ext cx="14436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12000" y="1700280"/>
            <a:ext cx="719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空间顺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05440" y="838080"/>
            <a:ext cx="576360" cy="1152720"/>
          </a:xfrm>
          <a:custGeom>
            <a:avLst/>
            <a:gdLst>
              <a:gd name="textAreaLeft" fmla="*/ 0 w 576360"/>
              <a:gd name="textAreaRight" fmla="*/ 576720 w 57636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48360" y="404640"/>
            <a:ext cx="3589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48360" y="2131920"/>
            <a:ext cx="28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83640" y="5084640"/>
            <a:ext cx="720720" cy="60984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7812000" y="619920"/>
            <a:ext cx="720720" cy="64764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5877000"/>
            <a:ext cx="719280" cy="3603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端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6381720"/>
            <a:ext cx="719280" cy="3603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天安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0360" y="189000"/>
            <a:ext cx="2160720" cy="40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景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1197000"/>
            <a:ext cx="1008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顺贞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48000" y="4581360"/>
            <a:ext cx="1008000" cy="2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华文新魏"/>
              </a:rPr>
              <a:t>太和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2997360"/>
            <a:ext cx="1008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华文新魏"/>
              </a:rPr>
              <a:t>乾清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24360" y="1773360"/>
            <a:ext cx="36036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1773360"/>
            <a:ext cx="36036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隶书"/>
              </a:rPr>
              <a:t>文章结构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作者介绍了太和殿哪些方面的情况？说明顺序是怎样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太和殿外观：色彩壮丽、雄伟壮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内部装饰：庄严富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位置：中轴线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功用：皇帝举行重大典礼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说明顺序是由外到内、总说和分说相结合的结构顺序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为什么要把太和殿作为解说的重点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4960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和殿是故宫最大的殿堂，“前朝”以致整个故宫的中心，是“前朝”以致整个故宫的重点建筑物。②是封建皇帝行使统治权力和举行重大典礼的场所，因此它的地位非常重要。③它在整个建筑群中最具代表性。所以文章把太和殿作为介绍的重点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33520" y="10666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大殿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____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是一个约两米高的朱漆方台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____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安放着金漆雕龙宝座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____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是雕龙屏。方台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____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有六根高大的蟠龙金柱，每根大柱上盘绕着矫健的金龙。仰望殿顶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____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藻井有一条巨大的雕金蟠龙。从龙口里垂下一颗银白色大圆珠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____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环绕着六颗小珠，龙头、宝珠正对着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____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的宝座。梁枋间彩画绚丽，有双龙戏珠、单龙翔舞，有行龙、升龙、降龙，多态多姿，龙身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____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还衬托着流云火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39000" y="1066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正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34880" y="1066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上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15720" y="1523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背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0920" y="2057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两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34680" y="2514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中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58320" y="3505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周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77080" y="3962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下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77240" y="4941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周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1880" y="6172200"/>
            <a:ext cx="36540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497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有两个“立足点”，各是什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按什么顺序写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5694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“立足点”分别是朱漆方台和雕金蟠龙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朱漆方台为立足点，依次向上、向后、向左右两旁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雕金蟠龙为立足点，依次向下、向周围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体顺序是先下后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文章强调中轴线的用意是什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说明建筑意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把皇帝宝座安在中轴线上，以象征皇权。说明一切以皇帝为中心，一切权力集中于皇帝，显示至高无上的皇权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三大殿为什么多次写龙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对象的特征决定的。故宫建筑突出龙，说明故宫是封建统治的中心，为统治者服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龙的象征意义决定的。历朝历代皇帝都把自己神化为受命于天的“真龙天子”，把“龙”作为自己的化身，“龙”是皇权的象征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76720" y="189000"/>
            <a:ext cx="151128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3960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说明对象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说明类型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对象特点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结构特点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说明顺序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56000" y="134136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故宫博物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56000" y="213372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事物说明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1840" y="5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2852640"/>
            <a:ext cx="439236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规模宏大壮丽，建筑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精美，布局统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4581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总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--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分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--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53737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由南往北的空间顺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6624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故宫为什么又称紫禁城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紫”字取名于紫宫，紫宫又是天帝之宫。古时，人们把天上的星宿划分为三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yuá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“三垣”是指三个宫城的意思，即太微垣、紫微垣、天市垣。紫微垣在中间，称为中垣，在北斗星的东北方向，于是古人便认为这是天帝居住的地方，即天帝之宫。封建帝王在封建时代被认为是天帝之子，即天子，那么天子理朝政和居住的地方——皇宫自然应该是人间的“天上宫阙”。又因为皇宫是禁区，非一般人敢涉足，所以故宫又叫紫禁城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故宫博物院是一个庞大的建筑群，值得介绍的东西很多很多（九千多间房屋，九十多万件藏品，九百多万件档案材料），如果全部说明，难免太多太杂，中心不突出。作者抓住中轴线，采用空间说明顺序，运用总——分——总的写法，突出重点，详略分明，使读者对路线、方位、各组建筑物的特点与联系，清晰明了，使文章条理十分清楚。说明对象“故宫博物院”给我们留下了清晰而深刻的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296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君权神授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故宫的布局，处处体现着“君权神授”的观念。作为“三垣”之一的太微垣之南，有三颗星，被古人视为三门，起名曰：端门、左掖门、右掖门。故宫也按此布局，在前面建了端门、午门、午门东西各建有左掖门、右掖门。金水河穿过午门和正阳门之间，是天宫中银河的象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宫殿名称的含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皇帝、皇后居的乾清宫、坤宁宫，两宫名称，取天地之意，因为“乾”表示“天”，“坤”表示“地”。在其东西两侧有日精门与月华门，则是“日”“月”的象征。另外的东西六宫，也分别象征着天上的十二星辰。这种布局，代表着“天地合一”的观念，表示了封建统治的威严，同时也为了封建帝王豪华、奢侈生活的需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19640" y="836280"/>
            <a:ext cx="25905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帝王意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太和殿的内部，更强烈地表现了封建帝王的意识形态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4336920"/>
            <a:ext cx="2916360" cy="2521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724360" y="4869000"/>
            <a:ext cx="3132360" cy="1989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820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和殿内皇帝所用的“宝座”安置在一个高约两公尺的精雕细刻的基座上，使“宝座”从平地升起，有如须弥座托着太和殿的缩影，这样，实际上重复了一次太和殿的节奏，进一步加强了皇帝的至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太和殿内空间的处理也很有特色。“为了突出以宝座为中心的明间部分，还充分运用了光与色彩的装饰效果，把当心明间的四根金柱沥粉画成盘龙，而且全部贴金。这四根盘龙金柱，光彩奕奕，十分典丽而雄壮，同其余森然林立的暗红色柱列形成强烈对照，不仅标志出明间的特殊重要地位和空间范围，并赋予明间以相对独立的性格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6021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须弥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496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殿里的装饰大量采用了龙的形象，柱子上缠的是龙，屏风、宝座上雕的是龙，屋顶上盘的是龙，皇帝锦袍上绣的是龙，太和殿可以说是龙的世界，皇帝在这里成了”真龙天子”。此外，在殿内有限的面积密集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巨大的柱子，其中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金龙柱子。大量的柱子完全超出了实用的需要，表现出帝王的威严和永恒统治的幻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4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4:47:37Z</dcterms:created>
  <dc:creator>语文备课大师</dc:creator>
  <dc:description/>
  <dc:language>en-US</dc:language>
  <cp:lastModifiedBy>微软用户</cp:lastModifiedBy>
  <dcterms:modified xsi:type="dcterms:W3CDTF">2014-02-13T20:44:16Z</dcterms:modified>
  <cp:revision>0</cp:revision>
  <dc:subject/>
  <dc:title>语文备课大师</dc:title>
</cp:coreProperties>
</file>