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3.png" ContentType="image/png"/>
  <Override PartName="/ppt/media/image20.gif" ContentType="image/gif"/>
  <Override PartName="/ppt/media/image13.png" ContentType="image/png"/>
  <Override PartName="/ppt/media/image22.png" ContentType="image/png"/>
  <Override PartName="/ppt/media/image24.jpeg" ContentType="image/jpeg"/>
  <Override PartName="/ppt/media/image17.gif" ContentType="image/gif"/>
  <Override PartName="/ppt/media/image27.jpeg" ContentType="image/jpeg"/>
  <Override PartName="/ppt/media/image21.png" ContentType="image/png"/>
  <Override PartName="/ppt/media/image19.png" ContentType="image/png"/>
  <Override PartName="/ppt/media/image2.gif" ContentType="image/gif"/>
  <Override PartName="/ppt/media/image26.jpeg" ContentType="image/jpeg"/>
  <Override PartName="/ppt/media/image32.jpeg" ContentType="image/jpeg"/>
  <Override PartName="/ppt/media/image30.jpeg" ContentType="image/jpeg"/>
  <Override PartName="/ppt/media/image12.gif" ContentType="image/gif"/>
  <Override PartName="/ppt/media/image8.jpeg" ContentType="image/jpeg"/>
  <Override PartName="/ppt/media/image38.png" ContentType="image/png"/>
  <Override PartName="/ppt/media/image36.jpeg" ContentType="image/jpeg"/>
  <Override PartName="/ppt/media/image5.gif" ContentType="image/gif"/>
  <Override PartName="/ppt/media/image39.png" ContentType="image/png"/>
  <Override PartName="/ppt/media/image9.png" ContentType="image/png"/>
  <Override PartName="/ppt/media/image33.jpeg" ContentType="image/jpeg"/>
  <Override PartName="/ppt/media/image34.jpeg" ContentType="image/jpeg"/>
  <Override PartName="/ppt/media/image15.gif" ContentType="image/gif"/>
  <Override PartName="/ppt/media/image18.png" ContentType="image/png"/>
  <Override PartName="/ppt/media/image28.jpeg" ContentType="image/jpeg"/>
  <Override PartName="/ppt/media/image29.jpeg" ContentType="image/jpeg"/>
  <Override PartName="/ppt/media/image7.gif" ContentType="image/gif"/>
  <Override PartName="/ppt/media/image37.gif" ContentType="image/gif"/>
  <Override PartName="/ppt/media/image4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31.jpeg" ContentType="image/jpeg"/>
  <Override PartName="/ppt/media/image14.gif" ContentType="image/gif"/>
  <Override PartName="/ppt/media/image1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E6E-F36A-40AB-9C0C-3CA783F5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8AE6-3850-4AF7-8362-976CFEC9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12B-43A5-4DB3-AA24-E07903EA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E59-85B4-4AE4-9AF1-DF564C43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C3A0-37F2-4115-8DC4-88E932EB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AA9-098D-437A-8251-FF641F85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20D2-B369-4BCF-B3DF-87E2503A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67D6-EFA8-4C7C-BC8B-7B37D70C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E42-FADA-4488-A662-5A7FCAF3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588-40DC-4E20-AADA-B2158BF7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BD1-6479-4E89-A2DB-17F26884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501-5574-4EDE-82CE-823B2B20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3638-02D0-408C-A19A-3608A97E3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gugong4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 rot="20790000">
            <a:off x="2895120" y="380520"/>
            <a:ext cx="5486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4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290000"/>
                </a:gradFill>
                <a:latin typeface="宋体"/>
              </a:rPr>
              <a:t>故宫博物院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4290000"/>
              </a:gradFill>
              <a:latin typeface="宋体"/>
              <a:ea typeface="宋体"/>
            </a:endParaRPr>
          </a:p>
        </p:txBody>
      </p:sp>
      <p:sp>
        <p:nvSpPr>
          <p:cNvPr id="43" name="WordArt 7"/>
          <p:cNvSpPr txBox="1"/>
          <p:nvPr/>
        </p:nvSpPr>
        <p:spPr>
          <a:xfrm rot="20861400">
            <a:off x="380880" y="457200"/>
            <a:ext cx="144792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6858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14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6858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背景27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WordArt 3"/>
          <p:cNvSpPr txBox="1"/>
          <p:nvPr/>
        </p:nvSpPr>
        <p:spPr>
          <a:xfrm>
            <a:off x="1332000" y="1773360"/>
            <a:ext cx="701028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图片欣赏</a:t>
            </a:r>
            <a:endParaRPr b="1" lang="en-US" sz="4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9" name="Picture 4" descr="signature"/>
          <p:cNvPicPr/>
          <p:nvPr/>
        </p:nvPicPr>
        <p:blipFill>
          <a:blip r:embed="rId4"/>
          <a:stretch/>
        </p:blipFill>
        <p:spPr>
          <a:xfrm>
            <a:off x="0" y="468360"/>
            <a:ext cx="9144000" cy="25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signature"/>
          <p:cNvPicPr/>
          <p:nvPr/>
        </p:nvPicPr>
        <p:blipFill>
          <a:blip r:embed="rId5"/>
          <a:stretch/>
        </p:blipFill>
        <p:spPr>
          <a:xfrm>
            <a:off x="0" y="6308640"/>
            <a:ext cx="9144000" cy="252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signature"/>
          <p:cNvPicPr/>
          <p:nvPr/>
        </p:nvPicPr>
        <p:blipFill>
          <a:blip r:embed="rId6"/>
          <a:stretch/>
        </p:blipFill>
        <p:spPr>
          <a:xfrm>
            <a:off x="468360" y="0"/>
            <a:ext cx="209520" cy="7605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signature"/>
          <p:cNvPicPr/>
          <p:nvPr/>
        </p:nvPicPr>
        <p:blipFill>
          <a:blip r:embed="rId7"/>
          <a:stretch/>
        </p:blipFill>
        <p:spPr>
          <a:xfrm>
            <a:off x="8459640" y="-2282760"/>
            <a:ext cx="252720" cy="914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bjgg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bjgg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bjgg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bjgg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bjgg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bjgg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bjgg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bjgg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bjggtu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背景24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304920" y="228600"/>
            <a:ext cx="739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创艺简细圆"/>
              </a:rPr>
              <a:t>故宫博物院简介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04920" y="1219320"/>
            <a:ext cx="8381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cc"/>
                </a:solidFill>
                <a:latin typeface="创艺简细圆"/>
                <a:ea typeface="创艺简细圆"/>
              </a:rPr>
              <a:t>       </a:t>
            </a:r>
            <a:r>
              <a:rPr b="1" lang="zh-CN" sz="3800" spc="-1" strike="noStrike">
                <a:solidFill>
                  <a:srgbClr val="6600cc"/>
                </a:solidFill>
                <a:latin typeface="创艺简细圆"/>
                <a:ea typeface="创艺简细圆"/>
              </a:rPr>
              <a:t>故宫旧称紫禁城，位于北京城的中心，明、清两代的皇宫，是我国现存的最大最完整的古代宫殿建筑群，始建于明永乐四年（即</a:t>
            </a:r>
            <a:r>
              <a:rPr b="1" lang="en-US" sz="3800" spc="-1" strike="noStrike">
                <a:solidFill>
                  <a:srgbClr val="6600cc"/>
                </a:solidFill>
                <a:latin typeface="创艺简细圆"/>
                <a:ea typeface="创艺简细圆"/>
              </a:rPr>
              <a:t>1406</a:t>
            </a:r>
            <a:r>
              <a:rPr b="1" lang="zh-CN" sz="3800" spc="-1" strike="noStrike">
                <a:solidFill>
                  <a:srgbClr val="6600cc"/>
                </a:solidFill>
                <a:latin typeface="创艺简细圆"/>
                <a:ea typeface="创艺简细圆"/>
              </a:rPr>
              <a:t>年），历时十四年才竣工。迄今已有</a:t>
            </a:r>
            <a:r>
              <a:rPr b="1" lang="en-US" sz="3800" spc="-1" strike="noStrike">
                <a:solidFill>
                  <a:srgbClr val="6600cc"/>
                </a:solidFill>
                <a:latin typeface="创艺简细圆"/>
                <a:ea typeface="创艺简细圆"/>
              </a:rPr>
              <a:t>500</a:t>
            </a:r>
            <a:r>
              <a:rPr b="1" lang="zh-CN" sz="3800" spc="-1" strike="noStrike">
                <a:solidFill>
                  <a:srgbClr val="6600cc"/>
                </a:solidFill>
                <a:latin typeface="创艺简细圆"/>
                <a:ea typeface="创艺简细圆"/>
              </a:rPr>
              <a:t>多年的历史。</a:t>
            </a:r>
            <a:r>
              <a:rPr b="1" lang="en-US" sz="3800" spc="-1" strike="noStrike">
                <a:solidFill>
                  <a:srgbClr val="6600cc"/>
                </a:solidFill>
                <a:latin typeface="创艺简细圆"/>
                <a:ea typeface="创艺简细圆"/>
              </a:rPr>
              <a:t>1925</a:t>
            </a:r>
            <a:r>
              <a:rPr b="1" lang="zh-CN" sz="3800" spc="-1" strike="noStrike">
                <a:solidFill>
                  <a:srgbClr val="6600cc"/>
                </a:solidFill>
                <a:latin typeface="创艺简细圆"/>
                <a:ea typeface="创艺简细圆"/>
              </a:rPr>
              <a:t>年改名为故宫博物院，它是世界上最大的博物院之一。</a:t>
            </a:r>
            <a:r>
              <a:rPr b="1" lang="en-US" sz="3800" spc="-1" strike="noStrike">
                <a:solidFill>
                  <a:srgbClr val="6600cc"/>
                </a:solidFill>
                <a:latin typeface="创艺简细圆"/>
                <a:ea typeface="创艺简细圆"/>
              </a:rPr>
              <a:t>1987</a:t>
            </a:r>
            <a:r>
              <a:rPr b="1" lang="zh-CN" sz="3800" spc="-1" strike="noStrike">
                <a:solidFill>
                  <a:srgbClr val="6600cc"/>
                </a:solidFill>
                <a:latin typeface="创艺简细圆"/>
                <a:ea typeface="创艺简细圆"/>
              </a:rPr>
              <a:t>年就被联合国教科文组织列入</a:t>
            </a:r>
            <a:r>
              <a:rPr b="1" lang="zh-CN" sz="3800" spc="-1" strike="noStrike">
                <a:solidFill>
                  <a:srgbClr val="6600cc"/>
                </a:solidFill>
                <a:latin typeface="Times New Roman"/>
                <a:ea typeface="创艺简细圆"/>
              </a:rPr>
              <a:t>“</a:t>
            </a:r>
            <a:r>
              <a:rPr b="1" lang="zh-CN" sz="3800" spc="-1" strike="noStrike">
                <a:solidFill>
                  <a:srgbClr val="6600cc"/>
                </a:solidFill>
                <a:latin typeface="创艺简细圆"/>
                <a:ea typeface="创艺简细圆"/>
              </a:rPr>
              <a:t>世界人类文化遗产</a:t>
            </a:r>
            <a:r>
              <a:rPr b="1" lang="zh-CN" sz="3800" spc="-1" strike="noStrike">
                <a:solidFill>
                  <a:srgbClr val="6600cc"/>
                </a:solidFill>
                <a:latin typeface="Times New Roman"/>
                <a:ea typeface="创艺简细圆"/>
              </a:rPr>
              <a:t>”</a:t>
            </a:r>
            <a:r>
              <a:rPr b="1" lang="zh-CN" sz="3800" spc="-1" strike="noStrike">
                <a:solidFill>
                  <a:srgbClr val="6600cc"/>
                </a:solidFill>
                <a:latin typeface="创艺简细圆"/>
                <a:ea typeface="创艺简细圆"/>
              </a:rPr>
              <a:t>。</a:t>
            </a:r>
            <a:r>
              <a:rPr b="0" lang="zh-CN" sz="3600" spc="-1" strike="noStrike">
                <a:solidFill>
                  <a:srgbClr val="6600cc"/>
                </a:solidFill>
                <a:latin typeface="创艺简细圆"/>
                <a:ea typeface="创艺简细圆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1678"/>
          <p:cNvPicPr/>
          <p:nvPr/>
        </p:nvPicPr>
        <p:blipFill>
          <a:blip r:embed="rId2"/>
          <a:stretch/>
        </p:blipFill>
        <p:spPr>
          <a:xfrm>
            <a:off x="6858000" y="152280"/>
            <a:ext cx="16351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bjggtu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bjggtu3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gugong3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gugong4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P481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1676520" y="990720"/>
            <a:ext cx="4572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背景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304920" y="762120"/>
            <a:ext cx="70866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ff"/>
                </a:solidFill>
                <a:latin typeface="方正彩云繁体"/>
                <a:ea typeface="方正彩云繁体"/>
              </a:rPr>
              <a:t>BY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ff"/>
                </a:solidFill>
                <a:latin typeface="方正彩云繁体"/>
                <a:ea typeface="方正彩云繁体"/>
              </a:rPr>
              <a:t>       </a:t>
            </a:r>
            <a:r>
              <a:rPr b="0" lang="en-US" sz="6000" spc="-1" strike="noStrike">
                <a:solidFill>
                  <a:srgbClr val="9933ff"/>
                </a:solidFill>
                <a:latin typeface="方正彩云繁体"/>
                <a:ea typeface="方正彩云繁体"/>
              </a:rPr>
              <a:t>BYE  </a:t>
            </a:r>
            <a:r>
              <a:rPr b="0" lang="zh-CN" sz="6000" spc="-1" strike="noStrike">
                <a:solidFill>
                  <a:srgbClr val="9933ff"/>
                </a:solidFill>
                <a:latin typeface="方正彩云繁体"/>
                <a:ea typeface="方正彩云繁体"/>
              </a:rPr>
              <a:t>！！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ff"/>
                </a:solidFill>
                <a:latin typeface="方正彩云繁体"/>
                <a:ea typeface="方正彩云繁体"/>
              </a:rPr>
              <a:t>制作组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ff"/>
                </a:solidFill>
                <a:latin typeface="方正彩云繁体"/>
                <a:ea typeface="方正彩云繁体"/>
              </a:rPr>
              <a:t>            </a:t>
            </a:r>
            <a:r>
              <a:rPr b="0" lang="zh-CN" sz="6000" spc="-1" strike="noStrike">
                <a:solidFill>
                  <a:srgbClr val="9933ff"/>
                </a:solidFill>
                <a:latin typeface="方正彩云繁体"/>
                <a:ea typeface="方正彩云繁体"/>
              </a:rPr>
              <a:t>第</a:t>
            </a:r>
            <a:r>
              <a:rPr b="0" lang="en-US" sz="6000" spc="-1" strike="noStrike">
                <a:solidFill>
                  <a:srgbClr val="9933ff"/>
                </a:solidFill>
                <a:latin typeface="方正彩云繁体"/>
                <a:ea typeface="方正彩云繁体"/>
              </a:rPr>
              <a:t>5</a:t>
            </a:r>
            <a:r>
              <a:rPr b="0" lang="zh-CN" sz="6000" spc="-1" strike="noStrike">
                <a:solidFill>
                  <a:srgbClr val="9933ff"/>
                </a:solidFill>
                <a:latin typeface="方正彩云繁体"/>
                <a:ea typeface="方正彩云繁体"/>
              </a:rPr>
              <a:t>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girl_182"/>
          <p:cNvPicPr/>
          <p:nvPr/>
        </p:nvPicPr>
        <p:blipFill>
          <a:blip r:embed="rId2"/>
          <a:stretch/>
        </p:blipFill>
        <p:spPr>
          <a:xfrm>
            <a:off x="3124080" y="228600"/>
            <a:ext cx="1825920" cy="1905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girl_179"/>
          <p:cNvPicPr/>
          <p:nvPr/>
        </p:nvPicPr>
        <p:blipFill>
          <a:blip r:embed="rId3"/>
          <a:stretch/>
        </p:blipFill>
        <p:spPr>
          <a:xfrm>
            <a:off x="6227640" y="3068640"/>
            <a:ext cx="36576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背景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04920" y="1676520"/>
            <a:ext cx="853416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创艺简细圆"/>
                <a:ea typeface="创艺简细圆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创艺简细圆"/>
                <a:ea typeface="创艺简细圆"/>
              </a:rPr>
              <a:t>北京故宫博物院，是明清两朝的皇宫。位于北京城的中心。明清时称紫禁城，</a:t>
            </a:r>
            <a:r>
              <a:rPr b="1" lang="en-US" sz="2800" spc="-1" strike="noStrike">
                <a:solidFill>
                  <a:srgbClr val="000000"/>
                </a:solidFill>
                <a:latin typeface="创艺简细圆"/>
                <a:ea typeface="创艺简细圆"/>
              </a:rPr>
              <a:t>1925</a:t>
            </a:r>
            <a:r>
              <a:rPr b="1" lang="zh-CN" sz="2800" spc="-1" strike="noStrike">
                <a:solidFill>
                  <a:srgbClr val="000000"/>
                </a:solidFill>
                <a:latin typeface="创艺简细圆"/>
                <a:ea typeface="创艺简细圆"/>
              </a:rPr>
              <a:t>年始称故宫。占地面积分子</a:t>
            </a:r>
            <a:r>
              <a:rPr b="1" lang="en-US" sz="2800" spc="-1" strike="noStrike">
                <a:solidFill>
                  <a:srgbClr val="000000"/>
                </a:solidFill>
                <a:latin typeface="创艺简细圆"/>
                <a:ea typeface="创艺简细圆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创艺简细圆"/>
                <a:ea typeface="创艺简细圆"/>
              </a:rPr>
              <a:t>万平方米，现存建筑</a:t>
            </a:r>
            <a:r>
              <a:rPr b="1" lang="en-US" sz="2800" spc="-1" strike="noStrike">
                <a:solidFill>
                  <a:srgbClr val="000000"/>
                </a:solidFill>
                <a:latin typeface="创艺简细圆"/>
                <a:ea typeface="创艺简细圆"/>
              </a:rPr>
              <a:t>980</a:t>
            </a:r>
            <a:r>
              <a:rPr b="1" lang="zh-CN" sz="2800" spc="-1" strike="noStrike">
                <a:solidFill>
                  <a:srgbClr val="000000"/>
                </a:solidFill>
                <a:latin typeface="创艺简细圆"/>
                <a:ea typeface="创艺简细圆"/>
              </a:rPr>
              <a:t>余座，有屋</a:t>
            </a:r>
            <a:r>
              <a:rPr b="1" lang="en-US" sz="2800" spc="-1" strike="noStrike">
                <a:solidFill>
                  <a:srgbClr val="000000"/>
                </a:solidFill>
                <a:latin typeface="创艺简细圆"/>
                <a:ea typeface="创艺简细圆"/>
              </a:rPr>
              <a:t>8700</a:t>
            </a:r>
            <a:r>
              <a:rPr b="1" lang="zh-CN" sz="2800" spc="-1" strike="noStrike">
                <a:solidFill>
                  <a:srgbClr val="000000"/>
                </a:solidFill>
                <a:latin typeface="创艺简细圆"/>
                <a:ea typeface="创艺简细圆"/>
              </a:rPr>
              <a:t>余间，建筑面积</a:t>
            </a:r>
            <a:r>
              <a:rPr b="1" lang="en-US" sz="2800" spc="-1" strike="noStrike">
                <a:solidFill>
                  <a:srgbClr val="000000"/>
                </a:solidFill>
                <a:latin typeface="创艺简细圆"/>
                <a:ea typeface="创艺简细圆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创艺简细圆"/>
                <a:ea typeface="创艺简细圆"/>
              </a:rPr>
              <a:t>万平方米。是世界规模最大、保存最完好的古代皇宫建筑群。也是中国古代建筑最高水平的杰作。</a:t>
            </a:r>
            <a:r>
              <a:rPr b="1" lang="en-US" sz="2800" spc="-1" strike="noStrike">
                <a:solidFill>
                  <a:srgbClr val="000000"/>
                </a:solidFill>
                <a:latin typeface="创艺简细圆"/>
                <a:ea typeface="创艺简细圆"/>
              </a:rPr>
              <a:t>1961</a:t>
            </a:r>
            <a:r>
              <a:rPr b="1" lang="zh-CN" sz="2800" spc="-1" strike="noStrike">
                <a:solidFill>
                  <a:srgbClr val="000000"/>
                </a:solidFill>
                <a:latin typeface="创艺简细圆"/>
                <a:ea typeface="创艺简细圆"/>
              </a:rPr>
              <a:t>年中华人民共和国国务院公布为全国重点文物保护单位。</a:t>
            </a:r>
            <a:r>
              <a:rPr b="1" lang="en-US" sz="2800" spc="-1" strike="noStrike">
                <a:solidFill>
                  <a:srgbClr val="000000"/>
                </a:solidFill>
                <a:latin typeface="创艺简细圆"/>
                <a:ea typeface="创艺简细圆"/>
              </a:rPr>
              <a:t>1987</a:t>
            </a:r>
            <a:r>
              <a:rPr b="1" lang="zh-CN" sz="2800" spc="-1" strike="noStrike">
                <a:solidFill>
                  <a:srgbClr val="000000"/>
                </a:solidFill>
                <a:latin typeface="创艺简细圆"/>
                <a:ea typeface="创艺简细圆"/>
              </a:rPr>
              <a:t>年被联合国教科文组织列入世界遗产名录。明清故宫的建筑与规划，继承了中国古代宫殿的传统，并有所发展和创新。古代中国为表示皇权的至高无上，有将皇宫建在都城中央的传统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3492360" y="620640"/>
            <a:ext cx="3429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故宫简介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51" name="Picture 7" descr="sf_13_200472715366"/>
          <p:cNvPicPr/>
          <p:nvPr/>
        </p:nvPicPr>
        <p:blipFill>
          <a:blip r:embed="rId2"/>
          <a:stretch/>
        </p:blipFill>
        <p:spPr>
          <a:xfrm>
            <a:off x="0" y="189000"/>
            <a:ext cx="17146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背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sleeping"/>
          <p:cNvPicPr/>
          <p:nvPr/>
        </p:nvPicPr>
        <p:blipFill>
          <a:blip r:embed="rId2"/>
          <a:stretch/>
        </p:blipFill>
        <p:spPr>
          <a:xfrm>
            <a:off x="4716360" y="3284640"/>
            <a:ext cx="4103640" cy="3097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28600" y="1295280"/>
            <a:ext cx="845820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99ff"/>
                </a:solidFill>
                <a:latin typeface="创艺简细圆"/>
                <a:ea typeface="创艺简细圆"/>
              </a:rPr>
              <a:t>磬（</a:t>
            </a:r>
            <a:r>
              <a:rPr b="1" lang="en-US" sz="3400" spc="-1" strike="noStrike">
                <a:solidFill>
                  <a:srgbClr val="0099ff"/>
                </a:solidFill>
                <a:latin typeface="创艺简细圆"/>
                <a:ea typeface="创艺简细圆"/>
              </a:rPr>
              <a:t>qing):</a:t>
            </a:r>
            <a:r>
              <a:rPr b="1" lang="zh-CN" sz="3400" spc="-1" strike="noStrike">
                <a:solidFill>
                  <a:srgbClr val="0099ff"/>
                </a:solidFill>
                <a:latin typeface="创艺简细圆"/>
                <a:ea typeface="创艺简细圆"/>
              </a:rPr>
              <a:t>古代打击乐器，形状像曲尺，用玉或石制成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99ff"/>
                </a:solidFill>
                <a:latin typeface="创艺简细圆"/>
                <a:ea typeface="创艺简细圆"/>
              </a:rPr>
              <a:t>横贯：</a:t>
            </a:r>
            <a:r>
              <a:rPr b="1" lang="en-US" sz="3400" spc="-1" strike="noStrike">
                <a:solidFill>
                  <a:srgbClr val="0099ff"/>
                </a:solidFill>
                <a:latin typeface="创艺简细圆"/>
                <a:ea typeface="创艺简细圆"/>
              </a:rPr>
              <a:t>(</a:t>
            </a:r>
            <a:r>
              <a:rPr b="1" lang="zh-CN" sz="3400" spc="-1" strike="noStrike">
                <a:solidFill>
                  <a:srgbClr val="0099ff"/>
                </a:solidFill>
                <a:latin typeface="创艺简细圆"/>
                <a:ea typeface="创艺简细圆"/>
              </a:rPr>
              <a:t>山脉、河流、道路等）横着通过去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99ff"/>
                </a:solidFill>
                <a:latin typeface="创艺简细圆"/>
                <a:ea typeface="创艺简细圆"/>
              </a:rPr>
              <a:t>缭绕：回环缠绕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99ff"/>
                </a:solidFill>
                <a:latin typeface="创艺简细圆"/>
                <a:ea typeface="创艺简细圆"/>
              </a:rPr>
              <a:t>错综：纵横交叉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99ff"/>
                </a:solidFill>
                <a:latin typeface="创艺简细圆"/>
                <a:ea typeface="创艺简细圆"/>
              </a:rPr>
              <a:t>和谐：配合得适当和匀称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99ff"/>
                </a:solidFill>
                <a:latin typeface="创艺简细圆"/>
                <a:ea typeface="创艺简细圆"/>
              </a:rPr>
              <a:t>掩映：彼此遮掩而互相衬托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7"/>
          <p:cNvSpPr txBox="1"/>
          <p:nvPr/>
        </p:nvSpPr>
        <p:spPr>
          <a:xfrm>
            <a:off x="324000" y="404640"/>
            <a:ext cx="23335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宋体"/>
              </a:rPr>
              <a:t>字词积累：</a:t>
            </a:r>
            <a:endParaRPr b="1" lang="en-US" sz="24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1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304920" y="228600"/>
            <a:ext cx="464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99"/>
                </a:solidFill>
                <a:latin typeface="Times New Roman"/>
                <a:ea typeface="创艺简细圆"/>
              </a:rPr>
              <a:t>说明顺序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28600" y="1676520"/>
            <a:ext cx="868680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ff"/>
                </a:solidFill>
                <a:latin typeface="创艺简细圆"/>
                <a:ea typeface="创艺简细圆"/>
              </a:rPr>
              <a:t>        </a:t>
            </a:r>
            <a:r>
              <a:rPr b="1" lang="zh-CN" sz="4200" spc="-1" strike="noStrike">
                <a:solidFill>
                  <a:srgbClr val="6600ff"/>
                </a:solidFill>
                <a:latin typeface="创艺简细圆"/>
                <a:ea typeface="创艺简细圆"/>
              </a:rPr>
              <a:t>本文的说明顺序是按照故宫的空间顺序来安排说明顺序的。也就是说作者的参观路线，是按照故宫的建筑顺序来参观的，故宫的建筑顺序是由南向北，作者的参观路线基本上也是沿着由南向北的中轴线前进的。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girl_h"/>
          <p:cNvPicPr/>
          <p:nvPr/>
        </p:nvPicPr>
        <p:blipFill>
          <a:blip r:embed="rId2"/>
          <a:stretch/>
        </p:blipFill>
        <p:spPr>
          <a:xfrm>
            <a:off x="4267080" y="228600"/>
            <a:ext cx="46483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2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304920" y="1752480"/>
            <a:ext cx="85341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6600ff"/>
                </a:solidFill>
                <a:latin typeface="创艺简细圆"/>
                <a:ea typeface="创艺简细圆"/>
              </a:rPr>
              <a:t>第一部分（第</a:t>
            </a:r>
            <a:r>
              <a:rPr b="1" lang="en-US" sz="4100" spc="-1" strike="noStrike">
                <a:solidFill>
                  <a:srgbClr val="6600ff"/>
                </a:solidFill>
                <a:latin typeface="创艺简细圆"/>
                <a:ea typeface="创艺简细圆"/>
              </a:rPr>
              <a:t>1</a:t>
            </a:r>
            <a:r>
              <a:rPr b="1" lang="zh-CN" sz="4100" spc="-1" strike="noStrike">
                <a:solidFill>
                  <a:srgbClr val="6600ff"/>
                </a:solidFill>
                <a:latin typeface="创艺简细圆"/>
                <a:ea typeface="创艺简细圆"/>
              </a:rPr>
              <a:t>段）：概括介绍故宫博物院。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6600ff"/>
                </a:solidFill>
                <a:latin typeface="创艺简细圆"/>
                <a:ea typeface="创艺简细圆"/>
              </a:rPr>
              <a:t>第二部分（第</a:t>
            </a:r>
            <a:r>
              <a:rPr b="1" lang="en-US" sz="4100" spc="-1" strike="noStrike">
                <a:solidFill>
                  <a:srgbClr val="6600ff"/>
                </a:solidFill>
                <a:latin typeface="创艺简细圆"/>
                <a:ea typeface="创艺简细圆"/>
              </a:rPr>
              <a:t>2~15</a:t>
            </a:r>
            <a:r>
              <a:rPr b="1" lang="zh-CN" sz="4100" spc="-1" strike="noStrike">
                <a:solidFill>
                  <a:srgbClr val="6600ff"/>
                </a:solidFill>
                <a:latin typeface="创艺简细圆"/>
                <a:ea typeface="创艺简细圆"/>
              </a:rPr>
              <a:t>段）：具体介绍故宫各宫殿的位置和功能。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6600ff"/>
                </a:solidFill>
                <a:latin typeface="创艺简细圆"/>
                <a:ea typeface="创艺简细圆"/>
              </a:rPr>
              <a:t>第三部分（第</a:t>
            </a:r>
            <a:r>
              <a:rPr b="1" lang="en-US" sz="4100" spc="-1" strike="noStrike">
                <a:solidFill>
                  <a:srgbClr val="6600ff"/>
                </a:solidFill>
                <a:latin typeface="创艺简细圆"/>
                <a:ea typeface="创艺简细圆"/>
              </a:rPr>
              <a:t>16</a:t>
            </a:r>
            <a:r>
              <a:rPr b="1" lang="zh-CN" sz="4100" spc="-1" strike="noStrike">
                <a:solidFill>
                  <a:srgbClr val="6600ff"/>
                </a:solidFill>
                <a:latin typeface="创艺简细圆"/>
                <a:ea typeface="创艺简细圆"/>
              </a:rPr>
              <a:t>段）：介绍景山并记述从景山回望故宫全貌之所见。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girl_178"/>
          <p:cNvPicPr/>
          <p:nvPr/>
        </p:nvPicPr>
        <p:blipFill>
          <a:blip r:embed="rId2"/>
          <a:stretch/>
        </p:blipFill>
        <p:spPr>
          <a:xfrm>
            <a:off x="5257800" y="152280"/>
            <a:ext cx="2666880" cy="1684440"/>
          </a:xfrm>
          <a:prstGeom prst="rect">
            <a:avLst/>
          </a:prstGeom>
          <a:ln w="0">
            <a:noFill/>
          </a:ln>
        </p:spPr>
      </p:pic>
      <p:sp>
        <p:nvSpPr>
          <p:cNvPr id="63" name="WordArt 6"/>
          <p:cNvSpPr txBox="1"/>
          <p:nvPr/>
        </p:nvSpPr>
        <p:spPr>
          <a:xfrm>
            <a:off x="324000" y="476280"/>
            <a:ext cx="295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行楷"/>
              </a:rPr>
              <a:t>文章结构：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背景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755640" y="765000"/>
            <a:ext cx="78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宋体"/>
                <a:ea typeface="创艺简细圆"/>
              </a:rPr>
              <a:t> </a:t>
            </a:r>
            <a:r>
              <a:rPr b="1" lang="en-US" sz="3600" spc="-1" strike="noStrike">
                <a:solidFill>
                  <a:srgbClr val="9933ff"/>
                </a:solidFill>
                <a:latin typeface="创艺简细圆"/>
                <a:ea typeface="创艺简细圆"/>
              </a:rPr>
              <a:t>        </a:t>
            </a:r>
            <a:r>
              <a:rPr b="1" lang="zh-CN" sz="3600" spc="-1" strike="noStrike">
                <a:solidFill>
                  <a:srgbClr val="9933ff"/>
                </a:solidFill>
                <a:latin typeface="创艺简细圆"/>
                <a:ea typeface="创艺简细圆"/>
              </a:rPr>
              <a:t>全文按照游览路线参观，详略得当地介绍了故宫的主要建筑及其布局、功用。其中通过介绍故宫宏大的规模、统一的布局、壮丽的形体、精巧的建筑、华美的装饰，突出体现我国古代建筑艺术的优良传统和独特风格，显示了古代劳动人民的才智和巨大的劳动成果，使每一位读者对祖国的传统建筑艺术形成自豪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0" y="189000"/>
            <a:ext cx="27367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彩云"/>
              </a:rPr>
              <a:t>中心思想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67" name="Picture 9" descr="a4kb_e"/>
          <p:cNvPicPr/>
          <p:nvPr/>
        </p:nvPicPr>
        <p:blipFill>
          <a:blip r:embed="rId2"/>
          <a:stretch/>
        </p:blipFill>
        <p:spPr>
          <a:xfrm>
            <a:off x="6156360" y="5445000"/>
            <a:ext cx="25527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21"/>
          <p:cNvPicPr/>
          <p:nvPr/>
        </p:nvPicPr>
        <p:blipFill>
          <a:blip r:embed="rId1"/>
          <a:stretch/>
        </p:blipFill>
        <p:spPr>
          <a:xfrm>
            <a:off x="611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228600" y="1916280"/>
            <a:ext cx="89154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创艺简细圆"/>
                <a:ea typeface="创艺简细圆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创艺简细圆"/>
                <a:ea typeface="创艺简细圆"/>
              </a:rPr>
              <a:t>按照纵贯紫禁城的中轴线，以天安门为起点，自南向北，先中间，后两侧，逐层介绍，方位明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创艺简细圆"/>
                <a:ea typeface="创艺简细圆"/>
              </a:rPr>
              <a:t>2</a:t>
            </a:r>
            <a:r>
              <a:rPr b="1" lang="zh-CN" sz="2800" spc="-1" strike="noStrike">
                <a:solidFill>
                  <a:srgbClr val="9933ff"/>
                </a:solidFill>
                <a:latin typeface="创艺简细圆"/>
                <a:ea typeface="创艺简细圆"/>
              </a:rPr>
              <a:t>、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创艺简细圆"/>
              </a:rPr>
              <a:t>先总写后分写，或先分写后总写，既展示总体布局，又突出局部特点，条理分明</a:t>
            </a:r>
            <a:r>
              <a:rPr b="0" lang="zh-CN" sz="2800" spc="-1" strike="noStrike">
                <a:solidFill>
                  <a:srgbClr val="9933ff"/>
                </a:solidFill>
                <a:latin typeface="Times New Roman"/>
                <a:ea typeface="创艺简细圆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Times New Roman"/>
                <a:ea typeface="创艺简细圆"/>
              </a:rPr>
              <a:t>3</a:t>
            </a:r>
            <a:r>
              <a:rPr b="0" lang="zh-CN" sz="2800" spc="-1" strike="noStrike">
                <a:solidFill>
                  <a:srgbClr val="9933ff"/>
                </a:solidFill>
                <a:latin typeface="Times New Roman"/>
                <a:ea typeface="创艺简细圆"/>
              </a:rPr>
              <a:t>、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创艺简细圆"/>
              </a:rPr>
              <a:t>先外后内，先介绍宫殿的外部结构、装饰，后介绍内部陈设布置，层次清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由巨到细，从大处落笔，渐入精微，井然有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2195640" y="333360"/>
            <a:ext cx="373356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写作特色（一）：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71" name="Picture 8" descr="sf_13_2004515165455"/>
          <p:cNvPicPr/>
          <p:nvPr/>
        </p:nvPicPr>
        <p:blipFill>
          <a:blip r:embed="rId2"/>
          <a:stretch/>
        </p:blipFill>
        <p:spPr>
          <a:xfrm>
            <a:off x="179280" y="333360"/>
            <a:ext cx="2000520" cy="1428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user50905"/>
          <p:cNvPicPr/>
          <p:nvPr/>
        </p:nvPicPr>
        <p:blipFill>
          <a:blip r:embed="rId3"/>
          <a:stretch/>
        </p:blipFill>
        <p:spPr>
          <a:xfrm>
            <a:off x="7812000" y="5913360"/>
            <a:ext cx="151128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12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52280" y="152280"/>
            <a:ext cx="5181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33ff"/>
                </a:solidFill>
                <a:latin typeface="Times New Roman"/>
                <a:ea typeface="创艺简细圆"/>
              </a:rPr>
              <a:t>课后习题解答：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28600" y="1403280"/>
            <a:ext cx="8763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创艺简细圆"/>
              </a:rPr>
              <a:t>一、设题意图：通过绘图直观再现课文所介绍的故宫的主体布局，整体把握课文的内容，并进一步明确课文采用的说明顺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创艺简细圆"/>
              </a:rPr>
              <a:t>答：本文说明顺序是按照故宫的空间顺序来安排说明顺序的。也就是说作者的参观路线，是按照故宫的建筑顺序来参观的。故宫的建筑顺序是由南到北，作者的参观路线基本上也是沿着由南到北的中轴线前进的，同时将路线上的建筑物予以分析、综合，分成几个部分，加以说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8" descr="54347_200481416353098029"/>
          <p:cNvPicPr/>
          <p:nvPr/>
        </p:nvPicPr>
        <p:blipFill>
          <a:blip r:embed="rId2"/>
          <a:stretch/>
        </p:blipFill>
        <p:spPr>
          <a:xfrm>
            <a:off x="6877080" y="260280"/>
            <a:ext cx="1028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5T07:48:45Z</dcterms:created>
  <dc:creator> </dc:creator>
  <dc:description>  </dc:description>
  <dc:language>en-US</dc:language>
  <cp:lastModifiedBy>wk01</cp:lastModifiedBy>
  <dcterms:modified xsi:type="dcterms:W3CDTF">2012-08-06T03:10:45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81</vt:lpwstr>
  </property>
</Properties>
</file>