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27B-3D5E-4DED-9689-77045BCA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D64-3D08-4411-9536-E919217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3A8-4096-463A-8EAC-81B35BE1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699-08E8-4FE1-8FDD-1B5C6166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C32-26BE-4CE4-A5FD-D39C282B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DA14-3719-40CE-B216-13D4942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A9A-6DD3-4D35-80A6-96C61B0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2B5-1A08-41D1-83FD-93060DE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A53-92A3-41FC-8EC6-1CADDFC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7B1C-4919-429F-BD53-F4C33A6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41FA-5779-42F2-A678-340AF6C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01D-DA8D-478B-BA18-0AB7F7EF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7AE7-719F-4A15-A317-8205553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E21C-CA58-4EA3-84C7-325D304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D8CB-578E-416C-B16B-E8C4968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6E72-182E-47D2-B031-76991CE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811C-B611-4D68-B62A-BA93EFE8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26B4-BB91-4B4A-A3FE-3B8BD0F3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B0D0-A912-4B7D-B8A7-72984BE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D701-756F-421F-B3BC-DFCD167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1514-F65A-4176-936B-37ED7F9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6B69-A474-4617-9EC1-136AE2E0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03F-9767-49FD-8CD4-65AE1BF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4702-2B4F-4005-9954-2F2AD55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ECBC-CB65-402A-97C9-AAE0680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2C35-D064-494B-BDC1-539F236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245CD-E543-4C93-B4F2-5FC374B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B1B7-B1EA-45E6-94C4-BE460A7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8D64-9D2F-4141-AB46-70A5FF32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B7AC-FAFC-4732-98DD-470BD405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D78B-F9C3-4A54-9B7C-F7BBCCC6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CEC4-97C9-4989-A48F-3C3FC590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BC27-22C2-4C67-85BA-85DD17B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D83-8938-417E-B626-77AD2BCC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2573-95BA-4737-BBD9-9A39C9CD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D847-2B68-4797-BDC7-7F02593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3AC4-19B0-4406-9807-3106C22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B895-E24E-4175-8FF5-3870A4D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1BC9-A82D-456A-8B31-14E882B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746A-C98C-458B-8741-B7DDE52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0634-098D-435B-8D0C-F341FF4A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AED3-2689-44C4-BABC-3A7F8315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95DC-B456-4B2A-AEDC-85EBA13F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B881-10DB-4D8E-AF69-FE1F2B63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5C0-DB59-442A-953F-420DA44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112D-8799-4FF4-84AF-DAE632DA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C829-C454-42CF-ABA5-A8B38E4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38115-3AA7-4B62-85E3-A9478EED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0721-A963-48DD-A0CF-A8F9C2C8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D89FF-045C-42A1-A109-CC8C1892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59DD-6A44-4577-B7DF-B385725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A386-58BC-460B-8929-6CA6357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E85D-5D37-4528-BC87-348AADE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AC0F-95BC-4E84-B149-2791D0E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DB6E-5AA7-428B-8108-E0492B94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D6F-B7BB-4795-AEFD-F0EB4F0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AEA0F-02DC-4F0A-BBEF-5A0059D3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708B4-771D-468A-9F43-6770BE27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2AFB-0371-4523-83F4-3BFAF0EA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CCD8-24E3-46BD-AC92-D636CFB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F776-4F63-42E2-B61D-DA58A83B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995E-74B0-4363-BC01-D1A30C9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E9B9-111E-469A-BE71-7699F219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8529-DDA5-4A71-A0C2-51AF509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0889-AA1C-4B06-B941-35F05BA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CD1A-EC01-46B0-8C17-BA0877B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FCD-DBE2-497D-B07C-BC912E34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88CC-ADC0-4968-854C-A0B4613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1EB0-D7F0-406A-A876-C6872D14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86AB-C3E2-431F-8380-2AFBAC64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25C-F728-474B-A1E5-1A56574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F29-D237-4B11-B473-8905E64D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9AD0-5E2F-411C-9E41-C238E14A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BB27-82A7-4903-BE35-277C2D507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82B9-77E8-4652-A130-839952D4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557-1DA6-4F57-853A-D257A6F00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A7E5-A7F6-414E-8A65-67CA8D1E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143C-027C-4359-9273-9DF15990E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332000" y="189000"/>
            <a:ext cx="56880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乐府民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47640" y="1916280"/>
            <a:ext cx="158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再、又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125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28522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3429000"/>
            <a:ext cx="7672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阵唧唧声，又一阵唧唧声，木兰正对着门织布。听不到织布机发出的声音，只听到女儿叹气的声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198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：     当：户：  闻：    惟：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24360" y="1844640"/>
            <a:ext cx="129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听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67640" y="1844640"/>
            <a:ext cx="129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1844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面对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4360" y="765000"/>
            <a:ext cx="403200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疏通字词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00000" y="-849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所思：                 愿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20606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女儿所想的是什么，问女儿所思念的是什么。女儿也没有想什么，女儿也没有思念什么。昨天晚上看到军中的文告，皇上正大规模的征兵。征兵的名册很多卷，每卷都有父亲的名字。我父亲（老了）没有大儿子（接替），木兰我没有大哥（去参军），我愿意为此去买鞍马，从此以后替父亲去出征。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0036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所思何”的倒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148428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476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愿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1052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71640" y="332280"/>
            <a:ext cx="7200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辞：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去：  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但：旦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000" y="3520080"/>
            <a:ext cx="8101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东边的集市买来骏马，到西边的集市买来马鞍和马鞍下的垫子，去南边的集市买来马嚼子和缰绳，到北边的集市买来长长的马鞭。早晨辞别爹妈离开，晚上投宿在黄河边上，听不到爹妈呼唤女儿的声音，只听到黄河流水的声音。早晨告别黄河离开，晚上就到了黑山头，听不到爹妈呼唤女儿的声音，只听到燕山胡人的战马叫的声音。</a:t>
            </a:r>
            <a:r>
              <a:rPr b="1" lang="en-US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1484280"/>
            <a:ext cx="1687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8000" y="858960"/>
            <a:ext cx="189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告别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858960"/>
            <a:ext cx="200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离开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51640" y="858960"/>
            <a:ext cx="1368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826920" y="252000"/>
            <a:ext cx="8064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：    寒光：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百战死，壮士十年归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160" y="357336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远万里，奔赴战场。像飞一样跨过一道道的关，越过一座座的山。北方的寒气传送着打更的声音，寒冷的月光照在将士的铠甲上。将士们身经百战九死一生，十年后才回来。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92360" y="907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11520" y="206064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互文。主语是将军和壮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2924280"/>
            <a:ext cx="17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95640" y="836640"/>
            <a:ext cx="32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寒冷的月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928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勋：    强：    不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欲：          愿：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4298760"/>
            <a:ext cx="828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来拜见皇上，皇上坐在举行大典的朝堂上。给（我）记了很多次功，赏赐的财物很多很多。皇上问（我）要求什么，木兰不愿意当尚书省的官；希望骑上千里马，送我回到故乡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9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27640" y="1844640"/>
            <a:ext cx="143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1844640"/>
            <a:ext cx="1727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想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95280" y="3324600"/>
            <a:ext cx="842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爹妈听到女儿回家来，互相扶持着到外城来迎接；姐姐听到妹妹回来，对着门梳装打扮；小弟弟听到姐姐回来，霍霍地磨刀准备杀猪宰羊。打开我东面阁楼的门，坐在我西边阁楼的床上，脱下我身上的战袍，穿上我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以前的</a:t>
            </a:r>
            <a:r>
              <a:rPr b="1" lang="zh-CN" sz="35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衣裳，对着窗户梳理像云那样的鬓发，对着镜子贴上额头的花黄。走出门看看同伍的士兵，他们都吃惊忙乱得不得了：在一起打了十二年的仗，还不知道木兰是个女孩子。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92360" y="476280"/>
            <a:ext cx="19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0"/>
            <a:ext cx="7127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六节： 帖：       郭：火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扶将    著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84720" y="-1080"/>
            <a:ext cx="273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贴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-1080"/>
            <a:ext cx="12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476360" y="5284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七节： 走：    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扑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迷离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2852280"/>
            <a:ext cx="806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提着兔子的耳朵悬在半空时，）雄兔两只前脚时时动弹，雌兔两只眼睛时常眯着（所以容易辨别），雄雌两只兔子一起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并排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着跑，怎么能辨别出哪只是雄兔，哪只是雌兔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4500720" y="404280"/>
            <a:ext cx="1079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0720" y="404280"/>
            <a:ext cx="2519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，哪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066680" y="609480"/>
            <a:ext cx="5105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唧唧复唧唧，木兰当户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闻机杼声，惟闻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女叹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女何所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女何所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女亦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所思，女亦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所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昨夜见军帖，可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点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军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十二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卷卷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爷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阿爷无大儿，木兰无长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市鞍马，从此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替爷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76212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68580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语调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语速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体现忧心忡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2860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2133720"/>
            <a:ext cx="2743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问者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急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答者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沉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36576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24480" y="297180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语速语调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渐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10552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502920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沉思到下定决心由轻缓到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重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62120" y="514440"/>
            <a:ext cx="5249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东市买骏马，西市买鞍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南市买辔头，北市买长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辞爷娘去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宿黄河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不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爷娘唤女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但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黄河流水鸣溅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辞黄河去，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至黑山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不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爷娘唤女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隶书"/>
              </a:rPr>
              <a:t>但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燕山胡骑鸣啾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685800"/>
            <a:ext cx="2895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轻缓到重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既紧张又有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2349360"/>
            <a:ext cx="30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旦、暮”重读，上下句之间要读得似断实连。“不闻”“但闻”重读，两句要前轻后重，读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亲人的眷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情，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悲壮豪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2133720"/>
            <a:ext cx="457200" cy="3809880"/>
          </a:xfrm>
          <a:custGeom>
            <a:avLst/>
            <a:gdLst>
              <a:gd name="textAreaLeft" fmla="*/ 0 w 457200"/>
              <a:gd name="textAreaRight" fmla="*/ 164880 w 4572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80000" y="8366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838080" y="990720"/>
            <a:ext cx="6019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万里赴戎机，关山度若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朔气传金柝，寒光照铁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将军百战死，壮士十年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归来见天子，天子坐明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策勋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十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转，赏赐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百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可汗问所欲，木兰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隶书"/>
              </a:rPr>
              <a:t>不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尚书郎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千里足，送儿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还故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1320" y="106668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48520" y="1066680"/>
            <a:ext cx="2361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急促高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悲凉雄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28464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3352680"/>
            <a:ext cx="2133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赞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功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从容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辞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渴望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还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333360"/>
            <a:ext cx="381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里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戎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山度若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朔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金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寒光照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铁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百战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壮士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十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16360" y="476280"/>
            <a:ext cx="59767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  矫健的雄姿、行军的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5120" y="1844640"/>
            <a:ext cx="5457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  边塞军营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艰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斗生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59280" y="3500280"/>
            <a:ext cx="57085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争旷日持久，战斗激烈悲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43000" y="838080"/>
            <a:ext cx="5373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爷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闻女来，出郭相扶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阿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闻妹来，当户理红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小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闻姊来，磨刀霍霍向猪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东阁门，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西阁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战时袍，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旧时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窗理云鬓，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镜帖花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出门看火伴，火伴皆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惊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同行十二年，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不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木兰是女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91440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106668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活泼欢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前高后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29718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28195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动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要读得响亮，极力表现轻松欢乐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47242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464832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惊叹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赞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充满喜剧氛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0" y="2060640"/>
            <a:ext cx="6337080" cy="4292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1916280"/>
            <a:ext cx="21337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代父从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860640"/>
            <a:ext cx="21333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征战沙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6021360"/>
            <a:ext cx="223200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建功受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3716280"/>
            <a:ext cx="20872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辞官回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40464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小标题的形式概括全诗内容，力求文字简洁、工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cc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9640" y="476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隶书"/>
              </a:rPr>
              <a:t>诗中是如何安排详略的？为什么要如此安排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4360" y="1268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替父出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1989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征战沙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5640" y="2637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凯旋受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3284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辞官回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71640" y="134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详 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328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略 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2565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详 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3284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——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详 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59280" y="162864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48360" y="1557360"/>
            <a:ext cx="2952720" cy="1068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详写 女儿情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略写 英雄气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4005360"/>
            <a:ext cx="864072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因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突出木兰孝敬父母、深明大义、勇担重任的性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略写战争残酷、详写回乡团聚，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隐含了人们对美好生活的向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539640" y="836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问女何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思，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</a:rPr>
              <a:t>问女何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3280" y="184464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复沓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306864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女亦无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女亦无所回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旦辞爷娘去，暮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黄河边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闻爷娘唤女声，但闻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黄河流水鸣溅溅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旦辞黄河去，暮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黑山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闻爷娘唤女声，但闻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燕山胡骑鸣啾啾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9640" y="83664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、军书十二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卷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卷卷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有爷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198900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顶真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3500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壮士十年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归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归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来见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天子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天子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坐明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出门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火伴，火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皆惊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艺术特色欣赏</a:t>
            </a:r>
            <a:r>
              <a:rPr b="1" i="1" lang="zh-CN" sz="2800" spc="-1" strike="noStrike">
                <a:solidFill>
                  <a:srgbClr val="ff00ff"/>
                </a:solidFill>
                <a:latin typeface="Times New Roman"/>
              </a:rPr>
              <a:t>语言：多种修辞手法的运用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问女何所思，问女何所忆…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复沓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万里赴戎机，关山度若飞。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夸张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朔气传金柝，寒光照铁衣。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对偶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将军百战死，壮士十年归。归来见天子，天子坐明堂。　　　　　　　　　　　　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互文、顶真或者叫联珠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雄兔脚扑朔，雌兔眼迷离。　　　　　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对偶、比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东市买骏马，西市买鞍鞯……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（排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5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7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8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209680" y="45720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堂讨论</a:t>
            </a:r>
            <a:endParaRPr b="1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98900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千多年来，木兰的形象一直深受人们喜爱，原因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2530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参考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中华民族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崇尚忠孝的美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木兰代父从军，既是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孝，也是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忠，因此赢得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尊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木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不恋功名、洁身自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节操，功成身退，不改劳动人民本色，是人民心中美好品德的化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木兰敢于打破传统，以女儿之身从军数年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巾帼不让须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让人刮目相看，真心敬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木兰上马有男儿的勇武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阳刚之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，下马有女儿的娇柔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阴柔之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，有巨大的持久的魅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19120" y="1413000"/>
            <a:ext cx="808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844640"/>
            <a:ext cx="75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本诗通过对木兰代父从军，沙场征战和辞官还乡的叙述，塑造了木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爱家、爱国，不慕名利，深明大义的巾帼英雄的形象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，集中体现了中华民族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勤劳、善良、机智、勇敢、刚毅、淳朴的优秀 品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3480" y="765000"/>
            <a:ext cx="23241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主题归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596360" y="6469200"/>
            <a:ext cx="1547640" cy="38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3244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《木兰诗》，完成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对字词理解正确的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策勋十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勋级每升一级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回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转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赏赐百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多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大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有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鞍马（　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市场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买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集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驰千里足（　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希望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愿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能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39640" y="6093000"/>
            <a:ext cx="63248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①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r>
              <a:rPr b="0" lang="zh-CN" sz="3600" spc="-1" strike="noStrike">
                <a:solidFill>
                  <a:srgbClr val="ff0066"/>
                </a:solidFill>
                <a:latin typeface="Tahoma"/>
              </a:rPr>
              <a:t>；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②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； ③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； ④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解释红色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昨夜见军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     对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万里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戎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关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若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策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二转，赏赐百千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木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尚书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出门看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雄兔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扑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雌兔眼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迷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7840" y="5156280"/>
            <a:ext cx="82278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扑朔迷离：形容事情错综复杂，不易看清真相。（成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出对“将军百战死，壮士十年归”翻译正确的一项是（　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将军和壮士从军十年，经历了千百战斗。有的死了，有的胜利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将军和壮士战斗死去了，壮士从军十年胜利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将军在千百次战斗中死去了，木兰却在十年后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从军十年，经历了千百次战斗，将军死去了，壮士归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1143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中的“不闻……但闻……”分析正确的一项是（　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对比手法，反映战争紧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反复手法，表达了木兰对亲人的深切怀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对比手法，表达了木兰对亲人的深刻思念，极大地丰富了女英雄的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采用反复手法，表达了木兰与亲人分离极其悲痛的心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43280" y="1052640"/>
            <a:ext cx="990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732720" y="1484280"/>
            <a:ext cx="914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513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“昨夜见军帖，可汗大点兵”一句中的“大”字的理解准确的一项是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表明了可汗的积极性很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“大”就是大规模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显现战争紧张、频繁、涉及范围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意思是非常、十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cc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2184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下列句子修辞手法依次判断正确的一项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闻机杼声，惟闻女叹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爷无大儿，木兰无长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市买骏马，西市买鞍鞯，南市买辔头，北市买长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旦辞爷娘去，暮宿黄河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比喻　对偶　反复　夸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对偶　对偶　排比　对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借代　反复　排比　对偶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对偶　反复　对偶　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763640" y="907560"/>
            <a:ext cx="96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“但闻黄河流水鸣溅溅”“但闻燕山胡骑鸣啾啾”两句理解正确的一项是（　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写征程的遥远和军情的急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写战争到来的悲凉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以宿营地空旷寂凉烘托木兰离家思亲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写行军旅途的欢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372360" y="1197000"/>
            <a:ext cx="914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下列语句停顿恰当的一项是（　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不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爷娘唤女声，但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山胡骑鸣啾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双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傍地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辨我是雄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万里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戎机，关山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爷娘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来，出郭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扶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7236000" y="980640"/>
            <a:ext cx="8078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835280" y="333360"/>
            <a:ext cx="5473440" cy="1312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穆桂英挂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宋年间，宋辽征战，杨家将奉旨统领宋军保家卫国。杨六郎、柴郡主的独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杨宗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得宝物降龙木前去穆柯寨，与代父出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穆桂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狭路相逢。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疆战事吃紧，六郎被陷敌营，多亏穆桂英用计相救方转危为安。六郎决定让穆桂英挂帅统领三军，众将领却不以为然，此时佘太君从孙媳身上看到了自己年轻时的影子，她力排众议支持六郎的决定。大帐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佘太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穆桂英跟宋军将领们展开较量，桂英被逼应战，并且战胜了众将，掌管了元帅大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穆桂英率宋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破天门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战胜了辽军，为两国百姓赢得了和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4824360" cy="2897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752720" cy="2930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26920" y="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花  木  兰  简  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30970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316400" cy="64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娘子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中国工农红军第二独立式女子军特务连，是土地革命战争时期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冯白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领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琼崖苏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红三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属的一支武装力量。该武装绝大多数来自于农村青年妇女，有的来自农民赤卫队，有的是共产党员、共青团员。该部队旗帜鲜明，作战勇敢，曾在第二次琼崖苏区反围剿中担任掩护任务。其事迹已于建国初期被改编成芭蕾舞剧而被全国群众所熟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4796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176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3384720" cy="50533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708360" y="18900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近代革命家、作家。浙江绍兴人，别号鉴湖女侠。庚子事变之后思想剧变，决计献身革命。光绪三十年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1904)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赴日留学，次年七月，加入同盟会。她经常登坛演讲，鼓吹革命，又学习射击和制造炸药，准备日后进行武装斗争，成为激进的革命活动家。 后参与组织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光复军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"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准备与徐锡麟同时在安徽与浙江起义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日，徐锡麟在安庆先期发动，失败牺牲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日，秋瑾在绍兴被捕，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日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从容就义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1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，孙中山曾到杭州秋瑾墓致祭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题赠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巾帼英雄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匾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" y="551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秋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549360"/>
            <a:ext cx="8713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花木兰其人</a:t>
            </a:r>
            <a:br>
              <a:rPr sz="40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花木兰是北朝时河南省虞城县营廓人。女扮男装，代父从军，屡立战功。凯旋而归，帝封官嘉奖，木兰不受，辞官回乡。唐初，追封为孝烈将军。人们为纪念她，于唐代修建花木兰祠，祠内现存元代立《孝烈将军祠像辨正记》和清立《孝烈将军祠辨误正名记》石碑，详细记载了花木兰的身世、籍贯、业绩及历代修祠情况。近年来，又修复了木兰祠大殿等一大批景点。花木兰祠已收入《中国名胜词典》。 </a:t>
            </a:r>
            <a:br>
              <a:rPr sz="3200"/>
            </a:br>
            <a:r>
              <a:rPr b="1" lang="zh-CN" sz="3200" spc="-1" strike="noStrike">
                <a:solidFill>
                  <a:srgbClr val="99ff33"/>
                </a:solidFill>
                <a:latin typeface="Times New Roman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木兰诗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乐府诗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30520" cy="4680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4360" y="1484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木兰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南北朝时期北朝民歌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代表。选自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郭茂倩编的《乐府诗集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属于叙事诗，叙述了古代女英雄木兰代父从军故事，刻画出木兰这个古代的巾帼英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76960" y="1125360"/>
            <a:ext cx="3516120" cy="47516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19640" y="-36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乐      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907920"/>
            <a:ext cx="50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乐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 原来指古代官府设立的音乐机构，它的任务是除了文人诗歌和谱配曲外，还要广泛采集民间歌谣。它还指一种音乐性的诗体，到了南北朝乐府已经由音乐机构变为了诗体名称。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《木兰诗》与汉乐府中的长篇叙事诗《孔雀东南飞》同被誉为我国诗歌史上的“双璧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64328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084720" y="6453360"/>
            <a:ext cx="358920" cy="404640"/>
          </a:xfrm>
          <a:prstGeom prst="upArrow">
            <a:avLst>
              <a:gd name="adj1" fmla="val 50000"/>
              <a:gd name="adj2" fmla="val 2818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76800" y="211788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45760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71640" y="0"/>
            <a:ext cx="5486400" cy="1782720"/>
            <a:chOff x="971640" y="0"/>
            <a:chExt cx="5486400" cy="178272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971640" y="0"/>
              <a:ext cx="548640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581120" y="685800"/>
              <a:ext cx="4648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读准下列加点字的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00000" y="2060640"/>
            <a:ext cx="13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机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565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31417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鞍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37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辔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4365720"/>
            <a:ext cx="14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燕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5013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胡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戎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朔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著我旧时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傍地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2276640"/>
            <a:ext cx="0" cy="32763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627280" y="2133720"/>
            <a:ext cx="5867280" cy="3355200"/>
            <a:chOff x="2627280" y="2133720"/>
            <a:chExt cx="5867280" cy="3355200"/>
          </a:xfrm>
        </p:grpSpPr>
        <p:sp>
          <p:nvSpPr>
            <p:cNvPr id="285" name=""/>
            <p:cNvSpPr/>
            <p:nvPr/>
          </p:nvSpPr>
          <p:spPr>
            <a:xfrm>
              <a:off x="262728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zh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27280" y="25909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kèhá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27280" y="3124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jiā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27280" y="3733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pè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7280" y="441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ā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7280" y="5029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j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70680" y="4953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bà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70680" y="42674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zhu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70680" y="3733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zhu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ā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70680" y="3200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tu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70680" y="266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shu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70680" y="2133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ró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476360" y="306864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1523880" y="3657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116000" y="422100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1187280" y="48690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547640" y="55897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5181480" y="5334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5181480" y="4800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1"/>
          <a:stretch/>
        </p:blipFill>
        <p:spPr>
          <a:xfrm>
            <a:off x="5486400" y="4114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5486400" y="3581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3"/>
          <a:stretch/>
        </p:blipFill>
        <p:spPr>
          <a:xfrm>
            <a:off x="5486400" y="3581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4"/>
          <a:stretch/>
        </p:blipFill>
        <p:spPr>
          <a:xfrm>
            <a:off x="5181480" y="3048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5"/>
          <a:stretch/>
        </p:blipFill>
        <p:spPr>
          <a:xfrm>
            <a:off x="5181480" y="25146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6"/>
          <a:stretch/>
        </p:blipFill>
        <p:spPr>
          <a:xfrm>
            <a:off x="-303120" y="0"/>
            <a:ext cx="25891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838080"/>
            <a:ext cx="9144000" cy="521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唧唧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杼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军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帖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可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鞍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帖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花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头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霍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鸣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溅溅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燕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山       胡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鸣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啾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气       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戎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妆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云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鬓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十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转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百千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6160" y="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请读准加点字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22640" y="836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8720" y="83664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zh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22680" y="907920"/>
            <a:ext cx="114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tiě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3800" y="170028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kè h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2280" y="170028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ān jiā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94320" y="234936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jiā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5300640"/>
            <a:ext cx="16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bà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60720" y="234936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è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03040" y="314172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yā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7080" y="39337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ró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89080" y="386064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sh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97080" y="38606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t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9240" y="4581360"/>
            <a:ext cx="213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zhuā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9440" y="465300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zhu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67640" y="162864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ti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95640" y="3141720"/>
            <a:ext cx="11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j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40360" y="2492280"/>
            <a:ext cx="12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94840" y="321300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ji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20000" y="4653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bì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51280" y="5300640"/>
            <a:ext cx="20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zhu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7600" y="5373720"/>
            <a:ext cx="19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qiá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06:41:31Z</dcterms:created>
  <dc:creator>语文大师 xiexingcun.com</dc:creator>
  <dc:description>语文大师 xiexingcun.com</dc:description>
  <dc:language>en-US</dc:language>
  <cp:lastModifiedBy>lenovo</cp:lastModifiedBy>
  <dcterms:modified xsi:type="dcterms:W3CDTF">2014-09-17T10:07:17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