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9.png" ContentType="image/png"/>
  <Override PartName="/ppt/media/image17.png" ContentType="image/png"/>
  <Override PartName="/ppt/media/image27.png" ContentType="image/png"/>
  <Override PartName="/ppt/media/image26.wmf" ContentType="image/x-wmf"/>
  <Override PartName="/ppt/media/image3.jpeg" ContentType="image/jpeg"/>
  <Override PartName="/ppt/media/image15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1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6"/>
          <p:cNvPicPr/>
          <p:nvPr/>
        </p:nvPicPr>
        <p:blipFill>
          <a:blip r:embed="rId2"/>
          <a:stretch/>
        </p:blipFill>
        <p:spPr>
          <a:xfrm>
            <a:off x="7023240" y="-60480"/>
            <a:ext cx="2146320" cy="573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file:///../../&#30446;&#24405;.ppt" TargetMode="External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89160" y="1812960"/>
            <a:ext cx="485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单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1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邓稼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82640" y="1920960"/>
            <a:ext cx="47196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、读一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2640" y="2949480"/>
            <a:ext cx="7543800" cy="2850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开</a:t>
            </a:r>
            <a:r>
              <a:rPr b="1" lang="zh-CN" sz="2400" spc="-1" strike="noStrike" u="sng">
                <a:solidFill>
                  <a:srgbClr val="cc00cc"/>
                </a:solidFill>
                <a:uFillTx/>
                <a:latin typeface="宋体"/>
              </a:rPr>
              <a:t>拓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     难</a:t>
            </a:r>
            <a:r>
              <a:rPr b="1" lang="zh-CN" sz="2400" spc="-1" strike="noStrike" u="sng">
                <a:solidFill>
                  <a:srgbClr val="cc00cc"/>
                </a:solidFill>
                <a:uFillTx/>
                <a:latin typeface="宋体"/>
              </a:rPr>
              <a:t>堪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  </a:t>
            </a:r>
            <a:r>
              <a:rPr b="1" lang="zh-CN" sz="2400" spc="-1" strike="noStrike" u="sng">
                <a:solidFill>
                  <a:srgbClr val="cc00cc"/>
                </a:solidFill>
                <a:uFillTx/>
                <a:latin typeface="宋体"/>
              </a:rPr>
              <a:t>筹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划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00cc"/>
                </a:solidFill>
                <a:uFillTx/>
                <a:latin typeface="宋体"/>
              </a:rPr>
              <a:t>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红           </a:t>
            </a:r>
            <a:r>
              <a:rPr b="1" lang="zh-CN" sz="2400" spc="-1" strike="noStrike" u="sng">
                <a:solidFill>
                  <a:srgbClr val="cc00cc"/>
                </a:solidFill>
                <a:uFillTx/>
                <a:latin typeface="宋体"/>
              </a:rPr>
              <a:t>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友        </a:t>
            </a:r>
            <a:r>
              <a:rPr b="1" lang="zh-CN" sz="2400" spc="-1" strike="noStrike" u="sng">
                <a:solidFill>
                  <a:srgbClr val="cc00cc"/>
                </a:solidFill>
                <a:uFillTx/>
                <a:latin typeface="宋体"/>
              </a:rPr>
              <a:t>彷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   </a:t>
            </a:r>
            <a:r>
              <a:rPr b="1" lang="zh-CN" sz="2400" spc="-1" strike="noStrike" u="sng">
                <a:solidFill>
                  <a:srgbClr val="cc00cc"/>
                </a:solidFill>
                <a:uFillTx/>
                <a:latin typeface="宋体"/>
              </a:rPr>
              <a:t>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00cc"/>
                </a:solidFill>
                <a:uFillTx/>
                <a:latin typeface="宋体"/>
              </a:rPr>
              <a:t>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为人知       鞠躬尽</a:t>
            </a:r>
            <a:r>
              <a:rPr b="1" lang="zh-CN" sz="2400" spc="-1" strike="noStrike" u="sng">
                <a:solidFill>
                  <a:srgbClr val="cc00cc"/>
                </a:solidFill>
                <a:uFillTx/>
                <a:latin typeface="宋体"/>
              </a:rPr>
              <a:t>瘁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3600" y="2576520"/>
            <a:ext cx="12574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tu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2576520"/>
            <a:ext cx="11224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kā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34000" y="2576520"/>
            <a:ext cx="10764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chó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8880" y="3699000"/>
            <a:ext cx="722160" cy="825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yā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95640" y="3699000"/>
            <a:ext cx="8240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zh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2840" y="3710160"/>
            <a:ext cx="1839960" cy="825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pánɡ huán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640" y="4862520"/>
            <a:ext cx="11365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xiǎ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1280" y="4894200"/>
            <a:ext cx="8064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cu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2" descr="6_1105584051"/>
          <p:cNvPicPr/>
          <p:nvPr/>
        </p:nvPicPr>
        <p:blipFill>
          <a:blip r:embed="rId1"/>
          <a:srcRect l="81964" t="0" r="0" b="818"/>
          <a:stretch/>
        </p:blipFill>
        <p:spPr>
          <a:xfrm>
            <a:off x="7626240" y="2173320"/>
            <a:ext cx="1098720" cy="3800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64960" y="868320"/>
            <a:ext cx="2033640" cy="6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22160" y="7682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二、记一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9040" y="15559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可歌可泣：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9040" y="552132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鞠躬尽瘁，死而后已：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9040" y="2763720"/>
            <a:ext cx="20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家喻户晓：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9040" y="35290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锋芒毕露：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9040" y="474336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马革裹尸：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4560" y="1433520"/>
            <a:ext cx="64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值得歌颂，使人感动得流泪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悲壮的事迹使人非常感动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90880" y="5521320"/>
            <a:ext cx="52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小心谨慎，贡献出全部精力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74840" y="276372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家每户都知道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62240" y="3363840"/>
            <a:ext cx="64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锐气和才干全都表现出来。多形容人气盛逞强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1320" y="4743360"/>
            <a:ext cx="68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马皮把尸体包裹起来，指军人战死于战场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63720" y="1971720"/>
            <a:ext cx="66499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简单叙述六个部分的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理解文中的六个小标题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36480" y="5195880"/>
            <a:ext cx="7848720" cy="852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03120" y="885960"/>
            <a:ext cx="2033640" cy="6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944720" y="5416200"/>
            <a:ext cx="1538280" cy="4294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热情赞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44720" y="1488960"/>
            <a:ext cx="1479600" cy="4294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历史背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44720" y="2271600"/>
            <a:ext cx="1479600" cy="4294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生平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44720" y="3056040"/>
            <a:ext cx="1479600" cy="4294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人物对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44720" y="3838680"/>
            <a:ext cx="1538280" cy="4294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情震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4720" y="4622760"/>
            <a:ext cx="1538280" cy="4294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沙漠创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48240" y="1681200"/>
            <a:ext cx="507960" cy="4081320"/>
          </a:xfrm>
          <a:custGeom>
            <a:avLst/>
            <a:gdLst>
              <a:gd name="textAreaLeft" fmla="*/ 0 w 507960"/>
              <a:gd name="textAreaRight" fmla="*/ 183240 w 507960"/>
              <a:gd name="textAreaTop" fmla="*/ 106200 h 4081320"/>
              <a:gd name="textAreaBottom" fmla="*/ 3975120 h 408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235040" y="3701880"/>
            <a:ext cx="406440" cy="1800"/>
          </a:xfrm>
          <a:prstGeom prst="line">
            <a:avLst/>
          </a:prstGeom>
          <a:ln w="572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8520" y="1612800"/>
            <a:ext cx="1544760" cy="2258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宋体"/>
              </a:rPr>
              <a:t>记录邓稼先的生平事迹，歌颂他默默无闻，献身国防科研，为国家鞠躬尽瘁，死而后已的精神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5480" y="603360"/>
            <a:ext cx="665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简单叙述六个部分的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7440" y="2533680"/>
            <a:ext cx="952560" cy="2900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6_1105584051"/>
          <p:cNvPicPr/>
          <p:nvPr/>
        </p:nvPicPr>
        <p:blipFill>
          <a:blip r:embed="rId2"/>
          <a:srcRect l="81964" t="0" r="0" b="818"/>
          <a:stretch/>
        </p:blipFill>
        <p:spPr>
          <a:xfrm>
            <a:off x="7461360" y="1768320"/>
            <a:ext cx="1098360" cy="40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4720" y="15937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弹”元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0360" y="1682640"/>
            <a:ext cx="6500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明了邓稼先为中华民族的核武器事业所做出的贡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4720" y="311004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不能走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4720" y="4740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永恒的骄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09760" y="3143160"/>
            <a:ext cx="6456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象地展示出邓稼先那“碎首黄尘  燕然勒功”的一腔热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2760" y="4748040"/>
            <a:ext cx="6012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气势磅礴，对邓稼先一生做了最恰当的评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4720" y="806400"/>
            <a:ext cx="66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理解文中的六个小标题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60240" y="1927080"/>
            <a:ext cx="83203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课文写了哪些事例？表现了人物怎样的精神品质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写邓稼先之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为什么先概述我国近一百多年以来的历史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为什么要拿美国科学家奥本海默与邓稼先做比较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3480" y="1479600"/>
            <a:ext cx="29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、研读文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907920"/>
            <a:ext cx="1873440" cy="21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0800000">
            <a:off x="1042920" y="1323720"/>
            <a:ext cx="1873440" cy="21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47640" y="4192560"/>
            <a:ext cx="4590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08200" y="5989680"/>
            <a:ext cx="7799400" cy="647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23720" y="746280"/>
            <a:ext cx="2033640" cy="6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79320" y="2921040"/>
            <a:ext cx="3733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5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奉命研究原子弹制造的理论，并成功设计了“两弹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6520" y="3419640"/>
            <a:ext cx="3476880" cy="1052280"/>
          </a:xfrm>
          <a:prstGeom prst="leftArrowCallout">
            <a:avLst>
              <a:gd name="adj1" fmla="val 25002"/>
              <a:gd name="adj2" fmla="val 25000"/>
              <a:gd name="adj3" fmla="val 55069"/>
              <a:gd name="adj4" fmla="val 66673"/>
            </a:avLst>
          </a:prstGeom>
          <a:gradFill rotWithShape="0">
            <a:gsLst>
              <a:gs pos="0">
                <a:srgbClr val="ccffcc">
                  <a:alpha val="49019"/>
                </a:srgbClr>
              </a:gs>
              <a:gs pos="50000">
                <a:srgbClr val="ffffff"/>
              </a:gs>
              <a:gs pos="100000">
                <a:srgbClr val="ccffcc">
                  <a:alpha val="49019"/>
                </a:srgbClr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两弹”元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功勋卓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9320" y="1752480"/>
            <a:ext cx="4038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美国获博士学位后立即回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6520" y="1647720"/>
            <a:ext cx="3481560" cy="1252800"/>
          </a:xfrm>
          <a:prstGeom prst="leftArrowCallout">
            <a:avLst>
              <a:gd name="adj1" fmla="val 25002"/>
              <a:gd name="adj2" fmla="val 25000"/>
              <a:gd name="adj3" fmla="val 46317"/>
              <a:gd name="adj4" fmla="val 66673"/>
            </a:avLst>
          </a:prstGeom>
          <a:gradFill rotWithShape="0">
            <a:gsLst>
              <a:gs pos="0">
                <a:srgbClr val="ccffcc">
                  <a:alpha val="49019"/>
                </a:srgbClr>
              </a:gs>
              <a:gs pos="50000">
                <a:srgbClr val="ffffff"/>
              </a:gs>
              <a:gs pos="100000">
                <a:srgbClr val="ccffcc">
                  <a:alpha val="49019"/>
                </a:srgbClr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下兴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匹夫有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报效祖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9320" y="4537080"/>
            <a:ext cx="38102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8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重病期间写了一份关于中华人民共和国核武器发展的建议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6520" y="4937040"/>
            <a:ext cx="3481560" cy="1052640"/>
          </a:xfrm>
          <a:prstGeom prst="leftArrowCallout">
            <a:avLst>
              <a:gd name="adj1" fmla="val 25002"/>
              <a:gd name="adj2" fmla="val 25000"/>
              <a:gd name="adj3" fmla="val 55124"/>
              <a:gd name="adj4" fmla="val 66673"/>
            </a:avLst>
          </a:prstGeom>
          <a:gradFill rotWithShape="0">
            <a:gsLst>
              <a:gs pos="0">
                <a:srgbClr val="ccffcc">
                  <a:alpha val="49019"/>
                </a:srgbClr>
              </a:gs>
              <a:gs pos="50000">
                <a:srgbClr val="ffffff"/>
              </a:gs>
              <a:gs pos="100000">
                <a:srgbClr val="ccffcc">
                  <a:alpha val="49019"/>
                </a:srgbClr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鞠躬尽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死而后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9320" y="766800"/>
            <a:ext cx="82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课文写了哪些事例？表现了人物怎样的精神品质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46200" y="874800"/>
            <a:ext cx="3657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④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革”初期，说服两派继续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6200" y="2016000"/>
            <a:ext cx="3722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⑤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7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被“四人帮”批判围攻，能说服工宣队、军宣队的队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24400" y="925560"/>
            <a:ext cx="3490920" cy="609480"/>
          </a:xfrm>
          <a:prstGeom prst="leftArrowCallout">
            <a:avLst>
              <a:gd name="adj1" fmla="val 25002"/>
              <a:gd name="adj2" fmla="val 25000"/>
              <a:gd name="adj3" fmla="val 95462"/>
              <a:gd name="adj4" fmla="val 66673"/>
            </a:avLst>
          </a:prstGeom>
          <a:gradFill rotWithShape="0">
            <a:gsLst>
              <a:gs pos="0">
                <a:srgbClr val="ccffff">
                  <a:alpha val="45098"/>
                </a:srgbClr>
              </a:gs>
              <a:gs pos="50000">
                <a:srgbClr val="ffffff"/>
              </a:gs>
              <a:gs pos="100000">
                <a:srgbClr val="ccffff">
                  <a:alpha val="45098"/>
                </a:srgbClr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没有私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24400" y="1949400"/>
            <a:ext cx="3490920" cy="1295280"/>
          </a:xfrm>
          <a:prstGeom prst="leftArrowCallout">
            <a:avLst>
              <a:gd name="adj1" fmla="val 25002"/>
              <a:gd name="adj2" fmla="val 25000"/>
              <a:gd name="adj3" fmla="val 44918"/>
              <a:gd name="adj4" fmla="val 66673"/>
            </a:avLst>
          </a:prstGeom>
          <a:gradFill rotWithShape="0">
            <a:gsLst>
              <a:gs pos="0">
                <a:srgbClr val="ccffff">
                  <a:alpha val="45098"/>
                </a:srgbClr>
              </a:gs>
              <a:gs pos="50000">
                <a:srgbClr val="ffffff"/>
              </a:gs>
              <a:gs pos="100000">
                <a:srgbClr val="ccffff">
                  <a:alpha val="45098"/>
                </a:srgbClr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真诚坦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从不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最高奉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6200" y="37069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⑥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封短短的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4400" y="3402000"/>
            <a:ext cx="3486240" cy="1371600"/>
          </a:xfrm>
          <a:prstGeom prst="leftArrowCallout">
            <a:avLst>
              <a:gd name="adj1" fmla="val 25002"/>
              <a:gd name="adj2" fmla="val 25000"/>
              <a:gd name="adj3" fmla="val 42362"/>
              <a:gd name="adj4" fmla="val 66673"/>
            </a:avLst>
          </a:prstGeom>
          <a:gradFill rotWithShape="0">
            <a:gsLst>
              <a:gs pos="0">
                <a:srgbClr val="ccffff">
                  <a:alpha val="45098"/>
                </a:srgbClr>
              </a:gs>
              <a:gs pos="50000">
                <a:srgbClr val="ffffff"/>
              </a:gs>
              <a:gs pos="100000">
                <a:srgbClr val="ccffff">
                  <a:alpha val="45098"/>
                </a:srgbClr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强烈的民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自尊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朴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6200" y="5041800"/>
            <a:ext cx="44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⑦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8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，“我不能走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24400" y="4873680"/>
            <a:ext cx="3490920" cy="1219320"/>
          </a:xfrm>
          <a:prstGeom prst="leftArrowCallout">
            <a:avLst>
              <a:gd name="adj1" fmla="val 25002"/>
              <a:gd name="adj2" fmla="val 25000"/>
              <a:gd name="adj3" fmla="val 47717"/>
              <a:gd name="adj4" fmla="val 66673"/>
            </a:avLst>
          </a:prstGeom>
          <a:gradFill rotWithShape="0">
            <a:gsLst>
              <a:gs pos="0">
                <a:srgbClr val="ccffff">
                  <a:alpha val="45098"/>
                </a:srgbClr>
              </a:gs>
              <a:gs pos="50000">
                <a:srgbClr val="ffffff"/>
              </a:gs>
              <a:gs pos="100000">
                <a:srgbClr val="ccffff">
                  <a:alpha val="45098"/>
                </a:srgbClr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执着追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无私奉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责任心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33320" y="2146320"/>
            <a:ext cx="76122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概述我国近一百多年的历史，是为了说明邓稼先是对中华民族从“任人宰割”到“站起来了”这一巨大转变做出贡献的科学家，是对历史的发展产生巨大影响的历史人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3320" y="998640"/>
            <a:ext cx="7581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写邓稼先之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为什么先概述我国近一百多年以来的历史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7640" y="5319720"/>
            <a:ext cx="7848720" cy="80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47560" y="8161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为什么要拿美国科学家奥本海默与邓稼先做比较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0280" y="15922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职       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0280" y="236232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功    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0280" y="3233880"/>
            <a:ext cx="18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学术水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39920" y="1725480"/>
            <a:ext cx="380880" cy="1905120"/>
          </a:xfrm>
          <a:custGeom>
            <a:avLst/>
            <a:gdLst>
              <a:gd name="textAreaLeft" fmla="*/ 0 w 380880"/>
              <a:gd name="textAreaRight" fmla="*/ 137520 w 3808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87760" y="24703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相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1280" y="1654200"/>
            <a:ext cx="165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国       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1280" y="2444760"/>
            <a:ext cx="17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文化背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21280" y="3159000"/>
            <a:ext cx="145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性       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48240" y="1728720"/>
            <a:ext cx="454320" cy="1770120"/>
          </a:xfrm>
          <a:custGeom>
            <a:avLst/>
            <a:gdLst>
              <a:gd name="textAreaLeft" fmla="*/ 0 w 454320"/>
              <a:gd name="textAreaRight" fmla="*/ 164160 w 454320"/>
              <a:gd name="textAreaTop" fmla="*/ 46080 h 1770120"/>
              <a:gd name="textAreaBottom" fmla="*/ 1724040 h 177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35760" y="2390760"/>
            <a:ext cx="11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不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6960" y="4664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奥本海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87640" y="3886200"/>
            <a:ext cx="328680" cy="2044800"/>
          </a:xfrm>
          <a:custGeom>
            <a:avLst/>
            <a:gdLst>
              <a:gd name="textAreaLeft" fmla="*/ 209880 w 328680"/>
              <a:gd name="textAreaRight" fmla="*/ 328680 w 328680"/>
              <a:gd name="textAreaTop" fmla="*/ 53280 h 2044800"/>
              <a:gd name="textAreaBottom" fmla="*/ 1991520 h 204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33600" y="372420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锋芒毕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3600" y="466416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善于辞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3600" y="55436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复杂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4720" y="4656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邓稼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45080" y="3821040"/>
            <a:ext cx="457200" cy="2141640"/>
          </a:xfrm>
          <a:custGeom>
            <a:avLst/>
            <a:gdLst>
              <a:gd name="textAreaLeft" fmla="*/ 292320 w 457200"/>
              <a:gd name="textAreaRight" fmla="*/ 457560 w 457200"/>
              <a:gd name="textAreaTop" fmla="*/ 55800 h 2141640"/>
              <a:gd name="textAreaBottom" fmla="*/ 2085840 h 214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24680" y="368784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最不引人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471024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忠厚平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24680" y="556416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纯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54480" y="50706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突出邓稼先的奉献       精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0160" y="873000"/>
            <a:ext cx="7464600" cy="5410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16120" y="5734080"/>
            <a:ext cx="7467480" cy="520560"/>
          </a:xfrm>
          <a:prstGeom prst="rect">
            <a:avLst/>
          </a:prstGeom>
          <a:gradFill rotWithShape="0">
            <a:gsLst>
              <a:gs pos="0">
                <a:srgbClr val="ffffcc">
                  <a:alpha val="72156"/>
                </a:srgbClr>
              </a:gs>
              <a:gs pos="50000">
                <a:srgbClr val="ffffff"/>
              </a:gs>
              <a:gs pos="100000">
                <a:srgbClr val="ffffcc">
                  <a:alpha val="7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杨振宁和邓稼先在芝加哥大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12720" y="1308240"/>
            <a:ext cx="78343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理解“‘粗估’参数的时候……要有勇进的胆识和稳健的判断。”体会作者的思想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.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邓稼先是中国几千年传统文化所孕育出来的有最高奉献精神的儿子。”指的是什么？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.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邓稼先是中国共产党的理想党员。”指的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2880" y="6476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二、品析语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09560" y="5551560"/>
            <a:ext cx="7701840" cy="877320"/>
            <a:chOff x="709560" y="5551560"/>
            <a:chExt cx="7701840" cy="877320"/>
          </a:xfrm>
        </p:grpSpPr>
        <p:sp>
          <p:nvSpPr>
            <p:cNvPr id="239" name=""/>
            <p:cNvSpPr/>
            <p:nvPr/>
          </p:nvSpPr>
          <p:spPr>
            <a:xfrm>
              <a:off x="709560" y="5700960"/>
              <a:ext cx="1541880" cy="41904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9560" y="6095160"/>
              <a:ext cx="1538640" cy="30888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57520" y="5685480"/>
              <a:ext cx="3053880" cy="43488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55000" y="6120360"/>
              <a:ext cx="305640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55000" y="5936040"/>
              <a:ext cx="655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54000" y="5936040"/>
              <a:ext cx="691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59120" y="593604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55000" y="5984640"/>
              <a:ext cx="2944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55000" y="6073920"/>
              <a:ext cx="2944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49400" y="5936040"/>
              <a:ext cx="662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48760" y="593604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53520" y="593604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58640" y="593604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63040" y="5936040"/>
              <a:ext cx="69120" cy="20124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68160" y="5946840"/>
              <a:ext cx="68760" cy="20664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75800" y="5958000"/>
              <a:ext cx="66240" cy="2178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80200" y="5972040"/>
              <a:ext cx="66240" cy="23616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85320" y="5993280"/>
              <a:ext cx="66240" cy="25992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290440" y="6017040"/>
              <a:ext cx="65520" cy="30168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94840" y="6068520"/>
              <a:ext cx="16560" cy="29736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13760" y="5984640"/>
              <a:ext cx="1097640" cy="14652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13760" y="6073920"/>
              <a:ext cx="1097640" cy="21492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47320" y="5936040"/>
              <a:ext cx="662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46680" y="593604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51080" y="5936040"/>
              <a:ext cx="691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47320" y="59846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47320" y="60739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39280" y="5936040"/>
              <a:ext cx="6624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36120" y="593604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43760" y="593604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39280" y="59846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39280" y="60739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31960" y="5936040"/>
              <a:ext cx="6624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8440" y="5936040"/>
              <a:ext cx="691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33560" y="593604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31960" y="59846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31960" y="60739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21760" y="593604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21120" y="593604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25880" y="5936040"/>
              <a:ext cx="6912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21760" y="5984640"/>
              <a:ext cx="29772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21760" y="6073920"/>
              <a:ext cx="29772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14080" y="5936040"/>
              <a:ext cx="6912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13440" y="593604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18560" y="593604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14080" y="59846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14080" y="60739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06760" y="5936040"/>
              <a:ext cx="68760" cy="18432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06120" y="593604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10520" y="5936040"/>
              <a:ext cx="68760" cy="1843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06760" y="59846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06760" y="60739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96200" y="5642280"/>
              <a:ext cx="838080" cy="5868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59320" y="5551560"/>
              <a:ext cx="1174680" cy="42912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51440" y="5689800"/>
              <a:ext cx="3103560" cy="4302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20200" y="5674320"/>
              <a:ext cx="485280" cy="44568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10640" y="5807160"/>
              <a:ext cx="1045080" cy="31284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02360" y="5780520"/>
              <a:ext cx="1064520" cy="18576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41240" y="5977800"/>
              <a:ext cx="36972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17640" y="5780520"/>
              <a:ext cx="849240" cy="16632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65360" y="5988960"/>
              <a:ext cx="314640" cy="131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48200" y="6120360"/>
              <a:ext cx="310644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98120" y="5587920"/>
              <a:ext cx="1199880" cy="28620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09640" y="5676120"/>
              <a:ext cx="1481400" cy="44424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33760" y="5917320"/>
              <a:ext cx="860760" cy="19404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45160" y="6042240"/>
              <a:ext cx="479520" cy="78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45160" y="5913360"/>
              <a:ext cx="203760" cy="12852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2360" y="5938560"/>
              <a:ext cx="369720" cy="1450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86200" y="5927400"/>
              <a:ext cx="12420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98120" y="5639400"/>
              <a:ext cx="1503000" cy="26244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46760" y="5946840"/>
              <a:ext cx="1598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961800" y="5946840"/>
              <a:ext cx="662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28920" y="5946840"/>
              <a:ext cx="6372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24120" y="5946840"/>
              <a:ext cx="10188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57880" y="5946840"/>
              <a:ext cx="46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48680" y="5946840"/>
              <a:ext cx="46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09800" y="5773680"/>
              <a:ext cx="74160" cy="277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12040" y="5773680"/>
              <a:ext cx="77400" cy="277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54440" y="5758200"/>
              <a:ext cx="88200" cy="374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09520" y="5792040"/>
              <a:ext cx="479520" cy="12132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23440" y="6086880"/>
              <a:ext cx="19080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60440" y="6049080"/>
              <a:ext cx="19008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57920" y="5828040"/>
              <a:ext cx="219960" cy="8496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28560" y="5913360"/>
              <a:ext cx="2484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58840" y="5792040"/>
              <a:ext cx="306360" cy="9468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48920" y="5913360"/>
              <a:ext cx="4176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45160" y="5913360"/>
              <a:ext cx="4104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91640" y="6120360"/>
              <a:ext cx="1218960" cy="30852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33520" y="5978880"/>
              <a:ext cx="123840" cy="23760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47560" y="5998680"/>
              <a:ext cx="71280" cy="68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247560" y="6029280"/>
              <a:ext cx="74160" cy="54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47560" y="6021000"/>
              <a:ext cx="74160" cy="396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7560" y="6063120"/>
              <a:ext cx="79200" cy="684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47560" y="6055920"/>
              <a:ext cx="79200" cy="396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58240" y="5645160"/>
              <a:ext cx="838080" cy="62028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7480" y="5559840"/>
              <a:ext cx="1125360" cy="41616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89040" y="6086880"/>
              <a:ext cx="220680" cy="12996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6137280"/>
              <a:ext cx="129960" cy="6948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38280" y="20350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3800" y="2835360"/>
            <a:ext cx="8059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排比句式，突出了邓稼先具有物理的直觉、数学的见地、勇进的胆识和稳健的判断，突出了邓稼先的大将风度。作者对邓稼先充满了赞扬、佩服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3800" y="711360"/>
            <a:ext cx="802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理解“‘粗估’参数的时候，要有物理直觉；昼夜不断地筹划计算时，要有数学见地；决定方案时，要有勇进的胆识和稳健的判断。”结合这组排比句的内容，体会作者的思想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608040" y="5535720"/>
            <a:ext cx="7915320" cy="41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69600" y="1265040"/>
            <a:ext cx="7674120" cy="5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640" y="828720"/>
            <a:ext cx="81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邓稼先是中国几千年传统文化所孕育出来的有最高奉献精神的儿子。”指的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5640" y="2144880"/>
            <a:ext cx="81313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邓稼先与锋芒毕露的奥本海默截然不同，“是一个最不要引人注目的人物”“忠厚平实”“真诚坦白，从不骄人”“没有小心眼儿，一生喜欢‘纯’字所代表的品格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最有中国农民的朴实气质的人”。中国几千年的传统文化讲究人与人之间关系和谐，和睦相处，讲究为人忠厚、谦虚、真诚、朴实。邓稼先汲取了中国传统文化中的优秀部分，并变成了自己的气质品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46200" y="763200"/>
            <a:ext cx="792792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.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邓稼先是中国共产党的理想党员。”指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8440" y="2013120"/>
            <a:ext cx="7845480" cy="39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没有私心，人们绝对相信他”，“文革”中能说服两派群众组织，能说服工宣队、军宣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国共产党的宗旨是全心全意为人民服务，邓稼先就是把这些奉为自己的行为准则的，因此他是理想的党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124080" y="246708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3240" y="1620720"/>
            <a:ext cx="7950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如果稼先再次选择他的人生的话，他仍会走他已走过的道路。这是他的性格与品质。”试说说你对这两句话的理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843120" y="5037120"/>
            <a:ext cx="7457760" cy="10605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77840" y="868320"/>
            <a:ext cx="2033640" cy="6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93560" y="990720"/>
            <a:ext cx="799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中华民族的崛起，为广大人民的利益，奉献自己的一生，这是邓稼先的人生。走这样的人生道路，是邓稼先的性格与品质决定的。所以作者说，如果邓稼先再次选择人生，他仍会这么走。这两句话总写出了邓稼先的伟大之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11" descr="图片14"/>
          <p:cNvPicPr/>
          <p:nvPr/>
        </p:nvPicPr>
        <p:blipFill>
          <a:blip r:embed="rId1"/>
          <a:stretch/>
        </p:blipFill>
        <p:spPr>
          <a:xfrm>
            <a:off x="662040" y="5224320"/>
            <a:ext cx="7775640" cy="8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1895400" y="1992240"/>
            <a:ext cx="1514520" cy="4106520"/>
            <a:chOff x="1895400" y="1992240"/>
            <a:chExt cx="1514520" cy="4106520"/>
          </a:xfrm>
        </p:grpSpPr>
        <p:sp>
          <p:nvSpPr>
            <p:cNvPr id="353" name=""/>
            <p:cNvSpPr/>
            <p:nvPr/>
          </p:nvSpPr>
          <p:spPr>
            <a:xfrm>
              <a:off x="2153520" y="5639040"/>
              <a:ext cx="912240" cy="4597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热情赞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53520" y="1992240"/>
              <a:ext cx="912240" cy="4597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历史背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53520" y="2708280"/>
              <a:ext cx="912240" cy="4597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生平简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53520" y="3470400"/>
              <a:ext cx="912240" cy="4597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人物对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95400" y="4127400"/>
              <a:ext cx="1514520" cy="4597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感情震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53520" y="4917960"/>
              <a:ext cx="912240" cy="4597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沙漠创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 flipH="1">
            <a:off x="1486800" y="2266920"/>
            <a:ext cx="304920" cy="3809880"/>
          </a:xfrm>
          <a:custGeom>
            <a:avLst/>
            <a:gdLst>
              <a:gd name="textAreaLeft" fmla="*/ -360 w 304920"/>
              <a:gd name="textAreaRight" fmla="*/ 109800 w 30492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531120" y="2090880"/>
            <a:ext cx="1806480" cy="532800"/>
          </a:xfrm>
          <a:prstGeom prst="rect">
            <a:avLst/>
          </a:prstGeom>
          <a:noFill/>
          <a:ln w="22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邓稼先是一个忠诚坦白、从不骄人、为祖国国防事业奉献一生的祖国的伟大的儿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660840" y="2222640"/>
            <a:ext cx="304560" cy="0"/>
          </a:xfrm>
          <a:prstGeom prst="line">
            <a:avLst/>
          </a:prstGeom>
          <a:ln w="572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6240" y="316116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邓稼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22520" y="2033640"/>
            <a:ext cx="54648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广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54360" y="5202360"/>
            <a:ext cx="304920" cy="0"/>
          </a:xfrm>
          <a:prstGeom prst="line">
            <a:avLst/>
          </a:prstGeom>
          <a:ln w="572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605040" y="3699000"/>
            <a:ext cx="304920" cy="0"/>
          </a:xfrm>
          <a:prstGeom prst="line">
            <a:avLst/>
          </a:prstGeom>
          <a:ln w="572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82920" y="3425760"/>
            <a:ext cx="54648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对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91040" y="4694400"/>
            <a:ext cx="990720" cy="459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自然环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40440" y="2222640"/>
            <a:ext cx="22860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89600" y="364176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192640" y="4177800"/>
            <a:ext cx="216000" cy="825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74720" y="2957040"/>
            <a:ext cx="454680" cy="1337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侧面烘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78360" y="2065320"/>
            <a:ext cx="76320" cy="3809880"/>
          </a:xfrm>
          <a:custGeom>
            <a:avLst/>
            <a:gdLst>
              <a:gd name="textAreaLeft" fmla="*/ 0 w 76320"/>
              <a:gd name="textAreaRight" fmla="*/ 27360 w 7632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954760" y="3983040"/>
            <a:ext cx="5335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241200" y="793800"/>
            <a:ext cx="2033640" cy="6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743040" y="1908000"/>
            <a:ext cx="7669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</a:t>
            </a: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我不爱武器，我爱和平，但为了和平，我们需要武器。假如生命终结后可以再生，那么，我仍选择中国，选择核事业。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                 ——</a:t>
            </a: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邓稼先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88612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8200" y="5900760"/>
            <a:ext cx="135864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32956" b="0"/>
          <a:stretch/>
        </p:blipFill>
        <p:spPr>
          <a:xfrm>
            <a:off x="870120" y="1082520"/>
            <a:ext cx="3873240" cy="5056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92560" y="2585880"/>
            <a:ext cx="32943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96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6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日中国爆炸了第一颗原子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165640" y="2652840"/>
            <a:ext cx="31291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967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7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日中国爆炸了第一颗氢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0640" y="974880"/>
            <a:ext cx="4202280" cy="52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65280" y="882720"/>
            <a:ext cx="3225600" cy="2340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291280" y="882720"/>
            <a:ext cx="3019320" cy="2266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059280" y="3768840"/>
            <a:ext cx="3152520" cy="2098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98400" y="3279600"/>
            <a:ext cx="42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从观礼台上看火箭升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19600" y="317988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眺望火箭升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11560" y="5902200"/>
            <a:ext cx="35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一级、二级火箭脱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92720" y="1112760"/>
            <a:ext cx="54612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火 箭 发 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603760" y="4016520"/>
            <a:ext cx="2562480" cy="1936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489640" y="849240"/>
            <a:ext cx="2676600" cy="2527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76160" y="804960"/>
            <a:ext cx="3959280" cy="3003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16120" y="816120"/>
            <a:ext cx="15951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导  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76160" y="4179960"/>
            <a:ext cx="2063880" cy="1851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41760" y="4613400"/>
            <a:ext cx="27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神六”升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73280" y="2274840"/>
            <a:ext cx="7797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理清思路，了解邓稼先的生平事迹，把握人物的思想品质和性格特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学习本文通过对比来表现人物的写作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学习邓稼先热爱祖国、献身科学的伟大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95160" y="5648400"/>
            <a:ext cx="782820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矩形 9" descr=""/>
          <p:cNvPicPr/>
          <p:nvPr/>
        </p:nvPicPr>
        <p:blipFill>
          <a:blip r:embed="rId2"/>
          <a:srcRect l="9627" t="0" r="7848" b="25821"/>
          <a:stretch/>
        </p:blipFill>
        <p:spPr>
          <a:xfrm>
            <a:off x="2916360" y="1244520"/>
            <a:ext cx="2774880" cy="80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图片5"/>
          <p:cNvPicPr/>
          <p:nvPr/>
        </p:nvPicPr>
        <p:blipFill>
          <a:blip r:embed="rId3"/>
          <a:srcRect l="0" t="52381" r="0" b="0"/>
          <a:stretch/>
        </p:blipFill>
        <p:spPr>
          <a:xfrm>
            <a:off x="7623000" y="541440"/>
            <a:ext cx="1319400" cy="84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87640" y="1371600"/>
            <a:ext cx="465156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杨振宁，美籍华人，物理学家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92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出生于安徽省。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966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至今任纽约州立大学石溪分校教授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986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兼任香港中文大学博文讲座教授，他与李政道共同提出“弱相互作用中宇称不守恒”理论，获得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957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诺贝尔物理学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120" y="1535040"/>
            <a:ext cx="3124080" cy="4469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77920" y="681120"/>
            <a:ext cx="2036520" cy="6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00" y="1325520"/>
            <a:ext cx="7945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本文是邓稼先的好友杨振宁为他写的一篇回忆录。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1986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7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29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日，邓稼先因全身大出血而逝世，这位始终站在中国原子武器设计制造和研究第一线的科学家，结束了他“鞠躬尽瘁，死而后已”的光辉一生。对于邓稼先的逝世，杨振宁教授无限悲痛。为缅怀好友，作者以中华几千年文化为背景，以近一百多年来的民族情结、五十年的朋友深情为基调，用饱含感情的语言写下了这篇传记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8680" y="736560"/>
            <a:ext cx="2033640" cy="61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08:35:16Z</dcterms:created>
  <dc:creator>语文备课大师 www.xiexingcun.com【全免费】</dc:creator>
  <dc:description>语文备课大师 www.xiexingcun.com【全免费】</dc:description>
  <dc:language>en-US</dc:language>
  <cp:lastModifiedBy>微软用户</cp:lastModifiedBy>
  <dcterms:modified xsi:type="dcterms:W3CDTF">2015-03-20T19:15:28Z</dcterms:modified>
  <cp:revision>405</cp:revision>
  <dc:subject/>
  <dc:title>语文备课大师 www.xiexingcun.com【全免费】</dc:title>
</cp:coreProperties>
</file>