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projctor.wav" ContentType="audio/x-wav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2ED5-1FF9-4592-9279-460F53BB5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3DC7-77F8-4FF0-9DC8-F3881A13F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B53B-CAB1-41F0-986B-62B1030C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7E7A-22C7-4B47-92A3-6E50C4169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BE0A-E4C9-4F77-A9AC-87BC7391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DDE3C-9C5B-4E67-BE25-F7BC0928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58A8-CFF6-46DE-A28D-8EE3DD8F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AA65-E991-4895-8115-C248B486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0160A-4B6E-4312-82EA-33D43ADD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FCD3-F118-4898-972C-2BBE9B69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29E9-90FD-4EB7-8A0D-F654B681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C943-A621-4FD3-9D30-A7F0EB8F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1573-D9B6-446D-9237-69DB3643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51B98-8B64-4FAA-9ADF-2CF9FFE4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9924-EE2A-44F6-A2C9-ED933F08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22E05-F460-4D85-8F82-EB04FB5E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F349-062D-4DCB-9B33-820F834E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42ED-4C5D-404D-B411-72B6507A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916B-69F9-4EC3-BC7A-E51AC88B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A297-E7F9-41A1-AEF0-38E81C6E9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0FC7-C6A0-474E-A057-A8896D8A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B8DE-8695-421C-BFFE-95F26A69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4AFC-7038-4B48-8135-A86D5833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647E-CD92-4915-AC61-4A349A09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5DA17-4157-464D-BD7C-719CA1022586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DF21-B742-4F61-9D87-996DDC7F0B87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026" descr="牛汉"/>
          <p:cNvPicPr/>
          <p:nvPr/>
        </p:nvPicPr>
        <p:blipFill>
          <a:blip r:embed="rId2"/>
          <a:stretch/>
        </p:blipFill>
        <p:spPr>
          <a:xfrm>
            <a:off x="5580000" y="0"/>
            <a:ext cx="3287880" cy="4572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027"/>
          <p:cNvSpPr/>
          <p:nvPr/>
        </p:nvSpPr>
        <p:spPr>
          <a:xfrm>
            <a:off x="3635280" y="549360"/>
            <a:ext cx="482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Text Box 1028"/>
          <p:cNvSpPr/>
          <p:nvPr/>
        </p:nvSpPr>
        <p:spPr>
          <a:xfrm>
            <a:off x="2627280" y="692280"/>
            <a:ext cx="49690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隶书"/>
              </a:rPr>
              <a:t>……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隶书"/>
              </a:rPr>
              <a:t>恍惚之中听见一声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隶书"/>
              </a:rPr>
              <a:t>石破天惊的咆哮，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隶书"/>
              </a:rPr>
              <a:t>有一个不羁的灵魂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隶书"/>
              </a:rPr>
              <a:t>掠过我的头顶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隶书"/>
              </a:rPr>
              <a:t>腾空而去，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隶书"/>
              </a:rPr>
              <a:t>我看见了火焰般的斑纹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隶书"/>
              </a:rPr>
              <a:t>火焰似的眼睛，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隶书"/>
              </a:rPr>
              <a:t>还有巨大而破碎的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隶书"/>
              </a:rPr>
              <a:t>滴血的趾爪！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Text Box 1029"/>
          <p:cNvSpPr/>
          <p:nvPr/>
        </p:nvSpPr>
        <p:spPr>
          <a:xfrm>
            <a:off x="3851280" y="609300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隶书"/>
              </a:rPr>
              <a:t>——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隶书"/>
              </a:rPr>
              <a:t>《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  <a:ea typeface="隶书"/>
              </a:rPr>
              <a:t>华南虎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隶书"/>
              </a:rPr>
              <a:t>》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Text Box 1030"/>
          <p:cNvSpPr/>
          <p:nvPr/>
        </p:nvSpPr>
        <p:spPr>
          <a:xfrm>
            <a:off x="4495680" y="4800600"/>
            <a:ext cx="51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行楷"/>
              </a:rPr>
              <a:t>牛汉，原名史成汉，蒙古族，当代诗人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1035"/>
          <p:cNvSpPr txBox="1"/>
          <p:nvPr/>
        </p:nvSpPr>
        <p:spPr>
          <a:xfrm>
            <a:off x="1290600" y="1066680"/>
            <a:ext cx="1828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拓展延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20" name="Rectangle 1036"/>
          <p:cNvSpPr/>
          <p:nvPr/>
        </p:nvSpPr>
        <p:spPr>
          <a:xfrm>
            <a:off x="755640" y="2514600"/>
            <a:ext cx="80773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99ff"/>
                </a:solidFill>
                <a:latin typeface="Arial"/>
                <a:ea typeface="隶书"/>
              </a:rPr>
              <a:t>      </a:t>
            </a:r>
            <a:r>
              <a:rPr b="1" lang="zh-CN" sz="5400" spc="-1" strike="noStrike">
                <a:solidFill>
                  <a:srgbClr val="3399ff"/>
                </a:solidFill>
                <a:latin typeface="Arial"/>
                <a:ea typeface="隶书"/>
              </a:rPr>
              <a:t>读了本课，你最大的感受是什么？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99ff"/>
                </a:solidFill>
                <a:latin typeface="Arial"/>
                <a:ea typeface="隶书"/>
              </a:rPr>
              <a:t> 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11"/>
          <p:cNvSpPr/>
          <p:nvPr/>
        </p:nvSpPr>
        <p:spPr>
          <a:xfrm>
            <a:off x="2124000" y="2743200"/>
            <a:ext cx="609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张洁  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我的第一本书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WordArt 12"/>
          <p:cNvSpPr txBox="1"/>
          <p:nvPr/>
        </p:nvSpPr>
        <p:spPr>
          <a:xfrm>
            <a:off x="2048040" y="1143000"/>
            <a:ext cx="21333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拓展阅读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>
    <p:cover dir="l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9"/>
          <p:cNvSpPr/>
          <p:nvPr/>
        </p:nvSpPr>
        <p:spPr>
          <a:xfrm>
            <a:off x="34920" y="1197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黑体"/>
              </a:rPr>
              <a:t>1.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文题“我的第一本书”仅仅指那本课本吗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黑体"/>
              </a:rPr>
              <a:t>?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还可以作怎样的理解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黑体"/>
              </a:rPr>
              <a:t>?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415800" y="27082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黑体"/>
              </a:rPr>
              <a:t>    “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我的第一本书”不仅仅指那半本课本，也指“我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人生的第一课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。这人生的第一课，蕴含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艰辛，人间温情，同学的友谊和上学的乐趣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0"/>
          <p:cNvSpPr/>
          <p:nvPr/>
        </p:nvSpPr>
        <p:spPr>
          <a:xfrm>
            <a:off x="826920" y="90792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2.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作者是怀着怎样的一种感情追忆他的“第一本书”的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826920" y="2276640"/>
            <a:ext cx="7705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作者是怀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沉重的心情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敬重、珍爱的感情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追忆“第一本书”的，感情复杂，心情沉重，因为那本书里深藏着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苦难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的生活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和恶劣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的学习条件与环境，同时也映照着那个时代人们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不幸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的命运，以及在那种荒寒背景下特别可贵的一点儿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乐趣和温情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2"/>
          <p:cNvSpPr/>
          <p:nvPr/>
        </p:nvSpPr>
        <p:spPr>
          <a:xfrm>
            <a:off x="1187280" y="685800"/>
            <a:ext cx="7345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童年生活是艰苦而沉重的，感觉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辛酸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的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但这些都无法抹去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与生俱来的童真、好奇和淘气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，和小伙伴、小动物一起在大自然中玩乐，什么困苦都会忘。这就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生命最初的快乐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rd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0"/>
          <p:cNvSpPr/>
          <p:nvPr/>
        </p:nvSpPr>
        <p:spPr>
          <a:xfrm>
            <a:off x="684360" y="685800"/>
            <a:ext cx="8215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它是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求知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的第一本书，更是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人生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的第一本书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如果不写这本“书”，那么这几十年的创作就失去了意义。因为你忘记了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知识的源头和人生的起点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，你忘记了过去，即忘本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1366920" y="3809880"/>
            <a:ext cx="4343400" cy="2637000"/>
          </a:xfrm>
          <a:prstGeom prst="wedgeRectCallout">
            <a:avLst>
              <a:gd name="adj1" fmla="val 105407"/>
              <a:gd name="adj2" fmla="val -6974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双关”的修辞。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黑体"/>
              </a:rPr>
              <a:t>“本”是指课本，即“我”的第一本国语课本；也指人生成长历程中最初的、最有价值的奠基性的东西。作者所指的主要是后者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ld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7351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甜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同学、朋友之间的深厚的情谊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父子之间亲密的关系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人与动物的乐趣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酸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艰辛的生活，贫穷的生活环境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学习的艰难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人生际遇的差别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我的第一本书"/>
          <p:cNvPicPr/>
          <p:nvPr/>
        </p:nvPicPr>
        <p:blipFill>
          <a:blip r:embed="rId2"/>
          <a:stretch/>
        </p:blipFill>
        <p:spPr>
          <a:xfrm>
            <a:off x="324000" y="568440"/>
            <a:ext cx="8386560" cy="62895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0"/>
          <p:cNvSpPr/>
          <p:nvPr/>
        </p:nvSpPr>
        <p:spPr>
          <a:xfrm>
            <a:off x="684360" y="765000"/>
            <a:ext cx="7869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幽默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yōu mò):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有趣或可笑而意义深长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凄惨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qī cǎn):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凄凉悲愤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奥秘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ào mì</a:t>
            </a: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)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: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奥妙神秘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翻来覆去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fān    fù):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一次又一次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;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多次  重复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温厚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黑体"/>
              </a:rPr>
              <a:t>(wēn  hòu):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温和宽厚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.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F2003071810031000000"/>
          <p:cNvPicPr/>
          <p:nvPr/>
        </p:nvPicPr>
        <p:blipFill>
          <a:blip r:embed="rId2"/>
          <a:stretch/>
        </p:blipFill>
        <p:spPr>
          <a:xfrm>
            <a:off x="971640" y="404640"/>
            <a:ext cx="3273480" cy="47530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4572000" y="2481840"/>
            <a:ext cx="426708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牛汉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生于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1923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月，山西省人。抗日战争期间在陕甘地区读中学、大学。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1940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年发表作品，主要写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诗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，近十年写作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散文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。已出版诗集十余本，散文集七本，诗话集两本。此外还参与主编中国现当代诗选数部，台湾编印了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牛汉散文精选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。从事文学编辑工作半个多世纪，曾主编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新文学史料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二十年 ，现为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宋体"/>
              </a:rPr>
              <a:t>中国作协全国名誉委员，中国诗歌协会副会长。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826920" y="765000"/>
            <a:ext cx="7632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1" i="1" lang="zh-CN" sz="3600" spc="-1" strike="noStrike">
                <a:solidFill>
                  <a:srgbClr val="0033cc"/>
                </a:solidFill>
                <a:latin typeface="Times New Roman"/>
              </a:rPr>
              <a:t>牛汉先生认为他的诗一直是和历史和时代血肉相连的，和他所受的痛苦不可分离。是的，他的诗最能充分发挥他的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</a:rPr>
              <a:t>生命潜在力</a:t>
            </a:r>
            <a:r>
              <a:rPr b="1" i="1" lang="zh-CN" sz="3600" spc="-1" strike="noStrike">
                <a:solidFill>
                  <a:srgbClr val="0033cc"/>
                </a:solidFill>
                <a:latin typeface="Times New Roman"/>
              </a:rPr>
              <a:t>，最能表达他对人生对时代的感受。他的每一首诗都同他经历的一切坎坷、屈辱无法剥离。正如一位评论家所认为的，他是历史的伤疤，活着的伤疤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33cc"/>
                </a:solidFill>
                <a:latin typeface="Arial"/>
              </a:rPr>
              <a:t>——</a:t>
            </a:r>
            <a:r>
              <a:rPr b="1" i="1" lang="en-US" sz="3600" spc="-1" strike="noStrike">
                <a:solidFill>
                  <a:srgbClr val="0033cc"/>
                </a:solidFill>
                <a:latin typeface="Times New Roman"/>
              </a:rPr>
              <a:t>《</a:t>
            </a:r>
            <a:r>
              <a:rPr b="1" i="1" lang="zh-CN" sz="3600" spc="-1" strike="noStrike">
                <a:solidFill>
                  <a:srgbClr val="0033cc"/>
                </a:solidFill>
                <a:latin typeface="Times New Roman"/>
              </a:rPr>
              <a:t>做自己的主人</a:t>
            </a:r>
            <a:r>
              <a:rPr b="1" i="1" lang="en-US" sz="3600" spc="-1" strike="noStrike">
                <a:solidFill>
                  <a:srgbClr val="0033cc"/>
                </a:solidFill>
                <a:latin typeface="Times New Roman"/>
              </a:rPr>
              <a:t>》</a:t>
            </a:r>
            <a:r>
              <a:rPr b="1" i="1" lang="zh-CN" sz="3600" spc="-1" strike="noStrike">
                <a:solidFill>
                  <a:srgbClr val="0033cc"/>
                </a:solidFill>
                <a:latin typeface="Times New Roman"/>
              </a:rPr>
              <a:t>蔡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7"/>
          <p:cNvSpPr txBox="1"/>
          <p:nvPr/>
        </p:nvSpPr>
        <p:spPr>
          <a:xfrm>
            <a:off x="2300400" y="1852560"/>
            <a:ext cx="5151240" cy="20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fc9fcb"/>
                    </a:gs>
                    <a:gs pos="100000">
                      <a:srgbClr val="fc9fcb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的第一本书</a:t>
            </a:r>
            <a:endParaRPr b="1" lang="en-US" sz="1800" spc="1" strike="noStrike">
              <a:ln w="1908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fc9fcb"/>
                  </a:gs>
                  <a:gs pos="100000">
                    <a:srgbClr val="fc9fcb"/>
                  </a:gs>
                </a:gsLst>
                <a:lin ang="135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1043"/>
          <p:cNvSpPr txBox="1"/>
          <p:nvPr/>
        </p:nvSpPr>
        <p:spPr>
          <a:xfrm>
            <a:off x="1300320" y="789120"/>
            <a:ext cx="2101680" cy="93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整体感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1" name="WordArt 1045"/>
          <p:cNvSpPr txBox="1"/>
          <p:nvPr/>
        </p:nvSpPr>
        <p:spPr>
          <a:xfrm>
            <a:off x="2765520" y="2612880"/>
            <a:ext cx="101736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开头</a:t>
            </a:r>
            <a:endParaRPr b="1" lang="en-US" sz="4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2" name="WordArt 1046"/>
          <p:cNvSpPr txBox="1"/>
          <p:nvPr/>
        </p:nvSpPr>
        <p:spPr>
          <a:xfrm>
            <a:off x="5127480" y="2612880"/>
            <a:ext cx="101772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主体</a:t>
            </a:r>
            <a:endParaRPr b="1" lang="en-US" sz="4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3" name="WordArt 1047"/>
          <p:cNvSpPr txBox="1"/>
          <p:nvPr/>
        </p:nvSpPr>
        <p:spPr>
          <a:xfrm>
            <a:off x="7337520" y="2689200"/>
            <a:ext cx="1017360" cy="90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结尾</a:t>
            </a:r>
            <a:endParaRPr b="1" lang="en-US" sz="4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4" name="AutoShape 1051"/>
          <p:cNvSpPr/>
          <p:nvPr/>
        </p:nvSpPr>
        <p:spPr>
          <a:xfrm>
            <a:off x="4172040" y="2948040"/>
            <a:ext cx="677880" cy="372960"/>
          </a:xfrm>
          <a:prstGeom prst="rightArrow">
            <a:avLst>
              <a:gd name="adj1" fmla="val 50000"/>
              <a:gd name="adj2" fmla="val 4162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AutoShape 1052"/>
          <p:cNvSpPr/>
          <p:nvPr/>
        </p:nvSpPr>
        <p:spPr>
          <a:xfrm>
            <a:off x="6381720" y="2948040"/>
            <a:ext cx="677880" cy="372960"/>
          </a:xfrm>
          <a:prstGeom prst="rightArrow">
            <a:avLst>
              <a:gd name="adj1" fmla="val 50000"/>
              <a:gd name="adj2" fmla="val 4162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412800" y="1371600"/>
            <a:ext cx="302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-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）引出话题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第一本书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难忘）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880360" y="2316240"/>
            <a:ext cx="205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3-9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第一本书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的来历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753000" y="2925720"/>
            <a:ext cx="297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）进一步交代这是“真正的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第一本书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3574440" y="3611520"/>
            <a:ext cx="274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1-13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）与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第一本书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相关的人或事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0" name="Rectangle 13"/>
          <p:cNvSpPr/>
          <p:nvPr/>
        </p:nvSpPr>
        <p:spPr>
          <a:xfrm>
            <a:off x="1482840" y="449568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）呼应开头，表达对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第一本书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的珍视铭  记之情（不能忘本）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WordArt 14"/>
          <p:cNvSpPr txBox="1"/>
          <p:nvPr/>
        </p:nvSpPr>
        <p:spPr>
          <a:xfrm>
            <a:off x="492120" y="1447920"/>
            <a:ext cx="762120" cy="58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开头</a:t>
            </a:r>
            <a:endParaRPr b="1" lang="en-US" sz="4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2" name="WordArt 15"/>
          <p:cNvSpPr txBox="1"/>
          <p:nvPr/>
        </p:nvSpPr>
        <p:spPr>
          <a:xfrm>
            <a:off x="492120" y="2895480"/>
            <a:ext cx="762120" cy="5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主体</a:t>
            </a:r>
            <a:endParaRPr b="1" lang="en-US" sz="4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3" name="WordArt 16"/>
          <p:cNvSpPr txBox="1"/>
          <p:nvPr/>
        </p:nvSpPr>
        <p:spPr>
          <a:xfrm>
            <a:off x="492120" y="4495680"/>
            <a:ext cx="762120" cy="5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结尾</a:t>
            </a:r>
            <a:endParaRPr b="1" lang="en-US" sz="4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4" name="WordArt 19"/>
          <p:cNvSpPr txBox="1"/>
          <p:nvPr/>
        </p:nvSpPr>
        <p:spPr>
          <a:xfrm>
            <a:off x="2016000" y="5791320"/>
            <a:ext cx="1067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线索：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4307040" y="57150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第一本书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WordArt 21"/>
          <p:cNvSpPr txBox="1"/>
          <p:nvPr/>
        </p:nvSpPr>
        <p:spPr>
          <a:xfrm>
            <a:off x="720720" y="380880"/>
            <a:ext cx="23623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整体感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7"/>
          <p:cNvSpPr/>
          <p:nvPr/>
        </p:nvSpPr>
        <p:spPr>
          <a:xfrm>
            <a:off x="1531800" y="1828800"/>
            <a:ext cx="66978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文题“我的第一本书”仅仅指那本课本吗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?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还可以作怎样的理解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1116000" y="3933720"/>
            <a:ext cx="782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作者是怀着怎样的一种感情追忆他的“第一本书”的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  <a:ea typeface="黑体"/>
              </a:rPr>
              <a:t>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1789200" y="685800"/>
            <a:ext cx="329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整体感知文意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黑体"/>
              </a:rPr>
              <a:t>.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讨论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黑体"/>
              </a:rPr>
              <a:t>: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6872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研读文章，体会重点句子的深刻含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611280" y="1219320"/>
            <a:ext cx="75438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我的童年没有幽默，只有从荒寒的大自然感到一点儿生命最初的快乐和梦幻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当父亲听说我把那一半书给了同学时，为什么“深深叹着气”？“我”的父亲是一位怎样的父亲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我的第一本书实在应当写写，如果不写，我就枉读了这几十年的书，更枉写了这几十年的诗。人不能忘本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3399ff"/>
                </a:solidFill>
                <a:latin typeface="Arial"/>
              </a:rPr>
              <a:t>作者的第一本书为什么值得我用崇敬的心灵去赞美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1032"/>
          <p:cNvSpPr txBox="1"/>
          <p:nvPr/>
        </p:nvSpPr>
        <p:spPr>
          <a:xfrm>
            <a:off x="1855800" y="765000"/>
            <a:ext cx="561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我的第一本书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13" name="Text Box 1033"/>
          <p:cNvSpPr/>
          <p:nvPr/>
        </p:nvSpPr>
        <p:spPr>
          <a:xfrm>
            <a:off x="539640" y="2146320"/>
            <a:ext cx="2252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从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荒寒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的大自然间感应到生命最初的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黑体"/>
              </a:rPr>
              <a:t>快乐和梦幻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Line 1034"/>
          <p:cNvSpPr/>
          <p:nvPr/>
        </p:nvSpPr>
        <p:spPr>
          <a:xfrm>
            <a:off x="2647800" y="3357720"/>
            <a:ext cx="93672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Line 1035"/>
          <p:cNvSpPr/>
          <p:nvPr/>
        </p:nvSpPr>
        <p:spPr>
          <a:xfrm flipH="1">
            <a:off x="2576160" y="3645000"/>
            <a:ext cx="86364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Text Box 1036"/>
          <p:cNvSpPr/>
          <p:nvPr/>
        </p:nvSpPr>
        <p:spPr>
          <a:xfrm>
            <a:off x="4606560" y="31417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我的第一本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AutoShape 1037"/>
          <p:cNvSpPr/>
          <p:nvPr/>
        </p:nvSpPr>
        <p:spPr>
          <a:xfrm>
            <a:off x="6464160" y="1989000"/>
            <a:ext cx="144720" cy="3745080"/>
          </a:xfrm>
          <a:custGeom>
            <a:avLst/>
            <a:gdLst>
              <a:gd name="textAreaLeft" fmla="*/ 92520 w 144720"/>
              <a:gd name="textAreaRight" fmla="*/ 145080 w 144720"/>
              <a:gd name="textAreaTop" fmla="*/ 97560 h 3745080"/>
              <a:gd name="textAreaBottom" fmla="*/ 3647520 h 374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Text Box 1038"/>
          <p:cNvSpPr/>
          <p:nvPr/>
        </p:nvSpPr>
        <p:spPr>
          <a:xfrm>
            <a:off x="6608880" y="1773360"/>
            <a:ext cx="237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父子之情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同学朋友之情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人与狗的情趣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语文备课大师 www.xiexingcun.com【全免费】</dc:creator>
  <dc:description>语文备课大师 www.xiexingcun.com【全免费】</dc:description>
  <dc:language>en-US</dc:language>
  <cp:lastModifiedBy>备课大师</cp:lastModifiedBy>
  <dcterms:modified xsi:type="dcterms:W3CDTF">2015-03-07T18:27:38Z</dcterms:modified>
  <cp:revision>0</cp:revision>
  <dc:subject> </dc:subject>
  <dc:title>语文备课大师 www.xiexingcun.com【全免费】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