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F7B-00C5-4399-AA2D-240BCC90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0D22-0AA8-47EC-8BBE-74E74B48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53D-35B3-4255-BC73-11CE7F36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288-FDC1-4273-B8AD-F5E9E343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F4B6-D262-4A32-B563-E5FD97C2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C285-6053-4519-A6BF-834C6A5E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1765-ED5B-4393-A90D-859BE09D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FDAE-320F-48FD-92A3-E855C4ED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BB86-0ED1-4B86-AC42-DE5DD758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F90C-565E-402B-B41A-07422D84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1C43-BC33-4882-978D-F439D0B1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4F2-C76D-4B5A-A5C9-89B39110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E021-8303-450F-ACD0-2703EFB8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ED56-989B-4B37-BD57-656487F9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0341-BB3B-4B9B-ABD7-F84D4D7D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EC33-FE4B-4D56-9C59-58F8141E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7277-4E5C-4120-8489-FC5257A1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B16-7E20-494B-A7EE-21891FAA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87C-0631-4B88-9A01-D503D214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CD3-BA51-4368-B1EB-6B8AAE09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2CE-8801-44E6-9E69-0C47E2A6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3680-4A21-43B5-8826-BAE128AB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392F-91B1-4815-8B4E-66E6EE09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FD5B-3DEB-41C2-B2F1-7220F61A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F411-6129-4A5D-98F7-70054F4597E5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BDE7-544D-4C99-8EC8-CBC65420A44D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95280" y="175248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c00"/>
                </a:solidFill>
                <a:latin typeface="Tahoma"/>
              </a:rPr>
              <a:t>我的第一本书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105520" y="44956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  <a:ea typeface="仿宋_GB2312"/>
              </a:rPr>
              <a:t>牛 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934920" y="706320"/>
            <a:ext cx="82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但是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毕竟是童年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无论生活多么艰苦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也抹不去与生俱来的童年的好奇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天真和淘气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能和小伙伴们在一起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和小动物在一起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回到大自然中间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就是快乐的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而且童年时代只要玩起来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什么困苦都会忘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这就是生命最初的快乐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47640" y="549360"/>
            <a:ext cx="849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我的第一本书实在应当写写，如果不写，我就枉读了这几十年的书，更枉写了这几十年的诗。人不能忘本。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黑体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怎样理解“枉读了这几十年的书”“枉写了这几十年的诗”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黑体"/>
              </a:rPr>
              <a:t>?“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人不能忘本”的“本”在这里指什么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黑体"/>
              </a:rPr>
              <a:t>?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843120" y="31543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这里的“枉”字可以理解为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: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白白地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无价值地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无意义地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作者的第一本书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既是求知的第一本书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更是人生的第一本书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如果这第一本书不写出来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那么这几十年的读书和写书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(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诗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)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就失去了意义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变得毫无价值了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因为你忘记了知识的源头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6"/>
          <p:cNvSpPr/>
          <p:nvPr/>
        </p:nvSpPr>
        <p:spPr>
          <a:xfrm>
            <a:off x="1046160" y="1197000"/>
            <a:ext cx="786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人生的起点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你忘记了过去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即忘本了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作者最后说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: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人不能忘本”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巧妙地运用了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双关的修辞手法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黑体"/>
              </a:rPr>
              <a:t>,“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本”这里指课本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那第一本国语教材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也指人生成长历程中最初的最有价值的奠基性的东西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黑体"/>
              </a:rPr>
              <a:t>.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作者所指主要是后者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6"/>
          <p:cNvSpPr txBox="1"/>
          <p:nvPr/>
        </p:nvSpPr>
        <p:spPr>
          <a:xfrm>
            <a:off x="2243160" y="765000"/>
            <a:ext cx="56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的第一本书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927000" y="2146320"/>
            <a:ext cx="22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从荒寒的大自然间感应到生命最初的快乐和梦幻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3035160" y="3357720"/>
            <a:ext cx="936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2963520" y="3645000"/>
            <a:ext cx="86364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5121360" y="3141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我的第一本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6851520" y="1989000"/>
            <a:ext cx="144720" cy="3745080"/>
          </a:xfrm>
          <a:custGeom>
            <a:avLst/>
            <a:gdLst>
              <a:gd name="textAreaLeft" fmla="*/ 92520 w 144720"/>
              <a:gd name="textAreaRight" fmla="*/ 145080 w 14472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6996240" y="1773360"/>
            <a:ext cx="237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父子之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同学朋友之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人与狗的情趣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  <a:ea typeface="仿宋_GB2312"/>
              </a:rPr>
              <a:t>拓展延伸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9320" y="2514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隶书"/>
              </a:rPr>
              <a:t>读了本课，你最大的感受是什么？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隶书"/>
              </a:rPr>
              <a:t> 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2467080" y="2867040"/>
            <a:ext cx="6769080" cy="1125360"/>
            <a:chOff x="2467080" y="2867040"/>
            <a:chExt cx="6769080" cy="1125360"/>
          </a:xfrm>
        </p:grpSpPr>
        <p:sp>
          <p:nvSpPr>
            <p:cNvPr id="111" name="Rectangle 5"/>
            <p:cNvSpPr/>
            <p:nvPr/>
          </p:nvSpPr>
          <p:spPr>
            <a:xfrm>
              <a:off x="2467080" y="2867040"/>
              <a:ext cx="676908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2467080" y="2867040"/>
              <a:ext cx="668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13" name="Group 7"/>
          <p:cNvGrpSpPr/>
          <p:nvPr/>
        </p:nvGrpSpPr>
        <p:grpSpPr>
          <a:xfrm>
            <a:off x="2467080" y="2209680"/>
            <a:ext cx="6769080" cy="2438280"/>
            <a:chOff x="2467080" y="2209680"/>
            <a:chExt cx="6769080" cy="2438280"/>
          </a:xfrm>
        </p:grpSpPr>
        <p:sp>
          <p:nvSpPr>
            <p:cNvPr id="114" name="Rectangle 8"/>
            <p:cNvSpPr/>
            <p:nvPr/>
          </p:nvSpPr>
          <p:spPr>
            <a:xfrm>
              <a:off x="2467080" y="2209680"/>
              <a:ext cx="676908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>
              <a:off x="2467080" y="2209680"/>
              <a:ext cx="6697800" cy="12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2003071810031000000"/>
          <p:cNvPicPr/>
          <p:nvPr/>
        </p:nvPicPr>
        <p:blipFill>
          <a:blip r:embed="rId2"/>
          <a:stretch/>
        </p:blipFill>
        <p:spPr>
          <a:xfrm>
            <a:off x="1676520" y="1066680"/>
            <a:ext cx="3200400" cy="4322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5076720" y="2693880"/>
            <a:ext cx="40672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牛汉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生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92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年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月，山西省人。抗日战争期间在陕甘地区读中学、大学。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94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年发表作品，主要写诗，近十年写作散文。已出版诗集十余本，散文集七本，诗话集两本。此外还参与主编中国现当代诗选数部，台湾编印了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牛汉散文精选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。从事文学编辑工作半个多世纪，曾主编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新文学史料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二十年，现为中国作协全国名誉委员，中国诗歌协会副会长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585800" y="1052640"/>
            <a:ext cx="7344000" cy="24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根据文章的内容，请你说说文中讲述的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我的第一本书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是一本什么样的书？（来历、意义、外观等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333300"/>
                </a:solidFill>
                <a:latin typeface="Times New Roman"/>
              </a:rPr>
              <a:t>这是一本</a:t>
            </a:r>
            <a:r>
              <a:rPr b="1" lang="zh-CN" sz="4400" spc="-1" strike="noStrike" u="sng">
                <a:solidFill>
                  <a:srgbClr val="333300"/>
                </a:solidFill>
                <a:uFillTx/>
                <a:latin typeface="Times New Roman"/>
              </a:rPr>
              <a:t>                     </a:t>
            </a:r>
            <a:r>
              <a:rPr b="1" lang="zh-CN" sz="4400" spc="-1" strike="noStrike">
                <a:solidFill>
                  <a:srgbClr val="333300"/>
                </a:solidFill>
                <a:latin typeface="Times New Roman"/>
              </a:rPr>
              <a:t>的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1403280" y="1047600"/>
            <a:ext cx="7416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方正舒体"/>
              </a:rPr>
              <a:t>课文中哪些内容你比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方正舒体"/>
              </a:rPr>
              <a:t>        </a:t>
            </a: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方正舒体"/>
              </a:rPr>
              <a:t>较感兴趣？能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方正舒体"/>
              </a:rPr>
              <a:t>              </a:t>
            </a: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方正舒体"/>
              </a:rPr>
              <a:t>说理由吗？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739800" y="765000"/>
            <a:ext cx="66978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整体感知文意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.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讨论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文题“我的第一本书”仅仅指那本课本吗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?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还可以作怎样的理解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95280" y="393372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作者是怀着怎样的一种感情追忆他的“第一本书”的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-10800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文题“我的第一本书”仅仅指那本课本吗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?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还可以作怎样的理解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-36360" y="270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我的第一本书”不仅仅指那半本课本，也指“我”人生的第一课。这人生的第一课，蕴含着艰辛，人间温情，同学的友谊和上学的乐趣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998640" y="9079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作者是怀着怎样的一种感情追忆他的“第一本书”的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998640" y="227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作者是怀着沉重的心情，敬重、珍爱的感情追忆“第一本书”的，感情复杂，心情沉重，因为那本书里深藏着苦难的生活和恶劣的学习条件与环境，同时也映照着那个时代人们不幸的命运，以及在那种荒寒背景下特别可贵的一点儿乐趣和温情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我的第一本书"/>
          <p:cNvPicPr/>
          <p:nvPr/>
        </p:nvPicPr>
        <p:blipFill>
          <a:blip r:embed="rId2"/>
          <a:stretch/>
        </p:blipFill>
        <p:spPr>
          <a:xfrm>
            <a:off x="804960" y="404640"/>
            <a:ext cx="6804000" cy="6453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7889040" y="-1292400"/>
            <a:ext cx="1094760" cy="9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品析文中的重要语句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-36360" y="981000"/>
            <a:ext cx="914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1.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我的童年没有幽默，只有从荒寒的大自然感到一点儿生命最初的快乐和梦幻。”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作者对童年的感觉是怎样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?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联系下文看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,“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生命最初的快乐和梦幻”是什么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?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19280" y="3068640"/>
            <a:ext cx="83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作者对童年的感觉是辛酸的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,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童年没有幽默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写其童年生活的艰苦和沉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不仅自己家的生活是窘困的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几乎所有同学都在生存的底线上挣扎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语文备课大师 www.xiexingcun.com【全免费】</dc:creator>
  <dc:description>语文备课大师 www.xiexingcun.com【全免费】</dc:description>
  <dc:language>en-US</dc:language>
  <cp:lastModifiedBy>备课大师</cp:lastModifiedBy>
  <dcterms:modified xsi:type="dcterms:W3CDTF">2015-03-07T18:27:38Z</dcterms:modified>
  <cp:revision>0</cp:revision>
  <dc:subject> </dc:subject>
  <dc:title>语文备课大师 www.xiexingcun.com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