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5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46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7.png" ContentType="image/png"/>
  <Override PartName="/ppt/media/image49.jpeg" ContentType="image/jpeg"/>
  <Override PartName="/ppt/media/image51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37503-583F-44D0-8B71-37BF80A1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90086-68F0-4BD7-AA12-DD04552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22E3-7202-422A-B2DE-3CB5A1D9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10F4-7B40-4568-93AA-A5369509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F491C-6E2E-4DDD-A17B-454C5EB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D06B-C195-4FCB-BCBE-4793236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19FDE-EC85-4500-9C22-C69124D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54A7F-F280-404F-A41F-B399AFE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5A27-A4CD-4138-936C-2E5D600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9B4B5-BF19-4FBB-8A15-D0A62F0A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5A669-5AC5-4E14-B051-842FB973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E7FBE-2A27-427A-A081-F3FC41E5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eb8a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eb8a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1F64-158C-418F-AA10-CA1F8AEECDC0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34.xm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s1934566"/>
          <p:cNvPicPr/>
          <p:nvPr/>
        </p:nvPicPr>
        <p:blipFill>
          <a:blip r:embed="rId1"/>
          <a:stretch/>
        </p:blipFill>
        <p:spPr>
          <a:xfrm>
            <a:off x="7164360" y="4292640"/>
            <a:ext cx="1674720" cy="2565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324000" y="332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导言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95280" y="30618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  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走近这位磨难中造就的伟人，去探访他深邃而丰富的内心世界。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老鹰之歌.mp3" descr=""/>
          <p:cNvPicPr/>
          <p:nvPr/>
        </p:nvPicPr>
        <p:blipFill>
          <a:blip r:embed="rId2"/>
          <a:stretch/>
        </p:blipFill>
        <p:spPr>
          <a:xfrm>
            <a:off x="6156360" y="6021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列夫·托尔斯泰（1848）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3095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Rectangle 5"/>
          <p:cNvSpPr/>
          <p:nvPr/>
        </p:nvSpPr>
        <p:spPr>
          <a:xfrm>
            <a:off x="1971000" y="2602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托尔斯泰的生平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1413000"/>
            <a:ext cx="69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列夫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托尔斯泰（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28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～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910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，出生于贵族家庭。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40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年入喀山大学，受到卢梭、孟德斯鸠等启蒙思想家影响。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47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年退学回故乡在自己领地上作改革农奴制的尝试。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51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～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54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年在高加索军队中服役并开始写作。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4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～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5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参加克里米亚战争。几年军旅生活不仅使他看到上流社会的腐化，而且为以后在其巨著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战争与和平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中能够逼真地描绘战争场面打下基础。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5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年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1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月到彼得堡进入文学界，其成名作：自传体小说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童年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5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）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少年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1857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），这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作品反映了他对贵族生活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批判态度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道德自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修养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主张和擅长心理分析的特色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Picture 4" descr="列夫·托尔斯泰1"/>
          <p:cNvPicPr/>
          <p:nvPr/>
        </p:nvPicPr>
        <p:blipFill>
          <a:blip r:embed="rId6"/>
          <a:stretch/>
        </p:blipFill>
        <p:spPr>
          <a:xfrm>
            <a:off x="7202520" y="3645000"/>
            <a:ext cx="1941480" cy="25207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列夫·托尔斯泰生活的庄园"/>
          <p:cNvPicPr/>
          <p:nvPr/>
        </p:nvPicPr>
        <p:blipFill>
          <a:blip r:embed="rId1"/>
          <a:srcRect l="0" t="0" r="0" b="8063"/>
          <a:stretch/>
        </p:blipFill>
        <p:spPr>
          <a:xfrm>
            <a:off x="0" y="0"/>
            <a:ext cx="4175280" cy="2879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Picture 5" descr="列夫·托尔斯泰的书房2"/>
          <p:cNvPicPr/>
          <p:nvPr/>
        </p:nvPicPr>
        <p:blipFill>
          <a:blip r:embed="rId2"/>
          <a:stretch/>
        </p:blipFill>
        <p:spPr>
          <a:xfrm>
            <a:off x="4818240" y="0"/>
            <a:ext cx="4325760" cy="28843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9" name="Text Box 6"/>
          <p:cNvSpPr/>
          <p:nvPr/>
        </p:nvSpPr>
        <p:spPr>
          <a:xfrm>
            <a:off x="250920" y="3141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托尔斯泰生活的庄园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863320" y="3141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托尔斯泰的书房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84360" y="3789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从中篇小说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一个地主的早晨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856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之中可以看到他站在自由主义贵族立场，主张自上而下改革而在自己庄园试验失败的过程。 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列夫·托尔斯泰的葬礼2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3608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3" name="Rectangle 3"/>
          <p:cNvSpPr/>
          <p:nvPr/>
        </p:nvSpPr>
        <p:spPr>
          <a:xfrm>
            <a:off x="762120" y="4419720"/>
            <a:ext cx="784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托尔斯泰晚年力求过简朴的平民生活，</a:t>
            </a:r>
            <a:r>
              <a:rPr b="1" lang="en-US" sz="3600" spc="-1" strike="noStrike">
                <a:solidFill>
                  <a:srgbClr val="333333"/>
                </a:solidFill>
                <a:latin typeface="华文新魏"/>
              </a:rPr>
              <a:t>1910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年</a:t>
            </a:r>
            <a:r>
              <a:rPr b="1" lang="en-US" sz="3600" spc="-1" strike="noStrike">
                <a:solidFill>
                  <a:srgbClr val="333333"/>
                </a:solidFill>
                <a:latin typeface="华文新魏"/>
              </a:rPr>
              <a:t>10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月从家中出走，</a:t>
            </a:r>
            <a:r>
              <a:rPr b="1" lang="en-US" sz="3600" spc="-1" strike="noStrike">
                <a:solidFill>
                  <a:srgbClr val="333333"/>
                </a:solidFill>
                <a:latin typeface="华文新魏"/>
              </a:rPr>
              <a:t>11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月</a:t>
            </a:r>
            <a:r>
              <a:rPr b="1" lang="en-US" sz="3600" spc="-1" strike="noStrike">
                <a:solidFill>
                  <a:srgbClr val="333333"/>
                </a:solidFill>
                <a:latin typeface="华文新魏"/>
              </a:rPr>
              <a:t>7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日病逝于一个小站，享年</a:t>
            </a:r>
            <a:r>
              <a:rPr b="1" lang="en-US" sz="3600" spc="-1" strike="noStrike">
                <a:solidFill>
                  <a:srgbClr val="333333"/>
                </a:solidFill>
                <a:latin typeface="华文新魏"/>
              </a:rPr>
              <a:t>82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</a:rPr>
              <a:t>岁，一代文学巨匠走完其人生旅程。 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xin_1421202020905771310594"/>
          <p:cNvPicPr/>
          <p:nvPr/>
        </p:nvPicPr>
        <p:blipFill>
          <a:blip r:embed="rId1"/>
          <a:stretch/>
        </p:blipFill>
        <p:spPr>
          <a:xfrm>
            <a:off x="4284720" y="260280"/>
            <a:ext cx="4286160" cy="424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xin_3ed1d8a4ba4a4f5a9ae3329958207e03_c5s606bs"/>
          <p:cNvPicPr/>
          <p:nvPr/>
        </p:nvPicPr>
        <p:blipFill>
          <a:blip r:embed="rId2"/>
          <a:stretch/>
        </p:blipFill>
        <p:spPr>
          <a:xfrm>
            <a:off x="324000" y="260280"/>
            <a:ext cx="3456000" cy="4824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00" y="544500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世间最美的坟墓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茨威格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xin_1421202020905500295063"/>
          <p:cNvPicPr/>
          <p:nvPr/>
        </p:nvPicPr>
        <p:blipFill>
          <a:blip r:embed="rId1"/>
          <a:stretch/>
        </p:blipFill>
        <p:spPr>
          <a:xfrm>
            <a:off x="900000" y="333360"/>
            <a:ext cx="4751640" cy="6251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130440" y="404640"/>
            <a:ext cx="1826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</a:rPr>
              <a:t>托尔斯泰和妻子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58000" y="2286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托尔斯泰主要作品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68360" y="692280"/>
            <a:ext cx="7235640" cy="64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2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自传三部曲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幼年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童年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少年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中篇小说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4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5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 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塞瓦斯托波尔的故事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短篇小说集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6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          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一个地主的早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短篇小说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7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  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琉森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短篇小说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52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62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  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哥萨克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中篇小说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63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69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  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战争与和平</a:t>
            </a:r>
            <a:r>
              <a:rPr b="1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（长篇小说）</a:t>
            </a: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1" name="Picture 4" descr="y-1"/>
          <p:cNvPicPr/>
          <p:nvPr/>
        </p:nvPicPr>
        <p:blipFill>
          <a:blip r:embed="rId19"/>
          <a:srcRect l="0" t="8145" r="0" b="0"/>
          <a:stretch/>
        </p:blipFill>
        <p:spPr>
          <a:xfrm>
            <a:off x="5508720" y="1628640"/>
            <a:ext cx="3325680" cy="4869000"/>
          </a:xfrm>
          <a:prstGeom prst="rect">
            <a:avLst/>
          </a:prstGeom>
          <a:ln w="572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y-2"/>
          <p:cNvPicPr/>
          <p:nvPr/>
        </p:nvPicPr>
        <p:blipFill>
          <a:blip r:embed="rId1"/>
          <a:srcRect l="4888" t="3260" r="3002" b="0"/>
          <a:stretch/>
        </p:blipFill>
        <p:spPr>
          <a:xfrm>
            <a:off x="395280" y="476280"/>
            <a:ext cx="2109960" cy="292572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Picture 5" descr="y-3"/>
          <p:cNvPicPr/>
          <p:nvPr/>
        </p:nvPicPr>
        <p:blipFill>
          <a:blip r:embed="rId2"/>
          <a:srcRect l="4885" t="0" r="0" b="0"/>
          <a:stretch/>
        </p:blipFill>
        <p:spPr>
          <a:xfrm rot="647400">
            <a:off x="468000" y="2997000"/>
            <a:ext cx="2087640" cy="345744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Rectangle 6"/>
          <p:cNvSpPr/>
          <p:nvPr/>
        </p:nvSpPr>
        <p:spPr>
          <a:xfrm>
            <a:off x="3276720" y="620640"/>
            <a:ext cx="554328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73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79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安娜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·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卡列尼娜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长篇小说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86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        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黑暗的势力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和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活尸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剧本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86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伊凡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·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伊里奇之死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中篇小说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86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904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哈泽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·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穆拉特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中篇小说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903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        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舞会以后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为什么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短篇小说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89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1899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年 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发表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复活</a:t>
            </a:r>
            <a:r>
              <a:rPr b="1" lang="en-US" sz="20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（长篇小说）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333333"/>
              </a:buClr>
              <a:buSzPct val="85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无标题"/>
          <p:cNvPicPr/>
          <p:nvPr/>
        </p:nvPicPr>
        <p:blipFill>
          <a:blip r:embed="rId1"/>
          <a:stretch/>
        </p:blipFill>
        <p:spPr>
          <a:xfrm>
            <a:off x="6291360" y="1268280"/>
            <a:ext cx="2852640" cy="422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2"/>
          <p:cNvPicPr/>
          <p:nvPr/>
        </p:nvPicPr>
        <p:blipFill>
          <a:blip r:embed="rId2"/>
          <a:stretch/>
        </p:blipFill>
        <p:spPr>
          <a:xfrm>
            <a:off x="3059280" y="549360"/>
            <a:ext cx="3387600" cy="432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3"/>
          <p:cNvPicPr/>
          <p:nvPr/>
        </p:nvPicPr>
        <p:blipFill>
          <a:blip r:embed="rId3"/>
          <a:stretch/>
        </p:blipFill>
        <p:spPr>
          <a:xfrm>
            <a:off x="108000" y="0"/>
            <a:ext cx="3233520" cy="4508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39640" y="5013360"/>
            <a:ext cx="6480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俄国革命的一面镜子”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宁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8"/>
          <p:cNvSpPr txBox="1"/>
          <p:nvPr/>
        </p:nvSpPr>
        <p:spPr>
          <a:xfrm>
            <a:off x="1692360" y="1268280"/>
            <a:ext cx="6119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16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检测预习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4840" y="170028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列 夫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·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托 尔 斯 泰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68360" y="3789360"/>
            <a:ext cx="464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茨 威 格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4" descr="茨威格4"/>
          <p:cNvPicPr/>
          <p:nvPr/>
        </p:nvPicPr>
        <p:blipFill>
          <a:blip r:embed="rId1"/>
          <a:stretch/>
        </p:blipFill>
        <p:spPr>
          <a:xfrm>
            <a:off x="6305400" y="3068640"/>
            <a:ext cx="2244960" cy="338472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8" name="Picture 5" descr="列夫·托尔斯泰画像"/>
          <p:cNvPicPr/>
          <p:nvPr/>
        </p:nvPicPr>
        <p:blipFill>
          <a:blip r:embed="rId2"/>
          <a:srcRect l="0" t="11811" r="0" b="33071"/>
          <a:stretch/>
        </p:blipFill>
        <p:spPr>
          <a:xfrm>
            <a:off x="324000" y="3213000"/>
            <a:ext cx="2663640" cy="331164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Text Box 6"/>
          <p:cNvSpPr/>
          <p:nvPr/>
        </p:nvSpPr>
        <p:spPr>
          <a:xfrm>
            <a:off x="3743280" y="2602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制作人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阳   红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95280" y="379800"/>
            <a:ext cx="8280360" cy="65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．读准横线上的字。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胡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髭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z</a:t>
            </a:r>
            <a:r>
              <a:rPr b="1" lang="en-US" sz="4000" spc="-1" strike="noStrike">
                <a:solidFill>
                  <a:srgbClr val="333333"/>
                </a:solidFill>
                <a:latin typeface="黑体"/>
                <a:ea typeface="黑体"/>
              </a:rPr>
              <a:t>ī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) 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长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髯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r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á</a:t>
            </a:r>
            <a:r>
              <a:rPr b="0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)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鬈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qu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发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黝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y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ǒ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u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黑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滞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zhì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留  愚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钝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d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ù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禁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锢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g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ù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) 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轩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xu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ā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昂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犀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x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ī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利侏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儒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r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ú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)  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酒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肆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sì)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尴尬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黑体"/>
              </a:rPr>
              <a:t>ā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à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)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锃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z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è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g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亮             甲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胄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zh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ò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u)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粲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càn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然                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盎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à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g)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然 </a:t>
            </a:r>
            <a:br>
              <a:rPr sz="4800"/>
            </a:br>
            <a:br>
              <a:rPr sz="3600"/>
            </a:b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755640" y="293760"/>
            <a:ext cx="665964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、辨字组词。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 </a:t>
            </a:r>
            <a:br>
              <a:rPr sz="4800"/>
            </a:b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  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  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滞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  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纯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带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  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钝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锢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  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尴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</a:t>
            </a:r>
            <a:br>
              <a:rPr sz="6600"/>
            </a:b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涸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    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滥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(    ) </a:t>
            </a:r>
            <a:br>
              <a:rPr sz="6600"/>
            </a:br>
            <a:br>
              <a:rPr sz="6000"/>
            </a:b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539640" y="776520"/>
            <a:ext cx="69850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、改正错别字。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 </a:t>
            </a:r>
            <a:br>
              <a:rPr sz="4800"/>
            </a:b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粗制烂造  鹤立鸡群  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正经危坐  诚皇诚恐 </a:t>
            </a:r>
            <a:br>
              <a:rPr sz="4800"/>
            </a:b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无可置凝  郁郁寡欢  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引人注目  藏污纳沟 </a:t>
            </a:r>
            <a:br>
              <a:rPr sz="4800"/>
            </a:br>
            <a:br>
              <a:rPr sz="3600"/>
            </a:b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798240" y="2205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滥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300720" y="3068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襟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640" y="30686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惶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7320" y="3789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疑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372360" y="4437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垢</a:t>
            </a:r>
            <a:endParaRPr b="1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611280" y="1697400"/>
            <a:ext cx="8532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器宇                     禁锢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轩昂                     鹤立鸡群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正襟危坐             诚惶诚恐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广袤无垠             颔首低眉</a:t>
            </a:r>
            <a:br>
              <a:rPr sz="8000"/>
            </a:b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391560" y="260280"/>
            <a:ext cx="12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．解释下列词语。 </a:t>
            </a:r>
            <a:br>
              <a:rPr sz="5400"/>
            </a:b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11280" y="159840"/>
            <a:ext cx="8532720" cy="84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黝黑：黑；黑暗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滞留：停留不动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愚钝：愚笨；不伶俐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犀利：锋利；锐利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侏儒：身材异常矮小的人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酒肆：酒馆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尴尬：处境困难，不好处理。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炽热：极热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粗制滥造：指产品制作粗劣，不讲究质量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藏污纳垢：比喻包容坏人坏事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郁郁寡欢：心情不舒畅，不快乐。 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无可置疑：没有什么可被怀疑。 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黯然失色：用以表示相形之下暗淡无光。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 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84040" y="404640"/>
            <a:ext cx="28616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积 累</a:t>
            </a:r>
            <a:endParaRPr b="1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WordArt 2" descr=""/>
          <p:cNvPicPr/>
          <p:nvPr/>
        </p:nvPicPr>
        <p:blipFill>
          <a:blip r:embed="rId1"/>
          <a:stretch/>
        </p:blipFill>
        <p:spPr>
          <a:xfrm>
            <a:off x="1176480" y="542880"/>
            <a:ext cx="5821200" cy="1743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692360" y="3645000"/>
            <a:ext cx="50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00000" y="299736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</a:rPr>
              <a:t>概括每个自然段的内容，并理清层次脉络。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90920" y="609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一段：须发的特点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590920" y="1219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二段：面部轮廓、结构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590920" y="1905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三段：面容表情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90920" y="2514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四段：长相平平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590920" y="3138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五段：外貌令人失望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90920" y="3733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六段：目光犀利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590920" y="4357800"/>
            <a:ext cx="39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七段：蕴含丰富情感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590920" y="5043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八段：眼睛具有威力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66880" y="5638680"/>
            <a:ext cx="36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第九段：眼睛的犀利                 与人生的不幸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1981080" y="914400"/>
            <a:ext cx="533520" cy="2666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2133720" y="3962520"/>
            <a:ext cx="304560" cy="2514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400800" y="762120"/>
            <a:ext cx="533520" cy="2819160"/>
          </a:xfrm>
          <a:custGeom>
            <a:avLst/>
            <a:gdLst>
              <a:gd name="textAreaLeft" fmla="*/ 0 w 533520"/>
              <a:gd name="textAreaRight" fmla="*/ 192600 w 5335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6477120" y="3962520"/>
            <a:ext cx="533160" cy="2590560"/>
          </a:xfrm>
          <a:custGeom>
            <a:avLst/>
            <a:gdLst>
              <a:gd name="textAreaLeft" fmla="*/ 0 w 533160"/>
              <a:gd name="textAreaRight" fmla="*/ 192600 w 5331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6149880" y="836640"/>
            <a:ext cx="152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f217b"/>
                </a:solidFill>
                <a:latin typeface="Times New Roman"/>
              </a:rPr>
              <a:t>外貌特征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221160" y="3860640"/>
            <a:ext cx="152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f217b"/>
                </a:solidFill>
                <a:latin typeface="Times New Roman"/>
              </a:rPr>
              <a:t>眼光犀利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7620120" y="1295280"/>
            <a:ext cx="533160" cy="4496040"/>
          </a:xfrm>
          <a:custGeom>
            <a:avLst/>
            <a:gdLst>
              <a:gd name="textAreaLeft" fmla="*/ 0 w 533160"/>
              <a:gd name="textAreaRight" fmla="*/ 192600 w 53316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065360" y="836640"/>
            <a:ext cx="182628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13"/>
                </a:solidFill>
                <a:latin typeface="Times New Roman"/>
                <a:ea typeface="方正姚体"/>
              </a:rPr>
              <a:t>深邃的精神世界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762120" y="175248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441360" y="1219320"/>
            <a:ext cx="549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-32760" y="1500120"/>
            <a:ext cx="78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经典魏碑简"/>
              </a:rPr>
              <a:t>列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经典魏碑简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经典魏碑简"/>
              </a:rPr>
              <a:t>托尔斯泰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1191240" y="1295280"/>
            <a:ext cx="789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第一部分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58080" y="3962520"/>
            <a:ext cx="1399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第二部分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ordArt 2" descr=""/>
          <p:cNvPicPr/>
          <p:nvPr/>
        </p:nvPicPr>
        <p:blipFill>
          <a:blip r:embed="rId1"/>
          <a:stretch/>
        </p:blipFill>
        <p:spPr>
          <a:xfrm>
            <a:off x="4200480" y="469800"/>
            <a:ext cx="3370320" cy="1316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101"/>
          <p:cNvPicPr/>
          <p:nvPr/>
        </p:nvPicPr>
        <p:blipFill>
          <a:blip r:embed="rId2"/>
          <a:stretch/>
        </p:blipFill>
        <p:spPr>
          <a:xfrm>
            <a:off x="250920" y="1052640"/>
            <a:ext cx="2592360" cy="43210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3348000" y="251352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、作者是怎样揭示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托尔斯泰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的内心世界的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? 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230720" y="4221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描写外貌</a:t>
            </a:r>
            <a:endParaRPr b="1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WordArt 2" descr=""/>
          <p:cNvPicPr/>
          <p:nvPr/>
        </p:nvPicPr>
        <p:blipFill>
          <a:blip r:embed="rId1"/>
          <a:stretch/>
        </p:blipFill>
        <p:spPr>
          <a:xfrm>
            <a:off x="3913200" y="328680"/>
            <a:ext cx="3371760" cy="131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3348000" y="1916280"/>
            <a:ext cx="5256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你能找出多少关于托尔斯泰外貌描写的句子呢？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3" name="Picture 4" descr="101"/>
          <p:cNvPicPr/>
          <p:nvPr/>
        </p:nvPicPr>
        <p:blipFill>
          <a:blip r:embed="rId2"/>
          <a:stretch/>
        </p:blipFill>
        <p:spPr>
          <a:xfrm>
            <a:off x="250920" y="981000"/>
            <a:ext cx="2592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列夫·托尔斯泰（1863）"/>
          <p:cNvPicPr/>
          <p:nvPr/>
        </p:nvPicPr>
        <p:blipFill>
          <a:blip r:embed="rId1"/>
          <a:stretch/>
        </p:blipFill>
        <p:spPr>
          <a:xfrm>
            <a:off x="324000" y="620640"/>
            <a:ext cx="4368600" cy="56181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Rectangle 5"/>
          <p:cNvSpPr/>
          <p:nvPr/>
        </p:nvSpPr>
        <p:spPr>
          <a:xfrm>
            <a:off x="5897160" y="33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胡子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Text Box 6">
            <a:hlinkClick r:id="rId2" action="ppaction://hlinksldjump"/>
          </p:cNvPr>
          <p:cNvSpPr/>
          <p:nvPr/>
        </p:nvSpPr>
        <p:spPr>
          <a:xfrm>
            <a:off x="5435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眉毛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80000" y="22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头发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867280" y="508464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眼神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508720" y="4149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眼睛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796000" y="321300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微软简标宋"/>
              </a:rPr>
              <a:t>鼻子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145280" y="549360"/>
            <a:ext cx="1521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哪几方面描写的？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266280" y="457200"/>
            <a:ext cx="27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简介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茨威格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1752480"/>
            <a:ext cx="556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斯蒂芬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茨威格（</a:t>
            </a:r>
            <a:r>
              <a:rPr b="1" lang="en-US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881-1942</a:t>
            </a: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奥地利著名小说家、传记作家，出身于富裕的犹太家庭。青年时代在维也纳和柏林攻读哲学和文学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r>
              <a:rPr b="0" lang="zh-CN" sz="800" spc="-1" strike="noStrike">
                <a:solidFill>
                  <a:srgbClr val="cccc00"/>
                </a:solidFill>
                <a:latin typeface="黑体"/>
                <a:ea typeface="黑体"/>
              </a:rPr>
              <a:t>学科网 </a:t>
            </a:r>
            <a:r>
              <a:rPr b="0" lang="en-US" sz="800" spc="-1" strike="noStrike">
                <a:solidFill>
                  <a:srgbClr val="cccc00"/>
                </a:solidFill>
                <a:latin typeface="黑体"/>
                <a:ea typeface="黑体"/>
              </a:rPr>
              <a:t>zxxk</a:t>
            </a:r>
            <a:endParaRPr b="1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4" descr="茨威格1"/>
          <p:cNvPicPr/>
          <p:nvPr/>
        </p:nvPicPr>
        <p:blipFill>
          <a:blip r:embed="rId2"/>
          <a:stretch/>
        </p:blipFill>
        <p:spPr>
          <a:xfrm>
            <a:off x="6095880" y="1828800"/>
            <a:ext cx="2621160" cy="37688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64000" y="404280"/>
            <a:ext cx="3744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胡   子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长髯覆盖了两颊，遮住了嘴唇，遮住了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皱似树皮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黝黑脸膛。一根根迎风飘动，颇有长者风度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……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他那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天父般的犹如卷起的滔滔白浪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大胡子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0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92000" y="907560"/>
            <a:ext cx="3095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眉   毛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65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宽约一指的眉毛</a:t>
            </a: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像纠缠不清的树根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，朝上倒竖。”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32637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头  发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一绺绺灰白的鬈发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像泡沫一样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堆在额头上。不管从哪个角度看，你都能见到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热带森林般茂密的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须发”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19280" y="620280"/>
            <a:ext cx="3911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鼻   子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我们见到的是一只宽宽的、两孔朝天的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狮子鼻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，</a:t>
            </a: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仿佛被人一拳头打塌了的样子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3240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66ff"/>
                </a:solidFill>
                <a:uFillTx/>
                <a:latin typeface="Times New Roman"/>
                <a:hlinkClick r:id="rId1" action="ppaction://hlinksldjump"/>
              </a:rPr>
              <a:t>眼    睛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3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托尔斯泰这对眼睛里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一百只眼珠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这对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珠宝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有魔力，有磁性，可以把人世间的物质吸进去，然后向我们这个时代放射出精确无误的频波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当这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一副寒光四射的匕首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转而对准它们的主人时是十分可怕的，因为锋刃无情，直戳要害，正好刺中了他的心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3408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眼    神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0" lang="zh-CN" sz="6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像</a:t>
            </a:r>
            <a:r>
              <a:rPr b="0" lang="zh-CN" sz="6000" spc="-1" strike="noStrike">
                <a:solidFill>
                  <a:srgbClr val="333333"/>
                </a:solidFill>
                <a:latin typeface="华文新魏"/>
                <a:ea typeface="华文新魏"/>
              </a:rPr>
              <a:t>枪弹穿透了伪装的</a:t>
            </a:r>
            <a:r>
              <a:rPr b="0" lang="zh-CN" sz="6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甲胄</a:t>
            </a:r>
            <a:r>
              <a:rPr b="0" lang="zh-CN" sz="6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它</a:t>
            </a:r>
            <a:r>
              <a:rPr b="0" lang="zh-CN" sz="6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像</a:t>
            </a:r>
            <a:r>
              <a:rPr b="0" lang="zh-CN" sz="6000" spc="-1" strike="noStrike">
                <a:solidFill>
                  <a:srgbClr val="333333"/>
                </a:solidFill>
                <a:latin typeface="华文新魏"/>
                <a:ea typeface="华文新魏"/>
              </a:rPr>
              <a:t>金刚刀切开了</a:t>
            </a:r>
            <a:r>
              <a:rPr b="0" lang="zh-CN" sz="6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玻璃</a:t>
            </a: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WordArt 2" descr=""/>
          <p:cNvPicPr/>
          <p:nvPr/>
        </p:nvPicPr>
        <p:blipFill>
          <a:blip r:embed="rId1"/>
          <a:stretch/>
        </p:blipFill>
        <p:spPr>
          <a:xfrm>
            <a:off x="3121200" y="328680"/>
            <a:ext cx="5535360" cy="1549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3348000" y="1916280"/>
            <a:ext cx="5491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概括他面部轮廓的总体特征。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6" name="Picture 4" descr="101"/>
          <p:cNvPicPr/>
          <p:nvPr/>
        </p:nvPicPr>
        <p:blipFill>
          <a:blip r:embed="rId2"/>
          <a:stretch/>
        </p:blipFill>
        <p:spPr>
          <a:xfrm>
            <a:off x="250920" y="1844640"/>
            <a:ext cx="3097080" cy="432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505320" y="3886200"/>
            <a:ext cx="5029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多毛，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浓密的胡须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WordArt 2" descr=""/>
          <p:cNvPicPr/>
          <p:nvPr/>
        </p:nvPicPr>
        <p:blipFill>
          <a:blip r:embed="rId1"/>
          <a:stretch/>
        </p:blipFill>
        <p:spPr>
          <a:xfrm>
            <a:off x="1682640" y="328680"/>
            <a:ext cx="3370320" cy="1317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539640" y="1916280"/>
            <a:ext cx="78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突出了托尔斯泰外表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的</a:t>
            </a:r>
            <a:r>
              <a:rPr b="1" lang="zh-CN" sz="5400" spc="-1" strike="noStrike" u="sng">
                <a:solidFill>
                  <a:srgbClr val="333333"/>
                </a:solidFill>
                <a:uFillTx/>
                <a:latin typeface="Comic Sans MS"/>
                <a:ea typeface="楷体_GB2312"/>
              </a:rPr>
              <a:t>                </a:t>
            </a:r>
            <a:r>
              <a:rPr b="1" lang="zh-CN" sz="54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特点？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4" descr="101"/>
          <p:cNvPicPr/>
          <p:nvPr/>
        </p:nvPicPr>
        <p:blipFill>
          <a:blip r:embed="rId2"/>
          <a:stretch/>
        </p:blipFill>
        <p:spPr>
          <a:xfrm>
            <a:off x="6659640" y="4653000"/>
            <a:ext cx="2089080" cy="2205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6360" y="3500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平庸甚至丑陋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WordArt 2" descr=""/>
          <p:cNvPicPr/>
          <p:nvPr/>
        </p:nvPicPr>
        <p:blipFill>
          <a:blip r:embed="rId1"/>
          <a:stretch/>
        </p:blipFill>
        <p:spPr>
          <a:xfrm>
            <a:off x="743040" y="255600"/>
            <a:ext cx="3378240" cy="1317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611280" y="1628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作者运用了</a:t>
            </a:r>
            <a:r>
              <a:rPr b="0" lang="zh-CN" sz="4800" spc="-1" strike="noStrike" u="sng">
                <a:solidFill>
                  <a:srgbClr val="333333"/>
                </a:solidFill>
                <a:uFillTx/>
                <a:latin typeface="Times New Roman"/>
              </a:rPr>
              <a:t>           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手法描写托尔斯泰外貌特征的？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68360" y="3357720"/>
            <a:ext cx="73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收到了怎样的表达效果？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708360" y="141300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夸张</a:t>
            </a:r>
            <a:endParaRPr b="1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39640" y="42926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不仅使托尔斯泰的外貌特征给人留下鲜明深刻的印象，而且让人产生无尽的联想。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WordArt 2" descr=""/>
          <p:cNvPicPr/>
          <p:nvPr/>
        </p:nvPicPr>
        <p:blipFill>
          <a:blip r:embed="rId1"/>
          <a:stretch/>
        </p:blipFill>
        <p:spPr>
          <a:xfrm>
            <a:off x="817560" y="-6480"/>
            <a:ext cx="3516480" cy="15066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539640" y="1413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这样夸张的描写并未损害托尔斯泰在读者心目中高大不凡的形象，这是为什么？这样描写对塑造人物形象有什么作用？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476360" y="378936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284640"/>
            <a:ext cx="82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）说明他是俄国人民大众的一员，与全体俄国人民同呼吸共命运；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）反衬他灵魂的高贵，眼睛的精美绝伦；“形”“神”兼备，相互衬托，留下强烈深刻印象。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茨威格2"/>
          <p:cNvPicPr/>
          <p:nvPr/>
        </p:nvPicPr>
        <p:blipFill>
          <a:blip r:embed="rId1"/>
          <a:stretch/>
        </p:blipFill>
        <p:spPr>
          <a:xfrm>
            <a:off x="5435640" y="333360"/>
            <a:ext cx="2630520" cy="36720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5" descr="茨威格4"/>
          <p:cNvPicPr/>
          <p:nvPr/>
        </p:nvPicPr>
        <p:blipFill>
          <a:blip r:embed="rId2"/>
          <a:stretch/>
        </p:blipFill>
        <p:spPr>
          <a:xfrm>
            <a:off x="1042920" y="333360"/>
            <a:ext cx="2384640" cy="36720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Rectangle 6"/>
          <p:cNvSpPr/>
          <p:nvPr/>
        </p:nvSpPr>
        <p:spPr>
          <a:xfrm>
            <a:off x="684360" y="4508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后去世界各地游历，结识罗曼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·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曼兰和罗丹等人，并受到他们的影响。第一次世界大战时从事反战工作，成为著名的和平主义者。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5s606"/>
          <p:cNvPicPr/>
          <p:nvPr/>
        </p:nvPicPr>
        <p:blipFill>
          <a:blip r:embed="rId1"/>
          <a:stretch/>
        </p:blipFill>
        <p:spPr>
          <a:xfrm>
            <a:off x="179280" y="3500280"/>
            <a:ext cx="2502000" cy="3357720"/>
          </a:xfrm>
          <a:prstGeom prst="rect">
            <a:avLst/>
          </a:prstGeom>
          <a:ln w="0">
            <a:noFill/>
          </a:ln>
        </p:spPr>
      </p:pic>
      <p:pic>
        <p:nvPicPr>
          <p:cNvPr id="232" name="WordArt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560" y="255600"/>
            <a:ext cx="6040440" cy="1268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132000" y="3068640"/>
            <a:ext cx="57610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为什么重点写他的眼睛</a:t>
            </a:r>
            <a:r>
              <a:rPr b="1" lang="en-US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找出相关语句理解其含义。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755640" y="1484280"/>
            <a:ext cx="7561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6.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作者着力描写的是托尔斯泰的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＿＿＿＿＿＿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87280" y="21337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睛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116000" y="1628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通过写眼睛来写他的敏察、深刻，写他作为伟大作家的杰出才能，写他是时代的透视镜和多棱镜。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95280" y="47628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明确：</a:t>
            </a:r>
            <a:endParaRPr b="1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826920" y="260280"/>
            <a:ext cx="2881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3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体验情感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39640" y="2060640"/>
            <a:ext cx="813780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7.</a:t>
            </a: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们体会到作者字里行间渗透着对托尔斯泰的</a:t>
            </a:r>
            <a:r>
              <a:rPr b="1" lang="zh-CN" sz="54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情吗？</a:t>
            </a:r>
            <a:r>
              <a:rPr b="1" lang="zh-CN" sz="44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en-US" sz="44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              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403280" y="41497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崇敬、赞美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4"/>
          <p:cNvPicPr/>
          <p:nvPr/>
        </p:nvPicPr>
        <p:blipFill>
          <a:blip r:embed="rId1"/>
          <a:stretch/>
        </p:blipFill>
        <p:spPr>
          <a:xfrm>
            <a:off x="0" y="3500280"/>
            <a:ext cx="2543040" cy="3357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755640" y="1557360"/>
            <a:ext cx="7561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艺术手法上的独特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3" name="WordArt 4" descr=""/>
          <p:cNvPicPr/>
          <p:nvPr/>
        </p:nvPicPr>
        <p:blipFill>
          <a:blip r:embed="rId2"/>
          <a:stretch/>
        </p:blipFill>
        <p:spPr>
          <a:xfrm>
            <a:off x="457200" y="-6480"/>
            <a:ext cx="3517920" cy="18590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2735280" y="2781360"/>
            <a:ext cx="640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写出自己心中伟人的平庸粗陋的一面；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大量运用比喻和夸张的修辞手法。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613584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611280" y="260280"/>
            <a:ext cx="2879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问题探究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6" descr="２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395280" y="385056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理解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直到年纪大了以后胡子才变成白色，因而显出几分慈祥可敬。直到生命的最后十年，他脸上笼罩的厚厚一层阴云才消除了；直到人生的晚秋，俊秀之光才使这块悲凉之地解冻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段话的含意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13584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611280" y="260280"/>
            <a:ext cx="2879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问题探究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51" name="Picture 4" descr="２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468360" y="318996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结尾：一方面说托尔斯泰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可以任意支配整个世界及其知识财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可见他是幸福的；但另一方面又说他得不到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属于自己的那一份幸福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这是否矛盾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你怎样理解作者所说的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幸福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含义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938960" y="5877000"/>
            <a:ext cx="53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联系托尔斯泰的生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主要是晚年的思想变化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5"/>
          <p:cNvPicPr/>
          <p:nvPr/>
        </p:nvPicPr>
        <p:blipFill>
          <a:blip r:embed="rId1"/>
          <a:stretch/>
        </p:blipFill>
        <p:spPr>
          <a:xfrm rot="411600">
            <a:off x="468360" y="3357720"/>
            <a:ext cx="2887560" cy="3213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613584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WordArt 4"/>
          <p:cNvSpPr txBox="1"/>
          <p:nvPr/>
        </p:nvSpPr>
        <p:spPr>
          <a:xfrm rot="635400">
            <a:off x="3341160" y="1405080"/>
            <a:ext cx="55501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说出你的疑问！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57" name="Picture 6" descr="２"/>
          <p:cNvPicPr/>
          <p:nvPr/>
        </p:nvPicPr>
        <p:blipFill>
          <a:blip r:embed="rId2"/>
          <a:stretch/>
        </p:blipFill>
        <p:spPr>
          <a:xfrm rot="364200">
            <a:off x="468360" y="333000"/>
            <a:ext cx="2700360" cy="3213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7"/>
          <p:cNvSpPr txBox="1"/>
          <p:nvPr/>
        </p:nvSpPr>
        <p:spPr>
          <a:xfrm>
            <a:off x="4500720" y="3573360"/>
            <a:ext cx="2447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？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613584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0" name="WordArt 4" descr=""/>
          <p:cNvPicPr/>
          <p:nvPr/>
        </p:nvPicPr>
        <p:blipFill>
          <a:blip r:embed="rId1"/>
          <a:stretch/>
        </p:blipFill>
        <p:spPr>
          <a:xfrm>
            <a:off x="596880" y="-6480"/>
            <a:ext cx="2944800" cy="18115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2421000"/>
            <a:ext cx="385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罗曼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罗兰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    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名人传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》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72000" y="5493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Times New Roman"/>
              </a:rPr>
              <a:t>推荐书目：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3" name="Picture 9" descr="封面图片"/>
          <p:cNvPicPr/>
          <p:nvPr/>
        </p:nvPicPr>
        <p:blipFill>
          <a:blip r:embed="rId2"/>
          <a:stretch/>
        </p:blipFill>
        <p:spPr>
          <a:xfrm>
            <a:off x="971640" y="1557360"/>
            <a:ext cx="1944720" cy="2392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封面图片"/>
          <p:cNvPicPr/>
          <p:nvPr/>
        </p:nvPicPr>
        <p:blipFill>
          <a:blip r:embed="rId3"/>
          <a:stretch/>
        </p:blipFill>
        <p:spPr>
          <a:xfrm>
            <a:off x="0" y="3284640"/>
            <a:ext cx="2119320" cy="2824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www.douban.com/lpic/s1704092.jpg"/>
          <p:cNvPicPr/>
          <p:nvPr/>
        </p:nvPicPr>
        <p:blipFill>
          <a:blip r:embed="rId4"/>
          <a:stretch/>
        </p:blipFill>
        <p:spPr>
          <a:xfrm>
            <a:off x="1835280" y="2685960"/>
            <a:ext cx="2886120" cy="4172040"/>
          </a:xfrm>
          <a:prstGeom prst="rect">
            <a:avLst/>
          </a:prstGeom>
          <a:ln w="0">
            <a:noFill/>
          </a:ln>
        </p:spPr>
      </p:pic>
      <p:pic>
        <p:nvPicPr>
          <p:cNvPr id="266" name="老鹰之歌.mp3" descr=""/>
          <p:cNvPicPr/>
          <p:nvPr/>
        </p:nvPicPr>
        <p:blipFill>
          <a:blip r:embed="rId5"/>
          <a:stretch/>
        </p:blipFill>
        <p:spPr>
          <a:xfrm>
            <a:off x="7812000" y="596592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264192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2832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分   析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作者对托尔斯泰外貌的描写，大量运用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夸张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的修辞手法。夸张是在描写人或事物时，故意言过其实，尽量作扩大或缩小的描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透过托尔斯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平庸甚至丑陋的外表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，我们可见这位大文豪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不凡之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0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托尔斯泰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眼睛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充满智慧，让人感受到的是一位品格高尚的伟人，是一位给人类创造巨大精神财富的伟人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描写托尔斯泰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目光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，运用了夸张的手法，把托尔斯泰目光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敏锐、犀利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表现得极为生动形象，而且能引起读者丰富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想像和联想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茨威格与高尔基"/>
          <p:cNvPicPr/>
          <p:nvPr/>
        </p:nvPicPr>
        <p:blipFill>
          <a:blip r:embed="rId1"/>
          <a:srcRect l="45522" t="4663" r="0" b="9252"/>
          <a:stretch/>
        </p:blipFill>
        <p:spPr>
          <a:xfrm>
            <a:off x="971640" y="3213000"/>
            <a:ext cx="3533760" cy="3095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5" descr="茨威格3"/>
          <p:cNvPicPr/>
          <p:nvPr/>
        </p:nvPicPr>
        <p:blipFill>
          <a:blip r:embed="rId2"/>
          <a:stretch/>
        </p:blipFill>
        <p:spPr>
          <a:xfrm>
            <a:off x="5724360" y="3213000"/>
            <a:ext cx="2324160" cy="309096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Rectangle 6"/>
          <p:cNvSpPr/>
          <p:nvPr/>
        </p:nvSpPr>
        <p:spPr>
          <a:xfrm>
            <a:off x="468360" y="333360"/>
            <a:ext cx="867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二十年代赴苏联，认识了高尔基。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934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年遭纳粹驱逐，先后流亡英国、巴西。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942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年在孤寂与感觉理想破灭中与妻子双双自杀。</a:t>
            </a:r>
            <a:r>
              <a:rPr b="0" lang="zh-CN" sz="800" spc="-1" strike="noStrike">
                <a:solidFill>
                  <a:srgbClr val="333333"/>
                </a:solidFill>
                <a:latin typeface="黑体"/>
                <a:ea typeface="黑体"/>
              </a:rPr>
              <a:t>学科网 </a:t>
            </a:r>
            <a:r>
              <a:rPr b="0" lang="en-US" sz="800" spc="-1" strike="noStrike">
                <a:solidFill>
                  <a:srgbClr val="333333"/>
                </a:solidFill>
                <a:latin typeface="黑体"/>
                <a:ea typeface="黑体"/>
              </a:rPr>
              <a:t>zxxk</a:t>
            </a:r>
            <a:endParaRPr b="1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539640" y="294840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擅长写小说、人物传记，也写诗歌、戏剧、传记、散文特写和翻译作品。作品有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月光小巷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g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l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看不见的珍藏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g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l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一个陌生女人的来信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g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l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象棋的故事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&g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等。他的小说多写人的下意识活动和人在激情驱使下的命运遭际。他的作品以人物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性格塑造及心理刻画见长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，他比较喜欢某种戏剧性的情节。但他不是企图以情节的曲折、离奇去吸引读者，而是在生活的平淡中烘托出使人流连忘返的人和事。 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8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斯蒂芬</a:t>
            </a:r>
            <a:r>
              <a:rPr b="1" lang="en-US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茨威格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表作品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3" descr="4"/>
          <p:cNvPicPr/>
          <p:nvPr/>
        </p:nvPicPr>
        <p:blipFill>
          <a:blip r:embed="rId1"/>
          <a:stretch/>
        </p:blipFill>
        <p:spPr>
          <a:xfrm>
            <a:off x="250920" y="1989000"/>
            <a:ext cx="3122640" cy="456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U105P28T3D530518F326DT20041012162352"/>
          <p:cNvPicPr/>
          <p:nvPr/>
        </p:nvPicPr>
        <p:blipFill>
          <a:blip r:embed="rId2"/>
          <a:stretch/>
        </p:blipFill>
        <p:spPr>
          <a:xfrm>
            <a:off x="4932360" y="1773360"/>
            <a:ext cx="4211640" cy="28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U105P28T3D530519F326DT20041012162355"/>
          <p:cNvPicPr/>
          <p:nvPr/>
        </p:nvPicPr>
        <p:blipFill>
          <a:blip r:embed="rId3"/>
          <a:stretch/>
        </p:blipFill>
        <p:spPr>
          <a:xfrm>
            <a:off x="3780000" y="3789360"/>
            <a:ext cx="1798560" cy="27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U105P28T3D530520F326DT20041012162359"/>
          <p:cNvPicPr/>
          <p:nvPr/>
        </p:nvPicPr>
        <p:blipFill>
          <a:blip r:embed="rId4"/>
          <a:stretch/>
        </p:blipFill>
        <p:spPr>
          <a:xfrm>
            <a:off x="5940360" y="4653000"/>
            <a:ext cx="2879640" cy="1882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059280" y="981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一个陌生女人的来信</a:t>
            </a:r>
            <a:r>
              <a:rPr b="1" lang="en-US" sz="40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列夫·托尔斯泰画像"/>
          <p:cNvPicPr/>
          <p:nvPr/>
        </p:nvPicPr>
        <p:blipFill>
          <a:blip r:embed="rId1"/>
          <a:stretch/>
        </p:blipFill>
        <p:spPr>
          <a:xfrm>
            <a:off x="395280" y="1989000"/>
            <a:ext cx="2808360" cy="43927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4" descr="列夫·托尔斯泰（1863）"/>
          <p:cNvPicPr/>
          <p:nvPr/>
        </p:nvPicPr>
        <p:blipFill>
          <a:blip r:embed="rId2"/>
          <a:stretch/>
        </p:blipFill>
        <p:spPr>
          <a:xfrm>
            <a:off x="5940360" y="1916280"/>
            <a:ext cx="2627280" cy="453528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Text Box 8"/>
          <p:cNvSpPr/>
          <p:nvPr/>
        </p:nvSpPr>
        <p:spPr>
          <a:xfrm>
            <a:off x="826920" y="333360"/>
            <a:ext cx="72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走近托尔斯泰</a:t>
            </a:r>
            <a:endParaRPr b="1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3708360" y="1844640"/>
            <a:ext cx="1871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4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33880" y="242280"/>
            <a:ext cx="80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夫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尼古拉耶维奇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尔斯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82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10):</a:t>
            </a: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1877760"/>
            <a:ext cx="9144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世纪末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世纪初俄国最伟大的文学家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宋体"/>
              </a:rPr>
              <a:t>。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以漫长一生的辛勤创作，登上欧洲批判现实主义文学的高峰。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宋体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幼年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少年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青年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、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战争与和平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安娜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卡列尼娜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复活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等</a:t>
            </a:r>
            <a:r>
              <a:rPr b="1" lang="en-US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楷体_GB2312"/>
              </a:rPr>
              <a:t>列宁称他是”俄国革命的一面镜子” </a:t>
            </a:r>
            <a:r>
              <a:rPr b="1" lang="zh-CN" sz="3200" spc="-1" strike="noStrike">
                <a:solidFill>
                  <a:srgbClr val="333333"/>
                </a:solidFill>
                <a:latin typeface="Comic Sans MS"/>
                <a:ea typeface="宋体"/>
              </a:rPr>
              <a:t>。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00000" y="270828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65824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天才艺术家、清醒现实主义者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5580000" y="4724280"/>
            <a:ext cx="863640" cy="270000"/>
          </a:xfrm>
          <a:prstGeom prst="leftRightArrow">
            <a:avLst>
              <a:gd name="adj1" fmla="val 50000"/>
              <a:gd name="adj2" fmla="val 6367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005960" y="4578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发狂笃信基督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03680" y="5226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有力直率真诚地抗议虚伪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437880" y="5226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颓唐又歇斯底里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46600" y="58737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批判揭露资产阶级的罪恶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376320" y="5873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不用暴力抵抗邪恶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4859280" y="5391000"/>
            <a:ext cx="863640" cy="270000"/>
          </a:xfrm>
          <a:prstGeom prst="leftRightArrow">
            <a:avLst>
              <a:gd name="adj1" fmla="val 50000"/>
              <a:gd name="adj2" fmla="val 6367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4932360" y="6039000"/>
            <a:ext cx="863640" cy="269640"/>
          </a:xfrm>
          <a:prstGeom prst="leftRightArrow">
            <a:avLst>
              <a:gd name="adj1" fmla="val 50000"/>
              <a:gd name="adj2" fmla="val 63762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语文大师 xiexingcun.com</dc:description>
  <dc:language>en-US</dc:language>
  <cp:lastModifiedBy>Administrator</cp:lastModifiedBy>
  <dcterms:modified xsi:type="dcterms:W3CDTF">2014-10-02T00:57:41Z</dcterms:modified>
  <cp:revision>0</cp:revision>
  <dc:subject/>
  <dc:title>语文大师 xiexingcun.com</dc:title>
</cp:coreProperties>
</file>