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gif" ContentType="image/gif"/>
  <Override PartName="/ppt/media/chimes.wav" ContentType="audio/x-wav"/>
  <Override PartName="/ppt/media/image7.wmf" ContentType="image/x-wmf"/>
  <Override PartName="/ppt/media/image20.jpeg" ContentType="image/jpeg"/>
  <Override PartName="/ppt/media/image6.png" ContentType="image/png"/>
  <Override PartName="/ppt/media/image14.wmf" ContentType="image/x-wmf"/>
  <Override PartName="/ppt/media/image11.gif" ContentType="image/gif"/>
  <Override PartName="/ppt/media/image5.jpeg" ContentType="image/jpeg"/>
  <Override PartName="/ppt/media/CHIMES.WAV" ContentType="audio/x-wav"/>
  <Override PartName="/ppt/media/image18.wmf" ContentType="image/x-wmf"/>
  <Override PartName="/ppt/media/image8.gif" ContentType="image/gif"/>
  <Override PartName="/ppt/media/image19.wmf" ContentType="image/x-wmf"/>
  <Override PartName="/ppt/media/image21.png" ContentType="image/png"/>
  <Override PartName="/ppt/media/image13.jpeg" ContentType="image/jpeg"/>
  <Override PartName="/ppt/media/image10.png" ContentType="image/png"/>
  <Override PartName="/ppt/media/image22.png" ContentType="image/png"/>
  <Override PartName="/ppt/media/camera.wav" ContentType="audio/x-wav"/>
  <Override PartName="/ppt/media/image17.wmf" ContentType="image/x-wmf"/>
  <Override PartName="/ppt/media/type.wav" ContentType="audio/x-wav"/>
  <Override PartName="/ppt/media/image16.wmf" ContentType="image/x-wmf"/>
  <Override PartName="/ppt/media/image4.jpeg" ContentType="image/jpeg"/>
  <Override PartName="/ppt/media/click.wav" ContentType="audio/x-wav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2690-B190-4E11-9510-1AA1EA516C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提测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检查预习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6FE-8C67-4183-A0C4-D09BBB2F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CDE-F018-4B56-8F9D-A264D856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CB5-2332-4694-986E-8410308E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76B-B39A-469E-A91F-C6ABB9A2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B13-7D36-435A-94DC-BE1242E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556-9875-4A70-B422-14383750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79F-22F7-4C2E-B0F1-45A4313F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1A9-B5D4-4200-A3EF-862FE18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745-132B-4E64-8006-B70A8AE1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F2F-9F14-4088-888D-0E29021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A9D-D1F2-484C-80F4-846BE28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3B4-FC3A-45B5-B864-EA5D485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25C-AC6D-4132-AE3C-6C3E771DF7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2.gif"/><Relationship Id="rId3" Type="http://schemas.openxmlformats.org/officeDocument/2006/relationships/slide" Target="slide27.xml"/><Relationship Id="rId4" Type="http://schemas.openxmlformats.org/officeDocument/2006/relationships/slide" Target="slide21.xml"/><Relationship Id="rId5" Type="http://schemas.openxmlformats.org/officeDocument/2006/relationships/slide" Target="slide26.xm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audio" Target="../media/click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audio" Target="../media/click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click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package" Target="../embeddings/oleObject1.docx"/><Relationship Id="rId6" Type="http://schemas.openxmlformats.org/officeDocument/2006/relationships/image" Target="../media/image17.wmf"/><Relationship Id="rId7" Type="http://schemas.openxmlformats.org/officeDocument/2006/relationships/audio" Target="../media/CHIMES.WAV"/><Relationship Id="rId8" Type="http://schemas.openxmlformats.org/officeDocument/2006/relationships/audio" Target="../media/click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" Target="slide13.xml"/><Relationship Id="rId9" Type="http://schemas.openxmlformats.org/officeDocument/2006/relationships/image" Target="../media/image12.gif"/><Relationship Id="rId10" Type="http://schemas.openxmlformats.org/officeDocument/2006/relationships/audio" Target="../media/CHIMES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4724280"/>
            <a:ext cx="678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一种叫变色龙的蜥蜴，皮肤颜色会随着环境颜色的改变而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76720" y="685800"/>
            <a:ext cx="2895480" cy="914400"/>
            <a:chOff x="3276720" y="685800"/>
            <a:chExt cx="2895480" cy="914400"/>
          </a:xfrm>
        </p:grpSpPr>
        <p:sp>
          <p:nvSpPr>
            <p:cNvPr id="50" name=""/>
            <p:cNvSpPr/>
            <p:nvPr/>
          </p:nvSpPr>
          <p:spPr>
            <a:xfrm>
              <a:off x="3276720" y="685800"/>
              <a:ext cx="2895480" cy="914400"/>
            </a:xfrm>
            <a:custGeom>
              <a:avLst/>
              <a:gdLst>
                <a:gd name="textAreaLeft" fmla="*/ 107640 w 2895480"/>
                <a:gd name="textAreaRight" fmla="*/ 2787840 w 289548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6837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4779" y="21600"/>
                  </a:lnTo>
                  <a:arcTo wR="3600" hR="3600" stAng="10800000" swAng="5400000"/>
                  <a:lnTo>
                    <a:pt x="6837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72960" y="762120"/>
              <a:ext cx="1521720" cy="764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Times New Roman"/>
                  <a:ea typeface="华文彩云"/>
                </a:rPr>
                <a:t>导入新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505320" cy="260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429000" cy="257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320" y="1052640"/>
            <a:ext cx="906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变色龙》这篇小说写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8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作家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当时正是俄国沙皇亚历山大三世统治最反动的时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民粹派采取个人恐怖手段刺杀了亚历山大二世，不仅没解决任何社会问题，反而促使新上台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亚历山大三世采取更加反动的高压政策。加强了宪兵警察等专政机构，豢（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huàn)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养了一批媚上欺下的走狗，为其镇压人民服务。整个俄罗斯笼罩在军警宪兵的白色恐怖之中。沙皇专制警察往往打着遵守法令的官腔但干的却是欺下媚上的勾当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变色龙》中的奥楚蔑洛夫正是其中的典型代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132000" y="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时代背景</a:t>
            </a:r>
            <a:endParaRPr b="1" i="1" lang="en-US" sz="5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011.gif (10065 字节)"/>
          <p:cNvPicPr/>
          <p:nvPr/>
        </p:nvPicPr>
        <p:blipFill>
          <a:blip r:embed="rId1"/>
          <a:stretch/>
        </p:blipFill>
        <p:spPr>
          <a:xfrm>
            <a:off x="7236000" y="5229360"/>
            <a:ext cx="1444320" cy="98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476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</a:rPr>
              <a:t>给下列加点字注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476280"/>
            <a:ext cx="3897360" cy="607860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逮住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逮捕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盛满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旺盛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畜生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畜牧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1341360"/>
            <a:ext cx="3024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无赖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戳穿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胚子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醋栗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乞丐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魁梧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484280"/>
            <a:ext cx="6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entury Gothic"/>
              </a:rPr>
              <a:t>dǎ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entury Gothic"/>
              </a:rPr>
              <a:t>d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28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Century Gothic"/>
              </a:rPr>
              <a:t>ch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357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Century Gothic"/>
              </a:rPr>
              <a:t>sh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Century Gothic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5084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entury Gothic"/>
              </a:rPr>
              <a:t>x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1413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entury Gothic"/>
              </a:rPr>
              <a:t>l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1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Century Gothic"/>
              </a:rPr>
              <a:t>ch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Century Gothic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zh-CN" sz="2400" spc="-1" strike="noStrike">
                <a:solidFill>
                  <a:srgbClr val="080808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73360"/>
            <a:ext cx="3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entury Gothic"/>
              </a:rPr>
              <a:t>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43657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entury Gothic"/>
              </a:rPr>
              <a:t>g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08464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Century Gothic"/>
              </a:rPr>
              <a:t>k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2637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4076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5516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19162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2637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3357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4076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4797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5516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1125360"/>
            <a:ext cx="748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请根据你对小说情节和人物的理解，用一句话概括全文：本文写的是主人公做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4005360"/>
            <a:ext cx="782172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44c2e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244c2e"/>
                </a:solidFill>
                <a:latin typeface="Arial"/>
              </a:rPr>
              <a:t>警官奥楚蔑洛夫怎样处理狗咬人的案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69644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奥楚蔑洛夫在处理狗咬人事件上反复（变化）改判了几次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都是怎样判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88000" y="4267080"/>
            <a:ext cx="224172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2997360"/>
            <a:ext cx="769608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、奥楚蔑洛夫根据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什么来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4076640"/>
            <a:ext cx="769644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奥楚蔑洛夫有没有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始终 不变的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167652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语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1752480"/>
            <a:ext cx="3048120" cy="68580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对狗      对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324000" y="436248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不知是谁家的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2421000"/>
            <a:ext cx="2666880" cy="2057400"/>
          </a:xfrm>
          <a:prstGeom prst="cloudCallout">
            <a:avLst>
              <a:gd name="adj1" fmla="val -91430"/>
              <a:gd name="adj2" fmla="val 6751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野畜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90920" y="2743200"/>
          <a:ext cx="3020760" cy="3809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743200"/>
                    <a:ext cx="3020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435640" y="-171360"/>
            <a:ext cx="2666880" cy="2057400"/>
          </a:xfrm>
          <a:prstGeom prst="cloudCallout">
            <a:avLst>
              <a:gd name="adj1" fmla="val -35476"/>
              <a:gd name="adj2" fmla="val 22893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疯  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4149720"/>
            <a:ext cx="3546720" cy="2239920"/>
          </a:xfrm>
          <a:prstGeom prst="cloudCallout">
            <a:avLst>
              <a:gd name="adj1" fmla="val -20412"/>
              <a:gd name="adj2" fmla="val 2462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狗主人：混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3520" y="167652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语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752480"/>
            <a:ext cx="3048120" cy="68580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1600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对狗   对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5400000">
            <a:off x="-324000" y="436248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是将军家的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57400" y="3124080"/>
          <a:ext cx="3809880" cy="30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38098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556000" y="0"/>
            <a:ext cx="3492360" cy="2521080"/>
          </a:xfrm>
          <a:prstGeom prst="cloudCallout">
            <a:avLst>
              <a:gd name="adj1" fmla="val 57819"/>
              <a:gd name="adj2" fmla="val 13664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狗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那么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67280" y="2060640"/>
            <a:ext cx="4176720" cy="2633760"/>
          </a:xfrm>
          <a:prstGeom prst="cloudCallout">
            <a:avLst>
              <a:gd name="adj1" fmla="val 29513"/>
              <a:gd name="adj2" fmla="val 8218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赫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鬼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4508640"/>
            <a:ext cx="3673440" cy="2519280"/>
          </a:xfrm>
          <a:prstGeom prst="cloudCallout">
            <a:avLst>
              <a:gd name="adj1" fmla="val -43777"/>
              <a:gd name="adj2" fmla="val -13033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赫：什么玩意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167652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语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1752480"/>
            <a:ext cx="3048120" cy="68580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1600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对狗    对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-324000" y="436248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不是将军家的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0"/>
            <a:ext cx="2667240" cy="2057400"/>
          </a:xfrm>
          <a:prstGeom prst="cloudCallout">
            <a:avLst>
              <a:gd name="adj1" fmla="val 23750"/>
              <a:gd name="adj2" fmla="val 6998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狗：什么玩意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743200" y="3200400"/>
          <a:ext cx="2786040" cy="320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200400"/>
                    <a:ext cx="27860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219640" y="189000"/>
            <a:ext cx="3527640" cy="2808360"/>
          </a:xfrm>
          <a:prstGeom prst="cloudCallout">
            <a:avLst>
              <a:gd name="adj1" fmla="val -79972"/>
              <a:gd name="adj2" fmla="val 9177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狗：下贱胚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2708280"/>
            <a:ext cx="3672000" cy="2057400"/>
          </a:xfrm>
          <a:prstGeom prst="cloudCallout">
            <a:avLst>
              <a:gd name="adj1" fmla="val -44550"/>
              <a:gd name="adj2" fmla="val 1649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赫：受了害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8400" y="4584600"/>
            <a:ext cx="4035600" cy="2273400"/>
          </a:xfrm>
          <a:prstGeom prst="cloudCallout">
            <a:avLst>
              <a:gd name="adj1" fmla="val -12587"/>
              <a:gd name="adj2" fmla="val -1243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狗主人：好好教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167652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语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52480"/>
            <a:ext cx="3048120" cy="68580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600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对狗   对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 rot="5400000">
            <a:off x="-330120" y="379404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就是将军家的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0"/>
            <a:ext cx="2666880" cy="2057400"/>
          </a:xfrm>
          <a:prstGeom prst="cloudCallout">
            <a:avLst>
              <a:gd name="adj1" fmla="val -30712"/>
              <a:gd name="adj2" fmla="val 7623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名贵的狗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197000"/>
            <a:ext cx="3889440" cy="2057400"/>
          </a:xfrm>
          <a:prstGeom prst="cloudCallout">
            <a:avLst>
              <a:gd name="adj1" fmla="val -11754"/>
              <a:gd name="adj2" fmla="val 2190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娇贵的动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4720" y="2852640"/>
            <a:ext cx="4140360" cy="2158920"/>
          </a:xfrm>
          <a:prstGeom prst="cloudCallout">
            <a:avLst>
              <a:gd name="adj1" fmla="val -42907"/>
              <a:gd name="adj2" fmla="val 14956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赫：猪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4720" y="4800600"/>
            <a:ext cx="2667240" cy="2057400"/>
          </a:xfrm>
          <a:prstGeom prst="cloudCallout">
            <a:avLst>
              <a:gd name="adj1" fmla="val -99583"/>
              <a:gd name="adj2" fmla="val 6489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赫：混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50920" y="2708280"/>
          <a:ext cx="3249720" cy="3733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708280"/>
                    <a:ext cx="32497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33520" y="1676520"/>
            <a:ext cx="1447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语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752480"/>
            <a:ext cx="3048120" cy="68580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1600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对狗    对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5400000">
            <a:off x="-324000" y="436248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不是将军家的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2637000"/>
            <a:ext cx="2667240" cy="2057400"/>
          </a:xfrm>
          <a:prstGeom prst="cloudCallout">
            <a:avLst>
              <a:gd name="adj1" fmla="val -43333"/>
              <a:gd name="adj2" fmla="val 8626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狗：野狗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81080" y="2971800"/>
          <a:ext cx="3886200" cy="36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971800"/>
                    <a:ext cx="3886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5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9640" y="1052640"/>
            <a:ext cx="1447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语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1197000"/>
            <a:ext cx="3048120" cy="68580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112536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对狗   对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5400000">
            <a:off x="-835200" y="321948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是将军哥哥的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76360" y="2205000"/>
          <a:ext cx="40831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05000"/>
                    <a:ext cx="408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484360" y="0"/>
            <a:ext cx="3387960" cy="2057400"/>
          </a:xfrm>
          <a:prstGeom prst="cloudCallout">
            <a:avLst>
              <a:gd name="adj1" fmla="val -34675"/>
              <a:gd name="adj2" fmla="val 6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将军哥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他老 人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67280" y="0"/>
            <a:ext cx="3852720" cy="2128680"/>
          </a:xfrm>
          <a:prstGeom prst="cloudCallout">
            <a:avLst>
              <a:gd name="adj1" fmla="val -15597"/>
              <a:gd name="adj2" fmla="val 90791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狗：不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43680" y="1341360"/>
            <a:ext cx="3100320" cy="2057400"/>
          </a:xfrm>
          <a:prstGeom prst="cloudCallout">
            <a:avLst>
              <a:gd name="adj1" fmla="val -118458"/>
              <a:gd name="adj2" fmla="val 4644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狗：伶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2781360"/>
            <a:ext cx="2882880" cy="2273400"/>
          </a:xfrm>
          <a:prstGeom prst="cloudCallout">
            <a:avLst>
              <a:gd name="adj1" fmla="val 7930"/>
              <a:gd name="adj2" fmla="val 11927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好一条小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991600">
            <a:off x="6264000" y="3789360"/>
            <a:ext cx="2879640" cy="2057400"/>
          </a:xfrm>
          <a:prstGeom prst="cloudCallout">
            <a:avLst>
              <a:gd name="adj1" fmla="val -127708"/>
              <a:gd name="adj2" fmla="val 177523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赫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 个家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08720" y="5132520"/>
            <a:ext cx="1492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J_0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605520" y="0"/>
            <a:ext cx="1399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奥楚蔑洛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352680"/>
            <a:ext cx="777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914400"/>
            <a:ext cx="1295280" cy="12193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572000"/>
            <a:ext cx="1371600" cy="129528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838080"/>
            <a:ext cx="1295640" cy="12193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838080"/>
            <a:ext cx="1295640" cy="12193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4495680"/>
            <a:ext cx="1371600" cy="129564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572000"/>
            <a:ext cx="1371600" cy="1295280"/>
          </a:xfrm>
          <a:prstGeom prst="smileyFace">
            <a:avLst>
              <a:gd name="adj" fmla="val -46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28600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是将军的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有权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不是将军的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无权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33720" y="2286000"/>
            <a:ext cx="380880" cy="22096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209680"/>
            <a:ext cx="1600200" cy="2438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95680" y="1981080"/>
            <a:ext cx="381240" cy="2438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1981080"/>
            <a:ext cx="1828800" cy="2667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943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疯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小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5943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下贱胚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304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名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5943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野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304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伶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81952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33960" y="2057400"/>
            <a:ext cx="152280" cy="26668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对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3809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3962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夸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08200" y="304920"/>
            <a:ext cx="66852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16120" y="5867280"/>
            <a:ext cx="66852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弄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43640" y="4267080"/>
            <a:ext cx="2241720" cy="2590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rot="20725200">
            <a:off x="1639800" y="34239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Comic Sans MS"/>
              </a:rPr>
              <a:t>狗主人的身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227640" y="4267080"/>
            <a:ext cx="2241720" cy="259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rot="21088800">
            <a:off x="1133280" y="292824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cc"/>
                </a:solidFill>
                <a:latin typeface="Comic Sans MS"/>
              </a:rPr>
              <a:t>媚上欺下、趋炎附势、见风使舵的本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324640" cy="180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奥楚蔑洛夫他可不可以不变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78936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3360" y="76500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2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奥楚蔑洛夫必须要变。他要在那种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黑暗、腐朽的社会</a:t>
            </a: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得以生存，采用见风使舵、媚上欺下的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生存方式</a:t>
            </a: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也是为了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保护自己</a:t>
            </a: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。他虽可恨，但作者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更想讽刺</a:t>
            </a: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的是孕育了这种奴性人格的腐朽专制的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社会</a:t>
            </a: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说中的细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细节描写是指文艺作品中对人物某些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细小的举止行动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或对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细微事件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的描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一个典型细节描写的作用，往往超过一大篇笼统的叙述。细节描写是突出人物形象的重要手段。</a:t>
            </a:r>
            <a:r>
              <a:rPr b="0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66680" y="14479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头奥楚蔑洛夫穿着新军大衣出场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这件大衣是沙皇警犬的标志，也是他装腔作势，借以吓人的工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0920" y="260280"/>
            <a:ext cx="8497800" cy="2449440"/>
            <a:chOff x="250920" y="260280"/>
            <a:chExt cx="8497800" cy="2449440"/>
          </a:xfrm>
        </p:grpSpPr>
        <p:sp>
          <p:nvSpPr>
            <p:cNvPr id="211" name=""/>
            <p:cNvSpPr txBox="1"/>
            <p:nvPr/>
          </p:nvSpPr>
          <p:spPr>
            <a:xfrm>
              <a:off x="468360" y="1773360"/>
              <a:ext cx="309708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新魏"/>
                </a:rPr>
                <a:t>军大衣</a:t>
              </a:r>
              <a:endPara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"/>
            <a:srcRect l="14211" t="47434" r="25456" b="10669"/>
            <a:stretch/>
          </p:blipFill>
          <p:spPr>
            <a:xfrm>
              <a:off x="6659640" y="260280"/>
              <a:ext cx="20890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 txBox="1"/>
            <p:nvPr/>
          </p:nvSpPr>
          <p:spPr>
            <a:xfrm>
              <a:off x="3924360" y="765000"/>
              <a:ext cx="15429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1" strike="noStrike">
                  <a:ln w="1908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细节</a:t>
              </a:r>
              <a:endParaRPr b="1" lang="en-US" sz="60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250920" y="260280"/>
              <a:ext cx="3168720" cy="96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写作手法</a:t>
              </a:r>
              <a:endPara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0" y="4038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的两次（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和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），他因“判”错了狗而吃惊、胆怯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热一冷，一脱一穿，这一细节描写充分表现了他内心的恐慌和强作镇定的复杂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49900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局“裹紧大衣”离场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他力图保持自己的威风，在出尽洋相后，继续耀武扬威、逞凶霸道去了，与开头相照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21337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一片沉静。广场上一个人也没有。商店和饭馆的门无精打采地敞着，面对上帝创造的这个世界，就跟许多饥饿的嘴巴一样；门口连一个乞丐也没有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880" y="4221000"/>
            <a:ext cx="77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描写了社会环境的冷清、萧条，这正是军警宪兵当道的沙皇统治下的俄国社会的写照，交代了“案子”发生的社会背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60280"/>
            <a:ext cx="3352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社会环境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24360" y="1052640"/>
            <a:ext cx="3352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街道场景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55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次写围观群众。“木材厂四周很快就聚了一群人，仿佛一下子从地底下钻出来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260280"/>
            <a:ext cx="3352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社会环境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95640" y="620640"/>
            <a:ext cx="33530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围观场景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4" name=""/>
          <p:cNvSpPr/>
          <p:nvPr/>
        </p:nvSpPr>
        <p:spPr>
          <a:xfrm>
            <a:off x="-76320" y="2619360"/>
            <a:ext cx="92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出了围观的人聚结之快和他们的无聊心态——以看热闹为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886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群人就对着赫留金哈哈大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深刻地揭示了小市民阶层的麻木、庸俗、愚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5699160"/>
            <a:ext cx="90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两次描写使小说的社会意义更为深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契诃夫用漫画式的写法塑造了鲜活的变色龙形象，精短的篇幅中蕴涵着深刻的思想和艺术内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反观现实，当社会上充斥着变色龙式的人物时，人际交往就成了荒漠，所以真诚友善才应是我们处事待人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24080" y="914400"/>
            <a:ext cx="2895480" cy="914400"/>
            <a:chOff x="3124080" y="914400"/>
            <a:chExt cx="2895480" cy="914400"/>
          </a:xfrm>
        </p:grpSpPr>
        <p:sp>
          <p:nvSpPr>
            <p:cNvPr id="230" name=""/>
            <p:cNvSpPr/>
            <p:nvPr/>
          </p:nvSpPr>
          <p:spPr>
            <a:xfrm>
              <a:off x="3124080" y="914400"/>
              <a:ext cx="2895480" cy="914400"/>
            </a:xfrm>
            <a:custGeom>
              <a:avLst/>
              <a:gdLst>
                <a:gd name="textAreaLeft" fmla="*/ 107640 w 2895480"/>
                <a:gd name="textAreaRight" fmla="*/ 2787840 w 289548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6837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4779" y="21600"/>
                  </a:lnTo>
                  <a:arcTo wR="3600" hR="3600" stAng="10800000" swAng="5400000"/>
                  <a:lnTo>
                    <a:pt x="6837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20320" y="990720"/>
              <a:ext cx="1521720" cy="764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课堂小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010280" y="51055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华文行楷"/>
              </a:rPr>
              <a:t>【中考链接】（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华文行楷"/>
              </a:rPr>
              <a:t>2008· 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华文行楷"/>
              </a:rPr>
              <a:t>河北卷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课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—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，完成以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上文写奥楚蔑洛夫运用的手法是（      ）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Ａ．对比 Ｂ．铺垫 Ｃ．反衬 Ｄ．象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“我要拿点颜色出来”这个“颜色”的意思是：                                                   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蔑洛夫为什么要脱大衣？这个细节描写的作用是什么？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7636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177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39387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342900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指显示给人看的厉害的脸色或行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501336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掩盖他因为害怕得罪将军而惊恐不安和出尔反尔的狼狈相；有意拖延时间想对策。 突出了他媚上欺下和见风使舵的特点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0" y="-7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0" y="-7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0" y="-7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49528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变色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自然界中一种奇特的动物，它的皮肤的颜色能随着四周的物体的颜色而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6028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说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变色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051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们的生活中，也有这样的人，他们最喜欢见风使舵、媚上欺下，很多人都瞧不起他们，说他们太势利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纪末俄国批判现实主义作家，短篇小说大师契诃夫就深刻地批判了这种人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3068640"/>
          <a:ext cx="889308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068640"/>
                    <a:ext cx="88930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062840" y="4076640"/>
            <a:ext cx="208116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1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 txBox="1"/>
          <p:nvPr/>
        </p:nvSpPr>
        <p:spPr>
          <a:xfrm>
            <a:off x="990720" y="5257800"/>
            <a:ext cx="223812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契诃夫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124080" y="914400"/>
            <a:ext cx="2895480" cy="914400"/>
            <a:chOff x="3124080" y="914400"/>
            <a:chExt cx="2895480" cy="914400"/>
          </a:xfrm>
        </p:grpSpPr>
        <p:sp>
          <p:nvSpPr>
            <p:cNvPr id="71" name=""/>
            <p:cNvSpPr/>
            <p:nvPr/>
          </p:nvSpPr>
          <p:spPr>
            <a:xfrm>
              <a:off x="3124080" y="914400"/>
              <a:ext cx="2895480" cy="914400"/>
            </a:xfrm>
            <a:custGeom>
              <a:avLst/>
              <a:gdLst>
                <a:gd name="textAreaLeft" fmla="*/ 107640 w 2895480"/>
                <a:gd name="textAreaRight" fmla="*/ 2787840 w 2895480"/>
                <a:gd name="textAreaTop" fmla="*/ 107640 h 914400"/>
                <a:gd name="textAreaBottom" fmla="*/ 806760 h 914400"/>
              </a:gdLst>
              <a:ahLst/>
              <a:rect l="textAreaLeft" t="textAreaTop" r="textAreaRight" b="textAreaBottom"/>
              <a:pathLst>
                <a:path w="6837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4779" y="21600"/>
                  </a:lnTo>
                  <a:arcTo wR="3600" hR="3600" stAng="10800000" swAng="5400000"/>
                  <a:lnTo>
                    <a:pt x="6837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99cc00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20320" y="990720"/>
              <a:ext cx="1521720" cy="764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学习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16000" y="1844640"/>
            <a:ext cx="7416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与能力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理清小说的情节结构，把握奥楚蔑洛夫这个人物形象及性格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体会语言描写和细节描写等在小说中的作用，领会小说的讽刺艺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探究小说的思想意义，理解课文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44640"/>
            <a:ext cx="8915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契诃夫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1860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年出生在俄国，是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有世界声誉的短篇小说大师，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与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泊桑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欧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亨利并称为世界三大短篇小说大师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。他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岁开始创作，一生写了七百多篇小说，代表作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《套中人》、 《小公务员之死》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伟大的文学家高尔基赞扬他说：“只需一个词就创造一个形象，只需一句话就可以创作一个短篇故事，而且是绝妙的短篇故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00200" y="380880"/>
            <a:ext cx="4191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作家简介</a:t>
            </a:r>
            <a:endParaRPr b="1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4T15:18:52Z</dcterms:created>
  <dc:creator>备课大师网</dc:creator>
  <dc:description/>
  <dc:language>en-US</dc:language>
  <cp:lastModifiedBy>User</cp:lastModifiedBy>
  <dcterms:modified xsi:type="dcterms:W3CDTF">2014-01-18T23:23:37Z</dcterms:modified>
  <cp:revision>0</cp:revision>
  <dc:subject/>
  <dc:title>备课大师网</dc:title>
</cp:coreProperties>
</file>