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jpeg" ContentType="image/jpeg"/>
  <Override PartName="/ppt/media/image9.jpeg" ContentType="image/jpe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roonen.com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61240" y="0"/>
            <a:ext cx="482760" cy="5079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wnssrpd.wmv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3692520" y="191628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威尼斯商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570600" y="62784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九年级语文下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90720" y="1484280"/>
            <a:ext cx="53337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二、具体研习，突出重难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2362320"/>
            <a:ext cx="76201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● 分组讨论段落、层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3200400"/>
            <a:ext cx="73152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● 分组讨论人物的性格特点、分析人物　　　 及人物关系，找出人物个性化的语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95280" y="-193680"/>
            <a:ext cx="256716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62120" y="1523880"/>
            <a:ext cx="74674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夏洛克有怎样的性格特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?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他是否像公爵所说的那样是一个“心如铁石”、“不懂得怜悯，没有一丝慈悲心的不近人情的恶汉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3429000"/>
            <a:ext cx="74674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夏洛克为什么对安东尼奥如此仇恨，以至于不要高额的回报而非要安东尼奥的命不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5219640"/>
            <a:ext cx="74674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你如何看鲍西娅这个人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95280" y="-27000"/>
            <a:ext cx="2103480" cy="8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816120" y="1447920"/>
            <a:ext cx="7642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夏洛克是这场戏的主要人物。他是资本主义原始积累时期高利贷吸血鬼的典型。他具有贪婪、固执、残酷的本性。同时，他也是一个在基督教社会里受欺侮的犹太人。夏洛克对安东尼奥的报复有合理而又复杂的动机。人们对夏洛克，既鄙夷他的贪婪，憎恨他的残酷，又多少同情他所受的种族压迫和屈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95280" y="-27000"/>
            <a:ext cx="2103480" cy="8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133720" y="3276720"/>
            <a:ext cx="609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夏洛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rcRect l="0" t="0" r="0" b="-75"/>
          <a:stretch/>
        </p:blipFill>
        <p:spPr>
          <a:xfrm>
            <a:off x="3230640" y="1066680"/>
            <a:ext cx="4227480" cy="52578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95280" y="-27000"/>
            <a:ext cx="2103480" cy="8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133720" y="2819520"/>
            <a:ext cx="609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夏洛克和女儿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rcRect l="0" t="0" r="0" b="47"/>
          <a:stretch/>
        </p:blipFill>
        <p:spPr>
          <a:xfrm>
            <a:off x="3124080" y="990720"/>
            <a:ext cx="4525920" cy="53337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395280" y="-27000"/>
            <a:ext cx="2103480" cy="8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8600" y="1521000"/>
            <a:ext cx="76201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● 体会莎剧丰富多彩的语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2127240"/>
            <a:ext cx="82296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●分组讨论课文中的戏剧冲突，找出戏剧冲突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的关键词，充分理解这些关键词在戏剧冲突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中的作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4152960"/>
            <a:ext cx="7467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引起戏剧冲突的关键是什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4838760"/>
            <a:ext cx="7467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文中鲍西娅的出场起到了什么作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5524560"/>
            <a:ext cx="79246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课文中的矛盾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戏剧冲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怎样解决的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95280" y="-27000"/>
            <a:ext cx="2103480" cy="8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438280" y="2133720"/>
            <a:ext cx="4419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分角色朗读课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3076560"/>
            <a:ext cx="4419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欣赏品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39640" y="46080"/>
            <a:ext cx="221940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450800" y="1676520"/>
            <a:ext cx="7464600" cy="14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欣赏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《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Times New Roman"/>
                <a:ea typeface="楷体_GB2312"/>
                <a:hlinkClick r:id="rId2"/>
              </a:rPr>
              <a:t>威尼斯商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片段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3645000"/>
            <a:ext cx="74642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排练并演出这场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39640" y="46080"/>
            <a:ext cx="221940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533520" y="1019160"/>
            <a:ext cx="2125440" cy="492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018680" y="56386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威尼斯商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981080" y="1673280"/>
            <a:ext cx="5257800" cy="3813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rcRect l="0" t="0" r="-166" b="-105"/>
          <a:stretch/>
        </p:blipFill>
        <p:spPr>
          <a:xfrm>
            <a:off x="2971800" y="1295280"/>
            <a:ext cx="4710240" cy="4989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220840" y="2895480"/>
            <a:ext cx="522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莎士比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235080" y="-12600"/>
            <a:ext cx="2681280" cy="99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62120" y="1465200"/>
            <a:ext cx="7772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莎士比亚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64—1616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文艺复兴时期英国最伟大的剧作家和卓越的人文主义思想的代表。</a:t>
            </a:r>
            <a:br>
              <a:rPr sz="2800"/>
            </a:br>
            <a:r>
              <a:rPr b="0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　　代表作有：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历史剧：《亨利四世》、《亨利五世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喜  剧：《威尼斯商人》、《仲夏夜之　　　　　　　　 梦》、《第十二夜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悲  剧：《李尔王》、《哈姆雷特》、　　　　　　　　《奥赛罗》、《罗密欧与朱丽叶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34800" y="0"/>
            <a:ext cx="200520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286000"/>
            <a:ext cx="7696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威尼斯商人》以较强的对社会讽刺、批判的态度见称。威尼斯富商安东尼奥为了成全好友巴萨尼奥的婚事，向犹太人高利贷者夏洛克借债。由于安东尼奥贷款给人从不要利息，并帮夏洛克的女儿私奔，怀恨在心的夏洛克乘机报复，佯装也不要利息，但若逾期不还要从安东尼奥身上割下一磅肉。不巧传来安东尼奥的商船失事的消息，资金周转不灵，贷款无力偿还。夏洛克去法庭控告，根据法律条文要安东尼奥履行诺言。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44720" y="1676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课文导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34800" y="0"/>
            <a:ext cx="200520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20840" y="2895480"/>
            <a:ext cx="522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著插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rcRect l="0" t="0" r="-49" b="-64"/>
          <a:stretch/>
        </p:blipFill>
        <p:spPr>
          <a:xfrm>
            <a:off x="3809880" y="1066680"/>
            <a:ext cx="3391200" cy="5181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34800" y="0"/>
            <a:ext cx="200520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657600" y="58672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话剧剧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rcRect l="0" t="0" r="0" b="-65"/>
          <a:stretch/>
        </p:blipFill>
        <p:spPr>
          <a:xfrm>
            <a:off x="990720" y="1523880"/>
            <a:ext cx="7162560" cy="43498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34800" y="0"/>
            <a:ext cx="200520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143000" y="163044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整体感知，理清思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4526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)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速读全文，掌握生字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81080" y="33670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2)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概述全文内容，讨论戏剧冲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95280" y="-193680"/>
            <a:ext cx="256716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066680" y="16146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给加点的字注音并解释词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2567160"/>
            <a:ext cx="6477120" cy="33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恻隐　　　　豁免　　　　庖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万恶不赦　　延纳　　　　饶恕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心如铁石　　　　　　遍稽群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鸡犬不宁　　　　　　有例可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2144880"/>
            <a:ext cx="647712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cè</a:t>
            </a: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　　   　 　</a:t>
            </a: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huò</a:t>
            </a: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　　　 　</a:t>
            </a: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p</a:t>
            </a:r>
            <a:r>
              <a:rPr b="0" lang="zh-CN" sz="2400" spc="-1" strike="noStrike">
                <a:solidFill>
                  <a:srgbClr val="333399"/>
                </a:solidFill>
                <a:latin typeface="Century Gothic"/>
                <a:ea typeface="楷体_GB2312"/>
              </a:rPr>
              <a:t>á</a:t>
            </a: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　 　  </a:t>
            </a: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sh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68360" y="44280"/>
            <a:ext cx="221940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8T04:00:00Z</dcterms:created>
  <dc:creator/>
  <dc:description/>
  <dc:language>en-US</dc:language>
  <cp:lastModifiedBy>MKL</cp:lastModifiedBy>
  <dcterms:modified xsi:type="dcterms:W3CDTF">2013-02-26T06:12:53Z</dcterms:modified>
  <cp:revision>12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806000000000001024140</vt:lpwstr>
  </property>
</Properties>
</file>