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chimes.wav" ContentType="audio/x-wav"/>
  <Override PartName="/ppt/media/camera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03C-6FE7-4AFA-ABF0-BD072EF4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979-B40C-4168-95EB-04979F58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888-02B7-46CB-85A6-0524F25B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421-F5AD-4091-A746-8AC817B8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0CA4-9A0B-46CD-893F-41E914A8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D7F1-903F-4202-834E-4E05B26C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DB11-14DC-4E35-814F-98D52E8D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68FA-058B-40AE-8AFF-96D9F0DB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0072-CEA2-46A1-815D-E5FFF698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FBED-4FDE-4F6F-AA70-5FE5F39D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E4F2-D8C5-4C7B-8AB2-D30DAB07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55C-5097-4625-90DC-1A332F43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BD80-7A72-4A2E-AF2E-5F285117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65FC-4937-4A4B-8FBD-D31C085E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A125-BAD8-437C-86D5-F6FA3DEA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DFDE-FDC7-4DAA-AC32-F9F1622E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A421-1CF9-40F1-AB08-3C67388E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586-6603-45F3-9F04-E6F5D8D3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66D-5EF5-4DBC-9951-BF3E8799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A07-3DF7-4BF7-8AEB-B3AD0EA9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679-537C-42CD-8520-265F79AA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1B9-BC4F-48E5-BE83-3D1325AF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C6E-D472-4D57-94DF-18A1436B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8F1-B368-46C8-BEF9-BEF35A01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38E1-45AB-4C4A-B02E-AAFAE4B2B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9796-3EEB-4D15-BD1C-DA3A14827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971800" y="0"/>
            <a:ext cx="51055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2971800"/>
            <a:ext cx="2971800" cy="4597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墨子故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400800"/>
            <a:ext cx="2971800" cy="4597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际墨子研究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41680" y="0"/>
            <a:ext cx="1102320" cy="43434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伟大的思想家、政治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杰出的科学家、教育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53280" y="4343400"/>
            <a:ext cx="99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墨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48000" y="5661000"/>
            <a:ext cx="41767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课件制作：广东华侨中学汪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楷体简体"/>
              </a:rPr>
              <a:t>重点理解下列句子的含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609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其文轩，邻有敝舆而欲窃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13716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其锦绣，邻有短褐而欲窃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2133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其梁肉，邻有糠糟而欲窃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27672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犹文轩之与敝舆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502920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臣以王吏之攻宋也，为与此同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5791320"/>
            <a:ext cx="51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虽然，公输盘为我为云梯，必取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990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抛掉自己彩饰的车子，看到邻居有破车子便想去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1752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放着自己的锦绣衣裳不穿，看见邻居有粗布短袄就想去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514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Times New Roman"/>
              </a:rPr>
              <a:t>抛掉自己的好饭好菜不吃，看见邻居有糟糠这样粗劣的食物便想去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为有窃疾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2895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这个人一定犯有偷窃的毛病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2767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这就好像华丽的车子同破旧的车子相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3733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荆有云梦，犀兕麋鹿满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37339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楚国有云梦泽，犀牛麋鹿到处都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4191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宋，所谓无雉兔鲋鱼者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4572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宋国，是大家所说的没有野鸡、兔子、鲫鱼的地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5410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我认为您派人攻打宋国，是同这个害偷窃病的人一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6172200"/>
            <a:ext cx="822960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虽是这样，但是公输盘给我造好了云梯，我一定要打下宋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8600" y="0"/>
            <a:ext cx="30481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7621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拜见了楚王，说：“现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在这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有个人，抛掉自己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华丽的车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看到邻人有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破车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便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去偷；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抛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自己的锦绣衣裳，看见邻人有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粗布短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就想去偷；抛掉自己的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好饭好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吃，看见邻人有糟糠这样粗劣的食物便想去偷。这是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什么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的人呢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4952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楚王说：“这个人一定患了偷窃的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毛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28600" y="53352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说：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楚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土地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方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五千里，宋国的土地，方圆只有五百里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就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好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华丽的车子和破车子相比。楚国有云梦泽，那里满是犀牛、麋鹿之类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长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汉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里的鱼、鳖、鼋、鼍多得天下无比，宋国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就像人们说的那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是个连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野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兔子、鲫鱼都没有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的地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这就好像好饭好菜和糟糠相比。楚国有松、梓、楩、楠、樟这些名贵的木材，宋国却没有什么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大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这就好像锦绣衣裳和粗布短袄相比。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为大王派人攻打宋国，正是和这个害偷窃病的人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隶书"/>
              </a:rPr>
              <a:t>一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0"/>
            <a:ext cx="29718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8600" y="609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重点理解并记忆下列加横线词的意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1752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攻城之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机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子墨子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3886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吾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所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距子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2743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之攻械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子墨子之守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4572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楚王问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5105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宋城上而待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不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3276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219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墨子解带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1219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城墙；木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2286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多次；巧妙的战术；同“拒”，抵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用完；同“御”，抵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3276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同“屈”，折服；可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38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用什么办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33720" y="4572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用意、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入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即使；我；杀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28600" y="0"/>
            <a:ext cx="335268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609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于是，楚王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召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。先生墨子解下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衣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在地上围个圈儿作为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城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用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木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作为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守城的器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公输盘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多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用了攻城的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巧妙战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先生墨子多次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抵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了回去。公输盘攻城的办法都用完了，先生墨子守城的办法还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绰绰有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35053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折服了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还说：“我知道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用什么办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对付您了，我不说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44956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也说：“我知道你要用什么办法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对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我，我也不说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55627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楚王问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他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说这些话的用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8600" y="0"/>
            <a:ext cx="30481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83808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说：“公输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先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的意思，不过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杀死我。杀了我，宋国就守不住了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以破城而入了。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但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我的学生禽滑厘等三百人，已经拿着我的守城器械，在宋国城墙上等待楚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入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了。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即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杀了我，也不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杀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保卫宋国的人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4724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楚王说：“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好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我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不攻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宋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0"/>
            <a:ext cx="21337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请你总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76500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《公输》通过墨子（              　）的故事，生动地叙述了墨子为实现自己的（          　）主张，所表现出的（              　）和（                ）的精神，同时也暴露了公输盘和楚王（                  ），从而说明只有把（          ）和（           ）结合起来，才能迫使侵略者收敛其野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36576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墨子最终制止了这场战争，他采用（                             ）的办法，从道义上谴责楚攻宋之不义，他善用（        ），层层说理，在说理中运用大量（       ）句，增强了说服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685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止楚攻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29200" y="1219320"/>
            <a:ext cx="14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非攻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16002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艰苦实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62864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顽强斗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2492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阴险狡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421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道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2924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实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191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以子之矛攻子之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5000" y="4648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1500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排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90720" y="838080"/>
            <a:ext cx="6248160" cy="2667240"/>
          </a:xfrm>
          <a:prstGeom prst="rect">
            <a:avLst/>
          </a:prstGeom>
        </p:spPr>
        <p:txBody>
          <a:bodyPr wrap="none" lIns="90000" rIns="90000" tIns="46800" bIns="46800" anchor="t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公输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733920"/>
            <a:ext cx="401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《墨子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5105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《墨子》一书现在一般认为是墨子的弟子及其再传弟子记述墨子言行的辑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990720"/>
            <a:ext cx="62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你想学好本文吗？请跟我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8288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第一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：读准字音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438280"/>
            <a:ext cx="82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第二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：读准句读，根据意义正确划分句子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节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，       坚持多读，不读破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5053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第三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：走近墨子其人其世界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191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第四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：熟读全文后，初步把握墨子劝阻楚国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攻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宋国的三个步骤，试着全盘分析课文的内容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结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334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第五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：学习第一步骤的内容，记忆重点词语的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含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，努力让自己能流畅地翻译此部分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609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读准字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295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楚造云梯之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行十日十夜而至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828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夫子何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                       北方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臣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362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             胡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于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1240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有余于地而不足于民          邻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敝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欲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886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犀兕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鹿满之           江汉之鱼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天下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648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谓无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兔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鱼者也                     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334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荆有长松文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豫章           子墨子之守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715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然臣之弟子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等三百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xi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ǐ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ā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w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u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shu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xi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jī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b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x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81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3505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bi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u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tu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zh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f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di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z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pi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n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q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5638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g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qi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990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bā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6858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重点理解并记忆加横线的词的意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295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闻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752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愿借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209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2666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200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荆国有余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而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可谓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不可谓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不可谓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不可谓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不可谓</a:t>
            </a:r>
            <a:r>
              <a:rPr b="1" lang="zh-CN" sz="2400" spc="-1" strike="noStrike" u="sng">
                <a:solidFill>
                  <a:srgbClr val="ff33cc"/>
                </a:solidFill>
                <a:uFillTx/>
                <a:latin typeface="Times New Roman"/>
              </a:rPr>
              <a:t>知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5334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既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言之王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791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胡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1295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夫子，先生、老师；对建立了自己学派的人的尊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1752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2209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同“悦”，高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解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在；足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聪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对人亲善，友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41148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忠诚，尽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坚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2920" y="4191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明白事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4876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既然这样；停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已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5791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为什么；引见；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685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重点语句理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1219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夫子何命焉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676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献十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1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吾义固不杀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2666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墨子起，再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3657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杀所不足而争所有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义不杀少而杀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胡不已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可，吾既已言之王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791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胡不见我于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宋何罪之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1219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先生您有什么见教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1676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请允许我奉送给您十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21337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我坚持合宜的道德情理，坚决不杀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26668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先生墨子站起身来，拜了两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3124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宋国有什么罪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36576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</a:rPr>
              <a:t>杀害自己缺少的民众而争夺自己并不缺少的土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40384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</a:rPr>
              <a:t>自己说是讲道义，懂得不去杀少数人，如今却要去杀众多的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4724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为什么不停止制造云梯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5257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不行，我已经对楚王说过这件事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57913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为什么不向楚王引见我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0"/>
            <a:ext cx="312408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6858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给楚国制造云梯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这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器械，制成后，要用它去攻打宋国。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先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墨子听到这个消息，就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鲁国动身，走了十天十夜到达郢都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会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6668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说：“先生有什么指教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2004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墨子说：“北方有人欺侮我，我希望借重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力量杀掉他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114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不高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5720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说：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请允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我奉送给您十金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51055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说：“我是个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讲道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人，绝不  能平白无故杀人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68580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站起身来，拜了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两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说：“请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我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解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件事。我在北方听说您造了云梯，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用它攻打宋国。宋国有什么罪呢？楚国有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的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土地，缺少的是民众，如今却去牺牲自己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缺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民众而争夺自己并不缺少的土地，这不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能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是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聪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之举；宋国没有罪却去攻打它，这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不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说是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友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行为；你懂得这个道理，却不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据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力争，这不能说你对楚王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尽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；你去力争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了，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却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没有结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这不能说你是一个坚强的人。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自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说讲道义，懂得不去杀少数人，如今却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去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众多的人，这不能说你是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明白事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人。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0"/>
            <a:ext cx="29718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重点理解并记忆加横线词语的含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219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文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邻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敝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欲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175248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锦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邻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短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欲窃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2590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梁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邻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糠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欲窃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3124080"/>
            <a:ext cx="19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何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191120"/>
            <a:ext cx="39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轩之与敝舆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800600"/>
            <a:ext cx="48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臣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吏之攻宋也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此同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571500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虽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公输盘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云梯，必取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1219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华丽的车子；破车子；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13372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舍弃，丢掉；锦绣衣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粗布短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590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好饭好菜；粗劣食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怎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5120" y="365760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方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36840" y="421164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如同，好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我；认为；是；以上行为；一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5715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虽是这样；替；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KL</cp:lastModifiedBy>
  <dcterms:modified xsi:type="dcterms:W3CDTF">2013-02-26T06:12:2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6000000000001024140</vt:lpwstr>
  </property>
</Properties>
</file>