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1B2-0D18-429C-9F08-9332AE50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8BC-2CA5-4F73-BD79-C672320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C49-29EC-428D-B7A6-86B03526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B0B-7F86-431A-AED9-7A7B1AD6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FE71-EA32-4001-890F-B11F6102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629B-7D0C-4726-83C3-0CDBF8FD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723-8AE7-4ADB-A2F5-1B5C9CC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627C-8576-49E5-9C37-E7471B21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835A-AA33-4F11-92C0-1BC786A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A4B7-147E-4974-A502-7D9C2500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8B4A-4589-43C1-B6AE-3D0D6A34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528-402D-4241-A514-ED1B9924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CFFF-620D-45D6-91B5-44194D76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C4B0-AB82-4F78-B91A-A12796B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6BA-33E7-4BC5-A5AA-7F5E3BBB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8CD8-D9BE-4707-A0F5-5F145567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4DF1-54F9-4C09-9532-CE8CB621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711-6736-4700-9DDD-5F98901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9B8-1D2A-42CC-809F-6C13EC9F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603-7D97-4386-868E-72FEA9C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640-73B4-47A7-B990-ACACACF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160-EDB1-4722-B87C-1316AC4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BEE-E357-4897-BC8C-FB5A9A7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2E3-33A2-43D2-8B5C-96AD52A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775-6EB3-406F-9857-D85661C4C1F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2E1E-6937-4D6E-9833-92292829CC5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384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 baseline="-10000">
                <a:solidFill>
                  <a:srgbClr val="cc0066"/>
                </a:solidFill>
                <a:latin typeface="Arial"/>
                <a:ea typeface="华文新魏"/>
              </a:rPr>
              <a:t>生于忧患，死于安乐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精要练习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解释下列句子中加点的词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苦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其心志，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劳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其筋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苦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劳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苦：使……痛苦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劳：使……劳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于色，发于声，而后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征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喻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征：征验，表现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喻：了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把下列句子译成现代汉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困于心，衡于虑，而后作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答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内心忧困，思绪阻塞，然后才能有所作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精要练习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请从现实生活中列举典型事例，谈谈你对“生于忧患，死于安乐”的看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必须紧扣“生于忧患，死于安乐”的中心，观点与材料一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文言词语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------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通假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8280" y="2066400"/>
            <a:ext cx="809172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曾益其所不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通“增”增加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衡于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同“横”指不顺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法家拂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同“弼”辅弼，辅佐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文言词语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------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其他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5720" y="2252520"/>
            <a:ext cx="8094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舜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起，指被任用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傅说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任用，选拔，指被选拔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故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将降大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人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所以；责任，担子；这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文言词语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------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其他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苦其心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劳其筋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饿其体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空乏其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乱其所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所以</a:t>
            </a: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动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心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35280" y="1628640"/>
            <a:ext cx="273708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使┅┅痛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205000"/>
            <a:ext cx="273708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使┅┅劳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781360"/>
            <a:ext cx="273708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使┅┅饥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3357720"/>
            <a:ext cx="2737080" cy="502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使┅┅贫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3933720"/>
            <a:ext cx="273708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使┅┅错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805360"/>
            <a:ext cx="934920" cy="576360"/>
          </a:xfrm>
          <a:prstGeom prst="wedgeRectCallout">
            <a:avLst>
              <a:gd name="adj1" fmla="val 30305"/>
              <a:gd name="adj2" fmla="val -15578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用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5805360"/>
            <a:ext cx="1942920" cy="576360"/>
          </a:xfrm>
          <a:prstGeom prst="wedgeRectCallout">
            <a:avLst>
              <a:gd name="adj1" fmla="val -42810"/>
              <a:gd name="adj2" fmla="val -12906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使……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惊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5805360"/>
            <a:ext cx="1800360" cy="503280"/>
          </a:xfrm>
          <a:prstGeom prst="wedgeRectCallout">
            <a:avLst>
              <a:gd name="adj1" fmla="val -172222"/>
              <a:gd name="adj2" fmla="val -14684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使……坚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4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文言词语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其他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2946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恒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而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征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而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052640"/>
            <a:ext cx="1944360" cy="57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犯过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060640"/>
            <a:ext cx="259236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奋起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指有所作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2708280"/>
            <a:ext cx="230472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颜色，脸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005360"/>
            <a:ext cx="2592360" cy="57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在里面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指国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3357720"/>
            <a:ext cx="2304720" cy="57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了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700280"/>
            <a:ext cx="1368360" cy="433440"/>
          </a:xfrm>
          <a:prstGeom prst="wedgeRectCallout">
            <a:avLst>
              <a:gd name="adj1" fmla="val -2435"/>
              <a:gd name="adj2" fmla="val -12216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常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句子翻译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故天将降大任于是人也，必先苦其心志，劳其筋骨，饿其体肤，空乏其身，行拂乱其所为，所以动心忍性，曾益其所不能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所以，上天将要下达重大使命给这样的人，—定要先使他的内心痛苦，筋骨劳累，体肤饿瘦，身受贫困之苦，种种行动去阻碍、干扰他的事业，（通过这些）来让他内心警觉，使他的性格坚定起来，以不断增长才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句子翻译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人恒过，然后能改；困于心，衡于虑，而后作；征于色，发于声，而后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一个人常犯错误，这样以后才能改正；内心忧困，思绪阻塞，然后才能有所作为；（一个人的想法，只有）从脸色上显露出来，在吟咏叹息声中表现出来，然后才能为人们所了解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入则无法家拂士，出则无敌国外患者，国恒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而一个国家，内部如果没有坚持法度和辅佐君王的贤士，外部没有敌国外患，这个国家就往往会导致灭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然后知生于忧患，而死于安乐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这样以后，人们才会明白，忧患可以使人谋求生存，而安乐必将导致灭亡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文章评价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、本文的论点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孟子认为人才是艰苦环境造就的，有了艰苦环境的磨练，才能使人性格坚韧、顽强，才能担负重大的使命。本文中心论点是“生于忧患，死于安乐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、本文开头所列举的六个著名的历史人物，他们的共同特点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都是在经历了一番艰难困苦之后，成就了不平凡的事业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、在作者看来，一个人经受了艰难困苦的磨练，将会有怎样的益处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所以动心忍性，曾益其所不能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、文中由个人升华到国家，论证“死于安乐”的道理的句子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入则无法家拂士，出则无敌国外患者，国恒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精要练习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孟轲是我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时期思想家、教育家，儒家思想的代表人物，地位仅次于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后世并称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战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孔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孔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加点词的意义相同的一项是（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. ①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乱其所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②入则无法家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. ①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益其所不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曾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吝去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. ①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舜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于畎亩之中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于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. ①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将降大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于是人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任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重而道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06:20:25Z</dcterms:created>
  <dc:creator>语文备课大师网</dc:creator>
  <dc:description/>
  <cp:keywords/>
  <dc:language>en-US</dc:language>
  <cp:lastModifiedBy>备课大师</cp:lastModifiedBy>
  <dcterms:modified xsi:type="dcterms:W3CDTF">2014-03-02T03:42:47Z</dcterms:modified>
  <cp:revision>1</cp:revision>
  <dc:subject/>
  <dc:title>语文备课大师网</dc:title>
</cp:coreProperties>
</file>