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2239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448-9988-4A3E-B2F9-BEDD6A6C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360" y="396432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9E3-BF38-4ECC-9518-6C430871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571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83B-37B2-4033-A72A-DCC34D93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3692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6112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36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3692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6112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C34-A106-4407-8289-195F1B4F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3BF-E078-4453-8679-CF0FCD58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6DBC-CA02-4F9D-A97E-5EE950D2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7E6-D3A4-46E0-8DA0-0AE76F2D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AED4-B8B2-41C7-AD52-AE254CF4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F79-8B99-497D-AFC6-59DCA0D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2360" y="274320"/>
            <a:ext cx="1101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CCBC-EBDB-4EFF-9BB5-A4B827EC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8C11-4B9B-4583-8156-938488C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82B-D80F-4F85-AB55-B480941C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571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4F92-242C-44D9-B37C-3ADDC70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307-29FD-4447-AE4E-F6D8C28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2360" y="396432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B18-ACFF-4441-971F-6E848D1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571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180-E6D7-41CF-A95E-D01816DA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3692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61120" y="160020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236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3692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61120" y="3964320"/>
            <a:ext cx="354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4E1-53BB-4218-8838-8F8E63EB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EFD-C2BC-4266-90F5-720FC3C3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4AD-D568-4944-AAA5-B63DFEE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318-6704-4EDB-AB37-7591C8F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360" y="274320"/>
            <a:ext cx="1101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7EE-AA5F-4DDB-9B6A-A9475CEC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B7B-D5E3-44C9-A58C-9F19A69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57160" y="396432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60B-DBA5-4300-AB1B-0B53E10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57160" y="1600200"/>
            <a:ext cx="537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1101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E97-32E4-4ACB-88B3-1B02891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244920"/>
            <a:ext cx="2855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ED3-7271-41EE-A123-F3C1527A1D8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83200" y="6244920"/>
            <a:ext cx="387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72120" y="6244920"/>
            <a:ext cx="2855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BF4C-63EF-40D6-A5B2-851B4D97B405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011240" y="692280"/>
            <a:ext cx="70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九年级语文  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55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2378-C35A-4663-9FE8-F9A8B023B896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83200" y="6244920"/>
            <a:ext cx="387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72120" y="6244920"/>
            <a:ext cx="2855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C5F7-371B-4F4A-92DD-A3B7931777C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4119480"/>
            <a:ext cx="11979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子胥赐剑自刎，比干剖腹挖心，屈子放逐，司马迁蒙宫刑之辱，都是千古奇冤！这些忠心耿耿的志士仁人的一片丹心令人感动。他们的命运令人惋惜，同时也引起我们的反思：忠言就一定要逆耳吗？今天我们学习的就是一篇进谏忠言取得良好效果的故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br>
              <a:rPr sz="4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>
            <a:hlinkClick r:id="rId1" action="ppaction://hlinksldjump"/>
          </p:cNvPr>
          <p:cNvSpPr/>
          <p:nvPr/>
        </p:nvSpPr>
        <p:spPr>
          <a:xfrm>
            <a:off x="10915560" y="6400800"/>
            <a:ext cx="1325520" cy="457200"/>
          </a:xfrm>
          <a:custGeom>
            <a:avLst/>
            <a:gdLst>
              <a:gd name="textAreaLeft" fmla="*/ 29520 w 1325520"/>
              <a:gd name="textAreaRight" fmla="*/ 1296000 w 1325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2591" h="21600">
                <a:moveTo>
                  <a:pt x="0" y="0"/>
                </a:moveTo>
                <a:lnTo>
                  <a:pt x="62591" y="0"/>
                </a:lnTo>
                <a:lnTo>
                  <a:pt x="62591" y="21600"/>
                </a:lnTo>
                <a:lnTo>
                  <a:pt x="0" y="21600"/>
                </a:lnTo>
                <a:close/>
              </a:path>
              <a:path fill="lightenLess" w="62591" h="21600">
                <a:moveTo>
                  <a:pt x="0" y="0"/>
                </a:moveTo>
                <a:lnTo>
                  <a:pt x="62591" y="0"/>
                </a:lnTo>
                <a:lnTo>
                  <a:pt x="61191" y="1400"/>
                </a:lnTo>
                <a:lnTo>
                  <a:pt x="1400" y="1400"/>
                </a:lnTo>
                <a:close/>
              </a:path>
              <a:path fill="darken" w="62591" h="21600">
                <a:moveTo>
                  <a:pt x="62591" y="0"/>
                </a:moveTo>
                <a:lnTo>
                  <a:pt x="62591" y="21600"/>
                </a:lnTo>
                <a:lnTo>
                  <a:pt x="61191" y="20200"/>
                </a:lnTo>
                <a:lnTo>
                  <a:pt x="61191" y="1400"/>
                </a:lnTo>
                <a:close/>
              </a:path>
              <a:path fill="darkenLess" w="62591" h="21600">
                <a:moveTo>
                  <a:pt x="62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91" y="20200"/>
                </a:lnTo>
                <a:close/>
              </a:path>
              <a:path fill="lighten" w="62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591" h="21600">
                <a:moveTo>
                  <a:pt x="34794" y="10800"/>
                </a:moveTo>
                <a:lnTo>
                  <a:pt x="24289" y="17806"/>
                </a:lnTo>
                <a:lnTo>
                  <a:pt x="24289" y="3794"/>
                </a:lnTo>
                <a:close/>
              </a:path>
              <a:path fill="darken" w="62591" h="21600">
                <a:moveTo>
                  <a:pt x="36639" y="3794"/>
                </a:moveTo>
                <a:lnTo>
                  <a:pt x="36639" y="17806"/>
                </a:lnTo>
                <a:lnTo>
                  <a:pt x="38302" y="17806"/>
                </a:lnTo>
                <a:lnTo>
                  <a:pt x="3830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62080" y="0"/>
            <a:ext cx="1171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国有句古语“忠言逆耳利于行，良药苦口利于病”。但封建社会，皇权威威，不可侵犯，有多少谋臣良相出于对国家尽责，对国君尽忠的赤诚之心冒死进谏，劝国君改正过失，但大多因批龙鳞，逆圣听而惨遭杀身之祸，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1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015-D193-40E6-AA21-914A63FC35AE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2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B55F-69CF-4D73-A7C4-5B5B8678EE3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47560" y="714240"/>
            <a:ext cx="9574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333360" y="785880"/>
            <a:ext cx="1190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宋体"/>
              </a:rPr>
              <a:t>徐公，齐国之美丽者也。忌不自信，而复问其妾曰：“</a:t>
            </a:r>
            <a:r>
              <a:rPr b="0" lang="zh-CN" sz="4000" spc="-1" strike="noStrike">
                <a:solidFill>
                  <a:srgbClr val="ff6600"/>
                </a:solidFill>
                <a:latin typeface="宋体"/>
              </a:rPr>
              <a:t>吾孰与徐公美</a:t>
            </a:r>
            <a:r>
              <a:rPr b="0" lang="zh-CN" sz="4000" spc="-1" strike="noStrike">
                <a:solidFill>
                  <a:srgbClr val="333399"/>
                </a:solidFill>
                <a:latin typeface="宋体"/>
              </a:rPr>
              <a:t>？”妾曰：“徐公何能及君也！”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旦日</a:t>
            </a:r>
            <a:r>
              <a:rPr b="0" lang="zh-CN" sz="4000" spc="-1" strike="noStrike">
                <a:solidFill>
                  <a:srgbClr val="333399"/>
                </a:solidFill>
                <a:latin typeface="宋体"/>
              </a:rPr>
              <a:t>，客从外来，与坐谈，问之客曰：“吾与徐公孰美？”客曰：“徐公不若君之美也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33360" y="3687840"/>
            <a:ext cx="1143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译文：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徐公，是齐国的美男子。邹忌自己信不过，就又问他的妾说：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跟徐公谁漂亮？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妾说：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徐公哪里比得上您呢！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二天，有位客人从外边来，邹忌跟他坐着聊天，问他：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和徐公谁漂亮？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客人说：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徐公不如你漂亮啊。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直接箭头连接符 12"/>
          <p:cNvCxnSpPr/>
          <p:nvPr/>
        </p:nvCxnSpPr>
        <p:spPr>
          <a:xfrm flipV="1">
            <a:off x="2404080" y="428400"/>
            <a:ext cx="1215000" cy="13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矩形 14"/>
          <p:cNvSpPr/>
          <p:nvPr/>
        </p:nvSpPr>
        <p:spPr>
          <a:xfrm>
            <a:off x="3762360" y="0"/>
            <a:ext cx="421632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和徐公谁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直接箭头连接符 16"/>
          <p:cNvCxnSpPr/>
          <p:nvPr/>
        </p:nvCxnSpPr>
        <p:spPr>
          <a:xfrm>
            <a:off x="1262160" y="2643120"/>
            <a:ext cx="915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矩形 17"/>
          <p:cNvSpPr/>
          <p:nvPr/>
        </p:nvSpPr>
        <p:spPr>
          <a:xfrm>
            <a:off x="2262240" y="3214800"/>
            <a:ext cx="192888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第二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1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696-629E-425D-B40C-2E245428F70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2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558-FC9D-4001-A2BC-8C53FBF460F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547560" y="928800"/>
            <a:ext cx="11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明日，徐公来。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孰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视之，自以为不如；窥镜而自视，又弗如远甚。暮，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寝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而思之曰：“吾妻之美我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者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私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我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也</a:t>
            </a: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；妾之美我者，畏我也；客之美我者，欲有求于我也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619200" y="3357720"/>
            <a:ext cx="112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又过了一天，徐公来了，邹忌仔细地看他，自己认为不如他漂亮；再照着镜子看自己，更觉得相差太远。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晚上躺在床上考虑这件事，终于明白了：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的妻子赞美我，是因为偏爱我；妾赞美我，是因为害怕我；客人赞美我，是有求于我。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直接箭头连接符 6"/>
          <p:cNvCxnSpPr/>
          <p:nvPr/>
        </p:nvCxnSpPr>
        <p:spPr>
          <a:xfrm flipH="1" flipV="1">
            <a:off x="2689920" y="785520"/>
            <a:ext cx="13582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直接箭头连接符 9"/>
          <p:cNvCxnSpPr/>
          <p:nvPr/>
        </p:nvCxnSpPr>
        <p:spPr>
          <a:xfrm flipH="1">
            <a:off x="2476080" y="2070720"/>
            <a:ext cx="16437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直接箭头连接符 12"/>
          <p:cNvCxnSpPr/>
          <p:nvPr/>
        </p:nvCxnSpPr>
        <p:spPr>
          <a:xfrm flipV="1">
            <a:off x="9406080" y="99936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直接箭头连接符 15"/>
          <p:cNvCxnSpPr/>
          <p:nvPr/>
        </p:nvCxnSpPr>
        <p:spPr>
          <a:xfrm flipH="1">
            <a:off x="10121040" y="2071800"/>
            <a:ext cx="3582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AutoShape 7"/>
          <p:cNvSpPr/>
          <p:nvPr/>
        </p:nvSpPr>
        <p:spPr>
          <a:xfrm>
            <a:off x="333360" y="0"/>
            <a:ext cx="5931000" cy="936720"/>
          </a:xfrm>
          <a:prstGeom prst="wedgeRoundRectCallout">
            <a:avLst>
              <a:gd name="adj1" fmla="val 4712"/>
              <a:gd name="adj2" fmla="val 5358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通“熟”。孰视，注目细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547560" y="2714760"/>
            <a:ext cx="4378320" cy="622080"/>
          </a:xfrm>
          <a:prstGeom prst="wedgeRoundRectCallout">
            <a:avLst>
              <a:gd name="adj1" fmla="val -21236"/>
              <a:gd name="adj2" fmla="val 5432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睡，但没睡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8478720" y="0"/>
            <a:ext cx="3143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判断词 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9193320" y="2857680"/>
            <a:ext cx="1712880" cy="641160"/>
          </a:xfrm>
          <a:prstGeom prst="wedgeRoundRectCallout">
            <a:avLst>
              <a:gd name="adj1" fmla="val -13874"/>
              <a:gd name="adj2" fmla="val 53388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偏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996-8E24-4857-B0BA-62DEA2023BE5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7C6-8B58-40B3-86F5-AF2FB050907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9200" y="642600"/>
            <a:ext cx="107949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于是入朝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威王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曰：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臣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知不如徐公美，臣之妻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私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臣，臣之妾畏臣，臣之客欲有求于臣，皆以美于徐公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1095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，邹忌上朝延去见威王，说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确实知道我不如徐公漂亮。可是，的我妻子偏爱我，我的妾怕我，我的客人有事想求我，都说我比徐公漂亮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762360" y="214200"/>
            <a:ext cx="3787920" cy="577800"/>
          </a:xfrm>
          <a:prstGeom prst="wedgeRoundRectCallout">
            <a:avLst>
              <a:gd name="adj1" fmla="val 40462"/>
              <a:gd name="adj2" fmla="val 15186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实在，确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直接箭头连接符 11"/>
          <p:cNvCxnSpPr/>
          <p:nvPr/>
        </p:nvCxnSpPr>
        <p:spPr>
          <a:xfrm>
            <a:off x="2690640" y="2428560"/>
            <a:ext cx="18583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圆角矩形 13"/>
          <p:cNvSpPr/>
          <p:nvPr/>
        </p:nvSpPr>
        <p:spPr>
          <a:xfrm>
            <a:off x="4619520" y="2643120"/>
            <a:ext cx="157320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偏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83C-6CC7-4C63-8461-FC74D31DA4A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7D8-DA50-4677-923E-0AF16F03B0A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3440" y="3212640"/>
            <a:ext cx="113234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如今齐国的国土方圆一千多里，有一百二十座城，后妃和左右待从没有不偏爱大王的，朝中臣子没有不害怕大王的，全国的人没有不想求得大王的（恩遇）的：由此看来，您受的蒙蔽一定非常厉害的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762120" y="285840"/>
            <a:ext cx="4144680" cy="691920"/>
          </a:xfrm>
          <a:prstGeom prst="wedgeRoundRectCallout">
            <a:avLst>
              <a:gd name="adj1" fmla="val -203"/>
              <a:gd name="adj2" fmla="val 11582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土地，方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8978760" y="428760"/>
            <a:ext cx="2360880" cy="549000"/>
          </a:xfrm>
          <a:prstGeom prst="wedgeRoundRectCallout">
            <a:avLst>
              <a:gd name="adj1" fmla="val 16245"/>
              <a:gd name="adj2" fmla="val 13439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有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477040" y="357120"/>
            <a:ext cx="2217600" cy="765360"/>
          </a:xfrm>
          <a:prstGeom prst="wedgeRoundRectCallout">
            <a:avLst>
              <a:gd name="adj1" fmla="val -20759"/>
              <a:gd name="adj2" fmla="val 20518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受蒙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547200" y="713880"/>
            <a:ext cx="11323800" cy="26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　今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地方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千里，百二十城，宫妇左右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莫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不私王；朝廷之臣，莫不畏王；四境之内，莫不有求于王。由此观之，王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蔽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甚矣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563-7438-489F-A9A9-6787A233FFB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04AC-676E-4105-A428-737FAC96DBA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6280" y="285840"/>
            <a:ext cx="1132344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王曰：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善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乃下令：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群臣吏民，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面刺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寡人之过者，受上赏；上书谏寡人者，受中赏；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谤讥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市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闻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</a:rPr>
              <a:t>寡人之耳者，受下赏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3440" y="3429000"/>
            <a:ext cx="11323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威王说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好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下了一道命令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各级官员和百姓能够当面指责我的过错的，得头等奖赏；书面规劝我的，得二等奖赏；能在公共场所评论（我的过错）让我听到的，得三等奖赏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047600" y="214200"/>
            <a:ext cx="10360080" cy="693720"/>
          </a:xfrm>
          <a:prstGeom prst="wedgeRoundRectCallout">
            <a:avLst>
              <a:gd name="adj1" fmla="val -26490"/>
              <a:gd name="adj2" fmla="val 5406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谤：公开指责别人的过错，讥：谏。这里指“议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9650520" y="2357280"/>
            <a:ext cx="2590560" cy="928800"/>
          </a:xfrm>
          <a:prstGeom prst="wedgeRoundRectCallout">
            <a:avLst>
              <a:gd name="adj1" fmla="val 23189"/>
              <a:gd name="adj2" fmla="val -13687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当面指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690480" y="2857680"/>
            <a:ext cx="2573280" cy="642600"/>
          </a:xfrm>
          <a:prstGeom prst="wedgeRoundRectCallout">
            <a:avLst>
              <a:gd name="adj1" fmla="val 39560"/>
              <a:gd name="adj2" fmla="val -7284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公共场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直接箭头连接符 12"/>
          <p:cNvCxnSpPr/>
          <p:nvPr/>
        </p:nvCxnSpPr>
        <p:spPr>
          <a:xfrm flipV="1">
            <a:off x="1619280" y="856440"/>
            <a:ext cx="1715040" cy="135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直接箭头连接符 13"/>
          <p:cNvCxnSpPr/>
          <p:nvPr/>
        </p:nvCxnSpPr>
        <p:spPr>
          <a:xfrm>
            <a:off x="4547880" y="2571840"/>
            <a:ext cx="78660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矩形 15"/>
          <p:cNvSpPr/>
          <p:nvPr/>
        </p:nvSpPr>
        <p:spPr>
          <a:xfrm>
            <a:off x="5405400" y="2786040"/>
            <a:ext cx="20019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听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1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F4D-808F-494C-B63E-A5B49A17BB8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CA8-93FC-4E5C-ABE7-4FECA4ECECD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476280" y="1071720"/>
            <a:ext cx="107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令初下，群臣进谏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门庭若市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。数月之后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时时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间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进。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期年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之后，虽欲言，无可进者。　燕、赵、韩、魏闻之，皆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朝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于齐。此所谓战胜于朝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619200" y="3357720"/>
            <a:ext cx="1100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命令刚下达，许多大臣都来进言规劝，官门口和院子里象个集市；几个月后，偶而才有人进言规劝；一年以后，有人即使想规劝，也没有什么说的了。燕国、赵国、韩国、魏国、听说了这件事，都到齐国来朝拜。这就是人们说的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朝延上征服了别国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0" y="0"/>
            <a:ext cx="6048360" cy="857160"/>
          </a:xfrm>
          <a:prstGeom prst="wedgeRoundRectCallout">
            <a:avLst>
              <a:gd name="adj1" fmla="val 56851"/>
              <a:gd name="adj2" fmla="val 9262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门前和庭院像集市一扬热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8621640" y="285840"/>
            <a:ext cx="2786040" cy="712800"/>
          </a:xfrm>
          <a:prstGeom prst="wedgeRoundRectCallout">
            <a:avLst>
              <a:gd name="adj1" fmla="val 22537"/>
              <a:gd name="adj2" fmla="val 8863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有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33360" y="2928960"/>
            <a:ext cx="3071880" cy="571320"/>
          </a:xfrm>
          <a:prstGeom prst="wedgeRoundRectCallout">
            <a:avLst>
              <a:gd name="adj1" fmla="val -20152"/>
              <a:gd name="adj2" fmla="val -10256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间或，偶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3476520" y="2857680"/>
            <a:ext cx="2797200" cy="642600"/>
          </a:xfrm>
          <a:prstGeom prst="wedgeRoundRectCallout">
            <a:avLst>
              <a:gd name="adj1" fmla="val -73203"/>
              <a:gd name="adj2" fmla="val -13709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整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8AE-A94C-4BA0-A451-71AD80C4B8B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402C-E214-4B9E-9CEF-A2C9ACC1FC9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280" y="642600"/>
            <a:ext cx="1183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速读课文   理清思路   评析人物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6" descr="npo0001ec"/>
          <p:cNvPicPr/>
          <p:nvPr/>
        </p:nvPicPr>
        <p:blipFill>
          <a:blip r:embed="rId1"/>
          <a:stretch/>
        </p:blipFill>
        <p:spPr>
          <a:xfrm>
            <a:off x="1951200" y="2133720"/>
            <a:ext cx="8337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1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E4C-62F5-4E12-AA63-BD8ED6A0985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灯片编号占位符 2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91C-09FD-4DC3-AB6A-506A2DAC88B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33360" y="357120"/>
            <a:ext cx="113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这篇文章篇幅短小，妙趣横生，采用了一种奇特的三叠排比的结构样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976320" y="1500120"/>
            <a:ext cx="8913240" cy="4360320"/>
            <a:chOff x="976320" y="1500120"/>
            <a:chExt cx="8913240" cy="4360320"/>
          </a:xfrm>
        </p:grpSpPr>
        <p:sp>
          <p:nvSpPr>
            <p:cNvPr id="208" name="Rectangle 6"/>
            <p:cNvSpPr/>
            <p:nvPr/>
          </p:nvSpPr>
          <p:spPr>
            <a:xfrm>
              <a:off x="1096920" y="1500120"/>
              <a:ext cx="879264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邹忌             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三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妻、妾、客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 三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邹忌解蔽    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 三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入朝见威王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 三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齐威王纳谏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 三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纳赏后齐国             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 三变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0" lang="zh-CN" sz="4000" spc="-1" strike="noStrike">
                  <a:solidFill>
                    <a:srgbClr val="333399"/>
                  </a:solidFill>
                  <a:latin typeface="Times New Roman"/>
                </a:rPr>
                <a:t>前后呼应，上下关照，层层推进，读来琅琅上口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976320" y="2143080"/>
              <a:ext cx="299520" cy="3038400"/>
            </a:xfrm>
            <a:custGeom>
              <a:avLst/>
              <a:gdLst>
                <a:gd name="textAreaLeft" fmla="*/ 191520 w 299520"/>
                <a:gd name="textAreaRight" fmla="*/ 299880 w 299520"/>
                <a:gd name="textAreaTop" fmla="*/ 79200 h 3038400"/>
                <a:gd name="textAreaBottom" fmla="*/ 2959200 h 303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714240" y="53352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三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084040" y="158904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其妻：“我孰与城北徐公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916280" y="217476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其妾：“吾孰与徐公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831680" y="275904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客：“吾与徐公孰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191680" y="347976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问题：“三问” 在表述上有无差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817560" y="4149720"/>
            <a:ext cx="1084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邹忌问其妻，自称“我”，用较随便的口语化的自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816120" y="5029200"/>
            <a:ext cx="1091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问其妾，用较庄重的书面语化的自称，端着点架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816120" y="5867280"/>
            <a:ext cx="109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问其客，“吾与徐公孰美？”还是端着架子，但句式通俗多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2106000" y="99072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曰：“君美甚，徐公何能及君也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770120" y="152388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妾曰：“徐公何能及君也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853640" y="205740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客曰：“徐公不若君之美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12720" y="38088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三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043720" y="25909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问题：三人的回答在语气上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07880" y="3124080"/>
            <a:ext cx="1132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妻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不假思索，脱口而出，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多了“君美甚”三个字，表示了妻子的偏爱之情，用的是反问句，表示一种十分肯定、不用怀疑的口气。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07880" y="4419720"/>
            <a:ext cx="1152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妾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回答少了“君美甚”三个字，但仍然用反问句，表现了她低微的地位和畏怯、顺从的心理。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07880" y="5332320"/>
            <a:ext cx="110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客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客人的回答不仅少了“君美甚”三个字，而且不用强烈的反问语气，只是平淡地肯定邹忌美于徐公，只表示一种应酬、逢迎的态度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4B86-0D72-421E-B9A8-F9C97D0028F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C807-9035-43B1-83EA-1C7FBC2FC9B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11" descr="npo0001da"/>
          <p:cNvPicPr/>
          <p:nvPr/>
        </p:nvPicPr>
        <p:blipFill>
          <a:blip r:embed="rId1"/>
          <a:stretch/>
        </p:blipFill>
        <p:spPr>
          <a:xfrm>
            <a:off x="722160" y="1413000"/>
            <a:ext cx="10747440" cy="4273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9960" y="981000"/>
            <a:ext cx="9588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50021"/>
                </a:solidFill>
                <a:latin typeface="华文新魏"/>
                <a:ea typeface="华文新魏"/>
              </a:rPr>
              <a:t>邹忌讽</a:t>
            </a:r>
            <a:br>
              <a:rPr sz="6600"/>
            </a:br>
            <a:r>
              <a:rPr b="1" lang="zh-CN" sz="6600" spc="-1" strike="noStrike">
                <a:solidFill>
                  <a:srgbClr val="a50021"/>
                </a:solidFill>
                <a:latin typeface="华文新魏"/>
                <a:ea typeface="华文新魏"/>
              </a:rPr>
              <a:t>齐王纳谏</a:t>
            </a:r>
            <a:br>
              <a:rPr sz="6600"/>
            </a:br>
            <a:r>
              <a:rPr b="1" lang="en-US" sz="4800" spc="-1" strike="noStrike">
                <a:solidFill>
                  <a:srgbClr val="ff6600"/>
                </a:solidFill>
                <a:latin typeface="华文新魏"/>
                <a:ea typeface="华文新魏"/>
              </a:rPr>
              <a:t>《</a:t>
            </a:r>
            <a:r>
              <a:rPr b="1" lang="zh-CN" sz="4800" spc="-1" strike="noStrike">
                <a:solidFill>
                  <a:srgbClr val="ff6600"/>
                </a:solidFill>
                <a:latin typeface="华文新魏"/>
                <a:ea typeface="华文新魏"/>
              </a:rPr>
              <a:t>战国策</a:t>
            </a:r>
            <a:r>
              <a:rPr b="1" lang="en-US" sz="4800" spc="-1" strike="noStrike">
                <a:solidFill>
                  <a:srgbClr val="ff6600"/>
                </a:solidFill>
                <a:latin typeface="华文新魏"/>
                <a:ea typeface="华文新魏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17560" y="1584360"/>
            <a:ext cx="10725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这三问三答，根据人物身份地位，虽然未写一个字的人物心理、神态，但每一处回答，每一个人的表情乃至内心世界，都使读者描摹出来，真可谓“不著一字，尽得风流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1720" y="856800"/>
            <a:ext cx="110170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臣之妻→私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臣之妾→畏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619520" y="1285920"/>
            <a:ext cx="336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境之内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762440" y="9288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宫妇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762440" y="1643040"/>
            <a:ext cx="32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廷之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976560" y="1143000"/>
            <a:ext cx="714600" cy="76320"/>
          </a:xfrm>
          <a:prstGeom prst="leftArrow">
            <a:avLst>
              <a:gd name="adj1" fmla="val 50000"/>
              <a:gd name="adj2" fmla="val 17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976560" y="1928880"/>
            <a:ext cx="714600" cy="75960"/>
          </a:xfrm>
          <a:prstGeom prst="leftArrow">
            <a:avLst>
              <a:gd name="adj1" fmla="val 50000"/>
              <a:gd name="adj2" fmla="val 175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8695080" y="1571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蔽（甚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333360" y="2214720"/>
            <a:ext cx="56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臣之客→求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3143160" y="5572080"/>
            <a:ext cx="68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设喻说理，巧妙设谏，以家事比国事，以小见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使对方易于接受自己的主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19"/>
          <p:cNvSpPr txBox="1"/>
          <p:nvPr/>
        </p:nvSpPr>
        <p:spPr>
          <a:xfrm>
            <a:off x="1047600" y="3286080"/>
            <a:ext cx="2449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设喻说理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37" name="WordArt 20"/>
          <p:cNvSpPr txBox="1"/>
          <p:nvPr/>
        </p:nvSpPr>
        <p:spPr>
          <a:xfrm>
            <a:off x="7264440" y="328608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类比推理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547560" y="392904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设置或借用一个寓言、故事或 自然现象来说明一个抽象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6018120" y="3929040"/>
            <a:ext cx="62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两个同类事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某种相同的属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推出它们的其它属性也可能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116080" y="21420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三比” 体现了怎样的说话艺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3905280" y="2571840"/>
            <a:ext cx="714240" cy="75960"/>
          </a:xfrm>
          <a:prstGeom prst="leftArrow">
            <a:avLst>
              <a:gd name="adj1" fmla="val 50000"/>
              <a:gd name="adj2" fmla="val 1756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12241080" cy="6859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071800" y="1916280"/>
            <a:ext cx="27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邹 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2071800" y="189000"/>
            <a:ext cx="5205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人物分析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166840" y="1125360"/>
            <a:ext cx="94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邹忌、齐威王有何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gif026.gif"/>
          <p:cNvPicPr/>
          <p:nvPr/>
        </p:nvPicPr>
        <p:blipFill>
          <a:blip r:embed="rId2"/>
          <a:stretch/>
        </p:blipFill>
        <p:spPr>
          <a:xfrm>
            <a:off x="2360520" y="3933720"/>
            <a:ext cx="9447480" cy="503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4386240" y="1916280"/>
            <a:ext cx="722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黑体"/>
              </a:rPr>
              <a:t>头脑冷静、实事求是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黑体"/>
              </a:rPr>
              <a:t>善于思考、足智多谋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黑体"/>
              </a:rPr>
              <a:t>善于辞令、勇于进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386240" y="4581360"/>
            <a:ext cx="72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闻过则改、虚心纳谏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明智果断、兴利除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878120" y="4581360"/>
            <a:ext cx="29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齐威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55440" y="333360"/>
            <a:ext cx="1521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三思－三比－三赏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三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1494000" y="1197000"/>
            <a:ext cx="384120" cy="1800360"/>
          </a:xfrm>
          <a:custGeom>
            <a:avLst/>
            <a:gdLst>
              <a:gd name="textAreaLeft" fmla="*/ 0 w 384120"/>
              <a:gd name="textAreaRight" fmla="*/ 138600 w 384120"/>
              <a:gd name="textAreaTop" fmla="*/ 62640 h 1800360"/>
              <a:gd name="textAreaBottom" fmla="*/ 1737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5"/>
                  <a:pt x="10800" y="2410"/>
                </a:cubicBezTo>
                <a:lnTo>
                  <a:pt x="10800" y="11114"/>
                </a:lnTo>
                <a:cubicBezTo>
                  <a:pt x="10800" y="12319"/>
                  <a:pt x="16200" y="13524"/>
                  <a:pt x="21600" y="13524"/>
                </a:cubicBezTo>
                <a:cubicBezTo>
                  <a:pt x="16200" y="13524"/>
                  <a:pt x="10800" y="14729"/>
                  <a:pt x="10800" y="15934"/>
                </a:cubicBezTo>
                <a:lnTo>
                  <a:pt x="10800" y="19190"/>
                </a:lnTo>
                <a:cubicBezTo>
                  <a:pt x="10800" y="2039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1494000" y="4508640"/>
            <a:ext cx="384120" cy="1728720"/>
          </a:xfrm>
          <a:custGeom>
            <a:avLst/>
            <a:gdLst>
              <a:gd name="textAreaLeft" fmla="*/ 0 w 384120"/>
              <a:gd name="textAreaRight" fmla="*/ 138600 w 384120"/>
              <a:gd name="textAreaTop" fmla="*/ 60120 h 1728720"/>
              <a:gd name="textAreaBottom" fmla="*/ 16686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5"/>
                  <a:pt x="10800" y="2410"/>
                </a:cubicBezTo>
                <a:lnTo>
                  <a:pt x="10800" y="3203"/>
                </a:lnTo>
                <a:cubicBezTo>
                  <a:pt x="10800" y="4408"/>
                  <a:pt x="16200" y="5613"/>
                  <a:pt x="21600" y="5613"/>
                </a:cubicBezTo>
                <a:cubicBezTo>
                  <a:pt x="16200" y="5613"/>
                  <a:pt x="10800" y="6818"/>
                  <a:pt x="10800" y="8023"/>
                </a:cubicBezTo>
                <a:lnTo>
                  <a:pt x="10800" y="19190"/>
                </a:lnTo>
                <a:cubicBezTo>
                  <a:pt x="10800" y="2039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7AA-D23E-4716-887C-23686E62C496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EFC-F273-42E1-9D5E-B7703626E87A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4640" y="499680"/>
            <a:ext cx="1040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　迁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Object 7" descr="npo0001ee"/>
          <p:cNvPicPr/>
          <p:nvPr/>
        </p:nvPicPr>
        <p:blipFill>
          <a:blip r:embed="rId1"/>
          <a:stretch/>
        </p:blipFill>
        <p:spPr>
          <a:xfrm>
            <a:off x="1951200" y="2133720"/>
            <a:ext cx="8337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405080" y="571680"/>
            <a:ext cx="9758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积累下列名言警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人非圣贤，孰能无过？过而改之，善莫大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君子之过，如日月之食也。过也，人皆见之，及其更也，人皆仰之。（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论语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良药苦口利于病，忠言逆耳利于行。（孔子家语）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信言不美，美言不信。（老子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F07-E55C-4D79-992E-92B4D03181C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FAB-6AE8-44FB-ACD8-610F2620607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9240" y="-360"/>
            <a:ext cx="1040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召公谏厉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76280" y="571320"/>
            <a:ext cx="1132344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厉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虐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国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谤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王。召公告曰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民不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堪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命矣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王怒，得卫巫，便监谤者，以告，则杀之。国人莫敢言，道路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王喜，告召公曰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吾能弭谤矣，乃不敢言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邵公曰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也，防民之口，甚于防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壅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而溃，伤人必多，民亦如之。是故为川者决之使导，为民者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宣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使言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王不听，于是国莫敢出言。三年，乃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王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彘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                   （选自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国语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9621720" y="0"/>
            <a:ext cx="1541520" cy="603360"/>
          </a:xfrm>
          <a:prstGeom prst="wedgeRoundRectCallout">
            <a:avLst>
              <a:gd name="adj1" fmla="val -168587"/>
              <a:gd name="adj2" fmla="val 1287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止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7407360" y="1785960"/>
            <a:ext cx="1928880" cy="603360"/>
          </a:xfrm>
          <a:prstGeom prst="wedgeRoundRectCallout">
            <a:avLst>
              <a:gd name="adj1" fmla="val -157745"/>
              <a:gd name="adj2" fmla="val 20204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堵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0" y="2500200"/>
            <a:ext cx="1542960" cy="571680"/>
          </a:xfrm>
          <a:prstGeom prst="wedgeRoundRectCallout">
            <a:avLst>
              <a:gd name="adj1" fmla="val -2615"/>
              <a:gd name="adj2" fmla="val 23026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河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0" y="5143680"/>
            <a:ext cx="1542960" cy="603000"/>
          </a:xfrm>
          <a:prstGeom prst="wedgeRoundRectCallout">
            <a:avLst>
              <a:gd name="adj1" fmla="val 119833"/>
              <a:gd name="adj2" fmla="val -21888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堵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1905120" y="5857920"/>
            <a:ext cx="1542960" cy="603360"/>
          </a:xfrm>
          <a:prstGeom prst="wedgeRoundRectCallout">
            <a:avLst>
              <a:gd name="adj1" fmla="val -109180"/>
              <a:gd name="adj2" fmla="val 675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2B5B-EFF6-45A7-A312-8B4F4B74026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8F8-4EDF-4BD8-A27F-8FE762F811C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13840"/>
            <a:ext cx="12241080" cy="57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译文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周厉王暴虐，国都的人都指责他。召公报告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百姓不能忍受君王的命令了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厉王发怒，找到一个卫国的巫人，派他监视指责自己的人。卫巫将这些人报告厉王，就杀掉他们。因此国都的人都不敢说话，路上相遇只是彼此使个眼色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厉王高兴了，告诉召公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能止住攻击了，现在他们再不敢瞎说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召公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是堵他们的口。堵住百姓的口，比堵住河水更厉害。河水堵塞而冲破堤坝，伤害的人一定很多，百姓也象河水一样。所以治理河水的人，要疏通它，引导它畅通；治理百姓的人，要给他们言论自由，让他们发表自己的意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厉王不听。于是国都的人再不敢讲话。三年以后（爆发起义），将厉王放逐到彘地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9A53-7AE6-4FE5-93C7-B8DF3C9A2C8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4DB-5CC9-4613-AD20-366DFA4D46FA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17200" y="404640"/>
            <a:ext cx="10387080" cy="1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表说明两文的不同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33440" y="836640"/>
          <a:ext cx="11471400" cy="5468760"/>
        </p:xfrm>
        <a:graphic>
          <a:graphicData uri="http://schemas.openxmlformats.org/drawingml/2006/table">
            <a:tbl>
              <a:tblPr/>
              <a:tblGrid>
                <a:gridCol w="2592360"/>
                <a:gridCol w="4441680"/>
                <a:gridCol w="4437360"/>
              </a:tblGrid>
              <a:tr h="64656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邹忌讽齐王纳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召公谏厉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劝谏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劝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劝谏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说理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方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终效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1872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122400" rIns="122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22400" marR="122400">
                    <a:lnL w="576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1080" y="1557360"/>
            <a:ext cx="8486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战国策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             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国语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战国                        西周后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3421080" y="2781360"/>
            <a:ext cx="877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邹忌                        召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齐威王（开明）  周厉王（暴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3421080" y="4076640"/>
            <a:ext cx="8577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讽谏                        直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类比                        比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3421080" y="5229360"/>
            <a:ext cx="857736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王曰善乃下令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王不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战胜于朝廷            流王于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仅供参考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领导，要保持清醒的头脑，不偏听偏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群众，提建议要讲究方式方法，既不冒犯对方，又要保护自己的尊严不受侵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普通人，要善于接受别人的建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10915560" y="6324480"/>
            <a:ext cx="1325520" cy="533520"/>
          </a:xfrm>
          <a:custGeom>
            <a:avLst/>
            <a:gdLst>
              <a:gd name="textAreaLeft" fmla="*/ 34560 w 1325520"/>
              <a:gd name="textAreaRight" fmla="*/ 1290960 w 1325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3643" h="21600">
                <a:moveTo>
                  <a:pt x="0" y="0"/>
                </a:moveTo>
                <a:lnTo>
                  <a:pt x="53643" y="0"/>
                </a:lnTo>
                <a:lnTo>
                  <a:pt x="53643" y="21600"/>
                </a:lnTo>
                <a:lnTo>
                  <a:pt x="0" y="21600"/>
                </a:lnTo>
                <a:close/>
              </a:path>
              <a:path fill="lightenLess" w="53643" h="21600">
                <a:moveTo>
                  <a:pt x="0" y="0"/>
                </a:moveTo>
                <a:lnTo>
                  <a:pt x="53643" y="0"/>
                </a:lnTo>
                <a:lnTo>
                  <a:pt x="52243" y="1400"/>
                </a:lnTo>
                <a:lnTo>
                  <a:pt x="1400" y="1400"/>
                </a:lnTo>
                <a:close/>
              </a:path>
              <a:path fill="darken" w="53643" h="21600">
                <a:moveTo>
                  <a:pt x="53643" y="0"/>
                </a:moveTo>
                <a:lnTo>
                  <a:pt x="53643" y="21600"/>
                </a:lnTo>
                <a:lnTo>
                  <a:pt x="52243" y="20200"/>
                </a:lnTo>
                <a:lnTo>
                  <a:pt x="52243" y="1400"/>
                </a:lnTo>
                <a:close/>
              </a:path>
              <a:path fill="darkenLess" w="53643" h="21600">
                <a:moveTo>
                  <a:pt x="5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43" y="20200"/>
                </a:lnTo>
                <a:close/>
              </a:path>
              <a:path fill="lighten" w="5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43" h="21600">
                <a:moveTo>
                  <a:pt x="30320" y="10800"/>
                </a:moveTo>
                <a:lnTo>
                  <a:pt x="19815" y="17806"/>
                </a:lnTo>
                <a:lnTo>
                  <a:pt x="19815" y="3794"/>
                </a:lnTo>
                <a:close/>
              </a:path>
              <a:path fill="darken" w="53643" h="21600">
                <a:moveTo>
                  <a:pt x="32166" y="3794"/>
                </a:moveTo>
                <a:lnTo>
                  <a:pt x="32166" y="17806"/>
                </a:lnTo>
                <a:lnTo>
                  <a:pt x="33828" y="17806"/>
                </a:lnTo>
                <a:lnTo>
                  <a:pt x="3382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D1F-2021-4DE2-8A98-ED619AAC3B5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0391-D8CF-40E1-B12D-9105D9EBB60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Object 7" descr="npo0001ef"/>
          <p:cNvPicPr/>
          <p:nvPr/>
        </p:nvPicPr>
        <p:blipFill>
          <a:blip r:embed="rId1"/>
          <a:stretch/>
        </p:blipFill>
        <p:spPr>
          <a:xfrm>
            <a:off x="1023840" y="981000"/>
            <a:ext cx="10193400" cy="4052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20560" y="2285640"/>
            <a:ext cx="759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a50021"/>
                </a:solidFill>
                <a:latin typeface="方正琥珀简体"/>
                <a:ea typeface="方正琥珀简体"/>
              </a:rPr>
              <a:t>再 见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期占位符 1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077-54B5-44BD-B6DB-83410A1338D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2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80E8-1332-419A-969A-84DF66A2519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19240" y="1214280"/>
            <a:ext cx="104313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彩云"/>
              </a:rPr>
              <a:t>教学目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一 了解常识         二 掌握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三 疏通文意         四 理清思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华文隶书"/>
                <a:ea typeface="仿宋"/>
              </a:rPr>
              <a:t>五 品味人物         六 思考讽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90480" y="1571760"/>
            <a:ext cx="10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齐威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是一个很有作为的君王，据史载，他继位之初，好为淫乐，不理政事，结果“百官荒废，诸侯并侵，国且危亡，在于旦暮”。齐威王爱隐语，谋士淳于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kūn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乃以隐语进谏曰：“国中有大鸟，止于王庭，三年不飞不鸣，王知此鸟何也？”齐威王听后顿悟曰：“此鸟不飞则已，一飞冲天；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不鸣则已，一鸣惊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”从此，齐威王励精图治，修明政治，齐国大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90480" y="285840"/>
            <a:ext cx="110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邹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齐国的谋臣，历事桓公、威王、宣王三朝，以敢于进谏和善辩著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2284-F4B9-4395-9F2E-E938D8BBBAB3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583-AB02-4FCA-8A49-FD5E0A10967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7280" y="304560"/>
            <a:ext cx="79023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6b70"/>
                </a:solidFill>
                <a:latin typeface="Arial"/>
                <a:ea typeface="方正琥珀简体"/>
              </a:rPr>
              <a:t>出处：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战国策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7640" y="2133720"/>
            <a:ext cx="10406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战国策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又叫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国策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，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记载战国历史的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国别体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史书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西汉末年，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刘向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根据战国时事的记录整理而成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0520" y="285840"/>
            <a:ext cx="51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解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2652840" y="2286000"/>
            <a:ext cx="5711040" cy="228600"/>
            <a:chOff x="2652840" y="2286000"/>
            <a:chExt cx="5711040" cy="228600"/>
          </a:xfrm>
        </p:grpSpPr>
        <p:sp>
          <p:nvSpPr>
            <p:cNvPr id="101" name="Line 4"/>
            <p:cNvSpPr/>
            <p:nvPr/>
          </p:nvSpPr>
          <p:spPr>
            <a:xfrm>
              <a:off x="2652840" y="2286000"/>
              <a:ext cx="42836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5304240" y="2514600"/>
              <a:ext cx="30596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5508720" y="266688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兼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2120760" y="1285920"/>
            <a:ext cx="7752960" cy="893160"/>
            <a:chOff x="2120760" y="1285920"/>
            <a:chExt cx="7752960" cy="893160"/>
          </a:xfrm>
        </p:grpSpPr>
        <p:sp>
          <p:nvSpPr>
            <p:cNvPr id="105" name="Text Box 8"/>
            <p:cNvSpPr/>
            <p:nvPr/>
          </p:nvSpPr>
          <p:spPr>
            <a:xfrm>
              <a:off x="2120760" y="1285920"/>
              <a:ext cx="7752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邹忌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讽                纳谏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5304240" y="1447560"/>
              <a:ext cx="17337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齐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0"/>
          <p:cNvSpPr/>
          <p:nvPr/>
        </p:nvSpPr>
        <p:spPr>
          <a:xfrm>
            <a:off x="5262480" y="1357200"/>
            <a:ext cx="1735200" cy="73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齐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976320" y="3429000"/>
            <a:ext cx="409680" cy="990720"/>
          </a:xfrm>
          <a:custGeom>
            <a:avLst/>
            <a:gdLst>
              <a:gd name="textAreaLeft" fmla="*/ 261720 w 409680"/>
              <a:gd name="textAreaRight" fmla="*/ 410040 w 409680"/>
              <a:gd name="textAreaTop" fmla="*/ 34560 h 990720"/>
              <a:gd name="textAreaBottom" fmla="*/ 956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5"/>
                  <a:pt x="10800" y="2410"/>
                </a:cubicBezTo>
                <a:lnTo>
                  <a:pt x="10800" y="8390"/>
                </a:lnTo>
                <a:cubicBezTo>
                  <a:pt x="10800" y="9595"/>
                  <a:pt x="5400" y="10800"/>
                  <a:pt x="0" y="10800"/>
                </a:cubicBezTo>
                <a:cubicBezTo>
                  <a:pt x="5400" y="10800"/>
                  <a:pt x="10800" y="12005"/>
                  <a:pt x="10800" y="13210"/>
                </a:cubicBezTo>
                <a:lnTo>
                  <a:pt x="10800" y="19190"/>
                </a:lnTo>
                <a:cubicBezTo>
                  <a:pt x="10800" y="2039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476360" y="3071880"/>
            <a:ext cx="31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Times New Roman"/>
                <a:ea typeface="黑体"/>
              </a:rPr>
              <a:t>今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530360" y="3962520"/>
            <a:ext cx="30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Times New Roman"/>
                <a:ea typeface="黑体"/>
              </a:rPr>
              <a:t>古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691080" y="3143160"/>
            <a:ext cx="28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讽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548160" y="4000680"/>
            <a:ext cx="72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讽谏，即用暗示、比喻的方法委婉地规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190520" y="5929200"/>
            <a:ext cx="101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纳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采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谏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名词，指批评意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476360" y="857160"/>
            <a:ext cx="8483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听读课文，注意字音：</a:t>
            </a:r>
            <a:endParaRPr b="1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04920" y="2349360"/>
            <a:ext cx="10302840" cy="192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昳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    　　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窥 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    　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间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期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年   　　　      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谤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朝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服衣冠　　     皆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隶书"/>
                <a:ea typeface="隶书"/>
              </a:rPr>
              <a:t>朝</a:t>
            </a:r>
            <a:r>
              <a:rPr b="1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于齐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685880" y="2349360"/>
            <a:ext cx="1030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yì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　　 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kuī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　     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jī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　　　         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bàng j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zhāo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　　                    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cháo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20043121004217125.mp3" descr=""/>
          <p:cNvPicPr/>
          <p:nvPr/>
        </p:nvPicPr>
        <p:blipFill>
          <a:blip r:embed="rId2"/>
          <a:stretch/>
        </p:blipFill>
        <p:spPr>
          <a:xfrm>
            <a:off x="1397160" y="5013360"/>
            <a:ext cx="96336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邹忌讽齐王纳谏 .mp3" descr=""/>
          <p:cNvPicPr/>
          <p:nvPr/>
        </p:nvPicPr>
        <p:blipFill>
          <a:blip r:embed="rId3"/>
          <a:stretch/>
        </p:blipFill>
        <p:spPr>
          <a:xfrm>
            <a:off x="6478560" y="5143680"/>
            <a:ext cx="19954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1814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18149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2AA1-948E-4119-BD36-227662816EC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AA16-6B63-4267-8A63-D8D2FC11919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691920"/>
            <a:ext cx="1040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再读课文     翻译词句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Object 6" descr="npo0001dc"/>
          <p:cNvPicPr/>
          <p:nvPr/>
        </p:nvPicPr>
        <p:blipFill>
          <a:blip r:embed="rId1"/>
          <a:stretch/>
        </p:blipFill>
        <p:spPr>
          <a:xfrm>
            <a:off x="1951200" y="2133720"/>
            <a:ext cx="8337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1272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726-D303-474C-B593-D274C0FB9A8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877248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9C72-AF3A-484A-A2A0-6EB15629F0D3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640" y="857160"/>
            <a:ext cx="11597040" cy="25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　邹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修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八尺有余，形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昳丽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。朝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服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衣冠，窥镜，谓其妻曰：“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我孰与城北徐公美？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”其妻曰：“君美甚，徐公何能及公也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6834240" y="6416640"/>
            <a:ext cx="511200" cy="365040"/>
          </a:xfrm>
          <a:prstGeom prst="rightArrow">
            <a:avLst>
              <a:gd name="adj1" fmla="val 50000"/>
              <a:gd name="adj2" fmla="val 2615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4794120" y="6416640"/>
            <a:ext cx="50976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firstslide"/>
          </p:cNvPr>
          <p:cNvSpPr/>
          <p:nvPr/>
        </p:nvSpPr>
        <p:spPr>
          <a:xfrm>
            <a:off x="5764320" y="6400800"/>
            <a:ext cx="7128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0" y="500040"/>
            <a:ext cx="1106640" cy="682560"/>
          </a:xfrm>
          <a:prstGeom prst="wedgeRoundRectCallout">
            <a:avLst>
              <a:gd name="adj1" fmla="val 199518"/>
              <a:gd name="adj2" fmla="val 5534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191120" y="214200"/>
            <a:ext cx="3781440" cy="642960"/>
          </a:xfrm>
          <a:prstGeom prst="wedgeRoundRectCallout">
            <a:avLst>
              <a:gd name="adj1" fmla="val 17509"/>
              <a:gd name="adj2" fmla="val 10348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通“佚”，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8764560" y="214200"/>
            <a:ext cx="2141640" cy="576360"/>
          </a:xfrm>
          <a:prstGeom prst="wedgeRoundRectCallout">
            <a:avLst>
              <a:gd name="adj1" fmla="val -37500"/>
              <a:gd name="adj2" fmla="val 954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穿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8120" y="3357720"/>
            <a:ext cx="1132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译文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邹忌身高八尺多，体形容貌美丽。有一天早上，他穿好衣服，戴上帽子，照着镜子，对他的妻子说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跟城北的徐公谁漂亮？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的妻子说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您漂亮极了，徐公哪里比得上你呀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线形标注 2 12"/>
          <p:cNvSpPr/>
          <p:nvPr/>
        </p:nvSpPr>
        <p:spPr>
          <a:xfrm>
            <a:off x="6264360" y="2428920"/>
            <a:ext cx="5715000" cy="826920"/>
          </a:xfrm>
          <a:prstGeom prst="borderCallout2">
            <a:avLst>
              <a:gd name="adj1" fmla="val 18750"/>
              <a:gd name="adj2" fmla="val -8333"/>
              <a:gd name="adj3" fmla="val 8120"/>
              <a:gd name="adj4" fmla="val -14513"/>
              <a:gd name="adj5" fmla="val -10379"/>
              <a:gd name="adj6" fmla="val -2121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与徐公孰美”的倒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</dc:creator>
  <dc:description/>
  <dc:language>en-US</dc:language>
  <cp:lastModifiedBy>Windows 用户</cp:lastModifiedBy>
  <dcterms:modified xsi:type="dcterms:W3CDTF">2013-11-23T03:44:46Z</dcterms:modified>
  <cp:revision>0</cp:revision>
  <dc:subject/>
  <dc:title>语文备课大师</dc:title>
</cp:coreProperties>
</file>