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C4B-4E72-4ABB-A049-277F3CA4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480-9903-4DF1-AA7A-DA91424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81B-419E-432A-AB0C-C69713E7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286-494D-48B9-B68D-D3D88AFF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FF0-4705-4E5D-B24F-DAD50261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440-198D-4182-92F7-FA92E4B8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216-B926-4CC8-A941-383701C4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9E0-D73A-4BB9-9D62-0C8BC3FD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E69-8DCF-4718-90B8-0D29F137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503-F263-4D5C-8161-BF4F170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F7E-97FE-4D86-A7CF-8B05C6C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F2F-8983-441F-8539-C7E1621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72C9-3121-49F0-983B-DFFCB53C6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cjr.org.cn/zqdf/zhanghaidi/zhanghaidi.htm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248520"/>
            <a:ext cx="5257800" cy="609480"/>
          </a:xfrm>
          <a:prstGeom prst="rect">
            <a:avLst/>
          </a:prstGeom>
          <a:solidFill>
            <a:srgbClr val="102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1722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耿镇中学   樊小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37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685800"/>
            <a:ext cx="82296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智叟与愚公在移山问题上的分歧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智 叟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：“以残年余力，曾不能毁山之   一毛，其如土石何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愚 公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：“子子孙孙无穷匮也，而山不加增，何苦而不平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你认为谁的观点正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智 叟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眼前的，停滞的观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愚 公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长远的，发展的观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愚公是本文的主人公，为什么还要写智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457200" y="12193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愚公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2133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9144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智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133720"/>
            <a:ext cx="335268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目光短浅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知难而退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以为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133720"/>
            <a:ext cx="312408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133720"/>
            <a:ext cx="297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志向远大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不畏困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造福后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971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4495680"/>
            <a:ext cx="486000" cy="838440"/>
          </a:xfrm>
          <a:prstGeom prst="downArrow">
            <a:avLst>
              <a:gd name="adj1" fmla="val 50000"/>
              <a:gd name="adj2" fmla="val 431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4495680"/>
            <a:ext cx="486000" cy="762120"/>
          </a:xfrm>
          <a:prstGeom prst="downArrow">
            <a:avLst>
              <a:gd name="adj1" fmla="val 50000"/>
              <a:gd name="adj2" fmla="val 392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1786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愚公不</a:t>
            </a:r>
            <a:r>
              <a:rPr b="1" lang="zh-CN" sz="6600" spc="-1" strike="noStrike">
                <a:solidFill>
                  <a:srgbClr val="cc0000"/>
                </a:solidFill>
                <a:latin typeface="黑体"/>
                <a:ea typeface="黑体"/>
              </a:rPr>
              <a:t>愚</a:t>
            </a: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智叟不</a:t>
            </a:r>
            <a:r>
              <a:rPr b="1" lang="zh-CN" sz="6600" spc="-1" strike="noStrike">
                <a:solidFill>
                  <a:srgbClr val="cc0000"/>
                </a:solidFill>
                <a:latin typeface="黑体"/>
                <a:ea typeface="黑体"/>
              </a:rPr>
              <a:t>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2514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故事以神话结尾，是因为当时的生产力不发达，人们借助于神的力量表达“人定胜天”的强烈愿望。同时用神话结尾的形式实现愚公的愿望，又突出了愚公精神的惊天地、泣鬼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522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、读第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段，思考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1430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公家门口的两座山最终是被谁搬走的？为什么要这样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1295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篇寓言故事的寓意是什么？结合寓意谈谈，“愚公移山”这个成语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5146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本文通过愚公移山成功的故事，反映了我国古代劳动人民改造自然的伟大气魄和坚强毅力，说明了要克服困难就必须下定决心坚持不懈地奋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800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愚公移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比喻做事有十分顽强的　　　　毅力和排除万难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4560" y="304920"/>
            <a:ext cx="11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讨论归纳寓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" y="60948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拓展延伸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0574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愚公精神在当代过时了吗？结合实际谈一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你还知道哪些具有愚公精神的人，试列举一两个例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905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顽强的意志创作了长篇小说《钢铁是怎样炼成的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43000" y="3124080"/>
            <a:ext cx="2565360" cy="358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859280" y="3068640"/>
            <a:ext cx="2665440" cy="36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501480" y="333360"/>
            <a:ext cx="86425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奥斯特洛夫斯基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1904-19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苏联作家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全身瘫痪 双目失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476280"/>
            <a:ext cx="3490920" cy="609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114800" y="685800"/>
            <a:ext cx="45608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贝多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1770-18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德国伟大的作曲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时听觉衰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时完全耳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界不给他欢乐  他却创造了欢乐给与世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1219320"/>
            <a:ext cx="3295800" cy="487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2276640"/>
            <a:ext cx="501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美国政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时因患脊髓灰质炎 下肢瘫痪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美国历史上唯一蝉联四届的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76212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富兰克林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罗斯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1882-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95880" y="304920"/>
            <a:ext cx="270216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492280"/>
            <a:ext cx="54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十多岁时患眼疾双眼相继失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胡作品《二泉映月》获二十世纪华人经典音乐作品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76280"/>
            <a:ext cx="53384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阿炳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1893-19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原名华彦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952880" y="3505320"/>
            <a:ext cx="4038840" cy="3011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04920" y="35812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学掌握英语 日语 德语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当代知名作家 翻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“生命之歌”张海迪">
            <a:hlinkClick r:id="rId2"/>
          </p:cNvPr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187280" y="333360"/>
            <a:ext cx="2486160" cy="3205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4419720" y="838080"/>
            <a:ext cx="456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岁时胸部以下完全失去知觉  高位截瘫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52280"/>
            <a:ext cx="14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张海迪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徐悲鸿的《愚公移山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刘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生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24280" y="12189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短跑项目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M, 200M, 11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栏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来是欧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人的传统优势及垄断项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皮肤的刘翔在世界大赛中夺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栏的冠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破这种垄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打破黄皮肤跑不过黑皮肤的传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被称为“亚洲第一飞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91120" y="5943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孔雀仙子”</a:t>
            </a:r>
            <a:r>
              <a:rPr b="1" lang="zh-CN" sz="3600" spc="-1" strike="noStrike">
                <a:solidFill>
                  <a:srgbClr val="dc3a9e"/>
                </a:solidFill>
                <a:latin typeface="Times New Roman"/>
              </a:rPr>
              <a:t>——邰丽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723920" y="685440"/>
            <a:ext cx="39625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视剧《暖春》中的主人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经历了诸多的磨难，但她从来没有向命运、向生活中的困境低头，最终实现了自己的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28600" y="304920"/>
            <a:ext cx="434340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6840" y="2001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送给大家几句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71600"/>
            <a:ext cx="868680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重水复疑无路，柳暗花明又一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宋）陆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困难会逼着人想办法，困难环境能锻炼出人才来。                            ——徐特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困难和挫折也许是有好处的。这是一种锻炼，这是推动我继续前进的动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冼星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困难只能在软弱者面前存在，挡不住久经锻炼的士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觉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30492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作业：</a:t>
            </a:r>
            <a:endParaRPr b="1" lang="en-US" sz="4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、同一个世界，同一个梦想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2008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年的北京奥运会是我们所有炎黄子孙共同的骄傲和自豪。年且九十的老愚公又有了一个新的愿望，他想成为“点燃激情，传递梦想”的奥运火炬手，你认为愚公这次还能梦想成真，成功当选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、有人说，愚公精神就是苦干精神，仅有苦干精神是远远不够的，苦干加巧干才等于成功，你如何评价这种观点，写一段话阐明你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5120" y="1143000"/>
            <a:ext cx="72388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听起来是奇闻，讲起来是笑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任凭那扁担把脊背压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任凭那脚板把木屐磨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面对着王屋与太行，凭着是一身肝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讲起来不是那奇闻，谈起来不是笑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望望头上天外天，走走脚下一马平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面对着满堂儿孙，噢 了却了心中祈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望望头上天外天，走走脚下一马平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无路难呀开路更难，所以后来人为你感叹。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04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《愚公移山》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演唱：江涛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 rot="5400000">
            <a:off x="-1638000" y="27810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94000"/>
                  </a:blip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唱响经典 感受人生</a:t>
            </a:r>
            <a:endParaRPr b="1" i="1" lang="en-US" sz="18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94000"/>
                </a:blip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mph" presetID="3" presetSubtype="2">
                                  <p:stCondLst>
                                    <p:cond delay="1250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2" nodeType="afterEffect" fill="hold" presetClass="emph" presetID="3" presetSubtype="2">
                                  <p:stCondLst>
                                    <p:cond delay="850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5" nodeType="afterEffect" fill="hold" presetClass="emph" presetID="3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3500"/>
                            </p:stCondLst>
                            <p:childTnLst>
                              <p:par>
                                <p:cTn id="188" nodeType="afterEffect" fill="hold" presetClass="emph" presetID="3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9500"/>
                            </p:stCondLst>
                            <p:childTnLst>
                              <p:par>
                                <p:cTn id="191" nodeType="afterEffect" fill="hold" presetClass="emph" presetID="3" presetSubtype="2">
                                  <p:stCondLst>
                                    <p:cond delay="850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94" nodeType="afterEffect" fill="hold" presetClass="emph" presetID="3" presetSubtype="2">
                                  <p:stCondLst>
                                    <p:cond delay="950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1500"/>
                            </p:stCondLst>
                            <p:childTnLst>
                              <p:par>
                                <p:cTn id="197" nodeType="afterEffect" fill="hold" presetClass="emph" presetID="3" presetSubtype="2">
                                  <p:stCondLst>
                                    <p:cond delay="800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1500"/>
                            </p:stCondLst>
                            <p:childTnLst>
                              <p:par>
                                <p:cTn id="200" nodeType="afterEffect" fill="hold" presetClass="emph" presetID="3" presetSubtype="2">
                                  <p:stCondLst>
                                    <p:cond delay="850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2000"/>
                            </p:stCondLst>
                            <p:childTnLst>
                              <p:par>
                                <p:cTn id="203" nodeType="afterEffect" fill="hold" presetClass="emph" presetID="3" presetSubtype="2">
                                  <p:stCondLst>
                                    <p:cond delay="800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200400" cy="4495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200400" y="2362320"/>
            <a:ext cx="2819520" cy="4495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143000" y="289548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让愚公精神永驻心间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没有比脚更长的路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没有比人更高的山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457200"/>
            <a:ext cx="5715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顾课文 整体把握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0481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概括本文讲了一个什么故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4038480"/>
            <a:ext cx="890640" cy="890640"/>
          </a:xfrm>
          <a:custGeom>
            <a:avLst/>
            <a:gdLst>
              <a:gd name="textAreaLeft" fmla="*/ 57600 w 890640"/>
              <a:gd name="textAreaRight" fmla="*/ 833040 w 89064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1440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  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合作探究 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体会愚公精神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愚公家周围的自然环境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愚公为什么要移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愚公要把山移成何种程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愚公这一壮举是否得到家人或邻里的赞同，从哪里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大家都知道，对于愚公来说移山是艰难的，难在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、阅读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段   思考讨论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121932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公家周围的自然环境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有太行、王屋二山，方七百里，高万仞。（面山而居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公为什么要移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惩山北之塞，出入之迂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57200"/>
            <a:ext cx="8001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公要把山移成何种程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指通豫南，达于汉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公这一壮举是否得到家人或邻里的赞同，从哪里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杂然相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其妻献疑曰：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杂曰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: 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邻人京城氏之孀妻有遗男，始龀，跳往助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380880"/>
            <a:ext cx="78865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家都知道，对于愚公来说移山是艰难的，难在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a.“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年且九十”（说明年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b.“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指通豫南，达于汉阴”（说明移山目标之宏伟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c.“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其妻献疑的理由”（说明移山困难之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d.“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寒暑易节，始一反焉”（说明搬运土石路途遥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文鼎大颜楷"/>
              </a:rPr>
              <a:t>小结：这一节突出了愚公的“毕力平险”的大无畏精神和广泛的群众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6094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B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、阅读第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段，思考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4382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智叟与愚公在移山问题上的分歧          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那你认为谁的观点正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愚公是本文的主人公，为什么还   要写智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网</dc:creator>
  <dc:description/>
  <dc:language>en-US</dc:language>
  <cp:lastModifiedBy>中学语文资源站</cp:lastModifiedBy>
  <dcterms:modified xsi:type="dcterms:W3CDTF">2014-03-17T07:30:38Z</dcterms:modified>
  <cp:revision>0</cp:revision>
  <dc:subject/>
  <dc:title>语文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9000000000001024140</vt:lpwstr>
  </property>
  <property fmtid="{D5CDD505-2E9C-101B-9397-08002B2CF9AE}" pid="3" name="Version">
    <vt:r8>1</vt:r8>
  </property>
</Properties>
</file>