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0DD9-DE2F-45B1-836E-600C2A22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218-046B-42F0-8DC3-FFFB3767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141-D6AA-4B61-8EDE-18B15022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A7B-95C4-4F6D-AF9B-7A636EC5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DDA-8E27-49E5-99E4-51210031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2F5B-0E21-460F-9F6B-DA3F7B75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5866-21D0-43EE-8D12-CF134E47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902-245B-4365-A90D-EEA2AE8E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2330-2D3A-4C81-ADF1-755ED6B6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162-3C92-4AA3-B966-6D90C75F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8008-6BC0-46CB-9D01-9567FCB7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055D-35D5-4776-AC32-56B8B242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3D21-E0D2-4582-84B2-F92E978FE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828800" y="1828800"/>
            <a:ext cx="5791320" cy="1523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普罗米修斯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114800" y="5867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山西省柳林县三交镇宋家沟小学　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华文中宋"/>
              </a:rPr>
              <a:t>杨艳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取火"/>
          <p:cNvPicPr/>
          <p:nvPr/>
        </p:nvPicPr>
        <p:blipFill>
          <a:blip r:embed="rId1"/>
          <a:stretch/>
        </p:blipFill>
        <p:spPr>
          <a:xfrm>
            <a:off x="0" y="2895480"/>
            <a:ext cx="3429000" cy="3962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义务教育课程标准实验教科书人教版小学语文四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593640" y="762120"/>
            <a:ext cx="7804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xiù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fēn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shù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袖      吩    恕</a:t>
            </a:r>
            <a:r>
              <a:rPr b="1" lang="zh-CN" sz="7200" spc="-1" strike="noStrike">
                <a:solidFill>
                  <a:srgbClr val="000000"/>
                </a:solidFill>
                <a:latin typeface="宋体"/>
              </a:rPr>
              <a:t>  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hěn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gān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wǎ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狠      肝     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28600" y="533520"/>
            <a:ext cx="9042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火种    喷射    火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驱赶    领袖    惩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敬佩    造福    违抗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狠心    双膝    啄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肝脏   驱寒温暖    气急败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图片3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0" y="3745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普罗米修斯是个勇敢而极富同情心的神。他看到人类生活在寒冷和黑暗中，决心为人类盗取天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普罗米修斯躲在太阳车所要经过的路上。当太阳神阿波罗驾驶着太阳车轰隆隆从天空中驶过的时候，普罗米修斯悄悄地将茴香树的枝条插进太阳车的烈焰中，偷取了火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6553080" y="990720"/>
            <a:ext cx="1905120" cy="838080"/>
          </a:xfrm>
          <a:prstGeom prst="wedgeEllipseCallout">
            <a:avLst>
              <a:gd name="adj1" fmla="val -45250"/>
              <a:gd name="adj2" fmla="val 70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取到火种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993600" y="228600"/>
            <a:ext cx="637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图片88"/>
          <p:cNvPicPr/>
          <p:nvPr/>
        </p:nvPicPr>
        <p:blipFill>
          <a:blip r:embed="rId1"/>
          <a:stretch/>
        </p:blipFill>
        <p:spPr>
          <a:xfrm>
            <a:off x="1676520" y="0"/>
            <a:ext cx="7467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228600" y="1752480"/>
            <a:ext cx="1219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狂风终日在他身边呼啸；冰雹敲打着他的面庞；凶猛的大鹰在他耳边尖叫，用无情的利爪撕裂他的肌体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819520" y="152280"/>
            <a:ext cx="5638680" cy="60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谁？让漫漫黑夜跳跃希望的火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谁？让蛮荒时代沐浴文明的曙光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谁？甘愿触犯天条也要救人类火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谁？身受酷刑却无怨无悔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啊！巨人，是你给人类带来火种，送来光和热，送来人类新的纪元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尽管上天和你蓄意为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高山险峻、铁链加身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烈日如火、暴雨如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沉重的铁链只能锁住你的躯体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却怎能锁住那颗坦荡无私的心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难道仅仅是物质的火种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，你给予我们的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声声不息的精神火种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勇敢、坚强、博爱、无私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就是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普罗米修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914400" y="71640"/>
            <a:ext cx="1185840" cy="69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致普罗米修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2362320" y="1905120"/>
            <a:ext cx="457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思维活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普罗米修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想对你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—————————————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巧填词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从黑暗走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(   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从寒冷走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(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从痛苦走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(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从疾病走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(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从野蛮走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(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509840" y="5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课后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语文大师 xiexingcun.com</dc:creator>
  <dc:description/>
  <dc:language>en-US</dc:language>
  <cp:lastModifiedBy>user</cp:lastModifiedBy>
  <dcterms:modified xsi:type="dcterms:W3CDTF">2014-07-24T04:01:13Z</dcterms:modified>
  <cp:revision>0</cp:revision>
  <dc:subject/>
  <dc:title>语文大师 xiexingcu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