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384-8629-430A-9702-392C732B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729-B987-48DD-8F2D-3C03A5D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31C-D0B9-4517-999B-53087597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7D9-6A20-4D21-BD7D-3DCF0BAE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877D-5C6A-425F-A29C-DE2678DC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2ED-EE4C-4CF4-A51E-A100501A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740-1C0E-4D57-AB76-DB26F4F1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3EE5-5ED4-4AB7-BFAE-CDA2FC4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2115-70BC-4D1C-9BE0-600747A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D588-D911-49F3-B46A-A8565A3C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309-3F57-40DE-9A32-ACE2DC4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1BC-3D84-4A2B-BAF1-6EE70948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8AB3-A709-4FDC-83DB-7A56B2F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726D-B362-42F6-A832-92FF3E7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0E7-A66E-428E-9D3B-B3E99A0A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A38A-E1E6-4347-90C3-0C7BE11D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E2E0-5A7C-4C1D-A805-8793CCE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C4F-E53D-47E9-A93F-D1466EB5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24A-8C39-4B06-80AE-1D58AC9C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10F-6147-42D8-A86A-2AED52C6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07B-22FB-4FEA-8143-3A2E617C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467-8258-4C51-856F-9E6674C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BB4-C30D-42E1-B065-4FE5831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1F0-1245-4594-8523-779B1F1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732-A6C3-41E4-9A30-2345215F0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EE28-A77D-446B-B856-62E02D2C2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66920" y="1911240"/>
            <a:ext cx="259236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沁园春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32360" y="1479600"/>
            <a:ext cx="1440000" cy="18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雪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4" name=""/>
          <p:cNvSpPr/>
          <p:nvPr/>
        </p:nvSpPr>
        <p:spPr>
          <a:xfrm>
            <a:off x="5049720" y="4054320"/>
            <a:ext cx="287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中宋"/>
              </a:rPr>
              <a:t>——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中宋"/>
              </a:rPr>
              <a:t>毛泽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美点赏析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词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法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象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景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境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沁园春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雪   毛泽东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448920"/>
            <a:ext cx="85410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北国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光⌒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豪迈，高而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千里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冰封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拉长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万里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雪飘△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昂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望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长城内外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惟余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莽莽⌒；大河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上下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顿失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滔滔△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山⌒舞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银蛇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↗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原⌒驰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蜡象（↘）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欲与天公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试比高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昂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须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晴日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看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红装素裹⌒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分外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妖⌒娆△～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慢）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6337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24360" y="6516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540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江山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如此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娇△⌒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引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无数英雄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竞折腰△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惜⌒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秦皇汉武⌒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低沉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略输文采↗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低沉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唐宗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宋祖，稍逊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骚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慢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一代天骄△， 成吉思汗↗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只识弯弓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射⌒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雕△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低，慢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俱 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往矣↘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慢，拉长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流人物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还看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今朝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高昂，坚定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12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53033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隶书"/>
              </a:rPr>
              <a:t>学习诗词的一般方法：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晓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通诗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明脉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赏美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夯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外搜集《沁园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沙》，用今天所学的方法去自读赏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学习目标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183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通过多种形式的朗读，了解词的大意，把握词的感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自主学习、小组合作探究词的结构美、意境美、情感美、语言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7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7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7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7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隶书"/>
              </a:rPr>
              <a:t>朗读方法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读出节奏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( /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读出停顿（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//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读出重音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( 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读出感情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语气、语速、语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沁园春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雪   毛泽东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448920"/>
            <a:ext cx="85410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北国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光⌒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豪迈，高而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千里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冰封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拉长）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万里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雪飘△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昂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望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长城内外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惟余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莽莽⌒；大河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上下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顿失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滔滔△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山⌒舞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银蛇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↗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原⌒驰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蜡象（↘）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欲与天公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试比高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高昂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须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晴日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看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红装素裹⌒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 分外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妖⌒娆△～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慢）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6337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24360" y="65160"/>
            <a:ext cx="854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8540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江山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如此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娇△⌒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引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无数英雄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竞折腰△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惜⌒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秦皇汉武⌒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低沉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略输文采↗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低沉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唐宗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宋祖，稍逊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骚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慢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一代天骄△， 成吉思汗↗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只识弯弓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射⌒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大雕△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低，慢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俱 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往矣↘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慢，拉长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/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风流人物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 还看⌒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今朝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高昂，坚定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12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53033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隶书"/>
              </a:rPr>
              <a:t>写作背景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36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，毛泽东率领抗日先遣队到达陕北准备东渡黄河，奔走抗日前线，在渡河前夜恰逢大雪，毛泽东曾于雪后，登上海拔千米白雪覆盖的塬上，视察地形。一个胸怀大志的人，又恰逢肩负重任之际，面对祖国的壮丽河山，茫茫雪景，他意气风发，豪情满怀，写下了这首气吞山河的壮丽诗篇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4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抗战胜利后，为了国家的前途和人民的利益，毛泽东亲赴重庆与国民党谈判，其间，民主人士、诗人柳亚子先生请他写诗，毛泽东就把这首《沁园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雪》抄给他，随后在《新民日报》公开发表，引起极大轰动。这首词的创作和发表都是在中国革命最关键的时刻，激发人们的爱国热情和民族自豪感，鼓励人们为建设新中国而奋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赏读探究美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深入研读词句，画出词中自己认为写得美的句子，试着从用词、修辞手法、写景、表达情感、写作手法、意境等角度去说一说你觉得它美在哪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“             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，美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样的句式谈自己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67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67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67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67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千里冰封，万里雪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这句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写作手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，美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运用动静结合，“冰封”是静态，“雪飘”是动态，静穆中又有飘舞的动态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千里冰封，万里雪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这句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意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，美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他给我们创造了一个壮阔雄奇、玉砌银装的冰雪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惜”字美在它把五个并没有直接联系的古代英雄巧妙串联，组成了一幅风起云涌的历史画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惜”字耐人寻味，第一、“惜”中带褒，肯定他们都是中华豪杰；第二、“惜”中带批，批评他们短于文治；第三、“惜”中带信，自信今天的无产阶级革命英雄必将胜过前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1:00:58Z</dcterms:created>
  <dc:creator>语文备课大师</dc:creator>
  <dc:description/>
  <dc:language>en-US</dc:language>
  <cp:lastModifiedBy>微软用户</cp:lastModifiedBy>
  <dcterms:modified xsi:type="dcterms:W3CDTF">2013-12-02T02:23:35Z</dcterms:modified>
  <cp:revision>0</cp:revision>
  <dc:subject/>
  <dc:title>语文备课大师</dc:title>
</cp:coreProperties>
</file>