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6.gif" ContentType="image/gif"/>
  <Override PartName="/ppt/media/image13.wmf" ContentType="image/x-wmf"/>
  <Override PartName="/ppt/media/image5.gif" ContentType="image/gif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71D-5EEC-4114-BE46-D817F7D6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890-9156-4815-B4AC-3D00E88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B50-88D2-49C2-9505-77F2FBD1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102-4D5E-45F2-8863-A97CA18F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CB8-CEDD-4D3D-B2FF-5E52CBB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175-A744-4415-97C1-A4FDE8C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3BA-F169-4457-A0BC-7702C35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582-A77F-4F96-B7F2-923B80E3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A9D-E9AE-48F0-854B-2C06B8E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070-0AB6-43ED-B7A0-B3D3CD9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7CB-C1D1-4D91-A54B-A9605CD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087-0A26-4D5A-97E0-24B0FE4B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7D6-715C-493B-8422-D11833B7A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670800"/>
            <a:ext cx="9144000" cy="21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框"/>
          <p:cNvPicPr/>
          <p:nvPr/>
        </p:nvPicPr>
        <p:blipFill>
          <a:blip r:embed="rId1"/>
          <a:stretch/>
        </p:blipFill>
        <p:spPr>
          <a:xfrm>
            <a:off x="2149560" y="135252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8840" y="3255840"/>
            <a:ext cx="3144600" cy="298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4440" y="166860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835360" y="3408480"/>
            <a:ext cx="5897520" cy="24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2627280"/>
            <a:ext cx="822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这首诗中，“雨”象征什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大地”具体指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雨“说”的话主要表达了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副标题为什么取做“为生活在中国大地上的儿童而歌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2600" y="5665680"/>
            <a:ext cx="784836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35411" r="0" b="0"/>
          <a:stretch/>
        </p:blipFill>
        <p:spPr>
          <a:xfrm>
            <a:off x="657360" y="2125800"/>
            <a:ext cx="2797200" cy="64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5880" y="66816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这首诗中，“雨”象征什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大地”具体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雨”是爱的化身，象征自由和幸福。大地具体指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600" y="1871640"/>
            <a:ext cx="8110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雨“说”的话主要表达了什么意思？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3960" y="3844800"/>
            <a:ext cx="83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副标题为什么取做“为生活在中国大地上的儿童而歌”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2327400"/>
            <a:ext cx="7847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寒冷的冬天已经过去了，“雨”这位爱的使者要给大地带来春天，给孩子带来快乐，让孩子们勇敢地欢笑，有美好幸福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240" y="4370400"/>
            <a:ext cx="79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点明这首诗的抒情对象，概括了诗的内容，表明诗人对中国儿童的期待和祝愿，有利于理解诗的主旨，同时也符合孩子的心理和理解程度。还有是对中国美好未来的祝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50600" y="260028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什么雨是春天的使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276640"/>
            <a:ext cx="39610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421000"/>
            <a:ext cx="14472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8120" y="31939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雨为什么是爱的使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6360" y="3716280"/>
            <a:ext cx="810108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要教你们勇敢的笑”这句话中“笑”的内涵是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200" y="203184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、研读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49165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如何理解本诗的寓意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34474" r="0" b="0"/>
          <a:stretch/>
        </p:blipFill>
        <p:spPr>
          <a:xfrm>
            <a:off x="522360" y="1279440"/>
            <a:ext cx="2865240" cy="65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9560" y="1631880"/>
            <a:ext cx="67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什么雨是春天的使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9640" y="2327400"/>
            <a:ext cx="7326360" cy="6426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探访四月的大地，给万物带来生机，所以雨是春天的使者。（第一、五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8320" y="4606920"/>
            <a:ext cx="745812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56360" y="1504800"/>
            <a:ext cx="1944720" cy="1708200"/>
          </a:xfrm>
          <a:prstGeom prst="cloudCallout">
            <a:avLst>
              <a:gd name="adj1" fmla="val -35958"/>
              <a:gd name="adj2" fmla="val 142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3939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雨是温柔亲切的，充满爱心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0120" y="801720"/>
            <a:ext cx="45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雨为什么是爱的使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120" y="2610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雨让每个孩子学会勇敢的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43080" y="1987560"/>
            <a:ext cx="29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22092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27320" y="4475160"/>
            <a:ext cx="24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865160"/>
            <a:ext cx="16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快乐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乐观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85920" y="483552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孩子们的祝福也是对祖国的祝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是祖国的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7320" y="3787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雨祝福孩子们有美好幸福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8800" y="1374840"/>
            <a:ext cx="76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笑代表一种快乐幸福、乐观向上的态度，是诗人鼓励孩子们要乐观向上地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720" y="77004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要教你们勇敢的笑”这句话中“笑”的内涵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26892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如何理解本诗的寓意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58280" y="3189240"/>
            <a:ext cx="45698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诗人借雨融入大地的现实，赋予“雨”以深刻的寓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牺牲自己的生命，为孩子们带来追求自由、幸福的信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和理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440" y="5854680"/>
            <a:ext cx="7827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36560" y="1547640"/>
            <a:ext cx="75614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只要旗子笑，春天的声音就有了／只要你们笑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大地的希望就有了” 句中的“旗子” “春天”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征什么？这两句诗应该如何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625320"/>
            <a:ext cx="35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、品析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3308400"/>
            <a:ext cx="7632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诗中突出运用什么手法来塑造“雨”的形象？这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什么表达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者还运用了什么修辞手法来增强诗歌的感染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6560" y="12762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只要旗子笑，春天的声音就有了／只要你们笑，大地的希望就有了” 句中的“旗子” “春天”象征什么？这两句诗应该如何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旗象征国家。春天象征青少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要孩子们能够勇敢地表达出要求自由、幸福的愿望，祖国就有希望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10360" y="4211640"/>
            <a:ext cx="3247920" cy="19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1384200"/>
            <a:ext cx="7632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诗中突出运用什么手法来塑造“雨”的形象？这样有什么表达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首诗采用了拟人手法，具有亲切感人、活泼欢快的风格，这样切合儿童的心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者还运用了什么修辞手法来增强诗歌的感染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除了拟人外，作者还用了比喻、排比、反复等修辞手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9280" y="36345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白云襁褓中笑着“教你们勇敢地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爱的使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拟人手法（祝福儿童，祝福中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满怀爱心探访四月大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3600" y="1689120"/>
            <a:ext cx="7083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雨  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为生活在中国大地上的儿童而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0320" y="3873600"/>
            <a:ext cx="312840" cy="1512720"/>
          </a:xfrm>
          <a:custGeom>
            <a:avLst/>
            <a:gdLst>
              <a:gd name="textAreaLeft" fmla="*/ 199800 w 312840"/>
              <a:gd name="textAreaRight" fmla="*/ 313200 w 3128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2936880"/>
            <a:ext cx="20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郑愁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62840" y="43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35904" r="0" b="0"/>
          <a:stretch/>
        </p:blipFill>
        <p:spPr>
          <a:xfrm>
            <a:off x="1303200" y="1052640"/>
            <a:ext cx="2797200" cy="65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1720" y="757080"/>
            <a:ext cx="8121600" cy="54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2880" y="1204920"/>
            <a:ext cx="809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自古以来文人墨客写雨的优美诗文可谓数不胜数，“雨”作为一个抒情意象，浸润着文人墨客们多情多意的心，他们赋予了各种各样的雨丰富的暗示性和广博的代表性。下面请你参加“说雨”的综合实践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你作为这次活动的参与者，理当为搞好活动出谋划策，说说你设想的活动内容（至少两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示例：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说说雨的功过　②背诵带“雨”的古诗词③举办雨境摄影、绘画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）不同季节的雨有各自的特点，请你仿照第一句，在下面的横线上补写相应的内容。 春雨滋润柔软，夏雨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________________,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秋雨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_____________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示例：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猛烈刚性  缠绵清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4695" r="0" b="0"/>
          <a:stretch/>
        </p:blipFill>
        <p:spPr>
          <a:xfrm>
            <a:off x="695160" y="609480"/>
            <a:ext cx="2797200" cy="6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33480" y="816120"/>
            <a:ext cx="739764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360" y="660240"/>
            <a:ext cx="8246880" cy="55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8120" y="674640"/>
            <a:ext cx="82296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2608200"/>
            <a:ext cx="7513560" cy="17398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理解意象，把握本诗的主题，感受作者饱含的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品味诗歌语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运用拟人修辞方法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有感情地朗诵诗歌，领悟作者对儿童的关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826" t="12895" r="8110" b="8658"/>
          <a:stretch/>
        </p:blipFill>
        <p:spPr>
          <a:xfrm>
            <a:off x="2335320" y="1353960"/>
            <a:ext cx="3579840" cy="100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0040" y="4973760"/>
            <a:ext cx="74581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54320" y="1673280"/>
            <a:ext cx="446436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郑愁予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本名郑文韬，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1933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年生于山东济南，现代诗人。童年随当军人的父亲辗转大江南北，母亲教他读古诗词。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1949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年随父至台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诗人在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年代曾多次被选为“最受欢迎作家”，其诗集《郑愁予诗的自选Ⅰ》被列为“影响台湾三十年的三十本书之一”，他的诗作以优美、潇洒、富有抒情韵味而著称，意象多变，自成风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640" y="2068560"/>
            <a:ext cx="2952720" cy="400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38163" r="0" b="0"/>
          <a:stretch/>
        </p:blipFill>
        <p:spPr>
          <a:xfrm>
            <a:off x="666720" y="1257480"/>
            <a:ext cx="2809800" cy="63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08320" y="628560"/>
            <a:ext cx="328932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8800" y="1643040"/>
            <a:ext cx="7819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诗人从小在炮火中长大，他深切体味过战争的苦难和流浪的辛酸，所以他更珍视童心的天真烂漫，也更能懂得“关爱”对童年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《雨说》是他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97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写成的，当时正值我国 “文革”灾难结束不久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历十年浩劫后的中国，一切都开始显露生机，正如春雨降临大地，万物复苏。此时诗人虽身在美国，却心系祖国，以满腔的热忱关注祖国儿童的成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36682" r="0" b="0"/>
          <a:stretch/>
        </p:blipFill>
        <p:spPr>
          <a:xfrm>
            <a:off x="584280" y="890640"/>
            <a:ext cx="279720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65320" y="2473200"/>
            <a:ext cx="6624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94080" y="261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p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75000" y="44766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9240" y="38559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ǎ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30840" y="261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ɡ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78440" y="3219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32080" y="38419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9560" y="4476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rǎ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4080" y="326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k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147080" y="1925640"/>
            <a:ext cx="1098360" cy="4024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36097" r="0" b="0"/>
          <a:stretch/>
        </p:blipFill>
        <p:spPr>
          <a:xfrm>
            <a:off x="1023840" y="1665360"/>
            <a:ext cx="279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5:49:39Z</dcterms:created>
  <dc:creator/>
  <dc:description/>
  <dc:language>en-US</dc:language>
  <cp:lastModifiedBy>MKL</cp:lastModifiedBy>
  <dcterms:modified xsi:type="dcterms:W3CDTF">2013-12-29T16:49:10Z</dcterms:modified>
  <cp:revision>0</cp:revision>
  <dc:subject/>
  <dc:title/>
</cp:coreProperties>
</file>