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type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10.jpeg" ContentType="image/jpeg"/>
  <Override PartName="/ppt/media/image8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08E-F05F-46EF-A8EC-171E7BF1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B60-4870-42B8-A45E-D821ECC1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7BE-12BF-4BC0-B719-F8985BA8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C95-911E-4589-BC3B-C4486A68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9228-AB4A-4F53-934E-5B83645A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0A65-DCCE-47E7-93B5-62F0ED3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9359-6F49-44CE-9294-AD26B8C2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A0B2-DD84-4D4C-A9E0-2E08223B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8FFD-4FA9-4EBA-B46E-DBC4090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7691-CD9C-42B9-8CB9-76145687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1E9F-36E3-42D8-8161-3DDC6CB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A8F-A4A4-461B-B1CF-C3E0ED89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F22-F5CF-41AB-A894-2C6E0B2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29F-961F-492B-8397-FA8DF157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CE29-AD46-4EFE-874A-F0A6BC34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E9F3-991C-4E61-88A9-F4E07C7D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2CA1-7FB1-49EE-A429-BC524B32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BB3-DC4D-4356-8D30-6AD5E0BF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80E-D9A9-41E0-A8F6-B6719C6B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FF9-4940-4EC6-A7DF-C4FCA75C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AFE-F203-4C1A-A2C4-BBCB2A85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6E5-409B-40D0-BD61-84D6B0A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0E1-D9AB-4775-A6AD-6E6C9BAB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E10-2A9B-4A16-8E07-B1FBD60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7590-9E18-4873-AFCE-A970CC86C32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61F8-321E-4DA8-9203-C29CC29A18F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" Target="slide4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66680" y="990720"/>
            <a:ext cx="6782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陈涉世家</a:t>
            </a:r>
            <a:endParaRPr b="0" lang="en-US" sz="4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2" name=""/>
          <p:cNvSpPr/>
          <p:nvPr/>
        </p:nvSpPr>
        <p:spPr>
          <a:xfrm>
            <a:off x="7132320" y="5359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司马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9700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陈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阳城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字涉。吴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阳夏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字叔。陈涉少时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尝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与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佣耕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耕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垄上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怅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苟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富贵，无相忘。”庸者笑而应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为庸耕，何富贵也？”陈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太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曰：“嗟乎，燕雀安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鸿鹄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之志哉！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世元年七月，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闾左谪戍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渔阳，九百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大泽乡。陈胜﹑吴广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次当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屯长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天大雨，道不通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已失期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法皆斩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2767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0"/>
            <a:ext cx="3492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质疑解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陈胜﹑吴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乃谋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曰：“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亦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举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大计亦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死国可乎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？”陈胜曰：“天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苦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秦久矣。吾闻二世少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不当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立者乃公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扶苏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扶苏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数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故，上使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兵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闻无罪，二世杀之。百姓多闻其贤，未知其死也。项燕为楚将，数有功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爱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士卒，楚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之。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死，或以为亡。今诚以吾众诈自称公子扶苏﹑项燕，为天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唱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多应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者。”吴广以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85264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592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乃行卜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。卜者知其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指意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，曰：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足下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皆成，有功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足下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鬼乎！”陈胜﹑吴广喜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鬼，曰：“此教我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威众耳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。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乃丹书帛曰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“陈胜王”，置人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罾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鱼腹中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卒买鱼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烹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食，得鱼腹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固以怪之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矣。（陈胜）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间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令吴广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之次所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丛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中，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篝火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狐鸣呼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曰“大楚兴，陈胜王”。卒皆夜惊恐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旦日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卒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往往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语，皆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目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陈胜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819520"/>
            <a:ext cx="777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476280"/>
            <a:ext cx="8964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吴广素爱人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士卒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为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者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将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醉，广故数言欲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忿恚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尉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令辱之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以激怒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众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。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果笞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广。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剑挺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广起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夺而杀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。陈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佐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并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杀两尉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召令徒属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曰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公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等遇雨，皆已失期，失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当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斩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借第令毋斩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戍死者固十六七。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壮士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不死即已，死即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举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大名耳，王侯将相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种乎！”徒属皆曰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敬受命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”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诈称公子扶苏﹑项燕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从民欲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袒右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称大楚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坛而盟，祭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尉首。陈胜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立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将军，吴广为都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0574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228600"/>
            <a:ext cx="7620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攻大泽乡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收而攻蕲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令符离人葛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兵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徇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东。攻铚﹑酇﹑苦﹑柘﹑谯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之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行收兵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比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至陈，车六七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乘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骑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千余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卒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数万人。攻陈，陈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皆不在，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守丞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与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谯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中。弗胜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守丞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死，乃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据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陈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数日，号令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﹑豪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皆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会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事。三老﹑豪杰皆曰：“将军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身被坚执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伐无道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暴秦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复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楚国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社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宜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王。”陈涉乃立为王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号为张楚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当此时，诸郡县苦秦吏者，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其长吏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杀之以应陈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743200"/>
            <a:ext cx="807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484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．指出下列各句中划线的词古今义的不同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今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亦死，举大计亦死；等死，死国可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又间令吴广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次所旁丛祠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旦日，卒中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往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语，皆指目陈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6200" y="487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72440" y="2684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i="1" lang="zh-CN" sz="2400" spc="-1" strike="noStrike">
                <a:solidFill>
                  <a:srgbClr val="ff3300"/>
                </a:solidFill>
                <a:latin typeface="Arial"/>
              </a:rPr>
              <a:t>亡”，人藏在隐蔽处，即逃亡之义。今义：死亡。</a:t>
            </a:r>
            <a:r>
              <a:rPr b="0" i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2800"/>
            <a:ext cx="62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zh-CN" sz="2000" spc="-1" strike="noStrike">
                <a:solidFill>
                  <a:srgbClr val="ff3300"/>
                </a:solidFill>
                <a:latin typeface="Arial"/>
              </a:rPr>
              <a:t>间”，本作“”，表示月光由门缝射入，这里是“窃伺间隙，不欲令众知之”之义，可以解做“暗地里”。“之”，去、往。今义：间，中间，一定的空间和时间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9280" y="592452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zh-CN" sz="2400" spc="-1" strike="noStrike">
                <a:solidFill>
                  <a:srgbClr val="ff3300"/>
                </a:solidFill>
                <a:latin typeface="Arial"/>
              </a:rPr>
              <a:t>往往”，处处。今义：经常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260280"/>
            <a:ext cx="439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小擂台赛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47840"/>
            <a:ext cx="9059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试辨析下面三组句子中加点的词的意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陈胜、吴广皆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当行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　 又间令吴广之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所旁丛祠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扶苏以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谏故，上使外将兵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                  车六七百乘，骑千余，卒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万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乃丹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帛曰“陈胜王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                  卒买鱼烹食，得鱼腹中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25600" y="2203560"/>
            <a:ext cx="29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i="1" lang="zh-CN" sz="2400" spc="-1" strike="noStrike">
                <a:solidFill>
                  <a:srgbClr val="ff3300"/>
                </a:solidFill>
                <a:latin typeface="Arial"/>
              </a:rPr>
              <a:t>．编次　　</a:t>
            </a:r>
            <a:r>
              <a:rPr b="0" i="1" lang="zh-CN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zh-CN" sz="2400" spc="-1" strike="noStrike">
                <a:solidFill>
                  <a:srgbClr val="ff3300"/>
                </a:solidFill>
                <a:latin typeface="Arial"/>
              </a:rPr>
              <a:t>．临时驻扎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96200" y="4097160"/>
            <a:ext cx="24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．屡次、多次。　　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．几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79680" y="6021360"/>
            <a:ext cx="24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．写。　　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．字条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73160"/>
            <a:ext cx="9144000" cy="73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请翻译下列句子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吴广素爱人，士卒多为用者 。                                     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广故数言欲亡，忿恚尉，令辱之，以激怒其众。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且壮士不死即已，死即举大名耳。                       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借第令毋斩，而戍死者固十六七                   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王侯将相宁有种乎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乃令符离人葛婴将兵徇蕲以东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行收兵，比至陈，车六七百乘，骑千余，卒数万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436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整体感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4720" y="259092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陈胜、吴广起义的原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72840" y="304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直接原因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38920" y="21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失期，法皆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7284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根本原因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3892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天下苦秦久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73920" y="1219320"/>
            <a:ext cx="14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陈胜、吴广在什么情况下起义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8480" y="1676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会天大雨，道不通，度已失期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6520" y="21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起义背景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38920" y="3124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失期，法皆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50760" y="4191120"/>
            <a:ext cx="47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谋划起义时陈胜作了那些形势分析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62960" y="472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天下苦秦久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9920" y="5257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统治阶级内部政治危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6440" y="571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楚国人民反抗要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72640" y="464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政治见解精辟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72640" y="5181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领导才能卓越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72640" y="571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斗争策略高超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466920" cy="46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280" y="4191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404640"/>
            <a:ext cx="8839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按事件发展过程，</a:t>
            </a:r>
            <a:r>
              <a:rPr b="1" lang="zh-CN" sz="35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分三部分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2c2cd6"/>
                </a:solidFill>
                <a:latin typeface="Times New Roman"/>
                <a:ea typeface="华文新魏"/>
              </a:rPr>
              <a:t>第一部分（第一段）</a:t>
            </a:r>
            <a:r>
              <a:rPr b="0" lang="zh-CN" sz="3500" spc="-1" strike="noStrike">
                <a:solidFill>
                  <a:srgbClr val="1f0603"/>
                </a:solidFill>
                <a:latin typeface="Times New Roman"/>
                <a:ea typeface="华文新魏"/>
              </a:rPr>
              <a:t>叙述陈</a:t>
            </a:r>
            <a:r>
              <a:rPr b="0" lang="zh-CN" sz="35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涉年轻时的佣耕生活，表现了他胸怀大志，有反抗精神。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2c2cd6"/>
                </a:solidFill>
                <a:latin typeface="Times New Roman"/>
                <a:ea typeface="华文新魏"/>
              </a:rPr>
              <a:t>第二部分（第二段）</a:t>
            </a:r>
            <a:r>
              <a:rPr b="0" lang="zh-CN" sz="35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写起义的筹划过程，表现了陈胜、吴广的斗争决心和政治远见。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2c2cd6"/>
                </a:solidFill>
                <a:latin typeface="Times New Roman"/>
                <a:ea typeface="华文新魏"/>
              </a:rPr>
              <a:t>第三部分（第三段）</a:t>
            </a:r>
            <a:r>
              <a:rPr b="0" lang="zh-CN" sz="35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写陈胜、吴广发动起义，胜利进军及建立政权的经过，昭示了农民起义的伟大力量和历史意义。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73600" y="228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赞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304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陈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523880"/>
            <a:ext cx="3940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丹书帛羽藏鱼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丛祠幽火出狐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大泽揭竿反暴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缘何司马只列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74674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读第一自然段，思考回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第一段是从哪几个方面来写陈胜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为什么先写这段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060640"/>
            <a:ext cx="8077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一段从籍贯、身世、志向等方面来介绍陈胜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1)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与人佣耕”，表明陈胜是个被剥削受压迫的穷苦农民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2)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怅恨久之”，说明他对所处的贫困地位的不满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3)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苟富贵，毋相忘”，表达出他有福同享的思想意识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4)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燕雀安知鸿鹄之志哉”，用形象的比喻说明了他的远大志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3341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先写这段主要是表明陈胜后来发动起义并非偶然，早有其思想根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9144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981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、第二段记述了陈胜起义的哪些史实？怎样看待他们所采用的迷信手法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84464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起义的时间、地点、发起者、参加者及其人数。秦二世元年七月，陈胜吴广在大泽乡发动“闾左適戍渔阳”的九百人举行推翻秦王朝的起义。②起义爆发的原因。“天下苦秦久矣”，暴虐的秦朝专制统治给人民带来无穷无尽的灾难，造成社会普遍的怨愤和仇恨，这是起义爆发的根本原因。“失期、法皆斩”，秦朝严酷的法令逼使戍卒揭竿而起，这是起义发生的直接原因。③起义前的谋划、准备。陈胜、吴广商定假公子扶苏、楚将项燕之名以号召天下，争取响应，借鬼神意旨以威服士卒，笼聚人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采用“丹书鱼腹”、“篝火狐鸣”等迷信的方式，这是根据当时的的具体情况而采取的斗争策略，说明陈胜、吴广的足智多谋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89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读第二自然段，思考回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49360"/>
            <a:ext cx="759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、这一段主要采用了什么描写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2421000"/>
            <a:ext cx="7010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语言、动作、外貌）以记叙人物的对话为主，通过对话描写，刻画了陈胜、吴广的革命精神和非凡的才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1052640"/>
            <a:ext cx="538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1  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这一段写了哪些内容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628640"/>
            <a:ext cx="782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写了三方面内容。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并杀两尉；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为坛而盟；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胜利进军。总之，写了起义的经过和胜利情况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577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2  “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</a:rPr>
              <a:t>且壮士不死即已，死即举大名耳，王侯将相宁有种乎！”这句话的思想含义是什么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4581360"/>
            <a:ext cx="790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这句话表达了陈胜等人敢做敢为，要做天下主人的英雄气概，对封建等级制度进行否定。这种思想在当时是难能可贵的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333360"/>
            <a:ext cx="55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读第三自然段，思考回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762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685800"/>
            <a:ext cx="79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3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哪些词语表现了起义军的胜利进军情况？结尾一句有什么作用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27664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攻”“下”“收”“皆下”等动词，表明陈胜、吴广起义势如破竹、所向披靡。结尾一句进一步反映起义的影响、号召力之大；农民起义风暴席卷各地，猛烈地动摇了秦王朝的统治。同时也告诉人们，这场农民运动的爆发是历史的必然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rcRect l="9457" t="5258" r="9484" b="49299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65920" y="152280"/>
            <a:ext cx="1704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攻大泽乡，收而攻蕲。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蕲下，乃令符离人葛婴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徇蕲以东，攻铚、酂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苦、柘、谯，皆下之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行收兵。比至陈，车六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七百乘，骑千余，卒数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万人。攻陈，陈守令皆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不在，独守丞与战谯门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。弗胜，守丞死，乃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入据陈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3600" y="22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人物分析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7080" y="5029200"/>
            <a:ext cx="3045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起义以后的陈胜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1120" y="2666880"/>
            <a:ext cx="3045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起义初期的陈胜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1120" y="3886200"/>
            <a:ext cx="3045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起义时刻的陈胜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78200" y="1523880"/>
            <a:ext cx="2966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少年时期的陈胜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0240" y="137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胸怀大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1371600"/>
            <a:ext cx="40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{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17524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远大抱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5720" y="2590920"/>
            <a:ext cx="4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{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5428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谨慎谋划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94320" y="3192480"/>
            <a:ext cx="1425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380988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周密部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13400" y="4297320"/>
            <a:ext cx="85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304812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舆论策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5720" y="3809880"/>
            <a:ext cx="4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{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95288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{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54280" y="487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攻城掠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54280" y="5334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据陈称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324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428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号召激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71120" y="1600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敢于斗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71120" y="2743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善于斗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62480" y="3886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超人才略胆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86160" y="5105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卓越组织才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9280" y="47628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思考：陈胜是农民起义的领袖，作者对这一历史人物持什么态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05740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对陈胜是肯定和赞扬的。“世家”是《史记》中为那些对全国政局有影响的王侯将相所作的传记，司马迁将陈胜与一般的王侯齐观，可见对他首先发难的功绩是予以充分肯定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归纳出主题思想：本文生动地记叙了陈胜起义的过程，刻画了陈胜、吴广的英雄形象，赞扬了他们反抗暴秦专制的历史功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6680" y="312408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4258800" y="1219320"/>
            <a:ext cx="2007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《陈涉世家》以                                   为线索，以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的形式，客观记述了我国历史上第一次农民大起义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重点详写了                                          ，略写了                       、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等，突出地表现陈胜谋划时善于                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准备时善于                  、起义时善于                   、起义后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于                 的卓越组织领导才能和敢于斗争、善于斗争精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神，充分肯定了陈胜、吴广起义的历史作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95320" y="12193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陈胜、吴广的活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30440" y="1219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人物传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48000" y="2666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起义的原因和发动经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34800" y="2666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起义的路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400" y="3352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农民政权的建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54480" y="33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分析形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7756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制造舆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7796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激励号召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2280" y="487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把握时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5880" y="228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课后总结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0"/>
            <a:ext cx="83059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实词总结（在文中只有一种解释者不列）　　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①作，当。“若为佣耕。”②担任。“为屯长。”③是。“号为张楚。”④作为。“为天下唱。”⑤制，建造。“为坛而盟。”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行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①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ｈ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á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ｎｇ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)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行列。“皆次当行。”②做，进行。“乃行卜。”③行进，行军。“行收兵。”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次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①编列。“皆次当行。”②停留，驻扎。“又间令吴广之次所旁丛祠中。”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　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当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①值，承担。“皆次当行。”②应该。“不当立。”③在，正当。“当此时。”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举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①起事，发动。“举大计”。②立。“死即举大名耳。”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59280" y="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细黑"/>
                <a:ea typeface="华文细黑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华文细黑"/>
                <a:ea typeface="华文细黑"/>
              </a:rPr>
              <a:t>作者</a:t>
            </a:r>
            <a:r>
              <a:rPr b="1" lang="zh-CN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司马迁</a:t>
            </a:r>
            <a:r>
              <a:rPr b="1" lang="zh-CN" sz="3200" spc="-1" strike="noStrike">
                <a:solidFill>
                  <a:srgbClr val="0033cc"/>
                </a:solidFill>
                <a:latin typeface="华文细黑"/>
                <a:ea typeface="华文细黑"/>
              </a:rPr>
              <a:t>， </a:t>
            </a:r>
            <a:r>
              <a:rPr b="1" lang="zh-CN" sz="3200" spc="-1" strike="noStrike">
                <a:solidFill>
                  <a:srgbClr val="0033cc"/>
                </a:solidFill>
                <a:latin typeface="华文细黑"/>
                <a:ea typeface="华文细黑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华文细黑"/>
                <a:ea typeface="华文细黑"/>
              </a:rPr>
              <a:t>岁“诵古文”， </a:t>
            </a:r>
            <a:r>
              <a:rPr b="1" lang="zh-CN" sz="3200" spc="-1" strike="noStrike">
                <a:solidFill>
                  <a:srgbClr val="0033cc"/>
                </a:solidFill>
                <a:latin typeface="华文细黑"/>
                <a:ea typeface="华文细黑"/>
              </a:rPr>
              <a:t>20</a:t>
            </a:r>
            <a:r>
              <a:rPr b="1" lang="zh-CN" sz="3200" spc="-1" strike="noStrike">
                <a:solidFill>
                  <a:srgbClr val="0033cc"/>
                </a:solidFill>
                <a:latin typeface="华文细黑"/>
                <a:ea typeface="华文细黑"/>
              </a:rPr>
              <a:t>岁开始游历，游踪遍及南北，到处考察风俗，采集传说。归来后，初仕郎中，曾出使西南各地。汉武帝元封八年（公元前</a:t>
            </a:r>
            <a:r>
              <a:rPr b="1" lang="zh-CN" sz="3200" spc="-1" strike="noStrike">
                <a:solidFill>
                  <a:srgbClr val="0033cc"/>
                </a:solidFill>
                <a:latin typeface="华文细黑"/>
                <a:ea typeface="华文细黑"/>
              </a:rPr>
              <a:t>108</a:t>
            </a:r>
            <a:r>
              <a:rPr b="1" lang="zh-CN" sz="3200" spc="-1" strike="noStrike">
                <a:solidFill>
                  <a:srgbClr val="0033cc"/>
                </a:solidFill>
                <a:latin typeface="华文细黑"/>
                <a:ea typeface="华文细黑"/>
              </a:rPr>
              <a:t>年）继承他父亲司马谈的官职，任太史令，掌管起草文书、编写史料、兼管国家典籍、天文历法等。他博览皇帝珍藏的大量图书、档案和文献。后国替投降匈奴的李陵辩解，被捕入狱，受官刑。出狱后，任中书令，掌管皇家机要文件。他发愤著书，</a:t>
            </a:r>
            <a:r>
              <a:rPr b="1" lang="zh-CN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公元前</a:t>
            </a:r>
            <a:r>
              <a:rPr b="1" lang="zh-CN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91</a:t>
            </a:r>
            <a:r>
              <a:rPr b="1" lang="zh-CN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年完成《史记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132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0" y="189000"/>
            <a:ext cx="327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预习好了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28600" y="304920"/>
            <a:ext cx="355140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拓展延伸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98900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请你用简短的两三句话，为陈胜将军发穿越时空短信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144792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87280" y="1484280"/>
            <a:ext cx="67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课堂检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76280"/>
            <a:ext cx="7617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189000"/>
            <a:ext cx="472464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扶苏以数谏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广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故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数言欲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等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死，死国可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公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等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遇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广故数言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欲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从民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欲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扶苏以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数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谏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数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道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不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伐无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道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会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天大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号令召三老、豪杰与皆来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会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计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558972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适逢，恰巧遇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集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47628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15573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263700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71628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479736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5877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8794800" y="6508800"/>
            <a:ext cx="349200" cy="349200"/>
          </a:xfrm>
          <a:custGeom>
            <a:avLst/>
            <a:gdLst>
              <a:gd name="textAreaLeft" fmla="*/ 22320 w 349200"/>
              <a:gd name="textAreaRight" fmla="*/ 326880 w 349200"/>
              <a:gd name="textAreaTop" fmla="*/ 22320 h 349200"/>
              <a:gd name="textAreaBottom" fmla="*/ 32688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故意，特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12682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同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诸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34936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想，想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愿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64000" y="335772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屡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方正楷体简体"/>
                <a:ea typeface="方正楷体简体"/>
              </a:rPr>
              <a:t>shuò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方正楷体简体"/>
                <a:ea typeface="方正楷体简体"/>
              </a:rPr>
              <a:t>sh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458136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道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道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-18000" y="981000"/>
            <a:ext cx="729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一    词     多        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619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令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吴广之次所旁丛祠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令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辱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召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令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徒属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陈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令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皆不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陈胜、吴广皆次当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乃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收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1700280"/>
            <a:ext cx="372960" cy="2286000"/>
          </a:xfrm>
          <a:custGeom>
            <a:avLst/>
            <a:gdLst>
              <a:gd name="textAreaLeft" fmla="*/ 238320 w 372960"/>
              <a:gd name="textAreaRight" fmla="*/ 373320 w 3729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4149720"/>
            <a:ext cx="215640" cy="1577880"/>
          </a:xfrm>
          <a:custGeom>
            <a:avLst/>
            <a:gdLst>
              <a:gd name="textAreaLeft" fmla="*/ 137880 w 215640"/>
              <a:gd name="textAreaRight" fmla="*/ 216000 w 215640"/>
              <a:gd name="textAreaTop" fmla="*/ 41040 h 1577880"/>
              <a:gd name="textAreaBottom" fmla="*/ 1536840 h 15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620640"/>
            <a:ext cx="100800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4076640"/>
            <a:ext cx="3809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án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 行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方正楷体简体"/>
                <a:ea typeface="方正楷体简体"/>
              </a:rPr>
              <a:t>xíng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行军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141300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派，派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，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号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县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指出下列句子中的通假字，并写出同哪个字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发闾左適戍渔阳九百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为天下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固以怪之矣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将军身被坚执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1413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適”通“谪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2852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唱”通“倡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4365720"/>
            <a:ext cx="38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以”通“已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08360" y="57340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被”通“披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5228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用原文回答问题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戍卒多愿听吴广的差遣，原因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答：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吴广是如何“怒众”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答：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文中照应“宜多应者”的句子是哪一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答：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宋体"/>
              </a:rPr>
              <a:t>     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628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吴广素爱人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3068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广故数言欲亡，忿恚尉，令辱之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465300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当此时，诸郡县苦秦吏者，皆刑其长吏，杀之以应陈涉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459640" y="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习第三自然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762120"/>
            <a:ext cx="845820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（</a:t>
            </a: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4)</a:t>
            </a: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起义的导火线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(5)</a:t>
            </a: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陈胜认为起义将得到广大人民支持的理由是：                    ①</a:t>
            </a:r>
            <a:r>
              <a:rPr b="1" lang="zh-CN" sz="3000" spc="-1" strike="noStrike" u="sng">
                <a:solidFill>
                  <a:srgbClr val="0033cc"/>
                </a:solidFill>
                <a:uFillTx/>
                <a:latin typeface="华文细黑"/>
                <a:ea typeface="华文细黑"/>
              </a:rPr>
              <a:t>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    ②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(6)</a:t>
            </a: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为起义作舆论准备的办法是：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   ①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    ②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细黑"/>
                <a:ea typeface="华文细黑"/>
              </a:rPr>
              <a:t>　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7621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戍卒在开赴渔阳的途中遇雨失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905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秦二世杀太子扶苏，引起人民群众对秦王朝的更大不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590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楚人怀念楚将英燕，有强烈的复国愿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962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将写有“陈胜王”的布条置鱼腹中，戍卒买鱼烹食，得鱼腹中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257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广在驻地旁的丛祠中，狐鸣呼曰：“大楚兴，陈胜王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68208" t="62910" r="4486" b="175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8120" y="6248520"/>
            <a:ext cx="28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陕西韩城司马迁墓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771640" cy="6408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435800" y="1447920"/>
            <a:ext cx="109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333360"/>
            <a:ext cx="61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《史记》，我国第一部纪传体史书，记载了从传说中的黄帝到汉武帝长达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00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年间的历史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全书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篇，包括本纪（帝王传记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篇，世家（记诸侯本系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篇，列传（序列人臣事迹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篇，年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篇，书（记经济、天文、历法、礼乐等方面的情况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篇，共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52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字。在史学和文学史上都有很高的地位。“究天人之际，通古今之变，成一家之言”。鲁迅称它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史家之绝唱，无韵之《离骚》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640080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162864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c0c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公元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0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群以陈涉、吴广为首的贫苦老百姓被征派到大泽乡去驻守。当时天下大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耽搁了他们前往的时间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按秦朝的律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误了时间要斩首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陈涉、吴广于是鼓动大家揭竿而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陈涉封自己为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建立了张楚政权。天下百姓一呼百应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纷纷杀死秦的贪官酷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以相应陈涉的起义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333360"/>
            <a:ext cx="51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黑体"/>
              </a:rPr>
              <a:t>陈涉、吴广起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9000"/>
            <a:ext cx="914400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试一试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夏ｊｉ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ǎ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辍ｃｈｕ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ò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怅ｃｈ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à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ｎ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嗟ｊｉ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ē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鹄ｈ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ú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戍ｓｈ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ù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王ｗ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à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ｎｇ 罾ｚ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ē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ｎｇ    烹ｐ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ē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ｎｇ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恚ｈｕ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ì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笞ｃｈ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ī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蕲ｑ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í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徇ｘ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ù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ｎ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銍ｚｈ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ì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酂ｚ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à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ｎ      柘ｚｈ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è</a:t>
            </a:r>
            <a:r>
              <a:rPr b="1" lang="zh-CN" sz="4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Times New Roman"/>
              </a:rPr>
              <a:t>谯ｑｉ</a:t>
            </a:r>
            <a:r>
              <a:rPr b="1" lang="zh-CN" sz="45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á</a:t>
            </a:r>
            <a:r>
              <a:rPr b="1" lang="zh-CN" sz="4500" spc="-1" strike="noStrike">
                <a:solidFill>
                  <a:srgbClr val="0033cc"/>
                </a:solidFill>
                <a:latin typeface="Times New Roman"/>
              </a:rPr>
              <a:t>ｏ    稷ｊ</a:t>
            </a:r>
            <a:r>
              <a:rPr b="1" lang="zh-CN" sz="45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ì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10149" t="0" r="12052" b="66643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66160" y="6400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陈胜 吴广起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89000"/>
            <a:ext cx="83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Arial"/>
              </a:rPr>
              <a:t>自由朗读课文，注意字音、句子停顿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21421" t="29465" r="26693" b="442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403280" y="2060640"/>
            <a:ext cx="54738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古文我来译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语文大师 www.xiexingcun.com</dc:creator>
  <dc:description>语文大师 www.xiexingcun.com</dc:description>
  <cp:keywords/>
  <dc:language>en-US</dc:language>
  <cp:lastModifiedBy>备课大师</cp:lastModifiedBy>
  <dcterms:modified xsi:type="dcterms:W3CDTF">2014-11-28T20:51:25Z</dcterms:modified>
  <cp:revision>2</cp:revision>
  <dc:subject> </dc:subject>
  <dc:title>语文大师 www.xiexingcun.com</dc:title>
</cp:coreProperties>
</file>