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0332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58680"/>
            <a:ext cx="8229600" cy="20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095720"/>
            <a:ext cx="8229600" cy="20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0332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8680"/>
            <a:ext cx="4015800" cy="20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58680"/>
            <a:ext cx="4015800" cy="20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95720"/>
            <a:ext cx="4015800" cy="20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095720"/>
            <a:ext cx="4015800" cy="20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0332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58680"/>
            <a:ext cx="2649600" cy="20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858680"/>
            <a:ext cx="2649600" cy="20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858680"/>
            <a:ext cx="2649600" cy="20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095720"/>
            <a:ext cx="2649600" cy="20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095720"/>
            <a:ext cx="2649600" cy="20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095720"/>
            <a:ext cx="2649600" cy="20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0332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858680"/>
            <a:ext cx="822960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0332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858680"/>
            <a:ext cx="82296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0332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858680"/>
            <a:ext cx="40158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858680"/>
            <a:ext cx="40158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0332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033200"/>
            <a:ext cx="822960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0332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858680"/>
            <a:ext cx="4015800" cy="20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858680"/>
            <a:ext cx="40158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095720"/>
            <a:ext cx="4015800" cy="20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0332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58680"/>
            <a:ext cx="40158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58680"/>
            <a:ext cx="4015800" cy="20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095720"/>
            <a:ext cx="4015800" cy="20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0332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58680"/>
            <a:ext cx="4015800" cy="20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58680"/>
            <a:ext cx="4015800" cy="20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95720"/>
            <a:ext cx="8229600" cy="20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332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8680"/>
            <a:ext cx="82296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aidu.com/s?wd=&#20239;&#31508;&amp;hl_tag=textlink&amp;tn=SE_hldp01350_v6v6zkg6" TargetMode="External"/><Relationship Id="rId3" Type="http://schemas.openxmlformats.org/officeDocument/2006/relationships/hyperlink" Target="http://www.baidu.com/s?wd=&#20239;&#31508;&amp;hl_tag=textlink&amp;tn=SE_hldp01350_v6v6zkg6" TargetMode="External"/><Relationship Id="rId4" Type="http://schemas.openxmlformats.org/officeDocument/2006/relationships/hyperlink" Target="http://www.baidu.com/s?wd=&#20239;&#31508;&amp;hl_tag=textlink&amp;tn=SE_hldp01350_v6v6zkg6" TargetMode="Externa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84320" y="2572920"/>
            <a:ext cx="544824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行楷"/>
                <a:ea typeface="华文行楷"/>
              </a:rPr>
              <a:t>第五单元  品味经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424160" y="3530160"/>
            <a:ext cx="640080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课  香菱学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7040" y="62028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课堂提高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57040" y="1700280"/>
            <a:ext cx="870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罗兰佐　好夫人，欢迎您回家来！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鲍西娅　我们在外边为我们的丈夫祈祷平安，希望他们能够因我们的祈祷而多福。他们已经回来了吗？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罗兰佐　夫人，他们还没有来；可是刚才有人来送过信，说他们就要来了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鲍西娅　进去，尼莉莎，吩咐我的仆人们，叫他们就当我们两人没有出去过一样；罗兰佐，您也给我保守秘密；杰西卡，您也不要多说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喇叭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4257720" y="673200"/>
            <a:ext cx="4429080" cy="1185840"/>
          </a:xfrm>
          <a:prstGeom prst="cloudCallout">
            <a:avLst>
              <a:gd name="adj1" fmla="val -97023"/>
              <a:gd name="adj2" fmla="val 215462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找到窍门了吗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7040" y="10332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课堂提高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57040" y="1616040"/>
            <a:ext cx="888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罗兰佐　您的丈夫来啦，我听见他的喇叭的声音。我们不是搬嘴弄舌的人，夫人，您放心好了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鲍西娅　这样的夜色就像一个昏沉的白昼，不过略微惨淡点儿；没有太阳的白天，瞧上去也不过如此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巴萨尼奥、安东尼奥、葛莱西安诺及侍从等上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节选自莎士比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威尼斯商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5114880" y="201600"/>
            <a:ext cx="3828960" cy="1185840"/>
          </a:xfrm>
          <a:prstGeom prst="cloudCallout">
            <a:avLst>
              <a:gd name="adj1" fmla="val -143199"/>
              <a:gd name="adj2" fmla="val 324162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灵活运用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7040" y="10332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课堂提高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57040" y="1836720"/>
            <a:ext cx="86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段中，鲍西娅为什么要罗兰佐保守秘密？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4857840" y="673200"/>
            <a:ext cx="3828960" cy="1185840"/>
          </a:xfrm>
          <a:prstGeom prst="cloudCallout">
            <a:avLst>
              <a:gd name="adj1" fmla="val -136111"/>
              <a:gd name="adj2" fmla="val 315462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做的怎样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7040" y="10332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课堂提高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57040" y="1636560"/>
            <a:ext cx="8629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】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鲍西娅想要和丈夫巴萨尼奥开个玩笑，所以，她要罗兰佐保守自己女扮男装、冒充律师的秘密。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分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解析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试题分析：名著填写和选择所涵盖的内容非常多，既有文学文化常识，也有作品主题、故事情节、人物性格、写作特色类，还有对作品的品读、分析等。解答这类题目，首先要将相关知识记牢，同时要对名著的精彩内容以及人物形象细细品味，这里是对故事情节的了解的考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考点：识记文学常识。能力层级为识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4257720" y="673200"/>
            <a:ext cx="4429080" cy="1185840"/>
          </a:xfrm>
          <a:prstGeom prst="cloudCallout">
            <a:avLst>
              <a:gd name="adj1" fmla="val -97023"/>
              <a:gd name="adj2" fmla="val 215462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找到窍门了吗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000" y="1041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课堂提高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43000" y="1866960"/>
            <a:ext cx="87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赏析选段中的鲍西娅的人物形象。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4741920" y="168840"/>
            <a:ext cx="4143240" cy="1817280"/>
          </a:xfrm>
          <a:prstGeom prst="irregularSeal2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探究一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000" y="1041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课堂提高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3000" y="1728720"/>
            <a:ext cx="8729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答案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】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鲍西娅是莎士比亚人文主义思想的体现，她敢于追求自己的幸福，主张善良和真诚的友谊，反对自私、贪婪和丑恶，例如她在选文中说：“一支小小的蜡烛，它的光照耀得多么远！一件善事也正像这支蜡烛一样，在这罪恶的世界上发出广大的光辉。”同时，鲍西娅又是一个幽默、风趣的女性，她在假扮律师之后，有意识地和丈夫开起了玩笑。（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分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解析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】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试题分析：名著填写和选择所涵盖的内容非常多，既有文学文化常识，也有作品主题、故事情节、人物性格、写作特色类，还有对作品的品读、分析等。解答这类题目，首先要将相关知识记牢，同时要对名著的精彩内容以及人物形象细细品味，这里学生应重点理解人物形象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考点：识记文学常识。能力层级为识记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5114880" y="414360"/>
            <a:ext cx="3357720" cy="1185840"/>
          </a:xfrm>
          <a:prstGeom prst="cloudCallout">
            <a:avLst>
              <a:gd name="adj1" fmla="val -40541"/>
              <a:gd name="adj2" fmla="val 69944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你知道吗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000" y="1041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课堂探讨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9"/>
          <p:cNvSpPr/>
          <p:nvPr/>
        </p:nvSpPr>
        <p:spPr>
          <a:xfrm>
            <a:off x="243000" y="1866960"/>
            <a:ext cx="87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香菱学诗取得成功的原因是什么？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40"/>
          <p:cNvSpPr/>
          <p:nvPr/>
        </p:nvSpPr>
        <p:spPr>
          <a:xfrm>
            <a:off x="5114880" y="414360"/>
            <a:ext cx="3828960" cy="1185840"/>
          </a:xfrm>
          <a:prstGeom prst="cloudCallout">
            <a:avLst>
              <a:gd name="adj1" fmla="val -137231"/>
              <a:gd name="adj2" fmla="val 30368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做的怎样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3000" y="1041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课堂探讨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43000" y="1600200"/>
            <a:ext cx="8700840" cy="19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分析主观因素和客观因素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主观因素：香菱的努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客观因素：黛玉的善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5114880" y="414360"/>
            <a:ext cx="3828960" cy="1185840"/>
          </a:xfrm>
          <a:prstGeom prst="cloudCallout">
            <a:avLst>
              <a:gd name="adj1" fmla="val -137231"/>
              <a:gd name="adj2" fmla="val 30368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做的怎样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000" y="1041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课堂探讨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243000" y="1866960"/>
            <a:ext cx="87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刻苦好学，把全部精力都用在写诗上，执著地追求自己的目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苦学、乐学、善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②她的天资好，有较高的领悟力。③得到黛玉这个好老师的正确指点。④环境因素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5114880" y="414360"/>
            <a:ext cx="3828960" cy="1185840"/>
          </a:xfrm>
          <a:prstGeom prst="cloudCallout">
            <a:avLst>
              <a:gd name="adj1" fmla="val -137231"/>
              <a:gd name="adj2" fmla="val 30368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做的怎样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000" y="1041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课堂提高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243000" y="1600200"/>
            <a:ext cx="8700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阅读下列文字，回答文后问题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香菱听了，喜的拿回诗来，又苦思一回作两句诗，又舍不得杜诗，又读两首。如此茶饭无心，坐卧不定。宝钗道：“何苦自寻烦恼。都是颦儿引的你，我和她算账去。你本来呆头呆脑的，再添上这个，越发弄成个呆子了。”香菱笑道：“好姑娘，别混我。”一面说，一面作了一首，先与宝钗看。宝钗看了笑道：“这个不好，不是这个作法。你别怕臊，只管拿了给他瞧去，看他是怎么说。”香菱听了，便拿了诗找黛玉。黛玉看时，只见写道是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5114880" y="414360"/>
            <a:ext cx="3828960" cy="1185840"/>
          </a:xfrm>
          <a:prstGeom prst="cloudCallout">
            <a:avLst>
              <a:gd name="adj1" fmla="val -137231"/>
              <a:gd name="adj2" fmla="val 30368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做的怎样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8"/>
          <p:cNvSpPr/>
          <p:nvPr/>
        </p:nvSpPr>
        <p:spPr>
          <a:xfrm>
            <a:off x="271440" y="1641600"/>
            <a:ext cx="82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本节要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简要分析小说中香菱人物形象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香菱学诗取得成功的原因是什么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AutoShape 9"/>
          <p:cNvSpPr/>
          <p:nvPr/>
        </p:nvSpPr>
        <p:spPr>
          <a:xfrm flipH="1" flipV="1">
            <a:off x="5950080" y="188280"/>
            <a:ext cx="2908080" cy="1531800"/>
          </a:xfrm>
          <a:prstGeom prst="cloudCallout">
            <a:avLst>
              <a:gd name="adj1" fmla="val 234277"/>
              <a:gd name="adj2" fmla="val -32762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要学会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000" y="1041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课堂提高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43000" y="1866960"/>
            <a:ext cx="87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挂中天夜色寒，清光皎皎影团团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诗人助兴常思玩，野客添愁不忍观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翡翠楼边悬玉镜，珍珠帘外挂冰盘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良宵何用烧银烛，晴彩辉煌映画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黛玉笑道：“意思却有，只是措词不雅。皆因你看的诗少，被他缚住了。把这首丢开，再作一首，只管放开胆子去作。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香菱听了，默默的回来，越性连房也不入，只在池边树下，或坐在山石上出神，或蹲在地下抠土，来往的人都诧异。李纨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5114880" y="414360"/>
            <a:ext cx="3828960" cy="1185840"/>
          </a:xfrm>
          <a:prstGeom prst="cloudCallout">
            <a:avLst>
              <a:gd name="adj1" fmla="val -137231"/>
              <a:gd name="adj2" fmla="val 30368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做的怎样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课堂提高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57040" y="124452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宝钗、探春、宝玉等听得此信，都远远的站在山坡上瞧看他。只见他皱一回眉，又自己含笑一回。宝钗笑道：“这个人定要疯了！昨夜嘟嘟哝哝直闹到五更天才睡下，没一顿饭的工夫天就亮了。我就听见他起来了，忙忙碌碌梳了头就找颦儿去。一回来了，呆了一日，作了一首又不好，这会子自然另作呢。”宝玉笑道：“这正是‘地灵人杰’，老天生人再不虚赋情性的。我们成日叹说可惜他这么个人竞俗了，谁知到底有今日。可见天地至公。”宝钗笑道：“你能够像他这苦心就好了，学什么有个不成的。”宝玉不答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5114880" y="201600"/>
            <a:ext cx="3828960" cy="1185840"/>
          </a:xfrm>
          <a:prstGeom prst="cloudCallout">
            <a:avLst>
              <a:gd name="adj1" fmla="val -143199"/>
              <a:gd name="adj2" fmla="val 324162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灵活运用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7040" y="62028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课堂提高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43000" y="1600200"/>
            <a:ext cx="8700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见香菱兴兴头头的又往黛玉那边去了。探春笑道：“咱们跟了去，看他有些意思没有。”说着，一齐都往潇湘馆来。只见黛玉正拿着诗和他讲究。众人因问黛玉作的如何。黛玉道：“自然算难为他了，只是还不好。这一首过于穿凿了，还得另作。”众人因要诗看时，只见作道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非银非水映窗寒，试看晴空护玉盘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淡淡梅花香欲染，丝丝柳带露初干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疑残粉涂金砌，恍若轻霜抹玉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梦醒西楼人迹绝，余容犹可隔帘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5114880" y="414360"/>
            <a:ext cx="3828960" cy="1185840"/>
          </a:xfrm>
          <a:prstGeom prst="cloudCallout">
            <a:avLst>
              <a:gd name="adj1" fmla="val -137231"/>
              <a:gd name="adj2" fmla="val 30368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做的怎样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7040" y="62028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课堂提高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57040" y="1446120"/>
            <a:ext cx="870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宝钗笑道：“不像吟月了，月字底下添一个‘色’字倒还使得，你看句句倒是月色。这也罢了，原来诗从胡说来，再迟几天就好了。”香菱自为这首妙绝，听如此说，自己扫了兴，不肯丢开手，便要思索起来。因见他姊妹们说笑，便自己走至阶前竹下闲步，挖心搜胆，耳不旁听，目不别视。一时探春隔窗笑说道：“菱姑娘，你闲闲罢。”香菱怔怔答道：“‘闲’字是十五删的，你错了韵了。”众人听了，不觉大笑起来。宝钗道：“可真是诗魔了。都是颦儿引的他！”黛玉道：“圣人说，‘诲人不倦’，他又来问我，我岂有不说之理。”李纨笑道：“咱们拉了他往四姑娘房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4257720" y="673200"/>
            <a:ext cx="4429080" cy="1185840"/>
          </a:xfrm>
          <a:prstGeom prst="cloudCallout">
            <a:avLst>
              <a:gd name="adj1" fmla="val -97023"/>
              <a:gd name="adj2" fmla="val 215462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找到窍门了吗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7040" y="10332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课堂提高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57040" y="1635120"/>
            <a:ext cx="888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里去，引他瞧瞧画儿，叫他醒一醒才好。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着，真个出来拉了他过藕香榭，至暖香坞中。惜春正乏倦，在床上歪着睡午觉，画缯立在壁间，用纱罩着。众人唤醒了惜春，揭纱看时，十停方有了三停。香菱见画上有几个美人，因指着笑道：“这一个是我们姑娘，那一个是林姑娘。”探春笑道：“凡会作诗的都画在上头，快学罢。”说着，顽笑了一回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各自散后，香菱满心中还是想诗。至晚间对灯出了一回神，至三更以后上床卧下，两眼鳏鳏，直到五更方才朦胧睡去了。一时天亮，宝钗醒了，听了一听，他安稳睡了，心下想：“他翻腾了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5114880" y="201600"/>
            <a:ext cx="3828960" cy="1185840"/>
          </a:xfrm>
          <a:prstGeom prst="cloudCallout">
            <a:avLst>
              <a:gd name="adj1" fmla="val -143199"/>
              <a:gd name="adj2" fmla="val 324162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灵活运用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7040" y="8409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课堂提高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57040" y="1508040"/>
            <a:ext cx="87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夜，不知可作成了？这会子乏了，且别叫他。”正想着，只听香菱从梦中笑道：“可是有了，难道这一首还不好？”宝钗听了，又是可叹，又是可笑，连忙唤醒了他，问他：“得了什么？你这诚心都通了仙了。学不成诗，还弄出病来呢。”一面说，一面梳洗了，会同姊妹往贾母处来。原来香菱苦志学诗，精血诚聚，日间做不出，忽于梦中得了八句。梳洗已毕，便忙录出来，自己并不知好歹，便拿来又找黛玉。刚到沁芳亭，只见李纨与众姊妹方从王夫人处回来，宝钗正告诉他们说他梦中作诗说梦话。众人正笑，抬头见他来了，便都争着要诗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4857840" y="673200"/>
            <a:ext cx="3828960" cy="1185840"/>
          </a:xfrm>
          <a:prstGeom prst="cloudCallout">
            <a:avLst>
              <a:gd name="adj1" fmla="val -136111"/>
              <a:gd name="adj2" fmla="val 315462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做的怎样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7040" y="10332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课堂提高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57040" y="1859040"/>
            <a:ext cx="862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香菱写的前两首诗都存在一些不足，黛玉是如何评价的？请从文中找出写在下面的横线上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4257720" y="673200"/>
            <a:ext cx="4429080" cy="1185840"/>
          </a:xfrm>
          <a:prstGeom prst="cloudCallout">
            <a:avLst>
              <a:gd name="adj1" fmla="val -97023"/>
              <a:gd name="adj2" fmla="val 215462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找到窍门了吗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7040" y="62028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课堂提高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57040" y="1252440"/>
            <a:ext cx="8629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】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第一首诗黛玉的评价是“意思却有，只是措词不雅。皆因你看的诗少，被他缚住了。把这首丢开，再作一首，只管放开胆子去作”；第二首是“自然算难为他了，只是还不好。这一首过于穿凿了，还得另作。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解析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试题分析：本题考查学生概括文章内容的能力。根据文中“林黛玉所说的话”来概括黛玉评价香菱的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考点：筛选文章中的信息。能力层级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4257720" y="673200"/>
            <a:ext cx="4429080" cy="1185840"/>
          </a:xfrm>
          <a:prstGeom prst="cloudCallout">
            <a:avLst>
              <a:gd name="adj1" fmla="val -97023"/>
              <a:gd name="adj2" fmla="val 215462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找到窍门了吗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7040" y="10332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课堂提高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57040" y="1859040"/>
            <a:ext cx="862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文主要写了香菱苦心写诗获得成功，说明了什么？你觉得香菱的经历对你有什么启发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4257720" y="673200"/>
            <a:ext cx="4429080" cy="1185840"/>
          </a:xfrm>
          <a:prstGeom prst="cloudCallout">
            <a:avLst>
              <a:gd name="adj1" fmla="val -97023"/>
              <a:gd name="adj2" fmla="val 215462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找到窍门了吗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7040" y="10332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课堂提高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57040" y="1593720"/>
            <a:ext cx="8629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】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香菱的成功，一方面说明她自己的聪明与优雅素质，另一方面也说明天下无难事，只怕有心人。启发：①做有心人，提高兴趣；②多学习，多效仿，不耻下问；③勤于实践，不怕失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解析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试题分析：本题考查学生分析文章内容的能力。围绕 “勤奋、兴趣”等角度来分析说明了什么以及给我们的启示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考点：对作品进行个性化阅读和有创意的解读。能力层级为探究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4257720" y="673200"/>
            <a:ext cx="4429080" cy="1185840"/>
          </a:xfrm>
          <a:prstGeom prst="cloudCallout">
            <a:avLst>
              <a:gd name="adj1" fmla="val -97023"/>
              <a:gd name="adj2" fmla="val 215462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找到窍门了吗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0332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温故知新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57040" y="1644480"/>
            <a:ext cx="8629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给加红的字注音。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摩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）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 ）里  胡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）    暧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）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）儿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）土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）川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词语解释。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造化：      腻烦：          揣摩：                诌：              鳏鳏：         穿凿：  地灵人杰：          自暴自弃：              起承转合：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作者简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5729400" y="444600"/>
            <a:ext cx="2957400" cy="1414440"/>
          </a:xfrm>
          <a:prstGeom prst="cloudCallout">
            <a:avLst>
              <a:gd name="adj1" fmla="val -72921"/>
              <a:gd name="adj2" fmla="val 15000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先学一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7040" y="10332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课堂提高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257040" y="1859040"/>
            <a:ext cx="862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黛玉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楼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一个非常重要的人物，她的性格也具有复杂性。根据选文内容，谈谈你对她性格的理解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4257720" y="673200"/>
            <a:ext cx="4429080" cy="1185840"/>
          </a:xfrm>
          <a:prstGeom prst="cloudCallout">
            <a:avLst>
              <a:gd name="adj1" fmla="val -97023"/>
              <a:gd name="adj2" fmla="val 215462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找到窍门了吗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7040" y="62028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课堂提高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57040" y="1168560"/>
            <a:ext cx="8629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】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黛玉虽然生性孤僻，喜散不喜聚，却也有热情大度的一面。她指导香菱不厌其烦，循循善诱，而且言简意赅，所以使香菱很快悟入门径，获得成功。她热情，富于同情心，不虚伪，不做作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解析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试题分析：本题考查学生分析人物形象的能力。结合“生性孤僻以及热情大度”这些角度来分析林黛玉的性格特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考点：欣赏作品的形象，领悟作品的艺术魅力。能力层级为鉴赏评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4257720" y="673200"/>
            <a:ext cx="4429080" cy="1185840"/>
          </a:xfrm>
          <a:prstGeom prst="cloudCallout">
            <a:avLst>
              <a:gd name="adj1" fmla="val -97023"/>
              <a:gd name="adj2" fmla="val 215462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找到窍门了吗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332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温故知新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00160" y="1858680"/>
            <a:ext cx="8743680" cy="42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ié   yáng   xū   zhōu   ài    pín   kōu   wǎ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词语解释。  造化：福气；运气。  腻烦：因次数过多或时间过长而感到厌倦。 揣摩：反复思考推求。 诌：编造言词。  鳏鳏：形容忧愁失眠的样子。  穿凿：非常牵强的解释，把没有这种意思的说成有这种意思。 地灵人杰：山川灵秀，人物杰出。 自暴自弃：自己甘心落后，不求上进。 起承转合：旧时写文章常用的行文的顺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作者简介  曹雪芹，名霑，字梦阮，号雪芹，又号芹溪、芹圃。祖籍今辽宁省辽阳市。曹雪芹约于乾隆九年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174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前后开始写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石头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，后来雪芹贫病交迫，乾隆二十七年壬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176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又殇子，禁不起丧子之痛，此年除夕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176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日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雪芹病逝，终年虚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8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岁。  曹雪芹生于荣华，中经巨变，历尽沧桑，于世态体味甚深，而又博学通识，才华富赡，胸多波澜，笔无滞碍，才得成此绝世之作。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5729400" y="444600"/>
            <a:ext cx="2957400" cy="1414440"/>
          </a:xfrm>
          <a:prstGeom prst="cloudCallout">
            <a:avLst>
              <a:gd name="adj1" fmla="val -72921"/>
              <a:gd name="adj2" fmla="val 15000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先学一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000" y="1041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课堂探讨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9"/>
          <p:cNvSpPr/>
          <p:nvPr/>
        </p:nvSpPr>
        <p:spPr>
          <a:xfrm>
            <a:off x="243000" y="1866960"/>
            <a:ext cx="87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简要分析小说中香菱人物形象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40"/>
          <p:cNvSpPr/>
          <p:nvPr/>
        </p:nvSpPr>
        <p:spPr>
          <a:xfrm>
            <a:off x="4741920" y="168840"/>
            <a:ext cx="4143240" cy="1817280"/>
          </a:xfrm>
          <a:prstGeom prst="irregularSeal2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探究一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" y="1041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课堂探讨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243000" y="1866960"/>
            <a:ext cx="87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聪慧灵秀，悟性极强。聪明、悟性好，勤奋好学，刻苦钻研，废寝忘食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锲而不舍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5114880" y="414360"/>
            <a:ext cx="3357720" cy="1185840"/>
          </a:xfrm>
          <a:prstGeom prst="cloudCallout">
            <a:avLst>
              <a:gd name="adj1" fmla="val -40541"/>
              <a:gd name="adj2" fmla="val 69944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你知道吗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" y="1041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课堂探讨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8"/>
          <p:cNvSpPr/>
          <p:nvPr/>
        </p:nvSpPr>
        <p:spPr>
          <a:xfrm>
            <a:off x="5114880" y="414360"/>
            <a:ext cx="3828960" cy="1185840"/>
          </a:xfrm>
          <a:prstGeom prst="cloudCallout">
            <a:avLst>
              <a:gd name="adj1" fmla="val -137231"/>
              <a:gd name="adj2" fmla="val 30368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做的怎样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0"/>
          <p:cNvSpPr/>
          <p:nvPr/>
        </p:nvSpPr>
        <p:spPr>
          <a:xfrm>
            <a:off x="243000" y="1600200"/>
            <a:ext cx="8700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“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又苦思一回作两句诗，又舍不得杜诗，又读两首。如此茶饭无心，坐卧不定”，这是到了废寝忘食的地步了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香菱听了，默默的回来，越性连房也不入，只在池边树下，或坐在山石上出神，或蹲在地下抠土，来往的人都诧异。李纨、宝钗、探春、宝玉等听得此信，都远远的站在山坡上瞧看他。只见他皱一回眉，又自己含笑一回。作者用动作描写写出了香菱立意时反复斟酌之态，真是如醉如痴！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香菱笑道：“据我看来，诗的好处，有口里说不出来的意思，想去却是逼真的。有似乎无理的，想去竟是有理有情的。”作者用语言描写表现香菱读诗已经有所会意，只因以往所读之书有限，一时难以用言辞表达出来罢了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课堂提高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0" y="12445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著阅读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鲍西娅　那灯光是从我家里发出来的。一支小小的蜡烛，它的光照耀得多么远！一件善事也正像这支蜡烛一样，在这罪恶的世界上发出广大的光辉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尼莉莎　月光明亮的时候，我们就瞧不见灯光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鲍西娅　小小的荣耀也正是这样给更大的光荣所掩。国王出巡的时候摄政的威权未尝不就像一个君主，可是一到国王回来，他的威权就归于乌有，正像溪涧中的细流注入大海一样。音乐！听！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尼莉莎　小姐，这是我们家里的音乐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鲍西娅　没有比较，就显不出长处；我觉得它比在白天好听得多哪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5114880" y="201600"/>
            <a:ext cx="3828960" cy="1185840"/>
          </a:xfrm>
          <a:prstGeom prst="cloudCallout">
            <a:avLst>
              <a:gd name="adj1" fmla="val -143199"/>
              <a:gd name="adj2" fmla="val 324162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灵活运用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7040" y="62028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课堂提高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57040" y="1317600"/>
            <a:ext cx="870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尼莉莎　小姐，那是因为晚上比白天静寂的缘故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鲍西娅　如果没有人欣赏，乌鸦的歌声也就和云雀一样；要是夜莺在白天杂在群鹅的聒噪里歌唱，人家决不以为它比鹪鹩唱得更美。多少事情因为逢到有利的环境，才能够达到尽善的境界，博得一声恰当的赞赏！喂，静下来！月亮正在拥着她的情郎酣睡，不肯就醒来呢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音乐停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罗兰佐　要是我没有听错，这分明是鲍西娅的声音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鲍西娅　我的声音太难听，所以一下子就给他听出来了，正像瞎子能够辨认杜鹃一样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4857840" y="673200"/>
            <a:ext cx="3828960" cy="1185840"/>
          </a:xfrm>
          <a:prstGeom prst="cloudCallout">
            <a:avLst>
              <a:gd name="adj1" fmla="val -136111"/>
              <a:gd name="adj2" fmla="val 315462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做的怎样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语文备课大师 www.xiexingcun.com【全免费】</dc:creator>
  <dc:description>语文备课大师 www.xiexingcun.com【全免费】</dc:description>
  <cp:keywords/>
  <dc:language>en-US</dc:language>
  <cp:lastModifiedBy>Windows 用户</cp:lastModifiedBy>
  <dcterms:modified xsi:type="dcterms:W3CDTF">2015-03-15T00:39:53Z</dcterms:modified>
  <cp:revision>0</cp:revision>
  <dc:subject/>
  <dc:title>语文备课大师 www.xiexingcun.com【全免费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5</vt:lpwstr>
  </property>
</Properties>
</file>