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9572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85868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95720"/>
            <a:ext cx="264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033200"/>
            <a:ext cx="82296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9572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58680"/>
            <a:ext cx="40158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5720"/>
            <a:ext cx="8229600" cy="20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868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4320" y="2572920"/>
            <a:ext cx="5448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第六单元  历史时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424160" y="3530160"/>
            <a:ext cx="64008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  隆中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8880" y="1616040"/>
            <a:ext cx="83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划线的文言虚词用法相同的一组是（          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每自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仲、乐毅受任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败军之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凡三往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见  当立者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子扶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官佣书    以供养谓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封侯      属予作文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7040" y="1836720"/>
            <a:ext cx="865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试题分析“之”“于”“而”“以”“其”“为”“乃”“焉”等，我们要根据这些文言虚词的不同用法，结合例句进行归类积累，在此基础上才能有把握地完成虚词题。同学们不妨通过卡片的形式，识记常见文言虚词的意义和用法。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与  在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才  是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给  是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来 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考点：理解常见文言虚词在文中的意义。能力层级为理解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7840" y="673200"/>
            <a:ext cx="3828960" cy="1185840"/>
          </a:xfrm>
          <a:prstGeom prst="cloudCallout">
            <a:avLst>
              <a:gd name="adj1" fmla="val -136111"/>
              <a:gd name="adj2" fmla="val 3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704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859040"/>
            <a:ext cx="86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翻译画线句子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贫，常为官佣书以供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000" y="1866960"/>
            <a:ext cx="872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他）家里贫困，常常为官府雇佣抄书来供养（家庭）。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试题分析：文言翻译的标准是三个字：信、达、雅。对于初中生而言，能达到前两个标准“信”（准确无误）和“达”（通顺流畅）就很不错了。因为中考要求文言翻译要直译，讲究字字落实，特别是对关键词语的理解、特殊句式的判断要求较高。注意“为是给的意思，佣是被雇佣的意思，以是来的意思”，还要补充出省略的主语“他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考点：理解或翻译文中的句子。能力层级为理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41920" y="168840"/>
            <a:ext cx="4143240" cy="181728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探究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合原文分析两篇文章在正面描写和侧面描写上的异同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14880" y="414360"/>
            <a:ext cx="3357720" cy="1185840"/>
          </a:xfrm>
          <a:prstGeom prst="cloudCallout">
            <a:avLst>
              <a:gd name="adj1" fmla="val -40541"/>
              <a:gd name="adj2" fmla="val 6994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000" y="1600200"/>
            <a:ext cx="87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甲乙两文都运用了正面描写和侧面描写相结合的手法。甲文以侧面描写为主，除了前两句是正面描写外，其余都是侧面描写；乙文以正面描写为主，除了“左右皆笑之”外，其余都是正面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000" y="1600200"/>
            <a:ext cx="87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试题分析：“正面描写与侧面描写相结合”的方法是“塑造人物形象、表现人物特点”常用的方法。正面描写，主要表现为人物的生平介绍、个人经历以及“语言、动作、神态”等描写；侧面描写主要表现为用旁观者的眼光、旁观者的描述、旁观者的看法等来塑造这个人物。甲文中主要是通过徐庶向刘备推荐诸葛亮来表现诸葛亮的才华，所以甲文主要侧重于侧面表现诸葛亮的才华；乙文中主要通过介绍班超日常生活来表现班超“不拘小节但内谨、孝顺、博览群书、有远大志向”的人物形象，应该侧重于正面描写。但甲文也有正面描写，如：亮躬耕陇亩，好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梁父吟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身长八尺，每自比于管仲、乐毅；乙文中也有侧面描写，如：左右皆笑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考点：欣赏作品的形象，领悟作品的艺术魅力。能力层级为鉴赏评价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1440" y="164160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节要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既然写诸葛亮，为什么要花笔墨写徐庶、张飞、关羽等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 flipV="1">
            <a:off x="5950080" y="188280"/>
            <a:ext cx="2908080" cy="1531800"/>
          </a:xfrm>
          <a:prstGeom prst="cloudCallout">
            <a:avLst>
              <a:gd name="adj1" fmla="val 234277"/>
              <a:gd name="adj2" fmla="val -32762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要学会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既然写诸葛亮，为什么要花笔墨写徐庶、张飞、关羽等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41920" y="168840"/>
            <a:ext cx="4143240" cy="181728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探究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000" y="18669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直接描写和间接描写相结合，人物形象才能丰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14880" y="414360"/>
            <a:ext cx="3357720" cy="1185840"/>
          </a:xfrm>
          <a:prstGeom prst="cloudCallout">
            <a:avLst>
              <a:gd name="adj1" fmla="val -40541"/>
              <a:gd name="adj2" fmla="val 6994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000" y="1041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探讨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000" y="1866960"/>
            <a:ext cx="870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各个方面描写刻画诸葛亮这个中心人物，是本文最主要的写作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开头一段写诸葛亮自比管仲、乐毅，从正面描写他的非凡抱负；第二段写徐庶向刘备推荐诸葛亮，表现了诸葛亮的“卧龙”才干则是侧面描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刘备和诸葛的问答从正面，通过人物自身的语言塑造形象，充分表现诸葛亮的天才预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刘备三顾茅庐、密谈后“与亮情好日密”、关张不悦、刘徐相答都从侧面表现诸葛亮的非凡才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正面描写与侧面描写相照应，使诸葛亮这个人物形象更丰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3320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1736640"/>
            <a:ext cx="862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阅读下列短文，完成小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文：亮躬耕陇亩，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梁父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身长八尺，每自比于管仲、乐毅，时人莫之许也。惟博陵崔州平、颍川徐庶元直与亮友善，谓为信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先主屯新野。徐庶见先主，先主器之，谓先主曰：“诸葛孔明者，卧龙也，将军岂愿见之乎？”先主曰：“君与俱来。”庶曰：“此人可就见，不可屈致也。将军宜枉驾顾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是先主遂诣亮，凡三往，乃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14880" y="414360"/>
            <a:ext cx="3828960" cy="1185840"/>
          </a:xfrm>
          <a:prstGeom prst="cloudCallout">
            <a:avLst>
              <a:gd name="adj1" fmla="val -137231"/>
              <a:gd name="adj2" fmla="val 30368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44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文：班超字仲升，扶风平陵人，徐令彪之少子也。为人有大志，不修细节。然内孝谨，居家常执勤苦，不耻劳辱。有口辩，而涉猎书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永平五年，兄固被召诣校书郎，超与母随至洛阳。家贫，常为官佣书以供养。久劳苦，尝辍业投笔叹曰：“大丈夫无它志略，犹当效张骞立功异域，以取封侯，安能久事笔研间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左右皆笑之。超曰：“小子安知壮士志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01600"/>
            <a:ext cx="3828960" cy="1185840"/>
          </a:xfrm>
          <a:prstGeom prst="cloudCallout">
            <a:avLst>
              <a:gd name="adj1" fmla="val -143199"/>
              <a:gd name="adj2" fmla="val 3241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灵活运用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7040" y="2028960"/>
            <a:ext cx="870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划线的词的含义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是先主遂诣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         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此人可就见，不可屈致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         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犹当效张骞立功异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      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耻劳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            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7840" y="673200"/>
            <a:ext cx="3828960" cy="1185840"/>
          </a:xfrm>
          <a:prstGeom prst="cloudCallout">
            <a:avLst>
              <a:gd name="adj1" fmla="val -136111"/>
              <a:gd name="adj2" fmla="val 3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做的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040" y="62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李旭科毛笔行书"/>
              </a:rPr>
              <a:t>课堂提高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1295280"/>
            <a:ext cx="870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答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就近，趋向 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招致 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仿效 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认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羞耻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解析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试题分析：文言实词的考查，最常见的命题形式是，指定文中若干个词让学生作解释。要求解释的词，一般为常见实词，通假字、一词多义、古今异义、词类活用等，往往是命题的重点，当然也应该成为同学们备考的重点。在理解时，除了根据具体的语境，还要注意一些字的特殊用法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诣：古义，拜访；今义，造诣。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根据具体的语境来理解即可。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效，在此用作“动词”，为“仿效”的意思。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耻，为“形容词的意动用法”，是“认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羞耻 ”的意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考点：理解常见文言实词在文中的含义。能力层级为理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57720" y="673200"/>
            <a:ext cx="4429080" cy="1185840"/>
          </a:xfrm>
          <a:prstGeom prst="cloudCallout">
            <a:avLst>
              <a:gd name="adj1" fmla="val -97023"/>
              <a:gd name="adj2" fmla="val 21546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找到窍门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语文备课大师 www.xiexingcun.com【全免费】</dc:creator>
  <dc:description>语文备课大师 www.xiexingcun.com【全免费】</dc:description>
  <cp:keywords/>
  <dc:language>en-US</dc:language>
  <cp:lastModifiedBy>Windows 用户</cp:lastModifiedBy>
  <dcterms:modified xsi:type="dcterms:W3CDTF">2015-03-15T00:47:16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