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4.png" ContentType="image/png"/>
  <Override PartName="/ppt/media/laser.wav" ContentType="audio/x-wav"/>
  <Override PartName="/ppt/media/image3.jpeg" ContentType="image/jpeg"/>
  <Override PartName="/ppt/media/image24.jpeg" ContentType="image/jpeg"/>
  <Override PartName="/ppt/media/image9.jpeg" ContentType="image/jpeg"/>
  <Override PartName="/ppt/media/image2.png" ContentType="image/png"/>
  <Override PartName="/ppt/media/image25.png" ContentType="image/png"/>
  <Override PartName="/ppt/media/image26.gif" ContentType="image/gif"/>
  <Override PartName="/ppt/media/image20.jpeg" ContentType="image/jpeg"/>
  <Override PartName="/ppt/media/image15.jpeg" ContentType="image/jpe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7.png" ContentType="image/png"/>
  <Override PartName="/ppt/media/image16.jpeg" ContentType="image/jpeg"/>
  <Override PartName="/ppt/media/image13.gif" ContentType="image/gif"/>
  <Override PartName="/ppt/media/image14.png" ContentType="image/png"/>
  <Override PartName="/ppt/media/image1.jpeg" ContentType="image/jpeg"/>
  <Override PartName="/ppt/media/image27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6F4-37B1-449B-9E07-A0099A42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428A-63AC-4B04-8CE5-4B909F29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7C00-2143-4E03-99CB-FF0958D4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EA9B-4926-4357-84E0-9A69A525E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860-8EF3-455F-93B1-CDB2AA60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AC2B-E7CE-4C41-A05C-4D7738AA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DF1-D48E-4B55-B6A4-D16AC8C9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745-7200-44AA-BA6E-D703C2BF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7A8-3B3C-424E-A222-F19370C6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2693-F3F3-41B3-BFE2-3AA14EEA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125-644C-4B0A-9454-90F3AC98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C77-4A12-4E2B-A1A7-76C88A3F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E8F7-560E-42DA-BE80-7D3A19EEE0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1.wmf"/><Relationship Id="rId3" Type="http://schemas.openxmlformats.org/officeDocument/2006/relationships/image" Target="../media/image4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067280" y="836640"/>
            <a:ext cx="3940200" cy="23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词五首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227640" y="350028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→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伤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8288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792000"/>
            <a:ext cx="8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62532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50864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此小令表现了一位因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心爱的人远行而独处深闺的女子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的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生活状况和内心情感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。景物层出，情感起伏，尽管多用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白描、直叙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的手法，却又含蓄、细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3967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梳洗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11276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独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86200" y="380880"/>
            <a:ext cx="2270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孤单寂寞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盼归心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836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→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希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3640" y="2087640"/>
            <a:ext cx="8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1752480"/>
            <a:ext cx="375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尽千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斜晖脉脉 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江水悠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56360" y="2276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→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失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53520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35812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21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内容赏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48320" y="842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黑体"/>
              </a:rPr>
              <a:t>情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088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是一首风格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清新、明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小词，不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个字，却容纳了很多内容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17002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时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而言，从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清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写到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黄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7432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景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而言，从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楼头、千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写到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斜晖、江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又写到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白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4149720"/>
            <a:ext cx="83059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就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人物内心情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而言，从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失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至最后的伤心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  <a:hlinkClick r:id="rId1" action="ppaction://hlinksldjump"/>
              </a:rPr>
              <a:t>“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  <a:hlinkClick r:id="rId2" action="ppaction://hlinksldjump"/>
              </a:rPr>
              <a:t>肠断”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536080" y="396252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李清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26920" y="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作者简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24360" y="0"/>
            <a:ext cx="54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李清照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南宋女词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号易安居士，山东济南人，我国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第一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女词人。她的词活泼灵动，语言清丽，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婉约派的代表人物之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所作词，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前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反映其悠闲生活，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后期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多悲叹身世，寓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故国黍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悲，情调感伤。给辛稼轩、陆游等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爱国词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深刻的影响。其词令慢均工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擅长白描，善用口语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被称为“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易安体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”。现传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《漱玉词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376704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-100080"/>
            <a:ext cx="87631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北宋败亡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后，李清照于建炎元年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12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来到南方，故乡青州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陷入金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手，她家中所藏的大批书籍文物被焚毁。建炎三年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12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丈夫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赵明诚病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后，金人挥兵南侵，李清照为避兵乱而只身各处流亡。绍兴五年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13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寓居在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浙江金华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写了这首《武陵春》词。这时她已经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岁了，经历了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国家败亡、家乡沦陷、文物丧失、丈夫病死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不幸遭遇，处境凄惨，内心极其悲痛。这首词中所反映的正是她真实的生活片断和思想情感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词作背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60280"/>
            <a:ext cx="43434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武陵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风住尘香花已尽，日晚倦梳头。物是人非事事休，欲语泪先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闻说双溪春尚好，也拟泛轻舟。只恐双溪舴艋舟，载不动，许多愁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00720" y="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黑体"/>
              </a:rPr>
              <a:t>暮春时节，鲜花经过春风的摇动已经零落殆尽，只有土地上还留有花的芬芳，日色已晚，自己仍无心梳洗。春天里花开花落年年如此，而人与以前却不一样了，我对一切都丧失了兴趣，即使有心诉说，也是言未出而泪先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4221000"/>
            <a:ext cx="4500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听人说双溪春色还不错，我也想去那里泛舟游赏，只怕是双溪上那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舴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般的小船，载不动我内心的沉重的哀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6320" y="-1317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解说大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4800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222016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00000" y="549360"/>
            <a:ext cx="65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《望江南》中，主人公是“梳洗罢”，而文中作者却“日晚倦梳头”，从中，你能体会到作者什么心态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2781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梳洗罢，是一种信心，一种希望，而“倦梳头”是一种放弃，一种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对生活毫无兴趣的悲凉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中可以看出作者的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满怀愁绪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11280" y="69228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闻说”“也拟”“只恐”这三个词说明了什么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5653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黑体"/>
              </a:rPr>
              <a:t>闻说”“也拟”“只恐”这三个动词写出了作者</a:t>
            </a:r>
            <a:r>
              <a:rPr b="1" lang="zh-CN" sz="4000" spc="-1" strike="noStrike">
                <a:solidFill>
                  <a:srgbClr val="000099"/>
                </a:solidFill>
                <a:latin typeface="Verdana"/>
                <a:ea typeface="黑体"/>
              </a:rPr>
              <a:t>试图排遣愁绪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黑体"/>
              </a:rPr>
              <a:t>的做法，前两个词给人一种</a:t>
            </a:r>
            <a:r>
              <a:rPr b="1" lang="zh-CN" sz="4000" spc="-1" strike="noStrike">
                <a:solidFill>
                  <a:srgbClr val="000099"/>
                </a:solidFill>
                <a:latin typeface="Verdana"/>
                <a:ea typeface="黑体"/>
              </a:rPr>
              <a:t>希望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黑体"/>
              </a:rPr>
              <a:t>，好像可以为作者松一口气，而“只恐”又让人</a:t>
            </a:r>
            <a:r>
              <a:rPr b="1" lang="zh-CN" sz="4000" spc="-1" strike="noStrike">
                <a:solidFill>
                  <a:srgbClr val="000099"/>
                </a:solidFill>
                <a:latin typeface="Verdana"/>
                <a:ea typeface="黑体"/>
              </a:rPr>
              <a:t>跌落到作者的万丈愁绪中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黑体"/>
              </a:rPr>
              <a:t>，三个词写出了作者的</a:t>
            </a:r>
            <a:r>
              <a:rPr b="1" lang="zh-CN" sz="4000" spc="-1" strike="noStrike">
                <a:solidFill>
                  <a:srgbClr val="000099"/>
                </a:solidFill>
                <a:latin typeface="Verdana"/>
                <a:ea typeface="黑体"/>
              </a:rPr>
              <a:t>沉重、无奈。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黑体"/>
              </a:rPr>
              <a:t>又紧紧抓住了作者的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1280" y="69228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本文是如何抒发作者感情的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1700280"/>
            <a:ext cx="79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黑体"/>
              </a:rPr>
              <a:t>作者通过</a:t>
            </a:r>
            <a:r>
              <a:rPr b="1" lang="zh-CN" sz="4800" spc="-1" strike="noStrike">
                <a:solidFill>
                  <a:srgbClr val="ff3300"/>
                </a:solidFill>
                <a:latin typeface="Verdana"/>
                <a:ea typeface="黑体"/>
              </a:rPr>
              <a:t>景色、典型细节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黑体"/>
              </a:rPr>
              <a:t>来抒情，即</a:t>
            </a:r>
            <a:r>
              <a:rPr b="1" lang="zh-CN" sz="4800" spc="-1" strike="noStrike">
                <a:solidFill>
                  <a:srgbClr val="ff3300"/>
                </a:solidFill>
                <a:latin typeface="Verdana"/>
                <a:ea typeface="黑体"/>
              </a:rPr>
              <a:t>间接抒情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黑体"/>
              </a:rPr>
              <a:t>。也</a:t>
            </a:r>
            <a:r>
              <a:rPr b="1" lang="zh-CN" sz="4800" spc="-1" strike="noStrike">
                <a:solidFill>
                  <a:srgbClr val="ff3300"/>
                </a:solidFill>
                <a:latin typeface="Verdana"/>
                <a:ea typeface="黑体"/>
              </a:rPr>
              <a:t>有直接抒情，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黑体"/>
              </a:rPr>
              <a:t>如“物是人非事事休，欲语泪先流。”使文章的风格既含蓄又直朴、率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692280"/>
            <a:ext cx="928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Times New Roman"/>
              </a:rPr>
              <a:t>作者内心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对故人的思念、浓郁的忧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189000"/>
            <a:ext cx="91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你从这首词中读出了诗人的什么情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252360" y="1341360"/>
            <a:ext cx="95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者内心浓重的愁绪是如何表达出来的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060640"/>
            <a:ext cx="914400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提示：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通过典型细节来抒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作者利用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日晚倦梳头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”和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欲语泪先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”两个外在的行为具体地表达了她内心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浓重哀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   “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闻说”“也拟”“只恐”这三个动词写出了作者试图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排遣愁绪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的做法，写出了作者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沉重、无奈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只恐双溪舴艋舟，载不动许多愁”，自己的愁重得连船都承载不动。作者用形象的说法形容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愁苦之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相关知识——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词是一种诗歌艺术形式，是中国古代诗体的一种，亦称宋词、曲子词、诗余、长短句。始于中国南北朝时期的南朝梁代，形成于唐代，在宋代达到其顶峰。一开始伴曲而唱，所以写词又称作填词、倚声。后来逐渐独立出来，成为一门专门的诗歌艺术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366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片极言眼前景物之不堪，心情之凄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00360" y="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首句</a:t>
            </a:r>
            <a:r>
              <a:rPr b="1" lang="zh-CN" sz="2800" spc="-1" strike="noStrike">
                <a:solidFill>
                  <a:srgbClr val="cc00ff"/>
                </a:solidFill>
                <a:latin typeface="黑体"/>
                <a:ea typeface="黑体"/>
              </a:rPr>
              <a:t>：尘土因花落而香，说明落花遍地，而这又反衬出风之狂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10526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次句：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写日色已高，而犹“倦”于梳头，从侧面揭示情怀之苦、心绪之乱 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206064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四句</a:t>
            </a:r>
            <a:r>
              <a:rPr b="1" lang="zh-CN" sz="2800" spc="-1" strike="noStrike">
                <a:solidFill>
                  <a:srgbClr val="cc00ff"/>
                </a:solidFill>
                <a:latin typeface="黑体"/>
                <a:ea typeface="黑体"/>
              </a:rPr>
              <a:t>：直抒胸臆，美好东西已尽皆丧失，无一留存 ，欲哭泪先流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333360"/>
            <a:ext cx="73080" cy="2489040"/>
          </a:xfrm>
          <a:custGeom>
            <a:avLst/>
            <a:gdLst>
              <a:gd name="textAreaLeft" fmla="*/ 46800 w 73080"/>
              <a:gd name="textAreaRight" fmla="*/ 73440 w 73080"/>
              <a:gd name="textAreaTop" fmla="*/ 64800 h 2489040"/>
              <a:gd name="textAreaBottom" fmla="*/ 2424240 h 248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789360"/>
            <a:ext cx="21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片进一步表现悲愁之深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5002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329256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闻说”二句宕开一笔，写自已有意泛舟双溪，观赏春光，精神似稍振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84360" y="43592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但“只恐”二句复又折回，跌衬出更趋深重的愁情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“愁”本无形，难以触摸，而今船载不动，则其重可知、其形可想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200" y="111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赏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1484280"/>
            <a:ext cx="93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问君能有几多愁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恰似一江春水向东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李煜《虞美人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57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剪不断，理还乱，是离愁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别是一般滋味在心头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李煜《相见欢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51577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抽刀断水水更流，举杯消愁愁更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李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《宣州谢眺楼饯别校书叔云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900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还知道哪些写愁的诗句？请列举出来。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4400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能概括出《望江南》和《武陵春》两首词的共同特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内容上以儿女之情为题材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语言清新、含蓄，情思曲折而真切；风格委婉，绮丽，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具有一种柔婉之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419640" y="3068640"/>
            <a:ext cx="5040000" cy="124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2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婉约派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"/>
          <p:cNvSpPr/>
          <p:nvPr/>
        </p:nvSpPr>
        <p:spPr>
          <a:xfrm>
            <a:off x="1569600" y="4508640"/>
            <a:ext cx="484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写作手法相近，借景抒情或直接抒情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抒发的感情相近，抒发主人公或作者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离愁别绪，凄惨心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6028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声声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寻寻觅觅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冷泠清清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凄凄惨惨戚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乍暖还寒时候，最难将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三杯两盏淡酒，怎敌他晚来风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雁过也，最伤心，却是旧时相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满地黄花堆积，憔悴损，如今有谁堪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守着窗儿，独自怎生得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梧桐更兼细雨，到黄昏点点滴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这次第，怎一个愁字了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34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黑体"/>
              </a:rPr>
              <a:t>李清照词作赏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00000" y="692280"/>
            <a:ext cx="72010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一剪梅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红藕香残玉簟秋。轻解罗裳，独上兰舟。云中谁寄锦书来？</a:t>
            </a: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雁字回时，月满西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花自飘零水自流。一种相思，两处闲愁。此情无计可消除，才下眉头，却上心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600"/>
            </a:b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44000" y="6165720"/>
            <a:ext cx="504720" cy="432000"/>
          </a:xfrm>
          <a:custGeom>
            <a:avLst/>
            <a:gdLst>
              <a:gd name="textAreaLeft" fmla="*/ 208080 w 504720"/>
              <a:gd name="textAreaRight" fmla="*/ 296640 w 50472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427640" y="0"/>
            <a:ext cx="4716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 </a:t>
            </a:r>
            <a:r>
              <a:rPr b="1" lang="zh-CN" sz="4000" spc="-1" strike="noStrike">
                <a:solidFill>
                  <a:srgbClr val="000000"/>
                </a:solidFill>
                <a:latin typeface="华文琥珀"/>
                <a:ea typeface="华文琥珀"/>
              </a:rPr>
              <a:t>范仲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89 —105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字希文，大中祥符八年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1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进士，授广德军司理参军。仁宗时，累迁吏部员外郎，权知开封府。康定元年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4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以龙图阁直学士，与韩琦并为陕西经略安抚副使，兼知延州，加强对西夏的防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403848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6278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这首词写景具有什么特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反映了作者什么样的情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90720" y="914400"/>
            <a:ext cx="838080" cy="2979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华文隶书"/>
              </a:rPr>
              <a:t>渔家傲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Times New Roman"/>
                <a:ea typeface="华文楷体"/>
                <a:hlinkClick r:id="rId1" action="ppaction://hlinksldjump"/>
              </a:rPr>
              <a:t>范仲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11970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上阕写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80880"/>
            <a:ext cx="2057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衡阳雁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边声连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千嶂孤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烟落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685800"/>
            <a:ext cx="304920" cy="2209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685800"/>
            <a:ext cx="76320" cy="2286000"/>
          </a:xfrm>
          <a:custGeom>
            <a:avLst/>
            <a:gdLst>
              <a:gd name="textAreaLeft" fmla="*/ 0 w 76320"/>
              <a:gd name="textAreaRight" fmla="*/ 2736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990720"/>
            <a:ext cx="1828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渲染荒凉萧瑟气氛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3962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下阕抒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1897200"/>
            <a:ext cx="762120" cy="6426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3352680"/>
            <a:ext cx="2666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家万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归无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羌管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霜满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燕然未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3505320"/>
            <a:ext cx="304560" cy="1600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3505320"/>
            <a:ext cx="304920" cy="167616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36496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抒发思乡报国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4724280"/>
            <a:ext cx="838080" cy="7034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2666880"/>
            <a:ext cx="0" cy="1905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2590920"/>
            <a:ext cx="53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借景抒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01000" y="1981080"/>
            <a:ext cx="0" cy="17528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5791320"/>
            <a:ext cx="6172200" cy="6426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苍凉悲壮，             沉郁雄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5486400"/>
            <a:ext cx="68580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7391520" y="4724280"/>
            <a:ext cx="761760" cy="1143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4840" y="31680"/>
            <a:ext cx="206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赏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257800" y="5105520"/>
            <a:ext cx="1371600" cy="1326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205092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4579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9640" y="765000"/>
            <a:ext cx="82249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此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词表现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边地的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荒寒和将士的劳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流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出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帅老无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乡关万里的怅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心声，同样也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表现了他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抵御外患、报国立功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黑体"/>
              </a:rPr>
              <a:t>的壮烈情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悲怆的情调还含蓄地表达了作者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黑体"/>
              </a:rPr>
              <a:t>对朝廷腐朽、软弱，不修武备、不重边功的愤懑不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其情调与唐人建功异域、追奔逐北的边塞诗迥不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此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慷慨悲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而更值得重视的则是，范仲淹以其守边的实际经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首创边塞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一扫花间派柔靡无骨的词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发豪放词之先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小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600200" y="152388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江城子  密州出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31240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80400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1" dur="57408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相关知识——词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词牌，也称为词格，是填词用的曲调名。词最初是伴曲而唱的，曲子都有一定的旋律、节奏。这些旋律、节奏的总和就是词调。词与调之间，或按词制调，或依调填词，曲调即称为词牌，其通常根据词的内容而定。宋后，词经过不断的发展产生变化，主要是根据曲调来填词，词牌与词的内容并不相关。当词完全脱离曲之后，词牌便仅作为文字、音韵结构的一种定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257800" cy="190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28600" y="5868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苏轼（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1037-1101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字子瞻，号东坡居士。诗、词、文、书、画均卓然大家。为“唐宋八大家”之一，在词学上，为北宋词坛豪放派主要作家之一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詞，是蘇軾四十歲時，在密州所作的狩獵詞。北宋詞壇，以婉約詞風為盛，蘇軾繼范仲淹之後，將豪放詞風加以擴大，一掃香澤柔弱之氣，其词内容突破“艳科”藩篱，吐纳社会人生，词章雄健，风格豪放，境界超然，因而廣大了詞的題材，開拓了詞的意境。《江城子 密州出獵》是蘇軾最早的一首豪放詞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715000" y="457200"/>
            <a:ext cx="3048120" cy="5181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0" y="333000"/>
            <a:ext cx="4199040" cy="604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苏轼的创作标志着北宋诗文革新运动的最高成就。他是唐宋八大家之一，散文辨析说理，精到透辟，富有气势，后人有“韩潮苏海”之说。他的诗歌，题材广阔，风格多样，意境深邃，富有情味。他的词摆脱崎丽宛转之风，扩大了词的题材，沁人耳目，又不拘格律束缚，在词的发展史上创立了豪放一派。有《苏东坡集》传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蘇軾像.jpg (28527 個位元組)"/>
          <p:cNvPicPr/>
          <p:nvPr/>
        </p:nvPicPr>
        <p:blipFill>
          <a:blip r:embed="rId1"/>
          <a:stretch/>
        </p:blipFill>
        <p:spPr>
          <a:xfrm>
            <a:off x="250920" y="1268280"/>
            <a:ext cx="4033800" cy="5112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  <p:sp>
        <p:nvSpPr>
          <p:cNvPr id="165" name=""/>
          <p:cNvSpPr txBox="1"/>
          <p:nvPr/>
        </p:nvSpPr>
        <p:spPr>
          <a:xfrm>
            <a:off x="468360" y="260280"/>
            <a:ext cx="29527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333333"/>
                  </a:solidFill>
                  <a:miter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作者简介</a:t>
            </a:r>
            <a:endParaRPr b="0" lang="en-US" sz="6600" spc="1" strike="noStrike">
              <a:ln w="19080">
                <a:solidFill>
                  <a:srgbClr val="333333"/>
                </a:solidFill>
                <a:miter/>
              </a:ln>
              <a:solidFill>
                <a:srgbClr val="00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1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03120" y="568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8200" y="4024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260280"/>
            <a:ext cx="61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9431f"/>
                </a:solidFill>
                <a:latin typeface="Arial"/>
                <a:ea typeface="华文隶书"/>
              </a:rPr>
              <a:t>你能概括上阙的内容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119700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描绘打猎的威武场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451640" y="5445000"/>
            <a:ext cx="1692360" cy="1413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8360" y="2205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这首词中你读出了什么情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304920" y="380880"/>
            <a:ext cx="1828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狂</a:t>
            </a:r>
            <a:endParaRPr b="1" lang="en-US" sz="54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189000"/>
            <a:ext cx="5185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一狂：</a:t>
            </a:r>
            <a:r>
              <a:rPr b="1" lang="zh-CN" sz="3600" spc="-1" strike="noStrike">
                <a:solidFill>
                  <a:srgbClr val="0000ff"/>
                </a:solidFill>
                <a:latin typeface="华文隶书"/>
                <a:ea typeface="黑体"/>
              </a:rPr>
              <a:t>太守出猎而须报 知人民跟随去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2133720"/>
            <a:ext cx="860436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二狂：</a:t>
            </a:r>
            <a:r>
              <a:rPr b="1" lang="zh-CN" sz="3600" spc="-1" strike="noStrike">
                <a:solidFill>
                  <a:srgbClr val="0000ff"/>
                </a:solidFill>
                <a:latin typeface="华文隶书"/>
                <a:ea typeface="黑体"/>
              </a:rPr>
              <a:t>出看而须“倾城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3284640"/>
            <a:ext cx="75614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三狂：</a:t>
            </a:r>
            <a:r>
              <a:rPr b="1" lang="zh-CN" sz="3600" spc="-1" strike="noStrike">
                <a:solidFill>
                  <a:srgbClr val="0000ff"/>
                </a:solidFill>
                <a:latin typeface="华文隶书"/>
                <a:ea typeface="黑体"/>
              </a:rPr>
              <a:t>猎必射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6920" y="518148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四狂：</a:t>
            </a:r>
            <a:r>
              <a:rPr b="1" lang="zh-CN" sz="3600" spc="-1" strike="noStrike">
                <a:solidFill>
                  <a:srgbClr val="0000ff"/>
                </a:solidFill>
                <a:latin typeface="华文隶书"/>
                <a:ea typeface="黑体"/>
              </a:rPr>
              <a:t>自比孙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1341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明确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年纪不小，但仍有少年狂气；塑造了一个力挽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弓射天狼的英雄形象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表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希望重新受朝廷重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表要抵御侵略者，建功立业的决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33336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亲射虎”“遣冯唐”“射天狼”三个典故分别表达了什么意思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01940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这首词通过描写一次出猎的壮观场面，借历史典故抒发作者杀敌为国的雄心壮志，表达了为国效命的坚定决心和爱国思想，并委婉的表达了期盼得到朝廷重用的愿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11280" y="3357720"/>
            <a:ext cx="345600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小结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2340000" y="907920"/>
            <a:ext cx="2952720" cy="3710880"/>
            <a:chOff x="2340000" y="907920"/>
            <a:chExt cx="2952720" cy="3710880"/>
          </a:xfrm>
        </p:grpSpPr>
        <p:sp>
          <p:nvSpPr>
            <p:cNvPr id="184" name=""/>
            <p:cNvSpPr/>
            <p:nvPr/>
          </p:nvSpPr>
          <p:spPr>
            <a:xfrm>
              <a:off x="2340000" y="1413000"/>
              <a:ext cx="1368360" cy="58140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上 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40000" y="3500280"/>
              <a:ext cx="1368360" cy="58140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下 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51280" y="907920"/>
              <a:ext cx="1441440" cy="14770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出 猎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情 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1280" y="3141720"/>
              <a:ext cx="1441440" cy="14770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报 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之 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651640" y="404640"/>
            <a:ext cx="1225440" cy="4337640"/>
            <a:chOff x="5651640" y="404640"/>
            <a:chExt cx="1225440" cy="4337640"/>
          </a:xfrm>
        </p:grpSpPr>
        <p:sp>
          <p:nvSpPr>
            <p:cNvPr id="189" name=""/>
            <p:cNvSpPr/>
            <p:nvPr/>
          </p:nvSpPr>
          <p:spPr>
            <a:xfrm>
              <a:off x="5651640" y="404640"/>
              <a:ext cx="1225440" cy="13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</a:rPr>
                <a:t>豪  情英  姿阵  容场  面气  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51640" y="2924280"/>
              <a:ext cx="1225440" cy="181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</a:rPr>
                <a:t>信 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</a:rPr>
                <a:t>忠 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99"/>
                  </a:solidFill>
                  <a:latin typeface="Arial"/>
                </a:rPr>
                <a:t>雄 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95280" y="1773360"/>
            <a:ext cx="1871640" cy="1944720"/>
            <a:chOff x="395280" y="1773360"/>
            <a:chExt cx="1871640" cy="1944720"/>
          </a:xfrm>
        </p:grpSpPr>
        <p:sp>
          <p:nvSpPr>
            <p:cNvPr id="192" name=""/>
            <p:cNvSpPr/>
            <p:nvPr/>
          </p:nvSpPr>
          <p:spPr>
            <a:xfrm>
              <a:off x="2050920" y="1773360"/>
              <a:ext cx="216000" cy="194472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50400 h 1944720"/>
                <a:gd name="textAreaBottom" fmla="*/ 1894320 h 19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5280" y="1989000"/>
              <a:ext cx="1440000" cy="106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借出猎表达报国决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7236000" y="1844640"/>
            <a:ext cx="1618920" cy="16304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风 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豪 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16000" y="4724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词的上下片各写什么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528804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上下片分别从哪些角度来写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04840" y="58212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请你概括这首词的思想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16000" y="62784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请你说说这首词的艺术风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3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77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77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9" dur="77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1640" y="1988640"/>
            <a:ext cx="6192720" cy="4032360"/>
          </a:xfrm>
          <a:prstGeom prst="rect">
            <a:avLst/>
          </a:prstGeom>
          <a:noFill/>
          <a:ln w="9360">
            <a:solidFill>
              <a:srgbClr val="ff66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这首词风格豪放，对当时流行的以柳永为代表的抒写柔媚情趣的婉约词风有较大突破，独成一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32000" y="620640"/>
            <a:ext cx="230364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赏   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8964720" cy="35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江城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苏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乙卯正月二十日夜记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年生死两茫茫，不思量，自难忘。千里孤坟，无处话凄凉。纵使相逢应不识，尘满面，鬓如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来幽梦忽还乡，小轩窗，正梳妆。相顾无言，惟有泪千行。料得年年肠断处：明月夜，短松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题记中“乙卯”年指的是宋神宗熙宁八年（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075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），其时苏东坡任密州（今山东诸城）知州，年已四十。正月二十日这天夜里，他梦见爱妻王弗，便写下了这首“有声当彻天，有泪当彻泉”（陈师道语）的悼亡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补充阅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534640" y="1523880"/>
            <a:ext cx="2009160" cy="25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Arial"/>
                <a:ea typeface="隶书"/>
              </a:rPr>
              <a:t>破阵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88360" y="3657600"/>
            <a:ext cx="115524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辛弃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038480" y="22860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辛弃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1140--1207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字幼安，号稼轩，著有《稼轩词》，存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首。强烈的爱国主义思想和战斗精神是辛词的基本思想内容，他是山东济南人，出生时山东已被金兵占领，年轻时参加抗金军，后来提出抗金主张一直未被采纳。它既有经邦济世之才，又有廓清天下之职，个人经历，颇富传奇色彩，词作充满爱国豪情和英雄气概，嬉笑怒骂，皆成妙笔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3504960" cy="62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相关知识——“婉约词派”与“豪放词派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528560"/>
            <a:ext cx="8229600" cy="53290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我国古代词人，大致可分为“婉约词派”“豪放词派”两大派。婉约派以秦观、李清照为代表。在内容上坚持“诗庄词媚”的主张，多以艳情为题材；在形式上则以蕴藉雅正见长，严守音律，讲究含蓄，语言精丽而清新，情思曲折而真切。风格委婉、绮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          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豪放词派”以苏轼、辛弃疾为代表。它题材广泛，而且更喜摄取军情国事那样的重大题材入词，使词能象诗文一样地反映生活，所谓“无言不可入，无事不可入”。它境界宏大，气势恢弘、不拘格律、汪洋恣意、崇尚直率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0"/>
            <a:ext cx="8964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他出生时家乡已被金所占领，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二十一岁参加耿京领导的抗金起义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他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曾不顾官职低微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进《九议》、《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美芹十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》等奏疏，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具体分析南北政治军事形势，提出加强实力、适时进兵、恢复中原、统一中国的大计，均未被采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后任司农寺主簿，出知滁州、知江陵府兼湖北安抚使、知隆兴府兼江西安抚使、湖北转运副使、知潭州兼湖南安抚使等，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任职期间，都采取积极措施召集流亡，训练军队，奖励耕战，打击豪强以利国便民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后被诬落职，先后在信州上饶、铅山两地闲居近二十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晚年被起用知绍兴府兼浙江安抚使、知镇江府。在镇江任上，他特别重视伐金的准备工作，但为权相韩侂胄所忌，落职。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一生抱负未得伸展，终因忧愤而卒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据说他临终时还大呼“杀贼！杀贼”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辛词现存六百多首，是两宋存词最多的作家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其词多以国家、民族的现实问题为题材，抒发慷慨激昂的爱国之情。这些作品大都基调昂扬，热情奔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此外，其描写农村景物和反映农家生活的作品，如《清平乐》（茅檐低小）、《西江月》（明月别枝惊鹊）、都富有生活气息，给人以清新之感。其抒情小词，如〈丑奴儿〉（少年不识愁滋味）、〈青玉案〉（东风夜放花千树）等，写得储蓄蕴藉，言短意长。辛词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继承了苏轼豪放词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南宋初期爱国词人的战斗传统，进一步开拓了词的境界，扩大了词的题材，几乎达到无事无意不可入词的地步，又创造性地融汇了诗歌、散文、辞赋等各种文学形式的优点，丰富了词的表现手法，形成了辛词的独特风格。辛词以豪放为主，但又不拘一格，沈郁、明快、激励、妩媚，兼而有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04920" y="0"/>
            <a:ext cx="434340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破 阵 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陈同甫赋壮语以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　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辛弃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醉里挑灯看剑，梦回吹角连营。八百里分麾下炙，五十弦翻塞外声。沙场秋点兵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马作的卢飞快，弓如霹雳弦惊。了却君王天下事，赢得生前身后名。可怜白发生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00600" y="3333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黑体"/>
              </a:rPr>
              <a:t>夜里酒醉后挑亮灯光观看宝剑，在梦中听到众多军营里传来的号角声，在军营里与部下分食牛肉，听乐器奏出塞外的歌曲。在秋天的战场上检阅军队，准备战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3280" y="378936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战场上骑着飞快的的卢马，拉着气势极强的雕弓。要为朝廷完成统一大业，赢得生前的功勋，身后的美名。可是自己已经年近半百，还有机会实现自己的理想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211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6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0" dur="114688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可以从思想情感或语言风格上来谈谈这首词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50920" y="3213000"/>
            <a:ext cx="83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黑体"/>
              </a:rPr>
              <a:t>结句笔锋急转，“可怜白发生”是梦醒后的叹息，表达了雄志未筹而年纪已老的境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  <a:ea typeface="黑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4762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首句叙写了现实生活，“看剑”表现他不忘收复中原的大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557360"/>
            <a:ext cx="8964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从“梦回”句起到“赢得”句止，通过写梦，从各个角度来想象抗金军队的雄壮军容和自己为国家立下不朽功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4221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本文凭什么可以称得上是“壮词”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479736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明确：从题材看写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军营生活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；从情感看表达了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建功立业的雄心壮志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；从语言看豪放、壮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19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赏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4920" y="1447920"/>
            <a:ext cx="853416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其一，构思层层递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整首词按照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醉态—梦境—现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谋篇布局，有条不紊。梦境中又展现了“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战前准备、沙场点兵、冲锋陷阵、功成名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的多方面情形，生动的描绘了一个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爱国者驰骋沙场的全过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环环相扣，层层递进，从而领略到作者运笔自如而又章法严谨的特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45720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华文中宋"/>
                <a:ea typeface="华文中宋"/>
              </a:rPr>
              <a:t>这首词基调豪迈高昂，大气磅礴，艺术成就极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95280" y="685800"/>
            <a:ext cx="79866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其二，结构奇特巧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华文中宋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双调词一般是上片写景，下篇抒情。这首词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打破了这种格式，首尾两句相互照应，描写现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中间八句一气呵成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描写梦境，梦境里追忆往事，豪迈激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现实中壮志难酬，沉痛悲愤，二者对比鲜明，深化主题。这种奇特巧妙的结构与内容配合得天衣无缝，显示了辛弃疾在艺术上的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独创精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332000" y="227664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Verdana"/>
              </a:rPr>
              <a:t>比较阅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705720" y="1143000"/>
            <a:ext cx="1904760" cy="3733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67480" y="1143000"/>
            <a:ext cx="838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渔家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3581280"/>
            <a:ext cx="6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秋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359400" y="3048120"/>
            <a:ext cx="1033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范仲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-1143000" y="0"/>
            <a:ext cx="4746600" cy="4473720"/>
            <a:chOff x="-1143000" y="0"/>
            <a:chExt cx="4746600" cy="4473720"/>
          </a:xfrm>
        </p:grpSpPr>
        <p:sp>
          <p:nvSpPr>
            <p:cNvPr id="234" name=""/>
            <p:cNvSpPr/>
            <p:nvPr/>
          </p:nvSpPr>
          <p:spPr>
            <a:xfrm>
              <a:off x="-1143000" y="0"/>
              <a:ext cx="1714680" cy="44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1680" y="0"/>
              <a:ext cx="3031920" cy="447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809680" y="1066680"/>
            <a:ext cx="91188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塞下秋来风景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75440" y="3809880"/>
            <a:ext cx="5461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衡阳雁去无留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08040" y="609480"/>
            <a:ext cx="91188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面边声连角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73800" y="3048120"/>
            <a:ext cx="54612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千嶂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9640" y="4191120"/>
            <a:ext cx="546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长烟落日孤城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270320" y="990720"/>
            <a:ext cx="546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浊酒一杯家万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46640" y="3581280"/>
            <a:ext cx="546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燕然未勒归无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95080" y="609480"/>
            <a:ext cx="911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羌管悠悠霜满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2760" y="3429000"/>
            <a:ext cx="91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不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41520" y="609480"/>
            <a:ext cx="5461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军白发征夫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793840" y="1046160"/>
            <a:ext cx="911880" cy="27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塞下秋来风景异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59600" y="3789360"/>
            <a:ext cx="546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衡阳雁去无留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0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-117360"/>
            <a:ext cx="9144000" cy="7091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432080" y="685800"/>
            <a:ext cx="1839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76360" y="380880"/>
            <a:ext cx="1647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30492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</a:rPr>
              <a:t>江城子</a:t>
            </a:r>
            <a:br>
              <a:rPr sz="4000"/>
            </a:br>
            <a:r>
              <a:rPr b="1" lang="zh-CN" sz="4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密州出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1981080"/>
            <a:ext cx="63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老夫聊发少年狂，左牵黄，右擎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3520" y="25146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锦帽貂裘、千骑卷平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10080" y="3048120"/>
            <a:ext cx="34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为报 倾城随太守，亲射虎，看孙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61840" y="4114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酒酣胸胆尚开张，鬓微霜，又何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94080" y="46483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持节云中、何日遣冯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81840" y="51814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会挽雕弓如满月，西北望，射天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2080" y="146988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苏 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2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词是唐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五代兴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一种配乐歌唱的诗体，产生于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隋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之际，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中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有较多文人从事创作，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晚唐五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渐趋繁荣，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鼎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期出现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在宋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词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也称曲、曲子词、乐府、诗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又因句子参差不齐而称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长短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词，早先都是入乐的，要按照曲调的要求来写，所以作词又叫“填词”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每一个曲调都有一个名称，叫“词牌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如《满江红》、《蝶恋花》等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词牌规定着这首诗的字数、句数和平仄声韵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按字数的多少分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小令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58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字以内）、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中调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59-9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字）和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长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字以上）三种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词从结构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多数是分段的，称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片和下片或上阙和下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0" y="60948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808080"/>
                </a:solidFill>
                <a:latin typeface="Arial Unicode MS"/>
                <a:ea typeface="隶书"/>
              </a:rPr>
              <a:t>破阵子</a:t>
            </a:r>
            <a:br>
              <a:rPr sz="3600"/>
            </a:br>
            <a:r>
              <a:rPr b="0" lang="zh-CN" sz="3600" spc="-1" strike="noStrike">
                <a:solidFill>
                  <a:srgbClr val="808080"/>
                </a:solidFill>
                <a:latin typeface="Arial Unicode MS"/>
                <a:ea typeface="隶书"/>
              </a:rPr>
              <a:t>  为陈同甫赋壮词以寄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6248520"/>
            <a:ext cx="381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 Unicode MS"/>
                <a:ea typeface="隶书"/>
              </a:rPr>
              <a:t>可怜 白发生！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14400" y="3048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 Unicode MS"/>
                <a:ea typeface="隶书"/>
              </a:rPr>
              <a:t>醉里挑灯看剑，梦回吹角连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00200" y="365760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 Unicode MS"/>
                <a:ea typeface="隶书"/>
              </a:rPr>
              <a:t>八百里分麾下炙，五十弦翻塞外 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950560" y="42670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 Unicode MS"/>
                <a:ea typeface="隶书"/>
              </a:rPr>
              <a:t>沙场点秋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19120" y="5029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 Unicode MS"/>
                <a:ea typeface="隶书"/>
              </a:rPr>
              <a:t>马作的卢飞快，弓如霹雳弦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96960" y="56386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 Unicode MS"/>
                <a:ea typeface="隶书"/>
              </a:rPr>
              <a:t>了却君王天下事，赢得生前身后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905120"/>
            <a:ext cx="2819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隶书"/>
              </a:rPr>
              <a:t>  </a:t>
            </a:r>
            <a:r>
              <a:rPr b="0" lang="zh-CN" sz="3200" spc="-1" strike="noStrike">
                <a:solidFill>
                  <a:srgbClr val="808080"/>
                </a:solidFill>
                <a:latin typeface="Arial Unicode MS"/>
                <a:ea typeface="隶书"/>
              </a:rPr>
              <a:t>辛弃疾</a:t>
            </a:r>
            <a:r>
              <a:rPr b="0" lang="zh-CN" sz="3200" spc="-1" strike="noStrike">
                <a:solidFill>
                  <a:srgbClr val="000000"/>
                </a:solidFill>
                <a:latin typeface="Arial Unicode MS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8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04920" y="533520"/>
            <a:ext cx="1371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83808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词的惯例是上片写景或叙事，下片抒情言志。这三首词上片分别写了什么景或事？各有什么特点？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片分别抒发了什么感情？有何异同？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三首词总体上有什么异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228600" y="763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819520" y="601992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685800" y="6019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5"/>
          <a:stretch/>
        </p:blipFill>
        <p:spPr>
          <a:xfrm>
            <a:off x="5410080" y="6019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7772400" y="59436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0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2" dur="1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9144000" cy="6934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课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写景或叙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抒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总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隶书"/>
                        </a:rPr>
                        <a:t>渔家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隶书"/>
                        </a:rPr>
                        <a:t>秋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隶书"/>
                        </a:rPr>
                        <a:t>江城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隶书"/>
                        </a:rPr>
                        <a:t>密州出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隶书"/>
                        </a:rPr>
                        <a:t>破阵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隶书"/>
                        </a:rPr>
                        <a:t>为陈同甫赋壮词以寄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3184560" y="-22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6384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45800" y="1125360"/>
            <a:ext cx="12474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塞下秋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寒冷荒凉</a:t>
            </a:r>
            <a:br>
              <a:rPr sz="2800"/>
            </a:b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戒备森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56000" y="2852640"/>
            <a:ext cx="2087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猎：</a:t>
            </a: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雄壮开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00360" y="4653000"/>
            <a:ext cx="167436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忆军旅生活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豪放激烈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具有英雄气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780000" y="1138320"/>
            <a:ext cx="37447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乡，爱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渴望建功立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6000" y="2781360"/>
            <a:ext cx="273708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渴望被重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国效力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56000" y="4886280"/>
            <a:ext cx="316872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渴望建功立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壮志未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抑郁愤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48360" y="1628640"/>
            <a:ext cx="259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相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感情，都与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国紧密联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风格，开阔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雄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同：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感情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侧重点略不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-18144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根据以上三首词总结一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豪放派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豪放派词作的特点是题材广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尤喜摄取军情国事那样的重大题材入词，使词能象诗文一样地反映生活，所谓“无言不可入，无事不可入”。它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境界宏大，气势恢弘、不拘格律、汪洋恣意、崇尚直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而不以含蓄婉曲为能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豪放词的发展阶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范仲淹写《渔家傲》，发豪放词之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先声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称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预备阶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苏轼大力提倡写壮词，豪放派由此进入第二阶段即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奠基阶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苏轼之后，经贺铸中传，加上靖康事变的引发，豪放词派获得迅猛发展，集为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大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这是第三阶段即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顶峰阶段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这一时期产生了豪放词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领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辛弃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971640" y="3500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婉约派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：内容上以儿女之情为题材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语言清新、含蓄，情思曲折而真切；风格委婉，绮丽。代表人物：李清照、温庭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00000" y="40464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豪放派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内容上多以抒发强烈的政治热 情，豪爽的英雄本色；语言畅达流利，直抒胸臆；风格豪迈奔放，意境雄奇阔大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由北宋词人苏轼开创，经南宋词人辛弃疾发展而推向高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939636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感受“婉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望江南》抒写一个女子迎候心上人的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间：清晨→黄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景物：家中→楼头→千帆→斜晖→江水→小洲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情感：希望→失望→肠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武陵春》抒写作者心中的愁苦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间：春日（暮春时节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上阕——春风劲吹　落花满地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倦梳头　物是人非　欲语泪流　（记实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阕——闻说春好　拟泛轻舟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恐舟轻愁重　（写虚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感受“豪放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江城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密州出猎》①内容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阕写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出猎时的壮阔场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“牵”、“擎”、“卷”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极写出行狩猎的气势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阕表达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为国杀敌的雄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“挽”、“望”、“射”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极写杀敌报国的热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典故理解：“亲射虎”、“遣冯唐”、“射天狼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破阵子　为陈同甫赋壮词以记之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内容分析：前九句写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军营生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看宝剑，听号角，分麾下炙，听塞外声，沙场点兵，骑快马，挽强弓，建立功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一句抒悲壮情怀——可怜白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典故理解：“八百里”、“五十弦”、“马作的卢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1280" y="691920"/>
            <a:ext cx="853272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渔家傲》：塞下景色（寒冷、荒凉、戒备森严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江城子》：打猎（雄壮、开阔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破阵子》：军旅生活（豪放、激烈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渔家傲》：思乡、爱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江城子》：渴望被重用、爱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破阵子》：壮志未酬的悲愤、爱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词是唐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五代兴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一种配乐歌唱的诗体，产生于隋唐之际，中唐后有较多文人从事创作，晚唐五代渐趋繁荣，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鼎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期出现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在宋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词是古代诗歌的一个分支，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也称曲、曲子词、乐府、诗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又因句子参差不齐而称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长短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词，早先都是入乐的，要按照曲调的要求来写，所以作词又叫“填词”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每一个曲调都有一个名称，叫“词牌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如《满江红》、《蝶恋花》等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词牌规定着这首诗的字数、句数和平仄声韵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按字数的多少分小令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58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字以内）、中调（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59-9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字）和长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9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字以上）三种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词从结构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多数是分段的，称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上片和下片或上阙和下阙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50920" y="-360"/>
            <a:ext cx="813744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柳永词的语言特点　　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他一方面善于化用以前诗歌中的语汇和意象，如《八声甘州》中“误几回、天际识归舟”出于南朝谢朓诗，《满朝欢》中“人面桃花，未知何处，但掩朱扉悄悄”，出于唐代崔护诗，以此增添与原诗内涵相关的联想，并达到雅化的效果，但通常不因此而显得深涩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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33336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温庭筠和花间词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0792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温庭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本名歧，字飞卿，太原祁县人。他精通音乐，文思敏捷，传说他作诗，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八叉手而成八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故有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温八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之称。他年轻时行无检束，生活放荡，长期出人歌楼妓馆。不为统治者所喜。他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屡试不第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却常替人作文。温庭筠是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唐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人中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第一个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大量写词的人。他以自己的创作实践奠定了词这种文学样式在文坛上的地位。他的词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多写闺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较少政治内容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极尽“艳丽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能事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花间词派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尊他为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花间鼻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24000" y="476280"/>
            <a:ext cx="74167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另一方面，他也善于运用口语俚句，如《昼夜乐》“早知恁地难拼，悔不当初留住”，《忆帝京》“万种思量，多方开解，只恁寂寞厌厌地，系我一生心，负你千行泪”等等，虽有时失于粗糙，但也使词更自然流畅。总的说来，柳永词的语言不以典丽为长，大都写得比较直率明白，很少掩饰假借之处，与其他词人不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867564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【双调】 雨霖铃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寒蝉凄切。对长亭晚，骤雨初歇。都门帐饮无绪，留恋处、兰舟催发。执手相看泪眼，竟无语凝噎。念去去、千里烟波，暮霭沉沉楚天阔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多情自古伤离别。更那堪、冷落清秋节。今宵酒醒何处，杨柳岸、晓风残月。此去 经年，应是良辰、好景虚设。便纵有、千种风情，更与何人说。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5280" y="-360"/>
            <a:ext cx="76327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八声甘州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对潇潇、暮雨洒江天，一番洗清秋。渐霜风凄惨，关河冷落，残照当楼。是处红衰 翠减，苒苒物华休。惟有长江水，无语东流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不忍登高临远，望故乡渺邈，归思难收。叹年来踪迹，何事苦淹留。想佳人、妆楼望，误几回、天际识归舟。争知我、倚阑干处，正恁凝愁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4920" y="189000"/>
            <a:ext cx="820908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念奴娇 赤壁怀古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大江东去，浪淘尽，千古风流人物。故垒西边，人道是、三国周郎赤壁。乱石穿空，惊涛拍岸，卷起千堆雪。江山如画，一时多少豪杰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遥想公谨当年，小乔初嫁了，雄姿英发。羽扇纶巾，谈笑间、强虏灰飞烟灭。故国神游，多情应笑我，早生华发。人间如梦，一尊还酹江月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627280" y="2924280"/>
            <a:ext cx="56167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33ff"/>
                </a:solidFill>
                <a:latin typeface="Arial"/>
              </a:rPr>
              <a:t>《词五首》的</a:t>
            </a:r>
            <a:br>
              <a:rPr sz="7200"/>
            </a:br>
            <a:r>
              <a:rPr b="0" lang="zh-CN" sz="7200" spc="-1" strike="noStrike">
                <a:solidFill>
                  <a:srgbClr val="3333ff"/>
                </a:solidFill>
                <a:latin typeface="Arial"/>
              </a:rPr>
              <a:t>研讨与练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71840" y="76500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</a:rPr>
              <a:t>请翻到课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4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4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背诵这五首词，回答下列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97200" y="981000"/>
            <a:ext cx="7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．《望江南》描写的是什么内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332000" y="1484280"/>
            <a:ext cx="55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这首小词表现了一位因心上人远行而独处深闺的女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的生活状况和内心情感。她清晨梳洗后登楼远眺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盼望自己的心上人早些归来，但是“千帆过尽”却仍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不见归人，她被相思折磨得柔肠寸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927880" y="2708280"/>
            <a:ext cx="32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．《渔家傲》所写的塞下风景“异”在哪里？表达了词人怎样的思想感情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76360" y="321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6920" y="328464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《渔家傲》描述了与中原地区完全不同的塞外景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衡阳雁去”，秋天边塞的大雁向衡阳飞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表明塞下天气极寒冷，与作者的家乡吴地（今江苏吴县）大不相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四面边声连角起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风吼、马嘶，同不断起伏的号角声混杂在一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构成了塞下特异的声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这种“边声”当然也是中原所没有的。“千嶂里，长烟落日孤城闭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座落在崇山峻岭间的孤城，当暮霭生成、夕阳西下时，便紧紧地关闭了城门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这里当然和内地城市华灯初上时的景象迥然不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这也点明了战事吃紧、戒备森严的特殊背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6192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．在《武陵春》中词人是如何表现愁苦之情的？</a:t>
            </a:r>
            <a:br>
              <a:rPr sz="2000"/>
            </a:b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“闻说”“也拟”“只恐”表现了词人怎样的感情变化过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5584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1268280"/>
            <a:ext cx="864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利用“日晚倦梳头”和“欲语泪先流”两个外在的行为具体地表达了自己内心的浓重哀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闻说双溪春尚好，也拟泛轻舟”。听人说双溪春色还不错，诗人也曾产生了去那里泛舟的念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她想去双溪泛舟并不是贪恋美景、游赏心切，而是要寻求一个消除愁苦的办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不过，转而却又否定了自己的计划。“只恐双溪舴艋舟，载不动许多愁”，怕的是双溪上那蚱蜢般的小船载不动自己内心沉重的哀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哀愁本是看不见摸不着的，可是词人却把它比做可承载可触摸的实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，说自己的愁重得连船都承载不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5280" y="3573360"/>
            <a:ext cx="853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．《江城子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密州出猎》中“亲射虎”“遣冯唐”“射天狼”的典故分别表达什么意思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79480" y="401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71640" y="4076640"/>
            <a:ext cx="64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亲射虎”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展现了作者虽然年纪已经不小，但是仍有着少年狂气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. “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遣冯唐”是以魏尚自喻，表达作者希望朝廷能像派冯唐赦魏尚那样重用自己；“射天狼”用以代指从西北来进扰的西夏军队。苏轼在结句表达了自己要报效国家，抵御入侵者，建功立业的决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632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．辛弃疾说自己写《破阵子》是“赋壮词”，试结合作品加以解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42840" y="1197000"/>
            <a:ext cx="820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赋壮词”，从题材上看是写军营中的生活情景，看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听角声和塞外曲，分八百里炙，沙场点兵，骑快马，挽强弓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这种种情境都极勇猛、雄健；从思想感情上看表达的是为国立功的雄心壮志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从语言风格上看壮丽而不“纤巧”，所以叫做“赋壮词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26920" y="2349360"/>
            <a:ext cx="581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二、“酒”在古代诗词中很常见，如“浊酒一杯家万里”“酒酣胸胆尚开张”“醉里挑灯看剑”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请你再找出一些与“酒”有关的诗句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把它们摘抄下来，归纳一下，诗人往往借“酒”抒发的是怎样的感情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573360"/>
            <a:ext cx="42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对酒当歌，人生几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花间一壶酒，独酌无相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人生得意须尽欢，莫使金樽空对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莫思身外无穷事，且尽生前有限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声来枕上千年鹤，影落杯中五老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99"/>
                </a:solidFill>
                <a:latin typeface="Arial"/>
              </a:rPr>
              <a:t>百年愁里过，万感醉中来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56000" y="342900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3333ff"/>
                </a:solidFill>
                <a:latin typeface="Arial"/>
              </a:rPr>
              <a:t>感慨时间流逝无情，人的生命像朝露一样短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211640" y="3716280"/>
            <a:ext cx="31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0" lang="zh-CN" sz="1600" spc="-1" strike="noStrike">
                <a:solidFill>
                  <a:srgbClr val="3333ff"/>
                </a:solidFill>
                <a:latin typeface="Arial"/>
              </a:rPr>
              <a:t>表达作者孤独，寂寞之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42560" y="4005360"/>
            <a:ext cx="8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ff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3333ff"/>
                </a:solidFill>
                <a:latin typeface="Arial"/>
              </a:rPr>
              <a:t>及时行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70880" y="4292640"/>
            <a:ext cx="18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3333ff"/>
                </a:solidFill>
                <a:latin typeface="Arial"/>
              </a:rPr>
              <a:t>抛却烦恼，享受快乐人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56000" y="45813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ff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3333ff"/>
                </a:solidFill>
                <a:latin typeface="Arial"/>
              </a:rPr>
              <a:t>显示了溪居的主人是一个超凡脱俗的世外高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764600" y="4869000"/>
            <a:ext cx="12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3333ff"/>
                </a:solidFill>
                <a:latin typeface="Arial"/>
              </a:rPr>
              <a:t>表达惆怅的心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于温庭筠和花间词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76280"/>
            <a:ext cx="914400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花间词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五代西蜀的一个词派。词在晚唐受社会风气的感染，渐渐背离了题材广泛、风格多样的特色，走上了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剪翠裁红、调脂弄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歧途，专在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女人的容貌、服饰和姿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下功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晚唐词人温庭筠的作品代表着这种创作倾向。在温庭筠死后半个世纪，五代西蜀的赵承祚收集温庭筠、皇甫松、韦庄、薛昭蕴等十八家词五百首编成《花间集》。此派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尊温庭筠为鼻祖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以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韦庄成就最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写闺情，写离别相思，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风格绮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在当时颇有影响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其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诗与李商隐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齐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称“温李”；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词与韦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齐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称“温韦”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117360"/>
            <a:ext cx="9144000" cy="6975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04640"/>
            <a:ext cx="3924360" cy="484560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《望江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温庭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梳洗罢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独倚望江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过尽千帆皆不是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斜晖脉脉水悠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肠断白蘋洲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765000"/>
            <a:ext cx="50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晨刚刚梳洗完毕，就独自一人登上望江楼，凭栏眺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038480" y="3124080"/>
            <a:ext cx="5105520" cy="373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40360" y="4797360"/>
            <a:ext cx="50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看看那当年同爱人分手的白频洲，不由得愁肠寸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5640" y="2421000"/>
            <a:ext cx="49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大江之上，千帆驶过，但哪一条船都不是我所思念的人的归舟，斜阳夕晖脉脉无言，江水悠悠不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35480" y="84240"/>
            <a:ext cx="40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说说词的大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84328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5478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156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970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此词描写了一位因心爱的人远行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独处深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的女子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生活状况和内心情感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给人一种淡淡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忧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252360" y="260280"/>
            <a:ext cx="102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读了这首词，你从中体会到了什么内容或情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3:22:35Z</dcterms:created>
  <dc:creator/>
  <dc:description/>
  <dc:language>en-US</dc:language>
  <cp:lastModifiedBy/>
  <dcterms:modified xsi:type="dcterms:W3CDTF">2013-02-19T07:28:55Z</dcterms:modified>
  <cp:revision>0</cp:revision>
  <dc:subject/>
  <dc:title/>
</cp:coreProperties>
</file>