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8F8-EBA8-40E9-8A5A-9CF3618C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BFC-65B2-438C-836B-91776C45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F37-6EE8-473E-9084-BAF8447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567-817A-475A-AF9E-DB22472B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494-2516-4FC5-A22B-E8C12F42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D73-4471-4574-BB82-7AEA4B1E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3C1-EEC5-4401-9AE3-9252FE5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E7F-96B2-43F2-95E1-BB1F4B2B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5C2-4951-465A-A99A-EC62811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1C2-846E-4790-B228-3795489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6AE-6F08-4571-A3D7-B7322AD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227-8F77-4C57-89D6-0876224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3C2-5D0D-4166-B071-52C07232C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b0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397480" cy="594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3500280" cy="417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18900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人教版小学语文六年级下册第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40360" y="6237360"/>
            <a:ext cx="4763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江西省九江市湖口县三里小学  朱江英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396000" y="263592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ecb06e"/>
                    </a:gs>
                    <a:gs pos="50000">
                      <a:srgbClr val="ff0066"/>
                    </a:gs>
                    <a:gs pos="100000">
                      <a:srgbClr val="ecb06e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手指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ecb06e"/>
                  </a:gs>
                  <a:gs pos="50000">
                    <a:srgbClr val="ff0066"/>
                  </a:gs>
                  <a:gs pos="100000">
                    <a:srgbClr val="ecb06e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67200" cy="476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4356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067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2037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39640" y="476280"/>
            <a:ext cx="3527640" cy="4705200"/>
            <a:chOff x="539640" y="476280"/>
            <a:chExt cx="3527640" cy="4705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39640" y="476280"/>
              <a:ext cx="352764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1476360" y="4724280"/>
              <a:ext cx="1511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宋体"/>
                </a:rPr>
                <a:t>拉胡琴</a:t>
              </a:r>
              <a:endPara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572000" y="476280"/>
            <a:ext cx="4025880" cy="4562280"/>
            <a:chOff x="4572000" y="476280"/>
            <a:chExt cx="4025880" cy="456228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4572000" y="476280"/>
              <a:ext cx="402588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5867280" y="4581360"/>
              <a:ext cx="1400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打招呼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809800" cy="504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4537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04000" cy="496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9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535280" cy="402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836640"/>
            <a:ext cx="2971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17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248000" cy="609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37972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743200" cy="476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50403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94200" y="2852640"/>
            <a:ext cx="424980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003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2:27:52Z</dcterms:created>
  <dc:creator>语文大师 xiexingcun.com</dc:creator>
  <dc:description/>
  <dc:language>en-US</dc:language>
  <cp:lastModifiedBy>微软用户</cp:lastModifiedBy>
  <dcterms:modified xsi:type="dcterms:W3CDTF">2014-07-24T01:10:37Z</dcterms:modified>
  <cp:revision>0</cp:revision>
  <dc:subject/>
  <dc:title>语文大师 xiexingcun.com</dc:title>
</cp:coreProperties>
</file>