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1682-F594-41D8-AD9B-CE2CDE66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973D-2C5C-460E-94D1-9C6F4382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CFC-55B4-4244-BA36-139E7D9E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6687-B773-4041-97CB-ED731D19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3C5C-85B2-417D-BE40-1CD546B5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18F6-D5DE-4451-98B8-71B7CAEC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6186-D184-4804-8352-FA69FCCA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E83D-F754-401F-A40D-0194D376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F9AB-626A-4212-B750-4858F107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E67B-54D2-40CE-90CB-31B5278F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5756-B6FA-4E7B-8410-08AA2A45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DFDF-5495-4129-9298-0EA2BDB7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0CD9-0F03-4898-ACB1-EBCCDDC7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7013-D389-414E-A2F7-7695D962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9BD8-A5A0-4771-A8DF-6502B25E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0DAD-A977-467A-9428-9D4D799E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9DCE-5E17-4536-99AB-2CAE570A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CDA-94C7-45B3-9868-C9F3719E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1385-8DE9-4AFD-9049-BF5E3451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7BF4-EF9E-4360-BD37-E524FCC7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2F3E-9ADB-4F4D-8853-8C3233EC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0223-4C31-4AEE-AB87-DF19B11C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321-7D4C-4055-BE43-240D92CF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0A9-16AD-43E4-8A63-57D54F8E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B950-6A30-4F9A-A3DD-942516E460E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D5DF-5506-49B2-BFB6-46B7F433768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7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6633"/>
                </a:solidFill>
                <a:latin typeface="Garamond"/>
              </a:rPr>
              <a:t>跨越百年的美丽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00120" y="4785840"/>
            <a:ext cx="64468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广东佛山南海狮山联表小学朱瑞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WordArt 5" descr=""/>
          <p:cNvPicPr/>
          <p:nvPr/>
        </p:nvPicPr>
        <p:blipFill>
          <a:blip r:embed="rId1"/>
          <a:stretch/>
        </p:blipFill>
        <p:spPr>
          <a:xfrm>
            <a:off x="1468440" y="2548080"/>
            <a:ext cx="62308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6633"/>
                </a:solidFill>
                <a:latin typeface="Garamond"/>
              </a:rPr>
              <a:t>复习词语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632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放射性元素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光    放射性            人工放射性 天然放射性      钋      镭      工业废渣      矿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现   冶炼   提炼    搅拌  溶解  沉淀 分析  酸碱  化验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废弃    烟熏火燎   烧痕                                               疲劳     酸痛     眼花耳鸣    浑身乏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71280" y="1989000"/>
            <a:ext cx="7272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请同学们默读课文，找出相关的句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反复朗读这些句子，说说你从这些句子中体会出居里夫人美在哪里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WordArt 4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8285040" cy="1195200"/>
          </a:xfrm>
          <a:prstGeom prst="rect">
            <a:avLst/>
          </a:prstGeom>
          <a:ln w="0">
            <a:noFill/>
          </a:ln>
        </p:spPr>
      </p:pic>
      <p:sp>
        <p:nvSpPr>
          <p:cNvPr id="93" name="WordArt 5"/>
          <p:cNvSpPr txBox="1"/>
          <p:nvPr/>
        </p:nvSpPr>
        <p:spPr>
          <a:xfrm>
            <a:off x="1187280" y="450864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居里夫人具有容貌美、女性美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WordArt 6"/>
          <p:cNvSpPr txBox="1"/>
          <p:nvPr/>
        </p:nvSpPr>
        <p:spPr>
          <a:xfrm>
            <a:off x="1258920" y="530064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居里夫人具有品格美、知识美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3860640"/>
            <a:ext cx="78598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她的容貌还美丽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她美丽健康的容貌在悄悄地隐退，逐渐变得眼花耳鸣，浑身乏力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WordArt 4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62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1456344352122483_small"/>
          <p:cNvPicPr/>
          <p:nvPr/>
        </p:nvPicPr>
        <p:blipFill>
          <a:blip r:embed="rId2"/>
          <a:stretch/>
        </p:blipFill>
        <p:spPr>
          <a:xfrm>
            <a:off x="4716360" y="1989000"/>
            <a:ext cx="1727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060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她依然美丽的是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居里夫人的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美名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从她发现镭那一刻起就流传于世，迄今已经百年。这是她用全部的青春、信念和生命换来的荣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直到她身后４０年，她用过的笔记本里，还有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射线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在不停地释放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WordArt 4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000" y="191628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射线”指的是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经过三年又九个月，他们终于在成吨的矿渣中提炼出了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克镭。它真是有极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美丽的颜色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在幽暗的破木棚里发出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淡蓝色的荧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这点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美丽的淡蓝色的荧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融入了一个女子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美丽的生命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不屈的信念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说说你对句子“直到她身后４０年，她用过的笔记本里，还有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射线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在不停地释放。”的理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WordArt 4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1844280"/>
            <a:ext cx="8147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居里夫人是怎样对待她的“美名”的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著名科学家爱因斯坦说过：“在所有的世界著名人物中，玛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居里是唯一没有被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盛名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宠坏的人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她本来可以躺在任何一项大奖或任何一个荣誉上尽情地享受，但是，她视名利如粪土，她将奖金捐赠给科研事业和战争中的法国，而将那些奖章送给６岁的小女儿当玩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WordArt 4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920" y="277920"/>
            <a:ext cx="684216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6633"/>
                </a:solidFill>
                <a:latin typeface="Garamond"/>
              </a:rPr>
              <a:t>跨越百年的美丽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居里夫人雕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3348000" y="2133720"/>
            <a:ext cx="396072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容貌美女性美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知识美品格美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7" name="WordArt 5" descr=""/>
          <p:cNvPicPr/>
          <p:nvPr/>
        </p:nvPicPr>
        <p:blipFill>
          <a:blip r:embed="rId5"/>
          <a:stretch/>
        </p:blipFill>
        <p:spPr>
          <a:xfrm>
            <a:off x="237960" y="4711680"/>
            <a:ext cx="8455320" cy="963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u=2194671869,2926632315&amp;fm=0&amp;gp=-36"/>
          <p:cNvPicPr/>
          <p:nvPr/>
        </p:nvPicPr>
        <p:blipFill>
          <a:blip r:embed="rId6"/>
          <a:stretch/>
        </p:blipFill>
        <p:spPr>
          <a:xfrm>
            <a:off x="1332000" y="2205000"/>
            <a:ext cx="14126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2:54:45Z</dcterms:created>
  <dc:creator>语文大师 xiexingcun.com</dc:creator>
  <dc:description/>
  <dc:language>en-US</dc:language>
  <cp:lastModifiedBy>user</cp:lastModifiedBy>
  <dcterms:modified xsi:type="dcterms:W3CDTF">2014-07-24T01:10:37Z</dcterms:modified>
  <cp:revision>0</cp:revision>
  <dc:subject/>
  <dc:title>语文大师 xiexingcun.com</dc:title>
</cp:coreProperties>
</file>