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695-CCC2-4A87-8F73-1329BB72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76A-EE88-48DF-A8FC-872D8E93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41E-EC01-46DB-89A1-6BD2669A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CCB-4CE6-41C2-A375-34264533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49F-67E3-495A-8E88-F23544EC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92A-A405-4516-82F0-0DDEC1A0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91B-D4A8-4DBD-A6FB-7A123A60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655-FA45-4C81-BE3F-207EACDA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62B-E8FE-42DB-B76F-26BE38FB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7B7-157D-448E-961B-B8469F92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888-7DEC-4445-A06F-509837AB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155-B5A3-4A3C-9607-D03CC484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E198-D46A-4E9E-B3EF-A9488BA09B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260280"/>
            <a:ext cx="8136000" cy="1800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3213000"/>
            <a:ext cx="3456000" cy="113040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莫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亨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3080" y="587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6920" y="765000"/>
            <a:ext cx="75614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走一步 再走一步</a:t>
            </a:r>
            <a:endParaRPr b="0" lang="en-US" sz="4400" spc="1" strike="noStrike">
              <a:ln w="0">
                <a:noFill/>
              </a:ln>
              <a:solidFill>
                <a:srgbClr val="66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35280" y="271908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述的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抓住时间、地点、人物、环境、情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齿清楚，态度大方，条理清晰，能正确表达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11520" y="765000"/>
            <a:ext cx="1400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复述指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65964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研讨探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557360"/>
          <a:ext cx="8210520" cy="3564000"/>
        </p:xfrm>
        <a:graphic>
          <a:graphicData uri="http://schemas.openxmlformats.org/drawingml/2006/table">
            <a:tbl>
              <a:tblPr/>
              <a:tblGrid>
                <a:gridCol w="1081080"/>
                <a:gridCol w="4464000"/>
                <a:gridCol w="2665440"/>
              </a:tblGrid>
              <a:tr h="701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爬下悬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动作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心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毫无信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移、伸、探、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萌发信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又照着做（移、伸、探、踩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信心大增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移、爬、踩、投、啜泣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巨大的成就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 txBox="1"/>
          <p:nvPr/>
        </p:nvSpPr>
        <p:spPr>
          <a:xfrm>
            <a:off x="665964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研讨探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77840" y="5229360"/>
            <a:ext cx="806616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115920"/>
            <a:ext cx="4105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读一读，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341360"/>
            <a:ext cx="7199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训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诫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立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泣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罕            瘦骨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嶙   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心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肉跳      头晕目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眩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小心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98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ji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98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ŏ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98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4000" y="98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í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2349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chu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í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n    x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ī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076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xu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à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4360" y="836280"/>
            <a:ext cx="8459280" cy="6021000"/>
            <a:chOff x="684360" y="836280"/>
            <a:chExt cx="8459280" cy="60210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684360" y="835920"/>
              <a:ext cx="845928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 flipH="1" rot="5400000">
              <a:off x="-2189160" y="3836520"/>
              <a:ext cx="5894280" cy="14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 txBox="1"/>
          <p:nvPr/>
        </p:nvSpPr>
        <p:spPr>
          <a:xfrm>
            <a:off x="673272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检查预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73272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初步感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429200"/>
            <a:ext cx="525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默读后用一句话概括全文的内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36057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这篇文章是讲一个叫亨特的美国少年在悬崖上遇险、脱险的故事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40360" y="3573360"/>
            <a:ext cx="3384720" cy="1440000"/>
          </a:xfrm>
          <a:prstGeom prst="wedgeEllipseCallout">
            <a:avLst>
              <a:gd name="adj1" fmla="val -45217"/>
              <a:gd name="adj2" fmla="val -216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根据刚刚的分析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复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03920"/>
            <a:ext cx="6222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直击险情，探索脱险之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5964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研讨探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4835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 “我”爬悬崖时遇到哪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险情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4149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“我”是怎样脱险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283572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为什么小伙伴都顺利的爬过去了，而我却没有成功？文中有没有对这点进行说明或暗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5184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想想，“我”能脱险的最主要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65964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研讨探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03920"/>
            <a:ext cx="6222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揣摩心理，品评心路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00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找出“我”爬下悬崖的具体动作以及刻画“我”的心理活动的语句，揣摩“我”的心理变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463200"/>
            <a:ext cx="777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回想亨特从被困到脱险的过程，大家认为他是怎样一个孩子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5040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揣摩亨特父亲的心理活动，说说父亲是一个怎样的人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65964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研讨探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403920"/>
            <a:ext cx="6222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回归生活，感悟成长经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7269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这个故事中，你得到了一个怎样的启示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3564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在人生道路上，无论我们遇到怎样的艰难险阻，都可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化整为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，把大困难分解成小困难，一步一步战胜小困难，最后就是战胜了巨大的困难。“走一步，再走一步”这种人生经验，给人以战胜一切艰难险阻的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65964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拓展延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03920"/>
            <a:ext cx="2880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欣赏诗歌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336400"/>
            <a:ext cx="74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走一步，再走一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吴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溪流再走一步是江河，江河再走一步是海洋。走一步，再走一步，天地就将不一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深秋走一步是寒冬，寒冬再走一步就是春天。挫折再走一步或许还是失败，失败再走一步可能就是成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咫尺天涯路，第一步往往很难迈出。于是就没了下一步，于是就没了路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路尽天绝处，不妨尝试再走一步。万水千山，只源于最初的那一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65964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布置作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727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完成练习册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预习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抄写“读一读，写一写”里的生字词，并注音。（一个词写两遍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抄写课下注释。（一个词一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蝉》的中心句是哪句？你是怎么理解这句话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贝壳》一文中，作者先对贝壳的精美作了一番描述，然后产生了哪些联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周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解生活难题，跨越学习高度，迎接机遇挑战，架设心灵桥梁，独辟创新蹊径，领略人生风景，常常需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一步，再走一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不懈努力。少走一步，也许功亏一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走一步，可能柳暗花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以“走一步，再走一步”作为题目，写一篇文章。字数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2035440"/>
            <a:ext cx="882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默读的方法，简单地说就是“三不三到”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出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动唇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指划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不用手指着默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眼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眼睛离书距离要适当，保证一行字都在视觉范围内。眼皮要少眨动，最好看完一句或几句才眨动一次。要一句一句地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心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眼睛看到哪，脑子就想到哪。一边默读，一边提出“为什么”的问题，通过“读”和“思”领会文章的内容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手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提起笔来，边读、边画、边写，学会圈点。画什么？画重点词语，重点句子，重点内容，佳词妙句。写什么？写自己的看法、疑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9160" y="260280"/>
            <a:ext cx="1400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默读指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732720" y="115920"/>
            <a:ext cx="22334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初步感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2:31:19Z</dcterms:created>
  <dc:creator>备课大师网</dc:creator>
  <dc:description/>
  <dc:language>en-US</dc:language>
  <cp:lastModifiedBy>微软用户</cp:lastModifiedBy>
  <dcterms:modified xsi:type="dcterms:W3CDTF">2013-08-30T06:57:10Z</dcterms:modified>
  <cp:revision>0</cp:revision>
  <dc:subject/>
  <dc:title>备课大师网</dc:title>
</cp:coreProperties>
</file>