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17.jpeg" ContentType="image/jpeg"/>
  <Override PartName="/ppt/media/image4.jpeg" ContentType="image/jpeg"/>
  <Override PartName="/ppt/media/cashreg.wav" ContentType="audio/x-wav"/>
  <Override PartName="/ppt/media/image12.jpeg" ContentType="image/jpeg"/>
  <Override PartName="/ppt/media/image7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type.wav" ContentType="audio/x-wav"/>
  <Override PartName="/ppt/media/image6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1.jpeg" ContentType="image/jpeg"/>
  <Override PartName="/ppt/media/image15.jpeg" ContentType="image/jpeg"/>
  <Override PartName="/ppt/media/click.wav" ContentType="audio/x-wav"/>
  <Override PartName="/ppt/media/image18.jpeg" ContentType="image/jpeg"/>
  <Override PartName="/ppt/media/image19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media/breeze.wav" ContentType="audio/x-wav"/>
  <Override PartName="/ppt/media/camera.wav" ContentType="audio/x-wav"/>
  <Override PartName="/ppt/media/projctor.wav" ContentType="audio/x-wav"/>
  <Override PartName="/ppt/media/image16.jpeg" ContentType="image/jpeg"/>
  <Override PartName="/ppt/media/laser.wav" ContentType="audio/x-wav"/>
  <Override PartName="/ppt/media/driveby.wav" ContentType="audio/x-wav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8DD3-054D-4B83-8982-ED14BE8A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71D1-1B3E-443D-9732-BA00243F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C1DD-0ABA-4CFC-9A5F-1C262144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F81D-1274-4678-9DB9-778F8F7E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5035-76C2-48C2-986B-9DC4C495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0887-9080-431D-9DD0-191FBA48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37A3-535F-4ACB-81BB-BC1E6DEE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BB17-FFE5-4E17-8231-D290D53A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5052-398D-404A-A865-74F2DB76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919A-8D13-4F9A-B7AA-FAAB22F7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D95F-E20D-4C52-8E6D-26514FE3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5B03-5E4C-40F9-AEF2-AB5BDAC4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DB10-72FE-43B3-9196-2364E843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FCD0-31F1-407A-8CFE-8595D293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A39A-289C-4769-9474-E958D960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3168-BC78-4B12-A0C0-E7D8A4983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B7B0-A367-4939-B083-4C59BE7E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D286D-5417-4729-838B-8D5005FA8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4871C-F5B6-4021-A4EA-137537C4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E2076-27D9-4ECA-AE9A-4E3C933B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EA6CF-426D-48FE-A0D5-B75B59F1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233E8-A037-4DAE-A2D5-C2DB9CE0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152D-D272-41DA-998E-297A43FC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C1E3F-1EE5-4BE9-B16D-94B1069D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16398-FB08-44D5-81F6-02478755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F9C80-C323-49A8-99CC-252EBF5A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E3B3E-466D-4194-8E0C-A3675BD8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5EB85-3DCA-4F3C-B4FC-0C5049BB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D8FF9-6DC4-43B2-90A7-52E93E31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2B8D2-C59D-4870-A910-77F3BEBF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E971-1ED7-4A5F-A7BF-B9F4E771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878B-9125-4E47-9C84-B52CA5E9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0753-02D4-46B3-80AE-E2D45706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58F1-AD4B-4CD0-864D-427FC10F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9C52-3594-4207-AAF1-4127E52C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C9DB-6822-45F1-BF48-4B2EDBE9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753A-4257-43B9-875C-9E5CD4DB83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3E2E-62EB-40F0-8686-7711A0B8B9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5A1B-1886-49E8-AFA3-894878C98A81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driveby.wav"/><Relationship Id="rId7" Type="http://schemas.openxmlformats.org/officeDocument/2006/relationships/audio" Target="../media/cashreg.wav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audio" Target="../media/chimes.wav"/><Relationship Id="rId6" Type="http://schemas.openxmlformats.org/officeDocument/2006/relationships/audio" Target="../media/breeze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5" name="看云识天气视频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6"/>
          <p:cNvSpPr/>
          <p:nvPr/>
        </p:nvSpPr>
        <p:spPr>
          <a:xfrm>
            <a:off x="4356000" y="3500280"/>
            <a:ext cx="3456000" cy="764280"/>
          </a:xfrm>
          <a:prstGeom prst="rect">
            <a:avLst/>
          </a:prstGeom>
          <a:solidFill>
            <a:srgbClr val="62f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事物说明文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/>
                </p:stCondLst>
                <p:childTnLst>
                  <p:par>
                    <p:cTn id="3" fill="hold">
                      <p:stCondLst>
                        <p:cond evt="onClick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日晕"/>
          <p:cNvPicPr/>
          <p:nvPr/>
        </p:nvPicPr>
        <p:blipFill>
          <a:blip r:embed="rId1"/>
          <a:stretch/>
        </p:blipFill>
        <p:spPr>
          <a:xfrm>
            <a:off x="0" y="0"/>
            <a:ext cx="5364000" cy="4440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月晕"/>
          <p:cNvPicPr/>
          <p:nvPr/>
        </p:nvPicPr>
        <p:blipFill>
          <a:blip r:embed="rId2"/>
          <a:stretch/>
        </p:blipFill>
        <p:spPr>
          <a:xfrm>
            <a:off x="4500720" y="2565360"/>
            <a:ext cx="4643280" cy="429264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4"/>
          <p:cNvSpPr/>
          <p:nvPr/>
        </p:nvSpPr>
        <p:spPr>
          <a:xfrm>
            <a:off x="7093080" y="1844640"/>
            <a:ext cx="358560" cy="576360"/>
          </a:xfrm>
          <a:prstGeom prst="downArrow">
            <a:avLst>
              <a:gd name="adj1" fmla="val 50000"/>
              <a:gd name="adj2" fmla="val 40186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1979640" y="4724280"/>
            <a:ext cx="360360" cy="505080"/>
          </a:xfrm>
          <a:prstGeom prst="upArrow">
            <a:avLst>
              <a:gd name="adj1" fmla="val 50000"/>
              <a:gd name="adj2" fmla="val 3504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156360" y="620640"/>
            <a:ext cx="2303280" cy="91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日  晕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971640" y="5516640"/>
            <a:ext cx="2160360" cy="91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月 晕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3124080" y="61563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4390920" y="3011400"/>
            <a:ext cx="5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★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E12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990720" y="304920"/>
            <a:ext cx="33494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6600"/>
                </a:solidFill>
                <a:latin typeface="Arial"/>
                <a:ea typeface="华文行楷"/>
              </a:rPr>
              <a:t>朝霞</a:t>
            </a:r>
            <a:endParaRPr b="0" lang="en-US" sz="117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E13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3"/>
          <p:cNvSpPr/>
          <p:nvPr/>
        </p:nvSpPr>
        <p:spPr>
          <a:xfrm>
            <a:off x="609480" y="838080"/>
            <a:ext cx="3962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ffff"/>
                </a:solidFill>
                <a:latin typeface="Arial"/>
                <a:ea typeface="华文行楷"/>
              </a:rPr>
              <a:t>晚霞</a:t>
            </a:r>
            <a:endParaRPr b="0" lang="en-US" sz="117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826920" y="90792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39640" y="907920"/>
            <a:ext cx="7848720" cy="40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1193a"/>
                </a:solidFill>
                <a:latin typeface="Arial"/>
                <a:ea typeface="楷体_GB2312"/>
              </a:rPr>
              <a:t>品味欣赏</a:t>
            </a:r>
            <a:r>
              <a:rPr b="0" lang="zh-CN" sz="4400" spc="-1" strike="noStrike">
                <a:solidFill>
                  <a:srgbClr val="e1193a"/>
                </a:solidFill>
                <a:latin typeface="Arial"/>
                <a:ea typeface="楷体_GB2312"/>
              </a:rPr>
              <a:t>：</a:t>
            </a:r>
            <a:br>
              <a:rPr sz="4000"/>
            </a:br>
            <a:r>
              <a:rPr b="0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本文介绍了这么多的云和云的光彩，但我们读来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条理清晰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作者是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怎样做到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这一点的</a:t>
            </a:r>
            <a:r>
              <a:rPr b="0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?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 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你能从课文中</a:t>
            </a:r>
            <a:r>
              <a:rPr b="1" lang="zh-CN" sz="32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找出有关语句</a:t>
            </a: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吗</a:t>
            </a:r>
            <a:r>
              <a:rPr b="0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?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提示：学习说明文要注意那些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概括性强的段落、句子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，这种句子一般在</a:t>
            </a: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首尾段</a:t>
            </a: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。根据这些关键性的句段，就能迅速把握全文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250920" y="404640"/>
            <a:ext cx="842472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文章按照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总分总</a:t>
            </a:r>
            <a:r>
              <a:rPr b="0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关系展开说明。</a:t>
            </a:r>
            <a:br>
              <a:rPr sz="2800"/>
            </a:br>
            <a:r>
              <a:rPr b="0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　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段：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概述云和天气的关系。</a:t>
            </a:r>
            <a:br>
              <a:rPr sz="2800"/>
            </a:b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--5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段：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介绍云的形态、变化；云上的光彩现象跟天气的关系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段：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总结全文。</a:t>
            </a:r>
            <a:br>
              <a:rPr sz="2800"/>
            </a:b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0" y="838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完成全文的结构条理图：</a:t>
            </a:r>
            <a:r>
              <a:rPr b="1" lang="zh-CN" sz="2400" spc="-1" strike="noStrike">
                <a:solidFill>
                  <a:srgbClr val="990099"/>
                </a:solidFill>
                <a:latin typeface="Times New Roman"/>
              </a:rPr>
              <a:t>（ ）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中填写自然段序号，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-----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填写关键词，</a:t>
            </a: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[  ]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填写全文结构方式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0" y="0"/>
            <a:ext cx="3096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0" y="2743200"/>
            <a:ext cx="91440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2000" spc="-1" strike="noStrike">
                <a:solidFill>
                  <a:srgbClr val="3399ff"/>
                </a:solidFill>
                <a:latin typeface="Times New Roman"/>
              </a:rPr>
              <a:t>（    ）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一、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云和天气的关系：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____</a:t>
            </a:r>
            <a:r>
              <a:rPr b="1" lang="zh-CN" sz="1800" spc="-1" strike="noStrike">
                <a:solidFill>
                  <a:srgbClr val="00cc00"/>
                </a:solidFill>
                <a:latin typeface="Times New Roman"/>
              </a:rPr>
              <a:t>［    ］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　　　　　　　　　　　　　　　　　　　　　                        薄云：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_____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1" lang="en-US" sz="1600" spc="-1" strike="noStrike">
                <a:solidFill>
                  <a:srgbClr val="3399ff"/>
                </a:solidFill>
                <a:latin typeface="Times New Roman"/>
              </a:rPr>
              <a:t>(       )</a:t>
            </a:r>
            <a:r>
              <a:rPr b="1" lang="zh-CN" sz="1600" spc="-1" strike="noStrike">
                <a:solidFill>
                  <a:srgbClr val="0033cc"/>
                </a:solidFill>
                <a:latin typeface="Times New Roman"/>
              </a:rPr>
              <a:t>云的形态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3399ff"/>
                </a:solidFill>
                <a:latin typeface="Times New Roman"/>
              </a:rPr>
              <a:t>（         ）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二、看云识天气的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_____</a:t>
            </a:r>
            <a:r>
              <a:rPr b="1" lang="zh-CN" sz="2000" spc="-1" strike="noStrike">
                <a:solidFill>
                  <a:srgbClr val="00cc00"/>
                </a:solidFill>
                <a:latin typeface="Times New Roman"/>
              </a:rPr>
              <a:t>［   ］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　                     </a:t>
            </a:r>
            <a:r>
              <a:rPr b="1" lang="zh-CN" sz="1600" spc="-1" strike="noStrike">
                <a:solidFill>
                  <a:srgbClr val="0033cc"/>
                </a:solidFill>
                <a:latin typeface="Times New Roman"/>
              </a:rPr>
              <a:t>低而厚的云：阴雨风雪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                                                                                   </a:t>
            </a:r>
            <a:r>
              <a:rPr b="1" lang="zh-CN" sz="1600" spc="-1" strike="noStrike">
                <a:solidFill>
                  <a:srgbClr val="3399ff"/>
                </a:solidFill>
                <a:latin typeface="Times New Roman"/>
              </a:rPr>
              <a:t>（      ）</a:t>
            </a:r>
            <a:r>
              <a:rPr b="1" lang="en-US" sz="16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_______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             </a:t>
            </a:r>
            <a:r>
              <a:rPr b="1" lang="zh-CN" sz="2000" spc="-1" strike="noStrike">
                <a:solidFill>
                  <a:srgbClr val="3399ff"/>
                </a:solidFill>
                <a:latin typeface="Times New Roman"/>
              </a:rPr>
              <a:t>（     ）</a:t>
            </a:r>
            <a:r>
              <a:rPr b="1" lang="zh-CN" sz="2000" spc="-1" strike="noStrike">
                <a:solidFill>
                  <a:srgbClr val="0033cc"/>
                </a:solidFill>
                <a:latin typeface="Times New Roman"/>
              </a:rPr>
              <a:t>三、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看云识天气的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_____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及局限</a:t>
            </a:r>
            <a:r>
              <a:rPr b="1" lang="zh-CN" sz="1800" spc="-1" strike="noStrike">
                <a:solidFill>
                  <a:srgbClr val="00cc00"/>
                </a:solidFill>
                <a:latin typeface="Times New Roman"/>
              </a:rPr>
              <a:t>［</a:t>
            </a:r>
            <a:r>
              <a:rPr b="1" lang="zh-CN" sz="2000" spc="-1" strike="noStrike">
                <a:solidFill>
                  <a:srgbClr val="00cc00"/>
                </a:solidFill>
                <a:latin typeface="Times New Roman"/>
              </a:rPr>
              <a:t>   </a:t>
            </a:r>
            <a:r>
              <a:rPr b="1" lang="zh-CN" sz="1800" spc="-1" strike="noStrike">
                <a:solidFill>
                  <a:srgbClr val="00cc00"/>
                </a:solidFill>
                <a:latin typeface="Times New Roman"/>
              </a:rPr>
              <a:t> ］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Line 5"/>
          <p:cNvSpPr/>
          <p:nvPr/>
        </p:nvSpPr>
        <p:spPr>
          <a:xfrm>
            <a:off x="4952880" y="3200400"/>
            <a:ext cx="0" cy="106668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5105520" y="4572000"/>
            <a:ext cx="0" cy="5335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AutoShape 7"/>
          <p:cNvSpPr/>
          <p:nvPr/>
        </p:nvSpPr>
        <p:spPr>
          <a:xfrm>
            <a:off x="6858000" y="342900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AutoShape 8"/>
          <p:cNvSpPr/>
          <p:nvPr/>
        </p:nvSpPr>
        <p:spPr>
          <a:xfrm>
            <a:off x="5334120" y="396252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1143720" y="281952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Rectangle 10"/>
          <p:cNvSpPr/>
          <p:nvPr/>
        </p:nvSpPr>
        <p:spPr>
          <a:xfrm>
            <a:off x="1146240" y="4191120"/>
            <a:ext cx="56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Times New Roman"/>
              </a:rPr>
              <a:t>2~6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1164960" y="5105520"/>
            <a:ext cx="4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3399ff"/>
                </a:solidFill>
                <a:latin typeface="Times New Roman"/>
              </a:rPr>
              <a:t>７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Rectangle 12"/>
          <p:cNvSpPr/>
          <p:nvPr/>
        </p:nvSpPr>
        <p:spPr>
          <a:xfrm>
            <a:off x="5489640" y="3809880"/>
            <a:ext cx="48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ff"/>
                </a:solidFill>
                <a:latin typeface="Times New Roman"/>
              </a:rPr>
              <a:t>2~5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5564520" y="469260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99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99ff"/>
                </a:solidFill>
                <a:latin typeface="Times New Roman"/>
              </a:rPr>
              <a:t>6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Rectangle 14"/>
          <p:cNvSpPr/>
          <p:nvPr/>
        </p:nvSpPr>
        <p:spPr>
          <a:xfrm>
            <a:off x="4057200" y="281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招牌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4219560" y="41752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方法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Rectangle 16"/>
          <p:cNvSpPr/>
          <p:nvPr/>
        </p:nvSpPr>
        <p:spPr>
          <a:xfrm>
            <a:off x="3717360" y="5105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ff0000"/>
                </a:solidFill>
                <a:uFillTx/>
                <a:latin typeface="Times New Roman"/>
              </a:rPr>
              <a:t>意义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Rectangle 17"/>
          <p:cNvSpPr/>
          <p:nvPr/>
        </p:nvSpPr>
        <p:spPr>
          <a:xfrm>
            <a:off x="594360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云的光彩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7610400" y="3184560"/>
            <a:ext cx="77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晴朗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Rectangle 19"/>
          <p:cNvSpPr/>
          <p:nvPr/>
        </p:nvSpPr>
        <p:spPr>
          <a:xfrm>
            <a:off x="4634640" y="283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cc00"/>
                </a:solidFill>
                <a:latin typeface="Times New Roman"/>
              </a:rPr>
              <a:t>总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Rectangle 20"/>
          <p:cNvSpPr/>
          <p:nvPr/>
        </p:nvSpPr>
        <p:spPr>
          <a:xfrm>
            <a:off x="4853880" y="4175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00"/>
                </a:solidFill>
                <a:latin typeface="Times New Roman"/>
              </a:rPr>
              <a:t>分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212760" y="3124080"/>
            <a:ext cx="549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Text Box 22"/>
          <p:cNvSpPr/>
          <p:nvPr/>
        </p:nvSpPr>
        <p:spPr>
          <a:xfrm>
            <a:off x="-195480" y="3200400"/>
            <a:ext cx="10335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看云识天气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AutoShape 23"/>
          <p:cNvSpPr/>
          <p:nvPr/>
        </p:nvSpPr>
        <p:spPr>
          <a:xfrm>
            <a:off x="838080" y="3048120"/>
            <a:ext cx="152640" cy="2286000"/>
          </a:xfrm>
          <a:custGeom>
            <a:avLst/>
            <a:gdLst>
              <a:gd name="textAreaLeft" fmla="*/ 97560 w 152640"/>
              <a:gd name="textAreaRight" fmla="*/ 15300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5" name="Text Box 24"/>
          <p:cNvSpPr/>
          <p:nvPr/>
        </p:nvSpPr>
        <p:spPr>
          <a:xfrm>
            <a:off x="5105520" y="5105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00"/>
                </a:solidFill>
                <a:latin typeface="Times New Roman"/>
              </a:rPr>
              <a:t>总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500"/>
                            </p:stCondLst>
                            <p:childTnLst>
                              <p:par>
                                <p:cTn id="3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900000" y="1484280"/>
            <a:ext cx="7417080" cy="42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1193a"/>
                </a:solidFill>
                <a:latin typeface="楷体_GB2312"/>
                <a:ea typeface="楷体_GB2312"/>
              </a:rPr>
              <a:t>品味语言：</a:t>
            </a:r>
            <a:br>
              <a:rPr sz="3600"/>
            </a:b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华文彩云"/>
              </a:rPr>
              <a:t>本文文字优美，请同学们找出你喜欢的句子并说明理由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。例句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）“它们有时把天空点缀得很美丽，有时又把天空笼罩得很阴森。刚才还是白云朵朵，阳光灿烂；一霎间却又是乌云密布，大雨倾盆。”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运用了作比较的说明方法，突出地显示了天气的变化无常。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★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44020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7572"/>
                </a:solidFill>
                <a:latin typeface="Arial"/>
                <a:ea typeface="隶书"/>
              </a:rPr>
              <a:t>小结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9040" y="2004480"/>
            <a:ext cx="7472160" cy="35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恰当的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说明顺序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能使文章</a:t>
            </a:r>
            <a:r>
              <a:rPr b="0" lang="zh-CN" sz="3600" spc="-1" strike="noStrike">
                <a:solidFill>
                  <a:srgbClr val="00b050"/>
                </a:solidFill>
                <a:latin typeface="Arial"/>
                <a:ea typeface="隶书"/>
              </a:rPr>
              <a:t>层次分明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，脉络清晰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恰当的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隶书"/>
              </a:rPr>
              <a:t>修辞方法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能使语言</a:t>
            </a:r>
            <a:r>
              <a:rPr b="0" lang="zh-CN" sz="3600" spc="-1" strike="noStrike">
                <a:solidFill>
                  <a:srgbClr val="00b050"/>
                </a:solidFill>
                <a:latin typeface="Arial"/>
                <a:ea typeface="隶书"/>
              </a:rPr>
              <a:t>生动形象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，使抽象的道理</a:t>
            </a:r>
            <a:r>
              <a:rPr b="0" lang="zh-CN" sz="3600" spc="-1" strike="noStrike">
                <a:solidFill>
                  <a:srgbClr val="00b050"/>
                </a:solidFill>
                <a:latin typeface="Arial"/>
                <a:ea typeface="隶书"/>
              </a:rPr>
              <a:t>通俗易懂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启示：要</a:t>
            </a:r>
            <a:r>
              <a:rPr b="0" lang="zh-CN" sz="3600" spc="-1" strike="noStrike">
                <a:solidFill>
                  <a:srgbClr val="c00000"/>
                </a:solidFill>
                <a:latin typeface="Arial"/>
                <a:ea typeface="隶书"/>
              </a:rPr>
              <a:t>仔细观察生活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，培养</a:t>
            </a:r>
            <a:r>
              <a:rPr b="0" lang="zh-CN" sz="3600" spc="-1" strike="noStrike">
                <a:solidFill>
                  <a:srgbClr val="c00000"/>
                </a:solidFill>
                <a:latin typeface="Arial"/>
                <a:ea typeface="隶书"/>
              </a:rPr>
              <a:t>探究精神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。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★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看云识天气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13000"/>
            <a:ext cx="761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天上鲤鱼斑，明天晒谷不用翻。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云往东，刮阵风；云往西，披蓑衣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早上乌云盖，无雨也风来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山戴帽，大雨到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云吃雾下，雾吃云晴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黄云上下翻，将要下冰蛋。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★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71080" y="404640"/>
            <a:ext cx="47833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看天象测天气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6192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星星眨眼，有雨不远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日出一点红，不雨便是风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地黄有风，天黄有雨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日落晴彩，久晴可待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星星稠，满街流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457200" y="15228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Times New Roman"/>
                <a:ea typeface="幼圆"/>
              </a:rPr>
              <a:t>说明文知识小解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533520" y="99072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Times New Roman"/>
                <a:ea typeface="幼圆"/>
              </a:rPr>
              <a:t>一、定义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幼圆"/>
              </a:rPr>
              <a:t>：以说明的表达方式为主，向人们介绍事物或事理的文章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33520" y="1936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Times New Roman"/>
                <a:ea typeface="幼圆"/>
              </a:rPr>
              <a:t>二、说明文的特点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幼圆"/>
              </a:rPr>
              <a:t>：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议论文以理服人，哲理性是它的主要特点；记叙文以情感人，形象性是它的主要特点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说明文以知识喻人，知识性是它的主要特点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09480" y="3228840"/>
            <a:ext cx="853452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Times New Roman"/>
                <a:ea typeface="幼圆"/>
              </a:rPr>
              <a:t>三、说明文的分类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  <a:ea typeface="幼圆"/>
              </a:rPr>
              <a:t>1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幼圆"/>
              </a:rPr>
              <a:t>、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幼圆"/>
              </a:rPr>
              <a:t>说明对象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幼圆"/>
              </a:rPr>
              <a:t>为标准可划分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幼圆"/>
              </a:rPr>
              <a:t>事物说明文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幼圆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幼圆"/>
              </a:rPr>
              <a:t>事理说明文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幼圆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  <a:ea typeface="幼圆"/>
              </a:rPr>
              <a:t>2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幼圆"/>
              </a:rPr>
              <a:t>、以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幼圆"/>
              </a:rPr>
              <a:t>表达方式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幼圆"/>
              </a:rPr>
              <a:t>为标准可划分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幼圆"/>
              </a:rPr>
              <a:t>平实性说明文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幼圆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幼圆"/>
              </a:rPr>
              <a:t>文艺性说明文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幼圆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457200" y="4511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Times New Roman"/>
                <a:ea typeface="幼圆"/>
              </a:rPr>
              <a:t>四、说明的顺序一般有三种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时间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顺序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空间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顺序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逻辑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顺序。可以综合运用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457200" y="5410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Times New Roman"/>
                <a:ea typeface="幼圆"/>
              </a:rPr>
              <a:t>五、说明的方法常见的有八种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：举例子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打比方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、作比较、下定义、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分类别</a:t>
            </a: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、列数字、画图表、引资料（诗文）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333000"/>
            <a:ext cx="5914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看物象测天气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7280" y="1341000"/>
            <a:ext cx="60343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蚂蚁搬家，大雨要下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蜻蜓低飞，不风即雨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蜘蛛结网晴，收网阴”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蚯蚓路上爬，雨水乱如麻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蛤蟆哇哇叫，大雨就要到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乌鸦唱晚，风雨不远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老牛抬头朝天嗅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雨临头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骨节发痛，不雨即风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看风测天气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63280" y="1916280"/>
            <a:ext cx="6635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久晴西风雨，久雨西风晴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风刮一大片，雹打一条线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伏里东风不下雨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回头风，特别大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618920" y="549360"/>
            <a:ext cx="7041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仿宋_GB2312"/>
              </a:rPr>
              <a:t>看天象测天气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仿宋_GB2312"/>
              </a:rPr>
              <a:t>看物象测天气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仿宋_GB2312"/>
              </a:rPr>
              <a:t>看风测天气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仿宋_GB2312"/>
              </a:rPr>
              <a:t>看云识天气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marL="281160" indent="-281160"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af400"/>
                </a:solidFill>
                <a:latin typeface="Arial"/>
                <a:ea typeface="仿宋_GB2312"/>
              </a:rPr>
              <a:t>……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yun2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457200" y="380880"/>
            <a:ext cx="5770440" cy="703440"/>
          </a:xfrm>
          <a:prstGeom prst="rect">
            <a:avLst/>
          </a:prstGeom>
          <a:solidFill>
            <a:srgbClr val="b0f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Arial"/>
                <a:ea typeface="楷体_GB2312"/>
              </a:rPr>
              <a:t>速读课文，整体感知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615840" y="1295280"/>
            <a:ext cx="8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云和天气到底有怎样的关系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480" y="39625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本文介绍了哪些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云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及其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光彩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？它               们各有怎样的特征？分别预示怎样的天气情况？（以表格的形式回答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7315200" y="12193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招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838080" y="213372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Arial"/>
              </a:rPr>
              <a:t>经验告诉我们：</a:t>
            </a:r>
            <a:r>
              <a:rPr b="1" lang="zh-CN" sz="3200" spc="-1" strike="noStrike" u="sng">
                <a:solidFill>
                  <a:srgbClr val="7d7da9"/>
                </a:solidFill>
                <a:uFillTx/>
                <a:latin typeface="Arial"/>
              </a:rPr>
              <a:t>天空的薄云，往往是天  气晴朗的象征；那些低而厚密的云层，常常是阴雨风雪的预兆</a:t>
            </a:r>
            <a:r>
              <a:rPr b="1" lang="zh-CN" sz="3200" spc="-1" strike="noStrike">
                <a:solidFill>
                  <a:srgbClr val="7d7da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124080" y="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晴天云简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258920" y="620640"/>
          <a:ext cx="7632720" cy="5892840"/>
        </p:xfrm>
        <a:graphic>
          <a:graphicData uri="http://schemas.openxmlformats.org/drawingml/2006/table">
            <a:tbl>
              <a:tblPr/>
              <a:tblGrid>
                <a:gridCol w="1676520"/>
                <a:gridCol w="2971800"/>
                <a:gridCol w="298440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云的种类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云的形态变化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天气征兆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41"/>
          <p:cNvSpPr/>
          <p:nvPr/>
        </p:nvSpPr>
        <p:spPr>
          <a:xfrm>
            <a:off x="2987640" y="177336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Arial"/>
              </a:rPr>
              <a:t>像羽毛像绫纱，丝丝缕缕地漂浮着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Text Box 44"/>
          <p:cNvSpPr/>
          <p:nvPr/>
        </p:nvSpPr>
        <p:spPr>
          <a:xfrm>
            <a:off x="6227640" y="1700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33"/>
                </a:solidFill>
                <a:latin typeface="Arial"/>
              </a:rPr>
              <a:t>阳光可以透过它照到地面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Text Box 45"/>
          <p:cNvSpPr/>
          <p:nvPr/>
        </p:nvSpPr>
        <p:spPr>
          <a:xfrm>
            <a:off x="2916360" y="27082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像水面的鳞波，是成群成行的卷云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Text Box 48"/>
          <p:cNvSpPr/>
          <p:nvPr/>
        </p:nvSpPr>
        <p:spPr>
          <a:xfrm>
            <a:off x="6156360" y="2852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它不会带来雨雪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Text Box 49">
            <a:hlinkClick r:id="rId1" action="ppaction://hlinksldjump"/>
          </p:cNvPr>
          <p:cNvSpPr/>
          <p:nvPr/>
        </p:nvSpPr>
        <p:spPr>
          <a:xfrm>
            <a:off x="1476360" y="4005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积    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Text Box 50"/>
          <p:cNvSpPr/>
          <p:nvPr/>
        </p:nvSpPr>
        <p:spPr>
          <a:xfrm>
            <a:off x="3132000" y="386064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像棉花团，上午出现，傍晚消散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6012000" y="4005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映着灿烂的阳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Text Box 54"/>
          <p:cNvSpPr/>
          <p:nvPr/>
        </p:nvSpPr>
        <p:spPr>
          <a:xfrm>
            <a:off x="1332000" y="5516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高积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Text Box 55"/>
          <p:cNvSpPr/>
          <p:nvPr/>
        </p:nvSpPr>
        <p:spPr>
          <a:xfrm>
            <a:off x="2916360" y="5229360"/>
            <a:ext cx="31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Arial"/>
              </a:rPr>
              <a:t>像草原上雪白的羊群，扁球状，排列整齐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Text Box 58">
            <a:hlinkClick r:id="rId2" action="ppaction://hlinksldjump"/>
          </p:cNvPr>
          <p:cNvSpPr/>
          <p:nvPr/>
        </p:nvSpPr>
        <p:spPr>
          <a:xfrm>
            <a:off x="1476360" y="177336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卷   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Text Box 59"/>
          <p:cNvSpPr/>
          <p:nvPr/>
        </p:nvSpPr>
        <p:spPr>
          <a:xfrm>
            <a:off x="1403280" y="285264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卷积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Rectangle 60"/>
          <p:cNvSpPr/>
          <p:nvPr/>
        </p:nvSpPr>
        <p:spPr>
          <a:xfrm>
            <a:off x="6601680" y="5157720"/>
            <a:ext cx="167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云块间露出碧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的天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E1312"/>
          <p:cNvPicPr/>
          <p:nvPr/>
        </p:nvPicPr>
        <p:blipFill>
          <a:blip r:embed="rId1"/>
          <a:srcRect l="0" t="4708" r="0" b="0"/>
          <a:stretch/>
        </p:blipFill>
        <p:spPr>
          <a:xfrm>
            <a:off x="4716360" y="168120"/>
            <a:ext cx="3959280" cy="2830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20031017105443414"/>
          <p:cNvPicPr/>
          <p:nvPr/>
        </p:nvPicPr>
        <p:blipFill>
          <a:blip r:embed="rId2"/>
          <a:stretch/>
        </p:blipFill>
        <p:spPr>
          <a:xfrm>
            <a:off x="5292720" y="3610080"/>
            <a:ext cx="3456000" cy="244152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7"/>
          <p:cNvSpPr/>
          <p:nvPr/>
        </p:nvSpPr>
        <p:spPr>
          <a:xfrm>
            <a:off x="0" y="4365720"/>
            <a:ext cx="576360" cy="122400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224000"/>
              <a:gd name="textAreaBottom" fmla="*/ 1195920 h 1224000"/>
            </a:gdLst>
            <a:ahLst/>
            <a:rect l="textAreaLeft" t="textAreaTop" r="textAreaRight" b="textAreaBottom"/>
            <a:pathLst>
              <a:path w="21600" h="45856">
                <a:moveTo>
                  <a:pt x="3600" y="0"/>
                </a:moveTo>
                <a:arcTo wR="3600" hR="3600" stAng="16200000" swAng="-5400000"/>
                <a:lnTo>
                  <a:pt x="0" y="42256"/>
                </a:lnTo>
                <a:arcTo wR="3600" hR="3600" stAng="10800000" swAng="-5400000"/>
                <a:lnTo>
                  <a:pt x="18000" y="458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5867280" y="6140520"/>
            <a:ext cx="1676520" cy="4572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5219640" y="2997360"/>
            <a:ext cx="1676520" cy="4572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7920" y="4437000"/>
            <a:ext cx="54612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卷积云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5508720" y="2997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积云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5940360" y="6093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高积云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1" name="Picture 20" descr="1"/>
          <p:cNvPicPr/>
          <p:nvPr/>
        </p:nvPicPr>
        <p:blipFill>
          <a:blip r:embed="rId3"/>
          <a:stretch/>
        </p:blipFill>
        <p:spPr>
          <a:xfrm>
            <a:off x="755640" y="3716280"/>
            <a:ext cx="3981600" cy="2817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1" descr="DSP00249"/>
          <p:cNvPicPr/>
          <p:nvPr/>
        </p:nvPicPr>
        <p:blipFill>
          <a:blip r:embed="rId4"/>
          <a:stretch/>
        </p:blipFill>
        <p:spPr>
          <a:xfrm>
            <a:off x="0" y="260280"/>
            <a:ext cx="3851280" cy="283212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22"/>
          <p:cNvSpPr/>
          <p:nvPr/>
        </p:nvSpPr>
        <p:spPr>
          <a:xfrm>
            <a:off x="468360" y="3213000"/>
            <a:ext cx="1676520" cy="4572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Text Box 25"/>
          <p:cNvSpPr/>
          <p:nvPr/>
        </p:nvSpPr>
        <p:spPr>
          <a:xfrm>
            <a:off x="684360" y="3213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卷云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2133720" y="228600"/>
            <a:ext cx="49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阴雨风雪</a:t>
            </a:r>
            <a:r>
              <a:rPr b="1" lang="zh-CN" sz="3600" spc="-1" strike="noStrike">
                <a:solidFill>
                  <a:srgbClr val="606060"/>
                </a:solidFill>
                <a:latin typeface="Arial"/>
              </a:rPr>
              <a:t>云层变化简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332000" y="1125360"/>
          <a:ext cx="7488000" cy="4480200"/>
        </p:xfrm>
        <a:graphic>
          <a:graphicData uri="http://schemas.openxmlformats.org/drawingml/2006/table">
            <a:tbl>
              <a:tblPr/>
              <a:tblGrid>
                <a:gridCol w="1485720"/>
                <a:gridCol w="2449440"/>
                <a:gridCol w="3552840"/>
              </a:tblGrid>
              <a:tr h="119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99ff"/>
                          </a:solidFill>
                          <a:latin typeface="Times New Roman"/>
                        </a:rPr>
                        <a:t>云名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99ff"/>
                          </a:solidFill>
                          <a:latin typeface="Times New Roman"/>
                        </a:rPr>
                        <a:t>形状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99ff"/>
                          </a:solidFill>
                          <a:latin typeface="Times New Roman"/>
                        </a:rPr>
                        <a:t>天气征兆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Text Box 41"/>
          <p:cNvSpPr/>
          <p:nvPr/>
        </p:nvSpPr>
        <p:spPr>
          <a:xfrm>
            <a:off x="395280" y="270828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 Box 42"/>
          <p:cNvSpPr/>
          <p:nvPr/>
        </p:nvSpPr>
        <p:spPr>
          <a:xfrm>
            <a:off x="1258920" y="249228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卷层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Text Box 43"/>
          <p:cNvSpPr/>
          <p:nvPr/>
        </p:nvSpPr>
        <p:spPr>
          <a:xfrm>
            <a:off x="1692360" y="278136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2843280" y="2276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像白绸幕蒙住天空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Text Box 47"/>
          <p:cNvSpPr/>
          <p:nvPr/>
        </p:nvSpPr>
        <p:spPr>
          <a:xfrm>
            <a:off x="5917320" y="24922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Arial"/>
              </a:rPr>
              <a:t>它向前推进，天气将转阴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Text Box 48"/>
          <p:cNvSpPr/>
          <p:nvPr/>
        </p:nvSpPr>
        <p:spPr>
          <a:xfrm>
            <a:off x="1403280" y="33577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高层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Text Box 50"/>
          <p:cNvSpPr/>
          <p:nvPr/>
        </p:nvSpPr>
        <p:spPr>
          <a:xfrm>
            <a:off x="2916360" y="3141720"/>
            <a:ext cx="23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像毛玻璃遮着太阳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Text Box 52"/>
          <p:cNvSpPr/>
          <p:nvPr/>
        </p:nvSpPr>
        <p:spPr>
          <a:xfrm>
            <a:off x="5364000" y="321300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Arial"/>
              </a:rPr>
              <a:t>往往在几个钟头内便要下雨或者下雪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Text Box 53"/>
          <p:cNvSpPr/>
          <p:nvPr/>
        </p:nvSpPr>
        <p:spPr>
          <a:xfrm>
            <a:off x="1258920" y="4149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雨层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Text Box 55"/>
          <p:cNvSpPr/>
          <p:nvPr/>
        </p:nvSpPr>
        <p:spPr>
          <a:xfrm>
            <a:off x="2916360" y="400536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暗灰色云块密布天空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Text Box 57"/>
          <p:cNvSpPr/>
          <p:nvPr/>
        </p:nvSpPr>
        <p:spPr>
          <a:xfrm>
            <a:off x="6133320" y="41497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连绵不断的雨雪就降临了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Text Box 59"/>
          <p:cNvSpPr/>
          <p:nvPr/>
        </p:nvSpPr>
        <p:spPr>
          <a:xfrm>
            <a:off x="1476360" y="49417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Arial"/>
              </a:rPr>
              <a:t>积雨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Text Box 60"/>
          <p:cNvSpPr/>
          <p:nvPr/>
        </p:nvSpPr>
        <p:spPr>
          <a:xfrm>
            <a:off x="2916360" y="4941720"/>
            <a:ext cx="203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乌云密布天空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Text Box 62"/>
          <p:cNvSpPr/>
          <p:nvPr/>
        </p:nvSpPr>
        <p:spPr>
          <a:xfrm>
            <a:off x="5219640" y="4797360"/>
            <a:ext cx="37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马上就会下暴雨，有时竟会带来冰雹或者龙卷风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E1312"/>
          <p:cNvPicPr/>
          <p:nvPr/>
        </p:nvPicPr>
        <p:blipFill>
          <a:blip r:embed="rId1"/>
          <a:srcRect l="0" t="4708" r="0" b="0"/>
          <a:stretch/>
        </p:blipFill>
        <p:spPr>
          <a:xfrm>
            <a:off x="2268360" y="0"/>
            <a:ext cx="2160720" cy="2093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20031017105443414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2100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B450727"/>
          <p:cNvPicPr/>
          <p:nvPr/>
        </p:nvPicPr>
        <p:blipFill>
          <a:blip r:embed="rId3"/>
          <a:srcRect l="0" t="0" r="0" b="3766"/>
          <a:stretch/>
        </p:blipFill>
        <p:spPr>
          <a:xfrm>
            <a:off x="2340000" y="3213000"/>
            <a:ext cx="2195640" cy="244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4ycy"/>
          <p:cNvPicPr/>
          <p:nvPr/>
        </p:nvPicPr>
        <p:blipFill>
          <a:blip r:embed="rId4"/>
          <a:stretch/>
        </p:blipFill>
        <p:spPr>
          <a:xfrm>
            <a:off x="4643280" y="3213000"/>
            <a:ext cx="2160720" cy="2376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风暴来临"/>
          <p:cNvPicPr/>
          <p:nvPr/>
        </p:nvPicPr>
        <p:blipFill>
          <a:blip r:embed="rId5"/>
          <a:stretch/>
        </p:blipFill>
        <p:spPr>
          <a:xfrm>
            <a:off x="6948360" y="3213000"/>
            <a:ext cx="2195640" cy="237672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7"/>
          <p:cNvSpPr/>
          <p:nvPr/>
        </p:nvSpPr>
        <p:spPr>
          <a:xfrm>
            <a:off x="2484360" y="2276640"/>
            <a:ext cx="1676520" cy="4572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7308720" y="5996160"/>
            <a:ext cx="1676520" cy="4572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5003640" y="5996160"/>
            <a:ext cx="1676520" cy="4572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2556000" y="5924520"/>
            <a:ext cx="1676160" cy="4572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7308720" y="2421000"/>
            <a:ext cx="1676520" cy="4572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4859280" y="2349360"/>
            <a:ext cx="1676520" cy="4572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2700360" y="2276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卷积云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5292720" y="2349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积云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7524720" y="2421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高积云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2771640" y="5924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高层云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5148360" y="599616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雨层云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7524720" y="59961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积雨云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8" name="Picture 20" descr="1"/>
          <p:cNvPicPr/>
          <p:nvPr/>
        </p:nvPicPr>
        <p:blipFill>
          <a:blip r:embed="rId6"/>
          <a:stretch/>
        </p:blipFill>
        <p:spPr>
          <a:xfrm>
            <a:off x="4572000" y="0"/>
            <a:ext cx="2232000" cy="2128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1" descr="DSP00249"/>
          <p:cNvPicPr/>
          <p:nvPr/>
        </p:nvPicPr>
        <p:blipFill>
          <a:blip r:embed="rId7"/>
          <a:stretch/>
        </p:blipFill>
        <p:spPr>
          <a:xfrm>
            <a:off x="0" y="0"/>
            <a:ext cx="2050920" cy="205740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22"/>
          <p:cNvSpPr/>
          <p:nvPr/>
        </p:nvSpPr>
        <p:spPr>
          <a:xfrm>
            <a:off x="179280" y="2276640"/>
            <a:ext cx="1676520" cy="4572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AutoShape 23"/>
          <p:cNvSpPr/>
          <p:nvPr/>
        </p:nvSpPr>
        <p:spPr>
          <a:xfrm>
            <a:off x="179280" y="5924520"/>
            <a:ext cx="1676520" cy="4572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395280" y="59961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卷层云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395280" y="2276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卷云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4" name="Picture 26" descr="B450728"/>
          <p:cNvPicPr/>
          <p:nvPr/>
        </p:nvPicPr>
        <p:blipFill>
          <a:blip r:embed="rId8"/>
          <a:srcRect l="0" t="0" r="0" b="4510"/>
          <a:stretch/>
        </p:blipFill>
        <p:spPr>
          <a:xfrm>
            <a:off x="0" y="3213000"/>
            <a:ext cx="223200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E129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6" name=""/>
          <p:cNvGraphicFramePr/>
          <p:nvPr/>
        </p:nvGraphicFramePr>
        <p:xfrm>
          <a:off x="179280" y="907920"/>
          <a:ext cx="8820360" cy="5113440"/>
        </p:xfrm>
        <a:graphic>
          <a:graphicData uri="http://schemas.openxmlformats.org/drawingml/2006/table">
            <a:tbl>
              <a:tblPr/>
              <a:tblGrid>
                <a:gridCol w="963720"/>
                <a:gridCol w="3276720"/>
                <a:gridCol w="1211040"/>
                <a:gridCol w="336888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光名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产生和分布情况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光彩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天气征兆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66"/>
                          </a:solidFill>
                          <a:latin typeface="Times New Roman"/>
                          <a:ea typeface="楷体_GB2312"/>
                        </a:rPr>
                        <a:t>晕</a:t>
                      </a:r>
                      <a:endParaRPr b="0" lang="en-US" sz="4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9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66"/>
                          </a:solidFill>
                          <a:latin typeface="隶书"/>
                          <a:ea typeface="隶书"/>
                        </a:rPr>
                        <a:t>华</a:t>
                      </a:r>
                      <a:endParaRPr b="0" lang="en-US" sz="4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虹</a:t>
                      </a:r>
                      <a:endParaRPr b="0" lang="en-US" sz="4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6600"/>
                          </a:solidFill>
                          <a:latin typeface="Times New Roman"/>
                          <a:ea typeface="华文行楷"/>
                        </a:rPr>
                        <a:t>霞</a:t>
                      </a:r>
                      <a:endParaRPr b="0" lang="en-US" sz="4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Text Box 35"/>
          <p:cNvSpPr/>
          <p:nvPr/>
        </p:nvSpPr>
        <p:spPr>
          <a:xfrm>
            <a:off x="1295280" y="1523880"/>
            <a:ext cx="28195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  <a:ea typeface="Times New Roman"/>
              </a:rPr>
              <a:t>产生在卷层云上，分布在日月周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Text Box 36"/>
          <p:cNvSpPr/>
          <p:nvPr/>
        </p:nvSpPr>
        <p:spPr>
          <a:xfrm>
            <a:off x="1295280" y="251460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  <a:ea typeface="Times New Roman"/>
              </a:rPr>
              <a:t>产生在高积云边缘部分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Text Box 37"/>
          <p:cNvSpPr/>
          <p:nvPr/>
        </p:nvSpPr>
        <p:spPr>
          <a:xfrm>
            <a:off x="1295280" y="380988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  <a:ea typeface="Times New Roman"/>
              </a:rPr>
              <a:t>雨过天晴，在太阳对面的云幕上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Text Box 38"/>
          <p:cNvSpPr/>
          <p:nvPr/>
        </p:nvSpPr>
        <p:spPr>
          <a:xfrm>
            <a:off x="1219320" y="4952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Arial"/>
                <a:ea typeface="Times New Roman"/>
              </a:rPr>
              <a:t>早、晚，太阳照着对面的云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Text Box 39"/>
          <p:cNvSpPr/>
          <p:nvPr/>
        </p:nvSpPr>
        <p:spPr>
          <a:xfrm>
            <a:off x="4495680" y="144792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  <a:ea typeface="Times New Roman"/>
              </a:rPr>
              <a:t>里红外紫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Text Box 40"/>
          <p:cNvSpPr/>
          <p:nvPr/>
        </p:nvSpPr>
        <p:spPr>
          <a:xfrm>
            <a:off x="4495680" y="2590920"/>
            <a:ext cx="106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  <a:ea typeface="Times New Roman"/>
              </a:rPr>
              <a:t>里紫外红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Text Box 41"/>
          <p:cNvSpPr/>
          <p:nvPr/>
        </p:nvSpPr>
        <p:spPr>
          <a:xfrm>
            <a:off x="6172200" y="14479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日晕三更雨，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月晕午时风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Text Box 42"/>
          <p:cNvSpPr/>
          <p:nvPr/>
        </p:nvSpPr>
        <p:spPr>
          <a:xfrm>
            <a:off x="5715000" y="2590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华环由小变大，转晴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华环由大变小，转阴雨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Text Box 43"/>
          <p:cNvSpPr/>
          <p:nvPr/>
        </p:nvSpPr>
        <p:spPr>
          <a:xfrm>
            <a:off x="5943600" y="3962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东虹轰隆西虹雨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Text Box 44"/>
          <p:cNvSpPr/>
          <p:nvPr/>
        </p:nvSpPr>
        <p:spPr>
          <a:xfrm>
            <a:off x="4572000" y="378792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  <a:ea typeface="Times New Roman"/>
              </a:rPr>
              <a:t>彩色圆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Text Box 45"/>
          <p:cNvSpPr/>
          <p:nvPr/>
        </p:nvSpPr>
        <p:spPr>
          <a:xfrm>
            <a:off x="4572000" y="4876920"/>
            <a:ext cx="9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  <a:ea typeface="Times New Roman"/>
              </a:rPr>
              <a:t>云层变红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Text Box 46"/>
          <p:cNvSpPr/>
          <p:nvPr/>
        </p:nvSpPr>
        <p:spPr>
          <a:xfrm>
            <a:off x="5943600" y="4876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朝霞西阴雨袭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Times New Roman"/>
              </a:rPr>
              <a:t>晚霞东几天晴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Rectangle 47"/>
          <p:cNvSpPr/>
          <p:nvPr/>
        </p:nvSpPr>
        <p:spPr>
          <a:xfrm>
            <a:off x="1600200" y="15228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隶书"/>
              </a:rPr>
              <a:t>不同</a:t>
            </a:r>
            <a:r>
              <a:rPr b="1" lang="zh-CN" sz="4000" spc="-1" strike="noStrike">
                <a:solidFill>
                  <a:srgbClr val="c00000"/>
                </a:solidFill>
                <a:latin typeface="Arial"/>
                <a:ea typeface="隶书"/>
              </a:rPr>
              <a:t>光彩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隶书"/>
              </a:rPr>
              <a:t>的云变化简表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pic004"/>
          <p:cNvPicPr/>
          <p:nvPr/>
        </p:nvPicPr>
        <p:blipFill>
          <a:blip r:embed="rId1"/>
          <a:stretch/>
        </p:blipFill>
        <p:spPr>
          <a:xfrm>
            <a:off x="468360" y="765000"/>
            <a:ext cx="4032360" cy="2592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pic050"/>
          <p:cNvPicPr/>
          <p:nvPr/>
        </p:nvPicPr>
        <p:blipFill>
          <a:blip r:embed="rId2"/>
          <a:stretch/>
        </p:blipFill>
        <p:spPr>
          <a:xfrm>
            <a:off x="4643280" y="476280"/>
            <a:ext cx="3996000" cy="2521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BJ2106"/>
          <p:cNvPicPr/>
          <p:nvPr/>
        </p:nvPicPr>
        <p:blipFill>
          <a:blip r:embed="rId3"/>
          <a:stretch/>
        </p:blipFill>
        <p:spPr>
          <a:xfrm>
            <a:off x="539640" y="3645000"/>
            <a:ext cx="4105440" cy="2736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pic015"/>
          <p:cNvPicPr/>
          <p:nvPr/>
        </p:nvPicPr>
        <p:blipFill>
          <a:blip r:embed="rId4"/>
          <a:stretch/>
        </p:blipFill>
        <p:spPr>
          <a:xfrm>
            <a:off x="4859280" y="3284640"/>
            <a:ext cx="3889440" cy="29509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2946240" y="1197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晕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5538960" y="981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华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1795320" y="3933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虹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5379480" y="4322880"/>
            <a:ext cx="8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霞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*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1:05:59Z</dcterms:created>
  <dc:creator>语文备课大师</dc:creator>
  <dc:description/>
  <cp:keywords/>
  <dc:language>en-US</dc:language>
  <cp:lastModifiedBy>deng</cp:lastModifiedBy>
  <cp:lastPrinted>1899-12-30T00:00:00Z</cp:lastPrinted>
  <dcterms:modified xsi:type="dcterms:W3CDTF">2013-12-10T04:45:00Z</dcterms:modified>
  <cp:revision>0</cp:revision>
  <dc:subject/>
  <dc:title>语文备课大师</dc:title>
</cp:coreProperties>
</file>