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1D6-25C7-4E3F-B61E-B985261A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F5C-52F1-4F4D-8699-26096E53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143-A568-43AF-90D3-32BD073D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390-A494-4E07-9854-AF10A31B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934-79EC-4CFA-8DB7-9D1FC3A3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A8C-5554-4312-BFFE-06F7C251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D25-8F02-43FD-8899-B79DDF1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916-EDDF-4DC3-9B4C-57B0FFBE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D4A-4EFD-4DB1-9AD5-3D787269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487-0B5A-449E-89CA-4ADB2EF8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4BB-9073-41BA-90E6-3DCF81AD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936-7D6C-4B18-ADF6-7A9C1D51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file:///../../&#30446;&#24405;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7.xml"/><Relationship Id="rId8" Type="http://schemas.openxmlformats.org/officeDocument/2006/relationships/image" Target="../media/image5.png"/><Relationship Id="rId9" Type="http://schemas.openxmlformats.org/officeDocument/2006/relationships/slide" Target="slide2.xml"/><Relationship Id="rId10" Type="http://schemas.openxmlformats.org/officeDocument/2006/relationships/image" Target="../media/image6.png"/><Relationship Id="rId11" Type="http://schemas.openxmlformats.org/officeDocument/2006/relationships/slide" Target="slide14.xml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file:///../../&#30446;&#24405;.ppt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2351160"/>
            <a:ext cx="895320" cy="249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1514520"/>
            <a:ext cx="895320" cy="255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1932120"/>
            <a:ext cx="89532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4713120"/>
            <a:ext cx="1359000" cy="95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1160" y="1266840"/>
            <a:ext cx="368280" cy="3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825480"/>
            <a:ext cx="31680" cy="876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800" y="1484280"/>
            <a:ext cx="8226360" cy="2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686960" indent="-1872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1162080" y="520236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3657240" y="520236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3"/>
          </p:nvPr>
        </p:nvSpPr>
        <p:spPr>
          <a:xfrm>
            <a:off x="7041960" y="520236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B3B0-3BA0-4673-9AC6-89C7EB1172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5120" y="1701000"/>
            <a:ext cx="74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　看云识天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39760" y="200160"/>
            <a:ext cx="781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雨雪冰雹云层变化表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390680" y="944640"/>
          <a:ext cx="7334280" cy="4486320"/>
        </p:xfrm>
        <a:graphic>
          <a:graphicData uri="http://schemas.openxmlformats.org/drawingml/2006/table">
            <a:tbl>
              <a:tblPr/>
              <a:tblGrid>
                <a:gridCol w="1212840"/>
                <a:gridCol w="1803240"/>
                <a:gridCol w="2070360"/>
                <a:gridCol w="2247840"/>
              </a:tblGrid>
              <a:tr h="596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云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变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形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天气征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像白色绸幕蒙住天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层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将要下雨或下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层云更低更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积雨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大的云山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乌云弥漫天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24080" y="203040"/>
            <a:ext cx="781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95280" y="927000"/>
          <a:ext cx="7506000" cy="4375080"/>
        </p:xfrm>
        <a:graphic>
          <a:graphicData uri="http://schemas.openxmlformats.org/drawingml/2006/table">
            <a:tbl>
              <a:tblPr/>
              <a:tblGrid>
                <a:gridCol w="1041480"/>
                <a:gridCol w="1676520"/>
                <a:gridCol w="2324160"/>
                <a:gridCol w="2463840"/>
              </a:tblGrid>
              <a:tr h="52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云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变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形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天气征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卷层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卷云聚集向前推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像白色绸幕蒙住天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晴转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层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卷层云越来越低越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像一层毛玻璃朦胧不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要下雨或下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雨层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层云更低更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暗灰色云块布满天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雨雪连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积雨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积云迅速凸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大的云山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乌云弥漫天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下暴雨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有时会带来冰雹或龙卷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01600" y="479520"/>
            <a:ext cx="7820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云的光彩简表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330200" y="1185840"/>
          <a:ext cx="7359840" cy="3525840"/>
        </p:xfrm>
        <a:graphic>
          <a:graphicData uri="http://schemas.openxmlformats.org/drawingml/2006/table">
            <a:tbl>
              <a:tblPr/>
              <a:tblGrid>
                <a:gridCol w="873360"/>
                <a:gridCol w="1446120"/>
                <a:gridCol w="5040360"/>
              </a:tblGrid>
              <a:tr h="85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名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特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预示天气的情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里紫外红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晚霞在东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天气晴朗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;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朝霞在西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有阴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89000" y="162000"/>
            <a:ext cx="781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79440" y="861840"/>
          <a:ext cx="7398000" cy="4486320"/>
        </p:xfrm>
        <a:graphic>
          <a:graphicData uri="http://schemas.openxmlformats.org/drawingml/2006/table">
            <a:tbl>
              <a:tblPr/>
              <a:tblGrid>
                <a:gridCol w="854280"/>
                <a:gridCol w="2181240"/>
                <a:gridCol w="4362480"/>
              </a:tblGrid>
              <a:tr h="596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名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特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预示天气的情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外紫里红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大风雨的征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里紫外红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变大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天气趋向晴好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;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大变小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天气可能转为阴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彩色的圆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在东方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有雷无雨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;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在西方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有大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红色的云层出现在清晨或傍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晚霞在东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天气晴朗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;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朝霞在西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有阴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2000" y="965160"/>
            <a:ext cx="7642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赏析语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本文语言优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运用了多种修辞手法。另外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用词准确、严密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体现了说明文的语言特点。请联系具体语境赏析下列句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它们有时把天空点缀得很美丽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有时又把天空笼罩得很阴森。刚才还是白云朵朵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阳光灿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一霎间却又是乌云密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大雨倾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段话运用了对比的修辞手法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出地显示了天气的变化无常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0" t="26101" r="0" b="54882"/>
          <a:stretch/>
        </p:blipFill>
        <p:spPr>
          <a:xfrm>
            <a:off x="3033720" y="0"/>
            <a:ext cx="4376880" cy="84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54160" y="660240"/>
            <a:ext cx="17589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14560" y="1317600"/>
            <a:ext cx="7819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最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云压得更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变得更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太阳和月亮都躲藏了起来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空被暗灰色的云块密密层层地布满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拟人的修辞手法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“躲藏”逼真地烘托出云层之低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块之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准确又生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3800" y="619200"/>
            <a:ext cx="78199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3)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空的薄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往往是天气晴朗的象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些低而厚密的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常常是阴雨风雪的预兆”一句中加点的词语能否删掉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什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删掉。“往往”“常常”是“大多、通常”的意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限定的作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大多数情况下是这样的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气的变化异常复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云识天气毕竟有一定的局限性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不排除有其他天气状况。如果去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表明天空的薄云一定是天气晴朗的象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而厚密的云层一定是阴雨风雪的预兆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实际情况不符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189240" y="830160"/>
            <a:ext cx="993960" cy="493200"/>
            <a:chOff x="3189240" y="830160"/>
            <a:chExt cx="993960" cy="493200"/>
          </a:xfrm>
        </p:grpSpPr>
        <p:sp>
          <p:nvSpPr>
            <p:cNvPr id="155" name=""/>
            <p:cNvSpPr/>
            <p:nvPr/>
          </p:nvSpPr>
          <p:spPr>
            <a:xfrm>
              <a:off x="3189240" y="833400"/>
              <a:ext cx="689040" cy="489960"/>
            </a:xfrm>
            <a:prstGeom prst="rect">
              <a:avLst/>
            </a:prstGeom>
            <a:solidFill>
              <a:srgbClr val="00e4a8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宋体"/>
                </a:rPr>
                <a:t>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94160" y="830160"/>
              <a:ext cx="689040" cy="489960"/>
            </a:xfrm>
            <a:prstGeom prst="rect">
              <a:avLst/>
            </a:prstGeom>
            <a:solidFill>
              <a:srgbClr val="00e4a8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宋体"/>
                </a:rPr>
                <a:t>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51080" y="1338120"/>
            <a:ext cx="993240" cy="493200"/>
            <a:chOff x="1351080" y="1338120"/>
            <a:chExt cx="993240" cy="493200"/>
          </a:xfrm>
        </p:grpSpPr>
        <p:sp>
          <p:nvSpPr>
            <p:cNvPr id="158" name=""/>
            <p:cNvSpPr/>
            <p:nvPr/>
          </p:nvSpPr>
          <p:spPr>
            <a:xfrm>
              <a:off x="1351080" y="1341360"/>
              <a:ext cx="688680" cy="489960"/>
            </a:xfrm>
            <a:prstGeom prst="rect">
              <a:avLst/>
            </a:prstGeom>
            <a:solidFill>
              <a:srgbClr val="00e4a8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宋体"/>
                </a:rPr>
                <a:t>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55640" y="1338120"/>
              <a:ext cx="688680" cy="489960"/>
            </a:xfrm>
            <a:prstGeom prst="rect">
              <a:avLst/>
            </a:prstGeom>
            <a:solidFill>
              <a:srgbClr val="00e4a8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宋体"/>
                </a:rPr>
                <a:t>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9000" y="581040"/>
            <a:ext cx="7819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说明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为了将事物说明得更加清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作者主要运用了分类别和打比方的说明方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分类别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将被说明的对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按照一定的标准划分成不同的类别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类一类地加以说明。如本文作者首先把云分为两大类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同形态的云和不同光彩的云。继而又把不同形态的云分为晴天的云和雨雪天气的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再把这两种不同天气的云又各分成四类具体介绍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让我们读起来层次井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条理清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01600" y="593640"/>
            <a:ext cx="78202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打比方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利用两种不同事物之间的相似之处做比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突出事物的特点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增强说明的形象性和生动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用这个方法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可以把抽象复杂的事理说得浅显易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具体生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请找出文中运用打比方这种说明方法的句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并仿照参考示例说明其作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参考示例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云就像是天气的“招牌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上挂什么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就将出现什么样的天气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01600" y="542880"/>
            <a:ext cx="78202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点拨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赏析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运用打比方的说明方法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生动形象地说明了看云和识天气的关系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增强了文章的趣味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82680" y="1123920"/>
            <a:ext cx="70707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4560" y="1863720"/>
            <a:ext cx="7819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题目解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题中的“看”意为观察、考察。“识”意为识别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辨别。“看云”是识天气的手段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题意思为通过观察天上的云可以识别天气。题目即概括了文章内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图片5"/>
          <p:cNvPicPr/>
          <p:nvPr/>
        </p:nvPicPr>
        <p:blipFill>
          <a:blip r:embed="rId2"/>
          <a:srcRect l="0" t="52381" r="0" b="0"/>
          <a:stretch/>
        </p:blipFill>
        <p:spPr>
          <a:xfrm>
            <a:off x="7962840" y="155520"/>
            <a:ext cx="990720" cy="635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0" t="1716" r="0" b="80554"/>
          <a:stretch/>
        </p:blipFill>
        <p:spPr>
          <a:xfrm>
            <a:off x="3014640" y="546120"/>
            <a:ext cx="4376880" cy="789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9360" y="1459080"/>
            <a:ext cx="17589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76400" y="441360"/>
            <a:ext cx="7819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一试身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卷云丝丝缕缕地漂浮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有时像一片白色的羽毛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有时像一块洁白的绫纱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打比方的说明方法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动形象地说明了卷云轻盈和洁白的特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它们有的像羽毛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轻轻地飘在空中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有的像鱼鳞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一片片整整齐齐地排列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有的像羊群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来来去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打比方的说明方法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动形象地说明了天上的云姿态万千、优美可爱的特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27160" y="441360"/>
            <a:ext cx="84805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知识拓展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方法及其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为了把事物特征说清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把事理阐释明白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使用恰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说明方法。常见的说明方法及其作用是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例子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地说明了事物的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类别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理清楚地说明了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的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数字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而准确地说明该事物的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说明更有说服力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比较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出强调了被说明对象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位、影响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定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科学、更本质、更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9000" y="708120"/>
            <a:ext cx="78199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括地揭示事物的特征、事理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6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比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动形象地说明该事物的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强了文章的趣味性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7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图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读者一目了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直观形象地说明事物的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8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诠释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事物的特征、事理加以具体地解释说明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说明更通俗易懂。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9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摹状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事物的特征、事理加以形象化的描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说明更具体生动形象。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0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引用的方法说明事物的特征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强说服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14560" y="525600"/>
            <a:ext cx="78199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学习本文过程中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灿烂阳光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网名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同学在班级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QQ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群中发出了下面的帖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请你跟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灿烂阳光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本文介绍了这么多的云和云的光彩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但我们读来条理清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作者是怎样做到这一点的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对此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大家有何看法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畅所欲言吧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旭日阳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文章先说不同形态的云和天气的关系。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段概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先用“天上的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真是姿态万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变化无常”一句总说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然后描绘了万千姿态的云。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段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段的“纲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: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天空的薄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往往是天气晴朗的象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那些低而厚密的云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常常是阴雨风雪的预兆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后面三段就是遵循这个“纲”展开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50840" y="82440"/>
            <a:ext cx="17589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6400" y="758880"/>
            <a:ext cx="78199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蓝色季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好了好了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接着你的话茬说吧。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段照应“天空的薄云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往往是天气晴朗的象征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段照应“低而厚密的云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常常是阴雨风雪的预兆”。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自然段开始写云的光彩同天气的关系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最后一段总结全文。在文章内部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作者也是按照一定的思路来介绍的。例如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把“薄云”分为“卷云”“卷积云”“积云”和“高积云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并分别介绍了它们的特点及和天气的关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60400" y="1201680"/>
            <a:ext cx="718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依据图示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完成下题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归纳反思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49480" y="696960"/>
            <a:ext cx="1758960" cy="512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309680" y="1889280"/>
            <a:ext cx="6627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89000" y="1000080"/>
            <a:ext cx="78199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《看云识天气》是一篇介绍科学知识的说明文。文章按照“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”的结构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生动形象的语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通过对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分类介绍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说明了云和天气的关系、云的变化与天气变化的关系、看云与识天气的关系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并且告诉我们怎样认识、掌握这些规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—分—总　云的形态　云的光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rcRect l="0" t="50486" r="0" b="29242"/>
          <a:stretch/>
        </p:blipFill>
        <p:spPr>
          <a:xfrm>
            <a:off x="2827440" y="1131840"/>
            <a:ext cx="43765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14560" y="1317600"/>
            <a:ext cx="7819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体知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科学小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也称知识小品或文艺性说明文。它用小品文的笔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即借助某些文学写作手法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将科学内容生动、形象地表达出来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寓科学性、知识性、趣味性、娱乐性为一体。一般短小精悍、通俗易懂、语言丰富多彩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形式生动活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4560" y="1317600"/>
            <a:ext cx="78199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音辨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冰雹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月晕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谚语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luán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崩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tā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轻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ínɡ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báo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ù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à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峦　塌　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08080" y="851040"/>
            <a:ext cx="1758960" cy="512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74840" y="20829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10080" y="2070000"/>
            <a:ext cx="68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78560" y="20829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4560" y="1317600"/>
            <a:ext cx="7819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据义填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事前显露出的迹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即将出现的迹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变化多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没有一定的规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难以捉摸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兆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兆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无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4560" y="1317600"/>
            <a:ext cx="7819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近义词辨析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　　　　　　　预兆、征兆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【同】都有事先显露出迹象的意思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【异】“预兆”侧重指迹象、现象。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瑞雪预兆来年丰收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“征兆”侧重于反应现象的具体特征。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不祥的征兆。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85760" y="1120680"/>
            <a:ext cx="78202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走进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课文第一部分哪些句子说明了云的“姿态万千”和“变化无常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请在文中画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有的像羽毛……像奔马”八个比喻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了云的“姿态万千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时把天空点缀得很美丽……大雨倾盆”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了云的“变化无常”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4560" y="289080"/>
            <a:ext cx="7819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阅读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段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掌握云及其光彩的种类、特征和它们分别表示的天气情况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提示填写下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晴天云彩简表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第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段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463760" y="2075040"/>
          <a:ext cx="6915240" cy="2528640"/>
        </p:xfrm>
        <a:graphic>
          <a:graphicData uri="http://schemas.openxmlformats.org/drawingml/2006/table">
            <a:tbl>
              <a:tblPr/>
              <a:tblGrid>
                <a:gridCol w="1044360"/>
                <a:gridCol w="2419560"/>
                <a:gridCol w="3451320"/>
              </a:tblGrid>
              <a:tr h="506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云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形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天气情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卷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它一般不会带来雨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像鳞波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积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像雪白的羊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4560" y="746280"/>
            <a:ext cx="781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1000" y="1523880"/>
          <a:ext cx="7092720" cy="2919600"/>
        </p:xfrm>
        <a:graphic>
          <a:graphicData uri="http://schemas.openxmlformats.org/drawingml/2006/table">
            <a:tbl>
              <a:tblPr/>
              <a:tblGrid>
                <a:gridCol w="1266480"/>
                <a:gridCol w="2364120"/>
                <a:gridCol w="3462120"/>
              </a:tblGrid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云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形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天气情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卷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像羽毛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,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像绫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它一般不会带来雨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卷积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像鳞波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它一般不会带来雨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积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像棉花团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在天空映着灿烂的阳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积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像雪白的羊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云块间露出碧蓝的天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> </dc:description>
  <dc:language>en-US</dc:language>
  <cp:lastModifiedBy>书利华教育网（数理化网）</cp:lastModifiedBy>
  <dcterms:modified xsi:type="dcterms:W3CDTF">2014-08-13T05:33:52Z</dcterms:modified>
  <cp:revision>1</cp:revision>
  <dc:subject>语文大师 xiexingcun.com</dc:subject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