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B33-AF93-415B-9450-BB94AD96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077-BAE2-4E18-963F-C0808565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F87-764C-4AE9-9520-98F71CA5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C1B-633C-4556-9A81-D4205B7F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90D3-2D78-47C3-A394-E8153363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C57D-68AC-4E57-B7C7-38032EFB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3296-8C99-4887-8D4B-FF8E5767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5AF9-072F-4FB5-9FF2-F32795F5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5886-2CE2-4B72-B9B3-2734547D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BEB2-5DDC-40D9-B2C3-2F3FD077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86BB-A3AF-4358-8201-FC18EDE4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6BE-AC88-451B-9DA0-CE8F34FC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E44D-B1BC-4D37-BE31-D4CE6A0D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E4A-270D-48E0-9EAD-4AEAA54C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566E-D791-4DCB-8426-2FC6D44E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DA89-C891-488B-8E95-A00DEEB1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594E-081B-4074-8EB8-BB150707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F62-4CD4-4FB6-A54C-3B970689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924-66A0-426D-A4C9-18369B0E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577-3427-4280-8002-97CDF5E6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D50-2A12-4225-8B1E-786CDB1A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464-7537-4654-8724-3E7971E7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481-6B58-4ED9-97D4-21FE04E7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0F6-34C1-442C-999A-2A9979D2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F3DC-213A-4719-92D6-313E82EA00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D21C-F38A-49E8-A3BA-C23C235A46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4368960"/>
            <a:ext cx="4753080" cy="244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540160" cy="571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47640" y="836640"/>
            <a:ext cx="4819680" cy="1308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132000" y="1965240"/>
            <a:ext cx="2698920" cy="3911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389640" y="115920"/>
            <a:ext cx="2646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198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常常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中飞翔的鸽子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注视水底游动的鱼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42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198900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常常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中飞翔的鸽子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视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底游动的鱼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47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98900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常常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中飞翔的鸽子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视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底游动的鱼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52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5280" y="1773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日子一长，他的双眼渐渐灵活起来。人们都说，梅兰芳的眼睛会说话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57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1773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日子一长，他的双眼渐渐灵活起来。人们都说，梅兰芳的眼睛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说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62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65" name="Picture 1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-11836440"/>
            <a:ext cx="9110520" cy="186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70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00000" y="184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经过勤学苦练，梅兰芳终于成为世界闻名的京剧大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75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00000" y="1844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经过勤学苦练，梅兰芳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终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成为世界闻名的京剧大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80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84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6" name=""/>
          <p:cNvGraphicFramePr/>
          <p:nvPr/>
        </p:nvGraphicFramePr>
        <p:xfrm>
          <a:off x="3894120" y="19875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矩形 12"/>
          <p:cNvSpPr/>
          <p:nvPr/>
        </p:nvSpPr>
        <p:spPr>
          <a:xfrm>
            <a:off x="4067280" y="19162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16000" y="19890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矩形 12"/>
          <p:cNvSpPr/>
          <p:nvPr/>
        </p:nvSpPr>
        <p:spPr>
          <a:xfrm>
            <a:off x="1289160" y="19177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95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7" name="FOfficeDoc1"/>
          <p:cNvGraphicFramePr/>
          <p:nvPr/>
        </p:nvGraphicFramePr>
        <p:xfrm>
          <a:off x="4356000" y="1413000"/>
          <a:ext cx="4465800" cy="357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FOfficeDoc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56000" y="1413000"/>
                    <a:ext cx="44658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FOfficeDoc1"/>
          <p:cNvGraphicFramePr/>
          <p:nvPr/>
        </p:nvGraphicFramePr>
        <p:xfrm>
          <a:off x="4356000" y="1430280"/>
          <a:ext cx="4465800" cy="3573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FOfficeDoc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56000" y="1430280"/>
                    <a:ext cx="44658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92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611280" y="1341360"/>
            <a:ext cx="5832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推荐阅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凿壁借光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囊萤映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99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05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11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17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FOfficeDoc1"/>
          <p:cNvGraphicFramePr/>
          <p:nvPr/>
        </p:nvGraphicFramePr>
        <p:xfrm>
          <a:off x="1079640" y="1438200"/>
          <a:ext cx="4464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38200"/>
                    <a:ext cx="4464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23" name="Picture 1" descr=""/>
            <p:cNvPicPr/>
            <p:nvPr/>
          </p:nvPicPr>
          <p:blipFill>
            <a:blip r:embed="rId4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03280" y="2060640"/>
            <a:ext cx="74167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花、兰草、木兰、玉兰、马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名、芳香、芳草、芳容、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张、紧跟、加紧、要紧、吃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、或许、或是、间或、或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、生活、干活、活命、农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24000" y="2133720"/>
            <a:ext cx="9349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30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403280" y="2133720"/>
            <a:ext cx="74167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、学者、读者、作者、长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、注视、专注、注定、注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、斜视、电视、视线、环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气、灵活、灵光、机灵、神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324000" y="2133720"/>
            <a:ext cx="934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37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7120" y="785880"/>
            <a:ext cx="14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57120" y="179064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389480" y="177336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57120" y="393372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427640" y="393372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46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210960" y="76500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15840" y="15699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矩形 12"/>
          <p:cNvSpPr/>
          <p:nvPr/>
        </p:nvSpPr>
        <p:spPr>
          <a:xfrm>
            <a:off x="108900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508200" y="155592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矩形 12"/>
          <p:cNvSpPr/>
          <p:nvPr/>
        </p:nvSpPr>
        <p:spPr>
          <a:xfrm>
            <a:off x="3681360" y="14842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172200" y="15699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矩形 12"/>
          <p:cNvSpPr/>
          <p:nvPr/>
        </p:nvSpPr>
        <p:spPr>
          <a:xfrm>
            <a:off x="634536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71640" y="3443400"/>
          <a:ext cx="171108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矩形 12"/>
          <p:cNvSpPr/>
          <p:nvPr/>
        </p:nvSpPr>
        <p:spPr>
          <a:xfrm>
            <a:off x="1144440" y="337176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564000" y="34290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矩形 12"/>
          <p:cNvSpPr/>
          <p:nvPr/>
        </p:nvSpPr>
        <p:spPr>
          <a:xfrm>
            <a:off x="3736800" y="33577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227640" y="34434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矩形 12"/>
          <p:cNvSpPr/>
          <p:nvPr/>
        </p:nvSpPr>
        <p:spPr>
          <a:xfrm>
            <a:off x="6400800" y="337176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71640" y="5243400"/>
          <a:ext cx="171108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矩形 12"/>
          <p:cNvSpPr/>
          <p:nvPr/>
        </p:nvSpPr>
        <p:spPr>
          <a:xfrm>
            <a:off x="1144440" y="51721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564000" y="52293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矩形 12"/>
          <p:cNvSpPr/>
          <p:nvPr/>
        </p:nvSpPr>
        <p:spPr>
          <a:xfrm>
            <a:off x="3736800" y="51577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245280" y="52434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矩形 12"/>
          <p:cNvSpPr/>
          <p:nvPr/>
        </p:nvSpPr>
        <p:spPr>
          <a:xfrm>
            <a:off x="6418440" y="51721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269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79280" y="9079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395280" y="1916280"/>
            <a:ext cx="84996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兰芳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没神儿     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者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盯       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视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勤学苦练   京剧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05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280" y="765000"/>
            <a:ext cx="82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兰芳小时候去拜师学艺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傅说他的眼睛没有神儿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唱戏的料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10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8280" y="765000"/>
            <a:ext cx="82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兰芳小时候去拜师学艺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傅说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的眼睛没有神儿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是唱戏的料子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0800" y="35002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不是唱戏的料子”意思就是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4076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没有唱戏的天份，唱不好戏，不可能出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76760"/>
            <a:ext cx="82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傅说梅兰芳不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因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梅兰芳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师傅说他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18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1773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兰芳学艺的决心没有动摇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23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1773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兰芳学艺的决心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动摇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28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31" name="Picture 1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-11836440"/>
            <a:ext cx="9110520" cy="186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81640" y="189000"/>
            <a:ext cx="2752920" cy="6458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198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常常紧盯空中飞翔的鸽子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注视水底游动的鱼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5280" y="189000"/>
            <a:ext cx="5041800" cy="684000"/>
            <a:chOff x="395280" y="189000"/>
            <a:chExt cx="5041800" cy="684000"/>
          </a:xfrm>
        </p:grpSpPr>
        <p:pic>
          <p:nvPicPr>
            <p:cNvPr id="137" name="Picture 1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2540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2916360" y="189000"/>
              <a:ext cx="2520720" cy="6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6:25:22Z</dcterms:created>
  <dc:creator>语文备课大师 www.xiexingcun.com【全免费】</dc:creator>
  <dc:description>语文备课大师 www.xiexingcun.com【全免费】</dc:description>
  <dc:language>en-US</dc:language>
  <cp:lastModifiedBy>DELL</cp:lastModifiedBy>
  <dcterms:modified xsi:type="dcterms:W3CDTF">2015-10-10T19:33:06Z</dcterms:modified>
  <cp:revision>0</cp:revision>
  <dc:subject/>
  <dc:title>语文备课大师 www.xiexingcun.com【全免费】</dc:title>
</cp:coreProperties>
</file>