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3FF-19E5-4B2C-922F-27286C01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058-5EBD-4295-A0FE-3110C3DF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C10-234C-4BAB-A98B-1E716C91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7B5-B9E9-412B-8922-3F0D4EB2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F3F-380F-4E77-B3E2-3FC18670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1FF-E823-4540-A397-B36D0F1F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16F-E316-4A57-A79D-904D45C0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089-BA28-4BDF-8872-54D92931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BAF-D393-4E5D-A3F4-B3287141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202-167D-4821-8415-B71B5888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E88-FFF7-4B01-BDEE-F8FC593C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55D-D847-46B1-91B8-82A12811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124A-6B7C-43BA-BB68-F0E6498F02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68280" y="571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要点归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557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分析人物形象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2349360"/>
            <a:ext cx="813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注意对人物的语言、行动、心理、肖像等描写的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精彩的细节描写是展示人物特点的重要手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抓住关键性语句深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在与其周围人物的对比中把握人物的性格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03280" y="333360"/>
            <a:ext cx="311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720" y="1222920"/>
            <a:ext cx="6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用词的角度赏析语言的答题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2421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x”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词生动形象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具体、逼真、贴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写出了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动作或形态（根据文章内容），表达了人物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875680"/>
            <a:ext cx="866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阅读短文，完成下列问题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身下去，尚不大难。②可是他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铁道，要爬上那边月台 ，就不容易了。他用两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，③ 他肥胖的身子向左微倾 ，显出努力的样子， 这时我看见他的背影 ，我的泪很快地流下来了。④我赶紧拭干了泪，怕他看见，⑤也怕别人 看见。⑥我再向外看时，他已抱了朱红的橘子往回走了。⑦过铁道时，他先将橘子散放在地 上，自己慢慢爬下，再抱起橘子走。⑧到这边时，我赶紧去搀他。⑨他和我走到车上，将橘 子一股脑儿放在我的皮大衣上。 ⑩于是扑扑衣上的泥土， 心里很轻松似的。 ⑾过了一会说： “我 走了，到那边来信！”⑿我望着他走出去。⒀他走了几步，回过头看见我，说：“进去吧，里 边没人。 ”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1108440"/>
            <a:ext cx="83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文中横线上填上动词词，并赏析这些词语的表达效果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从哪两方面描绘了父亲的背影的形象？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外貌  心理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动作  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外貌  动作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语言  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62864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探  穿 攀  缩    。“探”“穿”“攀 ”“缩”等词生动形象地写出地写出了父亲买橘子时的艰难，表现了父亲对儿子深沉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3080" y="35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362320" y="331920"/>
            <a:ext cx="4782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“我赶紧拭干了泪”的原因是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怕父亲因“我”流泪而伤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为自己这么大还流泪而羞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怕父亲说“我”不坚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怕别人笑“我”幼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文章多次写到父亲的背影，其主要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表达对父亲非凡经历的赞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表达对父亲的深挚的怀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表达对父亲自暴自弃的惋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表达对父亲碌碌无为的感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3440" y="33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9004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跳读课文，能找出文中父亲的几句话，体会父亲对“我”的深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分析“望父买橘”这一细节，能说出刻画人物的方法，体会父子情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目标一：通过跳读课文，能找出文中父亲的几句话，体会父亲对“我”的深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学指导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容：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法：跳读课文，用笔圈点勾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求：能找出文中父亲的几句话。分析这几句话包含的父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学检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文中父亲的几句话。分析这几句话包含的父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91484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事已如此，不必难过，好在天无绝人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要紧，他们去不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买几个橘子去。你就在此地，不要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2421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家境如此，父亲还这样安慰儿子，体会了父亲对儿子的关心与体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95560" y="386064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唯恐儿子路上有什么闪失，所以最后决定还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由自己亲自送，表现了父亲对儿子的爱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3737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再尽一次做父亲的责任，还生怕儿子跟着出来，忘了行李，关怀无微不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229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91628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走了，到那边来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进去吧，里边没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34840" y="267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惦念儿子旅途是否平安，来信报平安才放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82720" y="436572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惦记儿子，依依不舍。又想到儿子所带行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叫儿子小心，什么都为儿子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目标二：通过分析“望父买橘”这一细节，能说出刻画人物的方法，体会父子情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906640"/>
            <a:ext cx="799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学指导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容：第六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法：先独立思考，然后同桌讨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求：能回答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692280"/>
            <a:ext cx="845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复述父亲过铁道买橘子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段文字作者是怎样描写父亲的背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勾画出描写父亲穿戴和动作的的词语，并分析这些词语的表达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望父买橘的背影为什么写得这样详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我赶紧去搀他”这一动作蕴含了作者怎样的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于是扑扑衣上的泥土，心里很轻松似的”，“轻松”一词表现出父亲当是怎样的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69228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复述父亲过铁道买橘子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段文字作者是怎样描写父亲的背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勾画出描写父亲穿戴和动作的的词语，并分析这些词语的表达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922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自学检测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1866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先做外貌描写，然后做动作描写，用特写镜头精细的描写爬月台的动作，还用自己的情感反应烘托这个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840" y="4422960"/>
            <a:ext cx="84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父亲的穿戴：戴着黑布小帽，穿着黑布大马褂 ，深青布棉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55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父亲的动作：走到、探身、、穿过、爬上、攀着、缩、微倾，这些动词生动形象地写出了父亲买橘子时的艰难，表现了父亲对儿子深沉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7564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望父买橘的背影为什么写得这样详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我赶紧去搀他”这一动作蕴含了作者怎样的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于是扑扑衣上的泥土，心里很轻松似的”，“轻松”一词表现出父亲当是怎样的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9763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这个背影，在全部故事情节中是重中之重，是全文的首脑，最能体现父亲的爱心，所以写得这样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78440" y="2852280"/>
            <a:ext cx="107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怕父亲行动不便，怕父亲劳累摔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体贴，心疼，感激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2952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轻松”一词生动形象地写出了父亲买完橘子后的神态，表现出父亲在与儿子离别时，又一次尽到了做父亲的责任的满足的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11-06T02:23:13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