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projctor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B02-DC2C-4B80-A747-067D7EC7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2C7-5863-4D84-B927-4F3EE0E7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8AD1-9D56-4FE5-B408-F7C7DCDC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6F1F-10EF-4C6A-B1D8-705EB41D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CFD8-45C0-4645-B9AB-1D5B742D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401F-2777-439D-A945-89A3F24C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66AF-1986-428E-985E-FBBF2720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A6EA-5212-48FE-BD57-FFFC3D01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0902-2FE0-431F-BBAB-C2F17AFA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7D6-555C-4951-9E6D-49971760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EC4-972C-4F6F-B833-56AD47F2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8A95-0360-4F69-8FC2-8EC9B1B6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2365-66EF-462C-8A47-435AE5B00B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286000" y="380880"/>
            <a:ext cx="4114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爱莲说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429000" y="3505320"/>
            <a:ext cx="1905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周敦颐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（北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85480" y="0"/>
            <a:ext cx="37335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自学检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357280" y="3000240"/>
            <a:ext cx="5905800" cy="31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出淤泥而不染，濯清涟而不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中通外直，不蔓不枝香远益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亭亭净植，可远观而不可亵玩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85840" y="85716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、找出文中直接描写莲的语句，分别是从那几个方面来写莲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14200" y="2928960"/>
            <a:ext cx="201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态香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风度气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57200" y="30481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楷体_GB2312"/>
              </a:rPr>
              <a:t>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049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楷体_GB2312"/>
              </a:rPr>
              <a:t>牡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1447920" y="5105520"/>
            <a:ext cx="990360" cy="75960"/>
          </a:xfrm>
          <a:prstGeom prst="rightArrow">
            <a:avLst>
              <a:gd name="adj1" fmla="val 50000"/>
              <a:gd name="adj2" fmla="val 32594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295280" y="30481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1295280" y="3276720"/>
            <a:ext cx="990720" cy="75960"/>
          </a:xfrm>
          <a:prstGeom prst="rightArrow">
            <a:avLst>
              <a:gd name="adj1" fmla="val 50000"/>
              <a:gd name="adj2" fmla="val 32606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2286000" y="3048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楷体_GB2312"/>
              </a:rPr>
              <a:t>隐逸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2514600" y="48769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楷体_GB2312"/>
              </a:rPr>
              <a:t>富贵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4267080" y="32004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juhua"/>
          <p:cNvPicPr/>
          <p:nvPr/>
        </p:nvPicPr>
        <p:blipFill>
          <a:blip r:embed="rId2"/>
          <a:stretch/>
        </p:blipFill>
        <p:spPr>
          <a:xfrm>
            <a:off x="5562720" y="533520"/>
            <a:ext cx="3260520" cy="2670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md7"/>
          <p:cNvPicPr/>
          <p:nvPr/>
        </p:nvPicPr>
        <p:blipFill>
          <a:blip r:embed="rId3"/>
          <a:stretch/>
        </p:blipFill>
        <p:spPr>
          <a:xfrm>
            <a:off x="5562720" y="3733920"/>
            <a:ext cx="3276360" cy="2666880"/>
          </a:xfrm>
          <a:prstGeom prst="rect">
            <a:avLst/>
          </a:prstGeom>
          <a:ln w="0">
            <a:noFill/>
          </a:ln>
        </p:spPr>
      </p:pic>
      <p:sp>
        <p:nvSpPr>
          <p:cNvPr id="73" name="TextBox 18"/>
          <p:cNvSpPr/>
          <p:nvPr/>
        </p:nvSpPr>
        <p:spPr>
          <a:xfrm>
            <a:off x="500040" y="5643720"/>
            <a:ext cx="414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隶书"/>
              </a:rPr>
              <a:t>为了起衬托作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0" y="720000"/>
            <a:ext cx="485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作者写莲花，为什么还要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牡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？这样写有什么用意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0"/>
          <p:cNvSpPr/>
          <p:nvPr/>
        </p:nvSpPr>
        <p:spPr>
          <a:xfrm>
            <a:off x="4240080" y="3143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1"/>
          <p:cNvSpPr/>
          <p:nvPr/>
        </p:nvSpPr>
        <p:spPr>
          <a:xfrm>
            <a:off x="4383000" y="4857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反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作者想通过爱莲和爱君子表达自己怎样的人生追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571400"/>
            <a:ext cx="88581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以莲的形象比拟不慕名利、洁身自好的君子，表达自己对追名逐利、趋炎附势的恶浊世风的鄙弃，他要在污浊的世间独立不移，永远保持清白的操守和正直的品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45720" y="5005080"/>
            <a:ext cx="666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种借他物来表明心迹的手法叫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2518920" y="5661000"/>
            <a:ext cx="191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托物言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总    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爱莲说》通过对莲花的爱慕和赞颂，表现作者对美好理想的向往，对高尚情操的追求，对正直人格的仰慕；同时，通过对牡丹的厌恶和鄙弃，表现出对趋附权贵，苟随时俗及其风尚的不满，文章鲜明地表现了作者的进步理想和美学情趣。从中我们懂得了莲花高洁脱俗、正直纯真的品格。学习作者托莲花托物言志的写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?theid=1033&amp;download=1"/>
          <p:cNvPicPr/>
          <p:nvPr/>
        </p:nvPicPr>
        <p:blipFill>
          <a:blip r:embed="rId2"/>
          <a:stretch/>
        </p:blipFill>
        <p:spPr>
          <a:xfrm>
            <a:off x="5867280" y="380880"/>
            <a:ext cx="1676520" cy="11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0" y="880920"/>
            <a:ext cx="8715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当堂训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、解释下列加点的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可爱者甚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）予独爱莲之出淤泥而不染。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）濯清涟而不妖。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）香远益清，亭亭净植。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）陶后鲜有闻。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、本文的主旨句是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、仿写句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例：我喜欢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莲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，因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它出淤泥而不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WordArt 5" descr=""/>
          <p:cNvPicPr/>
          <p:nvPr/>
        </p:nvPicPr>
        <p:blipFill>
          <a:blip r:embed="rId2"/>
          <a:stretch/>
        </p:blipFill>
        <p:spPr>
          <a:xfrm>
            <a:off x="1468440" y="1139760"/>
            <a:ext cx="64990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教学目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28440" y="2428560"/>
            <a:ext cx="735804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通过准确阅读课文，借助工具书，能说出课文翻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通过对课文内容的理解，能说出作者在文中寄寓的感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通过准确阅读课文，借助工具书，能说出课文翻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学指导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容：作者和写作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：结合注释和工具书了解作者、写作背景及文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：圈点勾画、积累记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间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学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周敦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017-1073),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宋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著名的唯心主义哲学家。原名敦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号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道州营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湖南省道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。晚年在庐山莲花峰下建濂溪书堂讲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“        ”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周元公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太极图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文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爱莲说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周敦颐在南康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江西省星子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职时写的。在此期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曾亲自率领属下在旧南康府署一侧挖池种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曰“爱莲池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通过准确阅读课文，借助工具书，能说出课文翻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学指导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容：字词理解、句子翻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：借助工具书和课下注释，先自学，然后同桌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：结合注释和资料积累字词、翻译句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间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学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读准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蕃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濯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清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亵玩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鲜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解释下列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甚：       蕃：       予：     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益：       鲜：       宜乎：       清涟：      植：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翻译下列句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出淤泥而不染，濯清涟而不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远观而不可亵玩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菊之爱，陶后鲜有闻。莲之爱，同予者何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牡丹之爱，宜乎众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9"/>
          <p:cNvSpPr txBox="1"/>
          <p:nvPr/>
        </p:nvSpPr>
        <p:spPr>
          <a:xfrm>
            <a:off x="2916360" y="0"/>
            <a:ext cx="38163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500040" y="42876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学检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通过对课文内容的理解，能说出作者在文中寄寓的感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学指导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容：默读全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：默读课文，从中寻找相关语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：完成下列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间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5-11-06T02:23:13Z</dcterms:modified>
  <cp:revision>0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