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CC2-B849-49DA-A8EE-012ABE1B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781-022E-4013-8F31-DABC27D2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4AD-E61D-4CAF-B919-0259B474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3FA-7619-4426-97DB-D8BED39C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752-473D-41BE-A9DD-224DE562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668-D727-46AF-BB9D-3C481163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8DD-1504-41AB-9512-42ECA571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733-0AE2-4E62-B5B9-F09E15CF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468-8BF0-4E59-B8BE-7421AADA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E95-7CC4-42F1-838C-67320CE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B9F-7BAC-4A0D-ADDC-42821F0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04F-3134-4BE9-85C6-D10734DB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85C5-EA4D-4CF2-A338-CD3FFBF901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.com/s?q=&#25991;&#35328;&#25991;&amp;ie=utf-8&amp;src=wenda_link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192960" y="0"/>
            <a:ext cx="2861640" cy="70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ahoma"/>
              </a:rPr>
              <a:t>记承天寺夜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73320" y="475128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037040" y="3429000"/>
            <a:ext cx="458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000520" y="4038480"/>
            <a:ext cx="1277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检测二  划分节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19807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与为乐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承天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寻张怀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庭  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  积  水  空  明  ，水  中  藻、荇交  横  ，  盖  竹  柏  影  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但  少  闲  人  如  吾  两  人 者  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523880" y="37339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324480" y="36576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133720" y="41911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990720" y="48006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81952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指导三：译读课文，疏通文意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法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照注释，自行翻译课文，划出自己不会解释的词、句。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交流，解决问题。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交流无法解决的问题，小组讨论解决。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讨论仍无法解决的问题，师生共同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译法指导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一句话，先翻译重点字词，再把整句完整的译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检测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解释下列黑体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欣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）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   ）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闲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耳（       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562720" y="1752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兴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676520" y="2895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562720" y="2819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原来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905120" y="4038480"/>
            <a:ext cx="22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共同，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095880" y="4114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清澈透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85320" y="5257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考虑，想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791320" y="518148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只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600200" y="5867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清闲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6324480" y="5715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罢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828800" y="1828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检测二：翻译下列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庭下如积水空明，水中藻、荇交横，盖竹柏影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但少闲人如吾两人者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检测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译全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8991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  品读课文，理解内容，把握感情。合作探究完成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查读课文，找出体现作者行踪的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速读课文，找出文中景物描写的句子，大声诵读，试着赏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跳读课文，找出体现作者心情变化的语句，反复品读，说说它们分别体现了作者什么样的情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4191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月色入户，欣然起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676520" y="4800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念无与为乐者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7652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怀民亦未寝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相与步于中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600200" y="5867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何夜无月？何处无竹柏？但少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闲人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如吾两人者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181480" y="4114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欣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8480" y="472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落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791320" y="5334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兴  悠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 flipV="1" rot="10797000">
            <a:off x="2894760" y="62478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悲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114800" y="6338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旷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言文翻译五字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古代专有名词和古今词义相同的普通名词，不必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整语序，如使动式、意动式、为动式、特殊动宾关系、互文见义、宾语前置、定语后置等。使之合乎现代汉语语法规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现代汉语双音词或结构换古文中的单音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现代汉语单音词换古文中的单音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-36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现代汉语的词语换与今意不同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本字换通假字，用今字换古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适当的词语换古文中的虚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词活用为动词，就应补出相应成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出省略的成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出量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照现代分数表示法补出未出现的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删去偏义复词中做为陪衬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删去同义连用的实词或虚词中的一个词，少量的关联词语、结构助词（包括发语词、“之”、“是”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堂训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990720"/>
            <a:ext cx="914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下列句子中红色的词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色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户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 古义：      今义：       ）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与为乐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古义：      今义：       ）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竹柏影也。（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古义：      今义：       ）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但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少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闲人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吾两人者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耳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但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古义：      今义：  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闲人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 （古义：      今义：      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耳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古义：      今义：      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把下面的文言句子翻译成现代汉语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月色入户，欣然起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相与步于中庭 。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何夜无月？何处无竹柏？但少闲人如吾两人者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默写填空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中写月光下庭院美景的句是：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                 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用的修辞方法是 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  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，点明了文章主旨的句子是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        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现了作者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情感？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0" y="762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有感情地朗读课文，尝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内背诵全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838080" y="22860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Tahoma"/>
              </a:rPr>
              <a:t>谢谢大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92040" y="105264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0240" y="4009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95280" y="54277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68360" y="5805360"/>
            <a:ext cx="82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0" y="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个性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914400" y="9907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在古诗中给人的感觉是温柔多情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一种淡淡的柔弱的清凉的味道，这正迎合了文人的雅兴，所以，他们常借月亮来书写自己的情怀．．．．．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新课标对文言文的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阅读浅易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文言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能借助注释和工具书理解基本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28600" y="2438280"/>
            <a:ext cx="8763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2860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45720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积累文言字词，疏通文意并背诵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理解文章内容，把握作者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 自主学习</a:t>
            </a:r>
            <a:br>
              <a:rPr sz="44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学指导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借助资料，了解作者生平及写作背景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筛选重要信息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57200" y="2514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钟后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6094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作者是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我国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（朝代）著名的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出生于四川眉山。字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       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号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        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，是“               ”之一。与父亲 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       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弟弟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       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并称“ 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       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”。他的词雄 浑豪迈，是宋代“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       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 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词派的代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971800" y="609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苏轼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562720" y="609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北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209680" y="1295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文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295280" y="1905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0000"/>
                </a:solidFill>
                <a:uFillTx/>
                <a:latin typeface="Arial"/>
              </a:rPr>
              <a:t>子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352680" y="19810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东坡居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47712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唐宋八大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114800" y="2590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0000"/>
                </a:solidFill>
                <a:uFillTx/>
                <a:latin typeface="Arial"/>
              </a:rPr>
              <a:t>苏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172200" y="2819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苏辙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219320" y="3352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三苏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1788840" y="40384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豪放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228600" y="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学检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检测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要说说作者在什么背景下写的此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读课文，读准字音，读准节奏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后检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遂（    ）至承天寺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藻（   ）荇（    ）交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竹柏（    ）影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交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横（ 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295280" y="2743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219320" y="1143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838080" y="34290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638680" y="34290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3505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ì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943600" y="42670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27672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990720" y="1981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981080" y="2895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ǎ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2209680" y="3809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1981080" y="114300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1229040" y="380880"/>
            <a:ext cx="8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学检测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11-06T02:23:13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