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FEF-3D73-4938-BD19-23527F09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79B-16E1-4318-A7CE-34D57EEC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DA1-5107-4EDB-AB63-CD0FF8DA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471-23B8-4763-A3A1-B51F7615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1759-CEC3-42E4-BDED-F7C860BF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938B-61D2-4765-AAFD-96B0D07C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7968-C68B-43AB-8E48-89A6F6B0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406D-E905-4EC6-98D1-39B72422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734F-F6C1-45B4-A89E-31A128B0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12C4-853C-4C1F-B994-EE2672F3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1506-E01A-4DC9-9921-D4CA1175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FA3-A9A9-4EA8-9B70-E3B94714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4B69-1EF4-40C1-B18E-30072D14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0D3C-13FC-4E33-8282-332FB958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BCAA-975F-4C04-9F3A-13A764DA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D9A4-3A2C-4979-8399-A8435864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E4B8-26DF-4321-B2FB-2D4F7DE9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68F-8936-4332-9E65-BAA89B3E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962-9A21-46B5-B551-50BB2E44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FB6-39B7-48E2-8CD9-2009C1CB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1F2-97F3-4DE9-BA47-E3D23C80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BCA-570B-4B08-9430-8758F975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44E-7B6B-49BD-9423-FF12362E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E74-F939-4A4E-969E-E57E2191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93AC-8D02-46DE-89D4-07AC7943EE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FD6E-906D-435A-BF8F-4DA708682C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263520" y="444600"/>
            <a:ext cx="8572680" cy="866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71440" y="1878120"/>
            <a:ext cx="8636040" cy="2039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51000" y="369720"/>
            <a:ext cx="8505720" cy="6058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50880" y="4646520"/>
            <a:ext cx="641196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25400" y="495360"/>
            <a:ext cx="764856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2360" y="272880"/>
            <a:ext cx="3495600" cy="866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8680" y="1262160"/>
            <a:ext cx="840096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6200" y="380880"/>
            <a:ext cx="8305920" cy="60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77880" y="406440"/>
            <a:ext cx="7762680" cy="5991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08360" y="2098800"/>
            <a:ext cx="401148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2808360" y="2722680"/>
            <a:ext cx="55706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3357720"/>
            <a:ext cx="55706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1268280" y="5240160"/>
            <a:ext cx="2398680" cy="4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2624040" y="5875200"/>
            <a:ext cx="2398680" cy="4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33360" y="426960"/>
            <a:ext cx="8543880" cy="5791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70120" y="1011240"/>
            <a:ext cx="78404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773280" y="1679400"/>
            <a:ext cx="7840440" cy="4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817560" y="4357800"/>
            <a:ext cx="784080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720720" y="5003640"/>
            <a:ext cx="8055000" cy="4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592200" y="5649840"/>
            <a:ext cx="805500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254160" y="388800"/>
            <a:ext cx="8645400" cy="84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06360" y="1292400"/>
            <a:ext cx="8400960" cy="2209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00280" y="3560760"/>
            <a:ext cx="790560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69880" y="476280"/>
            <a:ext cx="7981920" cy="4572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19120" y="1087560"/>
            <a:ext cx="532620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1204920" y="2452680"/>
            <a:ext cx="532620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044720" y="4443480"/>
            <a:ext cx="53258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6880" y="546120"/>
            <a:ext cx="836316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9040" y="484200"/>
            <a:ext cx="8153280" cy="2619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884920" y="1173240"/>
            <a:ext cx="199080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3443400" y="1839960"/>
            <a:ext cx="191592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957240" y="2508120"/>
            <a:ext cx="1916280" cy="4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6153120" y="2508120"/>
            <a:ext cx="1990800" cy="4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99880" y="628560"/>
            <a:ext cx="85442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37960" y="255600"/>
            <a:ext cx="343872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96960" y="1069920"/>
            <a:ext cx="750240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8800" y="417600"/>
            <a:ext cx="8344080" cy="4581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49200" y="5113440"/>
            <a:ext cx="855360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63640" y="378000"/>
            <a:ext cx="730872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5440" y="460440"/>
            <a:ext cx="8582040" cy="5657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720880" y="4270320"/>
            <a:ext cx="152712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1192320" y="5572080"/>
            <a:ext cx="34970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09560" y="369720"/>
            <a:ext cx="7362720" cy="6050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355760" y="830160"/>
            <a:ext cx="6799320" cy="4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1216080" y="1389240"/>
            <a:ext cx="679932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333440" y="3065400"/>
            <a:ext cx="702468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204920" y="3635280"/>
            <a:ext cx="702468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1461960" y="5907240"/>
            <a:ext cx="665964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22280" y="477720"/>
            <a:ext cx="8362800" cy="2419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57480" y="2313000"/>
            <a:ext cx="734688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566640" y="2406600"/>
            <a:ext cx="7991640" cy="2136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25560">
            <a:solidFill>
              <a:srgbClr val="00ffff"/>
            </a:solidFill>
            <a:miter/>
          </a:ln>
          <a:effectLst>
            <a:outerShdw dist="17819" dir="2700000" blurRad="0" rotWithShape="0">
              <a:srgbClr val="005e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3311640" y="112068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结束语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723960" y="3076560"/>
            <a:ext cx="77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做人不可有傲态，不可无傲骨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3960" y="596880"/>
            <a:ext cx="802008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223920" y="417600"/>
            <a:ext cx="8692920" cy="466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80960" y="936720"/>
            <a:ext cx="8031240" cy="54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2680" y="422280"/>
            <a:ext cx="8163000" cy="4334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998640" y="4721400"/>
            <a:ext cx="48481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5920" y="531720"/>
            <a:ext cx="8372160" cy="55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51000" y="431640"/>
            <a:ext cx="8400960" cy="32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231840" y="388800"/>
            <a:ext cx="8650080" cy="578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76200" y="1050840"/>
            <a:ext cx="8410680" cy="2219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884160" y="3398760"/>
            <a:ext cx="7334280" cy="2428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94560" y="2711520"/>
            <a:ext cx="9032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38040" y="423720"/>
            <a:ext cx="8467920" cy="6010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635280" y="2495520"/>
            <a:ext cx="9032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3205080"/>
            <a:ext cx="9032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4711680" y="2486160"/>
            <a:ext cx="9032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4711680" y="3195720"/>
            <a:ext cx="9032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5819760" y="2486160"/>
            <a:ext cx="9032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5819760" y="3195720"/>
            <a:ext cx="9032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6907320" y="2475000"/>
            <a:ext cx="9032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6907320" y="3184560"/>
            <a:ext cx="9032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7497720" y="4594320"/>
            <a:ext cx="9032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 </dc:creator>
  <dc:description> </dc:description>
  <dc:language>en-US</dc:language>
  <cp:lastModifiedBy>USER</cp:lastModifiedBy>
  <dcterms:modified xsi:type="dcterms:W3CDTF">2016-06-01T22:40:30Z</dcterms:modified>
  <cp:revision>0</cp:revision>
  <dc:subject> </dc:subject>
  <dc:title> </dc:title>
</cp:coreProperties>
</file>