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361-9C76-4DC8-84A0-99DF6A5D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DB6-8F0D-4A60-8709-AFDE8B2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BC6-CF62-4CD3-9D72-7B6770F3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A52-52A7-4CCF-8BFD-EDD38CC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541-8C25-4B39-8124-5086F31C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F4F-0E50-47E2-A748-0ED11A6D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068-7DC4-4C8E-B1A2-6E533CA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335-8EEF-4428-A1EB-9D1BCC58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8CB-35C8-4C45-879A-2D6EDBA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802-676B-4AE4-B7A5-0D4F5AD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73F-44E2-434C-84B9-0026766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68D-988B-4AC2-91F5-67C83DE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D18-E6CD-4488-BDB0-ED31D5D427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anggx.jdjy.cn/tk.htm" TargetMode="External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yz.he.cn/yuwen/uploadfile/200352822398349.gif" TargetMode="External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下面一幅对联写的是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37520" y="1557360"/>
            <a:ext cx="16426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黄草简体"/>
              </a:rPr>
              <a:t>天问千声悲故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33960" y="1628640"/>
            <a:ext cx="16426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黄草简体"/>
              </a:rPr>
              <a:t>江咽万语吊斯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风骚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词，泛指文学，原指《诗经》中的《国风》和《楚辞》中的《离骚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诗经》是我国第一部诗歌总集，收集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920" y="2381400"/>
            <a:ext cx="2523960" cy="209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1720" y="2286000"/>
            <a:ext cx="316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从西周初年（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元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世纪）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春秋中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元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57360" y="2257560"/>
            <a:ext cx="98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间的诗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楚辞》是我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一部文人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的诗歌总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68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诗经》和《楚辞》分别开创了我国现实主义和浪漫主义的诗风，“风骚”也因此成为文学的代名词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34240" y="4525920"/>
            <a:ext cx="32097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380880"/>
            <a:ext cx="5715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《离骚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屈原最重要的代表作。全诗三百七十三句，二千四百余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离骚》的题旨，司马迁解释为“离忧”，意思尚不够明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固进而释“离”通“罹”遭遇，以“离骚”为“遭忧作辞”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逸则说：“离，别也；骚，愁也。”把“离骚”释为离别的忧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说均可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7480" y="840960"/>
            <a:ext cx="100332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离  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1080" y="20574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  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诵读课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43400" y="6248520"/>
            <a:ext cx="343080" cy="34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14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707e9"/>
                </a:solidFill>
                <a:latin typeface="黑体"/>
                <a:ea typeface="黑体"/>
              </a:rPr>
              <a:t>帝高阳之苗裔兮，朕皇考曰伯庸。摄提贞于孟陬兮，惟庚寅吾以降。皇览揆余于初度兮，肇锡余以嘉名。名余曰正则兮，字余曰灵均。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07e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707e9"/>
                </a:solidFill>
                <a:latin typeface="黑体"/>
                <a:ea typeface="黑体"/>
              </a:rPr>
              <a:t>纷吾既有此内美兮，又重之以修能。扈江离与辟芷兮，纫秋兰以为佩。汩余若将不及兮，恐年岁之不吾与。朝搴阰之木兰兮，夕揽洲之宿莽。日月忽其不淹兮，春与秋其代序。惟草木之零落兮，恐美人之迟暮。不抚壮而弃秽兮，何不改乎此度？乘骐骥以驰骋兮，来吾道夫先路。</a:t>
            </a:r>
            <a:br>
              <a:rPr sz="2400"/>
            </a:br>
            <a:r>
              <a:rPr b="1" lang="zh-CN" sz="2400" spc="-1" strike="noStrike">
                <a:solidFill>
                  <a:srgbClr val="3707e9"/>
                </a:solidFill>
                <a:latin typeface="黑体"/>
                <a:ea typeface="黑体"/>
              </a:rPr>
              <a:t>    昔三后之纯粹兮，固众芳之所在。杂申椒与菌桂兮，岂维纫夫蕙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</a:t>
            </a:r>
            <a:r>
              <a:rPr b="1" lang="zh-CN" sz="2400" spc="-1" strike="noStrike">
                <a:solidFill>
                  <a:srgbClr val="3707e9"/>
                </a:solidFill>
                <a:latin typeface="黑体"/>
                <a:ea typeface="黑体"/>
              </a:rPr>
              <a:t>。彼尧舜之耿介兮，既遵道而得路。何桀纣之猖披兮，夫唯捷径以窘步。唯夫党人之偷乐兮，路幽昧以险隘。岂余身之惮殃兮，恐皇舆之败绩。忽奔走以先后兮，及前王之踵武。荃不察余之中情兮，反信馋而齌怒。余固知謇謇之为患兮，忍而不能舍也。指九天以为正兮，夫唯灵修之故也。初既与余成言兮，后悔遁而有他。余既不难夫离别兮，伤灵修之数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33360"/>
            <a:ext cx="8386920" cy="32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1d08"/>
                </a:solidFill>
                <a:latin typeface="Arial"/>
              </a:rPr>
              <a:t>翻译（郭沫若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黑体"/>
                <a:ea typeface="黑体"/>
              </a:rPr>
              <a:t>我本是古帝高阳氏的后裔，号叫伯庸的是我已故的父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黑体"/>
                <a:ea typeface="黑体"/>
              </a:rPr>
              <a:t>太岁在寅的那一年的正月，庚寅的那一天便是我的生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黑体"/>
                <a:ea typeface="黑体"/>
              </a:rPr>
              <a:t>先父看见了我有这样的生日，他便替我取下了相应的美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黑体"/>
                <a:ea typeface="黑体"/>
              </a:rPr>
              <a:t>替我取下的大名是叫着正则，替我取下的别号是叫着灵均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翻译划线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帝高阳之</a:t>
            </a:r>
            <a:r>
              <a:rPr b="1" i="1" lang="zh-CN" sz="3800" spc="-1" strike="noStrike" u="sng">
                <a:solidFill>
                  <a:srgbClr val="e81d08"/>
                </a:solidFill>
                <a:uFillTx/>
                <a:latin typeface="Times New Roman"/>
              </a:rPr>
              <a:t>苗裔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兮，朕</a:t>
            </a:r>
            <a:r>
              <a:rPr b="1" i="1" lang="zh-CN" sz="3800" spc="-1" strike="noStrike" u="sng">
                <a:solidFill>
                  <a:srgbClr val="e81d08"/>
                </a:solidFill>
                <a:uFillTx/>
                <a:latin typeface="Times New Roman"/>
              </a:rPr>
              <a:t>皇</a:t>
            </a: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考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曰伯庸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摄提贞于孟陬兮，惟庚寅吾以</a:t>
            </a: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降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皇</a:t>
            </a: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览</a:t>
            </a:r>
            <a:r>
              <a:rPr b="1" i="1" lang="zh-CN" sz="3800" spc="-1" strike="noStrike" u="sng">
                <a:solidFill>
                  <a:srgbClr val="e81d08"/>
                </a:solidFill>
                <a:uFillTx/>
                <a:latin typeface="Times New Roman"/>
              </a:rPr>
              <a:t>揆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i="1" lang="zh-CN" sz="3800" spc="-1" strike="noStrike" u="sng">
                <a:solidFill>
                  <a:srgbClr val="e81d08"/>
                </a:solidFill>
                <a:uFillTx/>
                <a:latin typeface="Times New Roman"/>
              </a:rPr>
              <a:t>初度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兮，</a:t>
            </a:r>
            <a:r>
              <a:rPr b="1" i="1" lang="zh-CN" sz="3800" spc="-1" strike="noStrike" u="sng">
                <a:solidFill>
                  <a:srgbClr val="e81d08"/>
                </a:solidFill>
                <a:uFillTx/>
                <a:latin typeface="Times New Roman"/>
              </a:rPr>
              <a:t>肇</a:t>
            </a: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锡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余以嘉名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名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余曰正则兮，</a:t>
            </a:r>
            <a:r>
              <a:rPr b="1" i="1" lang="zh-CN" sz="3800" spc="-1" strike="noStrike" u="sng">
                <a:solidFill>
                  <a:srgbClr val="0000ff"/>
                </a:solidFill>
                <a:uFillTx/>
                <a:latin typeface="Times New Roman"/>
              </a:rPr>
              <a:t>字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余曰灵均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第一段，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867564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一段写了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屈原为什么写这些？为了炫耀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懂屈原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820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叙述家世、出生与名字的由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称自己是中华历史开创者之一高阳帝的子孙，又正好出生在吉祥的日子（寅年寅月寅日 ），天赋异禀，长辈赐以嘉名寄以厚望。从血统、生日到父辈的期望，都说明一个问题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81d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1d08"/>
                </a:solidFill>
                <a:latin typeface="Times New Roman"/>
                <a:ea typeface="黑体"/>
              </a:rPr>
              <a:t>自己血统高贵，天降祥瑞，身负厚望，与生俱来就承担着家国的重任：匡扶社稷，舍我其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0"/>
            <a:ext cx="7989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我的内部既有了这样的美好品质，我的外部又加上美好的装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我把蘼芜和白芷都折取了来，和秋兰纽结着做成了个花环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我匆忙地就象是在赶路一般，怕的是如箭的光阴弃我飞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我在春天去攀折山上的木兰，我在冬天去收揽水边的青藻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太阳和月亮匆匆地不肯停留，夏天和秋天轮流着在相替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想到草和木都时刻地在凋零，怕的是理想的佳人也要衰老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你应该把握壮年抛弃污秽，为甚总不改变你那样的态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Times New Roman"/>
              </a:rPr>
              <a:t>我驾着骏马奔驰，你来吧，我要为你在前面引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释第二段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        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既有此内美兮，又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以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修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离与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芷兮，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兰以为佩。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若将不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兮，恐年岁之不吾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朝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阰之木兰兮，夕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洲之宿莽。日月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不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兮，春与秋其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序。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木之零落兮，恐美人之迟暮。不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抚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弃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兮，何不改乎此</a:t>
            </a: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乘骐骥以驰骋兮，来吾</a:t>
            </a:r>
            <a:r>
              <a:rPr b="1" i="1" lang="zh-CN" sz="3200" spc="-1" strike="noStrike" u="sng">
                <a:solidFill>
                  <a:srgbClr val="e81d08"/>
                </a:solidFill>
                <a:uFillTx/>
                <a:latin typeface="Times New Roman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夫先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2280" y="-520920"/>
            <a:ext cx="2062800" cy="4245840"/>
          </a:xfrm>
          <a:prstGeom prst="rect">
            <a:avLst/>
          </a:prstGeom>
          <a:solidFill>
            <a:srgbClr val="ffffff"/>
          </a:solidFill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707e9"/>
                </a:solidFill>
                <a:latin typeface="Times New Roman"/>
                <a:ea typeface="隶书"/>
              </a:rPr>
              <a:t>离骚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0"/>
            <a:ext cx="6227640" cy="6858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0440" y="4365720"/>
            <a:ext cx="16426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黄草简体"/>
              </a:rPr>
              <a:t>屈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4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读懂屈原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屈原为什么写自己抓紧时间采摘、佩戴各种花花草草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请概括这一段的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隶书"/>
              </a:rPr>
              <a:t>屈原笔下的香花香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7772400" cy="30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江离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香草。（取其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芬芳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辟芷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幽僻处的香草。（取其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淡泊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秋兰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秋天盛开的兰花。（取其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高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木兰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香树。去皮而不死。（取其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顽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宿莽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经冬不凋的草。（取其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坚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300640"/>
            <a:ext cx="7634160" cy="147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黄草简体"/>
              </a:rPr>
              <a:t>比喻：美好的品德，高尚的情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黄草简体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黄草简体"/>
              </a:rPr>
              <a:t>远大的志向，出色的才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采摘、佩戴香花香草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喻修养品德，培养才干，为国为民，匡扶社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段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深感时不我与，于是日夜劳碌，修养才德，愿为国家奔走驱驰作前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9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6043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古时候曾有过纯而粹的三王， 在那时固然是群芳之所聚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木本的申椒、菌桂也多所戴插，不仅把香茝和蕙草纫成环佩。 </a:t>
            </a:r>
            <a:br>
              <a:rPr sz="3200"/>
            </a:b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想唐尧和虞舜真是伟大光明，他们已经是得着了正当轨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而夏桀和殷纣怎那样地胡涂，总爱贪走捷径反而屡自跌跤</a:t>
            </a: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0"/>
            <a:ext cx="83534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33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有一批胡涂的人们苟且偷安，他们的道路昏暗而又狭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 </a:t>
            </a: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我并不怕自己的身子会要遭殃，我怕的是君王的国家要被破坏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我匆匆地在前在后效力奔走，我想要追赶上先王们的步伐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你既不肯鉴察我胸中的愚诚，更反而听信谗言给加怒于我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我诚然知道梗直是不能讨好的，但我却忍耐着痛苦不肯放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 </a:t>
            </a: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我要请九重的上天做我证人，我热忱地忠于君王并无他意。 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当初你已经和我约定，奈何你翻悔了，又改变了心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 </a:t>
            </a:r>
            <a:r>
              <a:rPr b="1" lang="zh-CN" sz="2800" spc="-1" strike="noStrike">
                <a:solidFill>
                  <a:srgbClr val="3707e9"/>
                </a:solidFill>
                <a:latin typeface="Arial"/>
                <a:ea typeface="黑体"/>
              </a:rPr>
              <a:t>我和你的分离也不怎么难堪，只叹息你的为人呵太没主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释第三段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707e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    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后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纯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兮，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固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众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所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申椒与菌桂兮，岂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纫夫蕙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彼尧舜之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耿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兮，既遵道而得路；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桀纣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猖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兮，夫唯捷径以窘步；唯夫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党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偷乐兮，路幽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险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解释第三段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35344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07e9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岂余身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殃兮，恐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皇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败绩。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奔走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先后兮，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前王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踵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察余之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中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兮，反信馋而齌怒。余固知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謇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患兮，忍而不能舍也。指九天以为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兮，夫唯灵修之故也。初既与余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成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兮，后悔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有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余既不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夫离别兮，伤灵修之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数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读懂屈原（三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这一段包含了哪些信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圣主治国而昏君误国。（你如何取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党人偷乐而国路幽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黑体"/>
              </a:rPr>
              <a:t>为国奔走而反遭谗言，忍而不舍，九天为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989000"/>
            <a:ext cx="8893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诗人有着怎样的品质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诗中是怎样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形象地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描绘的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请举诗为例，加以说明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404640"/>
            <a:ext cx="5040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在这里开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诗人与香花香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黑体"/>
              </a:rPr>
              <a:t>以香花香草喻美好的品德与才能，比喻高尚的行为与追求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黑体"/>
              </a:rPr>
              <a:t>香花香草衬托出诗人纯洁美好的内心世界和高洁伟岸的精神形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黑体"/>
              </a:rPr>
              <a:t>比喻、象征手法的运用，含蓄委婉而富有情韵，营造了清丽的意境，增强了抒情效果，具有浪漫主义特色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Times New Roman"/>
                <a:ea typeface="隶书"/>
              </a:rPr>
              <a:t>诗人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例：帝高阳之苗裔兮——血统高贵，有强烈的家国使命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扈……纫……朝……夕……————正直纯洁，勤于修养自己的才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汩余若将不及兮——有强烈的使命紧迫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抚壮而弃秽兮——一片赤诚，热切直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乘……道夫先路——愿为国家奔走驱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夫党人之偷乐兮——不畏强暴，直言指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恐皇舆之败绩——忧心忡忡，忧国忧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及前王之踵武——匡扶社稷是他的一片痴心（政治理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忍而不能舍也——固守原则，不同流合污，不放弃理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</a:rPr>
              <a:t>《离骚》的抒情方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06112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直抒胸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，真挚恳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间接抒情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以比喻、象征曲折抒情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，含蓄委婉而富有情韵，营造了清丽的意境，衬托了诗人高洁的情怀，增强了抒情效果，具有浪漫主义特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对比中抒情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，使拳拳爱国之心更见赤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Times New Roman"/>
              </a:rPr>
              <a:t>《离骚》——诗家之绝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离骚》之文，依《诗》取兴，引类 譬谕，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善鸟香草，以配忠贞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恶禽臭物，以比谗佞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灵脩美人，以媲於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62840" y="4941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汉    王逸《离骚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楚辞”“骚体诗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屈原的作品，在形式上打破了《诗经》那种以四言为主的体制，在民歌的基础上又继承了散文的笔法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想象丰富，文字华丽，富于浪漫主义色彩；句式长短参差，形式比较自由，多用“兮”字以助语势，增强了抒情效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形成一种独特的诗体，丰富了诗歌的表现手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后人称为“楚辞”，又称为“骚体诗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骚体诗的形成，是诗歌形式的一大革新，对后世文学影响深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《离骚》是代表作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9900ff"/>
                </a:solidFill>
                <a:latin typeface="Times New Roman"/>
              </a:rPr>
              <a:t>兮”与抒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全诗以四句为一节，每节中又由两个用“兮”字连接的若连若断的上下句组成，加上固定的偶句韵，使全诗一直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回环往复的旋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进行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具有很强的节奏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兮”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具有特别强烈的咏叹表情和咏叹色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构成诗歌鲜明的节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兮”字句作为一种文化存在，反映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荆楚民族的自由浪漫精神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屈原的悲怨愤激情绪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兮”在句中起了其他虚词所无法替代的特殊作用，从而构成一种独特的意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6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再读《离骚》——我国最早的长篇抒情诗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品其言，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体其情，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悟其意，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赏其韵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678312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探讨人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屈原以死殉了他的国家，殉了他的政治理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你认同他的选择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比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想想孔子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想想邓小平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想想钱钟书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想想王国维，老舍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生与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964720" cy="38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有一种死，是懦弱，是糊涂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有一种死，是勇敢，是清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有一种死，殉了自己的国家、信念、理想与尊严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4280"/>
            <a:ext cx="8604360" cy="565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《祭屈原》      痖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远代的墓铭蚀荒了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楚国的太阳凋零了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屈原啊   你在哪里？</a:t>
            </a:r>
            <a:br>
              <a:rPr sz="24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雁塔上火雾弥漫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昆仑山雷雨奔驰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屈原呀   你在哪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渔家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樵夫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尘封的残卷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他们不知道……</a:t>
            </a:r>
            <a:br>
              <a:rPr sz="24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洞庭的苍波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衡阳的雁峰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问禽鸟和水族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他们不知道</a:t>
            </a:r>
            <a:br>
              <a:rPr sz="24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呀     我狂吟着离骚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赤足  披发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歌  我啸   我呐喊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诗魂啊——   归来   归来！</a:t>
            </a:r>
            <a:br>
              <a:rPr sz="24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你莫非被那蓝眼睛的缪斯邀请去了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啊  啊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~~/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看见荷马在弹琴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但丁在朗诵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你在中间    仪态从容！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你坐在中国的新诗底婴儿身边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左手编着襁褓右手摇着摇篮</a:t>
            </a:r>
            <a:br>
              <a:rPr sz="2400"/>
            </a:b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啊啊——屈原！诗的金字塔  文学的恒星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请接纳我的膜拜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引我前行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啊 啊  君不见秋天的树叶纷纷落下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虽浪子 也该找找我的家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的灵魂要到汨罗去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去看看我的屈老师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问问他认不认得沙翁和但丁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的心灵如今已倦游希腊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的灵魂必须回家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听见我的民族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辉煌的民族在遥远地呐喊 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的灵魂原来自殷墟的甲骨文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/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我的灵魂要到长江去  去饮陈子昂的泪水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ffff"/>
                </a:solidFill>
                <a:latin typeface="Arial"/>
              </a:rPr>
              <a:t>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95680" cy="2206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82880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端午亦称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端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是我国最大的传统节日之一。“端”的意思和“初”相同，称“端五”也就如称“初五”；端五的“五”字又与“午”相通，按地支顺序推算，五月正是“午”月。又因午时为“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阳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，所以端五也叫“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端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五月五日，月、日都是五，故称重五，也称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重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此外，端午还有许多别称，如：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夏节、浴兰节、女儿节，天中节、地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诗人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迄今为止，影响最广的端午起源的观点是纪念屈原说。在民俗文化领域，我国民众把端午节的龙舟竞渡和吃粽子都与屈原联系起来。俗说屈原投江以后，当地人民伤其死，便驾舟奋力营救，因有竞渡风俗；又说人们</a:t>
            </a:r>
            <a:r>
              <a:rPr b="1" lang="zh-CN" sz="2400" spc="-1" strike="noStrike">
                <a:solidFill>
                  <a:srgbClr val="ff8000"/>
                </a:solidFill>
                <a:latin typeface="黑体"/>
                <a:ea typeface="黑体"/>
              </a:rPr>
              <a:t>常放食品到水中致祭屈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但多为蛟龙所食，后因屈原的提示才用楝树叶包饭，外缠彩丝，做成后来的粽子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93040" y="0"/>
            <a:ext cx="187164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3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47640" y="549360"/>
            <a:ext cx="367200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掀起两千年来睫毛的尘土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你了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祖国的单薄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摄进你纤瘦的身影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列强的铁骑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踏穿你圆睁的瞳孔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你了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你在沅湘舞剑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却怎么也舞不出凌厉的剑气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你在汨罗咳血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染红了楚地最后一抹夕阳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...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568440"/>
            <a:ext cx="3564000" cy="505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看见你了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郑袖没有看见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上官没有看见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怀王也没有看见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合上睫毛我泪流满面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而黄河的流波依旧溷浊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三闾大夫啊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终于明白了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你为什么会去写诗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18080" y="765000"/>
            <a:ext cx="1521360" cy="504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看见屈原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   佚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521964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那个伟大的倒霉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一个倒霉蛋，出生在一个穷医生家里。小时候没有受过很好的教育，参军后被俘身负重伤，左手致残，但屡立战功，得到元帅的嘉奖。可是当他拿着元帅的保荐书，做着即将成为将军的美梦时，在归国途中被俘，后被卖到阿尔及利亚，在那里做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苦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当他回到祖国的时候，他的国家已经忘记了这位英雄，他连一份普通的工作都找不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195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好不容易在无敌舰队找到一个军需的职位。一次他下乡催征，因不肯为乡绅通融减税，被乡绅诬陷入狱。从监狱出来以后，他改做税吏。一次他把税款交给一家银行保管，偏偏银行倒闭，他第二次入狱。第二次出狱，他贫困潦倒，而家里妻子、妹妹、女儿都靠他一个人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他住的地方，环境极为恶劣：楼下是酒馆，楼上是妓院。一天，酒馆里有人斗殴，一人倒在地上奄奄一息。他出于同情把那人背到家里，谁知人未救活，他却涉嫌谋杀第三次入狱。此后，他妻子死去，他又因为女儿的事情被法庭传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195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333360"/>
            <a:ext cx="8424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两次被俘三次入狱、命运从来不肯眷顾的人，没有被恶劣的环境淹没，没有被倒霉的境遇打倒，这些经历反而丰富了他。凭着对生活的反思和斗牛士的精神，他写出了名震世界的巨著———《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吉诃德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这个伟大的倒霉蛋，就是西班牙作家塞万提斯。而作品的主人公仿佛是作者的一个自我嘲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他证明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承受倒霉时的痛苦和顺风时的欢乐都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人生的收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他的账本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没有支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600200"/>
            <a:ext cx="7772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81d08"/>
                </a:solidFill>
                <a:latin typeface="华文新魏"/>
                <a:ea typeface="华文新魏"/>
              </a:rPr>
              <a:t>赠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6808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e86808"/>
                </a:solidFill>
                <a:latin typeface="华文新魏"/>
                <a:ea typeface="华文新魏"/>
              </a:rPr>
              <a:t>生命只有一次，一个人即使身处逆境，也要为崇高的理想而奋斗，决不能动摇和悔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6808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e86808"/>
                </a:solidFill>
                <a:latin typeface="华文新魏"/>
                <a:ea typeface="华文新魏"/>
              </a:rPr>
              <a:t>人生的道路是曲折而漫长的，但为追求真理，应不屈不挠，勇往直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52440"/>
            <a:ext cx="8893080" cy="62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炎帝啊，我是你的远代子孙，伯庸──是我先祖的光辉大名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岁星在寅的那一年的正月庚寅，我从天上翩然降临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先祖仔细揣度我刚刚下凡的时辰和啼声，通过占卜赐给了我相应的美名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给我取的大名叫正则啊，给我取的别号叫灵均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上天既赋予我这么多内在的美质啊，又加之以我注意修养自己的品性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我披着喷吐幽香的江离和白芷啊；又联缀起秋兰作为自己的佩巾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光阴似箭，我惟恐抓不住这飞逝的时光，让岁月来塑造我美好的心灵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清晨，我浴着晨曦去拔取坡上的木兰，傍晚，我在洲畔采摘宿莽来润德润身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太阳与月亮互相交迭，未尝稍停，新春与金秋相互交替，永无止境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想到树上黄叶纷纷飘零，我害怕美人啊，您头上也添上丝丝霜鬓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为什么，为什么你不任用风华正茂的贤者，废弃污七八糟的小人？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为什么，为什么你不改变已经过时的法度？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驾着龙马，飞快地向前猛奔！来！我给你充当向导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-264960"/>
            <a:ext cx="1511280" cy="5205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翻译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782200" cy="60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忆往昔，我三代先王的德行是那么完美精纯，一丛丛芳草鲜花簇拥着他们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那时节啊，花椒与桂树层层相间，哪里只是蕙草与白芷散发芳芬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哦！唐尧和虞舜是多么正大光明，他们遵循着正道，向着光明迈进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夏桀和商纣是多么狂乱啊，只想走捷径，抄小路，结果使自己走向困境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那些党人是这样苟且偷安，他们一步步走向死胡同而不思反省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难道我担心自己会遭受灾祸？不，我担心的是楚国的车轮将要覆倾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急匆匆，我为王朝的复兴前后奔波，希望跟上前代明王的脚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君主啊，你不能体察我的一片衷情，反而听信谗言，对我大发雷霆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我明明知道直谏忠会招灾惹祸，但我怎么能看着祖国沉论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我敢手指苍天让它给我作征，我对你完全是一片忠心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想过去，你与我披肝沥胆，定下约言，可后来，你却另作打算，不记前情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280" y="0"/>
            <a:ext cx="9072720" cy="130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屈原（约前３４０—约前２７７）名平，字原，自名正则，字灵钧</a:t>
            </a: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是楚国的同姓贵族。祖先封于屈，遂以屈为氏。屈原年轻时受到楚怀王的高度信任，官为左徒，“入则与王图议国事，以出号令；出则接遇宾客，应对诸侯”（《史记》本传），是楚国内政外交的核心人物。据推算，他当时仅二十多岁，可谓少年得志。后有上官大夫在怀王面前进谗，说屈原把他为怀王制定的政令都说成是自己的功劳，于是</a:t>
            </a: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屈原被免去左徒之职，转任三闾大夫，掌管王族昭、屈、景三姓事务，负责宗庙祭祀和贵族子弟的教育。 </a:t>
            </a:r>
            <a:br>
              <a:rPr sz="2800"/>
            </a:br>
            <a:r>
              <a:rPr b="1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　　这以后，楚国的内政外交发生一系列问题。先是秦使张仪入楚，以财物贿赂佞臣靳尚和怀王宠妃郑袖等人，用欺骗手法破坏了楚齐联盟。怀王发现上当后，大举发兵攻秦。可是，丹阳、蓝田战役相继失败，并丧失汉中之地。此时屈原曾受命使齐修复旧盟，但似乎没有结果。此后由于怀王外交上举措失当，楚国接连遭到秦</a:t>
            </a:r>
            <a:r>
              <a:rPr b="0" lang="zh-CN" sz="2800" spc="-1" strike="noStrike">
                <a:solidFill>
                  <a:srgbClr val="3707e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80"/>
            <a:ext cx="88200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707e9"/>
                </a:solidFill>
                <a:latin typeface="黑体"/>
                <a:ea typeface="黑体"/>
              </a:rPr>
              <a:t>齐、韩、魏的围攻，陷入困境。大约在怀王二十五年左右，屈原一度被流放到汉北一带，这是他第一次被放逐。 </a:t>
            </a:r>
            <a:br>
              <a:rPr sz="2600"/>
            </a:br>
            <a:r>
              <a:rPr b="1" lang="zh-CN" sz="2600" spc="-1" strike="noStrike">
                <a:solidFill>
                  <a:srgbClr val="3707e9"/>
                </a:solidFill>
                <a:latin typeface="黑体"/>
                <a:ea typeface="黑体"/>
              </a:rPr>
              <a:t>　　怀王三十年，秦人诱骗怀王会于武关。屈原曾极力劝阻，而怀王的小儿子子兰等却力主怀王入秦，结果怀王被扣不得返回，三年后死于秦。在怀王被扣后，顷襄王接位，子兰任令尹（相当于宰相），楚秦邦交一度断绝。但顷襄王在接位的第七年，竟然与秦结为婚姻，以求暂时苟安。由于屈原反对他们的可耻立场，并指斥子兰对怀王的屈辱而死负有责任，子兰又指使上官大夫在顷襄王面前造谣诋毁屈原，导致屈原再次被流放到沅、湘一带，时间约为顷襄王十三年前后。 </a:t>
            </a:r>
            <a:br>
              <a:rPr sz="2600"/>
            </a:br>
            <a:r>
              <a:rPr b="1" lang="zh-CN" sz="2600" spc="-1" strike="noStrike">
                <a:solidFill>
                  <a:srgbClr val="3707e9"/>
                </a:solidFill>
                <a:latin typeface="黑体"/>
                <a:ea typeface="黑体"/>
              </a:rPr>
              <a:t>　　在屈原多年流亡的同时，楚国的形势愈益危急。到顷襄王二十一年，秦将白起攻破楚都郢（今湖北江陵），预示着楚国前途的危机。次年，秦军又进一步深入。屈原眼看自己的一度兴旺的国家已经无望，也曾认真地考虑过出走他国，但最终还是不能离开故土，于悲愤交加之中，自沉于汨罗江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260280"/>
            <a:ext cx="848664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１、了解“楚辞”及有关屈原和楚辞的文学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２、学习屈原忧国忧民、献身理想的爱国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３、疏通生字、词，培养学生阅读古诗文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教学重难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１、象征、比喻、对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２、屈原的精神及理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8320" y="40384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476280"/>
            <a:ext cx="3914640" cy="561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1197000"/>
            <a:ext cx="2592720" cy="2775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ff"/>
                </a:solidFill>
                <a:latin typeface="Arial"/>
              </a:rPr>
              <a:t>诗神屈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5146560"/>
            <a:ext cx="3809880" cy="17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0"/>
            <a:ext cx="6858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有《离骚》、《天问》、《渔父》、《九歌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篇）、《九章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篇）、《招魂》等。其中，《离骚》是屈原的代表作，也是中国古代文学史上最长的一首浪漫主义的政治抒情诗。屈原是中国文学史上第一位伟大的爱国诗人。屈原的出现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仅标志着中国诗歌进入了一个由集体歌唱到个人独创的新时代，而且他所开创的新诗体——楚辞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突破了《诗经》的表现形式，极大地丰富了诗歌的表现力，为中国古代的诗歌创作开辟了一片新天地。后人也因此将《楚辞》与《诗经》并称为“风、骚” 。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风、骚”是中国诗歌史上现实主义和浪漫主义两大优良传统的源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同时，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屈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代表的楚辞还影响到汉赋的形成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29720" y="228600"/>
            <a:ext cx="12776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屈 原 的 作 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4:50:20Z</dcterms:created>
  <dc:creator>备课大师网</dc:creator>
  <dc:description/>
  <dc:language>en-US</dc:language>
  <cp:lastModifiedBy>未知用户</cp:lastModifiedBy>
  <dcterms:modified xsi:type="dcterms:W3CDTF">2013-10-17T06:26:42Z</dcterms:modified>
  <cp:revision>0</cp:revision>
  <dc:subject/>
  <dc:title>备课大师网</dc:title>
</cp:coreProperties>
</file>