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7DF-7AF2-4246-882B-FD54729B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178-E000-4ED6-A0EE-56C5381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FDD-B32E-4C5A-9991-DF398F62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E29-138D-41CA-BDE5-394E89F4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64E5-26F6-4FDB-864D-4BD8FC10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6986-0B86-400D-92AC-EE1E6FD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B18B-7A99-40BC-9BC1-1D46589B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F4C-7046-4D73-937F-F0F6277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BC10-51EF-4300-98E8-55F8A7AC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47CB-E718-4CF7-800C-EC950BC3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77D0-0684-4F0B-85F3-4E117285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CE8-875D-416D-A1B4-65AFC32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14DC-5E3A-4956-9D19-55C3E2A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C9AA-6B2B-41F8-9882-7CA2CDE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F9A6-AE42-4202-A3BD-EA916F9E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BB1-11B4-42C9-A1A0-0C4B680F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0BFF-47FC-47AA-B43C-8AF4086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D08-D19A-4D13-889E-5867DBF6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CF4-26E5-47FB-A333-48A057AC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89B-E823-459D-9C08-17F33A1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857-CD52-4CFB-94EB-710BE062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8AE-9AED-4D8A-ADAA-E048B73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ABE-B7D0-4949-88E5-B541739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EF0-E266-4112-A647-683E274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2574-3905-4B2E-9771-12DDFA597E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6BE7-AFBF-49FE-9C2D-4BAD77AD539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baike.baidu.com/view/3907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3600000">
            <a:off x="300240" y="3234600"/>
            <a:ext cx="3789360" cy="115236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华文仿宋"/>
              </a:rPr>
              <a:t>与象共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华文仿宋"/>
              <a:ea typeface="华文仿宋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19640" y="189000"/>
            <a:ext cx="4824360" cy="645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35640" y="6093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华文中宋"/>
              </a:rPr>
              <a:t>山西阳泉山底中心学校　梁润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333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义务教育课程标准实验教科书人教版小学语文五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981000"/>
            <a:ext cx="7920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结课文，领会写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了课文，你喜欢泰国的大象吗？你最喜欢它的什么？有感情地朗读相应的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透过泰国的大象，你看出泰国是怎样的国家？泰国人有怎样的性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仿照课文总分结构写一段话介绍泰国的大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4584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课堂拓展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大 象 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　泰国是世界上产象大国，被称为“象之国”。每年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的第三个周末，都要在产象最多的素辇市举行盛大的象节。一年一度的象节，是泰国素辇府富有特色的传统宗教节日，其主要表演者是大象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　    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admin\Desktop\与象共舞\图片\dc44761b4b287240493c7cfe81f7eaaf.jpg"/>
          <p:cNvPicPr/>
          <p:nvPr/>
        </p:nvPicPr>
        <p:blipFill>
          <a:blip r:embed="rId1"/>
          <a:stretch/>
        </p:blipFill>
        <p:spPr>
          <a:xfrm>
            <a:off x="1258920" y="765000"/>
            <a:ext cx="5356080" cy="5789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7308720" y="1844640"/>
            <a:ext cx="7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admin\Desktop\与象共舞\图片\200714154934DSCN7831.jpg"/>
          <p:cNvPicPr/>
          <p:nvPr/>
        </p:nvPicPr>
        <p:blipFill>
          <a:blip r:embed="rId1"/>
          <a:stretch/>
        </p:blipFill>
        <p:spPr>
          <a:xfrm>
            <a:off x="250920" y="620640"/>
            <a:ext cx="5143320" cy="5434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2995560"/>
            <a:ext cx="33480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下来进行“跑象拾物”表演。在跑道上每隔十米远放一小物件，如火柴盒、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香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瓶子、洋娃娃等。最末一件是红旗，众象在跑道的起点各就各位，一声令下个个向前奔跑，用它们灵活的鼻子，将自己跑道上的物件一个一个捡回到终点。直到最后，看谁先捡回红旗，谁便是优胜者。另外，还有“象人拔河”表演。一边是一头体重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磅的庞然大象，一边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彪形大汉。尽管大汉们一个个使足了力气，仍被大象轻易地拉了过去，最后增加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，大家开始感到有些吃力，绳子静止不动，可这种僵持状态不久就被打破了，仍以绳子拉向大象一边而告终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admin\Desktop\与象共舞\图片\xinsrc_021103271054345185495.jpg"/>
          <p:cNvPicPr/>
          <p:nvPr/>
        </p:nvPicPr>
        <p:blipFill>
          <a:blip r:embed="rId1"/>
          <a:stretch/>
        </p:blipFill>
        <p:spPr>
          <a:xfrm>
            <a:off x="324000" y="404640"/>
            <a:ext cx="5292720" cy="6237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5940360" y="105264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一个节目是古代象阵表演。场地两端，排列着许多穿着古代战服的士兵。英俊的武士们全身披挂，手持矛剑。士兵后面是参加战斗的象群，指挥官威风凛凛地骑在象背上指挥作战，展现出了古代泰国人民争取独立的战斗场面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5219640" y="76500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１５００多年前，泰国被缅甸占领。泰国有一个王子，叫纳黎萱，他纳自己为王。缅甸的国王听到了这个消息，就想必须去消灭纳黎萱。于是缅甸的王子来到泰国，泰国王子纳黎萱就统治象军部队，使缅甸的王子当场阵亡。然后，泰国脱离了和缅甸的附属关系，终于独立起来，泰国的大象在建国初期发挥了巨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47680"/>
            <a:ext cx="4752720" cy="63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06064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在我们国家的南面，有一个风光美丽、文化独特的国家──泰国。泰国的国名泰语意思为“自由之国”。泰国整个版图形如一头威武的大象，有“千佛之国、黄袍佛国、白象之国”的誉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泰国的首都曼谷原意“天使之城”，有“佛庙之都”之誉，泰国最大、东南亚第二大城市，为黄袍佛国之泰国首都，是泰国政治、经济、文化和交通中心。曼谷位于湄南河畔，市内河道纵横，货运频繁，全市面积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1568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平方公里，人口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60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余万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有“东方威尼斯”之称。曼谷佛教历史悠久，东方色彩浓厚，佛寺庙宇林立，以大王宫、玉佛寺、卧佛寺、金佛寺、郑王庙最为著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76360" y="620640"/>
            <a:ext cx="18288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导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427640" cy="587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6000" y="2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泰国曼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954000"/>
            <a:ext cx="4537080" cy="590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76360" y="189000"/>
            <a:ext cx="1944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泰国地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32000" y="2492280"/>
            <a:ext cx="6480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．了解泰国的独特风情与文化，感受人与动物和谐相处的美好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．领悟课文的表达方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8920" y="981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2087640" cy="55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2133720"/>
            <a:ext cx="684036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看到这个课题，你有什么疑问？什么叫与象共舞？谁与象共舞？请你带着这些问题，自由通读全文，要求读准每个字的字音，看看你读懂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1916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泰国人的生活已经和大象融为一体。何以见得呢？自由读课文，划出有关的句子，读一读，想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50028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象是泰国的国宝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象与人之间没有距离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象是一种聪明而有灵气的动物，爱与人开玩笑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看大象跳舞是一种享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20116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1773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象是泰国的国宝。课文是怎么具体写的？你了解到泰国的大象还为当地人做哪些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57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驮着武士冲锋陷阵；为泰国人做工服役；充当旅游大使；表演杂技，带去欢乐……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②你还知道大象能干哪些事？在泰国，没有大象行吗？为什么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1989000"/>
            <a:ext cx="70578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战场上，泰象与人是（      ）关系；在舞台上，泰象与人一样是（         ）；在国际上，泰象充当的是（         ）角色；当遇到困难时，泰象则是（        ）；在农场里，泰象就是（          ）；在……可见在泰国，大象与人的关系是怎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05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一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191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中哪些地方写出了大象的聪明、灵气？如果你就躺在地上，让大象按摩，你敢吗？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378936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据说象是一种聪明而有灵气的动物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◇最有意思的是大象为人做按摩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◇有趣的是，它偶然也会跟人开开玩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8:10:09Z</dcterms:created>
  <dc:creator>语文大师 xiexingcun.com</dc:creator>
  <dc:description/>
  <dc:language>en-US</dc:language>
  <cp:lastModifiedBy>user</cp:lastModifiedBy>
  <dcterms:modified xsi:type="dcterms:W3CDTF">2014-07-23T00:27:38Z</dcterms:modified>
  <cp:revision>0</cp:revision>
  <dc:subject/>
  <dc:title>语文大师 xiexingcun.com</dc:title>
</cp:coreProperties>
</file>