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4.jpeg" ContentType="image/jpeg"/>
  <Override PartName="/ppt/media/image15.gif" ContentType="image/gif"/>
  <Override PartName="/ppt/media/image7.jpeg" ContentType="image/jpeg"/>
  <Override PartName="/ppt/media/projctor.wav" ContentType="audio/x-wav"/>
  <Override PartName="/ppt/media/image12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28.gif" ContentType="image/gif"/>
  <Override PartName="/ppt/media/image10.jpeg" ContentType="image/jpeg"/>
  <Override PartName="/ppt/media/image29.gif" ContentType="image/gif"/>
  <Override PartName="/ppt/media/image9.jpeg" ContentType="image/jpeg"/>
  <Override PartName="/ppt/media/image30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3.jpeg" ContentType="image/jpeg"/>
  <Override PartName="/ppt/media/image31.jpeg" ContentType="image/jpeg"/>
  <Override PartName="/ppt/media/image14.gif" ContentType="image/gif"/>
  <Override PartName="/ppt/media/image23.gif" ContentType="image/gif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074-A879-47D3-AD0F-723F11B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ABA-E94B-459D-A042-6FD3574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093D7-3FA8-4288-83AC-6482F2ED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D5908-CD59-4591-8DAC-F7B4F06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9DC14-FFF5-4DC8-992E-D2D783D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74B0A-66B7-445E-8E0F-97A93426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92E33-7A8E-4251-820F-413CE37F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1B6D9-C5A1-4361-9369-1DB1DE7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A856B-0D1F-469D-B1E7-65AD2190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70ED2-4231-40B8-A6D3-4DB43D8C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9665A-A49B-45CC-950D-64725909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6D6B-B831-405B-87D3-69A54BBA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A7F-E8FB-425B-90EB-BEE74196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1F3E3-46A4-4943-9656-C93C8554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9D9A7-6FA4-4FAC-9086-0CC444A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93EA4-EC78-4BBA-98BA-75CE2997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E595F-B4E5-4650-8800-BAE37526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12BDC-C1AA-47C5-875E-3A67AF1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B0918-F769-440A-97C2-25509E6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B7CC3-23FB-4855-A57F-EC27539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EAA2C-D9CB-49D3-9097-CA3C77B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F9D17-266B-4C3B-BC2A-1143756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44A79-880B-4DF3-99D2-D1D7F59C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08B-36C8-446A-87AB-53060173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F3651-253D-4C0F-A03E-295AE47F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F975-7535-4A62-AA92-02DF2F8A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0047A-310B-460D-9097-400ADDF2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3D242-87AA-497E-9ADF-8886BBF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ED852-1B04-48D0-9D4E-EF85CD06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86561-4F33-4338-B34F-8456A6D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0F8E3-3CC9-4955-903D-6EE1754A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53571-3E88-4EDA-ACE5-230842C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55DB7-6E58-46F7-AD5D-D3D2779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CA76-806E-4014-9F4D-3EE4D7F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899D-1B7E-4B17-BDBE-5A598ABA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8D2CA-2113-481D-ADB2-215178D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44EA6-EE76-4597-99C6-0066243A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F7B61-D791-4093-BCB4-D592F5EA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0D754-478C-4D2C-82B5-BF2EE712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3C943-4292-440F-BB74-F4D0E7F6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871D3-EAB4-4296-8572-ECCA7CE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72AC3-E863-43FF-A9C9-C5C2B64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8E5B4-63C5-4F41-BF64-73F01F2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30B12-361C-4069-A911-97E9A6A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86587-D5C5-4293-B686-113C8A6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CF70-39D1-4A04-B465-246A535E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03EB5-CB11-4470-B338-2F301AFC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4E03B-8165-46C0-BEA7-0EE0755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EE4A7-8997-464B-8053-7DF6D909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66A68-A2CA-4FCE-B5B0-31C3E62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EF5B3-313C-43FF-9C47-1DE9699D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F8103-60C7-46F3-B8D6-2C7A3785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FA014-E9F6-4D7E-A3FB-4AB783F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86AD3-D86E-4EE2-8688-4CA65813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E23DA-BE15-4D5E-BD03-C04E1F0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170E0-6F7C-4EDD-A3BD-F375B5B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BDE4-7098-4EFD-B33C-5D0102C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DC612-2D19-49E4-84B0-20F979C7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F40D9-8FB4-4B66-9CF0-20213DF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5BF75-CF56-4315-A611-D4C8438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B7B04-6BA4-4D28-AD2E-9EBA5B6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39E20-4EDC-43B3-90BA-2C30F95D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7D7E7-6952-4EB3-A627-002B8ED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84BB2-6844-4542-81B0-DDD252F6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D8DE1-04D3-4BF0-B88A-762F5286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E69B1-7536-4B9B-AF49-41B8C9D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3BFE4-B1F2-4444-AF77-E5A26041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A35-CB24-4DD4-9517-6CB70550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E9F68-0A94-494D-A8D8-2700D19C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8EA00-3935-44B2-916F-788C33F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B4CEF-B49F-47BB-ACD7-C888517D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7C0B8-9002-4095-B93A-631C909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72833-6669-443C-B9B3-04BA13CC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9B4AE-BA7F-4C16-899F-4851277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E9CB5-8C9C-4A40-8750-060F929A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F2D9F-1935-45CF-8A19-C98E12A9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088F8-45BC-4178-8F09-4455D7BD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278E1-2EA7-4E87-8F6D-CEB3BD50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8D8E-A1C8-460E-930D-8C309EB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A7047-AF26-4889-81B3-4B479BC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94DC5-A0C0-4AAB-811F-D32D84D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A4336-A209-44B7-8610-A1D16EB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2207C-3766-4A3E-A71C-2BBE8CEC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278BF-8F6D-42D5-B912-CF38E47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3173B-88F3-4DE4-B486-D98F2AB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FE74D-0374-4EDC-86F7-065478D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8DB26-8DCC-47A6-963D-8E38DAD7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6903E-2EE7-493A-A53A-EAABB74A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1515C-B214-4DBB-A842-2E6C32CC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7E0D-FEAF-4CB9-8FF9-B0F38799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542D7-BAFB-4949-ADD5-5623D001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94D44-F608-4E42-A7FE-4C458DEB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68864-F544-4CEE-89CA-441D75E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1DC6A-658A-48BA-9A97-66A96FE4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B4299-289B-43A1-9286-5744B27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DE2E6-B51D-42A4-8930-F53D656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94B35-69F4-4071-997F-0CCDF232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08D03-0955-4668-A870-53776E4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EC00B-30D4-4E3E-91D3-48497ED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84219-10D0-40C0-B602-FBD4F4F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AA88-E733-4565-91D6-F05AE3B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73A56-CEB0-40F9-BB31-149D20AA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5C6EC-440D-4774-9889-2877379E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32B71-B988-4DFB-BBBA-CD5A58C9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80A2D-5BAB-4EE8-8637-29BF13A5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1B2AA-808A-4901-9D9E-824293B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0E1E8-E08B-42B1-8274-73FB2B20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EFB0A-E4FF-48E7-8DCA-5717AADA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CCC20-6947-4056-853F-349E9B39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5347F-3FDF-4A84-956E-624E201F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44E6C-DC79-4300-AA01-52CE2E7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0BC-A2D4-4976-9082-2C62786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D602-273D-4A7A-879C-B4DF994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4BD6B-152D-4D95-AE86-7986387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4DCA8-CBC2-45BD-A268-389B15C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D5BDA-C71E-4F0A-8489-23F5854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C482C-0130-4D72-B31D-7F34906C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B37FE-7761-4FFA-BB45-83E3B496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F1274-5227-46E6-8916-3CB8CF39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71A1E-51E6-41B9-9129-E6224C99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8366F-5650-4531-BC66-2B30EC2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90BE2-3006-4F33-AD1B-6073E29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2B7BA-53CB-41C5-ACE5-9BEEC9B0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AC0-1721-469B-BDAA-03025D3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FFB48-5632-4E31-95A2-A3F47B53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953D2-CA4C-46A8-8F0A-2A45977C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1ADA4-7BDB-47B8-A5F0-409E506B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5A877-079A-4995-99EF-BD6FF256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CCBD9-50E0-47DA-B69A-0B584061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C4AAE-2277-4756-BB24-65C366B7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AED8B-F9EE-470E-916E-1BD858DF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D918E-A61B-43D5-AA4F-30B27F39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ACE36-82A8-468C-9090-483FC5F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AAAE2-32D2-429F-A091-1F7F48B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4CC-DE91-4347-9539-B7E3487F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7EEC7-09EA-490F-B53B-2D12966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5024C-6F60-4A68-9E3F-519EC0E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DDE5F-05EB-4BA0-94AC-2B87E4B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D95BF-1D94-4FA1-A308-60FC486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7DFA3-4FBB-4ABC-9CD0-409B2ED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CA603-2230-41D3-9FE9-C68E478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8DED4-09EB-4B0B-9510-613F4D9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67B2F-315C-477E-A544-FAA96A4A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AF289-3AA7-4D22-896C-273EC59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F71A4-6C27-47C0-91FD-3A4EBA1E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F342-F395-40E4-8925-6368900D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5B9BC-C8B9-401A-A976-A4D0A4E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FE6B4-169D-4E4A-96A1-5B51FAD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98D38-6C72-4121-A22F-D494F220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89402-F84D-4B01-89B8-CEB1BA10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D57C6-6036-407A-AA05-A9FAA00D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19D0F-D06F-4653-B7BF-AC3D8F8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84F106-1BBC-404B-BE81-91425EC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E4736-9462-4A7A-BA6C-70E76E24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FB322-87BE-400A-8973-D94F67F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02D2F-2155-4680-8D44-A12B6F16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7A09-3D0B-4ECD-ACA2-F20AD257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7096E-EC81-41E5-AF86-5F001336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52077-8535-45DB-A65A-CBAB9BB0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4CD6A-FA37-43A0-B915-8DB7CCB4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5263A-1BA2-458B-8699-11025CF7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250CF-D8CB-4842-8791-50E27348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51CA3-EE82-4FDA-82A6-3A239C7D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52794-10AE-4BFD-8457-D6E981B9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411D4-FCFF-4DDE-A07E-461B0850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3F4B4-3F19-4138-82BA-008E546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F46CC-054B-47A6-A146-AE80B483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A09B-3328-4A61-AD5A-77E56FC3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169C1C-E473-4517-A1C4-82E767F2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7BD396-4344-4E0D-A7A8-9A826C32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22E25-8E47-44A1-80F1-05688042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A511CC-3DE5-4D18-9D48-BF8550D4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9C461-28FA-4165-8D67-35F14B9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5C435-605E-4976-AD47-7AC32B1A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AF981-1A9F-4FD3-9777-01C9CD29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39A987-E1FD-4288-8D8D-3EE3BD3E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C9A4B6-E1C8-4625-ACE0-6888738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7FA35-DDA9-47F5-ADF5-FCECA39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4F01-97EE-474D-870C-563DD32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89791F-0BFB-4CFC-A7A5-6BFA224E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C653A-4C19-4A7E-A909-F800A7C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3D713-242B-4ED2-B1A3-ADE16D3A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984B55-BABC-472B-A966-8A3A0893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560C45-EF92-4AFE-9C28-8952B77F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A37A9-2834-42E0-A667-6B37D344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927F7-B470-49A2-B136-AC0BEBDA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33CF83-92B2-4782-8DCD-BAAAE30E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05A69C-89AF-440C-9CC7-72AE479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65633F-ADD7-48C1-B37A-9B7E9F5A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D1EC-8213-44B7-AE85-7427EF1B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F15241-AA8C-4F41-BAAB-EB798F19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1F0574-FA0A-4B59-BCE1-34D222D7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B1924-9A25-4562-AE84-B0261D4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0C23B-3B74-4989-A1D8-2C86F51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729751-3C45-45CE-8A33-CF860F7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18D17C-2782-4C56-B934-5BE2EE2E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E1A6A-7A7B-4485-BD90-459F5ED6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EE6F8E-30B7-4C6D-B60D-70DF41D8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CBE154-586F-4A80-A9DE-9E03535A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EE76A-8545-4E16-AC28-AEEE0583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8272-8459-42FB-B414-04E8518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557E9C-983E-4AA7-9A5A-6C18A6B4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FC9B81-6FF1-4223-BB51-29A50D30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106123-2D0A-414F-8964-5104F0D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4E9CA1-904D-477B-8E43-09A50204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B8D40-7054-46C8-AF5B-D4B654F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F6D5E1-86B2-432A-8F82-9B46751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0CA70-4A46-43BC-A271-5AFAF6F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CF2E5-E49D-4A96-8008-D7089928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64C3E0-4138-4D78-83AE-7FB84591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F0786A-6813-4F13-8B6E-2943502C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1A52-AB3D-41B5-9054-F87AE91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9FABA8-3363-47C3-B918-F5343584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878C85-8BCD-411F-A010-5286313A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16785A-77D3-42D9-A5D1-E0D3660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BE1AE8-BAF7-4A1C-8CBD-B4FB2AA0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D2CB84-E07A-4DD3-8496-3829890F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2576FC-4D0D-4796-9010-23DD973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0A72A8-B589-4189-885E-668827B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AB6981-71FA-4DDB-99DD-26EF653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F7A9A-178E-4E38-A2C0-8F7DDE7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203887-D739-4B7F-B872-1AF080B6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38A-3C41-404D-9E75-7E1B929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BA9C-F828-4D39-924E-9BDC2F30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94F94A-9F4C-42D4-85F8-D62EC999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0920-8DEC-4C17-9447-EAB921C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134E-6E85-4022-95DC-270CF6EB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B037-3816-4916-A711-74228492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3FC5-1DAE-48C8-890E-356A9E7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20BB-7C6A-462B-B557-E80823FD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B3C6-6C83-44BD-9A34-1D09384D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CD5F-EFE5-43DA-AA57-801FC4EB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464C-3559-47FC-AF5D-351E7FB2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401E-842C-44B8-BB77-3D6CA5B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00B-27C5-47F4-8EC6-FDAE0AD3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7934-5E7D-4DF0-8C06-37C1C2B7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EEB8-6CD1-4802-8EA4-0B4899E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0D77-D2E5-41EF-A190-C3E74E7A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7C3A-66DA-4D13-9E9A-FE052533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7956-DCEF-4B9F-848E-AC3C636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BBBF-F50F-415B-959C-98C0CA4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537C-46F7-45AD-9E13-E76C98F9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FDD7-8DA9-4E98-AF16-DFA6859D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3359-8774-4C74-80B2-140F808B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1F89-2C1B-4E88-97FF-A3BFA028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F28-23DE-407A-9851-FAF3CAC3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3531-7470-4092-BAD7-A100E967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27A21-6351-4B9D-9F16-DEFB259D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10F8-D1BE-4014-8DD5-D9F3314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06805-7107-4C81-ADE0-A288B20F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D93A-32C5-4597-951A-425C937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A7B5-F8F8-4D80-BED9-7E421851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E00CA-629A-4F64-B4C5-5F80949C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7C23-3FD9-4649-9BF8-18BC735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34FB-E955-499B-8636-0E51047C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FD4D-00C9-4B67-8E53-356E36EF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CAE-EDAD-41C4-9FCA-9EA02BF4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16942-6178-47EF-B1FB-ABFA5386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4F5A1-9DB4-4BA2-B5DF-63F8B5A4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ED04C-5B28-4041-A3D0-E87AEFC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AD05-11A6-4CC2-A765-282AB913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0F36D-361C-45E6-9771-B0222B9A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AECC-8F56-44A7-8343-F3915A9D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43BD-D3A4-4F63-9BFE-80C0D711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DF67C-9DFE-40B7-9FAB-6E3AA89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EB0F6-F36C-4C41-93B1-7BE4ED1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E3F1-2999-4566-A815-5C0751D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54F-0DD2-419E-B29E-AC8EAA8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B603F-245D-4199-A538-72C06F53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EF951-DEE2-4AB2-BCAD-DCD6F18C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FA3D-A5F0-47DA-AF4D-2259EC1B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78F7-4328-4902-A50C-5D5CBAE5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8847-7C65-44D4-82CE-A970B82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5414-30CD-47B3-827F-8EC1BFD5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6A8A-CBE9-4797-A0BA-FD27F87D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28AE-E778-4EC2-B7E0-EF18B3D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47452-9EB9-4D06-AB3E-883B5890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B161B-C5D9-4F76-9D8D-56A925A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29A-8FA7-4C61-A9CA-C821DD8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27CA-24F8-4715-B167-546F48A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FD9F-F091-44B9-9292-0C43757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E3B0-62B6-4ECC-975E-14207A97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F466-1654-4715-878B-48AE4406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70F3-9F91-412A-80CF-EE56E17E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81BCF-BB44-46BD-AA7C-F3C59E77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5ED0-C2A7-46BD-9299-F589548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7B0CA-D02F-4F1C-816F-0F90AD0A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A4DA9-B012-4E68-8921-8EE51BE6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8FB55-8FAE-4AC9-9071-D166210B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841-E53A-48BD-A86E-9FFC7F5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85894-09E9-4CFF-A541-A0DAB94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6507-FB95-4558-9426-4E737BA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268E-B338-46E0-8847-BEB6075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165D6-A792-48FE-9B3C-373F54C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500C1-87FC-4CD4-BD02-1C69110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289E-8083-4400-A5DC-F3BA2666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10B7-6999-46A6-9411-64AC4F7E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21A24-2833-44BD-B115-0F505C7F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5E7D-8351-4778-B7AB-EF5CE16C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65150-78AF-42BA-B334-BF89A7F2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855-20F1-4B01-99DF-73FCFD058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D7D-1953-4745-A822-A12377C8B1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08A-3B22-41A1-A23E-D236D66D1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5E3-DAF6-4827-92D5-B7E2AFA1A3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D291-31F1-4696-8421-D06D76FA9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0F4-8CD1-4921-AFA6-EAB887D12E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CC3C-92FE-4D75-AB86-3BD42FE3D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87EF-9856-4C3F-9FE7-766406F437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8695-6D77-46FA-9D4B-148EDC59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F701-03A2-4DD8-8CB5-5A3BF8F395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01E7-9993-4F73-9242-CA40897D0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22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26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18"/>
          <p:cNvGrpSpPr/>
          <p:nvPr/>
        </p:nvGrpSpPr>
        <p:grpSpPr>
          <a:xfrm>
            <a:off x="7795800" y="4318200"/>
            <a:ext cx="979560" cy="1159560"/>
            <a:chOff x="7795800" y="4318200"/>
            <a:chExt cx="979560" cy="1159560"/>
          </a:xfrm>
        </p:grpSpPr>
        <p:sp>
          <p:nvSpPr>
            <p:cNvPr id="632" name="Freeform 19"/>
            <p:cNvSpPr/>
            <p:nvPr/>
          </p:nvSpPr>
          <p:spPr>
            <a:xfrm rot="7320000">
              <a:off x="7790040" y="465984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 rot="7320000">
              <a:off x="7767000" y="463824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1"/>
            <p:cNvSpPr/>
            <p:nvPr/>
          </p:nvSpPr>
          <p:spPr>
            <a:xfrm rot="7320000">
              <a:off x="7934040" y="462384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22"/>
            <p:cNvGrpSpPr/>
            <p:nvPr/>
          </p:nvGrpSpPr>
          <p:grpSpPr>
            <a:xfrm>
              <a:off x="7795800" y="4318200"/>
              <a:ext cx="979560" cy="1159560"/>
              <a:chOff x="7795800" y="4318200"/>
              <a:chExt cx="979560" cy="1159560"/>
            </a:xfrm>
          </p:grpSpPr>
          <p:sp>
            <p:nvSpPr>
              <p:cNvPr id="636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4"/>
              <p:cNvSpPr/>
              <p:nvPr/>
            </p:nvSpPr>
            <p:spPr>
              <a:xfrm rot="7320000">
                <a:off x="77558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5"/>
              <p:cNvSpPr/>
              <p:nvPr/>
            </p:nvSpPr>
            <p:spPr>
              <a:xfrm rot="7320000">
                <a:off x="8035920" y="4757760"/>
                <a:ext cx="74916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6"/>
              <p:cNvSpPr/>
              <p:nvPr/>
            </p:nvSpPr>
            <p:spPr>
              <a:xfrm rot="7320000">
                <a:off x="8514000" y="455832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7"/>
              <p:cNvSpPr/>
              <p:nvPr/>
            </p:nvSpPr>
            <p:spPr>
              <a:xfrm rot="7320000">
                <a:off x="8153640" y="475992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855-3D0E-4537-B01B-FDE5B65E9055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CA72-171E-4B89-91CD-BD91FF38DC3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8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8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99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1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718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719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721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9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C60-6D5D-42A9-B096-08BAADCE436D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158-16D0-48DE-B4FF-76A30550931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7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8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8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9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805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80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808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69D-BB60-451C-8F5F-97E1F9F814AC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B92F-7500-4A74-9640-A94B7B7557AD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6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72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73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8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8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8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892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893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895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3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9C1D-8FF6-4A2B-8265-C3354CFE7BD4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25BE-9291-42E8-B88D-F931C61F51F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5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96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6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7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7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979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98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1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982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5855-BB69-4182-9477-93F22135E3E1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725-5E79-4FEE-B096-3500508CA0F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B960-E80C-4A39-9E8A-7879A981E4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457-2719-43B2-AF2C-36728FD44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3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6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47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5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6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066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067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069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7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2D8-CC34-4372-B2F5-7E056C2EB3EA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A09E-9DA8-4808-ACDE-F42E38C174F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2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33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34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5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153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154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5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156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4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C3B-9B7A-44AC-93F5-7256FBF8BAB6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8D44-7141-48F3-8F5B-B8A572627EC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1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2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22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2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240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24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2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243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ABD-CB56-48A9-A369-A68A57410756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696F-557C-4AD5-ADCF-2F196324DEC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9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07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308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1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2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327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328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9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330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8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9D9-3233-464D-A5D8-72DF15DC1C0B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CD84-6BCF-4391-A031-B569EF86A3A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8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94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395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0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1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414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415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6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417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5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A42-F759-4546-870A-0BB14C312D67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00F-EB58-4A52-A25A-8FECB739F81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7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8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482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8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9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501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502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504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BF5E-DB1C-4CFE-BA72-F47067C33E6D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85E6-81FB-46A3-8162-C7D6E7BC18B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7F52-985F-499B-ABBF-F28B3D3865CE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6AA-A3D0-4F70-AB6C-4C9FD735C37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9400" y="-84600"/>
            <a:ext cx="2431440" cy="2252520"/>
            <a:chOff x="7169400" y="-84600"/>
            <a:chExt cx="2431440" cy="22525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9400" y="-84600"/>
              <a:ext cx="2431440" cy="2252520"/>
              <a:chOff x="7169400" y="-84600"/>
              <a:chExt cx="2431440" cy="22525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9400" y="-84600"/>
                <a:ext cx="2431440" cy="2252520"/>
                <a:chOff x="7169400" y="-84600"/>
                <a:chExt cx="2431440" cy="22525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0400" y="113040"/>
                  <a:ext cx="24444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9000" y="520920"/>
                  <a:ext cx="4294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6240" y="284040"/>
                  <a:ext cx="8064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9960" y="-24840"/>
                  <a:ext cx="12103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50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6880" y="127656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0280" y="33336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9520" y="2156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A08-ECC9-4BD9-816F-C87F9F05DC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015-2F68-4DE2-B9C7-CBA5C40B9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F7B-6C17-4181-A7DB-F9EF0CD1E3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7A9-3D1A-4C56-94AB-5E6038347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249E-D2BA-42D9-9D82-71E874C2B7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BCB5-32F5-42B3-B1D0-6B7054818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338-7B68-4E73-972F-AA3B6299EB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6DA8-0D74-4AC4-9664-24E00687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01B-6B2E-46C6-AA93-50034EA22A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8A08-D60E-4A67-85F0-5340FF13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1D1-B319-43F5-A1C2-01E3AE2E45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05F-CC58-413C-B1E3-59B75343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192bd07c9cd38d6f41b73bf9b694996a473182cced6b8ae605b74dec1b70bae5c41e4d1baf32dc732e324301d0ec638655c996e25e49dc3ba5809cb09f14cb829b35a5e9&amp;a=29&amp;b=12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ae5088f8ee9a87bd682171d96125b245835580a10ef9e62cb630767cec86ecfed26ad32e83666a1f400d22a8be54928fee2feecb8c3b3d2be698535eda673b37f1e35b75&amp;a=29&amp;b=29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8e4b4101094a11957eea4bf69c538f59f052b0b83397782e974a08ae7626f3e601360e4d21fdb0900eeab490a54a4ac46b89ceecdab047a3be4c908ed361d227806f74f4&amp;a=29&amp;b=2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9.xml"/><Relationship Id="rId20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0e038bc80de934271a5d59eadae73fe0725f8df1ae710bdc203d46aa0aff04f72dca0667b518a13918360665bdff538aa797330ebc94d639fb40498d1d816aa6c34e5690&amp;a=29&amp;b=24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b24.photo.store.qq.com/http_imgload.cgi?/rurl4_b=f52733238bc189dd92eac1a168c98ddf0e038bc80de934271a5d59eadae73fe0725f8df1ae710bdc203d46aa0aff04f72dca0667b518a13918360665bdff538aa797330ebc94d639fb40498d1d816aa6c34e5690&amp;a=29&amp;b=24" TargetMode="External"/><Relationship Id="rId4" Type="http://schemas.openxmlformats.org/officeDocument/2006/relationships/image" Target="../media/image9.jpeg"/><Relationship Id="rId5" Type="http://schemas.openxmlformats.org/officeDocument/2006/relationships/slide" Target="slide10.xml"/><Relationship Id="rId6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37B6-084F-4969-B103-0DABC60E5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4"/>
          <p:cNvSpPr/>
          <p:nvPr/>
        </p:nvSpPr>
        <p:spPr>
          <a:xfrm>
            <a:off x="4140360" y="907920"/>
            <a:ext cx="158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ff00"/>
                </a:solidFill>
                <a:latin typeface="Arial"/>
                <a:ea typeface="隶书"/>
              </a:rPr>
              <a:t>春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5"/>
          <p:cNvSpPr/>
          <p:nvPr/>
        </p:nvSpPr>
        <p:spPr>
          <a:xfrm>
            <a:off x="5435640" y="2349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朱自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9" name="Picture 14" descr="图片6"/>
          <p:cNvPicPr/>
          <p:nvPr/>
        </p:nvPicPr>
        <p:blipFill>
          <a:blip r:embed="rId1"/>
          <a:stretch/>
        </p:blipFill>
        <p:spPr>
          <a:xfrm>
            <a:off x="-324000" y="-228600"/>
            <a:ext cx="9792000" cy="7315200"/>
          </a:xfrm>
          <a:prstGeom prst="rect">
            <a:avLst/>
          </a:prstGeom>
          <a:ln w="0">
            <a:noFill/>
          </a:ln>
        </p:spPr>
      </p:pic>
      <p:sp>
        <p:nvSpPr>
          <p:cNvPr id="1610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  <a:ea typeface="幼圆"/>
              </a:rPr>
              <a:t>文章抓住了春草的什么特点？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1" name="Text Box 7"/>
          <p:cNvSpPr/>
          <p:nvPr/>
        </p:nvSpPr>
        <p:spPr>
          <a:xfrm>
            <a:off x="2057400" y="0"/>
            <a:ext cx="361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8"/>
          <p:cNvSpPr/>
          <p:nvPr/>
        </p:nvSpPr>
        <p:spPr>
          <a:xfrm>
            <a:off x="380880" y="4343400"/>
            <a:ext cx="89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、躺、滚、踢、跑、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（高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9"/>
          <p:cNvSpPr/>
          <p:nvPr/>
        </p:nvSpPr>
        <p:spPr>
          <a:xfrm>
            <a:off x="228600" y="29718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嫩、绿、满、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草（生机勃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AutoShape 12">
            <a:hlinkClick r:id="rId2" action="ppaction://hlinksldjump"/>
          </p:cNvPr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160 w 466560"/>
              <a:gd name="textAreaRight" fmla="*/ 446760 w 466560"/>
              <a:gd name="textAreaTop" fmla="*/ 20160 h 322200"/>
              <a:gd name="textAreaBottom" fmla="*/ 30240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917" y="1350"/>
                </a:lnTo>
                <a:lnTo>
                  <a:pt x="1350" y="135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917" y="20250"/>
                </a:lnTo>
                <a:lnTo>
                  <a:pt x="29917" y="135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917" y="2025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67" h="21600">
                <a:moveTo>
                  <a:pt x="8590" y="10800"/>
                </a:moveTo>
                <a:lnTo>
                  <a:pt x="22677" y="3756"/>
                </a:lnTo>
                <a:lnTo>
                  <a:pt x="22677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8"/>
          <p:cNvGrpSpPr/>
          <p:nvPr/>
        </p:nvGrpSpPr>
        <p:grpSpPr>
          <a:xfrm>
            <a:off x="2895480" y="4876920"/>
            <a:ext cx="3743280" cy="1722240"/>
            <a:chOff x="2895480" y="4876920"/>
            <a:chExt cx="3743280" cy="1722240"/>
          </a:xfrm>
        </p:grpSpPr>
        <p:sp>
          <p:nvSpPr>
            <p:cNvPr id="1616" name="AutoShape 9"/>
            <p:cNvSpPr/>
            <p:nvPr/>
          </p:nvSpPr>
          <p:spPr>
            <a:xfrm>
              <a:off x="4479840" y="4876920"/>
              <a:ext cx="790560" cy="1079640"/>
            </a:xfrm>
            <a:prstGeom prst="downArrow">
              <a:avLst>
                <a:gd name="adj1" fmla="val 50000"/>
                <a:gd name="adj2" fmla="val 34142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Text Box 10"/>
            <p:cNvSpPr/>
            <p:nvPr/>
          </p:nvSpPr>
          <p:spPr>
            <a:xfrm>
              <a:off x="2895480" y="5956560"/>
              <a:ext cx="37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人与自然的和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25" descr="未命名"/>
          <p:cNvPicPr/>
          <p:nvPr/>
        </p:nvPicPr>
        <p:blipFill>
          <a:blip r:embed="rId1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24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3" descr="蝴蝶"/>
          <p:cNvPicPr/>
          <p:nvPr/>
        </p:nvPicPr>
        <p:blipFill>
          <a:blip r:embed="rId3"/>
          <a:stretch/>
        </p:blipFill>
        <p:spPr>
          <a:xfrm>
            <a:off x="914400" y="380880"/>
            <a:ext cx="2066760" cy="236232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6" descr="黄蜂"/>
          <p:cNvPicPr/>
          <p:nvPr/>
        </p:nvPicPr>
        <p:blipFill>
          <a:blip r:embed="rId4"/>
          <a:stretch/>
        </p:blipFill>
        <p:spPr>
          <a:xfrm>
            <a:off x="914400" y="4648320"/>
            <a:ext cx="923760" cy="1012680"/>
          </a:xfrm>
          <a:prstGeom prst="rect">
            <a:avLst/>
          </a:prstGeom>
          <a:ln w="0">
            <a:noFill/>
          </a:ln>
        </p:spPr>
      </p:pic>
      <p:sp>
        <p:nvSpPr>
          <p:cNvPr id="1622" name="WordArt 22"/>
          <p:cNvSpPr txBox="1"/>
          <p:nvPr/>
        </p:nvSpPr>
        <p:spPr>
          <a:xfrm>
            <a:off x="5334120" y="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春花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5477400" y="137160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桃树、杏树、梨树，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让我，我不让你，都开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了花赶趟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红的像火，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像霞，白的像雪。花里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甜味儿；闭了眼，树上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佛已经满是桃儿、杏儿、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儿。花下成千成百的蜜蜂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嗡地闹着，大小的蝴蝶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飞去。野花遍地是：杂样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名字的，没名字的，散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草丛里像眼睛，像星星，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眨呀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4" name="ADESTE.MID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" fill="hold"/>
                                        <p:tgtEl>
                                          <p:spTgt spid="1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日期占位符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D4D-DDAD-4BD8-8F6A-FE407845F510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灯片编号占位符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52E9-ADD6-4820-A67D-4D0672D0CC4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7" name="Picture 5" descr="p_large_b23h_63510000270d2d11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628" name="Text Box 2"/>
          <p:cNvSpPr/>
          <p:nvPr/>
        </p:nvSpPr>
        <p:spPr>
          <a:xfrm>
            <a:off x="7671240" y="169740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春花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Picture 3" descr="梅花1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1630" name="Text Box 4"/>
          <p:cNvSpPr/>
          <p:nvPr/>
        </p:nvSpPr>
        <p:spPr>
          <a:xfrm>
            <a:off x="684360" y="1125360"/>
            <a:ext cx="64022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：抓住了春花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静：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花朵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花色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花味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动：蜂飞蝶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采用了哪些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3" name="日期占位符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BD81-687F-40A1-9006-4C681822E84A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灯片编号占位符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E96B-53B4-458F-BCAA-DB79A0A4ED7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6" name="Rectangle 2"/>
          <p:cNvSpPr/>
          <p:nvPr/>
        </p:nvSpPr>
        <p:spPr>
          <a:xfrm>
            <a:off x="1830960" y="160020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3"/>
          <p:cNvSpPr/>
          <p:nvPr/>
        </p:nvSpPr>
        <p:spPr>
          <a:xfrm>
            <a:off x="1063800" y="2133720"/>
            <a:ext cx="80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写出了春花竞相开放的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4"/>
          <p:cNvSpPr/>
          <p:nvPr/>
        </p:nvSpPr>
        <p:spPr>
          <a:xfrm>
            <a:off x="2041200" y="28195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5"/>
          <p:cNvSpPr/>
          <p:nvPr/>
        </p:nvSpPr>
        <p:spPr>
          <a:xfrm>
            <a:off x="3912120" y="3581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写出了万紫千红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6"/>
          <p:cNvSpPr/>
          <p:nvPr/>
        </p:nvSpPr>
        <p:spPr>
          <a:xfrm>
            <a:off x="1509840" y="42670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12"/>
          <p:cNvSpPr/>
          <p:nvPr/>
        </p:nvSpPr>
        <p:spPr>
          <a:xfrm>
            <a:off x="533520" y="5105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13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15"/>
          <p:cNvSpPr/>
          <p:nvPr/>
        </p:nvSpPr>
        <p:spPr>
          <a:xfrm>
            <a:off x="1600200" y="68580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105a1"/>
                </a:solidFill>
                <a:latin typeface="楷体"/>
                <a:ea typeface="楷体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6" name="日期占位符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667-8696-4183-9934-F9254A82A89D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灯片编号占位符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E445-E277-423B-8BBC-129C10D8CDC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9" name="Rectangle 7"/>
          <p:cNvSpPr/>
          <p:nvPr/>
        </p:nvSpPr>
        <p:spPr>
          <a:xfrm>
            <a:off x="3659040" y="19051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10"/>
          <p:cNvSpPr/>
          <p:nvPr/>
        </p:nvSpPr>
        <p:spPr>
          <a:xfrm>
            <a:off x="53352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野花遍地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在草丛里像眼睛，像星星，还眨呀眨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11"/>
          <p:cNvSpPr/>
          <p:nvPr/>
        </p:nvSpPr>
        <p:spPr>
          <a:xfrm>
            <a:off x="38088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色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14"/>
          <p:cNvSpPr/>
          <p:nvPr/>
        </p:nvSpPr>
        <p:spPr>
          <a:xfrm>
            <a:off x="30492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8"/>
          <p:cNvSpPr/>
          <p:nvPr/>
        </p:nvSpPr>
        <p:spPr>
          <a:xfrm>
            <a:off x="3290760" y="2514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9"/>
          <p:cNvSpPr/>
          <p:nvPr/>
        </p:nvSpPr>
        <p:spPr>
          <a:xfrm>
            <a:off x="3293280" y="3809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竞相开放，香味浓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矩形 12"/>
          <p:cNvSpPr/>
          <p:nvPr/>
        </p:nvSpPr>
        <p:spPr>
          <a:xfrm>
            <a:off x="3383280" y="914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105a1"/>
                </a:solidFill>
                <a:latin typeface="楷体"/>
                <a:ea typeface="楷体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8" name="日期占位符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76C-ED47-4494-9A04-0C540D42A52B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灯片编号占位符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A71D-7441-4B56-84DF-2723252F639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sp>
        <p:nvSpPr>
          <p:cNvPr id="1661" name="矩形 8"/>
          <p:cNvSpPr/>
          <p:nvPr/>
        </p:nvSpPr>
        <p:spPr>
          <a:xfrm>
            <a:off x="914400" y="1371600"/>
            <a:ext cx="5410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</a:t>
            </a:r>
            <a:r>
              <a:rPr b="1" lang="zh-CN" sz="6000" spc="-1" strike="noStrike">
                <a:solidFill>
                  <a:srgbClr val="7cbf33"/>
                </a:solidFill>
                <a:latin typeface="楷体"/>
                <a:ea typeface="楷体"/>
              </a:rPr>
              <a:t>春风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隶书"/>
              </a:rPr>
              <a:t>吹面不寒杨柳风”，不错的，像母亲的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抚摸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隶书"/>
              </a:rPr>
              <a:t>着你。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隶书"/>
              </a:rPr>
              <a:t>风里带来些新翻的泥土的气息，混着青草味儿，还有各种花的香，都在微微润湿的空气里酝酿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隶书"/>
              </a:rPr>
              <a:t>。鸟儿将巢安在繁花嫩叶当中，高兴起来了，</a:t>
            </a:r>
            <a:r>
              <a:rPr b="1" lang="zh-CN" sz="2400" spc="-1" strike="noStrike">
                <a:solidFill>
                  <a:srgbClr val="92d050"/>
                </a:solidFill>
                <a:latin typeface="Arial"/>
                <a:ea typeface="隶书"/>
              </a:rPr>
              <a:t>呼朋引伴地卖弄清脆的喉咙，唱出宛转的曲子，跟轻风流水应和着</a:t>
            </a:r>
            <a:r>
              <a:rPr b="1" lang="zh-CN" sz="2400" spc="-1" strike="noStrike">
                <a:solidFill>
                  <a:srgbClr val="00b0f0"/>
                </a:solidFill>
                <a:latin typeface="Arial"/>
                <a:ea typeface="隶书"/>
              </a:rPr>
              <a:t>。</a:t>
            </a:r>
            <a:r>
              <a:rPr b="1" lang="zh-CN" sz="2400" spc="-1" strike="noStrike">
                <a:solidFill>
                  <a:srgbClr val="92d050"/>
                </a:solidFill>
                <a:latin typeface="Arial"/>
                <a:ea typeface="隶书"/>
              </a:rPr>
              <a:t>牛背上牧童的短笛，这时候也成天嘹亮地响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日期占位符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D499-070B-448A-A515-ADC587BFF211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灯片编号占位符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EAF-32DF-4AA6-8C7B-55896AF745E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4" name="Picture 5" descr="p_large_sDp4_161100008e5d2d11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6858000"/>
          </a:xfrm>
          <a:prstGeom prst="rect">
            <a:avLst/>
          </a:prstGeom>
          <a:ln w="0">
            <a:noFill/>
          </a:ln>
        </p:spPr>
      </p:pic>
      <p:sp>
        <p:nvSpPr>
          <p:cNvPr id="1665" name="Text Box 2"/>
          <p:cNvSpPr/>
          <p:nvPr/>
        </p:nvSpPr>
        <p:spPr>
          <a:xfrm>
            <a:off x="7671240" y="140832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春风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6" name="Picture 3" descr="春柳"/>
          <p:cNvPicPr/>
          <p:nvPr/>
        </p:nvPicPr>
        <p:blipFill>
          <a:blip r:embed="rId2"/>
          <a:stretch/>
        </p:blipFill>
        <p:spPr>
          <a:xfrm>
            <a:off x="0" y="0"/>
            <a:ext cx="7164360" cy="6858000"/>
          </a:xfrm>
          <a:prstGeom prst="rect">
            <a:avLst/>
          </a:prstGeom>
          <a:ln w="0">
            <a:noFill/>
          </a:ln>
        </p:spPr>
      </p:pic>
      <p:sp>
        <p:nvSpPr>
          <p:cNvPr id="1667" name="Text Box 4"/>
          <p:cNvSpPr/>
          <p:nvPr/>
        </p:nvSpPr>
        <p:spPr>
          <a:xfrm>
            <a:off x="0" y="1447920"/>
            <a:ext cx="576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：作者在描写无形无味的春风时，调动了人体的哪些感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觉（抚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嗅觉（各种气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觉（鸟鸣笛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运用了哪些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12"/>
          <p:cNvSpPr/>
          <p:nvPr/>
        </p:nvSpPr>
        <p:spPr>
          <a:xfrm>
            <a:off x="4724280" y="365760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用各种感觉描绘春风柔、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右大括号 10"/>
          <p:cNvSpPr/>
          <p:nvPr/>
        </p:nvSpPr>
        <p:spPr>
          <a:xfrm>
            <a:off x="4267080" y="3581280"/>
            <a:ext cx="609840" cy="137160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1371600"/>
              <a:gd name="textAreaBottom" fmla="*/ 1355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"/>
                                        <p:tgtEl>
                                          <p:spTgt spid="1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400" fill="hold"/>
                                        <p:tgtEl>
                                          <p:spTgt spid="1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1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日期占位符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DDB-FD01-4B57-939F-2AE5AC4B1B08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灯片编号占位符 2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B7F3-3A22-459F-B42A-D2242A239AB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673" name="矩形 4"/>
          <p:cNvSpPr/>
          <p:nvPr/>
        </p:nvSpPr>
        <p:spPr>
          <a:xfrm>
            <a:off x="685800" y="12193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雨是最寻常的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一下就是三两天</a:t>
            </a:r>
            <a:r>
              <a:rPr b="1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。可别恼。看，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像牛毛，像花针，像细丝，密密地斜织着，</a:t>
            </a:r>
            <a:r>
              <a:rPr b="1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人家屋顶上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全笼着一层薄烟</a:t>
            </a:r>
            <a:r>
              <a:rPr b="1" lang="zh-CN" sz="2800" spc="-1" strike="noStrike">
                <a:solidFill>
                  <a:srgbClr val="ffff00"/>
                </a:solidFill>
                <a:latin typeface="幼圆"/>
                <a:ea typeface="幼圆"/>
              </a:rPr>
              <a:t>。树叶儿却绿得发亮，小草儿也青得逼你的眼。傍晚时候，上灯了，一点点黄晕的光，烘托出一片安静而和平的夜。在乡下，小路上，石桥边，有撑起伞慢慢走着的人，地里还有工作的农民，披着蓑戴着笠。他们的房屋，稀稀疏疏的，在雨里静默着。</a:t>
            </a:r>
            <a:r>
              <a:rPr b="1" lang="zh-CN" sz="2800" spc="-1" strike="noStrike">
                <a:solidFill>
                  <a:srgbClr val="ff9999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pic>
        <p:nvPicPr>
          <p:cNvPr id="1675" name="Picture 5" descr="2005072601050870641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8423280"/>
          </a:xfrm>
          <a:prstGeom prst="rect">
            <a:avLst/>
          </a:prstGeom>
          <a:ln w="0">
            <a:noFill/>
          </a:ln>
        </p:spPr>
      </p:pic>
      <p:sp>
        <p:nvSpPr>
          <p:cNvPr id="1676" name="WordArt 6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春雨图</a:t>
            </a:r>
            <a:endParaRPr b="0" lang="en-US" sz="18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7" name="Text Box 7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8"/>
          <p:cNvSpPr/>
          <p:nvPr/>
        </p:nvSpPr>
        <p:spPr>
          <a:xfrm>
            <a:off x="380880" y="32130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9"/>
          <p:cNvSpPr/>
          <p:nvPr/>
        </p:nvSpPr>
        <p:spPr>
          <a:xfrm>
            <a:off x="6705720" y="321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10"/>
          <p:cNvSpPr/>
          <p:nvPr/>
        </p:nvSpPr>
        <p:spPr>
          <a:xfrm>
            <a:off x="468360" y="4417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11"/>
          <p:cNvSpPr/>
          <p:nvPr/>
        </p:nvSpPr>
        <p:spPr>
          <a:xfrm>
            <a:off x="6781680" y="42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12"/>
          <p:cNvSpPr/>
          <p:nvPr/>
        </p:nvSpPr>
        <p:spPr>
          <a:xfrm>
            <a:off x="380880" y="23623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13"/>
          <p:cNvSpPr/>
          <p:nvPr/>
        </p:nvSpPr>
        <p:spPr>
          <a:xfrm>
            <a:off x="6729480" y="2346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14"/>
          <p:cNvSpPr/>
          <p:nvPr/>
        </p:nvSpPr>
        <p:spPr>
          <a:xfrm>
            <a:off x="5508720" y="54450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5"/>
          <p:cNvSpPr/>
          <p:nvPr/>
        </p:nvSpPr>
        <p:spPr>
          <a:xfrm>
            <a:off x="7020000" y="49417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1095120" y="566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8" dur="500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8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Picture 4" descr="学步"/>
          <p:cNvPicPr/>
          <p:nvPr/>
        </p:nvPicPr>
        <p:blipFill>
          <a:blip r:embed="rId1"/>
          <a:stretch/>
        </p:blipFill>
        <p:spPr>
          <a:xfrm>
            <a:off x="2209680" y="32767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688" name="Text Box 5"/>
          <p:cNvSpPr/>
          <p:nvPr/>
        </p:nvSpPr>
        <p:spPr>
          <a:xfrm>
            <a:off x="838080" y="380880"/>
            <a:ext cx="7772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</a:t>
            </a:r>
            <a:r>
              <a:rPr b="1" lang="zh-CN" sz="4400" spc="-1" strike="noStrike">
                <a:solidFill>
                  <a:srgbClr val="00b050"/>
                </a:solidFill>
                <a:latin typeface="隶书"/>
                <a:ea typeface="隶书"/>
              </a:rPr>
              <a:t>春早人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天上风筝渐渐多了，地上孩子也多了。城里乡下，家家户户，老老小小，也赶趟儿似的，一个个都出来了。舒活舒活筋骨，抖擞抖擞精神，各做各的一份儿事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一年之际在于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刚起头儿，有的是工夫，有的是希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BC9-F537-4C87-8013-4DD7AED7E5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AB1-8B49-4499-86F8-56654E07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0" name="TextBox 4"/>
          <p:cNvSpPr/>
          <p:nvPr/>
        </p:nvSpPr>
        <p:spPr>
          <a:xfrm>
            <a:off x="3809880" y="2209680"/>
            <a:ext cx="449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朱自清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1898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48),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字佩弦，江苏省扬州市人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散文家、诗人、学者、民主战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有诗文集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踪迹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、散文集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欧游杂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背影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以及一些文艺论著，收在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朱自清文集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里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散文代表作有：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绿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春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荷塘月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背影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6"/>
          <p:cNvSpPr/>
          <p:nvPr/>
        </p:nvSpPr>
        <p:spPr>
          <a:xfrm>
            <a:off x="3486240" y="105264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华文行楷"/>
                <a:ea typeface="华文行楷"/>
              </a:rPr>
              <a:t>朱自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Picture 5" descr="ZWZHUZ01"/>
          <p:cNvPicPr/>
          <p:nvPr/>
        </p:nvPicPr>
        <p:blipFill>
          <a:blip r:embed="rId3"/>
          <a:stretch/>
        </p:blipFill>
        <p:spPr>
          <a:xfrm>
            <a:off x="380880" y="1752480"/>
            <a:ext cx="2984760" cy="4292640"/>
          </a:xfrm>
          <a:prstGeom prst="rect">
            <a:avLst/>
          </a:prstGeom>
          <a:ln w="0">
            <a:noFill/>
          </a:ln>
        </p:spPr>
      </p:pic>
      <p:sp>
        <p:nvSpPr>
          <p:cNvPr id="1563" name="Text Box 4"/>
          <p:cNvSpPr/>
          <p:nvPr/>
        </p:nvSpPr>
        <p:spPr>
          <a:xfrm>
            <a:off x="110412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9" name="Picture 4" descr="quwen_1087318072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4630680"/>
          </a:xfrm>
          <a:prstGeom prst="rect">
            <a:avLst/>
          </a:prstGeom>
          <a:ln w="0">
            <a:noFill/>
          </a:ln>
        </p:spPr>
      </p:pic>
      <p:sp>
        <p:nvSpPr>
          <p:cNvPr id="1690" name="Text Box 5"/>
          <p:cNvSpPr/>
          <p:nvPr/>
        </p:nvSpPr>
        <p:spPr>
          <a:xfrm>
            <a:off x="-26280" y="1023480"/>
            <a:ext cx="20091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人迎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6"/>
          <p:cNvSpPr/>
          <p:nvPr/>
        </p:nvSpPr>
        <p:spPr>
          <a:xfrm>
            <a:off x="2409480" y="495288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范围广    人数多    年龄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抓住特定情境中人的活动来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7"/>
          <p:cNvSpPr/>
          <p:nvPr/>
        </p:nvSpPr>
        <p:spPr>
          <a:xfrm>
            <a:off x="567720" y="602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5" name="日期占位符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3470-BA04-44DB-B78F-827605125E42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灯片编号占位符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98E8-A987-47D2-B907-9A110DF876D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7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2" descr="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9" name="TextBox 7"/>
          <p:cNvSpPr/>
          <p:nvPr/>
        </p:nvSpPr>
        <p:spPr>
          <a:xfrm>
            <a:off x="3505320" y="533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"/>
                <a:ea typeface="楷体"/>
              </a:rPr>
              <a:t>赞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9"/>
          <p:cNvSpPr/>
          <p:nvPr/>
        </p:nvSpPr>
        <p:spPr>
          <a:xfrm>
            <a:off x="1905120" y="18288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像刚落地的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娃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从头到脚都是新的，它生长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像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小姑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花枝招展的，笑着，走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像健壮的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青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铁一般的胳膊和腰脚，领着我们上前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2000" fill="hold"/>
                                        <p:tgtEl>
                                          <p:spTgt spid="16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日期占位符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2F42-AF97-45C2-8ADC-EF7F2584F0AB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灯片编号占位符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5C7C-B28B-42AC-9CC4-1CEB6CBD462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Group 2"/>
          <p:cNvGrpSpPr/>
          <p:nvPr/>
        </p:nvGrpSpPr>
        <p:grpSpPr>
          <a:xfrm>
            <a:off x="4042800" y="4817880"/>
            <a:ext cx="4007160" cy="2149560"/>
            <a:chOff x="4042800" y="4817880"/>
            <a:chExt cx="4007160" cy="2149560"/>
          </a:xfrm>
        </p:grpSpPr>
        <p:sp>
          <p:nvSpPr>
            <p:cNvPr id="1704" name="Freeform 3"/>
            <p:cNvSpPr/>
            <p:nvPr/>
          </p:nvSpPr>
          <p:spPr>
            <a:xfrm rot="9917400">
              <a:off x="4134960" y="5283000"/>
              <a:ext cx="3822840" cy="1218960"/>
            </a:xfrm>
            <a:custGeom>
              <a:avLst/>
              <a:gdLst>
                <a:gd name="textAreaLeft" fmla="*/ 0 w 3822840"/>
                <a:gd name="textAreaRight" fmla="*/ 3823200 w 38228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408" h="768">
                  <a:moveTo>
                    <a:pt x="593" y="678"/>
                  </a:moveTo>
                  <a:cubicBezTo>
                    <a:pt x="822" y="756"/>
                    <a:pt x="1227" y="734"/>
                    <a:pt x="1529" y="731"/>
                  </a:cubicBezTo>
                  <a:cubicBezTo>
                    <a:pt x="1831" y="728"/>
                    <a:pt x="2408" y="768"/>
                    <a:pt x="2405" y="657"/>
                  </a:cubicBezTo>
                  <a:cubicBezTo>
                    <a:pt x="2402" y="546"/>
                    <a:pt x="1888" y="132"/>
                    <a:pt x="1513" y="66"/>
                  </a:cubicBezTo>
                  <a:cubicBezTo>
                    <a:pt x="1138" y="0"/>
                    <a:pt x="306" y="160"/>
                    <a:pt x="153" y="262"/>
                  </a:cubicBezTo>
                  <a:cubicBezTo>
                    <a:pt x="0" y="364"/>
                    <a:pt x="418" y="585"/>
                    <a:pt x="593" y="678"/>
                  </a:cubicBez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4"/>
            <p:cNvSpPr/>
            <p:nvPr/>
          </p:nvSpPr>
          <p:spPr>
            <a:xfrm>
              <a:off x="4370400" y="5549760"/>
              <a:ext cx="3012840" cy="462960"/>
            </a:xfrm>
            <a:custGeom>
              <a:avLst/>
              <a:gdLst>
                <a:gd name="textAreaLeft" fmla="*/ 0 w 3012840"/>
                <a:gd name="textAreaRight" fmla="*/ 3013200 w 301284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1898" h="292">
                  <a:moveTo>
                    <a:pt x="0" y="276"/>
                  </a:moveTo>
                  <a:cubicBezTo>
                    <a:pt x="69" y="279"/>
                    <a:pt x="322" y="292"/>
                    <a:pt x="422" y="292"/>
                  </a:cubicBezTo>
                  <a:cubicBezTo>
                    <a:pt x="522" y="292"/>
                    <a:pt x="505" y="285"/>
                    <a:pt x="600" y="276"/>
                  </a:cubicBezTo>
                  <a:cubicBezTo>
                    <a:pt x="695" y="267"/>
                    <a:pt x="867" y="269"/>
                    <a:pt x="990" y="236"/>
                  </a:cubicBezTo>
                  <a:cubicBezTo>
                    <a:pt x="1113" y="203"/>
                    <a:pt x="1188" y="120"/>
                    <a:pt x="1339" y="81"/>
                  </a:cubicBezTo>
                  <a:cubicBezTo>
                    <a:pt x="1490" y="42"/>
                    <a:pt x="1782" y="17"/>
                    <a:pt x="1898" y="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Freeform 5"/>
          <p:cNvSpPr/>
          <p:nvPr/>
        </p:nvSpPr>
        <p:spPr>
          <a:xfrm>
            <a:off x="950760" y="2719440"/>
            <a:ext cx="4200840" cy="1528560"/>
          </a:xfrm>
          <a:custGeom>
            <a:avLst/>
            <a:gdLst>
              <a:gd name="textAreaLeft" fmla="*/ 0 w 4200840"/>
              <a:gd name="textAreaRight" fmla="*/ 4201200 w 4200840"/>
              <a:gd name="textAreaTop" fmla="*/ 0 h 1528560"/>
              <a:gd name="textAreaBottom" fmla="*/ 1528920 h 1528560"/>
            </a:gdLst>
            <a:ahLst/>
            <a:rect l="textAreaLeft" t="textAreaTop" r="textAreaRight" b="textAreaBottom"/>
            <a:pathLst>
              <a:path w="2476" h="962">
                <a:moveTo>
                  <a:pt x="603" y="814"/>
                </a:moveTo>
                <a:cubicBezTo>
                  <a:pt x="778" y="907"/>
                  <a:pt x="908" y="962"/>
                  <a:pt x="1210" y="958"/>
                </a:cubicBezTo>
                <a:cubicBezTo>
                  <a:pt x="1512" y="954"/>
                  <a:pt x="2355" y="941"/>
                  <a:pt x="2415" y="793"/>
                </a:cubicBezTo>
                <a:cubicBezTo>
                  <a:pt x="2476" y="644"/>
                  <a:pt x="1955" y="133"/>
                  <a:pt x="1580" y="67"/>
                </a:cubicBezTo>
                <a:cubicBezTo>
                  <a:pt x="1205" y="0"/>
                  <a:pt x="326" y="274"/>
                  <a:pt x="163" y="398"/>
                </a:cubicBezTo>
                <a:cubicBezTo>
                  <a:pt x="0" y="522"/>
                  <a:pt x="428" y="721"/>
                  <a:pt x="603" y="814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6"/>
          <p:cNvSpPr/>
          <p:nvPr/>
        </p:nvSpPr>
        <p:spPr>
          <a:xfrm>
            <a:off x="2057400" y="990720"/>
            <a:ext cx="3017880" cy="280188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2801880"/>
              <a:gd name="textAreaBottom" fmla="*/ 2802240 h 2801880"/>
            </a:gdLst>
            <a:ahLst/>
            <a:rect l="textAreaLeft" t="textAreaTop" r="textAreaRight" b="textAreaBottom"/>
            <a:pathLst>
              <a:path w="1779" h="1764">
                <a:moveTo>
                  <a:pt x="229" y="549"/>
                </a:moveTo>
                <a:cubicBezTo>
                  <a:pt x="278" y="711"/>
                  <a:pt x="293" y="788"/>
                  <a:pt x="513" y="979"/>
                </a:cubicBezTo>
                <a:cubicBezTo>
                  <a:pt x="733" y="1170"/>
                  <a:pt x="1372" y="1764"/>
                  <a:pt x="1546" y="1697"/>
                </a:cubicBezTo>
                <a:cubicBezTo>
                  <a:pt x="1720" y="1630"/>
                  <a:pt x="1779" y="860"/>
                  <a:pt x="1558" y="578"/>
                </a:cubicBezTo>
                <a:cubicBezTo>
                  <a:pt x="1337" y="296"/>
                  <a:pt x="442" y="10"/>
                  <a:pt x="221" y="5"/>
                </a:cubicBezTo>
                <a:cubicBezTo>
                  <a:pt x="0" y="0"/>
                  <a:pt x="227" y="436"/>
                  <a:pt x="229" y="549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7"/>
          <p:cNvSpPr/>
          <p:nvPr/>
        </p:nvSpPr>
        <p:spPr>
          <a:xfrm>
            <a:off x="4038480" y="152280"/>
            <a:ext cx="1751040" cy="3487680"/>
          </a:xfrm>
          <a:custGeom>
            <a:avLst/>
            <a:gdLst>
              <a:gd name="textAreaLeft" fmla="*/ 0 w 1751040"/>
              <a:gd name="textAreaRight" fmla="*/ 1751400 w 1751040"/>
              <a:gd name="textAreaTop" fmla="*/ 0 h 3487680"/>
              <a:gd name="textAreaBottom" fmla="*/ 3488040 h 3487680"/>
            </a:gdLst>
            <a:ahLst/>
            <a:rect l="textAreaLeft" t="textAreaTop" r="textAreaRight" b="textAreaBottom"/>
            <a:pathLst>
              <a:path w="1033" h="2195">
                <a:moveTo>
                  <a:pt x="153" y="637"/>
                </a:moveTo>
                <a:cubicBezTo>
                  <a:pt x="37" y="794"/>
                  <a:pt x="0" y="964"/>
                  <a:pt x="7" y="1221"/>
                </a:cubicBezTo>
                <a:cubicBezTo>
                  <a:pt x="14" y="1478"/>
                  <a:pt x="38" y="2169"/>
                  <a:pt x="193" y="2182"/>
                </a:cubicBezTo>
                <a:cubicBezTo>
                  <a:pt x="348" y="2195"/>
                  <a:pt x="841" y="1642"/>
                  <a:pt x="937" y="1297"/>
                </a:cubicBezTo>
                <a:cubicBezTo>
                  <a:pt x="1033" y="952"/>
                  <a:pt x="900" y="220"/>
                  <a:pt x="769" y="110"/>
                </a:cubicBezTo>
                <a:cubicBezTo>
                  <a:pt x="638" y="0"/>
                  <a:pt x="281" y="527"/>
                  <a:pt x="153" y="637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Freeform 8"/>
          <p:cNvSpPr/>
          <p:nvPr/>
        </p:nvSpPr>
        <p:spPr>
          <a:xfrm>
            <a:off x="4038480" y="1295280"/>
            <a:ext cx="3532320" cy="2595600"/>
          </a:xfrm>
          <a:custGeom>
            <a:avLst/>
            <a:gdLst>
              <a:gd name="textAreaLeft" fmla="*/ 0 w 3532320"/>
              <a:gd name="textAreaRight" fmla="*/ 3532680 w 3532320"/>
              <a:gd name="textAreaTop" fmla="*/ 0 h 2595600"/>
              <a:gd name="textAreaBottom" fmla="*/ 2595960 h 2595600"/>
            </a:gdLst>
            <a:ahLst/>
            <a:rect l="textAreaLeft" t="textAreaTop" r="textAreaRight" b="textAreaBottom"/>
            <a:pathLst>
              <a:path w="2083" h="1634">
                <a:moveTo>
                  <a:pt x="1228" y="288"/>
                </a:moveTo>
                <a:cubicBezTo>
                  <a:pt x="1036" y="342"/>
                  <a:pt x="1025" y="388"/>
                  <a:pt x="833" y="586"/>
                </a:cubicBezTo>
                <a:cubicBezTo>
                  <a:pt x="641" y="784"/>
                  <a:pt x="0" y="1337"/>
                  <a:pt x="75" y="1476"/>
                </a:cubicBezTo>
                <a:cubicBezTo>
                  <a:pt x="150" y="1615"/>
                  <a:pt x="952" y="1634"/>
                  <a:pt x="1285" y="1420"/>
                </a:cubicBezTo>
                <a:cubicBezTo>
                  <a:pt x="1618" y="1206"/>
                  <a:pt x="2083" y="378"/>
                  <a:pt x="2074" y="189"/>
                </a:cubicBezTo>
                <a:cubicBezTo>
                  <a:pt x="2065" y="0"/>
                  <a:pt x="1404" y="268"/>
                  <a:pt x="1228" y="288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9"/>
          <p:cNvSpPr/>
          <p:nvPr/>
        </p:nvSpPr>
        <p:spPr>
          <a:xfrm>
            <a:off x="4191120" y="3200400"/>
            <a:ext cx="4287600" cy="1549440"/>
          </a:xfrm>
          <a:custGeom>
            <a:avLst/>
            <a:gdLst>
              <a:gd name="textAreaLeft" fmla="*/ 0 w 4287600"/>
              <a:gd name="textAreaRight" fmla="*/ 4287600 w 428760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2528" h="975">
                <a:moveTo>
                  <a:pt x="1770" y="79"/>
                </a:moveTo>
                <a:cubicBezTo>
                  <a:pt x="1575" y="0"/>
                  <a:pt x="1511" y="13"/>
                  <a:pt x="1224" y="29"/>
                </a:cubicBezTo>
                <a:cubicBezTo>
                  <a:pt x="937" y="45"/>
                  <a:pt x="92" y="27"/>
                  <a:pt x="46" y="176"/>
                </a:cubicBezTo>
                <a:cubicBezTo>
                  <a:pt x="0" y="325"/>
                  <a:pt x="560" y="867"/>
                  <a:pt x="951" y="921"/>
                </a:cubicBezTo>
                <a:cubicBezTo>
                  <a:pt x="1341" y="975"/>
                  <a:pt x="2255" y="642"/>
                  <a:pt x="2392" y="501"/>
                </a:cubicBezTo>
                <a:cubicBezTo>
                  <a:pt x="2528" y="361"/>
                  <a:pt x="1900" y="167"/>
                  <a:pt x="1770" y="79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1" name="Group 10"/>
          <p:cNvGrpSpPr/>
          <p:nvPr/>
        </p:nvGrpSpPr>
        <p:grpSpPr>
          <a:xfrm>
            <a:off x="3830760" y="4444920"/>
            <a:ext cx="698400" cy="2438280"/>
            <a:chOff x="3830760" y="4444920"/>
            <a:chExt cx="698400" cy="2438280"/>
          </a:xfrm>
        </p:grpSpPr>
        <p:sp>
          <p:nvSpPr>
            <p:cNvPr id="1712" name="Freeform 11"/>
            <p:cNvSpPr/>
            <p:nvPr/>
          </p:nvSpPr>
          <p:spPr>
            <a:xfrm>
              <a:off x="3830760" y="4444920"/>
              <a:ext cx="546120" cy="2438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344" h="1536">
                  <a:moveTo>
                    <a:pt x="344" y="0"/>
                  </a:moveTo>
                  <a:cubicBezTo>
                    <a:pt x="180" y="276"/>
                    <a:pt x="16" y="552"/>
                    <a:pt x="8" y="768"/>
                  </a:cubicBezTo>
                  <a:cubicBezTo>
                    <a:pt x="0" y="984"/>
                    <a:pt x="248" y="1168"/>
                    <a:pt x="296" y="1296"/>
                  </a:cubicBezTo>
                  <a:cubicBezTo>
                    <a:pt x="344" y="1424"/>
                    <a:pt x="296" y="1496"/>
                    <a:pt x="296" y="1536"/>
                  </a:cubicBezTo>
                </a:path>
              </a:pathLst>
            </a:custGeom>
            <a:noFill/>
            <a:ln w="190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2"/>
            <p:cNvSpPr/>
            <p:nvPr/>
          </p:nvSpPr>
          <p:spPr>
            <a:xfrm>
              <a:off x="3983040" y="4444920"/>
              <a:ext cx="546120" cy="2438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344" h="1536">
                  <a:moveTo>
                    <a:pt x="344" y="0"/>
                  </a:moveTo>
                  <a:cubicBezTo>
                    <a:pt x="180" y="276"/>
                    <a:pt x="16" y="552"/>
                    <a:pt x="8" y="768"/>
                  </a:cubicBezTo>
                  <a:cubicBezTo>
                    <a:pt x="0" y="984"/>
                    <a:pt x="248" y="1168"/>
                    <a:pt x="296" y="1296"/>
                  </a:cubicBezTo>
                  <a:cubicBezTo>
                    <a:pt x="344" y="1424"/>
                    <a:pt x="296" y="1496"/>
                    <a:pt x="296" y="1536"/>
                  </a:cubicBezTo>
                </a:path>
              </a:pathLst>
            </a:custGeom>
            <a:noFill/>
            <a:ln w="190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Group 13"/>
          <p:cNvGrpSpPr/>
          <p:nvPr/>
        </p:nvGrpSpPr>
        <p:grpSpPr>
          <a:xfrm>
            <a:off x="228600" y="4724280"/>
            <a:ext cx="3822840" cy="1393920"/>
            <a:chOff x="228600" y="4724280"/>
            <a:chExt cx="3822840" cy="1393920"/>
          </a:xfrm>
        </p:grpSpPr>
        <p:sp>
          <p:nvSpPr>
            <p:cNvPr id="1715" name="Freeform 14"/>
            <p:cNvSpPr/>
            <p:nvPr/>
          </p:nvSpPr>
          <p:spPr>
            <a:xfrm>
              <a:off x="228600" y="4724280"/>
              <a:ext cx="3822840" cy="1219320"/>
            </a:xfrm>
            <a:custGeom>
              <a:avLst/>
              <a:gdLst>
                <a:gd name="textAreaLeft" fmla="*/ 0 w 3822840"/>
                <a:gd name="textAreaRight" fmla="*/ 3823200 w 38228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408" h="768">
                  <a:moveTo>
                    <a:pt x="593" y="678"/>
                  </a:moveTo>
                  <a:cubicBezTo>
                    <a:pt x="822" y="756"/>
                    <a:pt x="1227" y="734"/>
                    <a:pt x="1529" y="731"/>
                  </a:cubicBezTo>
                  <a:cubicBezTo>
                    <a:pt x="1831" y="728"/>
                    <a:pt x="2408" y="768"/>
                    <a:pt x="2405" y="657"/>
                  </a:cubicBezTo>
                  <a:cubicBezTo>
                    <a:pt x="2402" y="546"/>
                    <a:pt x="1888" y="132"/>
                    <a:pt x="1513" y="66"/>
                  </a:cubicBezTo>
                  <a:cubicBezTo>
                    <a:pt x="1138" y="0"/>
                    <a:pt x="306" y="160"/>
                    <a:pt x="153" y="262"/>
                  </a:cubicBezTo>
                  <a:cubicBezTo>
                    <a:pt x="0" y="364"/>
                    <a:pt x="418" y="585"/>
                    <a:pt x="593" y="678"/>
                  </a:cubicBez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5"/>
            <p:cNvSpPr/>
            <p:nvPr/>
          </p:nvSpPr>
          <p:spPr>
            <a:xfrm rot="11738400">
              <a:off x="761760" y="5257080"/>
              <a:ext cx="3012840" cy="463320"/>
            </a:xfrm>
            <a:custGeom>
              <a:avLst/>
              <a:gdLst>
                <a:gd name="textAreaLeft" fmla="*/ 0 w 3012840"/>
                <a:gd name="textAreaRight" fmla="*/ 3013200 w 30128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898" h="292">
                  <a:moveTo>
                    <a:pt x="0" y="276"/>
                  </a:moveTo>
                  <a:cubicBezTo>
                    <a:pt x="69" y="279"/>
                    <a:pt x="322" y="292"/>
                    <a:pt x="422" y="292"/>
                  </a:cubicBezTo>
                  <a:cubicBezTo>
                    <a:pt x="522" y="292"/>
                    <a:pt x="505" y="285"/>
                    <a:pt x="600" y="276"/>
                  </a:cubicBezTo>
                  <a:cubicBezTo>
                    <a:pt x="695" y="267"/>
                    <a:pt x="867" y="269"/>
                    <a:pt x="990" y="236"/>
                  </a:cubicBezTo>
                  <a:cubicBezTo>
                    <a:pt x="1113" y="203"/>
                    <a:pt x="1188" y="120"/>
                    <a:pt x="1339" y="81"/>
                  </a:cubicBezTo>
                  <a:cubicBezTo>
                    <a:pt x="1490" y="42"/>
                    <a:pt x="1782" y="17"/>
                    <a:pt x="1898" y="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7" name="Oval 16"/>
          <p:cNvSpPr/>
          <p:nvPr/>
        </p:nvSpPr>
        <p:spPr>
          <a:xfrm>
            <a:off x="3657600" y="2743200"/>
            <a:ext cx="1828800" cy="175248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WordArt 17"/>
          <p:cNvSpPr txBox="1"/>
          <p:nvPr/>
        </p:nvSpPr>
        <p:spPr>
          <a:xfrm>
            <a:off x="5638680" y="3429000"/>
            <a:ext cx="145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迎春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19" name="Group 18"/>
          <p:cNvGrpSpPr/>
          <p:nvPr/>
        </p:nvGrpSpPr>
        <p:grpSpPr>
          <a:xfrm>
            <a:off x="5558760" y="1749960"/>
            <a:ext cx="1379880" cy="1452600"/>
            <a:chOff x="5558760" y="1749960"/>
            <a:chExt cx="1379880" cy="1452600"/>
          </a:xfrm>
        </p:grpSpPr>
        <p:sp>
          <p:nvSpPr>
            <p:cNvPr id="1720" name="WordArt 19"/>
            <p:cNvSpPr txBox="1"/>
            <p:nvPr/>
          </p:nvSpPr>
          <p:spPr>
            <a:xfrm rot="5371200">
              <a:off x="6210000" y="186552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ccffff"/>
                    </a:solidFill>
                    <a:miter/>
                  </a:ln>
                  <a:gradFill rotWithShape="0">
                    <a:gsLst>
                      <a:gs pos="0">
                        <a:srgbClr val="ccccff"/>
                      </a:gs>
                      <a:gs pos="100000">
                        <a:srgbClr val="ccccff"/>
                      </a:gs>
                    </a:gsLst>
                    <a:lin ang="2730000"/>
                  </a:gradFill>
                  <a:latin typeface="宋体"/>
                </a:rPr>
                <a:t>春</a:t>
              </a:r>
              <a:endParaRPr b="1" lang="en-US" sz="1800" spc="1" strike="noStrike">
                <a:ln w="32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30000"/>
                </a:gradFill>
                <a:latin typeface="宋体"/>
                <a:ea typeface="宋体"/>
              </a:endParaRPr>
            </a:p>
          </p:txBody>
        </p:sp>
        <p:sp>
          <p:nvSpPr>
            <p:cNvPr id="1721" name="WordArt 20"/>
            <p:cNvSpPr txBox="1"/>
            <p:nvPr/>
          </p:nvSpPr>
          <p:spPr>
            <a:xfrm rot="5371200">
              <a:off x="5448960" y="247500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ccffff"/>
                    </a:solidFill>
                    <a:miter/>
                  </a:ln>
                  <a:gradFill rotWithShape="0">
                    <a:gsLst>
                      <a:gs pos="0">
                        <a:srgbClr val="ccccff"/>
                      </a:gs>
                      <a:gs pos="100000">
                        <a:srgbClr val="ccccff"/>
                      </a:gs>
                    </a:gsLst>
                    <a:lin ang="2730000"/>
                  </a:gradFill>
                  <a:latin typeface="宋体"/>
                </a:rPr>
                <a:t>雨</a:t>
              </a:r>
              <a:endParaRPr b="1" lang="en-US" sz="1800" spc="1" strike="noStrike">
                <a:ln w="32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30000"/>
                </a:gradFill>
                <a:latin typeface="宋体"/>
                <a:ea typeface="宋体"/>
              </a:endParaRPr>
            </a:p>
          </p:txBody>
        </p:sp>
      </p:grpSp>
      <p:grpSp>
        <p:nvGrpSpPr>
          <p:cNvPr id="1722" name="Group 21"/>
          <p:cNvGrpSpPr/>
          <p:nvPr/>
        </p:nvGrpSpPr>
        <p:grpSpPr>
          <a:xfrm>
            <a:off x="4339800" y="835560"/>
            <a:ext cx="1074960" cy="1757520"/>
            <a:chOff x="4339800" y="835560"/>
            <a:chExt cx="1074960" cy="1757520"/>
          </a:xfrm>
        </p:grpSpPr>
        <p:sp>
          <p:nvSpPr>
            <p:cNvPr id="1723" name="WordArt 22"/>
            <p:cNvSpPr txBox="1"/>
            <p:nvPr/>
          </p:nvSpPr>
          <p:spPr>
            <a:xfrm rot="5371200">
              <a:off x="4686120" y="95112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99ccff"/>
                  </a:solidFill>
                  <a:latin typeface="宋体"/>
                </a:rPr>
                <a:t>春</a:t>
              </a:r>
              <a:endPara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99ccff"/>
                </a:solidFill>
                <a:latin typeface="宋体"/>
                <a:ea typeface="宋体"/>
              </a:endParaRPr>
            </a:p>
          </p:txBody>
        </p:sp>
        <p:sp>
          <p:nvSpPr>
            <p:cNvPr id="1724" name="WordArt 23"/>
            <p:cNvSpPr txBox="1"/>
            <p:nvPr/>
          </p:nvSpPr>
          <p:spPr>
            <a:xfrm rot="5371200">
              <a:off x="4230000" y="1865520"/>
              <a:ext cx="838080" cy="612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99ccff"/>
                  </a:solidFill>
                  <a:latin typeface="宋体"/>
                </a:rPr>
                <a:t>风</a:t>
              </a:r>
              <a:endPara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99ccff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725" name="Group 24"/>
          <p:cNvGrpSpPr/>
          <p:nvPr/>
        </p:nvGrpSpPr>
        <p:grpSpPr>
          <a:xfrm>
            <a:off x="2587320" y="1292760"/>
            <a:ext cx="1227600" cy="1605240"/>
            <a:chOff x="2587320" y="1292760"/>
            <a:chExt cx="1227600" cy="1605240"/>
          </a:xfrm>
        </p:grpSpPr>
        <p:sp>
          <p:nvSpPr>
            <p:cNvPr id="1726" name="WordArt 25"/>
            <p:cNvSpPr txBox="1"/>
            <p:nvPr/>
          </p:nvSpPr>
          <p:spPr>
            <a:xfrm rot="5371200">
              <a:off x="2477520" y="1408320"/>
              <a:ext cx="838080" cy="612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宋体"/>
                </a:rPr>
                <a:t>春</a:t>
              </a:r>
              <a:endParaRPr b="1" lang="en-US" sz="1800" spc="1" strike="noStrike">
                <a:ln w="3240">
                  <a:solidFill>
                    <a:srgbClr val="ffff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宋体"/>
                <a:ea typeface="宋体"/>
              </a:endParaRPr>
            </a:p>
          </p:txBody>
        </p:sp>
        <p:sp>
          <p:nvSpPr>
            <p:cNvPr id="1727" name="WordArt 26"/>
            <p:cNvSpPr txBox="1"/>
            <p:nvPr/>
          </p:nvSpPr>
          <p:spPr>
            <a:xfrm rot="5371200">
              <a:off x="3085920" y="2170080"/>
              <a:ext cx="838440" cy="612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宋体"/>
                </a:rPr>
                <a:t>花</a:t>
              </a:r>
              <a:endParaRPr b="1" lang="en-US" sz="1800" spc="1" strike="noStrike">
                <a:ln w="3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1728" name="Group 27"/>
          <p:cNvGrpSpPr/>
          <p:nvPr/>
        </p:nvGrpSpPr>
        <p:grpSpPr>
          <a:xfrm>
            <a:off x="1977120" y="3121560"/>
            <a:ext cx="1456200" cy="995400"/>
            <a:chOff x="1977120" y="3121560"/>
            <a:chExt cx="1456200" cy="995400"/>
          </a:xfrm>
        </p:grpSpPr>
        <p:sp>
          <p:nvSpPr>
            <p:cNvPr id="1729" name="WordArt 28"/>
            <p:cNvSpPr txBox="1"/>
            <p:nvPr/>
          </p:nvSpPr>
          <p:spPr>
            <a:xfrm rot="5371200">
              <a:off x="1867320" y="323712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99cc00"/>
                    </a:solidFill>
                    <a:miter/>
                  </a:ln>
                  <a:solidFill>
                    <a:srgbClr val="00b200"/>
                  </a:solidFill>
                  <a:latin typeface="宋体"/>
                </a:rPr>
                <a:t>春</a:t>
              </a:r>
              <a:endParaRPr b="1" lang="en-US" sz="1800" spc="1" strike="noStrike">
                <a:ln w="3240">
                  <a:solidFill>
                    <a:srgbClr val="99cc00"/>
                  </a:solidFill>
                  <a:miter/>
                </a:ln>
                <a:solidFill>
                  <a:srgbClr val="00b200"/>
                </a:solidFill>
                <a:latin typeface="宋体"/>
                <a:ea typeface="宋体"/>
              </a:endParaRPr>
            </a:p>
          </p:txBody>
        </p:sp>
        <p:sp>
          <p:nvSpPr>
            <p:cNvPr id="1730" name="WordArt 29"/>
            <p:cNvSpPr txBox="1"/>
            <p:nvPr/>
          </p:nvSpPr>
          <p:spPr>
            <a:xfrm rot="5371200">
              <a:off x="2704680" y="338940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99cc00"/>
                    </a:solidFill>
                    <a:miter/>
                  </a:ln>
                  <a:solidFill>
                    <a:srgbClr val="00b200"/>
                  </a:solidFill>
                  <a:latin typeface="宋体"/>
                </a:rPr>
                <a:t>草</a:t>
              </a:r>
              <a:endParaRPr b="1" lang="en-US" sz="1800" spc="1" strike="noStrike">
                <a:ln w="3240">
                  <a:solidFill>
                    <a:srgbClr val="99cc00"/>
                  </a:solidFill>
                  <a:miter/>
                </a:ln>
                <a:solidFill>
                  <a:srgbClr val="00b2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731" name="Group 30"/>
          <p:cNvGrpSpPr/>
          <p:nvPr/>
        </p:nvGrpSpPr>
        <p:grpSpPr>
          <a:xfrm>
            <a:off x="1399320" y="4939200"/>
            <a:ext cx="1456200" cy="843120"/>
            <a:chOff x="1399320" y="4939200"/>
            <a:chExt cx="1456200" cy="843120"/>
          </a:xfrm>
        </p:grpSpPr>
        <p:sp>
          <p:nvSpPr>
            <p:cNvPr id="1732" name="WordArt 31"/>
            <p:cNvSpPr txBox="1"/>
            <p:nvPr/>
          </p:nvSpPr>
          <p:spPr>
            <a:xfrm rot="5371200">
              <a:off x="1289520" y="505476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00"/>
                    </a:solidFill>
                    <a:miter/>
                  </a:ln>
                  <a:solidFill>
                    <a:srgbClr val="800080"/>
                  </a:solidFill>
                  <a:latin typeface="隶书"/>
                </a:rPr>
                <a:t>盼</a:t>
              </a:r>
              <a:endParaRPr b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latin typeface="隶书"/>
                <a:ea typeface="隶书"/>
              </a:endParaRPr>
            </a:p>
          </p:txBody>
        </p:sp>
        <p:sp>
          <p:nvSpPr>
            <p:cNvPr id="1733" name="WordArt 32"/>
            <p:cNvSpPr txBox="1"/>
            <p:nvPr/>
          </p:nvSpPr>
          <p:spPr>
            <a:xfrm rot="5371200">
              <a:off x="2126880" y="505476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00"/>
                    </a:solidFill>
                    <a:miter/>
                  </a:ln>
                  <a:solidFill>
                    <a:srgbClr val="800080"/>
                  </a:solidFill>
                  <a:latin typeface="宋体"/>
                </a:rPr>
                <a:t>春</a:t>
              </a:r>
              <a:endParaRPr b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734" name="Group 33"/>
          <p:cNvGrpSpPr/>
          <p:nvPr/>
        </p:nvGrpSpPr>
        <p:grpSpPr>
          <a:xfrm>
            <a:off x="5288760" y="5155200"/>
            <a:ext cx="1608480" cy="1071720"/>
            <a:chOff x="5288760" y="5155200"/>
            <a:chExt cx="1608480" cy="1071720"/>
          </a:xfrm>
        </p:grpSpPr>
        <p:sp>
          <p:nvSpPr>
            <p:cNvPr id="1735" name="WordArt 34"/>
            <p:cNvSpPr txBox="1"/>
            <p:nvPr/>
          </p:nvSpPr>
          <p:spPr>
            <a:xfrm rot="5371200">
              <a:off x="5178960" y="549936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00ccff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颂</a:t>
              </a:r>
              <a:endPara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1736" name="WordArt 35"/>
            <p:cNvSpPr txBox="1"/>
            <p:nvPr/>
          </p:nvSpPr>
          <p:spPr>
            <a:xfrm rot="5371200">
              <a:off x="6168600" y="5270760"/>
              <a:ext cx="838080" cy="611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8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00ccff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春</a:t>
              </a:r>
              <a:endParaRPr b="1" lang="en-US" sz="18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737" name="WordArt 36"/>
          <p:cNvSpPr txBox="1"/>
          <p:nvPr/>
        </p:nvSpPr>
        <p:spPr>
          <a:xfrm>
            <a:off x="3886200" y="3276720"/>
            <a:ext cx="1447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宋体"/>
              </a:rPr>
              <a:t>绘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738" name="Text Box 37"/>
          <p:cNvSpPr/>
          <p:nvPr/>
        </p:nvSpPr>
        <p:spPr>
          <a:xfrm>
            <a:off x="685800" y="304920"/>
            <a:ext cx="3741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Picture 38" descr="5"/>
          <p:cNvPicPr/>
          <p:nvPr/>
        </p:nvPicPr>
        <p:blipFill>
          <a:blip r:embed="rId7"/>
          <a:stretch/>
        </p:blipFill>
        <p:spPr>
          <a:xfrm>
            <a:off x="324000" y="1197000"/>
            <a:ext cx="21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39" descr="3"/>
          <p:cNvPicPr/>
          <p:nvPr/>
        </p:nvPicPr>
        <p:blipFill>
          <a:blip r:embed="rId8"/>
          <a:stretch/>
        </p:blipFill>
        <p:spPr>
          <a:xfrm>
            <a:off x="7596360" y="479736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Picture 4" descr="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2" name="Text Box 5"/>
          <p:cNvSpPr/>
          <p:nvPr/>
        </p:nvSpPr>
        <p:spPr>
          <a:xfrm>
            <a:off x="1905120" y="10666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篇诗意盎然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抒情散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春本来是自然界的一个季节，本文用了多种修辞手法赋予它以感情和生命。作者抓住春的主要特征，虚实结合，动静结合，从不同角度，用极富表现力的语言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描绘了大地回春、万物复苏、生机勃发、草木争荣的景象，抒写出作者热爱春天、憧憬未来的欣喜心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首抒情诗，一幅风景画，更是一曲春的赞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5" name="日期占位符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69C-6A86-4AB7-AE4F-55A901B2E77F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灯片编号占位符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3D2A-3D40-4D7B-BC93-218E0CBD598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Picture 2" descr="http://b24.photo.store.qq.com/http_imgload.cgi?/rurl4_b=60cbcbe18a0cfe3fc1cd61010232834d02ad6c2608f7294e51a30de676243cdd6c0475e73a9348294f9f4bca12277f3c4d712c22cff5347332abf6ef7ab85a51d597ac988c84346d206a57fc3c0577e120ab66f2&amp;amp;a=29&amp;amp;b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8" name="矩形 7" descr=""/>
          <p:cNvPicPr/>
          <p:nvPr/>
        </p:nvPicPr>
        <p:blipFill>
          <a:blip r:embed="rId2"/>
          <a:stretch/>
        </p:blipFill>
        <p:spPr>
          <a:xfrm>
            <a:off x="1000080" y="2719440"/>
            <a:ext cx="6083280" cy="17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DFE2-1F27-4C64-9EF4-3B27C76ACF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0CE-7DF8-4A1B-BAE0-B0398C40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7" name="Rectangle 3"/>
          <p:cNvSpPr/>
          <p:nvPr/>
        </p:nvSpPr>
        <p:spPr>
          <a:xfrm>
            <a:off x="900000" y="1968480"/>
            <a:ext cx="726768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润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ùn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酝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酿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iàng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卖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宛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转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ǎn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嘹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iáo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亮   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(hè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晕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yùn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烘托          静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舒活    欣欣然   繁花嫩叶    呼朋引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枝招展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抖擞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ǒu sǒu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2"/>
          <p:cNvSpPr/>
          <p:nvPr/>
        </p:nvSpPr>
        <p:spPr>
          <a:xfrm>
            <a:off x="685800" y="990720"/>
            <a:ext cx="6870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，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Object 2" descr=""/>
          <p:cNvPicPr/>
          <p:nvPr/>
        </p:nvPicPr>
        <p:blipFill>
          <a:blip r:embed="rId1"/>
          <a:stretch/>
        </p:blipFill>
        <p:spPr>
          <a:xfrm>
            <a:off x="0" y="1371600"/>
            <a:ext cx="11810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日期占位符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20F-5E43-439F-A0E8-5828C3ED5EB1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灯片编号占位符 2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966-6905-434B-94CE-AE8BD5E5C1A3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矩形 4"/>
          <p:cNvSpPr/>
          <p:nvPr/>
        </p:nvSpPr>
        <p:spPr>
          <a:xfrm>
            <a:off x="2715840" y="914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理清文章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矩形 5"/>
          <p:cNvSpPr/>
          <p:nvPr/>
        </p:nvSpPr>
        <p:spPr>
          <a:xfrm>
            <a:off x="2008800" y="144792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盼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总领全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矩形 6"/>
          <p:cNvSpPr/>
          <p:nvPr/>
        </p:nvSpPr>
        <p:spPr>
          <a:xfrm>
            <a:off x="685800" y="3352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AutoShape 22"/>
          <p:cNvSpPr/>
          <p:nvPr/>
        </p:nvSpPr>
        <p:spPr>
          <a:xfrm>
            <a:off x="2666880" y="2133720"/>
            <a:ext cx="457200" cy="3036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36600"/>
              <a:gd name="textAreaBottom" fmla="*/ 2957400 h 303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8">
            <a:hlinkClick r:id="rId3" action="ppaction://hlinksldjump"/>
          </p:cNvPr>
          <p:cNvSpPr/>
          <p:nvPr/>
        </p:nvSpPr>
        <p:spPr>
          <a:xfrm>
            <a:off x="3200400" y="19810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（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2</a:t>
            </a: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）总绘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9"/>
          <p:cNvSpPr/>
          <p:nvPr/>
        </p:nvSpPr>
        <p:spPr>
          <a:xfrm>
            <a:off x="3276720" y="2514600"/>
            <a:ext cx="279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（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3</a:t>
            </a: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）春草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0"/>
          <p:cNvSpPr/>
          <p:nvPr/>
        </p:nvSpPr>
        <p:spPr>
          <a:xfrm>
            <a:off x="3352680" y="30481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）春花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11"/>
          <p:cNvSpPr/>
          <p:nvPr/>
        </p:nvSpPr>
        <p:spPr>
          <a:xfrm>
            <a:off x="3276720" y="3657600"/>
            <a:ext cx="28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（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5</a:t>
            </a: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）春风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12"/>
          <p:cNvSpPr/>
          <p:nvPr/>
        </p:nvSpPr>
        <p:spPr>
          <a:xfrm>
            <a:off x="3352680" y="4191120"/>
            <a:ext cx="265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（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6</a:t>
            </a: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）春雨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3"/>
          <p:cNvSpPr/>
          <p:nvPr/>
        </p:nvSpPr>
        <p:spPr>
          <a:xfrm>
            <a:off x="3352680" y="4800600"/>
            <a:ext cx="28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（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7" action="ppaction://hlinksldjump"/>
              </a:rPr>
              <a:t>7</a:t>
            </a:r>
            <a:r>
              <a:rPr b="0" lang="zh-CN" sz="24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8" action="ppaction://hlinksldjump"/>
              </a:rPr>
              <a:t>）迎春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1"/>
          <p:cNvSpPr/>
          <p:nvPr/>
        </p:nvSpPr>
        <p:spPr>
          <a:xfrm>
            <a:off x="250920" y="5373720"/>
            <a:ext cx="416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三）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楷体_GB2312"/>
                <a:hlinkClick r:id="rId19" action="ppaction://hlinksldjump"/>
              </a:rPr>
              <a:t>颂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8---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5"/>
          <p:cNvSpPr/>
          <p:nvPr/>
        </p:nvSpPr>
        <p:spPr>
          <a:xfrm>
            <a:off x="5791320" y="19051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28"/>
          <p:cNvSpPr/>
          <p:nvPr/>
        </p:nvSpPr>
        <p:spPr>
          <a:xfrm>
            <a:off x="6057000" y="4572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31"/>
          <p:cNvSpPr/>
          <p:nvPr/>
        </p:nvSpPr>
        <p:spPr>
          <a:xfrm>
            <a:off x="5791320" y="29718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Box 18"/>
          <p:cNvSpPr/>
          <p:nvPr/>
        </p:nvSpPr>
        <p:spPr>
          <a:xfrm>
            <a:off x="12193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—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4" descr="d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9" name="Text Box 6"/>
          <p:cNvSpPr/>
          <p:nvPr/>
        </p:nvSpPr>
        <p:spPr>
          <a:xfrm>
            <a:off x="158760" y="112536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19"/>
          <p:cNvSpPr/>
          <p:nvPr/>
        </p:nvSpPr>
        <p:spPr>
          <a:xfrm>
            <a:off x="1532160" y="165564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盼望着，盼望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20"/>
          <p:cNvSpPr/>
          <p:nvPr/>
        </p:nvSpPr>
        <p:spPr>
          <a:xfrm>
            <a:off x="380880" y="2362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反复，表达了作者盼春心切的强烈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21"/>
          <p:cNvSpPr/>
          <p:nvPr/>
        </p:nvSpPr>
        <p:spPr>
          <a:xfrm>
            <a:off x="304920" y="434340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拟人，宣告春天到来，表达喜春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2"/>
          <p:cNvSpPr/>
          <p:nvPr/>
        </p:nvSpPr>
        <p:spPr>
          <a:xfrm>
            <a:off x="259092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 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4"/>
          <p:cNvSpPr/>
          <p:nvPr/>
        </p:nvSpPr>
        <p:spPr>
          <a:xfrm>
            <a:off x="762120" y="35053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风来了，春天的脚步近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25"/>
          <p:cNvSpPr/>
          <p:nvPr/>
        </p:nvSpPr>
        <p:spPr>
          <a:xfrm>
            <a:off x="7833600" y="26028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Picture 2" descr="DLB056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597" name="WordArt 9"/>
          <p:cNvSpPr txBox="1"/>
          <p:nvPr/>
        </p:nvSpPr>
        <p:spPr>
          <a:xfrm>
            <a:off x="0" y="2819520"/>
            <a:ext cx="9144000" cy="31240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12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      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一切都像刚睡醒的样子，欣欣然张开了眼。山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润起来了，水涨起来了，太阳的脸红起来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98" name="TextBox 6"/>
          <p:cNvSpPr/>
          <p:nvPr/>
        </p:nvSpPr>
        <p:spPr>
          <a:xfrm>
            <a:off x="3048120" y="1371600"/>
            <a:ext cx="3352680" cy="113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b200"/>
                </a:solidFill>
                <a:uFillTx/>
                <a:latin typeface="楷体"/>
                <a:ea typeface="楷体"/>
                <a:hlinkClick r:id="rId2" action="ppaction://hlinksldjump"/>
              </a:rPr>
              <a:t>总绘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  <a:ea typeface="幼圆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1" name="日期占位符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9D3-8619-4AF2-9008-B8D42270DDDC}" type="datetime">
              <a:rPr b="0" lang="zh-CN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灯片编号占位符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A44-41AF-4893-BC9C-1AF614DBB7F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3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2" descr="图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5" name="TextBox 7"/>
          <p:cNvSpPr/>
          <p:nvPr/>
        </p:nvSpPr>
        <p:spPr>
          <a:xfrm>
            <a:off x="2819520" y="609480"/>
            <a:ext cx="32004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b200"/>
                </a:solidFill>
                <a:uFillTx/>
                <a:latin typeface="楷体"/>
                <a:ea typeface="楷体"/>
                <a:hlinkClick r:id="rId5" action="ppaction://hlinksldjump"/>
              </a:rPr>
              <a:t>总绘春</a:t>
            </a:r>
            <a:r>
              <a:rPr b="1" lang="zh-CN" sz="5400" spc="-1" strike="noStrike">
                <a:solidFill>
                  <a:srgbClr val="00b050"/>
                </a:solidFill>
                <a:latin typeface="楷体"/>
                <a:ea typeface="楷体"/>
              </a:rPr>
              <a:t>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Box 9"/>
          <p:cNvSpPr/>
          <p:nvPr/>
        </p:nvSpPr>
        <p:spPr>
          <a:xfrm>
            <a:off x="2438280" y="2362320"/>
            <a:ext cx="358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山（朗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水（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太阳（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7" name="Picture 4" descr="sf020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8" name="Rectangle 6"/>
          <p:cNvSpPr/>
          <p:nvPr/>
        </p:nvSpPr>
        <p:spPr>
          <a:xfrm>
            <a:off x="1258920" y="1268280"/>
            <a:ext cx="604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春草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小草偷偷地从土里钻出来，嫩嫩的，绿绿的。园子里，田野里，瞧去，一大片一大片满是的。坐着，躺着，打两个滚，踢几脚球，赛几趟跑，捉几回迷藏。风轻悄悄的，草软绵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3:48:34Z</dcterms:created>
  <dc:creator>Administrator</dc:creator>
  <dc:description/>
  <cp:keywords/>
  <dc:language>en-US</dc:language>
  <cp:lastModifiedBy>林123</cp:lastModifiedBy>
  <dcterms:modified xsi:type="dcterms:W3CDTF">2015-08-06T13:19:2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