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015-77FB-4FF3-BD87-F62CB537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D366-7529-4FF2-9CB5-8829BA0C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C87-44E2-4BEC-BBAD-8C2CA91F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30F-DAAF-44B4-B2AD-CCA57D99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6D5F-5237-41B5-BEE9-0BF0FF81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5099-9281-46AA-AC0F-5C9F4761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6B14-AF84-4472-A116-A3121BDB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05A-D467-4909-875F-10D1BAAF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04E-F00D-4EB5-8ADE-794738A7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66F-32BD-4099-AB9E-A4BD54BF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BB1-AC84-4BBC-9F89-F6EB41A4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F129-B7A2-4312-85E3-89A99DD4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33FD-8B43-4E46-82B7-8E2A9BB1C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1428480" cy="600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348000" y="2492280"/>
            <a:ext cx="2247840" cy="600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348000" y="3213000"/>
            <a:ext cx="2247840" cy="600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419640" y="4005360"/>
            <a:ext cx="2552400" cy="57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58920" y="9079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古代诗歌四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276720" y="1773360"/>
            <a:ext cx="1428480" cy="600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58920" y="9079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古代诗歌四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348000" y="2492280"/>
            <a:ext cx="2247840" cy="600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3276720" y="1773360"/>
            <a:ext cx="1428480" cy="600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58920" y="9079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古代诗歌四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3348000" y="3213000"/>
            <a:ext cx="224784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3348000" y="2492280"/>
            <a:ext cx="2247840" cy="600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276720" y="1773360"/>
            <a:ext cx="1428480" cy="600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9079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古代诗歌四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3419640" y="4005360"/>
            <a:ext cx="2552400" cy="57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3348000" y="3213000"/>
            <a:ext cx="2247840" cy="600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3348000" y="2492280"/>
            <a:ext cx="2247840" cy="60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3276720" y="1773360"/>
            <a:ext cx="1428480" cy="600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58920" y="9079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古代诗歌四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63640" y="404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品味探究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2040" y="1484280"/>
            <a:ext cx="286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组自由朗读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全文以哪个字统领全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诗人站在碣石山上，他看到了哪些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请用自己的话描述出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卷轴" descr="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2349360"/>
            <a:ext cx="81360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开篇点题，交待了观察的方位、地点以及观察的对象。“观”字统领全篇，是诗的线索，以下十句写观海所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620640"/>
            <a:ext cx="734364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东临碣石，以观沧海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卷轴" descr="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从碣石山往下看沧海的情形，从大处落墨，从全景写起，着力渲染大海那种苍茫动荡的气势。意思是：茫茫的大海上碧波万顷，一望无垠，只有脚下的山岛高高地耸立在海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水何澹澹，山岛竦峙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卷轴" descr="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9640" y="1268280"/>
            <a:ext cx="770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着山岛写草木，充满了欣欣向荣的景象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3357720"/>
            <a:ext cx="784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展现了大海波澜壮阔的气势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涌”字用得尤其出色。从描写中，我们不仅看到了大海波涌连天的形态，而且仿佛听到了惊涛拍岸的声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260280"/>
            <a:ext cx="80643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树木丛生，百草丰茂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227664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秋风萧瑟，洪波涌起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卷轴" descr="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71640" y="2781360"/>
            <a:ext cx="7964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诗人面对迷人的海上风光，展开了丰富奇特的想像。这四句是全诗的高潮，创造了一个极其开阔的意境：运行不息的太阳月亮，星光灿烂的银河，竟都包蕴在这沧海之中，何等气魄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836640"/>
            <a:ext cx="784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日月之行，若出其中； 星汉灿烂，若出其里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卷轴" descr="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乐府诗原来是可以歌唱的，诗的最后两句是合乐时加上的，是诗的附文，跟诗的内容没有联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幸甚至哉，歌以咏志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卷轴" descr="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5640" y="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哪些语句最能体现作者博大的胸怀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1484280"/>
            <a:ext cx="8066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诗前一部分写大海景象，视野广阔，也能见出诗人胸怀之博大，但跟后一部分比，气象则略逊一筹。“日月之行”四句写大海，全用虚写，却表现了大海有包容天地的气概，更显示了诗人的博大胸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76500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日月之行，若出其中； 星汉灿烂，若出其里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卷轴" descr="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20480" y="9079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首诗表达了诗人怎样的思想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2205000"/>
            <a:ext cx="74170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观沧海》是一首写景抒情诗，诗人勾画了大海吞吐日月，包蕴万千的壮丽景象，表现了作者开阔的胸襟，抒发了统一中国建功立业抱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卷轴" descr="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5" descr=""/>
          <p:cNvPicPr/>
          <p:nvPr/>
        </p:nvPicPr>
        <p:blipFill>
          <a:blip r:embed="rId2"/>
          <a:stretch/>
        </p:blipFill>
        <p:spPr>
          <a:xfrm>
            <a:off x="-9360" y="-11160"/>
            <a:ext cx="9153360" cy="6869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626080" y="1235160"/>
            <a:ext cx="232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Arial"/>
                <a:ea typeface="华文行楷"/>
              </a:rPr>
              <a:t>钱塘湖春行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华文行楷"/>
              </a:rPr>
              <a:t> 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79920" y="206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楷体_GB2312"/>
              </a:rPr>
              <a:t>白居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作者生平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4700520"/>
            <a:ext cx="8496360" cy="2157480"/>
            <a:chOff x="0" y="4700520"/>
            <a:chExt cx="8496360" cy="2157480"/>
          </a:xfrm>
        </p:grpSpPr>
        <p:pic>
          <p:nvPicPr>
            <p:cNvPr id="127" name="bjy" descr=""/>
            <p:cNvPicPr/>
            <p:nvPr/>
          </p:nvPicPr>
          <p:blipFill>
            <a:blip r:embed="rId2"/>
            <a:stretch/>
          </p:blipFill>
          <p:spPr>
            <a:xfrm>
              <a:off x="0" y="4700520"/>
              <a:ext cx="266400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808360" y="4843440"/>
              <a:ext cx="56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400" spc="-1" strike="noStrike">
                  <a:solidFill>
                    <a:srgbClr val="ff3399"/>
                  </a:solidFill>
                  <a:latin typeface="Arial"/>
                </a:rPr>
                <a:t>《钱塘湖春行》是穆宗长庆三年春白居易任杭州刺史时所作。钱塘湖是西湖的别名。诗中描写了西湖早春的明媚风光，抒发了诗人喜悦的感情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00000" y="692280"/>
            <a:ext cx="77868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居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字乐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号香山居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是继杜甫之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唐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杰出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现实主义诗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他的诗重视讽喻，崇尚简易。他做诗总是读给年迈的老人和没有读过书的人听，如果他们听得懂，就可以了：如果听不懂就改，直到懂了为止。以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《长恨歌》、《琵琶行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代表的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长篇叙事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是他成就的一个重要方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00000" y="1700280"/>
            <a:ext cx="7667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初步学习领会古诗词意境的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体会诗人借景抒情、融情于景所表达的不同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理解不同的时代背景、作者的不同经历同作品的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u=3995478345,2483498346&amp;fm=0&amp;gp=0" descr=""/>
          <p:cNvPicPr/>
          <p:nvPr/>
        </p:nvPicPr>
        <p:blipFill>
          <a:blip r:embed="rId2"/>
          <a:stretch/>
        </p:blipFill>
        <p:spPr>
          <a:xfrm>
            <a:off x="0" y="4986360"/>
            <a:ext cx="6227640" cy="1871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26920" y="1628640"/>
            <a:ext cx="87854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钱塘湖春行　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山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寺北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贾亭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水面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平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处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早莺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争暖树，谁家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燕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啄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乱花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渐欲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迷人眼，浅草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才能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爱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湖东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不足，绿杨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阴里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沙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0"/>
            <a:ext cx="26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且听风吟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u=3995478345,2483498346&amp;fm=0&amp;gp=0" descr=""/>
          <p:cNvPicPr/>
          <p:nvPr/>
        </p:nvPicPr>
        <p:blipFill>
          <a:blip r:embed="rId2"/>
          <a:stretch/>
        </p:blipFill>
        <p:spPr>
          <a:xfrm>
            <a:off x="5364000" y="5300640"/>
            <a:ext cx="3492720" cy="1325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979640" y="981000"/>
            <a:ext cx="7164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钱塘湖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春行　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寺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贾亭西，水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脚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早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争暖树，谁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啄春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乱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渐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迷人眼，浅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才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马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湖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不足，绿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阴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沙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155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首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206064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颔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2565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颈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3068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尾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4149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探行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68800" y="4098960"/>
            <a:ext cx="30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孤山寺北—贾公亭西—白沙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堤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4869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抓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4797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春意盎然   生机勃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5516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知情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5394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愉快、喜悦 、惊奇、惬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1700280"/>
            <a:ext cx="802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6400800"/>
            <a:ext cx="21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49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组讨论 高效展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5" descr=""/>
          <p:cNvPicPr/>
          <p:nvPr/>
        </p:nvPicPr>
        <p:blipFill>
          <a:blip r:embed="rId2"/>
          <a:stretch/>
        </p:blipFill>
        <p:spPr>
          <a:xfrm>
            <a:off x="-19080" y="4365720"/>
            <a:ext cx="9163080" cy="2492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9280" y="189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品味探究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341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首诗写的是早春景象，是从哪些地方看出来的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292428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早莺、新燕、乱花、浅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%B4%BA" descr=""/>
          <p:cNvPicPr/>
          <p:nvPr/>
        </p:nvPicPr>
        <p:blipFill>
          <a:blip r:embed="rId2"/>
          <a:srcRect l="25593" t="-6400" r="0" b="0"/>
          <a:stretch/>
        </p:blipFill>
        <p:spPr>
          <a:xfrm>
            <a:off x="1332000" y="3860640"/>
            <a:ext cx="7812000" cy="2997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00000" y="62064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你是怎样理解最后两句的？诗人最喜爱的是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1773360"/>
            <a:ext cx="7704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最后两句直抒胸臆，表达诗人喜悦的心情。“行不足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因为看不足，说明诗人流连忘返，完全陶醉在美好的湖光山色之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u=3995478345,2483498346&amp;fm=0&amp;gp=0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2843280" cy="3959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84360" y="62064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方正姚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姚体"/>
              </a:rPr>
              <a:t>学习诗歌我们要学会通过朗读，将文字转化为画面，体会其中的意象，从总体上感受了诗歌的意境；再通过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方正姚体"/>
              </a:rPr>
              <a:t>联想和想象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姚体"/>
              </a:rPr>
              <a:t>感受了作者所表达的情感，进入了他的艺术境界。这是学习古诗词的重要方法——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方正姚体"/>
              </a:rPr>
              <a:t>朗读法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姚体"/>
              </a:rPr>
              <a:t>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方正姚体"/>
              </a:rPr>
              <a:t>联想法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姚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《钱塘湖春行》诗意图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2878200" cy="4507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564000" y="1628640"/>
            <a:ext cx="5003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首诗的题意主要在“行”字。诗人写骑马游春的乐趣，截取从孤山寺北写起至白沙堤至。开头写“湖平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平”是孤山寺所见之景，中间写游程中所见，最后用“绿杨阴里”写白沙堤之景，明丽轻快，令人目迷神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480" y="5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332000" y="765000"/>
            <a:ext cx="4897440" cy="1396440"/>
            <a:chOff x="1332000" y="765000"/>
            <a:chExt cx="4897440" cy="1396440"/>
          </a:xfrm>
        </p:grpSpPr>
        <p:sp>
          <p:nvSpPr>
            <p:cNvPr id="161" name=""/>
            <p:cNvSpPr/>
            <p:nvPr/>
          </p:nvSpPr>
          <p:spPr>
            <a:xfrm>
              <a:off x="1332000" y="765000"/>
              <a:ext cx="489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d60093"/>
                  </a:solidFill>
                  <a:latin typeface="Arial"/>
                </a:rPr>
                <a:t>次北固山下</a:t>
              </a:r>
              <a:r>
                <a:rPr b="1" lang="zh-CN" sz="3600" spc="-1" strike="noStrike">
                  <a:solidFill>
                    <a:srgbClr val="d60093"/>
                  </a:solidFill>
                  <a:latin typeface="Arial"/>
                </a:rPr>
                <a:t>　</a:t>
              </a:r>
              <a:r>
                <a:rPr b="1" lang="zh-CN" sz="3200" spc="-1" strike="noStrike">
                  <a:solidFill>
                    <a:srgbClr val="d60093"/>
                  </a:solidFill>
                  <a:latin typeface="Arial"/>
                </a:rPr>
                <a:t>王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82920" y="1701720"/>
              <a:ext cx="15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五言律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959120" y="3573360"/>
            <a:ext cx="3714120" cy="1324800"/>
            <a:chOff x="1959120" y="3573360"/>
            <a:chExt cx="3714120" cy="1324800"/>
          </a:xfrm>
        </p:grpSpPr>
        <p:sp>
          <p:nvSpPr>
            <p:cNvPr id="164" name=""/>
            <p:cNvSpPr/>
            <p:nvPr/>
          </p:nvSpPr>
          <p:spPr>
            <a:xfrm>
              <a:off x="1959120" y="3573360"/>
              <a:ext cx="3714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d60093"/>
                  </a:solidFill>
                  <a:latin typeface="Arial"/>
                </a:rPr>
                <a:t>天净沙</a:t>
              </a:r>
              <a:r>
                <a:rPr b="1" lang="en-US" sz="4400" spc="-1" strike="noStrike">
                  <a:solidFill>
                    <a:srgbClr val="d60093"/>
                  </a:solidFill>
                  <a:latin typeface="Arial"/>
                </a:rPr>
                <a:t>·</a:t>
              </a:r>
              <a:r>
                <a:rPr b="1" lang="zh-CN" sz="4400" spc="-1" strike="noStrike">
                  <a:solidFill>
                    <a:srgbClr val="d60093"/>
                  </a:solidFill>
                  <a:latin typeface="Arial"/>
                </a:rPr>
                <a:t>秋思   </a:t>
              </a:r>
              <a:r>
                <a:rPr b="1" lang="zh-CN" sz="3200" spc="-1" strike="noStrike">
                  <a:solidFill>
                    <a:srgbClr val="d60093"/>
                  </a:solidFill>
                  <a:latin typeface="Arial"/>
                </a:rPr>
                <a:t>马致远</a:t>
              </a:r>
              <a:r>
                <a:rPr b="1" lang="en-US" sz="2400" spc="-1" strike="noStrike">
                  <a:solidFill>
                    <a:srgbClr val="d60093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82920" y="443844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小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方正舒体"/>
              </a:rPr>
              <a:t>学习目标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12680" y="1596600"/>
            <a:ext cx="68328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了解王湾、马致远，扎实背诵诗歌，感知诗歌的形象美、情感美，提高从情景关系角度鉴赏诗歌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反复诵读，合作探究，掌握赏析优美而富含哲理诗句的方法，把握诗歌的思想内容。学习运用常见景物表达情感的手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全力以赴，激情投入，热爱自然、热爱生活，感受游子漂泊他乡的凄苦，激发自己热爱家乡的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卷轴" descr="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179280" y="2568960"/>
            <a:ext cx="8640360" cy="2043720"/>
            <a:chOff x="179280" y="2568960"/>
            <a:chExt cx="8640360" cy="2043720"/>
          </a:xfrm>
        </p:grpSpPr>
        <p:pic>
          <p:nvPicPr>
            <p:cNvPr id="170" name="wangwan" descr=""/>
            <p:cNvPicPr/>
            <p:nvPr/>
          </p:nvPicPr>
          <p:blipFill>
            <a:blip r:embed="rId2"/>
            <a:stretch/>
          </p:blipFill>
          <p:spPr>
            <a:xfrm>
              <a:off x="179280" y="2650680"/>
              <a:ext cx="281772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3112560" y="2568960"/>
              <a:ext cx="570708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3200" spc="-1" strike="noStrike">
                  <a:solidFill>
                    <a:srgbClr val="ff3399"/>
                  </a:solidFill>
                  <a:latin typeface="楷体_GB2312"/>
                  <a:ea typeface="楷体_GB2312"/>
                </a:rPr>
                <a:t>王湾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 唐代诗人。生卒年、字号均不详。洛阳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今属河南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人。玄宗先天年间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(712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713)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进士及第，授荥阳县主簿。开元五年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(717)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唐朝政府编次官府所藏图书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,9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年书成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共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200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卷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名为《群书四部录》。王湾由荥阳主簿受荐编书，参与集部的编撰辑集工作，书成之后，因功授任洛阳尉。约在开元十七年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他曾作诗赠当时宰相萧嵩和裴光庭</a:t>
              </a:r>
              <a:r>
                <a:rPr b="1" lang="en-US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其后行迹不详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卷轴" descr=""/>
          <p:cNvPicPr/>
          <p:nvPr/>
        </p:nvPicPr>
        <p:blipFill>
          <a:blip r:embed="rId3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755640" y="765000"/>
            <a:ext cx="7920000" cy="3959280"/>
            <a:chOff x="755640" y="765000"/>
            <a:chExt cx="7920000" cy="3959280"/>
          </a:xfrm>
        </p:grpSpPr>
        <p:sp>
          <p:nvSpPr>
            <p:cNvPr id="174" name=""/>
            <p:cNvSpPr/>
            <p:nvPr/>
          </p:nvSpPr>
          <p:spPr>
            <a:xfrm>
              <a:off x="2914560" y="836280"/>
              <a:ext cx="576108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      </a:t>
              </a:r>
              <a:r>
                <a:rPr b="1" lang="zh-CN" sz="24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次北固山下，意思是泊舟停宿于北固山下。北固山三面临江，形势险要，号称“天下第一江山”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作者家住洛阳，旅于江南，在这座山下停泊，被这里开阔秀丽的景色所吸引，写下了这首诗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古时交通不发达，流落外乡或在外任职的人久不得归，自然会产生故园之思，因此乡愁成了诗歌中的一个重要主题。这首诗是写乡愁的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qiugaochi01" descr=""/>
            <p:cNvPicPr/>
            <p:nvPr/>
          </p:nvPicPr>
          <p:blipFill>
            <a:blip r:embed="rId2"/>
            <a:stretch/>
          </p:blipFill>
          <p:spPr>
            <a:xfrm>
              <a:off x="755640" y="765000"/>
              <a:ext cx="1998720" cy="395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684360" y="4797360"/>
            <a:ext cx="7920000" cy="1655640"/>
            <a:chOff x="684360" y="4797360"/>
            <a:chExt cx="7920000" cy="1655640"/>
          </a:xfrm>
        </p:grpSpPr>
        <p:pic>
          <p:nvPicPr>
            <p:cNvPr id="177" name="1161756484991" descr="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259236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10_13201519" descr=""/>
            <p:cNvPicPr/>
            <p:nvPr/>
          </p:nvPicPr>
          <p:blipFill>
            <a:blip r:embed="rId4"/>
            <a:stretch/>
          </p:blipFill>
          <p:spPr>
            <a:xfrm>
              <a:off x="3492720" y="4797360"/>
              <a:ext cx="5111640" cy="165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卷轴" descr=""/>
          <p:cNvPicPr/>
          <p:nvPr/>
        </p:nvPicPr>
        <p:blipFill>
          <a:blip r:embed="rId5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观海海六" descr=""/>
          <p:cNvPicPr/>
          <p:nvPr/>
        </p:nvPicPr>
        <p:blipFill>
          <a:blip r:embed="rId2">
            <a:lum bright="24000"/>
          </a:blip>
          <a:srcRect l="0" t="0" r="447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733920" y="2924280"/>
            <a:ext cx="5410080" cy="990360"/>
          </a:xfrm>
          <a:prstGeom prst="wedgeRectCallout">
            <a:avLst>
              <a:gd name="adj1" fmla="val -37824"/>
              <a:gd name="adj2" fmla="val -1043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指大海，如“沧海横流，方显英雄本色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492360" y="1916280"/>
            <a:ext cx="223200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476360" y="1125360"/>
            <a:ext cx="41054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观沧海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6" name=""/>
          <p:cNvSpPr/>
          <p:nvPr/>
        </p:nvSpPr>
        <p:spPr>
          <a:xfrm>
            <a:off x="2595240" y="44053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曹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卷轴" descr=""/>
          <p:cNvPicPr/>
          <p:nvPr/>
        </p:nvPicPr>
        <p:blipFill>
          <a:blip r:embed="rId3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995640" y="1816920"/>
            <a:ext cx="4319640" cy="33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北固山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客路青山外，行舟绿水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潮平两岸阔，风正一帆悬。海日生残夜，江春入旧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乡书何处达？归雁洛阳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5280" y="0"/>
            <a:ext cx="26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且听风吟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3284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自由朗读，展示朗读。要求：读准字音，声音洪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卷轴" descr="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42920" y="2349360"/>
            <a:ext cx="85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这首诗哪些句子属于写景？哪一句直接抒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2240" y="1268280"/>
            <a:ext cx="832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用自己的话描述诗中描绘的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5157720"/>
            <a:ext cx="56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为什么作者会起思乡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189000"/>
            <a:ext cx="6192720" cy="8251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合作探究，你说我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357336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诗中有一句诗揭示时序交替的生活哲理你能找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卷轴" descr="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6912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名句赏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2549160"/>
            <a:ext cx="7993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日生残夜，江春入旧年”从章法上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导出结尾一联的作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就是说它跟诗人的乡愁有关。“日生残夜”“春入旧年”都表示时序的交替，而且是那样匆匆不可待，这怎不叫身在“客路”的诗人顿生思乡之情呢？海日生于残夜，将驱尽黑暗；江春，那江上景物所表现的“春意”，闯入旧年，将赶走严冬。不仅写景逼真，叙事确切，而且表现出具有普遍意义的生活真理，给人以乐观、积极、向上的艺术鼓舞力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Bgs1" descr=""/>
          <p:cNvPicPr/>
          <p:nvPr/>
        </p:nvPicPr>
        <p:blipFill>
          <a:blip r:embed="rId2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  <p:pic>
        <p:nvPicPr>
          <p:cNvPr id="193" name="卷轴" descr=""/>
          <p:cNvPicPr/>
          <p:nvPr/>
        </p:nvPicPr>
        <p:blipFill>
          <a:blip r:embed="rId3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ff"/>
                </a:solidFill>
                <a:latin typeface="Arial"/>
                <a:ea typeface="华文新魏"/>
              </a:rPr>
              <a:t>天净沙</a:t>
            </a:r>
            <a:r>
              <a:rPr b="1" lang="en-US" sz="4400" spc="-1" strike="noStrike">
                <a:solidFill>
                  <a:srgbClr val="6600ff"/>
                </a:solidFill>
                <a:latin typeface="Arial"/>
              </a:rPr>
              <a:t>·</a:t>
            </a:r>
            <a:r>
              <a:rPr b="1" lang="zh-CN" sz="6600" spc="-1" strike="noStrike">
                <a:solidFill>
                  <a:srgbClr val="6600ff"/>
                </a:solidFill>
                <a:latin typeface="Arial"/>
                <a:ea typeface="华文新魏"/>
              </a:rPr>
              <a:t>秋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8000" y="3357720"/>
            <a:ext cx="53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  <a:ea typeface="华文楷体"/>
              </a:rPr>
              <a:t>［元］马致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2133720"/>
            <a:ext cx="422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Arial"/>
                <a:ea typeface="黑体"/>
              </a:rPr>
              <a:t>（曲牌名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27640" y="2205000"/>
            <a:ext cx="357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黑体"/>
              </a:rPr>
              <a:t>（题目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450864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体裁：散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卷轴" descr="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u=838482132,222122590&amp;fm=0&amp;gp=0" descr=""/>
          <p:cNvPicPr/>
          <p:nvPr/>
        </p:nvPicPr>
        <p:blipFill>
          <a:blip r:embed="rId2"/>
          <a:stretch/>
        </p:blipFill>
        <p:spPr>
          <a:xfrm>
            <a:off x="5796000" y="549360"/>
            <a:ext cx="3348000" cy="5229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26920" y="0"/>
            <a:ext cx="2089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Arial"/>
              </a:rPr>
              <a:t>马致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5472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字千里，号东篱，元代著名戏曲作家、散曲家。有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曲状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之称。</a:t>
            </a:r>
            <a:r>
              <a:rPr b="1" lang="zh-CN" sz="2800" spc="-1" strike="noStrike" u="sng">
                <a:solidFill>
                  <a:srgbClr val="d60093"/>
                </a:solidFill>
                <a:uFillTx/>
                <a:latin typeface="Arial"/>
                <a:ea typeface="楷体_GB2312"/>
              </a:rPr>
              <a:t>他与关汉卿、王实甫、白朴并称为元代杂剧四大家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他的作品中，最能反映其风格的是散曲，散曲中又以小令《天净沙 秋思》最为有名，元人周德清誉之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秋思之祖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他的散曲意境优美、语言凝练、流畅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卷轴" descr=""/>
          <p:cNvPicPr/>
          <p:nvPr/>
        </p:nvPicPr>
        <p:blipFill>
          <a:blip r:embed="rId3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435640" y="0"/>
            <a:ext cx="26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且听风吟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1700280"/>
            <a:ext cx="316872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净沙  秋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马致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枯藤老树昏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小桥流水人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古道西风瘦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夕阳西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断肠人在天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191628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自由朗读，结合前面几首诗的朗读，融入自己的感情朗读，小组推荐同学展示。要求：读准字音，声音洪亮，融入感情，上台表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卷轴" descr="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0"/>
            <a:ext cx="3505320" cy="6856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867564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3306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59280" y="33336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品味探究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0407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8317080" cy="4076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09548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43400" y="1700280"/>
            <a:ext cx="457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组合作，展开想像，用自己的话描述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展现的图景。内容不要增删，顺序可调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卷轴" descr=""/>
          <p:cNvPicPr/>
          <p:nvPr/>
        </p:nvPicPr>
        <p:blipFill>
          <a:blip r:embed="rId3"/>
          <a:srcRect l="0" t="0" r="64164" b="0"/>
          <a:stretch/>
        </p:blipFill>
        <p:spPr>
          <a:xfrm>
            <a:off x="0" y="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14287_200510514484174960" descr=""/>
          <p:cNvPicPr/>
          <p:nvPr/>
        </p:nvPicPr>
        <p:blipFill>
          <a:blip r:embed="rId2"/>
          <a:stretch/>
        </p:blipFill>
        <p:spPr>
          <a:xfrm>
            <a:off x="324000" y="3976560"/>
            <a:ext cx="8569080" cy="2881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79280" y="692280"/>
            <a:ext cx="8964720" cy="520560"/>
          </a:xfrm>
          <a:prstGeom prst="rect">
            <a:avLst/>
          </a:prstGeom>
          <a:solidFill>
            <a:srgbClr val="cc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是黄昏，一天快要结束。夕阳斜挂在山头欲落还留的样子，依依不舍地完成了一天的使命。眼前的景色真是满目凄凉，藤是枯萎的藤，已经没有了生命。树是千年老树，瑟瑟的西风在吹着它走向风烛残年。道是荒凉的古道，马是体弱无力的瘦马。飘零在天涯海角的人，面对如此萧瑟的景色怎么能不断肠呢。你看这小桥、流水、人家都是那么安详，那么静谧，又是那么温馨。而我的家乡、亲人却又离我那么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14287_200510514484174960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8569080" cy="28810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1280" y="764640"/>
            <a:ext cx="7345440" cy="2087640"/>
          </a:xfrm>
          <a:prstGeom prst="rect">
            <a:avLst/>
          </a:prstGeom>
          <a:solidFill>
            <a:srgbClr val="ccffff">
              <a:alpha val="2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哦，他们还好吗？天气渐渐变冷，他们加了衣服吗？买了被子吗？这一切的一切是都么让人牵挂。既然那么让人牵肠挂肚，我为什么不早点回去呢？为了所谓的前程吗？为了那所谓的功名吗？那功名离我近吗？远吗？京城的路还有多长呢？我又是那么的迷茫。在这样的黄昏中，在这样的古道上，又是这样萧瑟的季节。我是继续去追求功名呢？还是会去服侍那年老的双亲呢？我自己也不能回答自己。只好满怀愁绪徘徊在漫漫的古道上了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53761720554575468" descr=""/>
          <p:cNvPicPr/>
          <p:nvPr/>
        </p:nvPicPr>
        <p:blipFill>
          <a:blip r:embed="rId2"/>
          <a:stretch/>
        </p:blipFill>
        <p:spPr>
          <a:xfrm>
            <a:off x="5180040" y="549360"/>
            <a:ext cx="3568680" cy="5616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95280" y="549360"/>
            <a:ext cx="4608360" cy="3506040"/>
          </a:xfrm>
          <a:prstGeom prst="rect">
            <a:avLst/>
          </a:prstGeom>
          <a:solidFill>
            <a:srgbClr val="bbe0e3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《天净沙 秋思》全篇仅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方正姚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句，共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方正姚体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个字，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方正姚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种景物，寄情于物，把凄苦愁楚之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通过众多自然景物的罗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就把浓重的深秋色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刻画得淋漓尽致。生动地表现了一个长期漂泊他乡的游子的悲哀，堪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方正姚体"/>
              </a:rPr>
              <a:t>悲秋思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的经典！这首小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因此被后人称赞为“秋思之祖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21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碣石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竦峙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澹澹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萧瑟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哉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27280" y="2637000"/>
            <a:ext cx="40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ff"/>
                </a:solidFill>
                <a:latin typeface="Arial"/>
              </a:rPr>
              <a:t>sǒng zh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3573360"/>
            <a:ext cx="5184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ff"/>
                </a:solidFill>
                <a:latin typeface="Arial"/>
              </a:rPr>
              <a:t>dàn    dàn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1557360"/>
            <a:ext cx="1584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ff"/>
                </a:solidFill>
                <a:latin typeface="Arial"/>
              </a:rPr>
              <a:t>ji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4653000"/>
            <a:ext cx="12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ff"/>
                </a:solidFill>
                <a:latin typeface="Arial"/>
              </a:rPr>
              <a:t>s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5445000"/>
            <a:ext cx="12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ff"/>
                </a:solidFill>
                <a:latin typeface="Arial"/>
              </a:rPr>
              <a:t>zā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64240" y="189000"/>
            <a:ext cx="40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预习检测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字词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卷轴" descr="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0"/>
            <a:ext cx="3505320" cy="6856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939720" y="274428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20041023102895123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课时   课堂检测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348000" y="5084640"/>
            <a:ext cx="2552760" cy="576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276720" y="4294080"/>
            <a:ext cx="2247840" cy="600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3276720" y="3573360"/>
            <a:ext cx="2247840" cy="600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3203640" y="2852640"/>
            <a:ext cx="1428840" cy="600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87280" y="198900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古代诗歌四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9640" y="1557360"/>
            <a:ext cx="792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《观沧海》一诗选自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作者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字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政治家、军事家、诗人。他的诗以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见称。他与其子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合称为“三曹”。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76720" y="1484280"/>
            <a:ext cx="21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乐府诗集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87280" y="2060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曹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3640" y="2060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孟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716360" y="2060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东汉末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42920" y="2997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曹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56000" y="2997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曹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0" y="2565360"/>
            <a:ext cx="18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慷慨悲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836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强化训练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436572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从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观沧海》一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诗的体裁看，它是一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体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诗；从表达方式看，它是一首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     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写景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5440" y="479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乐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01440" y="479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四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4360" y="5157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感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4360" y="119700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《观沧海》诗中最能反映作者的博大胸襟的诗句是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                   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  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292428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 《观沧海》一诗以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字统领全篇，先写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景，然后写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景，借景抒情，表现了诗人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 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93080" y="2852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32360" y="3284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97800" y="3284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76360" y="3716280"/>
            <a:ext cx="41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宽广的胸怀和豪迈的气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4724280"/>
            <a:ext cx="842508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《次北固山下》一诗中“次”意为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该诗作者为唐代诗人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67280" y="52293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48360" y="472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停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65080" y="155736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日月之行，若出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星汉灿烂，若出其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11280" y="1125360"/>
            <a:ext cx="7991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《钱塘湖春行》一诗选自《白氏长庆集》，作者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字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晚号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唐代诗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177336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白居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1773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乐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177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香山居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306864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《钱塘湖春行》中构成对仗的诗句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           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8000" y="35002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乱花渐欲迷人眼，浅草才能没马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9640" y="981000"/>
            <a:ext cx="8137800" cy="39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 《天净沙秋思》中勾勒整个画面背景的句子是：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请说出我国不同朝代的占据主导地位的文学体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汉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唐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宋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元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明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0360" y="3573360"/>
            <a:ext cx="9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00360" y="4076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4581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5157720"/>
            <a:ext cx="5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00360" y="5589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小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63640" y="1484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夕阳西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58920" y="404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预习检测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隶书"/>
              </a:rPr>
              <a:t>--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作者生平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280" y="1341360"/>
            <a:ext cx="66229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曹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，字孟德，沛国谯县（今安徽省毫县）人。东汉末政治家、军事家、诗人。他先后削平吕布等割剧势力。建安五年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）在官渡大败兵强地广的袁绍，此后逐渐统一了北方。善诗歌，《步出复门行》《蒿里行》诸篇，用乐府旧题抒发自己的政治抱负，气魄雄伟，慷慨悲凉。对汉末人民的苦难生活也有所反映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aocao3_1" descr=""/>
          <p:cNvPicPr/>
          <p:nvPr/>
        </p:nvPicPr>
        <p:blipFill>
          <a:blip r:embed="rId2"/>
          <a:stretch/>
        </p:blipFill>
        <p:spPr>
          <a:xfrm>
            <a:off x="7380360" y="765000"/>
            <a:ext cx="1635120" cy="2565720"/>
          </a:xfrm>
          <a:prstGeom prst="rect">
            <a:avLst/>
          </a:prstGeom>
          <a:ln w="0">
            <a:noFill/>
          </a:ln>
        </p:spPr>
      </p:pic>
      <p:pic>
        <p:nvPicPr>
          <p:cNvPr id="80" name="卷轴" descr=""/>
          <p:cNvPicPr/>
          <p:nvPr/>
        </p:nvPicPr>
        <p:blipFill>
          <a:blip r:embed="rId3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3276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观沧海》选自《乐府诗集》是《步出夏门行》中的一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观沧海》是曹操的名篇。公元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07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，曹操亲率大军北上．追歼袁绍残部，五月誓师北伐，七月出卢龙寨，登临碣石山。他面对洪波涌起的大海，触景生情，写下了这首壮丽的诗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卷轴" descr="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144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039040" y="0"/>
            <a:ext cx="317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预习检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诵角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2" descr=""/>
          <p:cNvPicPr/>
          <p:nvPr/>
        </p:nvPicPr>
        <p:blipFill>
          <a:blip r:embed="rId2"/>
          <a:srcRect l="23231" t="40403" r="0" b="0"/>
          <a:stretch/>
        </p:blipFill>
        <p:spPr>
          <a:xfrm>
            <a:off x="2340000" y="2060640"/>
            <a:ext cx="6332400" cy="4525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99440" y="1182600"/>
            <a:ext cx="41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我是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"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曹操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"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我观沧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卷轴" descr=""/>
          <p:cNvPicPr/>
          <p:nvPr/>
        </p:nvPicPr>
        <p:blipFill>
          <a:blip r:embed="rId3"/>
          <a:srcRect l="0" t="0" r="64164" b="0"/>
          <a:stretch/>
        </p:blipFill>
        <p:spPr>
          <a:xfrm>
            <a:off x="-396720" y="0"/>
            <a:ext cx="3504960" cy="6856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260280"/>
            <a:ext cx="10116720" cy="6090840"/>
            <a:chOff x="0" y="260280"/>
            <a:chExt cx="10116720" cy="6090840"/>
          </a:xfrm>
        </p:grpSpPr>
        <p:pic>
          <p:nvPicPr>
            <p:cNvPr id="88" name="200610112051230_2006_01_17_11_26_25" descr=""/>
            <p:cNvPicPr/>
            <p:nvPr/>
          </p:nvPicPr>
          <p:blipFill>
            <a:blip r:embed="rId2"/>
            <a:stretch/>
          </p:blipFill>
          <p:spPr>
            <a:xfrm>
              <a:off x="7331040" y="260280"/>
              <a:ext cx="2785680" cy="60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2007228101620" descr=""/>
            <p:cNvPicPr/>
            <p:nvPr/>
          </p:nvPicPr>
          <p:blipFill>
            <a:blip r:embed="rId3"/>
            <a:stretch/>
          </p:blipFill>
          <p:spPr>
            <a:xfrm>
              <a:off x="0" y="260280"/>
              <a:ext cx="7371720" cy="604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3606120" y="268452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050920" y="260280"/>
            <a:ext cx="26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且听风吟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1700280"/>
            <a:ext cx="3581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沧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曹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临碣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观沧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何澹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岛竦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木丛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草丰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风萧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洪波涌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月之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出其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星汉灿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出其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幸甚至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以咏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2637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自由朗读，展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示朗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读；要求：读准字音，声音洪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卷轴" descr=""/>
          <p:cNvPicPr/>
          <p:nvPr/>
        </p:nvPicPr>
        <p:blipFill>
          <a:blip r:embed="rId2"/>
          <a:srcRect l="0" t="0" r="64164" b="0"/>
          <a:stretch/>
        </p:blipFill>
        <p:spPr>
          <a:xfrm>
            <a:off x="0" y="0"/>
            <a:ext cx="3505320" cy="6856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2:57:31Z</dcterms:created>
  <dc:creator/>
  <dc:description/>
  <dc:language>en-US</dc:language>
  <cp:lastModifiedBy>User</cp:lastModifiedBy>
  <dcterms:modified xsi:type="dcterms:W3CDTF">2015-08-13T10:06:05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