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gif" ContentType="image/gif"/>
  <Override PartName="/ppt/media/image2.png" ContentType="image/png"/>
  <Override PartName="/ppt/media/image4.jpeg" ContentType="image/jpeg"/>
  <Override PartName="/ppt/media/image10.jpeg" ContentType="image/jpeg"/>
  <Override PartName="/ppt/media/image11.gif" ContentType="image/gif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8.png" ContentType="image/pn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0DE-9706-4558-A7D8-2BFE9903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9D7-F1DE-44CB-B0C9-29E6F682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0E5-9C3B-45B6-A940-2B466CF6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904-BB88-4602-8403-CEFF70C0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72D-AA0D-42C7-BA55-77A853C3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1C8-2C5E-4466-A8F2-ADBEEB82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51B-09F5-4FA6-B4A3-5FB5A2DB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CEB-8397-4829-910A-D8BDDFD0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EB2-00A2-410C-851D-0327832A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966-72CD-4F5D-AF32-18B9D72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CE5-F95B-4469-8D02-FC62C4F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2DB-D8C7-47F2-BA4B-1AD4B04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B6DE-9229-4B89-8A0F-B4CC3C990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724360" y="270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刘湛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332000" y="549360"/>
            <a:ext cx="45860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雨的四季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朱自清“春雨图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是最寻常的，一下就是三两天。可别恼。看，像牛毛，像花针，像细丝，密密地斜织着，人家屋顶上全笼着一层薄烟。树叶儿却绿得发亮，小草也青得逼你的眼。傍晚时候，上灯了，一点点黄晕的光，烘托出一片这安静而和平的夜。在乡下，小路上，石桥边，有撑起伞慢慢走着的人；还有地里工作的农民，披着蓑戴着笠。他们的草屋，稀稀疏疏的，在雨里静默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课文直接描写春雨吗？写了哪些景？写出了春雨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作者用了哪些修辞手法来写春雨，好在哪里？您感受到了作者怎样的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84360" y="3357720"/>
            <a:ext cx="741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确：间接描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4360" y="4003560"/>
            <a:ext cx="77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柔软、绵绵、娇媚，驱走冬天，改变姿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84360" y="573408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喜爱、赞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84360" y="4608360"/>
            <a:ext cx="763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喻、拟人巧用，生动形象，如临其境，把春雨写得亲切可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843280" y="333360"/>
            <a:ext cx="302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想一想：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图片1"/>
          <p:cNvPicPr/>
          <p:nvPr/>
        </p:nvPicPr>
        <p:blipFill>
          <a:blip r:embed="rId1"/>
          <a:stretch/>
        </p:blipFill>
        <p:spPr>
          <a:xfrm>
            <a:off x="-36360" y="1198440"/>
            <a:ext cx="3024000" cy="244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图片2"/>
          <p:cNvPicPr/>
          <p:nvPr/>
        </p:nvPicPr>
        <p:blipFill>
          <a:blip r:embed="rId2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图片3"/>
          <p:cNvPicPr/>
          <p:nvPr/>
        </p:nvPicPr>
        <p:blipFill>
          <a:blip r:embed="rId3"/>
          <a:stretch/>
        </p:blipFill>
        <p:spPr>
          <a:xfrm>
            <a:off x="6121440" y="1197000"/>
            <a:ext cx="3022560" cy="250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187836842[1]"/>
          <p:cNvPicPr/>
          <p:nvPr/>
        </p:nvPicPr>
        <p:blipFill>
          <a:blip r:embed="rId4"/>
          <a:stretch/>
        </p:blipFill>
        <p:spPr>
          <a:xfrm>
            <a:off x="2916360" y="1206360"/>
            <a:ext cx="3203280" cy="2509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1187837182[1]"/>
          <p:cNvPicPr/>
          <p:nvPr/>
        </p:nvPicPr>
        <p:blipFill>
          <a:blip r:embed="rId5"/>
          <a:stretch/>
        </p:blipFill>
        <p:spPr>
          <a:xfrm>
            <a:off x="4356000" y="3645000"/>
            <a:ext cx="4788000" cy="3213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9"/>
          <p:cNvSpPr txBox="1"/>
          <p:nvPr/>
        </p:nvSpPr>
        <p:spPr>
          <a:xfrm>
            <a:off x="755640" y="4428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冥想感受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3" name="天鹅湖.mp3" descr=""/>
          <p:cNvPicPr/>
          <p:nvPr/>
        </p:nvPicPr>
        <p:blipFill>
          <a:blip r:embed="rId8"/>
          <a:stretch/>
        </p:blipFill>
        <p:spPr>
          <a:xfrm>
            <a:off x="651672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54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8002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春雨图的学习，对您习作有何帮助？学法上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900000" y="29541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景物描写要抓住特点，附着上情感，生动形象地展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900000" y="4221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边读边想，冥想感受，把握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2700360" y="40464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回眸拾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组合作学习夏雨图、秋雨图、冬雨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xiayu"/>
          <p:cNvPicPr/>
          <p:nvPr/>
        </p:nvPicPr>
        <p:blipFill>
          <a:blip r:embed="rId1"/>
          <a:stretch/>
        </p:blipFill>
        <p:spPr>
          <a:xfrm>
            <a:off x="179280" y="1916280"/>
            <a:ext cx="4176720" cy="239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冬雨"/>
          <p:cNvPicPr/>
          <p:nvPr/>
        </p:nvPicPr>
        <p:blipFill>
          <a:blip r:embed="rId2"/>
          <a:stretch/>
        </p:blipFill>
        <p:spPr>
          <a:xfrm>
            <a:off x="4643280" y="1992240"/>
            <a:ext cx="4105440" cy="2373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xue"/>
          <p:cNvPicPr/>
          <p:nvPr/>
        </p:nvPicPr>
        <p:blipFill>
          <a:blip r:embed="rId3"/>
          <a:stretch/>
        </p:blipFill>
        <p:spPr>
          <a:xfrm>
            <a:off x="179280" y="4292640"/>
            <a:ext cx="4176720" cy="24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雪"/>
          <p:cNvPicPr/>
          <p:nvPr/>
        </p:nvPicPr>
        <p:blipFill>
          <a:blip r:embed="rId4"/>
          <a:stretch/>
        </p:blipFill>
        <p:spPr>
          <a:xfrm>
            <a:off x="4643280" y="4365720"/>
            <a:ext cx="4105440" cy="2430360"/>
          </a:xfrm>
          <a:prstGeom prst="rect">
            <a:avLst/>
          </a:prstGeom>
          <a:ln w="0">
            <a:noFill/>
          </a:ln>
        </p:spPr>
      </p:pic>
      <p:sp>
        <p:nvSpPr>
          <p:cNvPr id="83" name="WordArt 8"/>
          <p:cNvSpPr txBox="1"/>
          <p:nvPr/>
        </p:nvSpPr>
        <p:spPr>
          <a:xfrm>
            <a:off x="2124000" y="26028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举一反三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4" name="秋日的私语.mp3" descr=""/>
          <p:cNvPicPr/>
          <p:nvPr/>
        </p:nvPicPr>
        <p:blipFill>
          <a:blip r:embed="rId7"/>
          <a:stretch/>
        </p:blipFill>
        <p:spPr>
          <a:xfrm>
            <a:off x="8748720" y="6281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0021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1187280" y="2637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您感受到了作者怎样的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187280" y="3500280"/>
            <a:ext cx="741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对雨的喜爱，对自然、对生命的热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5"/>
          <p:cNvSpPr txBox="1"/>
          <p:nvPr/>
        </p:nvSpPr>
        <p:spPr>
          <a:xfrm rot="20617200">
            <a:off x="1186920" y="907560"/>
            <a:ext cx="439272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悟一悟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延伸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雨       薛能                     何处发天涯，风雷一道赊。去声随地急，残势傍楼斜。                     透树垂红叶，沾尘带落花。潇湘无限思，闲看下蒹葭。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雨        王驾                   非惟消旱暑，且喜救生民。天地如蒸湿，园林似却春。                   洗风清枕簟，换夜失埃尘。又作丰年望，田夫笑向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色秋来寒，风严清江爽 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酬裴侍御对雨感时见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宿雨朝来歇，空山秋气清 宿雨：昨夜的雨。 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茂陵山行陪韦金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径绿芜合，霜园红叶多 绿芜：绿草。合：长满。意谓雨后庭中小径长满绿草，霜后花园中落满红叶，庭院一片荒凉寂寞景象。 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居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司马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虞美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冬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潇潇一晌残梅雨，独立无情绪。 且随湖柳入微茫，浑记荷花那日小池塘。 人生多少春秋里，留住一冬季， 怎禁妩媚破东风，几缀杜鹃红在雨丝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风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燕山雪花大如席，纷纷吹落轩辕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冬日归旧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条藤径绿，万点雪峰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牛刀小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抓住景物特征写校园一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直接描写的方法改写课文，对比感受其不同妙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人晓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刘湛秋，男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93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年出身，安徽芜湖人，当代著名诗人，翻译家，评论家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诗刊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前副主编，中国散文诗学会副会长。其作品清新空灵，富有现代意识，手法新颖洒脱，立足表现感觉与情绪，既面对生活，又超越时空。早在八十年代中期，他就被一代大学生誉为“抒情诗之王。”他结集出版有诗歌、散文、评论、翻译、小说等三十余种，其诗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无题抒情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获过中国新诗奖。他译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普希金抒情诗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叶赛宁抒情诗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为广大读者喜爱，并一度成为畅销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刘湛秋的散文有一种田园美，被海内外文坛誉为现代山林文学的代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mika040814.mp3" descr=""/>
          <p:cNvPicPr/>
          <p:nvPr/>
        </p:nvPicPr>
        <p:blipFill>
          <a:blip r:embed="rId2"/>
          <a:stretch/>
        </p:blipFill>
        <p:spPr>
          <a:xfrm>
            <a:off x="4140360" y="6318360"/>
            <a:ext cx="115236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710588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积累小贴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áng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粗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 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莅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临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迫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待       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咄逼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一棵树仿佛都睁开特别明亮的眼睛。树枝的手臂也顿时柔软了，而那萌发的叶子，简直就起伏着一层绿茵茵的波浪。水珠子从花苞里滴下来，比少女的眼泪还娇媚。半空中似乎总挂着透明的水雾的丝帘，牵动着阳光的彩棱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积累小贴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朵怒放着，树叶鼓着浆汁，数不清的杂草争先恐后地成长，暑气被一片绿的海绵吸收着。而荷叶铺满了河面，迫不及待地等待着雨点，和远方的蝉声，近处的蛙鼓一起奏起了夏天的雨的交响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空是暗的，但雨却闪着光；田野是静的，但雨在倾诉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远远地望过去，收割过的田野变得很亮，没有叶的枝干，淋着雨的草垛，对着瓷色的天空，像一幅干净利落的木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是怎样表现对春雨的喜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四幅图画，你最喜欢哪一幅？你的理由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258920" y="47628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您一起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聚宝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草色斑斑春雨晴，利仁坊北面西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居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杨春雨， 金线飘千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韦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柳丝长，春雨细， 花外漏声迢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楼一夜听春雨，深巷明朝卖杏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聚宝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逢佳节长叹息，春雨蒙蒙榆柳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居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夜喜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雨知时节， 当春乃发生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风潜入夜， 润物细无声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野径云俱黑， 江船火独明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晓看红湿处， 花重锦官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聚宝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雨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李商隐 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怅卧新春白袷衣，白门寥落意多违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楼隔雨相望冷，珠箔飘灯独自归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路应悲春晼晚，残宵犹得梦依稀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玉珰缄札何由达，万里云罗一雁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聚宝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雨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窦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昨日偷闲看花了，今朝多雨奈人何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间尽似逢花雨，莫爱芳菲湿绮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6:08:12Z</dcterms:created>
  <dc:creator/>
  <dc:description/>
  <cp:keywords/>
  <dc:language>en-US</dc:language>
  <cp:lastModifiedBy>Administrator</cp:lastModifiedBy>
  <dcterms:modified xsi:type="dcterms:W3CDTF">2016-08-26T07:47:29Z</dcterms:modified>
  <cp:revision>20</cp:revision>
  <dc:subject/>
  <dc:title>幻灯片 1</dc:title>
</cp:coreProperties>
</file>