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projctor.wav" ContentType="audio/x-wav"/>
  <Override PartName="/ppt/media/image2.png" ContentType="image/png"/>
  <Override PartName="/ppt/media/image4.jpeg" ContentType="image/jpeg"/>
  <Override PartName="/ppt/media/image28.jpeg" ContentType="image/jpeg"/>
  <Override PartName="/ppt/media/image15.gif" ContentType="image/gif"/>
  <Override PartName="/ppt/media/image7.jpeg" ContentType="image/jpeg"/>
  <Override PartName="/ppt/media/image3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29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14.gif" ContentType="image/gif"/>
  <Override PartName="/ppt/media/image5.wmf" ContentType="image/x-wmf"/>
  <Override PartName="/ppt/media/image16.jpeg" ContentType="image/jpeg"/>
  <Override PartName="/ppt/media/image19.jpeg" ContentType="image/jpeg"/>
  <Override PartName="/ppt/media/image21.png" ContentType="image/png"/>
  <Override PartName="/ppt/media/image17.png" ContentType="image/png"/>
  <Override PartName="/ppt/media/image24.gif" ContentType="image/gif"/>
  <Override PartName="/ppt/media/image6.jpeg" ContentType="image/jpeg"/>
  <Override PartName="/ppt/media/image18.png" ContentType="image/png"/>
  <Override PartName="/ppt/media/image25.gif" ContentType="image/gif"/>
  <Override PartName="/ppt/media/image26.gif" ContentType="image/gif"/>
  <Override PartName="/ppt/media/image20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9BE-0EC3-49FD-8E1C-9B0BCAA0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B85-8E18-429A-A91D-12448B03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855-ACAB-4411-8B5B-310D8BAC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78F-9B7E-4E38-AB72-7E133D4B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FC9-F577-4797-BC56-AEEC76C2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04D-1280-4F42-9777-DD91E55D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E7B-D9C8-4F95-AAAC-3D25854F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B45-0779-403C-85D9-5F4CEC67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F1C-CB42-4D43-9AFC-33D2EE58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BEA-308A-4187-992E-3583B30B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606-3637-4BB7-89BD-A4D8C031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3B2-EA29-497F-BE25-13F741BA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DADE-1E4A-451B-9935-B3E4174DAA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05800">
            <a:off x="5257800" y="0"/>
            <a:ext cx="1630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 </a:t>
            </a: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春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未命名" descr=""/>
          <p:cNvPicPr/>
          <p:nvPr/>
        </p:nvPicPr>
        <p:blipFill>
          <a:blip r:embed="rId1"/>
          <a:stretch/>
        </p:blipFill>
        <p:spPr>
          <a:xfrm>
            <a:off x="5410080" y="47520"/>
            <a:ext cx="3733920" cy="681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0" y="0"/>
          <a:ext cx="53341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334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 txBox="1"/>
          <p:nvPr/>
        </p:nvSpPr>
        <p:spPr>
          <a:xfrm>
            <a:off x="3124080" y="0"/>
            <a:ext cx="2743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新魏"/>
              </a:rPr>
              <a:t>春风图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99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514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92160" y="3092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62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        “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吹面不寒杨柳风”，不错的，像母亲的手抚摸着你。风里带来些新翻的泥土的气息，混着青草味儿，还有各种花的香，都在微微润湿的空气里酝酿。鸟儿将 巢安在繁花嫩叶当中，高兴起来了，呼朋引伴地卖弄清脆的喉咙，唱出宛转的曲子，跟轻风流水应和着。牛背上牧童的短笛，这时候也成天嘹亮地响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0060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春雨图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8" name="未命名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5120" y="914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5562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191120" y="990720"/>
            <a:ext cx="4952880" cy="5667120"/>
            <a:chOff x="4191120" y="990720"/>
            <a:chExt cx="4952880" cy="5667120"/>
          </a:xfrm>
        </p:grpSpPr>
        <p:sp>
          <p:nvSpPr>
            <p:cNvPr id="122" name=""/>
            <p:cNvSpPr/>
            <p:nvPr/>
          </p:nvSpPr>
          <p:spPr>
            <a:xfrm>
              <a:off x="4191120" y="990720"/>
              <a:ext cx="49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66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993366"/>
                  </a:solidFill>
                  <a:latin typeface="Times New Roman"/>
                  <a:ea typeface="黑体"/>
                </a:rPr>
                <a:t>雨是最寻常的，一下就三两天。可别恼。看，像牛毛、像花针，像细丝，密密地斜织着，人家屋顶上全笼着一层薄烟。树叶儿却绿得发亮，小草儿也青得逼你的眼。傍晚时候，上灯了，一点点黄晕的光，烘托出一片安静而和平的夜。在乡下，小路上，石桥边，有撑起伞慢慢走着的人，地里还有工作的农民，披着蓑戴着笠。他们的房屋，稀稀疏疏的，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18680" y="613728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66"/>
                  </a:solidFill>
                  <a:latin typeface="Times New Roman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993366"/>
                  </a:solidFill>
                  <a:latin typeface="Times New Roman"/>
                  <a:ea typeface="黑体"/>
                </a:rPr>
                <a:t>雨里静默着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 rot="21379800">
            <a:off x="1066680" y="533160"/>
            <a:ext cx="281952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2182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0c0c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宋体"/>
              </a:rPr>
              <a:t> </a:t>
            </a: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0c0c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宋体"/>
              </a:rPr>
              <a:t>迎春图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0c0c0"/>
                  </a:gs>
                  <a:gs pos="100000">
                    <a:srgbClr val="ff0066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26" name="未命名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0" y="1600200"/>
            <a:ext cx="4724280" cy="4047840"/>
            <a:chOff x="0" y="1600200"/>
            <a:chExt cx="4724280" cy="4047840"/>
          </a:xfrm>
        </p:grpSpPr>
        <p:sp>
          <p:nvSpPr>
            <p:cNvPr id="128" name=""/>
            <p:cNvSpPr/>
            <p:nvPr/>
          </p:nvSpPr>
          <p:spPr>
            <a:xfrm>
              <a:off x="0" y="1600200"/>
              <a:ext cx="472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66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993366"/>
                  </a:solidFill>
                  <a:latin typeface="Times New Roman"/>
                  <a:ea typeface="黑体"/>
                </a:rPr>
                <a:t>天上的风筝渐渐多了，地上的孩子也多了。城里乡下，家家户户，老老小小，也赶趟儿似的，一个个都出来了。舒活舒活筋骨抖擞抖擞精神，各做各的一份儿事去。“一年之计在于春”，刚起头儿，有的是工夫，有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7120" y="512748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66"/>
                  </a:solidFill>
                  <a:latin typeface="Times New Roman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993366"/>
                  </a:solidFill>
                  <a:latin typeface="Times New Roman"/>
                  <a:ea typeface="黑体"/>
                </a:rPr>
                <a:t>是希望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8236800" cy="2438280"/>
            <a:chOff x="0" y="0"/>
            <a:chExt cx="8236800" cy="2438280"/>
          </a:xfrm>
        </p:grpSpPr>
        <p:pic>
          <p:nvPicPr>
            <p:cNvPr id="132" name="LSB16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46440" cy="243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2636280" y="326880"/>
              <a:ext cx="5600520" cy="1108080"/>
              <a:chOff x="2636280" y="326880"/>
              <a:chExt cx="5600520" cy="1108080"/>
            </a:xfrm>
          </p:grpSpPr>
          <p:sp>
            <p:nvSpPr>
              <p:cNvPr id="134" name=""/>
              <p:cNvSpPr/>
              <p:nvPr/>
            </p:nvSpPr>
            <p:spPr>
              <a:xfrm>
                <a:off x="3080160" y="326880"/>
                <a:ext cx="5156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66"/>
                    </a:solidFill>
                    <a:latin typeface="Times New Roman"/>
                    <a:ea typeface="黑体"/>
                  </a:rPr>
                  <a:t>         </a:t>
                </a:r>
                <a:r>
                  <a:rPr b="1" lang="zh-CN" sz="2800" spc="-1" strike="noStrike">
                    <a:solidFill>
                      <a:srgbClr val="993366"/>
                    </a:solidFill>
                    <a:latin typeface="Times New Roman"/>
                    <a:ea typeface="黑体"/>
                  </a:rPr>
                  <a:t>春天像刚落地的娃娃，从头到脚都是新的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36280" y="91440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66"/>
                    </a:solidFill>
                    <a:latin typeface="Times New Roman"/>
                    <a:ea typeface="黑体"/>
                  </a:rPr>
                  <a:t>它生长着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0" y="2438280"/>
            <a:ext cx="7917840" cy="1941480"/>
            <a:chOff x="0" y="2438280"/>
            <a:chExt cx="7917840" cy="1941480"/>
          </a:xfrm>
        </p:grpSpPr>
        <p:pic>
          <p:nvPicPr>
            <p:cNvPr id="137" name="女" descr=""/>
            <p:cNvPicPr/>
            <p:nvPr/>
          </p:nvPicPr>
          <p:blipFill>
            <a:blip r:embed="rId2"/>
            <a:stretch/>
          </p:blipFill>
          <p:spPr>
            <a:xfrm>
              <a:off x="0" y="2438280"/>
              <a:ext cx="2590920" cy="19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2362320" y="2590920"/>
              <a:ext cx="5555520" cy="1130040"/>
              <a:chOff x="2362320" y="2590920"/>
              <a:chExt cx="5555520" cy="1130040"/>
            </a:xfrm>
          </p:grpSpPr>
          <p:sp>
            <p:nvSpPr>
              <p:cNvPr id="139" name=""/>
              <p:cNvSpPr/>
              <p:nvPr/>
            </p:nvSpPr>
            <p:spPr>
              <a:xfrm>
                <a:off x="4265640" y="2590920"/>
                <a:ext cx="365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66"/>
                    </a:solidFill>
                    <a:latin typeface="Times New Roman"/>
                    <a:ea typeface="黑体"/>
                  </a:rPr>
                  <a:t>  </a:t>
                </a:r>
                <a:r>
                  <a:rPr b="1" lang="zh-CN" sz="2800" spc="-1" strike="noStrike">
                    <a:solidFill>
                      <a:srgbClr val="993366"/>
                    </a:solidFill>
                    <a:latin typeface="Times New Roman"/>
                    <a:ea typeface="黑体"/>
                  </a:rPr>
                  <a:t>春天像小姑娘，花枝招展的，笑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62320" y="3200400"/>
                <a:ext cx="196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66"/>
                    </a:solidFill>
                    <a:latin typeface="Times New Roman"/>
                    <a:ea typeface="黑体"/>
                  </a:rPr>
                  <a:t>走着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0" y="4343400"/>
            <a:ext cx="8915400" cy="2514600"/>
            <a:chOff x="0" y="4343400"/>
            <a:chExt cx="8915400" cy="2514600"/>
          </a:xfrm>
        </p:grpSpPr>
        <p:pic>
          <p:nvPicPr>
            <p:cNvPr id="142" name="LSB163" descr=""/>
            <p:cNvPicPr/>
            <p:nvPr/>
          </p:nvPicPr>
          <p:blipFill>
            <a:blip r:embed="rId3"/>
            <a:stretch/>
          </p:blipFill>
          <p:spPr>
            <a:xfrm>
              <a:off x="0" y="4343400"/>
              <a:ext cx="173520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"/>
            <p:cNvGrpSpPr/>
            <p:nvPr/>
          </p:nvGrpSpPr>
          <p:grpSpPr>
            <a:xfrm>
              <a:off x="2514600" y="4648320"/>
              <a:ext cx="6400800" cy="1130040"/>
              <a:chOff x="2514600" y="4648320"/>
              <a:chExt cx="6400800" cy="1130040"/>
            </a:xfrm>
          </p:grpSpPr>
          <p:sp>
            <p:nvSpPr>
              <p:cNvPr id="144" name=""/>
              <p:cNvSpPr/>
              <p:nvPr/>
            </p:nvSpPr>
            <p:spPr>
              <a:xfrm>
                <a:off x="2514600" y="4648320"/>
                <a:ext cx="640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66"/>
                    </a:solidFill>
                    <a:latin typeface="Times New Roman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993366"/>
                    </a:solidFill>
                    <a:latin typeface="Times New Roman"/>
                    <a:ea typeface="黑体"/>
                  </a:rPr>
                  <a:t>春天像健壮的青年，有铁一般的胳膊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21520" y="5257800"/>
                <a:ext cx="252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66"/>
                    </a:solidFill>
                    <a:latin typeface="Times New Roman"/>
                    <a:ea typeface="黑体"/>
                  </a:rPr>
                  <a:t>腰脚，领着我们上前去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卡通歌舞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1751040" cy="2057400"/>
          </a:xfrm>
          <a:prstGeom prst="rect">
            <a:avLst/>
          </a:prstGeom>
          <a:ln w="0">
            <a:noFill/>
          </a:ln>
        </p:spPr>
      </p:pic>
      <p:pic>
        <p:nvPicPr>
          <p:cNvPr id="148" name="跑步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557520" cy="219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87520" y="2971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颂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6640" y="22860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像娃娃——“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73920" y="7621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（万物复苏，新的生命的开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9840" y="16002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像小姑娘——“美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93960" y="23623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（百花争艳，景色动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3360" y="358128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像青年——“力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42800" y="4267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（春天充满活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50760" y="5835600"/>
            <a:ext cx="572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三个比喻依次点明了春天的成长过程。独立成段，是为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强调春的不同成长过程，抒发作者强烈赞美春的真挚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baby8" descr=""/>
          <p:cNvPicPr/>
          <p:nvPr/>
        </p:nvPicPr>
        <p:blipFill>
          <a:blip r:embed="rId3"/>
          <a:stretch/>
        </p:blipFill>
        <p:spPr>
          <a:xfrm>
            <a:off x="228600" y="533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67320" y="76212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盼春</a:t>
            </a:r>
            <a:r>
              <a:rPr b="1" lang="zh-CN" sz="2800" spc="-1" strike="noStrike">
                <a:solidFill>
                  <a:srgbClr val="339966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50000" y="1295280"/>
            <a:ext cx="39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盼  来  近—— 心情喜悦而迫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182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绘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66200" y="228600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先总括轮廓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{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切  欣欣然张开了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山（朗润） 水（涨）  太阳（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42080" y="7621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点题，总领全篇，引起下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0960" y="5638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三颂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95320" y="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十一、《春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97280" y="349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朱自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2120" y="3352680"/>
            <a:ext cx="3657600" cy="2226960"/>
            <a:chOff x="762120" y="3352680"/>
            <a:chExt cx="3657600" cy="2226960"/>
          </a:xfrm>
        </p:grpSpPr>
        <p:sp>
          <p:nvSpPr>
            <p:cNvPr id="169" name=""/>
            <p:cNvSpPr/>
            <p:nvPr/>
          </p:nvSpPr>
          <p:spPr>
            <a:xfrm>
              <a:off x="762120" y="3352680"/>
              <a:ext cx="36576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9966"/>
                  </a:solidFill>
                  <a:latin typeface="Times New Roman"/>
                  <a:ea typeface="黑体"/>
                </a:rPr>
                <a:t>               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春草图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春花图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春风图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春雨图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迎春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2600" y="41911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再具体描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8640" y="3505320"/>
              <a:ext cx="304560" cy="19047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828800" y="56386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（概括五幅春景图的含义，点明全文中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与开头互相呼应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533520" y="914400"/>
            <a:ext cx="8610480" cy="4559040"/>
            <a:chOff x="533520" y="914400"/>
            <a:chExt cx="8610480" cy="4559040"/>
          </a:xfrm>
        </p:grpSpPr>
        <p:sp>
          <p:nvSpPr>
            <p:cNvPr id="174" name=""/>
            <p:cNvSpPr/>
            <p:nvPr/>
          </p:nvSpPr>
          <p:spPr>
            <a:xfrm>
              <a:off x="4363560" y="1905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cc33"/>
                  </a:solidFill>
                  <a:latin typeface="Times New Roman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33cc33"/>
                  </a:solidFill>
                  <a:latin typeface="Times New Roman"/>
                  <a:ea typeface="黑体"/>
                </a:rPr>
                <a:t>、春草有什么特点？作者从哪几方面来写草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30040" y="2666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黑体"/>
                </a:rPr>
                <a:t>、春花有什么特点？哪些词语写出了春花的特点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3520" y="327672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黑体"/>
                </a:rPr>
                <a:t>、春风的特点是什么？作者是怎样把无形无色、无味的春风写得富有生命力和感染力的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2120" y="426708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9966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339966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339966"/>
                  </a:solidFill>
                  <a:latin typeface="Times New Roman"/>
                </a:rPr>
                <a:t>、春雨有什么特点？作者从哪几方面写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480" y="4952880"/>
              <a:ext cx="853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、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前几幅主要写春天的自然美，这一幅由景及人表现了人们怎样的精神状态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4760" y="914400"/>
              <a:ext cx="189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66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993366"/>
                  </a:solidFill>
                  <a:latin typeface="Times New Roman"/>
                  <a:ea typeface="黑体"/>
                </a:rPr>
                <a:t>作业设计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775320" y="240984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3366"/>
                </a:solidFill>
                <a:latin typeface="Times New Roman"/>
                <a:ea typeface="华文琥珀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17480" y="754200"/>
            <a:ext cx="62341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预习检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边加点字的读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蓑              水涨               酝酿            应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•                     •                  •  •               •   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薄烟          黄晕               捉迷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•                     •                          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2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04920" y="1371600"/>
          <a:ext cx="11476080" cy="3505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371600"/>
                    <a:ext cx="114760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vert"/>
    <p:sndAc>
      <p:stSnd>
        <p:snd r:embed="rId4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47920" y="838080"/>
            <a:ext cx="21034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朱自清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8" name=""/>
          <p:cNvSpPr/>
          <p:nvPr/>
        </p:nvSpPr>
        <p:spPr>
          <a:xfrm>
            <a:off x="791640" y="2590920"/>
            <a:ext cx="3356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朱自清，字佩弦，江苏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州人，是著名散文家、诗人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学者、民主战士。其散文富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诗意，善于通过细致观察，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腻地抒写出对自然景色的内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感受。本文大概写于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1928-1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年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朱自清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3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9880" y="1981080"/>
            <a:ext cx="321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、读准字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、注意朗读节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、区分轻重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、有感情的朗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209680"/>
            <a:ext cx="68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黑体"/>
              </a:rPr>
              <a:t>朗读要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57240"/>
            <a:ext cx="2044440" cy="1860480"/>
          </a:xfrm>
          <a:custGeom>
            <a:avLst/>
            <a:gdLst/>
            <a:ahLst/>
            <a:rect l="l" t="t" r="r" b="b"/>
            <a:pathLst>
              <a:path w="1288" h="1172">
                <a:moveTo>
                  <a:pt x="49" y="60"/>
                </a:moveTo>
                <a:lnTo>
                  <a:pt x="459" y="0"/>
                </a:lnTo>
                <a:lnTo>
                  <a:pt x="807" y="78"/>
                </a:lnTo>
                <a:lnTo>
                  <a:pt x="1203" y="39"/>
                </a:lnTo>
                <a:lnTo>
                  <a:pt x="1288" y="269"/>
                </a:lnTo>
                <a:lnTo>
                  <a:pt x="1251" y="490"/>
                </a:lnTo>
                <a:lnTo>
                  <a:pt x="1041" y="861"/>
                </a:lnTo>
                <a:lnTo>
                  <a:pt x="744" y="811"/>
                </a:lnTo>
                <a:lnTo>
                  <a:pt x="807" y="1172"/>
                </a:lnTo>
                <a:lnTo>
                  <a:pt x="781" y="1151"/>
                </a:lnTo>
                <a:lnTo>
                  <a:pt x="753" y="1125"/>
                </a:lnTo>
                <a:lnTo>
                  <a:pt x="716" y="1093"/>
                </a:lnTo>
                <a:lnTo>
                  <a:pt x="674" y="1054"/>
                </a:lnTo>
                <a:lnTo>
                  <a:pt x="626" y="1011"/>
                </a:lnTo>
                <a:lnTo>
                  <a:pt x="575" y="964"/>
                </a:lnTo>
                <a:lnTo>
                  <a:pt x="522" y="915"/>
                </a:lnTo>
                <a:lnTo>
                  <a:pt x="471" y="867"/>
                </a:lnTo>
                <a:lnTo>
                  <a:pt x="420" y="820"/>
                </a:lnTo>
                <a:lnTo>
                  <a:pt x="373" y="773"/>
                </a:lnTo>
                <a:lnTo>
                  <a:pt x="329" y="732"/>
                </a:lnTo>
                <a:lnTo>
                  <a:pt x="294" y="694"/>
                </a:lnTo>
                <a:lnTo>
                  <a:pt x="269" y="666"/>
                </a:lnTo>
                <a:lnTo>
                  <a:pt x="248" y="631"/>
                </a:lnTo>
                <a:lnTo>
                  <a:pt x="241" y="601"/>
                </a:lnTo>
                <a:lnTo>
                  <a:pt x="216" y="546"/>
                </a:lnTo>
                <a:lnTo>
                  <a:pt x="197" y="513"/>
                </a:lnTo>
                <a:lnTo>
                  <a:pt x="176" y="477"/>
                </a:lnTo>
                <a:lnTo>
                  <a:pt x="153" y="438"/>
                </a:lnTo>
                <a:lnTo>
                  <a:pt x="130" y="400"/>
                </a:lnTo>
                <a:lnTo>
                  <a:pt x="105" y="361"/>
                </a:lnTo>
                <a:lnTo>
                  <a:pt x="81" y="325"/>
                </a:lnTo>
                <a:lnTo>
                  <a:pt x="42" y="262"/>
                </a:lnTo>
                <a:lnTo>
                  <a:pt x="12" y="217"/>
                </a:lnTo>
                <a:lnTo>
                  <a:pt x="0" y="200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80"/>
            <a:ext cx="9070920" cy="6770520"/>
          </a:xfrm>
          <a:custGeom>
            <a:avLst/>
            <a:gdLst/>
            <a:ahLst/>
            <a:rect l="l" t="t" r="r" b="b"/>
            <a:pathLst>
              <a:path w="5714" h="4265">
                <a:moveTo>
                  <a:pt x="60" y="181"/>
                </a:moveTo>
                <a:lnTo>
                  <a:pt x="209" y="702"/>
                </a:lnTo>
                <a:lnTo>
                  <a:pt x="234" y="1213"/>
                </a:lnTo>
                <a:lnTo>
                  <a:pt x="97" y="1545"/>
                </a:lnTo>
                <a:lnTo>
                  <a:pt x="222" y="1886"/>
                </a:lnTo>
                <a:lnTo>
                  <a:pt x="60" y="2197"/>
                </a:lnTo>
                <a:lnTo>
                  <a:pt x="171" y="2959"/>
                </a:lnTo>
                <a:lnTo>
                  <a:pt x="148" y="3191"/>
                </a:lnTo>
                <a:lnTo>
                  <a:pt x="0" y="3843"/>
                </a:lnTo>
                <a:lnTo>
                  <a:pt x="148" y="3873"/>
                </a:lnTo>
                <a:lnTo>
                  <a:pt x="123" y="4053"/>
                </a:lnTo>
                <a:lnTo>
                  <a:pt x="568" y="4044"/>
                </a:lnTo>
                <a:lnTo>
                  <a:pt x="1163" y="4143"/>
                </a:lnTo>
                <a:lnTo>
                  <a:pt x="1374" y="4083"/>
                </a:lnTo>
                <a:lnTo>
                  <a:pt x="2850" y="4235"/>
                </a:lnTo>
                <a:lnTo>
                  <a:pt x="2850" y="4133"/>
                </a:lnTo>
                <a:lnTo>
                  <a:pt x="3258" y="4163"/>
                </a:lnTo>
                <a:lnTo>
                  <a:pt x="3346" y="4223"/>
                </a:lnTo>
                <a:lnTo>
                  <a:pt x="3679" y="4103"/>
                </a:lnTo>
                <a:lnTo>
                  <a:pt x="3964" y="4163"/>
                </a:lnTo>
                <a:lnTo>
                  <a:pt x="4361" y="4113"/>
                </a:lnTo>
                <a:lnTo>
                  <a:pt x="5118" y="4143"/>
                </a:lnTo>
                <a:lnTo>
                  <a:pt x="5500" y="4265"/>
                </a:lnTo>
                <a:lnTo>
                  <a:pt x="5688" y="3942"/>
                </a:lnTo>
                <a:lnTo>
                  <a:pt x="5514" y="3852"/>
                </a:lnTo>
                <a:lnTo>
                  <a:pt x="5714" y="3500"/>
                </a:lnTo>
                <a:lnTo>
                  <a:pt x="5514" y="3341"/>
                </a:lnTo>
                <a:lnTo>
                  <a:pt x="5341" y="2519"/>
                </a:lnTo>
                <a:lnTo>
                  <a:pt x="5500" y="2056"/>
                </a:lnTo>
                <a:lnTo>
                  <a:pt x="5463" y="1796"/>
                </a:lnTo>
                <a:lnTo>
                  <a:pt x="5674" y="1384"/>
                </a:lnTo>
                <a:lnTo>
                  <a:pt x="5463" y="522"/>
                </a:lnTo>
                <a:lnTo>
                  <a:pt x="5700" y="181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1"/>
                </a:lnTo>
                <a:lnTo>
                  <a:pt x="3753" y="92"/>
                </a:lnTo>
                <a:lnTo>
                  <a:pt x="2861" y="41"/>
                </a:lnTo>
                <a:lnTo>
                  <a:pt x="2377" y="80"/>
                </a:lnTo>
                <a:lnTo>
                  <a:pt x="1710" y="62"/>
                </a:lnTo>
                <a:lnTo>
                  <a:pt x="1003" y="121"/>
                </a:lnTo>
                <a:lnTo>
                  <a:pt x="841" y="552"/>
                </a:lnTo>
                <a:lnTo>
                  <a:pt x="1844" y="622"/>
                </a:lnTo>
                <a:lnTo>
                  <a:pt x="2106" y="511"/>
                </a:lnTo>
                <a:lnTo>
                  <a:pt x="2699" y="612"/>
                </a:lnTo>
                <a:lnTo>
                  <a:pt x="3109" y="543"/>
                </a:lnTo>
                <a:lnTo>
                  <a:pt x="3557" y="603"/>
                </a:lnTo>
                <a:lnTo>
                  <a:pt x="4076" y="511"/>
                </a:lnTo>
                <a:lnTo>
                  <a:pt x="4523" y="562"/>
                </a:lnTo>
                <a:lnTo>
                  <a:pt x="4560" y="762"/>
                </a:lnTo>
                <a:lnTo>
                  <a:pt x="4819" y="813"/>
                </a:lnTo>
                <a:lnTo>
                  <a:pt x="4708" y="1174"/>
                </a:lnTo>
                <a:lnTo>
                  <a:pt x="4882" y="1264"/>
                </a:lnTo>
                <a:lnTo>
                  <a:pt x="4720" y="1757"/>
                </a:lnTo>
                <a:lnTo>
                  <a:pt x="4856" y="1927"/>
                </a:lnTo>
                <a:lnTo>
                  <a:pt x="4734" y="2307"/>
                </a:lnTo>
                <a:lnTo>
                  <a:pt x="4734" y="2519"/>
                </a:lnTo>
                <a:lnTo>
                  <a:pt x="4819" y="2710"/>
                </a:lnTo>
                <a:lnTo>
                  <a:pt x="4622" y="3070"/>
                </a:lnTo>
                <a:lnTo>
                  <a:pt x="4819" y="3302"/>
                </a:lnTo>
                <a:lnTo>
                  <a:pt x="4646" y="3572"/>
                </a:lnTo>
                <a:lnTo>
                  <a:pt x="4361" y="3643"/>
                </a:lnTo>
                <a:lnTo>
                  <a:pt x="3705" y="3581"/>
                </a:lnTo>
                <a:lnTo>
                  <a:pt x="3469" y="3751"/>
                </a:lnTo>
                <a:lnTo>
                  <a:pt x="3024" y="3602"/>
                </a:lnTo>
                <a:lnTo>
                  <a:pt x="2588" y="3611"/>
                </a:lnTo>
                <a:lnTo>
                  <a:pt x="1995" y="3622"/>
                </a:lnTo>
                <a:lnTo>
                  <a:pt x="1633" y="3721"/>
                </a:lnTo>
                <a:lnTo>
                  <a:pt x="1499" y="3562"/>
                </a:lnTo>
                <a:lnTo>
                  <a:pt x="1163" y="3703"/>
                </a:lnTo>
                <a:lnTo>
                  <a:pt x="1163" y="3440"/>
                </a:lnTo>
                <a:lnTo>
                  <a:pt x="816" y="3341"/>
                </a:lnTo>
                <a:lnTo>
                  <a:pt x="1040" y="2940"/>
                </a:lnTo>
                <a:lnTo>
                  <a:pt x="816" y="2759"/>
                </a:lnTo>
                <a:lnTo>
                  <a:pt x="1003" y="2408"/>
                </a:lnTo>
                <a:lnTo>
                  <a:pt x="755" y="2328"/>
                </a:lnTo>
                <a:lnTo>
                  <a:pt x="890" y="1305"/>
                </a:lnTo>
                <a:lnTo>
                  <a:pt x="841" y="893"/>
                </a:lnTo>
                <a:lnTo>
                  <a:pt x="741" y="743"/>
                </a:lnTo>
                <a:lnTo>
                  <a:pt x="704" y="472"/>
                </a:lnTo>
                <a:lnTo>
                  <a:pt x="804" y="262"/>
                </a:lnTo>
                <a:lnTo>
                  <a:pt x="60" y="181"/>
                </a:lnTo>
                <a:lnTo>
                  <a:pt x="60" y="181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960" y="4178160"/>
            <a:ext cx="409680" cy="890640"/>
          </a:xfrm>
          <a:custGeom>
            <a:avLst/>
            <a:gdLst/>
            <a:ahLst/>
            <a:rect l="l" t="t" r="r" b="b"/>
            <a:pathLst>
              <a:path w="258" h="561">
                <a:moveTo>
                  <a:pt x="258" y="78"/>
                </a:moveTo>
                <a:lnTo>
                  <a:pt x="244" y="376"/>
                </a:lnTo>
                <a:lnTo>
                  <a:pt x="223" y="475"/>
                </a:lnTo>
                <a:lnTo>
                  <a:pt x="211" y="515"/>
                </a:lnTo>
                <a:lnTo>
                  <a:pt x="183" y="541"/>
                </a:lnTo>
                <a:lnTo>
                  <a:pt x="146" y="558"/>
                </a:lnTo>
                <a:lnTo>
                  <a:pt x="107" y="561"/>
                </a:lnTo>
                <a:lnTo>
                  <a:pt x="31" y="535"/>
                </a:lnTo>
                <a:lnTo>
                  <a:pt x="0" y="466"/>
                </a:lnTo>
                <a:lnTo>
                  <a:pt x="12" y="355"/>
                </a:lnTo>
                <a:lnTo>
                  <a:pt x="24" y="279"/>
                </a:lnTo>
                <a:lnTo>
                  <a:pt x="42" y="213"/>
                </a:lnTo>
                <a:lnTo>
                  <a:pt x="75" y="69"/>
                </a:lnTo>
                <a:lnTo>
                  <a:pt x="84" y="37"/>
                </a:lnTo>
                <a:lnTo>
                  <a:pt x="107" y="15"/>
                </a:lnTo>
                <a:lnTo>
                  <a:pt x="137" y="3"/>
                </a:lnTo>
                <a:lnTo>
                  <a:pt x="170" y="0"/>
                </a:lnTo>
                <a:lnTo>
                  <a:pt x="232" y="22"/>
                </a:lnTo>
                <a:lnTo>
                  <a:pt x="258" y="78"/>
                </a:lnTo>
                <a:lnTo>
                  <a:pt x="258" y="7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39880" y="591660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1"/>
                </a:lnTo>
                <a:lnTo>
                  <a:pt x="410" y="28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6"/>
                </a:lnTo>
                <a:lnTo>
                  <a:pt x="853" y="85"/>
                </a:lnTo>
                <a:lnTo>
                  <a:pt x="846" y="114"/>
                </a:lnTo>
                <a:lnTo>
                  <a:pt x="827" y="143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3" y="135"/>
                </a:lnTo>
                <a:lnTo>
                  <a:pt x="12" y="113"/>
                </a:lnTo>
                <a:lnTo>
                  <a:pt x="0" y="77"/>
                </a:lnTo>
                <a:lnTo>
                  <a:pt x="7" y="58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7400" y="591660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7"/>
                </a:lnTo>
                <a:lnTo>
                  <a:pt x="49" y="158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7600" y="5905440"/>
            <a:ext cx="1305000" cy="297000"/>
          </a:xfrm>
          <a:custGeom>
            <a:avLst/>
            <a:gdLst/>
            <a:ahLst/>
            <a:rect l="l" t="t" r="r" b="b"/>
            <a:pathLst>
              <a:path w="822" h="187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0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7"/>
                </a:lnTo>
                <a:lnTo>
                  <a:pt x="706" y="183"/>
                </a:lnTo>
                <a:lnTo>
                  <a:pt x="583" y="163"/>
                </a:lnTo>
                <a:lnTo>
                  <a:pt x="458" y="159"/>
                </a:lnTo>
                <a:lnTo>
                  <a:pt x="252" y="142"/>
                </a:lnTo>
                <a:lnTo>
                  <a:pt x="157" y="129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0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51760" y="1332000"/>
            <a:ext cx="379440" cy="984240"/>
          </a:xfrm>
          <a:custGeom>
            <a:avLst/>
            <a:gdLst/>
            <a:ahLst/>
            <a:rect l="l" t="t" r="r" b="b"/>
            <a:pathLst>
              <a:path w="239" h="620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8"/>
                </a:lnTo>
                <a:lnTo>
                  <a:pt x="192" y="569"/>
                </a:lnTo>
                <a:lnTo>
                  <a:pt x="174" y="596"/>
                </a:lnTo>
                <a:lnTo>
                  <a:pt x="146" y="613"/>
                </a:lnTo>
                <a:lnTo>
                  <a:pt x="113" y="620"/>
                </a:lnTo>
                <a:lnTo>
                  <a:pt x="49" y="607"/>
                </a:lnTo>
                <a:lnTo>
                  <a:pt x="11" y="553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91360" y="2744640"/>
            <a:ext cx="312840" cy="1121040"/>
          </a:xfrm>
          <a:custGeom>
            <a:avLst/>
            <a:gdLst/>
            <a:ahLst/>
            <a:rect l="l" t="t" r="r" b="b"/>
            <a:pathLst>
              <a:path w="197" h="706">
                <a:moveTo>
                  <a:pt x="174" y="69"/>
                </a:moveTo>
                <a:lnTo>
                  <a:pt x="197" y="635"/>
                </a:lnTo>
                <a:lnTo>
                  <a:pt x="188" y="667"/>
                </a:lnTo>
                <a:lnTo>
                  <a:pt x="165" y="689"/>
                </a:lnTo>
                <a:lnTo>
                  <a:pt x="135" y="702"/>
                </a:lnTo>
                <a:lnTo>
                  <a:pt x="102" y="706"/>
                </a:lnTo>
                <a:lnTo>
                  <a:pt x="40" y="683"/>
                </a:lnTo>
                <a:lnTo>
                  <a:pt x="14" y="627"/>
                </a:lnTo>
                <a:lnTo>
                  <a:pt x="19" y="479"/>
                </a:lnTo>
                <a:lnTo>
                  <a:pt x="14" y="350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26560" y="4203720"/>
            <a:ext cx="377640" cy="857160"/>
          </a:xfrm>
          <a:custGeom>
            <a:avLst/>
            <a:gdLst/>
            <a:ahLst/>
            <a:rect l="l" t="t" r="r" b="b"/>
            <a:pathLst>
              <a:path w="238" h="540">
                <a:moveTo>
                  <a:pt x="180" y="62"/>
                </a:moveTo>
                <a:lnTo>
                  <a:pt x="238" y="476"/>
                </a:lnTo>
                <a:lnTo>
                  <a:pt x="220" y="510"/>
                </a:lnTo>
                <a:lnTo>
                  <a:pt x="206" y="523"/>
                </a:lnTo>
                <a:lnTo>
                  <a:pt x="190" y="532"/>
                </a:lnTo>
                <a:lnTo>
                  <a:pt x="113" y="540"/>
                </a:lnTo>
                <a:lnTo>
                  <a:pt x="48" y="508"/>
                </a:lnTo>
                <a:lnTo>
                  <a:pt x="34" y="478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0040" y="317520"/>
            <a:ext cx="1158840" cy="255600"/>
          </a:xfrm>
          <a:custGeom>
            <a:avLst/>
            <a:gdLst/>
            <a:ahLst/>
            <a:rect l="l" t="t" r="r" b="b"/>
            <a:pathLst>
              <a:path w="730" h="161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1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400" y="37800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4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3"/>
                </a:lnTo>
                <a:lnTo>
                  <a:pt x="433" y="155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1800" y="38592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0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8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1720" y="1252440"/>
            <a:ext cx="371520" cy="1311480"/>
          </a:xfrm>
          <a:custGeom>
            <a:avLst/>
            <a:gdLst/>
            <a:ahLst/>
            <a:rect l="l" t="t" r="r" b="b"/>
            <a:pathLst>
              <a:path w="234" h="826">
                <a:moveTo>
                  <a:pt x="234" y="84"/>
                </a:moveTo>
                <a:lnTo>
                  <a:pt x="211" y="265"/>
                </a:lnTo>
                <a:lnTo>
                  <a:pt x="195" y="348"/>
                </a:lnTo>
                <a:lnTo>
                  <a:pt x="179" y="427"/>
                </a:lnTo>
                <a:lnTo>
                  <a:pt x="137" y="769"/>
                </a:lnTo>
                <a:lnTo>
                  <a:pt x="130" y="794"/>
                </a:lnTo>
                <a:lnTo>
                  <a:pt x="114" y="811"/>
                </a:lnTo>
                <a:lnTo>
                  <a:pt x="67" y="826"/>
                </a:lnTo>
                <a:lnTo>
                  <a:pt x="21" y="811"/>
                </a:lnTo>
                <a:lnTo>
                  <a:pt x="0" y="769"/>
                </a:lnTo>
                <a:lnTo>
                  <a:pt x="12" y="423"/>
                </a:lnTo>
                <a:lnTo>
                  <a:pt x="35" y="74"/>
                </a:lnTo>
                <a:lnTo>
                  <a:pt x="46" y="41"/>
                </a:lnTo>
                <a:lnTo>
                  <a:pt x="72" y="16"/>
                </a:lnTo>
                <a:lnTo>
                  <a:pt x="104" y="3"/>
                </a:lnTo>
                <a:lnTo>
                  <a:pt x="139" y="0"/>
                </a:lnTo>
                <a:lnTo>
                  <a:pt x="206" y="22"/>
                </a:lnTo>
                <a:lnTo>
                  <a:pt x="234" y="84"/>
                </a:lnTo>
                <a:lnTo>
                  <a:pt x="234" y="8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3600" y="5245200"/>
            <a:ext cx="1287360" cy="1011240"/>
          </a:xfrm>
          <a:custGeom>
            <a:avLst/>
            <a:gdLst/>
            <a:ahLst/>
            <a:rect l="l" t="t" r="r" b="b"/>
            <a:pathLst>
              <a:path w="811" h="637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19"/>
                </a:lnTo>
                <a:lnTo>
                  <a:pt x="283" y="200"/>
                </a:lnTo>
                <a:lnTo>
                  <a:pt x="302" y="127"/>
                </a:lnTo>
                <a:lnTo>
                  <a:pt x="318" y="66"/>
                </a:lnTo>
                <a:lnTo>
                  <a:pt x="334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0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3"/>
                </a:lnTo>
                <a:lnTo>
                  <a:pt x="640" y="322"/>
                </a:lnTo>
                <a:lnTo>
                  <a:pt x="675" y="382"/>
                </a:lnTo>
                <a:lnTo>
                  <a:pt x="705" y="446"/>
                </a:lnTo>
                <a:lnTo>
                  <a:pt x="735" y="575"/>
                </a:lnTo>
                <a:lnTo>
                  <a:pt x="726" y="622"/>
                </a:lnTo>
                <a:lnTo>
                  <a:pt x="712" y="633"/>
                </a:lnTo>
                <a:lnTo>
                  <a:pt x="695" y="637"/>
                </a:lnTo>
                <a:lnTo>
                  <a:pt x="591" y="599"/>
                </a:lnTo>
                <a:lnTo>
                  <a:pt x="561" y="582"/>
                </a:lnTo>
                <a:lnTo>
                  <a:pt x="531" y="564"/>
                </a:lnTo>
                <a:lnTo>
                  <a:pt x="501" y="543"/>
                </a:lnTo>
                <a:lnTo>
                  <a:pt x="473" y="524"/>
                </a:lnTo>
                <a:lnTo>
                  <a:pt x="448" y="508"/>
                </a:lnTo>
                <a:lnTo>
                  <a:pt x="424" y="493"/>
                </a:lnTo>
                <a:lnTo>
                  <a:pt x="390" y="472"/>
                </a:lnTo>
                <a:lnTo>
                  <a:pt x="353" y="494"/>
                </a:lnTo>
                <a:lnTo>
                  <a:pt x="320" y="515"/>
                </a:lnTo>
                <a:lnTo>
                  <a:pt x="288" y="536"/>
                </a:lnTo>
                <a:lnTo>
                  <a:pt x="258" y="554"/>
                </a:lnTo>
                <a:lnTo>
                  <a:pt x="232" y="569"/>
                </a:lnTo>
                <a:lnTo>
                  <a:pt x="207" y="582"/>
                </a:lnTo>
                <a:lnTo>
                  <a:pt x="172" y="596"/>
                </a:lnTo>
                <a:lnTo>
                  <a:pt x="151" y="590"/>
                </a:lnTo>
                <a:lnTo>
                  <a:pt x="146" y="556"/>
                </a:lnTo>
                <a:lnTo>
                  <a:pt x="163" y="494"/>
                </a:lnTo>
                <a:lnTo>
                  <a:pt x="179" y="449"/>
                </a:lnTo>
                <a:lnTo>
                  <a:pt x="200" y="395"/>
                </a:lnTo>
                <a:lnTo>
                  <a:pt x="149" y="378"/>
                </a:lnTo>
                <a:lnTo>
                  <a:pt x="65" y="346"/>
                </a:lnTo>
                <a:lnTo>
                  <a:pt x="5" y="307"/>
                </a:lnTo>
                <a:lnTo>
                  <a:pt x="0" y="288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23200" y="82440"/>
            <a:ext cx="1287360" cy="1011240"/>
          </a:xfrm>
          <a:custGeom>
            <a:avLst/>
            <a:gdLst/>
            <a:ahLst/>
            <a:rect l="l" t="t" r="r" b="b"/>
            <a:pathLst>
              <a:path w="811" h="637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30"/>
                </a:lnTo>
                <a:lnTo>
                  <a:pt x="315" y="66"/>
                </a:lnTo>
                <a:lnTo>
                  <a:pt x="333" y="40"/>
                </a:lnTo>
                <a:lnTo>
                  <a:pt x="350" y="21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4"/>
                </a:lnTo>
                <a:lnTo>
                  <a:pt x="674" y="384"/>
                </a:lnTo>
                <a:lnTo>
                  <a:pt x="702" y="446"/>
                </a:lnTo>
                <a:lnTo>
                  <a:pt x="732" y="575"/>
                </a:lnTo>
                <a:lnTo>
                  <a:pt x="723" y="622"/>
                </a:lnTo>
                <a:lnTo>
                  <a:pt x="711" y="634"/>
                </a:lnTo>
                <a:lnTo>
                  <a:pt x="692" y="637"/>
                </a:lnTo>
                <a:lnTo>
                  <a:pt x="588" y="600"/>
                </a:lnTo>
                <a:lnTo>
                  <a:pt x="558" y="583"/>
                </a:lnTo>
                <a:lnTo>
                  <a:pt x="528" y="564"/>
                </a:lnTo>
                <a:lnTo>
                  <a:pt x="498" y="545"/>
                </a:lnTo>
                <a:lnTo>
                  <a:pt x="470" y="525"/>
                </a:lnTo>
                <a:lnTo>
                  <a:pt x="445" y="508"/>
                </a:lnTo>
                <a:lnTo>
                  <a:pt x="421" y="493"/>
                </a:lnTo>
                <a:lnTo>
                  <a:pt x="389" y="474"/>
                </a:lnTo>
                <a:lnTo>
                  <a:pt x="352" y="495"/>
                </a:lnTo>
                <a:lnTo>
                  <a:pt x="317" y="516"/>
                </a:lnTo>
                <a:lnTo>
                  <a:pt x="285" y="536"/>
                </a:lnTo>
                <a:lnTo>
                  <a:pt x="255" y="555"/>
                </a:lnTo>
                <a:lnTo>
                  <a:pt x="229" y="570"/>
                </a:lnTo>
                <a:lnTo>
                  <a:pt x="206" y="583"/>
                </a:lnTo>
                <a:lnTo>
                  <a:pt x="169" y="596"/>
                </a:lnTo>
                <a:lnTo>
                  <a:pt x="148" y="590"/>
                </a:lnTo>
                <a:lnTo>
                  <a:pt x="143" y="559"/>
                </a:lnTo>
                <a:lnTo>
                  <a:pt x="160" y="495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09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21480" y="5334120"/>
            <a:ext cx="1287720" cy="1011240"/>
          </a:xfrm>
          <a:custGeom>
            <a:avLst/>
            <a:gdLst/>
            <a:ahLst/>
            <a:rect l="l" t="t" r="r" b="b"/>
            <a:pathLst>
              <a:path w="811" h="637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30" y="221"/>
                </a:lnTo>
                <a:lnTo>
                  <a:pt x="283" y="202"/>
                </a:lnTo>
                <a:lnTo>
                  <a:pt x="299" y="129"/>
                </a:lnTo>
                <a:lnTo>
                  <a:pt x="315" y="68"/>
                </a:lnTo>
                <a:lnTo>
                  <a:pt x="334" y="39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2"/>
                </a:lnTo>
                <a:lnTo>
                  <a:pt x="767" y="225"/>
                </a:lnTo>
                <a:lnTo>
                  <a:pt x="735" y="253"/>
                </a:lnTo>
                <a:lnTo>
                  <a:pt x="714" y="268"/>
                </a:lnTo>
                <a:lnTo>
                  <a:pt x="691" y="285"/>
                </a:lnTo>
                <a:lnTo>
                  <a:pt x="665" y="304"/>
                </a:lnTo>
                <a:lnTo>
                  <a:pt x="637" y="324"/>
                </a:lnTo>
                <a:lnTo>
                  <a:pt x="674" y="384"/>
                </a:lnTo>
                <a:lnTo>
                  <a:pt x="702" y="446"/>
                </a:lnTo>
                <a:lnTo>
                  <a:pt x="732" y="575"/>
                </a:lnTo>
                <a:lnTo>
                  <a:pt x="725" y="622"/>
                </a:lnTo>
                <a:lnTo>
                  <a:pt x="712" y="633"/>
                </a:lnTo>
                <a:lnTo>
                  <a:pt x="693" y="637"/>
                </a:lnTo>
                <a:lnTo>
                  <a:pt x="591" y="599"/>
                </a:lnTo>
                <a:lnTo>
                  <a:pt x="559" y="583"/>
                </a:lnTo>
                <a:lnTo>
                  <a:pt x="528" y="564"/>
                </a:lnTo>
                <a:lnTo>
                  <a:pt x="501" y="545"/>
                </a:lnTo>
                <a:lnTo>
                  <a:pt x="471" y="526"/>
                </a:lnTo>
                <a:lnTo>
                  <a:pt x="445" y="508"/>
                </a:lnTo>
                <a:lnTo>
                  <a:pt x="422" y="493"/>
                </a:lnTo>
                <a:lnTo>
                  <a:pt x="389" y="474"/>
                </a:lnTo>
                <a:lnTo>
                  <a:pt x="352" y="495"/>
                </a:lnTo>
                <a:lnTo>
                  <a:pt x="318" y="517"/>
                </a:lnTo>
                <a:lnTo>
                  <a:pt x="285" y="536"/>
                </a:lnTo>
                <a:lnTo>
                  <a:pt x="257" y="555"/>
                </a:lnTo>
                <a:lnTo>
                  <a:pt x="230" y="570"/>
                </a:lnTo>
                <a:lnTo>
                  <a:pt x="206" y="583"/>
                </a:lnTo>
                <a:lnTo>
                  <a:pt x="169" y="598"/>
                </a:lnTo>
                <a:lnTo>
                  <a:pt x="149" y="590"/>
                </a:lnTo>
                <a:lnTo>
                  <a:pt x="146" y="558"/>
                </a:lnTo>
                <a:lnTo>
                  <a:pt x="160" y="496"/>
                </a:lnTo>
                <a:lnTo>
                  <a:pt x="176" y="452"/>
                </a:lnTo>
                <a:lnTo>
                  <a:pt x="199" y="397"/>
                </a:lnTo>
                <a:lnTo>
                  <a:pt x="146" y="378"/>
                </a:lnTo>
                <a:lnTo>
                  <a:pt x="65" y="347"/>
                </a:lnTo>
                <a:lnTo>
                  <a:pt x="5" y="309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6440" y="122400"/>
            <a:ext cx="1287360" cy="1011240"/>
          </a:xfrm>
          <a:custGeom>
            <a:avLst/>
            <a:gdLst/>
            <a:ahLst/>
            <a:rect l="l" t="t" r="r" b="b"/>
            <a:pathLst>
              <a:path w="811" h="637">
                <a:moveTo>
                  <a:pt x="21" y="268"/>
                </a:moveTo>
                <a:lnTo>
                  <a:pt x="30" y="253"/>
                </a:lnTo>
                <a:lnTo>
                  <a:pt x="54" y="240"/>
                </a:lnTo>
                <a:lnTo>
                  <a:pt x="130" y="219"/>
                </a:lnTo>
                <a:lnTo>
                  <a:pt x="283" y="200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3"/>
                </a:lnTo>
                <a:lnTo>
                  <a:pt x="802" y="153"/>
                </a:lnTo>
                <a:lnTo>
                  <a:pt x="811" y="168"/>
                </a:lnTo>
                <a:lnTo>
                  <a:pt x="793" y="200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4"/>
                </a:lnTo>
                <a:lnTo>
                  <a:pt x="668" y="303"/>
                </a:lnTo>
                <a:lnTo>
                  <a:pt x="640" y="324"/>
                </a:lnTo>
                <a:lnTo>
                  <a:pt x="675" y="382"/>
                </a:lnTo>
                <a:lnTo>
                  <a:pt x="705" y="444"/>
                </a:lnTo>
                <a:lnTo>
                  <a:pt x="735" y="575"/>
                </a:lnTo>
                <a:lnTo>
                  <a:pt x="726" y="622"/>
                </a:lnTo>
                <a:lnTo>
                  <a:pt x="714" y="633"/>
                </a:lnTo>
                <a:lnTo>
                  <a:pt x="695" y="637"/>
                </a:lnTo>
                <a:lnTo>
                  <a:pt x="591" y="599"/>
                </a:lnTo>
                <a:lnTo>
                  <a:pt x="561" y="582"/>
                </a:lnTo>
                <a:lnTo>
                  <a:pt x="531" y="564"/>
                </a:lnTo>
                <a:lnTo>
                  <a:pt x="501" y="543"/>
                </a:lnTo>
                <a:lnTo>
                  <a:pt x="473" y="524"/>
                </a:lnTo>
                <a:lnTo>
                  <a:pt x="447" y="507"/>
                </a:lnTo>
                <a:lnTo>
                  <a:pt x="424" y="492"/>
                </a:lnTo>
                <a:lnTo>
                  <a:pt x="390" y="472"/>
                </a:lnTo>
                <a:lnTo>
                  <a:pt x="353" y="494"/>
                </a:lnTo>
                <a:lnTo>
                  <a:pt x="320" y="515"/>
                </a:lnTo>
                <a:lnTo>
                  <a:pt x="288" y="535"/>
                </a:lnTo>
                <a:lnTo>
                  <a:pt x="258" y="554"/>
                </a:lnTo>
                <a:lnTo>
                  <a:pt x="232" y="569"/>
                </a:lnTo>
                <a:lnTo>
                  <a:pt x="207" y="582"/>
                </a:lnTo>
                <a:lnTo>
                  <a:pt x="172" y="595"/>
                </a:lnTo>
                <a:lnTo>
                  <a:pt x="151" y="590"/>
                </a:lnTo>
                <a:lnTo>
                  <a:pt x="146" y="558"/>
                </a:lnTo>
                <a:lnTo>
                  <a:pt x="163" y="494"/>
                </a:lnTo>
                <a:lnTo>
                  <a:pt x="179" y="449"/>
                </a:lnTo>
                <a:lnTo>
                  <a:pt x="200" y="395"/>
                </a:lnTo>
                <a:lnTo>
                  <a:pt x="149" y="378"/>
                </a:lnTo>
                <a:lnTo>
                  <a:pt x="65" y="346"/>
                </a:lnTo>
                <a:lnTo>
                  <a:pt x="7" y="307"/>
                </a:lnTo>
                <a:lnTo>
                  <a:pt x="0" y="288"/>
                </a:lnTo>
                <a:lnTo>
                  <a:pt x="21" y="268"/>
                </a:lnTo>
                <a:lnTo>
                  <a:pt x="21" y="26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0800" y="2789280"/>
            <a:ext cx="374760" cy="855720"/>
          </a:xfrm>
          <a:custGeom>
            <a:avLst/>
            <a:gdLst/>
            <a:ahLst/>
            <a:rect l="l" t="t" r="r" b="b"/>
            <a:pathLst>
              <a:path w="236" h="539">
                <a:moveTo>
                  <a:pt x="180" y="62"/>
                </a:moveTo>
                <a:lnTo>
                  <a:pt x="236" y="476"/>
                </a:lnTo>
                <a:lnTo>
                  <a:pt x="217" y="509"/>
                </a:lnTo>
                <a:lnTo>
                  <a:pt x="204" y="522"/>
                </a:lnTo>
                <a:lnTo>
                  <a:pt x="187" y="532"/>
                </a:lnTo>
                <a:lnTo>
                  <a:pt x="113" y="539"/>
                </a:lnTo>
                <a:lnTo>
                  <a:pt x="48" y="507"/>
                </a:lnTo>
                <a:lnTo>
                  <a:pt x="32" y="477"/>
                </a:lnTo>
                <a:lnTo>
                  <a:pt x="32" y="440"/>
                </a:lnTo>
                <a:lnTo>
                  <a:pt x="46" y="346"/>
                </a:lnTo>
                <a:lnTo>
                  <a:pt x="39" y="262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6640" y="4222800"/>
            <a:ext cx="405000" cy="892080"/>
          </a:xfrm>
          <a:custGeom>
            <a:avLst/>
            <a:gdLst/>
            <a:ahLst/>
            <a:rect l="l" t="t" r="r" b="b"/>
            <a:pathLst>
              <a:path w="255" h="562">
                <a:moveTo>
                  <a:pt x="255" y="78"/>
                </a:moveTo>
                <a:lnTo>
                  <a:pt x="241" y="376"/>
                </a:lnTo>
                <a:lnTo>
                  <a:pt x="220" y="475"/>
                </a:lnTo>
                <a:lnTo>
                  <a:pt x="208" y="515"/>
                </a:lnTo>
                <a:lnTo>
                  <a:pt x="181" y="541"/>
                </a:lnTo>
                <a:lnTo>
                  <a:pt x="146" y="558"/>
                </a:lnTo>
                <a:lnTo>
                  <a:pt x="104" y="562"/>
                </a:lnTo>
                <a:lnTo>
                  <a:pt x="30" y="535"/>
                </a:lnTo>
                <a:lnTo>
                  <a:pt x="0" y="466"/>
                </a:lnTo>
                <a:lnTo>
                  <a:pt x="9" y="356"/>
                </a:lnTo>
                <a:lnTo>
                  <a:pt x="23" y="279"/>
                </a:lnTo>
                <a:lnTo>
                  <a:pt x="42" y="213"/>
                </a:lnTo>
                <a:lnTo>
                  <a:pt x="72" y="71"/>
                </a:lnTo>
                <a:lnTo>
                  <a:pt x="81" y="37"/>
                </a:lnTo>
                <a:lnTo>
                  <a:pt x="104" y="15"/>
                </a:lnTo>
                <a:lnTo>
                  <a:pt x="134" y="3"/>
                </a:lnTo>
                <a:lnTo>
                  <a:pt x="169" y="0"/>
                </a:lnTo>
                <a:lnTo>
                  <a:pt x="229" y="20"/>
                </a:lnTo>
                <a:lnTo>
                  <a:pt x="255" y="78"/>
                </a:lnTo>
                <a:lnTo>
                  <a:pt x="255" y="7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77880" y="596124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3" y="42"/>
                </a:lnTo>
                <a:lnTo>
                  <a:pt x="410" y="28"/>
                </a:lnTo>
                <a:lnTo>
                  <a:pt x="570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3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35400" y="596124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5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8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1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5600" y="5950080"/>
            <a:ext cx="1305000" cy="296640"/>
          </a:xfrm>
          <a:custGeom>
            <a:avLst/>
            <a:gdLst/>
            <a:ahLst/>
            <a:rect l="l" t="t" r="r" b="b"/>
            <a:pathLst>
              <a:path w="822" h="187">
                <a:moveTo>
                  <a:pt x="53" y="39"/>
                </a:moveTo>
                <a:lnTo>
                  <a:pt x="257" y="22"/>
                </a:lnTo>
                <a:lnTo>
                  <a:pt x="354" y="7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0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8" y="187"/>
                </a:lnTo>
                <a:lnTo>
                  <a:pt x="706" y="183"/>
                </a:lnTo>
                <a:lnTo>
                  <a:pt x="586" y="163"/>
                </a:lnTo>
                <a:lnTo>
                  <a:pt x="461" y="159"/>
                </a:lnTo>
                <a:lnTo>
                  <a:pt x="254" y="142"/>
                </a:lnTo>
                <a:lnTo>
                  <a:pt x="157" y="129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0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89760" y="1376280"/>
            <a:ext cx="379440" cy="984240"/>
          </a:xfrm>
          <a:custGeom>
            <a:avLst/>
            <a:gdLst/>
            <a:ahLst/>
            <a:rect l="l" t="t" r="r" b="b"/>
            <a:pathLst>
              <a:path w="239" h="620">
                <a:moveTo>
                  <a:pt x="239" y="96"/>
                </a:moveTo>
                <a:lnTo>
                  <a:pt x="222" y="212"/>
                </a:lnTo>
                <a:lnTo>
                  <a:pt x="204" y="317"/>
                </a:lnTo>
                <a:lnTo>
                  <a:pt x="195" y="538"/>
                </a:lnTo>
                <a:lnTo>
                  <a:pt x="192" y="570"/>
                </a:lnTo>
                <a:lnTo>
                  <a:pt x="174" y="596"/>
                </a:lnTo>
                <a:lnTo>
                  <a:pt x="146" y="613"/>
                </a:lnTo>
                <a:lnTo>
                  <a:pt x="113" y="620"/>
                </a:lnTo>
                <a:lnTo>
                  <a:pt x="49" y="607"/>
                </a:lnTo>
                <a:lnTo>
                  <a:pt x="11" y="553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29720" y="2789280"/>
            <a:ext cx="317520" cy="1120680"/>
          </a:xfrm>
          <a:custGeom>
            <a:avLst/>
            <a:gdLst/>
            <a:ahLst/>
            <a:rect l="l" t="t" r="r" b="b"/>
            <a:pathLst>
              <a:path w="200" h="706">
                <a:moveTo>
                  <a:pt x="174" y="69"/>
                </a:moveTo>
                <a:lnTo>
                  <a:pt x="200" y="635"/>
                </a:lnTo>
                <a:lnTo>
                  <a:pt x="188" y="667"/>
                </a:lnTo>
                <a:lnTo>
                  <a:pt x="167" y="689"/>
                </a:lnTo>
                <a:lnTo>
                  <a:pt x="137" y="702"/>
                </a:lnTo>
                <a:lnTo>
                  <a:pt x="102" y="706"/>
                </a:lnTo>
                <a:lnTo>
                  <a:pt x="40" y="685"/>
                </a:lnTo>
                <a:lnTo>
                  <a:pt x="14" y="627"/>
                </a:lnTo>
                <a:lnTo>
                  <a:pt x="19" y="479"/>
                </a:lnTo>
                <a:lnTo>
                  <a:pt x="14" y="350"/>
                </a:lnTo>
                <a:lnTo>
                  <a:pt x="0" y="71"/>
                </a:lnTo>
                <a:lnTo>
                  <a:pt x="7" y="41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4560" y="4249800"/>
            <a:ext cx="377640" cy="855720"/>
          </a:xfrm>
          <a:custGeom>
            <a:avLst/>
            <a:gdLst/>
            <a:ahLst/>
            <a:rect l="l" t="t" r="r" b="b"/>
            <a:pathLst>
              <a:path w="238" h="539">
                <a:moveTo>
                  <a:pt x="183" y="61"/>
                </a:moveTo>
                <a:lnTo>
                  <a:pt x="238" y="475"/>
                </a:lnTo>
                <a:lnTo>
                  <a:pt x="220" y="509"/>
                </a:lnTo>
                <a:lnTo>
                  <a:pt x="206" y="522"/>
                </a:lnTo>
                <a:lnTo>
                  <a:pt x="190" y="531"/>
                </a:lnTo>
                <a:lnTo>
                  <a:pt x="113" y="539"/>
                </a:lnTo>
                <a:lnTo>
                  <a:pt x="48" y="507"/>
                </a:lnTo>
                <a:lnTo>
                  <a:pt x="34" y="477"/>
                </a:lnTo>
                <a:lnTo>
                  <a:pt x="34" y="440"/>
                </a:lnTo>
                <a:lnTo>
                  <a:pt x="48" y="346"/>
                </a:lnTo>
                <a:lnTo>
                  <a:pt x="41" y="262"/>
                </a:lnTo>
                <a:lnTo>
                  <a:pt x="23" y="179"/>
                </a:lnTo>
                <a:lnTo>
                  <a:pt x="0" y="84"/>
                </a:lnTo>
                <a:lnTo>
                  <a:pt x="2" y="52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3" y="9"/>
                </a:lnTo>
                <a:lnTo>
                  <a:pt x="183" y="61"/>
                </a:lnTo>
                <a:lnTo>
                  <a:pt x="183" y="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18040" y="363600"/>
            <a:ext cx="1159200" cy="255600"/>
          </a:xfrm>
          <a:custGeom>
            <a:avLst/>
            <a:gdLst/>
            <a:ahLst/>
            <a:rect l="l" t="t" r="r" b="b"/>
            <a:pathLst>
              <a:path w="730" h="161">
                <a:moveTo>
                  <a:pt x="63" y="43"/>
                </a:moveTo>
                <a:lnTo>
                  <a:pt x="345" y="22"/>
                </a:lnTo>
                <a:lnTo>
                  <a:pt x="480" y="7"/>
                </a:lnTo>
                <a:lnTo>
                  <a:pt x="630" y="0"/>
                </a:lnTo>
                <a:lnTo>
                  <a:pt x="674" y="7"/>
                </a:lnTo>
                <a:lnTo>
                  <a:pt x="704" y="26"/>
                </a:lnTo>
                <a:lnTo>
                  <a:pt x="730" y="80"/>
                </a:lnTo>
                <a:lnTo>
                  <a:pt x="723" y="110"/>
                </a:lnTo>
                <a:lnTo>
                  <a:pt x="704" y="134"/>
                </a:lnTo>
                <a:lnTo>
                  <a:pt x="674" y="153"/>
                </a:lnTo>
                <a:lnTo>
                  <a:pt x="630" y="161"/>
                </a:lnTo>
                <a:lnTo>
                  <a:pt x="63" y="144"/>
                </a:lnTo>
                <a:lnTo>
                  <a:pt x="16" y="127"/>
                </a:lnTo>
                <a:lnTo>
                  <a:pt x="0" y="93"/>
                </a:lnTo>
                <a:lnTo>
                  <a:pt x="16" y="58"/>
                </a:lnTo>
                <a:lnTo>
                  <a:pt x="35" y="46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92400" y="42228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6"/>
                </a:lnTo>
                <a:lnTo>
                  <a:pt x="753" y="174"/>
                </a:lnTo>
                <a:lnTo>
                  <a:pt x="584" y="155"/>
                </a:lnTo>
                <a:lnTo>
                  <a:pt x="433" y="155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79800" y="431640"/>
            <a:ext cx="1360440" cy="263520"/>
          </a:xfrm>
          <a:custGeom>
            <a:avLst/>
            <a:gdLst/>
            <a:ahLst/>
            <a:rect l="l" t="t" r="r" b="b"/>
            <a:pathLst>
              <a:path w="857" h="166">
                <a:moveTo>
                  <a:pt x="93" y="0"/>
                </a:moveTo>
                <a:lnTo>
                  <a:pt x="429" y="9"/>
                </a:lnTo>
                <a:lnTo>
                  <a:pt x="765" y="18"/>
                </a:lnTo>
                <a:lnTo>
                  <a:pt x="804" y="24"/>
                </a:lnTo>
                <a:lnTo>
                  <a:pt x="834" y="41"/>
                </a:lnTo>
                <a:lnTo>
                  <a:pt x="857" y="93"/>
                </a:lnTo>
                <a:lnTo>
                  <a:pt x="850" y="119"/>
                </a:lnTo>
                <a:lnTo>
                  <a:pt x="834" y="144"/>
                </a:lnTo>
                <a:lnTo>
                  <a:pt x="804" y="161"/>
                </a:lnTo>
                <a:lnTo>
                  <a:pt x="765" y="166"/>
                </a:lnTo>
                <a:lnTo>
                  <a:pt x="429" y="157"/>
                </a:lnTo>
                <a:lnTo>
                  <a:pt x="93" y="148"/>
                </a:lnTo>
                <a:lnTo>
                  <a:pt x="51" y="142"/>
                </a:lnTo>
                <a:lnTo>
                  <a:pt x="23" y="125"/>
                </a:lnTo>
                <a:lnTo>
                  <a:pt x="0" y="73"/>
                </a:lnTo>
                <a:lnTo>
                  <a:pt x="5" y="46"/>
                </a:lnTo>
                <a:lnTo>
                  <a:pt x="23" y="22"/>
                </a:lnTo>
                <a:lnTo>
                  <a:pt x="51" y="5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9720" y="1297080"/>
            <a:ext cx="371520" cy="1311120"/>
          </a:xfrm>
          <a:custGeom>
            <a:avLst/>
            <a:gdLst/>
            <a:ahLst/>
            <a:rect l="l" t="t" r="r" b="b"/>
            <a:pathLst>
              <a:path w="234" h="826">
                <a:moveTo>
                  <a:pt x="234" y="84"/>
                </a:moveTo>
                <a:lnTo>
                  <a:pt x="211" y="266"/>
                </a:lnTo>
                <a:lnTo>
                  <a:pt x="195" y="348"/>
                </a:lnTo>
                <a:lnTo>
                  <a:pt x="179" y="427"/>
                </a:lnTo>
                <a:lnTo>
                  <a:pt x="137" y="769"/>
                </a:lnTo>
                <a:lnTo>
                  <a:pt x="130" y="794"/>
                </a:lnTo>
                <a:lnTo>
                  <a:pt x="116" y="811"/>
                </a:lnTo>
                <a:lnTo>
                  <a:pt x="67" y="826"/>
                </a:lnTo>
                <a:lnTo>
                  <a:pt x="21" y="811"/>
                </a:lnTo>
                <a:lnTo>
                  <a:pt x="0" y="769"/>
                </a:lnTo>
                <a:lnTo>
                  <a:pt x="12" y="423"/>
                </a:lnTo>
                <a:lnTo>
                  <a:pt x="37" y="75"/>
                </a:lnTo>
                <a:lnTo>
                  <a:pt x="46" y="41"/>
                </a:lnTo>
                <a:lnTo>
                  <a:pt x="72" y="16"/>
                </a:lnTo>
                <a:lnTo>
                  <a:pt x="104" y="3"/>
                </a:lnTo>
                <a:lnTo>
                  <a:pt x="141" y="0"/>
                </a:lnTo>
                <a:lnTo>
                  <a:pt x="206" y="22"/>
                </a:lnTo>
                <a:lnTo>
                  <a:pt x="234" y="84"/>
                </a:lnTo>
                <a:lnTo>
                  <a:pt x="234" y="8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1600" y="5289480"/>
            <a:ext cx="1292400" cy="1011240"/>
          </a:xfrm>
          <a:custGeom>
            <a:avLst/>
            <a:gdLst/>
            <a:ahLst/>
            <a:rect l="l" t="t" r="r" b="b"/>
            <a:pathLst>
              <a:path w="814" h="637">
                <a:moveTo>
                  <a:pt x="21" y="270"/>
                </a:moveTo>
                <a:lnTo>
                  <a:pt x="31" y="253"/>
                </a:lnTo>
                <a:lnTo>
                  <a:pt x="54" y="240"/>
                </a:lnTo>
                <a:lnTo>
                  <a:pt x="130" y="219"/>
                </a:lnTo>
                <a:lnTo>
                  <a:pt x="283" y="200"/>
                </a:lnTo>
                <a:lnTo>
                  <a:pt x="302" y="127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0"/>
                </a:lnTo>
                <a:lnTo>
                  <a:pt x="767" y="223"/>
                </a:lnTo>
                <a:lnTo>
                  <a:pt x="735" y="251"/>
                </a:lnTo>
                <a:lnTo>
                  <a:pt x="716" y="268"/>
                </a:lnTo>
                <a:lnTo>
                  <a:pt x="693" y="285"/>
                </a:lnTo>
                <a:lnTo>
                  <a:pt x="668" y="303"/>
                </a:lnTo>
                <a:lnTo>
                  <a:pt x="640" y="324"/>
                </a:lnTo>
                <a:lnTo>
                  <a:pt x="675" y="382"/>
                </a:lnTo>
                <a:lnTo>
                  <a:pt x="705" y="446"/>
                </a:lnTo>
                <a:lnTo>
                  <a:pt x="735" y="575"/>
                </a:lnTo>
                <a:lnTo>
                  <a:pt x="726" y="622"/>
                </a:lnTo>
                <a:lnTo>
                  <a:pt x="714" y="633"/>
                </a:lnTo>
                <a:lnTo>
                  <a:pt x="696" y="637"/>
                </a:lnTo>
                <a:lnTo>
                  <a:pt x="591" y="599"/>
                </a:lnTo>
                <a:lnTo>
                  <a:pt x="561" y="583"/>
                </a:lnTo>
                <a:lnTo>
                  <a:pt x="531" y="564"/>
                </a:lnTo>
                <a:lnTo>
                  <a:pt x="501" y="543"/>
                </a:lnTo>
                <a:lnTo>
                  <a:pt x="473" y="524"/>
                </a:lnTo>
                <a:lnTo>
                  <a:pt x="448" y="508"/>
                </a:lnTo>
                <a:lnTo>
                  <a:pt x="424" y="493"/>
                </a:lnTo>
                <a:lnTo>
                  <a:pt x="390" y="472"/>
                </a:lnTo>
                <a:lnTo>
                  <a:pt x="355" y="495"/>
                </a:lnTo>
                <a:lnTo>
                  <a:pt x="320" y="515"/>
                </a:lnTo>
                <a:lnTo>
                  <a:pt x="288" y="536"/>
                </a:lnTo>
                <a:lnTo>
                  <a:pt x="258" y="553"/>
                </a:lnTo>
                <a:lnTo>
                  <a:pt x="232" y="569"/>
                </a:lnTo>
                <a:lnTo>
                  <a:pt x="209" y="583"/>
                </a:lnTo>
                <a:lnTo>
                  <a:pt x="172" y="596"/>
                </a:lnTo>
                <a:lnTo>
                  <a:pt x="151" y="590"/>
                </a:lnTo>
                <a:lnTo>
                  <a:pt x="146" y="558"/>
                </a:lnTo>
                <a:lnTo>
                  <a:pt x="163" y="495"/>
                </a:lnTo>
                <a:lnTo>
                  <a:pt x="179" y="450"/>
                </a:lnTo>
                <a:lnTo>
                  <a:pt x="200" y="395"/>
                </a:lnTo>
                <a:lnTo>
                  <a:pt x="149" y="378"/>
                </a:lnTo>
                <a:lnTo>
                  <a:pt x="65" y="347"/>
                </a:lnTo>
                <a:lnTo>
                  <a:pt x="7" y="307"/>
                </a:lnTo>
                <a:lnTo>
                  <a:pt x="0" y="288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61200" y="128520"/>
            <a:ext cx="1287360" cy="1009800"/>
          </a:xfrm>
          <a:custGeom>
            <a:avLst/>
            <a:gdLst/>
            <a:ahLst/>
            <a:rect l="l" t="t" r="r" b="b"/>
            <a:pathLst>
              <a:path w="811" h="636">
                <a:moveTo>
                  <a:pt x="21" y="269"/>
                </a:moveTo>
                <a:lnTo>
                  <a:pt x="28" y="254"/>
                </a:lnTo>
                <a:lnTo>
                  <a:pt x="51" y="241"/>
                </a:lnTo>
                <a:lnTo>
                  <a:pt x="129" y="221"/>
                </a:lnTo>
                <a:lnTo>
                  <a:pt x="280" y="202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89"/>
                </a:lnTo>
                <a:lnTo>
                  <a:pt x="500" y="134"/>
                </a:lnTo>
                <a:lnTo>
                  <a:pt x="530" y="181"/>
                </a:lnTo>
                <a:lnTo>
                  <a:pt x="623" y="166"/>
                </a:lnTo>
                <a:lnTo>
                  <a:pt x="702" y="155"/>
                </a:lnTo>
                <a:lnTo>
                  <a:pt x="799" y="153"/>
                </a:lnTo>
                <a:lnTo>
                  <a:pt x="811" y="170"/>
                </a:lnTo>
                <a:lnTo>
                  <a:pt x="790" y="202"/>
                </a:lnTo>
                <a:lnTo>
                  <a:pt x="767" y="224"/>
                </a:lnTo>
                <a:lnTo>
                  <a:pt x="734" y="252"/>
                </a:lnTo>
                <a:lnTo>
                  <a:pt x="713" y="267"/>
                </a:lnTo>
                <a:lnTo>
                  <a:pt x="690" y="284"/>
                </a:lnTo>
                <a:lnTo>
                  <a:pt x="665" y="303"/>
                </a:lnTo>
                <a:lnTo>
                  <a:pt x="637" y="324"/>
                </a:lnTo>
                <a:lnTo>
                  <a:pt x="674" y="384"/>
                </a:lnTo>
                <a:lnTo>
                  <a:pt x="702" y="445"/>
                </a:lnTo>
                <a:lnTo>
                  <a:pt x="732" y="575"/>
                </a:lnTo>
                <a:lnTo>
                  <a:pt x="725" y="621"/>
                </a:lnTo>
                <a:lnTo>
                  <a:pt x="711" y="633"/>
                </a:lnTo>
                <a:lnTo>
                  <a:pt x="692" y="636"/>
                </a:lnTo>
                <a:lnTo>
                  <a:pt x="588" y="599"/>
                </a:lnTo>
                <a:lnTo>
                  <a:pt x="558" y="582"/>
                </a:lnTo>
                <a:lnTo>
                  <a:pt x="528" y="563"/>
                </a:lnTo>
                <a:lnTo>
                  <a:pt x="500" y="545"/>
                </a:lnTo>
                <a:lnTo>
                  <a:pt x="470" y="526"/>
                </a:lnTo>
                <a:lnTo>
                  <a:pt x="445" y="507"/>
                </a:lnTo>
                <a:lnTo>
                  <a:pt x="421" y="492"/>
                </a:lnTo>
                <a:lnTo>
                  <a:pt x="389" y="473"/>
                </a:lnTo>
                <a:lnTo>
                  <a:pt x="352" y="494"/>
                </a:lnTo>
                <a:lnTo>
                  <a:pt x="317" y="515"/>
                </a:lnTo>
                <a:lnTo>
                  <a:pt x="285" y="535"/>
                </a:lnTo>
                <a:lnTo>
                  <a:pt x="257" y="554"/>
                </a:lnTo>
                <a:lnTo>
                  <a:pt x="229" y="569"/>
                </a:lnTo>
                <a:lnTo>
                  <a:pt x="206" y="582"/>
                </a:lnTo>
                <a:lnTo>
                  <a:pt x="169" y="597"/>
                </a:lnTo>
                <a:lnTo>
                  <a:pt x="148" y="590"/>
                </a:lnTo>
                <a:lnTo>
                  <a:pt x="143" y="558"/>
                </a:lnTo>
                <a:lnTo>
                  <a:pt x="160" y="494"/>
                </a:lnTo>
                <a:lnTo>
                  <a:pt x="176" y="451"/>
                </a:lnTo>
                <a:lnTo>
                  <a:pt x="197" y="397"/>
                </a:lnTo>
                <a:lnTo>
                  <a:pt x="146" y="378"/>
                </a:lnTo>
                <a:lnTo>
                  <a:pt x="65" y="346"/>
                </a:lnTo>
                <a:lnTo>
                  <a:pt x="4" y="309"/>
                </a:lnTo>
                <a:lnTo>
                  <a:pt x="0" y="288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59480" y="5378400"/>
            <a:ext cx="1287720" cy="1011240"/>
          </a:xfrm>
          <a:custGeom>
            <a:avLst/>
            <a:gdLst/>
            <a:ahLst/>
            <a:rect l="l" t="t" r="r" b="b"/>
            <a:pathLst>
              <a:path w="811" h="637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30" y="221"/>
                </a:lnTo>
                <a:lnTo>
                  <a:pt x="283" y="203"/>
                </a:lnTo>
                <a:lnTo>
                  <a:pt x="301" y="129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5" y="253"/>
                </a:lnTo>
                <a:lnTo>
                  <a:pt x="714" y="268"/>
                </a:lnTo>
                <a:lnTo>
                  <a:pt x="691" y="285"/>
                </a:lnTo>
                <a:lnTo>
                  <a:pt x="668" y="304"/>
                </a:lnTo>
                <a:lnTo>
                  <a:pt x="637" y="324"/>
                </a:lnTo>
                <a:lnTo>
                  <a:pt x="675" y="384"/>
                </a:lnTo>
                <a:lnTo>
                  <a:pt x="702" y="446"/>
                </a:lnTo>
                <a:lnTo>
                  <a:pt x="735" y="577"/>
                </a:lnTo>
                <a:lnTo>
                  <a:pt x="725" y="622"/>
                </a:lnTo>
                <a:lnTo>
                  <a:pt x="712" y="633"/>
                </a:lnTo>
                <a:lnTo>
                  <a:pt x="695" y="637"/>
                </a:lnTo>
                <a:lnTo>
                  <a:pt x="591" y="600"/>
                </a:lnTo>
                <a:lnTo>
                  <a:pt x="561" y="583"/>
                </a:lnTo>
                <a:lnTo>
                  <a:pt x="531" y="564"/>
                </a:lnTo>
                <a:lnTo>
                  <a:pt x="501" y="545"/>
                </a:lnTo>
                <a:lnTo>
                  <a:pt x="473" y="527"/>
                </a:lnTo>
                <a:lnTo>
                  <a:pt x="445" y="508"/>
                </a:lnTo>
                <a:lnTo>
                  <a:pt x="424" y="493"/>
                </a:lnTo>
                <a:lnTo>
                  <a:pt x="390" y="474"/>
                </a:lnTo>
                <a:lnTo>
                  <a:pt x="352" y="495"/>
                </a:lnTo>
                <a:lnTo>
                  <a:pt x="318" y="517"/>
                </a:lnTo>
                <a:lnTo>
                  <a:pt x="288" y="536"/>
                </a:lnTo>
                <a:lnTo>
                  <a:pt x="257" y="555"/>
                </a:lnTo>
                <a:lnTo>
                  <a:pt x="230" y="571"/>
                </a:lnTo>
                <a:lnTo>
                  <a:pt x="206" y="583"/>
                </a:lnTo>
                <a:lnTo>
                  <a:pt x="169" y="598"/>
                </a:lnTo>
                <a:lnTo>
                  <a:pt x="149" y="590"/>
                </a:lnTo>
                <a:lnTo>
                  <a:pt x="146" y="558"/>
                </a:lnTo>
                <a:lnTo>
                  <a:pt x="162" y="497"/>
                </a:lnTo>
                <a:lnTo>
                  <a:pt x="176" y="452"/>
                </a:lnTo>
                <a:lnTo>
                  <a:pt x="200" y="397"/>
                </a:lnTo>
                <a:lnTo>
                  <a:pt x="146" y="379"/>
                </a:lnTo>
                <a:lnTo>
                  <a:pt x="65" y="347"/>
                </a:lnTo>
                <a:lnTo>
                  <a:pt x="5" y="309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4440" y="166680"/>
            <a:ext cx="1292040" cy="1011240"/>
          </a:xfrm>
          <a:custGeom>
            <a:avLst/>
            <a:gdLst/>
            <a:ahLst/>
            <a:rect l="l" t="t" r="r" b="b"/>
            <a:pathLst>
              <a:path w="814" h="637">
                <a:moveTo>
                  <a:pt x="21" y="270"/>
                </a:moveTo>
                <a:lnTo>
                  <a:pt x="30" y="253"/>
                </a:lnTo>
                <a:lnTo>
                  <a:pt x="54" y="240"/>
                </a:lnTo>
                <a:lnTo>
                  <a:pt x="130" y="219"/>
                </a:lnTo>
                <a:lnTo>
                  <a:pt x="283" y="200"/>
                </a:lnTo>
                <a:lnTo>
                  <a:pt x="302" y="127"/>
                </a:lnTo>
                <a:lnTo>
                  <a:pt x="318" y="65"/>
                </a:lnTo>
                <a:lnTo>
                  <a:pt x="336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3"/>
                </a:lnTo>
                <a:lnTo>
                  <a:pt x="802" y="153"/>
                </a:lnTo>
                <a:lnTo>
                  <a:pt x="814" y="168"/>
                </a:lnTo>
                <a:lnTo>
                  <a:pt x="793" y="200"/>
                </a:lnTo>
                <a:lnTo>
                  <a:pt x="770" y="223"/>
                </a:lnTo>
                <a:lnTo>
                  <a:pt x="735" y="251"/>
                </a:lnTo>
                <a:lnTo>
                  <a:pt x="716" y="268"/>
                </a:lnTo>
                <a:lnTo>
                  <a:pt x="693" y="285"/>
                </a:lnTo>
                <a:lnTo>
                  <a:pt x="668" y="303"/>
                </a:lnTo>
                <a:lnTo>
                  <a:pt x="640" y="322"/>
                </a:lnTo>
                <a:lnTo>
                  <a:pt x="675" y="382"/>
                </a:lnTo>
                <a:lnTo>
                  <a:pt x="705" y="446"/>
                </a:lnTo>
                <a:lnTo>
                  <a:pt x="735" y="575"/>
                </a:lnTo>
                <a:lnTo>
                  <a:pt x="726" y="622"/>
                </a:lnTo>
                <a:lnTo>
                  <a:pt x="714" y="633"/>
                </a:lnTo>
                <a:lnTo>
                  <a:pt x="695" y="637"/>
                </a:lnTo>
                <a:lnTo>
                  <a:pt x="591" y="599"/>
                </a:lnTo>
                <a:lnTo>
                  <a:pt x="561" y="582"/>
                </a:lnTo>
                <a:lnTo>
                  <a:pt x="531" y="564"/>
                </a:lnTo>
                <a:lnTo>
                  <a:pt x="501" y="543"/>
                </a:lnTo>
                <a:lnTo>
                  <a:pt x="473" y="524"/>
                </a:lnTo>
                <a:lnTo>
                  <a:pt x="448" y="507"/>
                </a:lnTo>
                <a:lnTo>
                  <a:pt x="424" y="492"/>
                </a:lnTo>
                <a:lnTo>
                  <a:pt x="390" y="472"/>
                </a:lnTo>
                <a:lnTo>
                  <a:pt x="355" y="494"/>
                </a:lnTo>
                <a:lnTo>
                  <a:pt x="320" y="515"/>
                </a:lnTo>
                <a:lnTo>
                  <a:pt x="288" y="536"/>
                </a:lnTo>
                <a:lnTo>
                  <a:pt x="258" y="554"/>
                </a:lnTo>
                <a:lnTo>
                  <a:pt x="232" y="569"/>
                </a:lnTo>
                <a:lnTo>
                  <a:pt x="209" y="582"/>
                </a:lnTo>
                <a:lnTo>
                  <a:pt x="172" y="595"/>
                </a:lnTo>
                <a:lnTo>
                  <a:pt x="151" y="590"/>
                </a:lnTo>
                <a:lnTo>
                  <a:pt x="146" y="558"/>
                </a:lnTo>
                <a:lnTo>
                  <a:pt x="163" y="494"/>
                </a:lnTo>
                <a:lnTo>
                  <a:pt x="179" y="449"/>
                </a:lnTo>
                <a:lnTo>
                  <a:pt x="200" y="395"/>
                </a:lnTo>
                <a:lnTo>
                  <a:pt x="149" y="378"/>
                </a:lnTo>
                <a:lnTo>
                  <a:pt x="65" y="346"/>
                </a:lnTo>
                <a:lnTo>
                  <a:pt x="7" y="307"/>
                </a:lnTo>
                <a:lnTo>
                  <a:pt x="0" y="288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" y="2833560"/>
            <a:ext cx="374760" cy="855720"/>
          </a:xfrm>
          <a:custGeom>
            <a:avLst/>
            <a:gdLst/>
            <a:ahLst/>
            <a:rect l="l" t="t" r="r" b="b"/>
            <a:pathLst>
              <a:path w="236" h="539">
                <a:moveTo>
                  <a:pt x="180" y="62"/>
                </a:moveTo>
                <a:lnTo>
                  <a:pt x="236" y="476"/>
                </a:lnTo>
                <a:lnTo>
                  <a:pt x="218" y="509"/>
                </a:lnTo>
                <a:lnTo>
                  <a:pt x="204" y="523"/>
                </a:lnTo>
                <a:lnTo>
                  <a:pt x="187" y="532"/>
                </a:lnTo>
                <a:lnTo>
                  <a:pt x="113" y="539"/>
                </a:lnTo>
                <a:lnTo>
                  <a:pt x="48" y="508"/>
                </a:lnTo>
                <a:lnTo>
                  <a:pt x="32" y="478"/>
                </a:lnTo>
                <a:lnTo>
                  <a:pt x="34" y="440"/>
                </a:lnTo>
                <a:lnTo>
                  <a:pt x="48" y="346"/>
                </a:lnTo>
                <a:lnTo>
                  <a:pt x="41" y="262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-43200" y="1343880"/>
            <a:ext cx="9230400" cy="2722680"/>
            <a:chOff x="-43200" y="1343880"/>
            <a:chExt cx="9230400" cy="2722680"/>
          </a:xfrm>
        </p:grpSpPr>
        <p:sp>
          <p:nvSpPr>
            <p:cNvPr id="88" name=""/>
            <p:cNvSpPr txBox="1"/>
            <p:nvPr/>
          </p:nvSpPr>
          <p:spPr>
            <a:xfrm rot="136200">
              <a:off x="0" y="1523880"/>
              <a:ext cx="9144000" cy="2362320"/>
            </a:xfrm>
            <a:prstGeom prst="rect">
              <a:avLst/>
            </a:prstGeom>
          </p:spPr>
          <p:txBody>
            <a:bodyPr wrap="none" fromWordArt="1" lIns="90000" rIns="90000" tIns="46800" bIns="46800" anchor="t">
              <a:prstTxWarp prst="textArchUp">
                <a:avLst>
                  <a:gd name="adj" fmla="val 117267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00ff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盼望着，盼望着，东风来了，春天的脚步近了。</a:t>
              </a:r>
              <a:endParaRPr b="1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960" y="2133720"/>
              <a:ext cx="30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3200" y="1981080"/>
              <a:ext cx="30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6200" y="1752480"/>
              <a:ext cx="30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63400" y="1676520"/>
              <a:ext cx="30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20800" y="1676520"/>
              <a:ext cx="30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3480" y="2133720"/>
              <a:ext cx="30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DLB056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-1143000" y="2819520"/>
            <a:ext cx="9982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2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        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一切都像刚睡醒的样子，欣欣然张开了眼。山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润起来了，水涨起来了，太阳的脸红起来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未命名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5400000">
            <a:off x="-1333800" y="163836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0912"/>
                <a:gd name="adj2" fmla="val 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33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楷体_GB2312"/>
              </a:rPr>
              <a:t>春草图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99ff33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0" name=""/>
          <p:cNvSpPr/>
          <p:nvPr/>
        </p:nvSpPr>
        <p:spPr>
          <a:xfrm>
            <a:off x="1751040" y="4648320"/>
            <a:ext cx="570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小草偷偷地从土里钻出来，嫩嫩的，绿绿的。园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里，田野里，瞧去，一大片一大片满是的。坐着，躺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打两个滚，踢几脚球，赛几趟跑，捉几回迷藏。风轻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悄的，草软绵绵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未命名" descr=""/>
          <p:cNvPicPr/>
          <p:nvPr/>
        </p:nvPicPr>
        <p:blipFill>
          <a:blip r:embed="rId1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03" name="未命名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蝴蝶" descr=""/>
          <p:cNvPicPr/>
          <p:nvPr/>
        </p:nvPicPr>
        <p:blipFill>
          <a:blip r:embed="rId3"/>
          <a:stretch/>
        </p:blipFill>
        <p:spPr>
          <a:xfrm>
            <a:off x="914400" y="380880"/>
            <a:ext cx="2066760" cy="2362320"/>
          </a:xfrm>
          <a:prstGeom prst="rect">
            <a:avLst/>
          </a:prstGeom>
          <a:ln w="0">
            <a:noFill/>
          </a:ln>
        </p:spPr>
      </p:pic>
      <p:pic>
        <p:nvPicPr>
          <p:cNvPr id="105" name="黄蜂" descr=""/>
          <p:cNvPicPr/>
          <p:nvPr/>
        </p:nvPicPr>
        <p:blipFill>
          <a:blip r:embed="rId4"/>
          <a:stretch/>
        </p:blipFill>
        <p:spPr>
          <a:xfrm>
            <a:off x="914400" y="4648320"/>
            <a:ext cx="923760" cy="1012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334120" y="0"/>
            <a:ext cx="3124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春花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07" name=""/>
          <p:cNvSpPr/>
          <p:nvPr/>
        </p:nvSpPr>
        <p:spPr>
          <a:xfrm>
            <a:off x="5615280" y="1371600"/>
            <a:ext cx="274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桃树、杏树、梨树，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不让我，我不让你，都开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了花赶趟儿。红的像火，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的像霞，白的像雪。花里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着甜味儿；闭了眼，树上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佛已经满是桃儿、杏儿、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儿。花下成千成百的蜜蜂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嗡地闹着，大小的蝴蝶飞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飞去。野花遍地是：杂样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有名字的，没名字的，散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草丛里像眼睛，像星星，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黑体"/>
              </a:rPr>
              <a:t>眨呀眨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05:19:42Z</dcterms:created>
  <dc:creator/>
  <dc:description/>
  <dc:language>en-US</dc:language>
  <cp:lastModifiedBy>林123</cp:lastModifiedBy>
  <dcterms:modified xsi:type="dcterms:W3CDTF">2015-08-06T13:18:49Z</dcterms:modified>
  <cp:revision>80</cp:revision>
  <dc:subject/>
  <dc:title>幻灯片 1</dc:title>
</cp:coreProperties>
</file>