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5.wmf" ContentType="image/x-wmf"/>
  <Override PartName="/ppt/media/image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3DA-8C43-42F4-AF1D-178EF787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738-024A-4354-BD9E-76F309CF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654-9AD1-41E8-9DD7-04496D1D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802-B79B-43BE-9CED-D92BACF7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CE60-A80A-4CFF-9740-415E5B7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C2D-DAFC-456F-AD26-D3BFFAA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123C-82C7-497B-A1AA-E53500D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D8F-C4EF-4CD7-9AE0-57437ACE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32FB-D750-410C-A1AD-475EDB6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2A52-9821-4FE8-888B-915941E7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631E-5CA3-4146-AAFB-E09FE39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79B-94AE-4789-9E8C-384B135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05A-9DBA-4837-88A2-7828F6B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E2B-4A06-4C94-97D5-5D5655D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9093-FE32-45D0-9058-A7435B8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AB3-8800-4799-9B99-3E379771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74E6-F5B2-4B34-8CD3-6F5E9517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8224-5A2E-4316-9EC4-8B343292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C93C-F17F-4C49-8FC3-7A4ED7E1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E217-6D77-433B-BA17-9DE1EDC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B8BD-A261-4CFC-A4A4-18FA866E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8598-9C5F-4F93-AE7D-0CCADCA0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6CE-F801-4C06-AC79-3C6E628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1CB6-CA20-4A77-A84C-E896CD8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09CC-2898-4B2E-AAB8-59546A0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42AB-A941-42AE-BB91-85F9CF1E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E598-B000-44E2-920A-3D058A9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9DDE-4658-4742-9E5A-0132B48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0314-FCF2-4410-B1F1-FFF64445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769D-7A06-498B-85F8-4BCF82BA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3E7C-5259-4E2B-BEE4-FE95F100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F9F18-65D0-43D3-AADC-3E397DE8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F981-75B0-4659-99A3-5191E1F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BCE-6800-494E-AFC0-A3CC9F97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43CE-94C6-4CBC-B9F2-6304AFE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5F1F-9B1B-4BC9-B8A4-B3D9667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7B80-64C5-4DE4-8026-9169236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2613-0EAF-41E8-B239-EAF2315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A9A4-9061-4A33-A36C-67350A5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7C73-A219-4768-8C10-6DF1B24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B889-F037-46C4-88F7-2E9C4DF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59D6-3173-4142-9960-2DB89B6F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77C3-B9EC-4AA8-A582-1B0291AB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82-83F6-406D-8AA7-208125D1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D1B-9878-4AC2-9520-487E7CC2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6B2-459F-4C69-A382-CC9B373B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B3B-E283-4E01-8B6A-C822A7DF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77E-E5E2-4E3A-B926-DDCA32F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6617-3A4F-4730-BA78-F74E643F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207-34B9-48A5-8433-A020D64EF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AEA-634B-4049-BC33-5B0A44AF62C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E9C-0827-47CF-9129-515F103F837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0" y="4724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老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692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济南的冬天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"/>
            <a:ext cx="9144000" cy="304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791320"/>
            <a:ext cx="9144000" cy="304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70560" y="5045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1560" y="30492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雪后山景之“妙”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14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妙在雪光、雪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505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山尖全白了，给蓝天镶上一道银边”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95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一道儿白，一道儿暗黄，给山们穿上一件带水纹的花衣”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2057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山上的矮松越发的青黑，树尖上顶着一髻儿白花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20574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楷体_GB2312"/>
              </a:rPr>
              <a:t>松的翠与雪的白相映生色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358128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楷体_GB2312"/>
              </a:rPr>
              <a:t>如洗的蓝天与似银的雪相映生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5181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楷体_GB2312"/>
              </a:rPr>
              <a:t>白雪与暗黄的草色，组成彩色的美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2120" y="533520"/>
            <a:ext cx="3581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妙在雪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828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这件花衣好像被风儿吹动，叫你希望看见一点更美的山的肌肤”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那点薄雪好像忽然害了羞，微微露出点粉色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209680"/>
            <a:ext cx="3124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以动写静，写出动人的形态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48280" y="4114800"/>
            <a:ext cx="409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把薄雪比喻成害羞的少女，写出雪的情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写作特点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75720" y="161604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 Black"/>
                <a:ea typeface="黑体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Arial Black"/>
                <a:ea typeface="黑体"/>
              </a:rPr>
              <a:t>．善用比喻和拟人，准确而恰到好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06640" y="307512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Arial Black"/>
                <a:ea typeface="黑体"/>
              </a:rPr>
              <a:t>．寓情于景，情景交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1800" y="4200480"/>
            <a:ext cx="7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  <a:ea typeface="黑体"/>
              </a:rPr>
              <a:t>3</a:t>
            </a:r>
            <a:r>
              <a:rPr b="1" lang="zh-CN" sz="3200" spc="-1" strike="noStrike">
                <a:solidFill>
                  <a:srgbClr val="800080"/>
                </a:solidFill>
                <a:latin typeface="Arial Black"/>
                <a:ea typeface="黑体"/>
              </a:rPr>
              <a:t>．直接抒情，展开想象，抒发热爱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348000" y="620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写作借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809720"/>
            <a:ext cx="9144000" cy="5022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欣赏山川美景，捕捉创造激情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 rot="5400000">
            <a:off x="-1692360" y="2241360"/>
            <a:ext cx="475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86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抢答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70028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《济南的冬天》的作者是＿＿，原名＿＿＿ 字＿＿＿。代表作有小说＿＿＿＿＿＿＿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话剧＿＿＿＿＿＿＿＿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0920" y="170028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老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6200" y="155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舒庆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4560" y="2131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舍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2131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《骆驼祥子》《四世同堂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6560" y="2708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《茶馆》《龙须沟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2205000"/>
            <a:ext cx="67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济南冬天的总特点是＿＿＿＿，作者通过济南和＿＿＿、＿＿＿、＿＿＿的对比得出这个结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206064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温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256536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北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56536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伦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767600">
            <a:off x="5219280" y="256428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热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184464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在描写济南的冬天时描绘了四幅面，它们分别是：阳光朗照下的山，突出其＿＿＿＿＿＿的特点；薄雪覆盖下的山，突出其＿＿＿＿的特点；城外的远山，突出其＿＿＿＿的特点和＿＿＿＿＿＿，突出其暖、清、绿、亮的特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7d7d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6478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暖和安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35114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淡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35114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济南冬天的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2560" y="30798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秀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998880" y="3228840"/>
            <a:ext cx="1146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1125360"/>
            <a:ext cx="63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Arial"/>
              </a:rPr>
              <a:t>用课文中的语言或你掌握的诗词给图片配上合适的文字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98880" y="3228840"/>
            <a:ext cx="1146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-119160"/>
            <a:ext cx="11017080" cy="6977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70560" y="5045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80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四：拓展延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、试以导游的身份，给一个将在冬天前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济南的旅客讲冬天之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、写出你的家乡冬天最有特点的景物，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着运用本课知识点“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移步换景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”和“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拟人、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喻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-14400" y="23760"/>
            <a:ext cx="9172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39400" y="2819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山上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28195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山尖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28195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山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2926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隶书"/>
              </a:rPr>
              <a:t>按空间顺序——从上到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28195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山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3284640"/>
            <a:ext cx="647640" cy="0"/>
          </a:xfrm>
          <a:prstGeom prst="line">
            <a:avLst/>
          </a:prstGeom>
          <a:ln w="698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284640"/>
            <a:ext cx="647640" cy="0"/>
          </a:xfrm>
          <a:prstGeom prst="line">
            <a:avLst/>
          </a:prstGeom>
          <a:ln w="698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284640"/>
            <a:ext cx="647640" cy="0"/>
          </a:xfrm>
          <a:prstGeom prst="line">
            <a:avLst/>
          </a:prstGeom>
          <a:ln w="698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按怎样的顺序来描写雪后的山景，每一个细部在写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1989000"/>
            <a:ext cx="1368360" cy="609840"/>
          </a:xfrm>
          <a:prstGeom prst="cloudCallout">
            <a:avLst>
              <a:gd name="adj1" fmla="val -3249"/>
              <a:gd name="adj2" fmla="val 11015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色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916280"/>
            <a:ext cx="1441440" cy="576000"/>
          </a:xfrm>
          <a:prstGeom prst="cloudCallout">
            <a:avLst>
              <a:gd name="adj1" fmla="val 1212"/>
              <a:gd name="adj2" fmla="val 11638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矮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1197000"/>
            <a:ext cx="2521080" cy="1800360"/>
          </a:xfrm>
          <a:prstGeom prst="cloudCallout">
            <a:avLst>
              <a:gd name="adj1" fmla="val -35893"/>
              <a:gd name="adj2" fmla="val 7962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雪色和草色相间的美景及联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1700280"/>
            <a:ext cx="1295280" cy="1224000"/>
          </a:xfrm>
          <a:prstGeom prst="cloudCallout">
            <a:avLst>
              <a:gd name="adj1" fmla="val -61152"/>
              <a:gd name="adj2" fmla="val 6063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光与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227480" y="3278160"/>
            <a:ext cx="6890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85e43"/>
                </a:solidFill>
                <a:latin typeface="Arial"/>
              </a:rPr>
              <a:t>探究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本段围绕一个“妙”字写，那么雪后山景“妙在何处呢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00:57Z</dcterms:created>
  <dc:creator>Administrator</dc:creator>
  <dc:description/>
  <cp:keywords/>
  <dc:language>en-US</dc:language>
  <cp:lastModifiedBy>林123</cp:lastModifiedBy>
  <dcterms:modified xsi:type="dcterms:W3CDTF">2015-08-06T12:46:4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4</vt:lpwstr>
  </property>
</Properties>
</file>