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569C-5F2F-4FB9-915A-5935D0F4F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5E0-9065-4CB2-B274-23BC5F25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C2C97-B26F-43DD-93CA-C77DEDC5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2A3F7-A11F-4A8B-AAEA-242A9E9A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1BB9F-EBC2-4F2B-B4D4-37712F36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36BF0-9E4B-4D4A-889A-02A6948B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88BD8-2917-4A45-8F0D-61F2F5D1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9F77B-2D75-49CD-AFA9-9B437F4B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20B35E-969C-4598-B470-F1015A75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9AE4F-27A7-4865-994F-28B3673E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68E1B-3AF1-4478-95F3-19EC39DE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DB06F-5CF6-441D-A432-97BB8FCB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328-FCD0-4497-A5D8-018A34DD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DA679-7283-4290-BD77-D785B7F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76233-BA79-42C8-90AC-0A991C4F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20055-8DF7-4EFE-B55C-48903F17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D0349-EC26-4B22-9D6B-E6C8505B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53709-DB76-4C7A-B72F-5D792099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6EDAC-FC8D-4AB1-AA23-FD3E9B92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BCFE1-A9F4-4BBA-BE73-69BF9D47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5FA32-727E-415A-8671-3CE5D29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101C5-9627-4018-B88C-88DDCB3E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78187-EBF1-40E0-BFA2-DE648788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283-07BB-4119-8DBF-0A99FD37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1FF70-6504-40C2-8F3C-1D6A40CB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FA923-808B-4034-A883-523AE9B7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04B31-10D1-4182-8F83-BFF5D783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EA75B-25E5-4595-970B-45BFE33B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DDFD0-9C5D-4773-8CA1-CF33D86E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32830-196C-49AD-A782-A3A7E4D5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0B586-279C-4017-9203-1344AF56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6EF57A-8A41-4A28-A994-BDBB3367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55CE7-94C5-4305-8301-11976AAF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5586A-09F7-4E27-8B85-F3B68759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A0DD-E6AD-4901-AA2E-23ADBDAF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36B24-9515-456E-9B06-15E8DDF9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A62D7-C7CA-4A24-B585-0FD49768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15F30-37E8-463E-9EF9-891FD934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0866F-02DA-4285-A24B-E32A4AA4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AF391-8CF4-4F28-9E3A-BA0B913B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8DAC7-CC0D-4FFF-8BE7-C27407AD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3E3D8-77FC-4F9B-85E8-9C0E682E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66815-A30B-4FC5-88B3-0C846498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3ED50-E669-4963-9C32-D079E568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F68F6-C1D9-4D22-90C8-14D1CF6E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85DA-ABF7-4D29-8770-1377B9CD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D4E9C-96B1-49C0-A9BC-72D30C37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9DC8D-C7FF-4080-ACF7-F954947D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E359F-9FF2-48FB-BC9E-0022E7A0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A2CBB-75D4-451F-BE1E-37728AD3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D4A2E-8C04-4FC7-85AE-4E78EBBB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7A1A5-0135-457E-8049-B7715BE2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978D9-BD4F-4613-BAA4-35069C95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97D4E-5998-4A9E-8376-3F898A8B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F0889-199A-4842-940C-149F1624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BF01C-25C9-4AAB-897B-00736EE3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BA23-8C71-444A-A1D9-A6914CB3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5600F-9D4D-45E4-864A-6B20D3A6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79841-F301-48A3-9B2F-1188B814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66D17-6C4D-4F7F-8AF5-05E016EE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1A078-3CAD-4262-9ADE-2440232E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D7924-ADF6-4761-AEBA-8B6F5251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93A6C5-4845-4091-98E4-CB3A6544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A27A25-9C39-41F5-806E-5F872FD0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EF9C9C-0A13-4FC9-8EA3-A8853676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83343-AEAC-454F-A912-F46F1AE7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5046D-89CD-4B04-928B-E3E6859F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C349-C0EB-4680-924E-F15BE7AA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925564-A324-4BF3-966A-935246B2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CFEF4A-7EA5-49CD-97C5-796D90BF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950AFD-3774-4653-BC85-DB5E4941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555EF1-9A23-48D6-8E0F-57AFEFBB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C8D9B-A8EA-46B5-A0E4-420C01F1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245AD-6203-4BF6-A852-BBE8FFDD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0B253F-D002-412E-88FC-FDD6EA27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D2CDA-B9CA-49B4-A63B-C558500E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5AC2FC-142D-4F3D-B8BC-CBB368D5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B66609-E0E1-4EA4-A1D5-650703C2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B025-9FF2-472F-B72B-7BC6472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3EC36-4240-4110-BC3D-594BBE82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ADFC7-CB1D-4516-99A5-0E87C78E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11A171-4DBF-4ADC-80D4-57D5FB7C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3EABE-EE3E-4342-87B2-EBBEDE0D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354CC-5049-44A1-8074-956EFA82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B375D-058A-4FC1-BAE5-24D65E8F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49468-3C9B-4329-9913-07AB91C7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D678E5-53A9-4D9E-9F48-E8BC0554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FA6527-2600-44E0-8332-D6754F28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90BCB9-D49E-45B2-8FDC-CFA27C33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6B50-CE67-408A-9950-CE55F218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5096F-2866-4511-A74E-EC59C7D2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0895-D12E-4779-99FC-10243F8C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12F-9A24-4FD8-A463-007343B7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CD9E5-BE6B-44E2-91F5-25F97A7E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0619-1526-4B81-88D1-14B23359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071D-41CF-4928-ACF8-B3CA8C4A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BDFB-1D4E-4077-9D9A-EA06660C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D103-CB46-4B5B-A1F8-18418A96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0E179-6523-4029-9E36-099C84454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DCA09-8B8A-4AF1-8191-71227CA6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3B9E5-5D3B-4154-97C9-D6B241AD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A7394-5714-44E9-9A16-D23C523C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EF5CA-8B76-4B6D-AFFB-3065CEC4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C83-4ADD-4BFF-A7F9-3802810F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F2B3-1C12-4802-8A99-11F321BF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89B25-B9A2-4645-92A2-0C15D5BE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A041-C366-4D86-B023-D60DD8F1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A67BC-A114-448B-962D-B04FDF3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6F17B-27BB-45F5-B16A-B5482244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70EC-433C-46C3-BC6D-CEBF61B13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3112-2D13-4D1A-A96D-8B44ED00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F8494-4086-486A-83A9-BE6CFEF9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8AFAA-6150-48F2-8B4C-106A08DF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780F3-F967-4F75-96B2-AEF6AF51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0AD-4AB0-4154-829F-B310B89B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119B7-EEF5-4932-B6E2-828BA6A7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57CE5-B3A7-4C60-8EAD-A6C28AFE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A0653-688B-4051-96C5-7200AFD7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EFA48-66CD-427C-860B-40E0F56C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04913-930D-4765-9ACE-873D327A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A51A-E475-4569-BDD1-CE3A8136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AA972-E76F-49EB-AB82-E1222238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CFBC7-7A60-47CC-8509-91C6AC18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499C-2D78-443F-B53E-A9DFFD8F1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ECDAA-E2DE-4F41-819D-2C3B103E6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496-24F8-4B53-9F76-B9C13969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6DC3-82AF-4D5E-9172-8760421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6119C-8629-4B3F-93D6-733B400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E6AD-919B-4226-8341-19F1F46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D04EB-068E-40A4-974F-4F3AB223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53C3F-75A4-4C5B-8E94-482B482F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FD66-8F83-46BF-A7C1-5FFBB1A9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2898-ED54-407A-82BF-4C121F6B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0AB08-A389-4819-A4C2-3B1A6FC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26E74-0361-4A3E-9596-3FF5D85C8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FEDD5-219C-4D68-8B8A-321D1443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BE2E-D05A-4E32-98DC-8A998743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30277-230C-4B33-85A2-D36AEA6B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53310-D310-4E2A-B37C-DCEA477F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6A8EC-9343-4418-ABEE-EB9424F4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B8950-F751-46B7-B87F-900654A3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0FBA6-473F-4BCF-BEBE-60F4F095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31298-9E11-48C5-B886-D5271C23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DDC34-4613-4DF0-AB19-1A52671D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E4E60-0D0E-4301-BC7B-14A9858B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576D9-4B16-480B-9D0B-8D2DE799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9A110-753E-4B61-90B8-9A3257AF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41D-AE34-4F74-A7CA-8598FA0C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58129-8E11-4C70-92A2-DE80414E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54B43D-86D7-47A7-B241-FE0413AA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475D9-FA11-43E1-8972-9644BF6C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7D1E5-8277-433C-B634-F3BBFE34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287F-FD04-4E0D-BC56-356C55CA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30D0F-F189-4A87-AD01-0DDE777D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A539B-A876-4BC3-9F2B-87017A40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11207-2BE3-4395-AEB6-CBC93693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00BC3-BC01-4ECA-9D4E-12B3B14B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61C304-239E-4F99-8D02-44F5133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388-736D-4AC6-94CE-49936F30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01A9-DD7F-478D-87FA-35D6A0CC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49B1B-7FC5-4A21-BD07-31BF31A5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5BCDF-645B-4606-BD83-3CA4FE2D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85E50-9241-4BD1-A5EB-BB428490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739DB-AF77-4F00-ABB4-214C56C4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CFE03-C4FC-41D1-8F2A-E62B6675F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538D9-BADC-4AD5-B3E1-F6B3DD9F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82EBA-0B37-489F-8109-69C89D4E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04ED4-356B-4DC1-B8FC-FF4E7567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5B1F7-C947-482D-890C-FAB764ED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DED-B4EB-4E20-889A-F1E5F9BC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93A8D-447F-4752-BA6F-512DDE14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23711-FB59-4BEF-8D5C-B340026D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E518F-2A67-4709-9843-1B1D9D96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17EF-B717-4ACA-8848-D0256B46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D0CF7-4D63-4636-83B4-0DC982F9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64B35-A1BE-4BAC-88BB-43F6078F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1FE67-0511-4D15-9C9F-B5237006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6B3F9-14A4-46B8-8975-1A6B84F4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E9D9F-5624-4D6B-9DBA-54688F08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DC6C1-A86B-4294-99BB-B7D1CF97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51AC-E3E9-4DC6-B273-9B3E82E00A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FAED-3ECC-4DF0-8235-246D108A2B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BC03-7A03-4308-973A-F5F5B7C7CE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F6A9-42D9-4C93-8E6A-61E98CEA18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F92A-7AD9-4FC2-8FFD-DB6339B581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63E8-D31A-4221-AB1D-D340DD6996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DED2-1D3C-4205-B28A-14ECB75974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3899-578E-4781-9235-5E106818F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7417-6931-49B9-B22B-5D9C2633BB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4294-9DCA-451D-96AA-3BA86CABD0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DFE9-A29A-4254-8278-2E8791A446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9CF1-3792-4646-83C7-D3D4A07EBAA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158E-B0BD-4810-B3B0-5146AC5B65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15A2-6AD7-4B4D-9807-5F2E471B4B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686C-9BAF-4321-B4F0-54D686034F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Text_1"/>
          <p:cNvSpPr/>
          <p:nvPr/>
        </p:nvSpPr>
        <p:spPr>
          <a:xfrm>
            <a:off x="735120" y="466884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SubTitle_1">
            <a:hlinkClick r:id="rId1" action="ppaction://hlinksldjump"/>
          </p:cNvPr>
          <p:cNvSpPr/>
          <p:nvPr/>
        </p:nvSpPr>
        <p:spPr>
          <a:xfrm>
            <a:off x="73332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Other_1"/>
          <p:cNvSpPr/>
          <p:nvPr/>
        </p:nvSpPr>
        <p:spPr>
          <a:xfrm>
            <a:off x="21607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Text_2"/>
          <p:cNvSpPr/>
          <p:nvPr/>
        </p:nvSpPr>
        <p:spPr>
          <a:xfrm>
            <a:off x="2700360" y="46530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SubTitle_2">
            <a:hlinkClick r:id="rId2" action="ppaction://hlinksldjump"/>
          </p:cNvPr>
          <p:cNvSpPr/>
          <p:nvPr/>
        </p:nvSpPr>
        <p:spPr>
          <a:xfrm>
            <a:off x="2722680" y="4940280"/>
            <a:ext cx="16650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Other_2"/>
          <p:cNvSpPr/>
          <p:nvPr/>
        </p:nvSpPr>
        <p:spPr>
          <a:xfrm>
            <a:off x="275760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MH_Other_3"/>
          <p:cNvSpPr/>
          <p:nvPr/>
        </p:nvSpPr>
        <p:spPr>
          <a:xfrm>
            <a:off x="419112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MH_Text_3"/>
          <p:cNvSpPr/>
          <p:nvPr/>
        </p:nvSpPr>
        <p:spPr>
          <a:xfrm>
            <a:off x="4730760" y="4667400"/>
            <a:ext cx="166680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MH_SubTitle_3">
            <a:hlinkClick r:id="rId3" action="ppaction://hlinksldjump"/>
          </p:cNvPr>
          <p:cNvSpPr/>
          <p:nvPr/>
        </p:nvSpPr>
        <p:spPr>
          <a:xfrm>
            <a:off x="4730760" y="494028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MH_Other_4"/>
          <p:cNvSpPr/>
          <p:nvPr/>
        </p:nvSpPr>
        <p:spPr>
          <a:xfrm>
            <a:off x="4788000" y="5108400"/>
            <a:ext cx="1699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Other_5"/>
          <p:cNvSpPr/>
          <p:nvPr/>
        </p:nvSpPr>
        <p:spPr>
          <a:xfrm>
            <a:off x="6189840" y="511164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MH_Text_4"/>
          <p:cNvSpPr/>
          <p:nvPr/>
        </p:nvSpPr>
        <p:spPr>
          <a:xfrm>
            <a:off x="6738840" y="4667400"/>
            <a:ext cx="1665360" cy="105696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SubTitle_4">
            <a:hlinkClick r:id="rId4" action="ppaction://hlinksldjump"/>
          </p:cNvPr>
          <p:cNvSpPr/>
          <p:nvPr/>
        </p:nvSpPr>
        <p:spPr>
          <a:xfrm>
            <a:off x="6738840" y="494028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当堂检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Other_6"/>
          <p:cNvSpPr/>
          <p:nvPr/>
        </p:nvSpPr>
        <p:spPr>
          <a:xfrm>
            <a:off x="6788160" y="5108400"/>
            <a:ext cx="168120" cy="171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3093"/>
          <p:cNvGrpSpPr/>
          <p:nvPr/>
        </p:nvGrpSpPr>
        <p:grpSpPr>
          <a:xfrm>
            <a:off x="2097000" y="5064120"/>
            <a:ext cx="890640" cy="266760"/>
            <a:chOff x="2097000" y="5064120"/>
            <a:chExt cx="890640" cy="266760"/>
          </a:xfrm>
        </p:grpSpPr>
        <p:pic>
          <p:nvPicPr>
            <p:cNvPr id="603" name="MH_Other_7" descr=""/>
            <p:cNvPicPr/>
            <p:nvPr/>
          </p:nvPicPr>
          <p:blipFill>
            <a:blip r:embed="rId5"/>
            <a:stretch/>
          </p:blipFill>
          <p:spPr>
            <a:xfrm>
              <a:off x="2097000" y="506412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24"/>
            <p:cNvSpPr/>
            <p:nvPr/>
          </p:nvSpPr>
          <p:spPr>
            <a:xfrm>
              <a:off x="22082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MH_Other_8"/>
          <p:cNvSpPr/>
          <p:nvPr/>
        </p:nvSpPr>
        <p:spPr>
          <a:xfrm>
            <a:off x="21956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6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组合 3097"/>
          <p:cNvGrpSpPr/>
          <p:nvPr/>
        </p:nvGrpSpPr>
        <p:grpSpPr>
          <a:xfrm>
            <a:off x="4127400" y="5064120"/>
            <a:ext cx="888840" cy="266760"/>
            <a:chOff x="4127400" y="5064120"/>
            <a:chExt cx="888840" cy="266760"/>
          </a:xfrm>
        </p:grpSpPr>
        <p:pic>
          <p:nvPicPr>
            <p:cNvPr id="607" name="MH_Other_9" descr=""/>
            <p:cNvPicPr/>
            <p:nvPr/>
          </p:nvPicPr>
          <p:blipFill>
            <a:blip r:embed="rId7"/>
            <a:stretch/>
          </p:blipFill>
          <p:spPr>
            <a:xfrm>
              <a:off x="4127400" y="506412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Text Box 28"/>
            <p:cNvSpPr/>
            <p:nvPr/>
          </p:nvSpPr>
          <p:spPr>
            <a:xfrm>
              <a:off x="4238640" y="516672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MH_Other_10"/>
          <p:cNvSpPr/>
          <p:nvPr/>
        </p:nvSpPr>
        <p:spPr>
          <a:xfrm>
            <a:off x="422604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8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MH_Other_11" descr=""/>
          <p:cNvPicPr/>
          <p:nvPr/>
        </p:nvPicPr>
        <p:blipFill>
          <a:blip r:embed="rId9"/>
          <a:stretch/>
        </p:blipFill>
        <p:spPr>
          <a:xfrm>
            <a:off x="6126120" y="506412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1"/>
          <p:cNvSpPr/>
          <p:nvPr/>
        </p:nvSpPr>
        <p:spPr>
          <a:xfrm>
            <a:off x="6237360" y="516564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MH_Other_12"/>
          <p:cNvSpPr/>
          <p:nvPr/>
        </p:nvSpPr>
        <p:spPr>
          <a:xfrm>
            <a:off x="6224760" y="515304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10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3"/>
          <p:cNvSpPr/>
          <p:nvPr/>
        </p:nvSpPr>
        <p:spPr>
          <a:xfrm>
            <a:off x="5364000" y="620640"/>
            <a:ext cx="37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七年级语文上（</a:t>
            </a:r>
            <a:r>
              <a:rPr b="1" lang="en-US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1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文本框 4130"/>
          <p:cNvSpPr/>
          <p:nvPr/>
        </p:nvSpPr>
        <p:spPr>
          <a:xfrm>
            <a:off x="393840" y="2276640"/>
            <a:ext cx="781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21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皇帝的新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703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精读课文    细节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文本框 18434"/>
          <p:cNvSpPr/>
          <p:nvPr/>
        </p:nvSpPr>
        <p:spPr>
          <a:xfrm>
            <a:off x="304920" y="7621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故事情节发展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骗子们说了一句话起着关键的作用，找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，并说说它为什么是关键语句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8435"/>
          <p:cNvSpPr/>
          <p:nvPr/>
        </p:nvSpPr>
        <p:spPr>
          <a:xfrm>
            <a:off x="457200" y="228600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任何不称职的或愚蠢得不可救药的人，都看不见这衣服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8436"/>
          <p:cNvSpPr/>
          <p:nvPr/>
        </p:nvSpPr>
        <p:spPr>
          <a:xfrm>
            <a:off x="457200" y="2978280"/>
            <a:ext cx="84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句话，在故事情节发展中起着关键的推动作用。骗子胡说那衣服具有这样一种“奇怪的特性”，不但抓住了皇帝的昏庸荒政而又想辨别出官员是否称职、是聪明还是愚蠢，以求保住皇位的心理，而且抓住了大臣们只想保住官位的心理，因而骗术步步行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矩形 19457"/>
          <p:cNvSpPr/>
          <p:nvPr/>
        </p:nvSpPr>
        <p:spPr>
          <a:xfrm>
            <a:off x="1219320" y="298944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9458"/>
          <p:cNvSpPr/>
          <p:nvPr/>
        </p:nvSpPr>
        <p:spPr>
          <a:xfrm>
            <a:off x="600120" y="965160"/>
            <a:ext cx="781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根本不存在的“新装”面前，很多人都不敢说真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他们不敢说真话的原因是什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19459"/>
          <p:cNvSpPr/>
          <p:nvPr/>
        </p:nvSpPr>
        <p:spPr>
          <a:xfrm>
            <a:off x="898560" y="2349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大臣、“另外一位诚实的官员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19460"/>
          <p:cNvSpPr/>
          <p:nvPr/>
        </p:nvSpPr>
        <p:spPr>
          <a:xfrm>
            <a:off x="898560" y="2924280"/>
            <a:ext cx="53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别人说自己愚蠢，更怕丢了乌纱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19461"/>
          <p:cNvSpPr/>
          <p:nvPr/>
        </p:nvSpPr>
        <p:spPr>
          <a:xfrm>
            <a:off x="895320" y="369396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皇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19462"/>
          <p:cNvSpPr/>
          <p:nvPr/>
        </p:nvSpPr>
        <p:spPr>
          <a:xfrm>
            <a:off x="1814400" y="3679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别人说自己愚蠢，也怕丢了王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19463"/>
          <p:cNvSpPr/>
          <p:nvPr/>
        </p:nvSpPr>
        <p:spPr>
          <a:xfrm>
            <a:off x="1130400" y="4602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百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19464"/>
          <p:cNvSpPr/>
          <p:nvPr/>
        </p:nvSpPr>
        <p:spPr>
          <a:xfrm>
            <a:off x="4116600" y="4627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怕人嘲笑愚蠢；怕招杀身之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文本框 20481"/>
          <p:cNvSpPr/>
          <p:nvPr/>
        </p:nvSpPr>
        <p:spPr>
          <a:xfrm>
            <a:off x="858960" y="18860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孩子为什么敢说真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20482"/>
          <p:cNvSpPr/>
          <p:nvPr/>
        </p:nvSpPr>
        <p:spPr>
          <a:xfrm>
            <a:off x="1500120" y="2940120"/>
            <a:ext cx="5977080" cy="642600"/>
          </a:xfrm>
          <a:prstGeom prst="rect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因为小孩子单纯，天真活泼，不懂得人情世故无所顾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21505"/>
          <p:cNvSpPr/>
          <p:nvPr/>
        </p:nvSpPr>
        <p:spPr>
          <a:xfrm>
            <a:off x="896760" y="2349360"/>
            <a:ext cx="1965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皇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臣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骗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孩子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21506"/>
          <p:cNvSpPr/>
          <p:nvPr/>
        </p:nvSpPr>
        <p:spPr>
          <a:xfrm>
            <a:off x="2197080" y="234936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昏庸无能、爱慕虚荣、愚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21507"/>
          <p:cNvSpPr/>
          <p:nvPr/>
        </p:nvSpPr>
        <p:spPr>
          <a:xfrm>
            <a:off x="2214720" y="29257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虚伪愚昧、阿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ē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谀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yú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奉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21508"/>
          <p:cNvSpPr/>
          <p:nvPr/>
        </p:nvSpPr>
        <p:spPr>
          <a:xfrm>
            <a:off x="2926440" y="34448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狡猾伪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21509"/>
          <p:cNvSpPr/>
          <p:nvPr/>
        </p:nvSpPr>
        <p:spPr>
          <a:xfrm>
            <a:off x="2235240" y="3979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纯洁天真、无所顾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21510"/>
          <p:cNvSpPr/>
          <p:nvPr/>
        </p:nvSpPr>
        <p:spPr>
          <a:xfrm>
            <a:off x="611280" y="9968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概括出皇帝、大臣及官员、小孩的性格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文本框 22529"/>
          <p:cNvSpPr/>
          <p:nvPr/>
        </p:nvSpPr>
        <p:spPr>
          <a:xfrm>
            <a:off x="614520" y="717480"/>
            <a:ext cx="71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主要运用了什么艺术手法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22530"/>
          <p:cNvSpPr/>
          <p:nvPr/>
        </p:nvSpPr>
        <p:spPr>
          <a:xfrm>
            <a:off x="814320" y="3830760"/>
            <a:ext cx="765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作用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无情地鞭挞了至高无上的皇帝和道貌岸然的大臣，辛辣地嘲笑了他们的愚蠢虚伪卑鄙自私，曲折地反映了现实生活，反映了封建专制制度的腐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22531"/>
          <p:cNvSpPr/>
          <p:nvPr/>
        </p:nvSpPr>
        <p:spPr>
          <a:xfrm>
            <a:off x="831960" y="1422360"/>
            <a:ext cx="77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夸张与想象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文写出骗子用根本不存在的布料、衣服向皇帝行骗，写出皇帝和大臣们都甘愿受骗、并且骗人，最后写出皇帝赤裸全身在大街上游行，构成了丰富的想象和大胆的夸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图片 27649" descr="a3"/>
          <p:cNvPicPr/>
          <p:nvPr/>
        </p:nvPicPr>
        <p:blipFill>
          <a:blip r:embed="rId1"/>
          <a:stretch/>
        </p:blipFill>
        <p:spPr>
          <a:xfrm>
            <a:off x="1503360" y="1946160"/>
            <a:ext cx="6629400" cy="4068720"/>
          </a:xfrm>
          <a:prstGeom prst="rect">
            <a:avLst/>
          </a:prstGeom>
          <a:ln w="0">
            <a:noFill/>
          </a:ln>
        </p:spPr>
      </p:pic>
      <p:sp>
        <p:nvSpPr>
          <p:cNvPr id="732" name="矩形 27650"/>
          <p:cNvSpPr/>
          <p:nvPr/>
        </p:nvSpPr>
        <p:spPr>
          <a:xfrm>
            <a:off x="558720" y="85104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用夸张的手法，描述一下皇帝穿着新衣游行时装模作样的丑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文本框 1"/>
          <p:cNvSpPr/>
          <p:nvPr/>
        </p:nvSpPr>
        <p:spPr>
          <a:xfrm>
            <a:off x="876240" y="1825560"/>
            <a:ext cx="800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然骗子是最可恨的，但是在这里骗子其实就是一面“镜子”、一把“解剖刀”的角色。通过他们照出了皇帝及大小官吏们的丑恶灵魂，解剖了一个谎言充塞、欺骗成风的病态社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文本框 26626"/>
          <p:cNvSpPr/>
          <p:nvPr/>
        </p:nvSpPr>
        <p:spPr>
          <a:xfrm>
            <a:off x="393840" y="1270080"/>
            <a:ext cx="5461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展开想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26627"/>
          <p:cNvSpPr/>
          <p:nvPr/>
        </p:nvSpPr>
        <p:spPr>
          <a:xfrm>
            <a:off x="1427040" y="1633680"/>
            <a:ext cx="703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皇帝去游行时，两个骗子也混在人群中，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们之间将会有怎样的小声而又得意的对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文本框 26628"/>
          <p:cNvSpPr/>
          <p:nvPr/>
        </p:nvSpPr>
        <p:spPr>
          <a:xfrm>
            <a:off x="1467000" y="3173400"/>
            <a:ext cx="7173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皇帝游行完毕，在皇宫门口碰到两个骗子，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当堂检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组合 3"/>
          <p:cNvGrpSpPr/>
          <p:nvPr/>
        </p:nvGrpSpPr>
        <p:grpSpPr>
          <a:xfrm>
            <a:off x="684360" y="909720"/>
            <a:ext cx="1714320" cy="499680"/>
            <a:chOff x="684360" y="909720"/>
            <a:chExt cx="1714320" cy="499680"/>
          </a:xfrm>
        </p:grpSpPr>
        <p:sp>
          <p:nvSpPr>
            <p:cNvPr id="618" name="流程图: 文档 2"/>
            <p:cNvSpPr/>
            <p:nvPr/>
          </p:nvSpPr>
          <p:spPr>
            <a:xfrm>
              <a:off x="684360" y="95580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文本框 4101"/>
            <p:cNvSpPr/>
            <p:nvPr/>
          </p:nvSpPr>
          <p:spPr>
            <a:xfrm>
              <a:off x="684360" y="90972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"/>
          <p:cNvSpPr txBox="1"/>
          <p:nvPr/>
        </p:nvSpPr>
        <p:spPr>
          <a:xfrm>
            <a:off x="600120" y="1815840"/>
            <a:ext cx="822960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掌握童话以及安徒生的文学常识；积累生字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理清故事情节；分析人物形象；了解童话中夸张和想象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培养真诚、求实、不慕虚荣的品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10242" descr="丑小鸭"/>
          <p:cNvPicPr/>
          <p:nvPr/>
        </p:nvPicPr>
        <p:blipFill>
          <a:blip r:embed="rId1"/>
          <a:stretch/>
        </p:blipFill>
        <p:spPr>
          <a:xfrm>
            <a:off x="1042920" y="3500280"/>
            <a:ext cx="3313080" cy="244980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10243" descr="海的女儿"/>
          <p:cNvPicPr/>
          <p:nvPr/>
        </p:nvPicPr>
        <p:blipFill>
          <a:blip r:embed="rId2"/>
          <a:stretch/>
        </p:blipFill>
        <p:spPr>
          <a:xfrm>
            <a:off x="4716360" y="1197000"/>
            <a:ext cx="3311640" cy="223200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10244" descr="火柴"/>
          <p:cNvPicPr/>
          <p:nvPr/>
        </p:nvPicPr>
        <p:blipFill>
          <a:blip r:embed="rId3"/>
          <a:stretch/>
        </p:blipFill>
        <p:spPr>
          <a:xfrm>
            <a:off x="1042920" y="1268280"/>
            <a:ext cx="3313080" cy="208944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10247" descr="U529P18T90D43050F1532DT20041130104053"/>
          <p:cNvPicPr/>
          <p:nvPr/>
        </p:nvPicPr>
        <p:blipFill>
          <a:blip r:embed="rId4"/>
          <a:stretch/>
        </p:blipFill>
        <p:spPr>
          <a:xfrm>
            <a:off x="4716360" y="350028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626" name="文本框 1"/>
          <p:cNvSpPr/>
          <p:nvPr/>
        </p:nvSpPr>
        <p:spPr>
          <a:xfrm>
            <a:off x="1647720" y="819000"/>
            <a:ext cx="18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卖火柴的小女孩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2"/>
          <p:cNvSpPr/>
          <p:nvPr/>
        </p:nvSpPr>
        <p:spPr>
          <a:xfrm>
            <a:off x="5707800" y="720720"/>
            <a:ext cx="12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海的女儿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3"/>
          <p:cNvSpPr/>
          <p:nvPr/>
        </p:nvSpPr>
        <p:spPr>
          <a:xfrm>
            <a:off x="1942560" y="599904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丑小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4"/>
          <p:cNvSpPr/>
          <p:nvPr/>
        </p:nvSpPr>
        <p:spPr>
          <a:xfrm>
            <a:off x="5784120" y="5997600"/>
            <a:ext cx="12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拇指姑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预习课文    相关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组合 6147"/>
          <p:cNvGrpSpPr/>
          <p:nvPr/>
        </p:nvGrpSpPr>
        <p:grpSpPr>
          <a:xfrm>
            <a:off x="325440" y="334800"/>
            <a:ext cx="2232000" cy="794880"/>
            <a:chOff x="325440" y="334800"/>
            <a:chExt cx="2232000" cy="794880"/>
          </a:xfrm>
        </p:grpSpPr>
        <p:sp>
          <p:nvSpPr>
            <p:cNvPr id="637" name="矩形 7"/>
            <p:cNvSpPr/>
            <p:nvPr/>
          </p:nvSpPr>
          <p:spPr>
            <a:xfrm>
              <a:off x="885240" y="334800"/>
              <a:ext cx="1672200" cy="762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任意多边形 16"/>
            <p:cNvSpPr/>
            <p:nvPr/>
          </p:nvSpPr>
          <p:spPr>
            <a:xfrm>
              <a:off x="325440" y="6231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7"/>
            <p:cNvSpPr/>
            <p:nvPr/>
          </p:nvSpPr>
          <p:spPr>
            <a:xfrm>
              <a:off x="687240" y="57240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文本框 6151"/>
            <p:cNvSpPr/>
            <p:nvPr/>
          </p:nvSpPr>
          <p:spPr>
            <a:xfrm>
              <a:off x="1168560" y="609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检查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3"/>
          <p:cNvGrpSpPr/>
          <p:nvPr/>
        </p:nvGrpSpPr>
        <p:grpSpPr>
          <a:xfrm>
            <a:off x="684360" y="1268280"/>
            <a:ext cx="1714320" cy="499680"/>
            <a:chOff x="684360" y="1268280"/>
            <a:chExt cx="1714320" cy="499680"/>
          </a:xfrm>
        </p:grpSpPr>
        <p:sp>
          <p:nvSpPr>
            <p:cNvPr id="643" name="流程图: 文档 2"/>
            <p:cNvSpPr/>
            <p:nvPr/>
          </p:nvSpPr>
          <p:spPr>
            <a:xfrm>
              <a:off x="684360" y="1314360"/>
              <a:ext cx="1671840" cy="453600"/>
            </a:xfrm>
            <a:prstGeom prst="flowChartDocument">
              <a:avLst/>
            </a:prstGeom>
            <a:solidFill>
              <a:srgbClr val="228989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4101"/>
            <p:cNvSpPr/>
            <p:nvPr/>
          </p:nvSpPr>
          <p:spPr>
            <a:xfrm>
              <a:off x="684360" y="1268280"/>
              <a:ext cx="17143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走近作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图片 9219" descr="安徒生"/>
          <p:cNvPicPr/>
          <p:nvPr/>
        </p:nvPicPr>
        <p:blipFill>
          <a:blip r:embed="rId1"/>
          <a:stretch/>
        </p:blipFill>
        <p:spPr>
          <a:xfrm>
            <a:off x="563400" y="2135160"/>
            <a:ext cx="2227320" cy="337500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1"/>
          <p:cNvSpPr/>
          <p:nvPr/>
        </p:nvSpPr>
        <p:spPr>
          <a:xfrm>
            <a:off x="3065400" y="1238400"/>
            <a:ext cx="592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徒生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05—187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全名是：汉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克利斯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徒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丹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学巨匠，世界著名的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童话作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他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余篇童话在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中被翻译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开始写童话，著名的童话有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丑小鸭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海的女儿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卖火柴的小女孩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夜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皇帝的新装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1" descr=""/>
          <p:cNvPicPr/>
          <p:nvPr/>
        </p:nvPicPr>
        <p:blipFill>
          <a:blip r:embed="rId1"/>
          <a:stretch/>
        </p:blipFill>
        <p:spPr>
          <a:xfrm>
            <a:off x="2187720" y="1598760"/>
            <a:ext cx="4768560" cy="270972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2"/>
          <p:cNvSpPr/>
          <p:nvPr/>
        </p:nvSpPr>
        <p:spPr>
          <a:xfrm>
            <a:off x="2048040" y="3287880"/>
            <a:ext cx="51163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96666"/>
                </a:solidFill>
                <a:latin typeface="微软雅黑"/>
                <a:ea typeface="微软雅黑"/>
              </a:rPr>
              <a:t>初读课文    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文本框 11265"/>
          <p:cNvSpPr/>
          <p:nvPr/>
        </p:nvSpPr>
        <p:spPr>
          <a:xfrm>
            <a:off x="676440" y="2298600"/>
            <a:ext cx="480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童话是儿童文学的一种，它通过丰富的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想象、幻想、夸张、拟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等艺术手法来塑造形象，反映社会生活，对儿童进行思想教育。语言通俗易懂，情节曲折离奇，引人入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图片 11266" descr="a2"/>
          <p:cNvPicPr/>
          <p:nvPr/>
        </p:nvPicPr>
        <p:blipFill>
          <a:blip r:embed="rId1"/>
          <a:stretch/>
        </p:blipFill>
        <p:spPr>
          <a:xfrm>
            <a:off x="5940360" y="1971720"/>
            <a:ext cx="2764080" cy="3562200"/>
          </a:xfrm>
          <a:prstGeom prst="rect">
            <a:avLst/>
          </a:prstGeom>
          <a:ln w="0">
            <a:noFill/>
          </a:ln>
        </p:spPr>
      </p:pic>
      <p:sp>
        <p:nvSpPr>
          <p:cNvPr id="654" name="矩形 11267"/>
          <p:cNvSpPr txBox="1"/>
          <p:nvPr/>
        </p:nvSpPr>
        <p:spPr>
          <a:xfrm>
            <a:off x="1676520" y="1135080"/>
            <a:ext cx="1962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童话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6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16387"/>
          <p:cNvGrpSpPr/>
          <p:nvPr/>
        </p:nvGrpSpPr>
        <p:grpSpPr>
          <a:xfrm>
            <a:off x="969840" y="839880"/>
            <a:ext cx="5905440" cy="459720"/>
            <a:chOff x="969840" y="839880"/>
            <a:chExt cx="5905440" cy="459720"/>
          </a:xfrm>
        </p:grpSpPr>
        <p:sp>
          <p:nvSpPr>
            <p:cNvPr id="657" name="文本框 16388">
              <a:hlinkClick r:id="rId1" action="ppaction://hlinksldjump"/>
            </p:cNvPr>
            <p:cNvSpPr/>
            <p:nvPr/>
          </p:nvSpPr>
          <p:spPr>
            <a:xfrm>
              <a:off x="969840" y="8398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爱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16389"/>
            <p:cNvSpPr/>
            <p:nvPr/>
          </p:nvSpPr>
          <p:spPr>
            <a:xfrm>
              <a:off x="4425840" y="83988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一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16390"/>
            <p:cNvSpPr/>
            <p:nvPr/>
          </p:nvSpPr>
          <p:spPr>
            <a:xfrm>
              <a:off x="2871000" y="83988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引子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16391"/>
          <p:cNvGrpSpPr/>
          <p:nvPr/>
        </p:nvGrpSpPr>
        <p:grpSpPr>
          <a:xfrm>
            <a:off x="969840" y="1703520"/>
            <a:ext cx="5682600" cy="459720"/>
            <a:chOff x="969840" y="1703520"/>
            <a:chExt cx="5682600" cy="459720"/>
          </a:xfrm>
        </p:grpSpPr>
        <p:sp>
          <p:nvSpPr>
            <p:cNvPr id="661" name="文本框 16392">
              <a:hlinkClick r:id="rId2" action="ppaction://hlinksldjump"/>
            </p:cNvPr>
            <p:cNvSpPr/>
            <p:nvPr/>
          </p:nvSpPr>
          <p:spPr>
            <a:xfrm>
              <a:off x="969840" y="170352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做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16393"/>
            <p:cNvSpPr/>
            <p:nvPr/>
          </p:nvSpPr>
          <p:spPr>
            <a:xfrm>
              <a:off x="4703760" y="1703520"/>
              <a:ext cx="194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第二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四段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矩形 16394"/>
            <p:cNvSpPr/>
            <p:nvPr/>
          </p:nvSpPr>
          <p:spPr>
            <a:xfrm>
              <a:off x="2799360" y="170352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开端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组合 16395"/>
          <p:cNvGrpSpPr/>
          <p:nvPr/>
        </p:nvGrpSpPr>
        <p:grpSpPr>
          <a:xfrm>
            <a:off x="969840" y="2568600"/>
            <a:ext cx="6229440" cy="459720"/>
            <a:chOff x="969840" y="2568600"/>
            <a:chExt cx="6229440" cy="459720"/>
          </a:xfrm>
        </p:grpSpPr>
        <p:sp>
          <p:nvSpPr>
            <p:cNvPr id="665" name="文本框 16396"/>
            <p:cNvSpPr/>
            <p:nvPr/>
          </p:nvSpPr>
          <p:spPr>
            <a:xfrm>
              <a:off x="969840" y="25686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看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矩形 16397"/>
            <p:cNvSpPr/>
            <p:nvPr/>
          </p:nvSpPr>
          <p:spPr>
            <a:xfrm>
              <a:off x="4897080" y="256860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五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第二十二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矩形 16398"/>
            <p:cNvSpPr/>
            <p:nvPr/>
          </p:nvSpPr>
          <p:spPr>
            <a:xfrm>
              <a:off x="2871000" y="2568600"/>
              <a:ext cx="9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发展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16399"/>
          <p:cNvGrpSpPr/>
          <p:nvPr/>
        </p:nvGrpSpPr>
        <p:grpSpPr>
          <a:xfrm>
            <a:off x="993600" y="3255840"/>
            <a:ext cx="7619760" cy="478800"/>
            <a:chOff x="993600" y="3255840"/>
            <a:chExt cx="7619760" cy="478800"/>
          </a:xfrm>
        </p:grpSpPr>
        <p:sp>
          <p:nvSpPr>
            <p:cNvPr id="669" name="文本框 16400"/>
            <p:cNvSpPr/>
            <p:nvPr/>
          </p:nvSpPr>
          <p:spPr>
            <a:xfrm>
              <a:off x="993600" y="3274920"/>
              <a:ext cx="249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穿新装展新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16401"/>
            <p:cNvSpPr/>
            <p:nvPr/>
          </p:nvSpPr>
          <p:spPr>
            <a:xfrm>
              <a:off x="3948840" y="3274920"/>
              <a:ext cx="466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 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（二十三段</a:t>
              </a:r>
              <a:r>
                <a:rPr b="1" lang="en-US" sz="2400" spc="-1" strike="noStrike">
                  <a:solidFill>
                    <a:srgbClr val="ff0000"/>
                  </a:solidFill>
                  <a:latin typeface="宋体"/>
                </a:rPr>
                <a:t>—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结尾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文本框 16402"/>
            <p:cNvSpPr/>
            <p:nvPr/>
          </p:nvSpPr>
          <p:spPr>
            <a:xfrm>
              <a:off x="3066840" y="3255840"/>
              <a:ext cx="151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（高潮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局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2" name="图片 1" descr="图片1"/>
          <p:cNvPicPr/>
          <p:nvPr/>
        </p:nvPicPr>
        <p:blipFill>
          <a:blip r:embed="rId3"/>
          <a:stretch/>
        </p:blipFill>
        <p:spPr>
          <a:xfrm>
            <a:off x="3451320" y="3914640"/>
            <a:ext cx="2438280" cy="2319480"/>
          </a:xfrm>
          <a:prstGeom prst="rect">
            <a:avLst/>
          </a:prstGeom>
          <a:ln w="0">
            <a:noFill/>
          </a:ln>
        </p:spPr>
      </p:pic>
      <p:sp>
        <p:nvSpPr>
          <p:cNvPr id="67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7409" descr="e"/>
          <p:cNvPicPr/>
          <p:nvPr/>
        </p:nvPicPr>
        <p:blipFill>
          <a:blip r:embed="rId1"/>
          <a:srcRect l="48817" t="42311" r="3855" b="19231"/>
          <a:stretch/>
        </p:blipFill>
        <p:spPr>
          <a:xfrm>
            <a:off x="3809880" y="762120"/>
            <a:ext cx="1600200" cy="150012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17410"/>
          <p:cNvSpPr/>
          <p:nvPr/>
        </p:nvSpPr>
        <p:spPr>
          <a:xfrm>
            <a:off x="3962520" y="2147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138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皇  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17411"/>
          <p:cNvSpPr/>
          <p:nvPr/>
        </p:nvSpPr>
        <p:spPr>
          <a:xfrm>
            <a:off x="6645240" y="3111480"/>
            <a:ext cx="1033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</a:rPr>
              <a:t>骗 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17412"/>
          <p:cNvSpPr/>
          <p:nvPr/>
        </p:nvSpPr>
        <p:spPr>
          <a:xfrm>
            <a:off x="4267080" y="32767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直接连接符 17413"/>
          <p:cNvSpPr/>
          <p:nvPr/>
        </p:nvSpPr>
        <p:spPr>
          <a:xfrm>
            <a:off x="4648320" y="251460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7414"/>
          <p:cNvSpPr/>
          <p:nvPr/>
        </p:nvSpPr>
        <p:spPr>
          <a:xfrm flipH="1">
            <a:off x="5028840" y="3200400"/>
            <a:ext cx="10666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7415"/>
          <p:cNvSpPr/>
          <p:nvPr/>
        </p:nvSpPr>
        <p:spPr>
          <a:xfrm flipH="1" flipV="1">
            <a:off x="4876920" y="4038120"/>
            <a:ext cx="1295280" cy="1295640"/>
          </a:xfrm>
          <a:prstGeom prst="line">
            <a:avLst/>
          </a:prstGeom>
          <a:ln w="7632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7416"/>
          <p:cNvSpPr/>
          <p:nvPr/>
        </p:nvSpPr>
        <p:spPr>
          <a:xfrm flipV="1">
            <a:off x="3429000" y="3962160"/>
            <a:ext cx="99072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7417"/>
          <p:cNvSpPr/>
          <p:nvPr/>
        </p:nvSpPr>
        <p:spPr>
          <a:xfrm>
            <a:off x="2895480" y="3200400"/>
            <a:ext cx="14479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17418"/>
          <p:cNvSpPr/>
          <p:nvPr/>
        </p:nvSpPr>
        <p:spPr>
          <a:xfrm>
            <a:off x="7426080" y="5105520"/>
            <a:ext cx="10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8138f"/>
                </a:solidFill>
                <a:latin typeface="Times New Roman"/>
              </a:rPr>
              <a:t>小 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文本框 17419"/>
          <p:cNvSpPr/>
          <p:nvPr/>
        </p:nvSpPr>
        <p:spPr>
          <a:xfrm>
            <a:off x="51814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7420"/>
          <p:cNvSpPr/>
          <p:nvPr/>
        </p:nvSpPr>
        <p:spPr>
          <a:xfrm>
            <a:off x="4038480" y="2666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文本框 17421"/>
          <p:cNvSpPr/>
          <p:nvPr/>
        </p:nvSpPr>
        <p:spPr>
          <a:xfrm>
            <a:off x="3200400" y="3276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7422"/>
          <p:cNvSpPr/>
          <p:nvPr/>
        </p:nvSpPr>
        <p:spPr>
          <a:xfrm>
            <a:off x="3657600" y="4419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椭圆 17423"/>
          <p:cNvSpPr/>
          <p:nvPr/>
        </p:nvSpPr>
        <p:spPr>
          <a:xfrm>
            <a:off x="5105520" y="4191120"/>
            <a:ext cx="761760" cy="7617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组合 17426"/>
          <p:cNvGrpSpPr/>
          <p:nvPr/>
        </p:nvGrpSpPr>
        <p:grpSpPr>
          <a:xfrm>
            <a:off x="1828800" y="1676520"/>
            <a:ext cx="1174680" cy="2108880"/>
            <a:chOff x="1828800" y="1676520"/>
            <a:chExt cx="1174680" cy="2108880"/>
          </a:xfrm>
        </p:grpSpPr>
        <p:pic>
          <p:nvPicPr>
            <p:cNvPr id="690" name="图片 17427" descr=""/>
            <p:cNvPicPr/>
            <p:nvPr/>
          </p:nvPicPr>
          <p:blipFill>
            <a:blip r:embed="rId2"/>
            <a:stretch/>
          </p:blipFill>
          <p:spPr>
            <a:xfrm>
              <a:off x="1828800" y="1676520"/>
              <a:ext cx="117468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矩形 17428"/>
            <p:cNvSpPr/>
            <p:nvPr/>
          </p:nvSpPr>
          <p:spPr>
            <a:xfrm>
              <a:off x="2172600" y="3386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大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17429"/>
          <p:cNvGrpSpPr/>
          <p:nvPr/>
        </p:nvGrpSpPr>
        <p:grpSpPr>
          <a:xfrm>
            <a:off x="1828800" y="4114800"/>
            <a:ext cx="1599840" cy="2065320"/>
            <a:chOff x="1828800" y="4114800"/>
            <a:chExt cx="1599840" cy="2065320"/>
          </a:xfrm>
        </p:grpSpPr>
        <p:graphicFrame>
          <p:nvGraphicFramePr>
            <p:cNvPr id="693" name="对象 17430"/>
            <p:cNvGraphicFramePr/>
            <p:nvPr/>
          </p:nvGraphicFramePr>
          <p:xfrm>
            <a:off x="1828800" y="4114800"/>
            <a:ext cx="1421640" cy="145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4" name="对象 1743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28800" y="4114800"/>
                      <a:ext cx="1421640" cy="145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5" name="文本框 17431"/>
            <p:cNvSpPr/>
            <p:nvPr/>
          </p:nvSpPr>
          <p:spPr>
            <a:xfrm>
              <a:off x="2205000" y="5781240"/>
              <a:ext cx="122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百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图片 17432" descr="b"/>
          <p:cNvPicPr/>
          <p:nvPr/>
        </p:nvPicPr>
        <p:blipFill>
          <a:blip r:embed="rId5"/>
          <a:srcRect l="3296" t="35337" r="24227" b="0"/>
          <a:stretch/>
        </p:blipFill>
        <p:spPr>
          <a:xfrm>
            <a:off x="6400800" y="4267080"/>
            <a:ext cx="1380960" cy="190512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7433" descr="d"/>
          <p:cNvPicPr/>
          <p:nvPr/>
        </p:nvPicPr>
        <p:blipFill>
          <a:blip r:embed="rId6"/>
          <a:srcRect l="0" t="28263" r="3123" b="4349"/>
          <a:stretch/>
        </p:blipFill>
        <p:spPr>
          <a:xfrm>
            <a:off x="6302520" y="103356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语文备课大师【全免费】</dc:creator>
  <dc:description>语文备课大师【全免费】</dc:description>
  <cp:keywords/>
  <dc:language>en-US</dc:language>
  <cp:lastModifiedBy>xuhuachang</cp:lastModifiedBy>
  <dcterms:modified xsi:type="dcterms:W3CDTF">2017-09-16T18:21:24Z</dcterms:modified>
  <cp:revision>0</cp:revision>
  <dc:subject/>
  <dc:title>语文备课大师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