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himes.wav" ContentType="audio/x-wav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404-772B-4C4D-97A0-BE1E0EFF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280-BF63-4FC6-AFB0-7B9B1218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AD937-2F70-48DC-9073-9D9BF15B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7628D-B14D-4875-88E9-5DE3A52D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C3236-E8D5-40D1-87FF-CE0D6B24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0AD4D-A019-4DC6-8505-7D450C76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2E425-CD62-47B8-8955-55FC6A4F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76BE7-91B0-4C51-9CA3-DF621BC0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A5353-A8C8-4DBB-B504-03430D15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A5DCE-0220-4B99-8A49-98CDC774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B9C78-F817-4979-814A-CF9752D9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1271A-9C11-427B-9D02-9334CC4C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1A2-625F-424D-ADF8-925A8D88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9D6A2-97C5-4E1E-A62F-30DE5CCD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F33C9-EEFF-4DEE-90A3-0BB23FA8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4E374-DCB0-48A5-9547-23A5F816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6613B-B1E5-4E45-AA45-59385C1E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FBB819-4B05-4F11-B960-F8B10141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201D0-786B-4429-9ED7-2F3D766B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6E87E-8788-47B6-BCE9-A6F4D482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5456C-20F0-4623-B1E6-CFEECE73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FAA87-FE98-4683-BFB0-C03DB998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D36C3-9620-4A20-96F1-905D43B2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FFE0-8F32-4882-924A-FA9B2FC3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6342A-2E50-47AF-89D2-15E2193D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D244B-F21F-4E64-B62B-69D37270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1989E-A8DB-4177-93B8-51254FB2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D3DED-D601-436B-80D4-55225FFC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818F1-67AE-4AF7-9139-520AAFF3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B1253-9DC7-4640-AAEE-A79750EB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E8173-5CDD-46F2-80C9-79212214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BF130-234C-422E-9F22-FB7E7432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DBF3B-0445-416F-BA6D-0FE9F934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F2B91-D9A6-4ED6-937D-671138E4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C3BC-A668-4123-B5A6-C3507644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B601D-8847-43C3-9DB6-450911B3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C5A999-81EA-44E4-9A1F-DFCBEC6B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F06D45-92A9-4138-9B11-52C7DD89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BF5D7-1314-469C-ADFD-A8F8E31E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0B51E1-65DD-4760-8B0F-B841CB61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19854-F408-453C-88F7-D95D2976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883F0-D0B4-4038-B8F4-1420C0AC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308DA-B482-4361-B350-DF999BD9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EE5EF3-ED3A-4219-B81F-EAA2FC54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35072-D2A6-4241-A1F8-82230EDF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741C-C040-4037-BF6A-F14F1D19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A92C3-6C08-497C-8005-ABDEE73B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B7427-6BD0-43B4-AE8B-AD1470A7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2842F-DD37-4505-BB42-59683020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CBFBE-B180-4F33-A078-2B3743B91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71B10-96FB-4812-8D35-B16E4012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4433A4-3D97-4391-9FBF-D9DCF9BC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1A224-A37B-4CA8-8499-CC8065D9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38EAA9-482A-4A74-8E3B-EA9131CF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3DA08-7CA2-48F6-98E8-B43FF009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5BF83-47ED-4003-87A4-F6EDB8DA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B476-F7E2-481D-81A7-A3519A95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7AA1F3-DECF-4E65-8784-908E1D60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92540-B674-42E5-ACA6-2ED90AE5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3187FA-7331-4D1C-83E1-AA7549D2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F37C11-FBC9-4CE5-91AE-12115061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200779-FB63-4025-8CB2-5E4304AC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54BF7-8089-4453-9B10-89732B84E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79201-DD08-4EDF-9A79-5E5309F0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EBED51-D40E-4E67-A24B-04A5CD9A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99748-FD8D-4C52-BC1D-E702841A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BF52E1-D957-4145-B90B-F06B73BF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3888-30AF-4E7C-A3B1-6346A876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564C0-78C7-49DA-92F1-185E944B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906A95-F122-4826-9B28-E7E2084B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5D42C-03D2-4DB7-9A8F-96E05715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175FA-8EF4-4C13-B0DD-60B5D84D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E8D92-4E4E-4C67-9EFE-0AB2D3BC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73F0E-189B-4242-A4DA-D8D6291E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AABA30-CC51-4015-AB8A-16F1713A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1198D-91CC-454A-A136-92198587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E0473-6EBE-4871-A55F-16C9B8FB1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906603-D740-4370-98AB-C5CFC13D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DAAA-7BA1-4A6D-953E-99132A12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BF058B-D814-490E-95DB-BA6C4581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C1A09E-8DE3-4D39-A7CA-28F2431F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376AE2-489C-49F1-8604-F2CDAF57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ECD3F6-FF2A-4852-B512-CA7C0396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A8DBEE-1A40-4FCA-9E37-477BFB96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9189F-83A5-4AF0-88E4-21E77531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74FC3C-1E50-46A6-9F62-B1D1543A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C3A4A-8595-4803-8B0F-0951EF00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63175C-7935-47AF-86EF-2E41C757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8FAA3D-DCB6-4394-8F4A-8706B7DD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D328-C43E-4D8D-8B1F-075F061A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02477D-1F2C-48E9-BBE6-0519D999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65B4-C96A-469D-9404-8141E067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EE2-A072-4633-80EA-D49248E5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5784-107E-45EE-BEE7-E1735637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38BE-3870-4DC7-9F62-79B67E76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6A1F-D468-4363-A194-A38F510A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3F4A-9726-40A4-B80D-D8A839E9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D86E-FBF6-4403-95F2-90A547CC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6A7BA-7DC7-4AFA-95ED-8359950A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AE7A9-9DF0-4F52-82EE-3A070BE3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A60AF-FD61-4381-93FD-BC9D7C88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35227-EA4D-424F-AD8E-B44EEF74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A9AAE-10DB-47A7-BB6E-3DBC909B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E95-B8D8-48DF-AD8C-98DD2814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FB48-0975-4985-B5D4-9009DF83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D72CE-80C4-4F7B-9866-4EA70C72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FE16F-E91E-4F56-92CA-04252EB7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2E192-B103-4274-A0CF-B7DC4ECA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E8171-F718-4FAB-97E9-B75D7B73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80EB9-AF7E-43AA-AA4B-0D2C29BF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47BEA-F00E-48C5-BD8B-EF82A6B0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E0A5A-1EC5-4060-9EF2-40B749B5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23922-3D45-42F5-8DEA-1403EC7B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9EEE0-AB9A-49FF-9DAF-FDCEEF61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528-11B5-472E-B320-84B2E938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A10D9-CBA8-42ED-8022-C9F5826C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9E951-1FA2-49A1-AC3A-8D86AA1F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E59FC-9977-4CC7-BEA2-AA72581D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80864-C252-4F38-862E-73905FE8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4AB13-477D-4632-A578-EB1404EC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D697F-ABA2-4C1A-838B-2FA1443B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45F74-85EB-4BE5-B741-0FB08DE5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1672F-0B3C-4210-94E4-6D5DB8BF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FA09F-BED3-42B7-A3DF-22F00999F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06B66-9AD9-49E6-94F6-8E44D707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A663-BF01-470E-85E5-82FB398B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CE60A-39DD-4B8A-B066-186CB3E6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E49B9-1719-4E3D-BA72-C3EFE6DA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8E980-4476-4C92-B2BF-3162FE21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BCFDA-7832-42B5-B4EA-514AE490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018C8-0DA6-4312-8D23-A2FCBD3C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122D7-3A17-46E2-AB21-65D9271A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E6B4A-50C6-4593-8A73-7D356696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CEF8A-B683-4061-A958-1CD9DB91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DF6D2-714B-4CC5-AA8E-990B31E6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52FDE-77A1-4C3B-ACF4-6186D557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71D-92A2-49F2-B0D9-802E4436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4E850-4D0B-4C53-9A81-41A640E5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DF0A2-B34D-433D-A9C1-59AD748B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08E1C-E6C3-48DD-94E5-AE6E843A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E16C3-114B-49A0-B1F6-7E393D76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06C44-BBC1-4637-938C-FE76987F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71EE6-2521-4BCA-BBDF-6834CB41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0B31E-B15B-4788-8A3A-AF47D521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1F41C-783E-4EF0-828B-62CE7C84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9C15C-4B3B-41F6-B1F6-EEE862A5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5AC16-7F73-48D6-A7E0-4BB7121E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926-405A-4ABD-9FC0-53AA0E16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D4612-70C7-4487-A61C-DC49A193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C324F-24BC-4858-BCF8-8424EFAA3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168F3-7F10-4226-8338-4DCC3337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FD600-F208-4230-A459-00B851D9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79099-2252-48BB-A0A9-E088561F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76635-2E60-4BE8-A98D-E40EFA09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9FDE8-19A7-4D42-9DF0-9C4EEF1F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D43B0-F639-4357-BDD6-D4A5DD70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157C5-3C67-4D91-8732-D384CCC7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73EC0-02A2-419F-B8D7-44D16520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2C4-94B1-4F06-A38C-333C3D37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0B055-1E1C-4F81-AB7C-D2C33057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7685C-880F-43B9-9777-3EAE0F01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A18AE-D131-4EB7-8A56-86F91EF2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B0A8A-1A55-4853-8AE2-B38B926D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A96E6-870B-43D7-BBCD-07152290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0B130-BCBD-4106-A99C-1A12A7D51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38812-085B-4B5B-983A-0F919A1A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E618F-9FDF-4059-ABA2-97048753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C0F15-73D6-4096-8329-AF60F085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BA363-3430-4CAB-9D2B-CFF0D88D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4139-3CE3-4DD5-A83F-40047DF9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95AAC-48F7-4479-8DE0-C60B670F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E2640-7A3C-4BE5-A19B-E1F2C579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EE685-1242-49FB-AE35-2A4FC417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FF4CE-1039-4685-8291-947CE2F6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0EEA6-0BA7-42D5-B44C-42F56771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DD71F-147C-4B28-BB33-2A6458B9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CA434-1C84-48F0-A2BF-D27063E2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2B0CB-24E1-423E-A647-07650726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8B0B8-4EEF-45D6-ADFF-582F086A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A3DE2-FD55-48A4-BCCF-BA0CE772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5DB5-C766-4943-8B23-5BDEEACA83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1D5E-8067-4A79-B07C-2D2413FDA6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4B23-4144-426C-94F2-7F8FA41B3B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25C5-5C80-4FEC-9242-BE8BE81AFD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0ED8-F28E-4F43-AC9D-9E1AB80A00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33C1-D30A-4FFF-8BC3-381DF633DF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D01A-6FCA-4EA9-979B-D07B45BE7D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144B-139B-4266-BDCA-45D72A3593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07F5-DC35-4F06-87BE-CE46706EF0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8030-5093-4B1D-91B9-6E01206F42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7CE0-20BB-4948-B62B-08F85BAB63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2BC0-685D-4EA5-8FC0-EF77F5E789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5FA4-0405-4B1B-B6CE-EE298D8326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2B11-36C2-4BD5-A126-EDD0BCBB38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D395-2F47-4D45-BDDE-EB61747E1A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603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07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4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寓言四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文本框 105"/>
          <p:cNvSpPr/>
          <p:nvPr/>
        </p:nvSpPr>
        <p:spPr>
          <a:xfrm>
            <a:off x="825480" y="148284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这则寓言中你获得了怎样的启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1"/>
          <p:cNvSpPr/>
          <p:nvPr/>
        </p:nvSpPr>
        <p:spPr>
          <a:xfrm>
            <a:off x="1198440" y="2754360"/>
            <a:ext cx="68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讽刺、批评那些爱慕虚荣、自命不凡的人。告诉人们要有自知之明，不能妄自尊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文本框 1"/>
          <p:cNvSpPr/>
          <p:nvPr/>
        </p:nvSpPr>
        <p:spPr>
          <a:xfrm>
            <a:off x="1247040" y="1846440"/>
            <a:ext cx="91188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赫耳莫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左大括号 2"/>
          <p:cNvSpPr/>
          <p:nvPr/>
        </p:nvSpPr>
        <p:spPr>
          <a:xfrm>
            <a:off x="2405160" y="1057320"/>
            <a:ext cx="75960" cy="2879640"/>
          </a:xfrm>
          <a:custGeom>
            <a:avLst/>
            <a:gdLst>
              <a:gd name="textAreaLeft" fmla="*/ 48600 w 75960"/>
              <a:gd name="textAreaRight" fmla="*/ 76320 w 75960"/>
              <a:gd name="textAreaTop" fmla="*/ 1800 h 2879640"/>
              <a:gd name="textAreaBottom" fmla="*/ 287784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"/>
                  <a:pt x="10800" y="48"/>
                </a:cubicBezTo>
                <a:lnTo>
                  <a:pt x="10800" y="10752"/>
                </a:lnTo>
                <a:cubicBezTo>
                  <a:pt x="10800" y="10776"/>
                  <a:pt x="5400" y="10800"/>
                  <a:pt x="0" y="10800"/>
                </a:cubicBezTo>
                <a:cubicBezTo>
                  <a:pt x="5400" y="10800"/>
                  <a:pt x="10800" y="10824"/>
                  <a:pt x="10800" y="10848"/>
                </a:cubicBezTo>
                <a:lnTo>
                  <a:pt x="10800" y="21552"/>
                </a:lnTo>
                <a:cubicBezTo>
                  <a:pt x="10800" y="2157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3"/>
          <p:cNvSpPr/>
          <p:nvPr/>
        </p:nvSpPr>
        <p:spPr>
          <a:xfrm>
            <a:off x="2584440" y="1033560"/>
            <a:ext cx="42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宙斯雕像         一个银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4"/>
          <p:cNvSpPr/>
          <p:nvPr/>
        </p:nvSpPr>
        <p:spPr>
          <a:xfrm>
            <a:off x="2568600" y="2308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赫拉雕像         还要贵一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5"/>
          <p:cNvSpPr/>
          <p:nvPr/>
        </p:nvSpPr>
        <p:spPr>
          <a:xfrm>
            <a:off x="2550960" y="3584520"/>
            <a:ext cx="51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自己雕像         算饶头白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右大括号 6"/>
          <p:cNvSpPr/>
          <p:nvPr/>
        </p:nvSpPr>
        <p:spPr>
          <a:xfrm>
            <a:off x="6729480" y="1057320"/>
            <a:ext cx="144360" cy="2879640"/>
          </a:xfrm>
          <a:custGeom>
            <a:avLst/>
            <a:gdLst>
              <a:gd name="textAreaLeft" fmla="*/ 0 w 144360"/>
              <a:gd name="textAreaRight" fmla="*/ 52200 w 144360"/>
              <a:gd name="textAreaTop" fmla="*/ 3600 h 2879640"/>
              <a:gd name="textAreaBottom" fmla="*/ 287604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"/>
                  <a:pt x="10800" y="90"/>
                </a:cubicBezTo>
                <a:lnTo>
                  <a:pt x="10800" y="10710"/>
                </a:lnTo>
                <a:cubicBezTo>
                  <a:pt x="10800" y="10755"/>
                  <a:pt x="16200" y="10800"/>
                  <a:pt x="21600" y="10800"/>
                </a:cubicBezTo>
                <a:cubicBezTo>
                  <a:pt x="16200" y="10800"/>
                  <a:pt x="10800" y="10845"/>
                  <a:pt x="10800" y="10890"/>
                </a:cubicBezTo>
                <a:lnTo>
                  <a:pt x="10800" y="21510"/>
                </a:lnTo>
                <a:cubicBezTo>
                  <a:pt x="10800" y="2155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8"/>
          <p:cNvSpPr/>
          <p:nvPr/>
        </p:nvSpPr>
        <p:spPr>
          <a:xfrm>
            <a:off x="7224840" y="1911240"/>
            <a:ext cx="546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雕像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9"/>
          <p:cNvSpPr/>
          <p:nvPr/>
        </p:nvSpPr>
        <p:spPr>
          <a:xfrm>
            <a:off x="2332080" y="4956120"/>
            <a:ext cx="16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更尊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直接箭头连接符 10"/>
          <p:cNvCxnSpPr/>
          <p:nvPr/>
        </p:nvCxnSpPr>
        <p:spPr>
          <a:xfrm>
            <a:off x="3562200" y="5184360"/>
            <a:ext cx="2169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7" name="文本框 12"/>
          <p:cNvSpPr/>
          <p:nvPr/>
        </p:nvSpPr>
        <p:spPr>
          <a:xfrm>
            <a:off x="5832360" y="4938840"/>
            <a:ext cx="16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算饶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3"/>
          <p:cNvSpPr/>
          <p:nvPr/>
        </p:nvSpPr>
        <p:spPr>
          <a:xfrm>
            <a:off x="3890880" y="4813200"/>
            <a:ext cx="16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讽  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14"/>
          <p:cNvSpPr/>
          <p:nvPr/>
        </p:nvSpPr>
        <p:spPr>
          <a:xfrm>
            <a:off x="3587760" y="5154480"/>
            <a:ext cx="19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盲目自大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图片 1" descr="ht8820051211831199400"/>
          <p:cNvPicPr/>
          <p:nvPr/>
        </p:nvPicPr>
        <p:blipFill>
          <a:blip r:embed="rId1"/>
          <a:stretch/>
        </p:blipFill>
        <p:spPr>
          <a:xfrm>
            <a:off x="2940120" y="1511280"/>
            <a:ext cx="5238720" cy="3811680"/>
          </a:xfrm>
          <a:prstGeom prst="rect">
            <a:avLst/>
          </a:prstGeom>
          <a:ln w="0">
            <a:noFill/>
          </a:ln>
        </p:spPr>
      </p:pic>
      <p:sp>
        <p:nvSpPr>
          <p:cNvPr id="672" name="文本框 3"/>
          <p:cNvSpPr/>
          <p:nvPr/>
        </p:nvSpPr>
        <p:spPr>
          <a:xfrm>
            <a:off x="1579680" y="2127240"/>
            <a:ext cx="546120" cy="27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蚊子和狮子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3"/>
          <p:cNvSpPr/>
          <p:nvPr/>
        </p:nvSpPr>
        <p:spPr>
          <a:xfrm>
            <a:off x="1492560" y="1500120"/>
            <a:ext cx="38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则寓言的故事部分主要写了哪些情节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674640" y="26766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蚊子扬长避短战胜了狮子，后因骄傲自满被蜘蛛网粘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3" descr="12"/>
          <p:cNvPicPr/>
          <p:nvPr/>
        </p:nvPicPr>
        <p:blipFill>
          <a:blip r:embed="rId1"/>
          <a:stretch/>
        </p:blipFill>
        <p:spPr>
          <a:xfrm>
            <a:off x="2508120" y="3548160"/>
            <a:ext cx="3996000" cy="2535120"/>
          </a:xfrm>
          <a:prstGeom prst="rect">
            <a:avLst/>
          </a:prstGeom>
          <a:ln w="0">
            <a:noFill/>
          </a:ln>
        </p:spPr>
      </p:pic>
      <p:sp>
        <p:nvSpPr>
          <p:cNvPr id="67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3"/>
          <p:cNvSpPr/>
          <p:nvPr/>
        </p:nvSpPr>
        <p:spPr>
          <a:xfrm>
            <a:off x="1492200" y="2203560"/>
            <a:ext cx="22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蚊子：冲、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3200400" y="190512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4255560" y="195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扬长避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4419720" y="2590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6019920" y="228600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狮子：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2370240" y="38545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蚊子：吹、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5"/>
          <p:cNvSpPr/>
          <p:nvPr/>
        </p:nvSpPr>
        <p:spPr>
          <a:xfrm>
            <a:off x="4244400" y="3529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骄傲自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6"/>
          <p:cNvSpPr/>
          <p:nvPr/>
        </p:nvSpPr>
        <p:spPr>
          <a:xfrm>
            <a:off x="4363920" y="4200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7"/>
          <p:cNvSpPr/>
          <p:nvPr/>
        </p:nvSpPr>
        <p:spPr>
          <a:xfrm>
            <a:off x="6019920" y="388620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蜘蛛：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23"/>
          <p:cNvSpPr/>
          <p:nvPr/>
        </p:nvSpPr>
        <p:spPr>
          <a:xfrm>
            <a:off x="4037040" y="2394000"/>
            <a:ext cx="1447920" cy="152280"/>
          </a:xfrm>
          <a:prstGeom prst="rightArrow">
            <a:avLst>
              <a:gd name="adj1" fmla="val 50000"/>
              <a:gd name="adj2" fmla="val 23770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24"/>
          <p:cNvSpPr/>
          <p:nvPr/>
        </p:nvSpPr>
        <p:spPr>
          <a:xfrm>
            <a:off x="4037040" y="4014720"/>
            <a:ext cx="1523880" cy="152640"/>
          </a:xfrm>
          <a:prstGeom prst="rightArrow">
            <a:avLst>
              <a:gd name="adj1" fmla="val 50000"/>
              <a:gd name="adj2" fmla="val 249587"/>
            </a:avLst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3"/>
          <p:cNvSpPr/>
          <p:nvPr/>
        </p:nvSpPr>
        <p:spPr>
          <a:xfrm>
            <a:off x="325440" y="1866960"/>
            <a:ext cx="88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除此之外，你还懂得了哪些道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312840" y="30654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要战胜对方必须知己知彼，要善于以己之长攻敌所短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面对强手和困难，应毫不退缩，勇往直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文本框 105"/>
          <p:cNvSpPr/>
          <p:nvPr/>
        </p:nvSpPr>
        <p:spPr>
          <a:xfrm>
            <a:off x="627120" y="128412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ff"/>
                </a:solidFill>
                <a:uFillTx/>
                <a:latin typeface="宋体"/>
              </a:rPr>
              <a:t>对比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1"/>
          <p:cNvSpPr/>
          <p:nvPr/>
        </p:nvSpPr>
        <p:spPr>
          <a:xfrm>
            <a:off x="638280" y="1731960"/>
            <a:ext cx="819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比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蚊子和狮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赫耳墨斯和雕像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在结构和写法上的异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）相同点：结构相同。都是第一段讲故事，第二段议论并得出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）不同点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表现方法不同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把神当作人来写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则用拟人手法，赋予动物以人的情感和性格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表达方式不同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主要运用语言、动作和心理描写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主要运用语言描写和动作描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图片 1" descr="27691"/>
          <p:cNvPicPr/>
          <p:nvPr/>
        </p:nvPicPr>
        <p:blipFill>
          <a:blip r:embed="rId1"/>
          <a:stretch/>
        </p:blipFill>
        <p:spPr>
          <a:xfrm>
            <a:off x="2921040" y="1773360"/>
            <a:ext cx="3794040" cy="255240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2"/>
          <p:cNvSpPr/>
          <p:nvPr/>
        </p:nvSpPr>
        <p:spPr>
          <a:xfrm>
            <a:off x="3352680" y="4564080"/>
            <a:ext cx="29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穿井得一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副标题 5122"/>
          <p:cNvSpPr/>
          <p:nvPr/>
        </p:nvSpPr>
        <p:spPr>
          <a:xfrm>
            <a:off x="752400" y="1054080"/>
            <a:ext cx="770580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之丁氏，家无井而出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溉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常一人居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家穿井，告人曰：“吾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穿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一人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5124"/>
          <p:cNvSpPr/>
          <p:nvPr/>
        </p:nvSpPr>
        <p:spPr>
          <a:xfrm>
            <a:off x="4314960" y="1544760"/>
            <a:ext cx="30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从井里打水浇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文本框 5125"/>
          <p:cNvSpPr/>
          <p:nvPr/>
        </p:nvSpPr>
        <p:spPr>
          <a:xfrm>
            <a:off x="620640" y="26892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文本框 5127"/>
          <p:cNvSpPr/>
          <p:nvPr/>
        </p:nvSpPr>
        <p:spPr>
          <a:xfrm>
            <a:off x="5083200" y="2617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打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5126"/>
          <p:cNvSpPr/>
          <p:nvPr/>
        </p:nvSpPr>
        <p:spPr>
          <a:xfrm>
            <a:off x="812880" y="3560760"/>
            <a:ext cx="749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宋国有一家姓丁的，家中没有井，须到外面打水浇地，因此经常有一个人住在外面。等到他家打了一眼井之后，便对别人说：“我家打井得到一个人。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副标题 6146"/>
          <p:cNvSpPr/>
          <p:nvPr/>
        </p:nvSpPr>
        <p:spPr>
          <a:xfrm>
            <a:off x="250920" y="1341360"/>
            <a:ext cx="87138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传之者，曰：“丁氏穿井得一人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人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，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君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6148"/>
          <p:cNvSpPr/>
          <p:nvPr/>
        </p:nvSpPr>
        <p:spPr>
          <a:xfrm>
            <a:off x="1224000" y="10684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听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6151"/>
          <p:cNvSpPr/>
          <p:nvPr/>
        </p:nvSpPr>
        <p:spPr>
          <a:xfrm>
            <a:off x="880920" y="20923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谈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6153"/>
          <p:cNvSpPr/>
          <p:nvPr/>
        </p:nvSpPr>
        <p:spPr>
          <a:xfrm>
            <a:off x="1863720" y="29638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使听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6154"/>
          <p:cNvSpPr/>
          <p:nvPr/>
        </p:nvSpPr>
        <p:spPr>
          <a:xfrm>
            <a:off x="3156480" y="2025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向、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6149"/>
          <p:cNvSpPr/>
          <p:nvPr/>
        </p:nvSpPr>
        <p:spPr>
          <a:xfrm>
            <a:off x="714240" y="3917880"/>
            <a:ext cx="758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有人听到这话，传播说：“丁家打井打出了一个人。”都城的人都谈论这件事，这件事被宋君听见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618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文本框 105"/>
          <p:cNvSpPr/>
          <p:nvPr/>
        </p:nvSpPr>
        <p:spPr>
          <a:xfrm>
            <a:off x="1305000" y="174456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了解几则寓言的故事情节和寓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1"/>
          <p:cNvSpPr/>
          <p:nvPr/>
        </p:nvSpPr>
        <p:spPr>
          <a:xfrm>
            <a:off x="1314360" y="243036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改写及编写寓言，进一步培养发散思维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"/>
          <p:cNvSpPr/>
          <p:nvPr/>
        </p:nvSpPr>
        <p:spPr>
          <a:xfrm>
            <a:off x="1336680" y="3209760"/>
            <a:ext cx="66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联系生活实际感悟寓言，培养健全人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副标题 7170"/>
          <p:cNvSpPr/>
          <p:nvPr/>
        </p:nvSpPr>
        <p:spPr>
          <a:xfrm>
            <a:off x="1386000" y="1089000"/>
            <a:ext cx="647064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宋君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问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丁氏。丁氏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一人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非得一人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井中也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7172"/>
          <p:cNvSpPr/>
          <p:nvPr/>
        </p:nvSpPr>
        <p:spPr>
          <a:xfrm>
            <a:off x="2813760" y="1495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7174"/>
          <p:cNvSpPr/>
          <p:nvPr/>
        </p:nvSpPr>
        <p:spPr>
          <a:xfrm>
            <a:off x="4081320" y="15177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7177"/>
          <p:cNvSpPr/>
          <p:nvPr/>
        </p:nvSpPr>
        <p:spPr>
          <a:xfrm>
            <a:off x="6375240" y="15177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回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7180"/>
          <p:cNvSpPr/>
          <p:nvPr/>
        </p:nvSpPr>
        <p:spPr>
          <a:xfrm>
            <a:off x="2693880" y="279864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劳动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7181"/>
          <p:cNvSpPr/>
          <p:nvPr/>
        </p:nvSpPr>
        <p:spPr>
          <a:xfrm>
            <a:off x="5307120" y="264492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7173"/>
          <p:cNvSpPr/>
          <p:nvPr/>
        </p:nvSpPr>
        <p:spPr>
          <a:xfrm>
            <a:off x="1158840" y="3549600"/>
            <a:ext cx="735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宋国国君派人去问姓丁的。丁家的人回答说：“得到一个人的劳力，并不是从井中挖出一个人来呀。” 早知道是这个结果，还不如不问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占位符 16386"/>
          <p:cNvSpPr/>
          <p:nvPr/>
        </p:nvSpPr>
        <p:spPr>
          <a:xfrm>
            <a:off x="276120" y="1063800"/>
            <a:ext cx="8623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穿井得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事情发展顺序叙述。有开端、发展、结局，但最后也未点出寓意。全文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节，分三层。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一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叙述宋国姓丁人家因为要到外面打井水用，常要占一个劳动力。后来自家打了井，趣说为“穿井得一人”。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二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人并未懂这话，就把丁氏的话传开了，直传到国君那里。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三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丁氏告诉国君使者自己的话的真正意思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8200"/>
          <p:cNvSpPr/>
          <p:nvPr/>
        </p:nvSpPr>
        <p:spPr>
          <a:xfrm>
            <a:off x="230040" y="18255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则寓言故事说明了一个什么道理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8201"/>
          <p:cNvSpPr/>
          <p:nvPr/>
        </p:nvSpPr>
        <p:spPr>
          <a:xfrm>
            <a:off x="241200" y="280188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告诉人们不可轻信传言并盲目传播，说话、念词不要产生歧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f3d3572c11dfa9ecb69c893b61d0f703918fc168"/>
          <p:cNvPicPr/>
          <p:nvPr/>
        </p:nvPicPr>
        <p:blipFill>
          <a:blip r:embed="rId1"/>
          <a:srcRect l="-1001" t="-1044" r="1015" b="8188"/>
          <a:stretch/>
        </p:blipFill>
        <p:spPr>
          <a:xfrm>
            <a:off x="3295800" y="3549600"/>
            <a:ext cx="25524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占位符 17410"/>
          <p:cNvSpPr/>
          <p:nvPr/>
        </p:nvSpPr>
        <p:spPr>
          <a:xfrm>
            <a:off x="457200" y="131292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fffff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作方法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穿井得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幽默风趣。故事中因对话中有一个多义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”，可指人也可指劳动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把“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得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两音义混用，而被人误解，结果越传越远，居然传到国君耳朵里去了。最后道出真相，事实与传言相差太大，不禁令人发笑。文章就是在笑中教育了人们不可轻信传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12" descr="qiryt2"/>
          <p:cNvPicPr/>
          <p:nvPr/>
        </p:nvPicPr>
        <p:blipFill>
          <a:blip r:embed="rId1"/>
          <a:stretch/>
        </p:blipFill>
        <p:spPr>
          <a:xfrm>
            <a:off x="3824280" y="1133640"/>
            <a:ext cx="2994120" cy="4433760"/>
          </a:xfrm>
          <a:prstGeom prst="rect">
            <a:avLst/>
          </a:prstGeom>
          <a:ln w="0">
            <a:noFill/>
          </a:ln>
        </p:spPr>
      </p:pic>
      <p:sp>
        <p:nvSpPr>
          <p:cNvPr id="730" name="文本框 1"/>
          <p:cNvSpPr/>
          <p:nvPr/>
        </p:nvSpPr>
        <p:spPr>
          <a:xfrm>
            <a:off x="2164680" y="1854360"/>
            <a:ext cx="606960" cy="38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杞人忧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466560" y="1409760"/>
            <a:ext cx="84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杞国有人忧天地崩坠，身无所寄，废寝食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5"/>
          <p:cNvSpPr/>
          <p:nvPr/>
        </p:nvSpPr>
        <p:spPr>
          <a:xfrm>
            <a:off x="0" y="2627280"/>
            <a:ext cx="90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音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崩 坠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寝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食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6"/>
          <p:cNvSpPr/>
          <p:nvPr/>
        </p:nvSpPr>
        <p:spPr>
          <a:xfrm>
            <a:off x="1127520" y="2263680"/>
            <a:ext cx="4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q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8"/>
          <p:cNvSpPr/>
          <p:nvPr/>
        </p:nvSpPr>
        <p:spPr>
          <a:xfrm>
            <a:off x="2236680" y="22255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ēngzh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"/>
          <p:cNvSpPr/>
          <p:nvPr/>
        </p:nvSpPr>
        <p:spPr>
          <a:xfrm>
            <a:off x="4743360" y="2230560"/>
            <a:ext cx="9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qǐ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2"/>
          <p:cNvSpPr/>
          <p:nvPr/>
        </p:nvSpPr>
        <p:spPr>
          <a:xfrm>
            <a:off x="0" y="327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忧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崩坠：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所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寄：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3"/>
          <p:cNvSpPr/>
          <p:nvPr/>
        </p:nvSpPr>
        <p:spPr>
          <a:xfrm>
            <a:off x="2843280" y="386064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4"/>
          <p:cNvSpPr/>
          <p:nvPr/>
        </p:nvSpPr>
        <p:spPr>
          <a:xfrm>
            <a:off x="2411280" y="32814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担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5"/>
          <p:cNvSpPr/>
          <p:nvPr/>
        </p:nvSpPr>
        <p:spPr>
          <a:xfrm>
            <a:off x="5659560" y="32893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崩塌坠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6"/>
          <p:cNvSpPr/>
          <p:nvPr/>
        </p:nvSpPr>
        <p:spPr>
          <a:xfrm>
            <a:off x="2428920" y="4003560"/>
            <a:ext cx="18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7"/>
          <p:cNvSpPr/>
          <p:nvPr/>
        </p:nvSpPr>
        <p:spPr>
          <a:xfrm>
            <a:off x="5435640" y="4017960"/>
            <a:ext cx="24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依托，依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9"/>
          <p:cNvSpPr/>
          <p:nvPr/>
        </p:nvSpPr>
        <p:spPr>
          <a:xfrm>
            <a:off x="2362320" y="474012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用在句末，表示停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573120" y="900000"/>
            <a:ext cx="81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有忧彼之所忧者，因往晓之，曰：“天，积气耳，无处无气。若屈伸呼吸，终日在天中行止，奈何忧崩坠乎？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5"/>
          <p:cNvSpPr/>
          <p:nvPr/>
        </p:nvSpPr>
        <p:spPr>
          <a:xfrm>
            <a:off x="701280" y="2411280"/>
            <a:ext cx="36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音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若</a:t>
            </a:r>
            <a:r>
              <a:rPr b="1" i="1" lang="zh-CN" sz="2400" spc="-1" strike="noStrike">
                <a:solidFill>
                  <a:srgbClr val="003399"/>
                </a:solidFill>
                <a:latin typeface="Times New Roman"/>
              </a:rPr>
              <a:t>　　　　　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2463840" y="231624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2179800" y="237168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r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9"/>
          <p:cNvSpPr/>
          <p:nvPr/>
        </p:nvSpPr>
        <p:spPr>
          <a:xfrm>
            <a:off x="5364000" y="234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zhō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0"/>
          <p:cNvSpPr/>
          <p:nvPr/>
        </p:nvSpPr>
        <p:spPr>
          <a:xfrm>
            <a:off x="758520" y="2987640"/>
            <a:ext cx="599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彼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因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晓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之：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耳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若：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呼吸：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2"/>
          <p:cNvSpPr/>
          <p:nvPr/>
        </p:nvSpPr>
        <p:spPr>
          <a:xfrm>
            <a:off x="2987640" y="31608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13"/>
          <p:cNvSpPr/>
          <p:nvPr/>
        </p:nvSpPr>
        <p:spPr>
          <a:xfrm>
            <a:off x="5438880" y="312408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助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14"/>
          <p:cNvSpPr/>
          <p:nvPr/>
        </p:nvSpPr>
        <p:spPr>
          <a:xfrm>
            <a:off x="2871720" y="36702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5"/>
          <p:cNvSpPr/>
          <p:nvPr/>
        </p:nvSpPr>
        <p:spPr>
          <a:xfrm>
            <a:off x="5337000" y="3622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前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16"/>
          <p:cNvSpPr/>
          <p:nvPr/>
        </p:nvSpPr>
        <p:spPr>
          <a:xfrm>
            <a:off x="2894040" y="42084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开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5294160" y="41497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代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9"/>
          <p:cNvSpPr/>
          <p:nvPr/>
        </p:nvSpPr>
        <p:spPr>
          <a:xfrm>
            <a:off x="2987640" y="479592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罢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20"/>
          <p:cNvSpPr/>
          <p:nvPr/>
        </p:nvSpPr>
        <p:spPr>
          <a:xfrm>
            <a:off x="5370480" y="46846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地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21"/>
          <p:cNvSpPr/>
          <p:nvPr/>
        </p:nvSpPr>
        <p:spPr>
          <a:xfrm>
            <a:off x="3132000" y="53006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22"/>
          <p:cNvSpPr/>
          <p:nvPr/>
        </p:nvSpPr>
        <p:spPr>
          <a:xfrm>
            <a:off x="5686560" y="533412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呼气和吸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2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4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2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4"/>
          <p:cNvSpPr/>
          <p:nvPr/>
        </p:nvSpPr>
        <p:spPr>
          <a:xfrm>
            <a:off x="428760" y="981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人曰：“天果积气，日月星宿不当坠邪？”晓之者曰：“日月星宿，亦积气中之有光耀者，只使坠，亦不能有所中伤。”</a:t>
            </a: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430200" y="2779560"/>
            <a:ext cx="72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何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坠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1550880" y="246384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à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8"/>
          <p:cNvSpPr/>
          <p:nvPr/>
        </p:nvSpPr>
        <p:spPr>
          <a:xfrm>
            <a:off x="3385080" y="234792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ā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0"/>
          <p:cNvSpPr/>
          <p:nvPr/>
        </p:nvSpPr>
        <p:spPr>
          <a:xfrm>
            <a:off x="4975560" y="23162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zhò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1"/>
          <p:cNvSpPr/>
          <p:nvPr/>
        </p:nvSpPr>
        <p:spPr>
          <a:xfrm>
            <a:off x="430200" y="3500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果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者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光耀：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只使：　　　　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2"/>
          <p:cNvSpPr/>
          <p:nvPr/>
        </p:nvSpPr>
        <p:spPr>
          <a:xfrm>
            <a:off x="2843280" y="36450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果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3"/>
          <p:cNvSpPr/>
          <p:nvPr/>
        </p:nvSpPr>
        <p:spPr>
          <a:xfrm>
            <a:off x="5651640" y="3645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应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4"/>
          <p:cNvSpPr/>
          <p:nvPr/>
        </p:nvSpPr>
        <p:spPr>
          <a:xfrm>
            <a:off x="2822400" y="4211640"/>
            <a:ext cx="21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5"/>
          <p:cNvSpPr/>
          <p:nvPr/>
        </p:nvSpPr>
        <p:spPr>
          <a:xfrm>
            <a:off x="5651640" y="422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星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6"/>
          <p:cNvSpPr/>
          <p:nvPr/>
        </p:nvSpPr>
        <p:spPr>
          <a:xfrm>
            <a:off x="3059280" y="4724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光亮，光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7"/>
          <p:cNvSpPr/>
          <p:nvPr/>
        </p:nvSpPr>
        <p:spPr>
          <a:xfrm>
            <a:off x="3059280" y="52959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即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8"/>
          <p:cNvSpPr/>
          <p:nvPr/>
        </p:nvSpPr>
        <p:spPr>
          <a:xfrm>
            <a:off x="5938920" y="52992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打中，击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3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8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8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3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8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3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4"/>
          <p:cNvSpPr/>
          <p:nvPr/>
        </p:nvSpPr>
        <p:spPr>
          <a:xfrm>
            <a:off x="611280" y="759240"/>
            <a:ext cx="784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人曰：“奈地坏何？”晓者曰：“地积块耳，充塞四虚，无处无块。若躇步跐蹈，终日在地上行止，奈何忧其坏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1176840" y="2276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注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步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1574640" y="1963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h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4241880" y="197964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8"/>
          <p:cNvSpPr/>
          <p:nvPr/>
        </p:nvSpPr>
        <p:spPr>
          <a:xfrm>
            <a:off x="466560" y="32130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释：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若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躇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跐：    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终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行止：                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奈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10"/>
          <p:cNvSpPr/>
          <p:nvPr/>
        </p:nvSpPr>
        <p:spPr>
          <a:xfrm>
            <a:off x="3121920" y="3354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6227640" y="33526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3132000" y="393048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6199200" y="38656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整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4"/>
          <p:cNvSpPr/>
          <p:nvPr/>
        </p:nvSpPr>
        <p:spPr>
          <a:xfrm>
            <a:off x="3276720" y="443556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行动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6"/>
          <p:cNvSpPr/>
          <p:nvPr/>
        </p:nvSpPr>
        <p:spPr>
          <a:xfrm>
            <a:off x="6229440" y="44355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为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465120" y="851040"/>
            <a:ext cx="8151840" cy="53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杞国有一个人，担心天会坠落下来、地会崩塌下去，自己没有地方依托，（因此）睡不着觉，吃不下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有一个人，看到这个人这样担心，又为这个人担忧，于是前去开导他，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聚积在一起的气体罢了，没有什么地方没有气。你一屈一伸、一呼一吸，整天都在天中活动，为什么担忧天会坠落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人说：“假如天果真是聚积在一起的气体，日月星辰不应当坠落了吗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开导他的人说：“日月星辰，也只是聚积在一起的有光的气体，即使坠落，也不会击中、打伤人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人说：“地塌了怎么办呢？”开导者说：“大地是聚积在一起的土块，四处都塞满了，没有地方没有土块。你整天踩踏着它，整天在地上行走，为什么要担心它会崩塌呢？”那人放下心来十分高兴，开导他的人也放下心来非常高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WordArt 4"/>
          <p:cNvSpPr/>
          <p:nvPr/>
        </p:nvSpPr>
        <p:spPr>
          <a:xfrm>
            <a:off x="2335320" y="620640"/>
            <a:ext cx="761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5"/>
          <p:cNvSpPr/>
          <p:nvPr/>
        </p:nvSpPr>
        <p:spPr>
          <a:xfrm>
            <a:off x="2335320" y="1484280"/>
            <a:ext cx="792000" cy="1368360"/>
          </a:xfrm>
          <a:prstGeom prst="downArrow">
            <a:avLst>
              <a:gd name="adj1" fmla="val 50000"/>
              <a:gd name="adj2" fmla="val 4318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6"/>
          <p:cNvSpPr/>
          <p:nvPr/>
        </p:nvSpPr>
        <p:spPr>
          <a:xfrm>
            <a:off x="4330080" y="7650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地崩坠，身无所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WordArt 7"/>
          <p:cNvSpPr/>
          <p:nvPr/>
        </p:nvSpPr>
        <p:spPr>
          <a:xfrm>
            <a:off x="2282760" y="2882880"/>
            <a:ext cx="771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8"/>
          <p:cNvSpPr/>
          <p:nvPr/>
        </p:nvSpPr>
        <p:spPr>
          <a:xfrm>
            <a:off x="3127320" y="1989000"/>
            <a:ext cx="358920" cy="2448000"/>
          </a:xfrm>
          <a:custGeom>
            <a:avLst/>
            <a:gdLst>
              <a:gd name="textAreaLeft" fmla="*/ 229320 w 358920"/>
              <a:gd name="textAreaRight" fmla="*/ 359280 w 35892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9"/>
          <p:cNvSpPr/>
          <p:nvPr/>
        </p:nvSpPr>
        <p:spPr>
          <a:xfrm>
            <a:off x="4318920" y="1720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，积气耳，无处无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0"/>
          <p:cNvSpPr/>
          <p:nvPr/>
        </p:nvSpPr>
        <p:spPr>
          <a:xfrm>
            <a:off x="4257000" y="2852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月星宿，亦积气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4371120" y="39909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地，积块耳，充塞四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13"/>
          <p:cNvSpPr/>
          <p:nvPr/>
        </p:nvSpPr>
        <p:spPr>
          <a:xfrm>
            <a:off x="2335320" y="3860640"/>
            <a:ext cx="792000" cy="1511640"/>
          </a:xfrm>
          <a:prstGeom prst="downArrow">
            <a:avLst>
              <a:gd name="adj1" fmla="val 50000"/>
              <a:gd name="adj2" fmla="val 4770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5"/>
          <p:cNvSpPr/>
          <p:nvPr/>
        </p:nvSpPr>
        <p:spPr>
          <a:xfrm>
            <a:off x="3268800" y="5229360"/>
            <a:ext cx="521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消除没有根据或不必要的担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a0000"/>
                </a:solidFill>
                <a:latin typeface="宋体"/>
              </a:rPr>
              <a:t>（天下本无事，庸人自扰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WordArt 16"/>
          <p:cNvSpPr/>
          <p:nvPr/>
        </p:nvSpPr>
        <p:spPr>
          <a:xfrm>
            <a:off x="2252520" y="5149800"/>
            <a:ext cx="76212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0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4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9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2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9"/>
          <p:cNvSpPr/>
          <p:nvPr/>
        </p:nvSpPr>
        <p:spPr>
          <a:xfrm>
            <a:off x="210960" y="141300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的讲了什么事？寓意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0"/>
          <p:cNvSpPr/>
          <p:nvPr/>
        </p:nvSpPr>
        <p:spPr>
          <a:xfrm>
            <a:off x="250920" y="2354400"/>
            <a:ext cx="846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杞人担心天坠地崩，身无所寄而寝食不安。传统认为，杞人的做法完全是庸人自扰，无根据地瞎担心。告诉我们要消除没有根据或不必要的忧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2" descr="未标题-1"/>
          <p:cNvPicPr/>
          <p:nvPr/>
        </p:nvPicPr>
        <p:blipFill>
          <a:blip r:embed="rId1"/>
          <a:stretch/>
        </p:blipFill>
        <p:spPr>
          <a:xfrm>
            <a:off x="3514680" y="3890880"/>
            <a:ext cx="3084480" cy="2347920"/>
          </a:xfrm>
          <a:prstGeom prst="rect">
            <a:avLst/>
          </a:prstGeom>
          <a:ln w="0">
            <a:noFill/>
          </a:ln>
        </p:spPr>
      </p:pic>
      <p:sp>
        <p:nvSpPr>
          <p:cNvPr id="80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1138320" y="3197160"/>
            <a:ext cx="714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寓言是文学作品的一种体裁，是带有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讽喻和讽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故事。其篇幅大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简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主人公可以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可以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拟人化的生物或非生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主题多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借此喻彼，借远喻近，借小喻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使深奥的道理从简单的故事中体现出来，具有鲜明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哲理性和讽刺性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在创作上常常采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夸张和拟人等表现手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图片 1" descr="003i0MYrzy6L6EUHeoq4a&amp;690"/>
          <p:cNvPicPr/>
          <p:nvPr/>
        </p:nvPicPr>
        <p:blipFill>
          <a:blip r:embed="rId1"/>
          <a:stretch/>
        </p:blipFill>
        <p:spPr>
          <a:xfrm>
            <a:off x="3452760" y="585720"/>
            <a:ext cx="4191120" cy="5686560"/>
          </a:xfrm>
          <a:prstGeom prst="rect">
            <a:avLst/>
          </a:prstGeom>
          <a:ln w="0">
            <a:noFill/>
          </a:ln>
        </p:spPr>
      </p:pic>
      <p:sp>
        <p:nvSpPr>
          <p:cNvPr id="632" name="文本框 2"/>
          <p:cNvSpPr/>
          <p:nvPr/>
        </p:nvSpPr>
        <p:spPr>
          <a:xfrm>
            <a:off x="1658880" y="1206360"/>
            <a:ext cx="5461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赫耳墨斯和雕像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1028"/>
          <p:cNvSpPr/>
          <p:nvPr/>
        </p:nvSpPr>
        <p:spPr>
          <a:xfrm>
            <a:off x="136440" y="961920"/>
            <a:ext cx="87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赫耳墨斯为什么来到凡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1029"/>
          <p:cNvSpPr/>
          <p:nvPr/>
        </p:nvSpPr>
        <p:spPr>
          <a:xfrm>
            <a:off x="228600" y="1627200"/>
            <a:ext cx="86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因为想赫耳墨斯知道他在人间受到多大的尊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027"/>
          <p:cNvSpPr/>
          <p:nvPr/>
        </p:nvSpPr>
        <p:spPr>
          <a:xfrm>
            <a:off x="157320" y="2133720"/>
            <a:ext cx="80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为什么挑了宙斯和赫拉的雕像来问价，请说出他此刻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心理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030"/>
          <p:cNvSpPr/>
          <p:nvPr/>
        </p:nvSpPr>
        <p:spPr>
          <a:xfrm>
            <a:off x="338040" y="3505320"/>
            <a:ext cx="84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先问宙斯雕像的价格，大有跟最高的神一比高低的想法；知道价钱不高后，他十分满意。问赫拉雕像的价钱之后，他更觉得自己是商人的庇护神，人们对他会更尊重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228600" y="2924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个简单的“笑”，传神地写出了赫耳墨斯微妙的内心世界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嘲笑宙斯雕像价格低，讥笑宙斯不如赫拉，暗想商人会把自己的身价抬得很高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这正是他虚荣心的具体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228600" y="955800"/>
            <a:ext cx="855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墨斯三次问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态、语气一样吗？为什么要“笑着问道”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“笑”有什么含义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15840" y="82872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赫耳墨斯和雕像者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1650960" y="2340000"/>
            <a:ext cx="55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笑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2451240" y="4971960"/>
            <a:ext cx="45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爱慕虚荣而不被重视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13"/>
          <p:cNvSpPr/>
          <p:nvPr/>
        </p:nvSpPr>
        <p:spPr>
          <a:xfrm>
            <a:off x="4282920" y="3068640"/>
            <a:ext cx="0" cy="1008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4"/>
          <p:cNvSpPr/>
          <p:nvPr/>
        </p:nvSpPr>
        <p:spPr>
          <a:xfrm>
            <a:off x="883440" y="17114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情节发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5"/>
          <p:cNvSpPr/>
          <p:nvPr/>
        </p:nvSpPr>
        <p:spPr>
          <a:xfrm>
            <a:off x="1666800" y="3352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心理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6"/>
          <p:cNvSpPr/>
          <p:nvPr/>
        </p:nvSpPr>
        <p:spPr>
          <a:xfrm>
            <a:off x="4867200" y="33526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语言、神态描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7"/>
          <p:cNvSpPr/>
          <p:nvPr/>
        </p:nvSpPr>
        <p:spPr>
          <a:xfrm>
            <a:off x="3114720" y="4191120"/>
            <a:ext cx="37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反衬手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2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2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20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3"/>
          <p:cNvSpPr/>
          <p:nvPr/>
        </p:nvSpPr>
        <p:spPr>
          <a:xfrm>
            <a:off x="723960" y="3314880"/>
            <a:ext cx="73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讽刺、批评那些爱慕虚荣、妄自尊大的人。告诉人们要有自知之明，不能妄自尊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663480" y="987480"/>
            <a:ext cx="74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这则寓言生动刻画出一个怎样的赫耳墨斯形象？课文寓意是什么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557280" y="2557440"/>
            <a:ext cx="73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生动刻画出一个妄自尊大、爱慕虚荣者的形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语文备课大师【全免费】</dc:creator>
  <dc:description>语文备课大师【全免费】</dc:description>
  <cp:keywords/>
  <dc:language>en-US</dc:language>
  <cp:lastModifiedBy>xuhuachang</cp:lastModifiedBy>
  <dcterms:modified xsi:type="dcterms:W3CDTF">2017-09-16T18:21:24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