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B5EB-63CB-41A3-AC35-459A769A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45A9-4B75-45B7-8212-0A778783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85140-D81A-44DD-AF57-FE3F5F5A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6F5E2-F19E-42B2-9F28-9F5F379C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7391E-315D-400C-8CA4-CE216891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D512E-0770-48B2-95C6-DDC098A6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087D7-214C-48A0-B56C-3B6B32BD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9F755-DA9B-4B8D-803F-A950E517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8557A-9B72-4A77-8B97-BD03A080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6B1BF-44EA-49C8-81D2-76725E4B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A0BE7-6EDA-43F5-82F9-FAD5F321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0F338-6857-4E43-9CCB-CB612459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20B9-C19A-4450-9481-D6F6EF979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2219B-CB2C-4CF3-8303-B1DD1E9C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F2C13-6CCA-4D93-9F58-6C917864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70F2E-7568-4FCD-876C-EE271140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97490-B930-4EA4-BB80-801B7914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67982-43B8-426E-8AFF-BE3993E2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295E1-5FFE-4527-8D4B-5B3D2AD3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5BB0D-408F-402E-9777-B057F489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3BACB-FE8C-4912-9F1E-A49BA452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6C2B6-EAAE-45B0-877A-92782D8E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B55DC-9CFC-44F5-BD90-5CE6D212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3EC1-11DE-438C-83E2-D523E8FF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7CB71-902B-4055-A786-500DFBFD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6E88F-9397-423E-BC55-B56BC845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DAF27-3A52-4040-874A-D356CCF7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FDE6D-73CA-418B-84B5-D65F4E8B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76549-5194-4F9C-8CCD-583BAF74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426BA-CBE2-4B41-9E75-47D9A6B9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62B0E-87C3-4343-BB4A-B8CFACBF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4D110-720A-440C-9CA2-CF5629E0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0EC69-375C-4E93-AD9A-7BA2310D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12F1C-FC81-4C05-8B0E-0D4C6190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3977-0EC4-43C8-9E66-1F75077F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960FC-395C-42F4-99F2-1DC9109A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F0586-AA94-4BA3-95D3-78E14FC8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7173E-63CC-4FD3-9FE7-B2E09D7F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17F09-918E-455A-85AA-900C4154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BE34E-146F-4409-8609-E5E3F5F7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97DE4-521B-4D8B-9863-FF6CC895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05CA4-651F-47DA-B92F-5E208379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8F1CE-41EB-49B0-B1FF-379F3316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1A6AD-D995-4543-920C-71338FC9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55177-3601-4057-B027-524B821D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366F-4673-4EAC-8E44-5BC9D568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BB170-7DBF-4014-9742-10591C4D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E889E-38E9-4742-8935-5702DC2E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F3E55-A774-46F1-82F2-2F779CE9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147A4-9A2D-4870-868A-D9BC5169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89E5D-07CC-4E60-840A-BD09DF5F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8EF81C-2242-44D8-A530-3AC152202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BFCCA-B063-423C-BC86-F16938CE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39239B-CD50-4592-BFCF-3D0E36A8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D3A100-CF51-4792-87AD-6897E404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B33E1-1FB8-49FD-BAF6-E517DA67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314A-3885-42AD-AFA4-F8BD8C8C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924E9-BB80-49AD-8E39-94B82C8D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3833C-623B-42E1-AE11-EEE2CACA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4A824-011C-433E-820C-13E586CF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72644-A652-47D7-8D65-9146E02B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076540-E8DB-4153-80AB-9B0A901A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16C90-0701-4511-9D40-9EA4284A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E77D0A-175D-483A-B09F-DDC51AE5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2FB40D-6301-4B6A-A918-AB6FA480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B9D42-BE84-490E-9A0B-79C7D889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57CDED-0DCF-4A80-809A-333285E6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F2C3-6B8B-4EBB-B31C-DB374073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A11BC2-7D4A-426B-84D2-27B95931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3B68D-B88A-4A87-8B99-EF838309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05EBA5-5D8D-4F45-9B35-9E3CDC00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3DB9F-A519-4750-9287-E4C6FD07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926891-04B2-4DAD-A710-08CFE0D7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1E4470-95BF-42FF-A1AD-B1935EA6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8BFE03-86A7-44FC-A558-1A5A6195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AF3C2F-718A-47B4-AE68-6B85ECFF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938D67-02E5-429F-A9EA-E20B582E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915B59-EB91-4670-B847-77A42B9E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DA39-65D4-47D2-B4CF-6BACE67D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868055-1B16-4BDB-9012-D6E61F1F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A78557-B0B9-4AA2-A0A9-D5756A09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1FF51-EC5B-457C-AA66-68FC0C8B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407FF6-9CF2-474B-962C-61EF47F8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ABD988-168F-4E6E-AD9C-59AF1B94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5E0D93-24E3-4C92-9E37-21DDC69E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9C108-9454-486A-AB4B-34958B52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4D2DC0-F993-40C7-8D82-8941B1C9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1035C7-6FE4-489F-8D76-29141B69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F50B05-E73C-41C8-B532-EDD23040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35B7-0ECC-4AB7-B1A1-CB2F1EDD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5D187B-BD50-4CA8-8ABB-064EA53D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868D-5E59-4774-B741-0A2E4581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790-D7E2-4D6A-A583-9ACE7697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F2DF-2CFF-4F22-9579-AD814CB8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E865-1F41-4D0D-9904-D8746A4B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3046-A731-4534-B5B1-03F592A2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750C-89E5-4629-9729-B4961074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E1D9-DFCD-4163-9DF8-167981FF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0C86C-3B05-4984-8BF0-E95727D1F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21386-A45C-42C6-B3F8-3D6A55A4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2C855-EDDC-424A-8484-3FCEBDE4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59305-8181-4205-B709-2754FD6F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9AD68-C2EC-4DB3-B93F-022CE4BA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CE4-20B1-4C4B-8D0E-A4DDA5F2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B89FA-D697-4C49-9BE9-5730F669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3F01B-2799-4A8E-BFD8-1A386E9D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0DD42-B80B-4A28-A65F-39314F29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7313E-9AF8-4EA7-A410-5BCB56F2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43655-7148-4DC9-880A-96FE771E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7FFAA-D289-4ACD-ACB2-53853F4E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68EC9-3AE6-4C72-B72D-00ED55BAB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96339-9D35-4940-B879-BF3B3B10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E9FA8-6364-4FAF-82F4-C9A4ACD1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34DB5-DE49-4DE4-A418-C3177A59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6AEA-7846-4900-8D76-BEA6B0EA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7B1A7-3405-4AD2-B380-AE4B5C07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560C0-5E1D-469A-98EF-DB78960C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8A944-D0D7-47C7-A76C-60B2F37A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873DF-28EF-474F-8948-02452168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6E030-967F-48DB-A7D8-EE8C486B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1735A-BD4A-4EEB-994B-91E7CD22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EFD16-FCEA-4494-B701-01AE6018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AD5E8-6947-4E6B-BB75-2A5B1995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52E0C-E4B6-4E08-9031-3278C69A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563BF-1E4E-4B00-92C8-2DACC6AC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3581-6A7C-4A24-86B9-10883ECE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C7A7B-2D7A-4055-AC61-1B53961A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4C3EA-708E-4FF8-AB2C-CA44762B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13F5C-64CC-432C-AEDD-13E97060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80599-3352-4CC9-9EB3-A4A5E6AB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C5B5B-22FC-4089-8C41-5B8C8427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345C1-4463-4CC1-A784-96CD137A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BA303-DC5C-4C89-9D4B-717313B2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2FEB1-E164-4092-B964-0E47EF72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7FB0A-E842-4BD0-B582-04AD42CB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16789-710C-42C7-B573-723777B5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2D7F-1C99-4C67-A83A-969EAC40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8A2E5-23B3-485F-9B9B-DD4F15FC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CC427-0E43-44CE-95A6-1FBD3E70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4153C-EBE8-4FA5-AD89-BDE40AC7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FF356-9CC3-4865-B4DE-D69C2B24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36707-14CE-4092-9F47-D348B3A5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93DF6-0C17-4A4D-8963-133D37FE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28446-EF92-4E49-B169-0957948C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3D16B-D592-498E-AF86-DB021064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B5DBD-DFAB-4DF4-A6F9-AE53843D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64540-6EEC-49EC-9197-2D3CB135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4D0-8D36-4FB9-856D-15E6C657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A42F2-5874-4D27-8D04-AEDA9EC6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87353-DDCA-4E04-A94F-BE0AB08E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6E7F1-E65B-4C9D-827C-FB9B1879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90E28-6C31-4665-B283-19685537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7D588-8731-4D6B-9C31-A46FF966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FC8E4-4868-4FF5-BD34-9BF0321F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76B18-19B8-4E06-8AE8-1F875457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2FDD2-FDBF-41B3-9251-9013D904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73E35-C715-493F-AFA4-CC2379F0A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9C3A1-EF3F-4FAE-AC78-2FF215BC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E31A-393E-4EE0-9F01-D594ADD5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2EA46-63D1-4A82-82F8-5A6EC18B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DC189-918C-4E05-9826-BCE2A050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B2BBE-096C-4D48-9FFC-5AC9C27F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BEECF-9D5C-45F1-8968-728CEC63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B7A13-26AA-45AC-9948-63D98A87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FE05F-6B9D-4002-AC06-F6B228BA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366F8-BFD2-40D5-AB38-9FE41145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A1DB2-328B-48E6-BAAF-F99E2118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3A55D-66A6-4545-8257-F2EBDC15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9B269-3834-4BA3-BD3F-F8330708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51A2-4A64-46DB-A4F9-896253EC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87FF2-0367-4865-AFF9-9E534BC3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963F5-4088-4E45-A1B9-BC5429F0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0B054-71FA-4059-BA62-4D23C4B9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ECE5B-2B51-488D-AA60-56525312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009E1-747A-4A07-B620-32787043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B1E30-344B-4AFA-97E6-B3263148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E5D08-A16D-45CE-AA9D-7941DD3F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9AD3F-C3C0-4E55-8BA6-23650326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F56DC-5757-430B-ABC6-4F6ED9CA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3FCFE-030D-4E7A-8504-76D8305A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2417-E55E-4B0F-B643-4255A57D9B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CC19-E299-40ED-9799-A0BDEEAC70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9B85-E9DD-4147-B47E-1B3873CDA2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CE73-8B2F-48B2-B85D-ABA3D9F911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EB33-7973-4901-A680-BCC94B9C03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B0D2-759C-46B2-83E8-186E215A42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9BED-8D88-4A39-9ABA-5D0E2633A5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87C1-E3F3-4DBF-ADBB-073D0EC0B5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7A78-52C6-47D1-A83C-A5EE96A92D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17C9-9002-4213-A47B-0482D3A75C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8D08-801C-4472-B514-3B9826C619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7FDD-C068-4F8E-84BA-914ABFA702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93BA-3DC0-4D83-9BC5-2907582FE6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ECEE-84C9-4A03-9E46-7F7607A33E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D906-52F1-41A6-B2E9-233C9F8739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SubTitle_1">
            <a:hlinkClick r:id="rId1" action="ppaction://hlinksldjump"/>
          </p:cNvPr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SubTitle_2">
            <a:hlinkClick r:id="rId2" action="ppaction://hlinksldjump"/>
          </p:cNvPr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MH_SubTitle_3">
            <a:hlinkClick r:id="rId3" action="ppaction://hlinksldjump"/>
          </p:cNvPr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SubTitle_4">
            <a:hlinkClick r:id="rId4" action="ppaction://hlinksldjump"/>
          </p:cNvPr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603" name="MH_Other_7" descr=""/>
            <p:cNvPicPr/>
            <p:nvPr/>
          </p:nvPicPr>
          <p:blipFill>
            <a:blip r:embed="rId5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07" name="MH_Other_9" descr=""/>
            <p:cNvPicPr/>
            <p:nvPr/>
          </p:nvPicPr>
          <p:blipFill>
            <a:blip r:embed="rId7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8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MH_Other_11" descr=""/>
          <p:cNvPicPr/>
          <p:nvPr/>
        </p:nvPicPr>
        <p:blipFill>
          <a:blip r:embed="rId9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10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3"/>
          <p:cNvSpPr/>
          <p:nvPr/>
        </p:nvSpPr>
        <p:spPr>
          <a:xfrm>
            <a:off x="5364000" y="62064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七年级语文上（</a:t>
            </a:r>
            <a:r>
              <a:rPr b="1" lang="en-US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4130"/>
          <p:cNvSpPr/>
          <p:nvPr/>
        </p:nvSpPr>
        <p:spPr>
          <a:xfrm>
            <a:off x="393840" y="2276640"/>
            <a:ext cx="78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23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女娲造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3" descr="10"/>
          <p:cNvPicPr/>
          <p:nvPr/>
        </p:nvPicPr>
        <p:blipFill>
          <a:blip r:embed="rId1"/>
          <a:stretch/>
        </p:blipFill>
        <p:spPr>
          <a:xfrm>
            <a:off x="666720" y="612720"/>
            <a:ext cx="4613400" cy="25084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7"/>
          <p:cNvPicPr/>
          <p:nvPr/>
        </p:nvPicPr>
        <p:blipFill>
          <a:blip r:embed="rId2"/>
          <a:stretch/>
        </p:blipFill>
        <p:spPr>
          <a:xfrm>
            <a:off x="1469880" y="3413160"/>
            <a:ext cx="2054520" cy="296856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5" descr="8"/>
          <p:cNvPicPr/>
          <p:nvPr/>
        </p:nvPicPr>
        <p:blipFill>
          <a:blip r:embed="rId3"/>
          <a:stretch/>
        </p:blipFill>
        <p:spPr>
          <a:xfrm>
            <a:off x="5735520" y="1295280"/>
            <a:ext cx="3097440" cy="18892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6" descr="9"/>
          <p:cNvPicPr/>
          <p:nvPr/>
        </p:nvPicPr>
        <p:blipFill>
          <a:blip r:embed="rId4"/>
          <a:stretch/>
        </p:blipFill>
        <p:spPr>
          <a:xfrm>
            <a:off x="4883040" y="3505320"/>
            <a:ext cx="2613240" cy="24256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8"/>
          <p:cNvSpPr/>
          <p:nvPr/>
        </p:nvSpPr>
        <p:spPr>
          <a:xfrm>
            <a:off x="2590920" y="2362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9"/>
          <p:cNvSpPr/>
          <p:nvPr/>
        </p:nvSpPr>
        <p:spPr>
          <a:xfrm>
            <a:off x="3046320" y="59529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8334360" y="268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6248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2"/>
          <p:cNvSpPr/>
          <p:nvPr/>
        </p:nvSpPr>
        <p:spPr>
          <a:xfrm>
            <a:off x="4667400" y="5911920"/>
            <a:ext cx="44766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宋体"/>
              </a:rPr>
              <a:t>根据图片，展开想象，讲述故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当堂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3"/>
          <p:cNvGrpSpPr/>
          <p:nvPr/>
        </p:nvGrpSpPr>
        <p:grpSpPr>
          <a:xfrm>
            <a:off x="684360" y="909720"/>
            <a:ext cx="1714320" cy="499680"/>
            <a:chOff x="684360" y="909720"/>
            <a:chExt cx="1714320" cy="499680"/>
          </a:xfrm>
        </p:grpSpPr>
        <p:sp>
          <p:nvSpPr>
            <p:cNvPr id="618" name="流程图: 文档 2"/>
            <p:cNvSpPr/>
            <p:nvPr/>
          </p:nvSpPr>
          <p:spPr>
            <a:xfrm>
              <a:off x="684360" y="95580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文本框 4101"/>
            <p:cNvSpPr/>
            <p:nvPr/>
          </p:nvSpPr>
          <p:spPr>
            <a:xfrm>
              <a:off x="684360" y="90972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文本框 1"/>
          <p:cNvSpPr/>
          <p:nvPr/>
        </p:nvSpPr>
        <p:spPr>
          <a:xfrm>
            <a:off x="4018680" y="176220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比较阅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整体感知故事情节，初步感受想象的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3"/>
          <p:cNvSpPr/>
          <p:nvPr/>
        </p:nvSpPr>
        <p:spPr>
          <a:xfrm>
            <a:off x="2635560" y="257508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探究阅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体会神话故事的魅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4"/>
          <p:cNvSpPr/>
          <p:nvPr/>
        </p:nvSpPr>
        <p:spPr>
          <a:xfrm>
            <a:off x="3120120" y="341640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e91303"/>
                </a:solidFill>
                <a:latin typeface="Times New Roman"/>
              </a:rPr>
              <a:t>拓展阅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试运用创造性想象扩写神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预习课文    相关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组合 6147"/>
          <p:cNvGrpSpPr/>
          <p:nvPr/>
        </p:nvGrpSpPr>
        <p:grpSpPr>
          <a:xfrm>
            <a:off x="325440" y="334800"/>
            <a:ext cx="2232000" cy="794880"/>
            <a:chOff x="325440" y="334800"/>
            <a:chExt cx="2232000" cy="794880"/>
          </a:xfrm>
        </p:grpSpPr>
        <p:sp>
          <p:nvSpPr>
            <p:cNvPr id="630" name="矩形 7"/>
            <p:cNvSpPr/>
            <p:nvPr/>
          </p:nvSpPr>
          <p:spPr>
            <a:xfrm>
              <a:off x="885240" y="334800"/>
              <a:ext cx="167220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任意多边形 16"/>
            <p:cNvSpPr/>
            <p:nvPr/>
          </p:nvSpPr>
          <p:spPr>
            <a:xfrm>
              <a:off x="325440" y="62316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矩形 17"/>
            <p:cNvSpPr/>
            <p:nvPr/>
          </p:nvSpPr>
          <p:spPr>
            <a:xfrm>
              <a:off x="687240" y="57240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文本框 6151"/>
            <p:cNvSpPr/>
            <p:nvPr/>
          </p:nvSpPr>
          <p:spPr>
            <a:xfrm>
              <a:off x="1168560" y="609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检查预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组合 3"/>
          <p:cNvGrpSpPr/>
          <p:nvPr/>
        </p:nvGrpSpPr>
        <p:grpSpPr>
          <a:xfrm>
            <a:off x="684360" y="1268280"/>
            <a:ext cx="1714320" cy="499680"/>
            <a:chOff x="684360" y="1268280"/>
            <a:chExt cx="1714320" cy="499680"/>
          </a:xfrm>
        </p:grpSpPr>
        <p:sp>
          <p:nvSpPr>
            <p:cNvPr id="636" name="流程图: 文档 2"/>
            <p:cNvSpPr/>
            <p:nvPr/>
          </p:nvSpPr>
          <p:spPr>
            <a:xfrm>
              <a:off x="684360" y="131436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文本框 4101"/>
            <p:cNvSpPr/>
            <p:nvPr/>
          </p:nvSpPr>
          <p:spPr>
            <a:xfrm>
              <a:off x="684360" y="126828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走近作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8" name="图片 1" descr="5882b2b7d0a20cf440ab305973094b36acaf9979"/>
          <p:cNvPicPr/>
          <p:nvPr/>
        </p:nvPicPr>
        <p:blipFill>
          <a:blip r:embed="rId1"/>
          <a:stretch/>
        </p:blipFill>
        <p:spPr>
          <a:xfrm>
            <a:off x="536400" y="2324160"/>
            <a:ext cx="2868840" cy="2421000"/>
          </a:xfrm>
          <a:prstGeom prst="rect">
            <a:avLst/>
          </a:prstGeom>
          <a:ln w="0">
            <a:noFill/>
          </a:ln>
        </p:spPr>
      </p:pic>
      <p:sp>
        <p:nvSpPr>
          <p:cNvPr id="639" name="文本框 3"/>
          <p:cNvSpPr/>
          <p:nvPr/>
        </p:nvSpPr>
        <p:spPr>
          <a:xfrm>
            <a:off x="3498840" y="1219320"/>
            <a:ext cx="54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袁珂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），四川新都人，神话学家。本名袁圣时，笔名丙生、高标、袁展等。著有《中国古代神话》、《中国神话传说》、《古神话选释》、《神话论文集》、《袁珂神话论集》、《中国神话百题》、《神话故事新编》、《中华文化集粹丛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异篇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初读课文    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文本框 1"/>
          <p:cNvSpPr/>
          <p:nvPr/>
        </p:nvSpPr>
        <p:spPr>
          <a:xfrm>
            <a:off x="2180880" y="1422360"/>
            <a:ext cx="377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女娲为什么要造人？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娲是怎样造人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3"/>
          <p:cNvGrpSpPr/>
          <p:nvPr/>
        </p:nvGrpSpPr>
        <p:grpSpPr>
          <a:xfrm>
            <a:off x="1754280" y="2598840"/>
            <a:ext cx="3036240" cy="2573280"/>
            <a:chOff x="1754280" y="2598840"/>
            <a:chExt cx="3036240" cy="2573280"/>
          </a:xfrm>
        </p:grpSpPr>
        <p:sp>
          <p:nvSpPr>
            <p:cNvPr id="647" name="Text Box 4"/>
            <p:cNvSpPr/>
            <p:nvPr/>
          </p:nvSpPr>
          <p:spPr>
            <a:xfrm>
              <a:off x="1754280" y="3730680"/>
              <a:ext cx="182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女娲造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5"/>
            <p:cNvSpPr/>
            <p:nvPr/>
          </p:nvSpPr>
          <p:spPr>
            <a:xfrm>
              <a:off x="3627360" y="2867040"/>
              <a:ext cx="144360" cy="23050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59760 h 2305080"/>
                <a:gd name="textAreaBottom" fmla="*/ 2245320 h 23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182"/>
                  </a:lnTo>
                  <a:cubicBezTo>
                    <a:pt x="10800" y="10081"/>
                    <a:pt x="5400" y="10979"/>
                    <a:pt x="0" y="10979"/>
                  </a:cubicBezTo>
                  <a:cubicBezTo>
                    <a:pt x="5400" y="10979"/>
                    <a:pt x="10800" y="11878"/>
                    <a:pt x="10800" y="12776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6"/>
            <p:cNvSpPr/>
            <p:nvPr/>
          </p:nvSpPr>
          <p:spPr>
            <a:xfrm>
              <a:off x="3988080" y="259884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原因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7"/>
          <p:cNvSpPr/>
          <p:nvPr/>
        </p:nvSpPr>
        <p:spPr>
          <a:xfrm>
            <a:off x="5366520" y="2598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到孤独荒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oup 8"/>
          <p:cNvGrpSpPr/>
          <p:nvPr/>
        </p:nvGrpSpPr>
        <p:grpSpPr>
          <a:xfrm>
            <a:off x="3967560" y="3443400"/>
            <a:ext cx="1028160" cy="1728720"/>
            <a:chOff x="3967560" y="3443400"/>
            <a:chExt cx="1028160" cy="1728720"/>
          </a:xfrm>
        </p:grpSpPr>
        <p:sp>
          <p:nvSpPr>
            <p:cNvPr id="652" name="Text Box 9"/>
            <p:cNvSpPr/>
            <p:nvPr/>
          </p:nvSpPr>
          <p:spPr>
            <a:xfrm>
              <a:off x="3967560" y="40197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过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10"/>
            <p:cNvSpPr/>
            <p:nvPr/>
          </p:nvSpPr>
          <p:spPr>
            <a:xfrm>
              <a:off x="4780080" y="3443400"/>
              <a:ext cx="215640" cy="172872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45000 h 1728720"/>
                <a:gd name="textAreaBottom" fmla="*/ 1683720 h 172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Text Box 11"/>
          <p:cNvSpPr/>
          <p:nvPr/>
        </p:nvSpPr>
        <p:spPr>
          <a:xfrm>
            <a:off x="5509080" y="3174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揉团黄泥造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12"/>
          <p:cNvGrpSpPr/>
          <p:nvPr/>
        </p:nvGrpSpPr>
        <p:grpSpPr>
          <a:xfrm>
            <a:off x="5509080" y="3659040"/>
            <a:ext cx="1278000" cy="839160"/>
            <a:chOff x="5509080" y="3659040"/>
            <a:chExt cx="1278000" cy="839160"/>
          </a:xfrm>
        </p:grpSpPr>
        <p:sp>
          <p:nvSpPr>
            <p:cNvPr id="656" name="Text Box 13"/>
            <p:cNvSpPr/>
            <p:nvPr/>
          </p:nvSpPr>
          <p:spPr>
            <a:xfrm>
              <a:off x="550908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挥溅泥点造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14"/>
            <p:cNvSpPr/>
            <p:nvPr/>
          </p:nvSpPr>
          <p:spPr>
            <a:xfrm>
              <a:off x="6075360" y="36590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Group 15"/>
          <p:cNvGrpSpPr/>
          <p:nvPr/>
        </p:nvGrpSpPr>
        <p:grpSpPr>
          <a:xfrm>
            <a:off x="5496480" y="4522680"/>
            <a:ext cx="1278000" cy="696240"/>
            <a:chOff x="5496480" y="4522680"/>
            <a:chExt cx="1278000" cy="696240"/>
          </a:xfrm>
        </p:grpSpPr>
        <p:sp>
          <p:nvSpPr>
            <p:cNvPr id="659" name="Text Box 16"/>
            <p:cNvSpPr/>
            <p:nvPr/>
          </p:nvSpPr>
          <p:spPr>
            <a:xfrm>
              <a:off x="5496480" y="47592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男女婚配造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6075360" y="45226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 Box 4"/>
          <p:cNvSpPr/>
          <p:nvPr/>
        </p:nvSpPr>
        <p:spPr>
          <a:xfrm>
            <a:off x="538200" y="716040"/>
            <a:ext cx="856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故事中哪些内容体现出女娲的“神”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故事中哪些内容体现出女娲的“人”性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"/>
          <p:cNvSpPr/>
          <p:nvPr/>
        </p:nvSpPr>
        <p:spPr>
          <a:xfrm>
            <a:off x="825480" y="1986120"/>
            <a:ext cx="34671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天变化七十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揉黄泥造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挥洒泥浆造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826920" y="4362480"/>
            <a:ext cx="346716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寂寞孤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自豪欣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忙碌疲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4"/>
          <p:cNvSpPr/>
          <p:nvPr/>
        </p:nvSpPr>
        <p:spPr>
          <a:xfrm>
            <a:off x="3851280" y="4506840"/>
            <a:ext cx="289080" cy="1727280"/>
          </a:xfrm>
          <a:custGeom>
            <a:avLst/>
            <a:gdLst>
              <a:gd name="textAreaLeft" fmla="*/ 0 w 289080"/>
              <a:gd name="textAreaRight" fmla="*/ 104400 w 289080"/>
              <a:gd name="textAreaTop" fmla="*/ 44640 h 1727280"/>
              <a:gd name="textAreaBottom" fmla="*/ 1682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5"/>
          <p:cNvSpPr/>
          <p:nvPr/>
        </p:nvSpPr>
        <p:spPr>
          <a:xfrm>
            <a:off x="3851280" y="2058840"/>
            <a:ext cx="289080" cy="1727280"/>
          </a:xfrm>
          <a:custGeom>
            <a:avLst/>
            <a:gdLst>
              <a:gd name="textAreaLeft" fmla="*/ 0 w 289080"/>
              <a:gd name="textAreaRight" fmla="*/ 104400 w 289080"/>
              <a:gd name="textAreaTop" fmla="*/ 44640 h 1727280"/>
              <a:gd name="textAreaBottom" fmla="*/ 1682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6"/>
          <p:cNvSpPr/>
          <p:nvPr/>
        </p:nvSpPr>
        <p:spPr>
          <a:xfrm>
            <a:off x="4356000" y="22035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神”的非凡能力和神奇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7"/>
          <p:cNvSpPr/>
          <p:nvPr/>
        </p:nvSpPr>
        <p:spPr>
          <a:xfrm>
            <a:off x="4427640" y="46512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人”的心理、情感、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8"/>
          <p:cNvSpPr/>
          <p:nvPr/>
        </p:nvSpPr>
        <p:spPr>
          <a:xfrm>
            <a:off x="6732720" y="2058840"/>
            <a:ext cx="216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大胆奇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9"/>
          <p:cNvSpPr/>
          <p:nvPr/>
        </p:nvSpPr>
        <p:spPr>
          <a:xfrm>
            <a:off x="6732720" y="4506840"/>
            <a:ext cx="241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"/>
                <a:ea typeface="楷体"/>
              </a:rPr>
              <a:t>真实合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文本框 105"/>
          <p:cNvSpPr/>
          <p:nvPr/>
        </p:nvSpPr>
        <p:spPr>
          <a:xfrm>
            <a:off x="617400" y="955800"/>
            <a:ext cx="81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女娲造人的具体过程是真的吗？你怎样理解这种写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框 1"/>
          <p:cNvSpPr/>
          <p:nvPr/>
        </p:nvSpPr>
        <p:spPr>
          <a:xfrm>
            <a:off x="836640" y="1765440"/>
            <a:ext cx="773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女蜗造人的情节显然是想象的，神话是在科学水平不发达的远古时代产生的，那时的人们无法对人的诞生做出科学的准确的解释。但是，人类又想要探求自身起源，所以，只好借助于想象来解决这个问题了，而这种大胆而奇特的想象恰恰就是神话故事中的亮点。试想，没有了这种想象，还有神话故事的存在吗？这种想象体现了远古时代人们强烈的探求欲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 Box 3"/>
          <p:cNvSpPr/>
          <p:nvPr/>
        </p:nvSpPr>
        <p:spPr>
          <a:xfrm>
            <a:off x="609480" y="10494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记述了女娲造人的全过程，表现了原始人类对人类起源的好奇和追索，以及在当时社会条件下，所做出的丰富想象，表达了作者对生命诞生的喜悦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图片 1" descr="1439561912"/>
          <p:cNvPicPr/>
          <p:nvPr/>
        </p:nvPicPr>
        <p:blipFill>
          <a:blip r:embed="rId1"/>
          <a:stretch/>
        </p:blipFill>
        <p:spPr>
          <a:xfrm>
            <a:off x="2300400" y="2727360"/>
            <a:ext cx="5048280" cy="3333600"/>
          </a:xfrm>
          <a:prstGeom prst="rect">
            <a:avLst/>
          </a:prstGeom>
          <a:ln w="0">
            <a:noFill/>
          </a:ln>
        </p:spPr>
      </p:pic>
      <p:sp>
        <p:nvSpPr>
          <p:cNvPr id="67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语文备课大师【全免费】</dc:creator>
  <dc:description>语文备课大师【全免费】</dc:description>
  <cp:keywords/>
  <dc:language>en-US</dc:language>
  <cp:lastModifiedBy>xuhuachang</cp:lastModifiedBy>
  <dcterms:modified xsi:type="dcterms:W3CDTF">2017-09-16T18:21:24Z</dcterms:modified>
  <cp:revision>0</cp:revision>
  <dc:subject/>
  <dc:title>语文备课大师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