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88CD-BFE9-4DAE-85DA-929169C9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218A-592D-4262-9DE6-BD7CE0DD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EAEA1-AE67-4E97-A3EB-AF5F9BD4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DC872-C583-4738-9EAD-6EDADD11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17814-F217-401A-AC5B-B7E2A701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CFB74-A727-4601-93F8-71DC681F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258ED-DC1C-4DE0-8C28-3D2246CE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35EB8-8AA8-4295-9073-E02669CE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82EE4-5963-4D8C-98F6-29CCC617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CD06A-2831-4855-9E96-DB830D82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16BD6-4A01-40AA-A2CB-804D089E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698D6-52B9-45FA-9E02-A963FC34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CDE-008A-45AB-A246-7D44AD22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9D6D2-D572-4151-99E2-8CE6F1D2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D52F2-E0B2-40D1-8DE6-D5FCCF12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3DFE9-6AA1-439E-A494-1AA9007F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5DF64-84CD-4751-A466-AACFF6CE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1E231-CBB3-4E47-8559-60C24E2E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1CBC7-4903-4974-BA16-0F647A3B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99BB6-3C44-4E35-8378-2740FE50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A52C4-C488-4883-9977-D64D4580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851CB-3245-489C-9180-8C84511A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DAE29-3865-4EAA-8508-1EB9ED4D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5C3B-1AD7-40B5-AFE4-F7060A7B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FBBED-1C36-45B8-8FAA-DC6C1F83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B415B-9F6D-44AE-8562-1996F6A6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A5710-9B3C-4056-BD7C-60F951F9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7E1C3-50C7-4864-A17C-8A809F74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D5A79-1CEE-4E53-AC4C-F014F2BA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7B331-7CE4-422C-BBD7-0A7CF868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BC624-E5F9-44E1-BD4F-F13BAACB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86426-2677-4852-B220-D5555DAE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AA3D8-FFF9-49E0-A0BA-C0416DB0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06E99-4DB4-40D8-901E-3F342514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ACA6-2CA4-433F-AF4E-264A7800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35187-F5AB-4F41-8796-2EFACA28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8F96B-6C33-4D22-9FCF-9CCFEA91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AB8B3-3F99-48A9-A5A9-1B61C21D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1C39F-9FED-4853-ACC9-E6395898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40240-71DA-4BE1-801F-C24F171B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8A5EE-7CB2-4D73-8BE4-CB13986E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767E8-9ACC-45BB-98B0-92CAB95E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A5E3A-C748-46C3-AFD9-C7CDC98A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1E346-22C5-4DF1-A0DC-A005DCA8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CAB13-9917-411C-8B0A-C7EAECFE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0DE3-61E2-4F1A-996D-B79884DF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6BE06-4A69-4301-97CB-AA06524D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94E52-3ABC-4753-B1A7-19395419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0685A-CD47-442E-A746-4AC56576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1A69D-4D74-4EBF-93F9-D524BDA1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B8A93-BDB9-49D1-9899-9CE0FB7A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D22C0-A0B3-41C7-AB17-C94D238C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9E3803-048D-4BE7-809D-FE7FB5B1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C550D-3A4B-4E0E-BB0F-10B500E6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696A87-75C2-4B88-B3AF-7DC64F41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F77537-818F-4AAD-8555-70974272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D714-A8A1-42D1-9F9F-563C5E55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E232FB-6E0A-4F1E-9C0A-0FFB6B04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7DD1D3-01F6-4F8B-B3FF-A1DE791D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324AD7-0370-4560-AB33-9700032A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5F5B0D-02B3-472E-987A-FEE75807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491FBC-6DBD-4FFD-B4B3-2D146A8A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68910A-151F-42F7-BF02-9ADD56B1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47E57F-F5AF-4D27-8007-B6D21E63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303815-88CC-4325-8445-6C47479E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DBF1E9-43BB-4DED-BD1A-CE34C48D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BA2A78-2A7A-494C-BB63-131EAD2B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2014-D0EE-497B-B1F9-AFDF988B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951A8A-A93C-4A40-9B17-63342890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A47EE4-240D-43C9-9D08-52087A54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E12880-DBB3-421E-BEB9-FAD1A8D3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B37D60-D053-4994-9AC2-E371D911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F2E039-120F-4AF8-BDD0-C5E4AD22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567D8C-25FC-4D8F-AA32-3D78E560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6A1624-5ADD-44F2-A8B1-AD583EA0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D3BC40-1879-48D6-838A-F6FBF611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D3364E-B8CE-4B83-A25D-0856155B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4AFC11-9825-4837-B9A7-FD7EDE86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CA13-7A7C-4452-B96A-E38DE75D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533406-5B2E-4E35-BD37-6CE95D77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A98E14-9F11-421B-82EA-AF4AF454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4A82FF-A8A0-43A1-A09B-C9772C55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7051E-1627-4570-8CC9-AC733E3F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32D99C-B29D-439B-B588-94026D46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FD0A9F-5349-4034-8FA4-7D455AD5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1230DB-EDA8-44DE-8CC0-FB3B59AB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2FF2AA-F9B6-434A-B602-D7C31D7D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F1D57D-FA60-4EE3-90B8-90C41178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C79AEE-F49E-442D-B030-BD0E1CEF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1118-4D41-4697-9399-257510D0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750EAA-2B55-4ADB-BA33-28CFBDF3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C244-A4F4-4A34-A0AA-CBE46E4F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D1B4-807C-44DC-97F4-72C64130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CF31-EE8B-4156-9561-231652CA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851E-F715-40EA-87A7-6DFD0F62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A87D-7216-49A3-A0CB-C8252B41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8254-8471-4225-9E8E-BE73BCCE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148C-4497-4610-8804-1DFC6B70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F6750-D41B-499E-80C4-BD347645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FDAD7-E84E-4C64-86D0-D21A5007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54A54-9D05-486F-8292-835CFF2B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9F0C9-D251-438C-A4EE-28986156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2A20F-F021-4AD3-B68B-CF2E7B69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532D-8FB4-4E6D-8164-62FBE0F1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7C0CF-8BB7-42D6-A78A-7B9B9778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C9E01-3D61-4A36-8D3B-6994FED6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F3753-1EAC-4AC3-B49C-F95B9DF2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2904B-620D-421B-9168-8C20C41C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0341C-ADF7-48D3-BEAB-98C1B0F4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A799F-133B-411B-A1DA-64B98F34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5C092-5546-4A09-B8AF-7D4BD8EA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1630E-E9E7-44DA-BB1C-49B213E5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55653-F45D-4FD7-9270-B5F47C88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68223-A4F7-4636-93AA-0B811222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8814-1FF9-44E3-B521-B6CAA1AD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C5641-08CE-4A3A-9AEA-AC9CADBD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6B366-CD90-4FB7-B82B-4B1F02F4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F674A-5D50-483E-9EF8-40FDEF7D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07621-89DD-4A55-AD85-9501ADBB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67752-5FA8-4B51-98D4-674F6596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3426A-E408-4E2A-BCD1-03ECA42D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E27EC-E4AD-45AE-89DB-972C7451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33B41-E362-4412-915B-90954E36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30C05-A8E6-4461-A079-17D3FAE2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9B37D-CBE3-430E-812A-16DAAF9A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C1E3-800A-4F5A-A895-F4A0FCAF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41228-7786-42DD-9726-A9BD3C67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635F0-1F1A-452F-9CCF-66AD3F64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A197B-0DAA-4CC0-8D42-5B27B1D1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FDEF5-15FE-4ACC-8BED-FDB66658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2B01C-183A-4118-91B7-D1F82992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622D5-914F-4727-894F-17BB7CAF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1C249-659E-44E6-98F4-BE584C53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015EB-7B9B-48C6-AE90-61D4D76C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4E9CA-100A-4388-B8CC-2D9F954E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3B127-9BD5-4805-A7CB-62B2B390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B25-C222-4EC5-9A44-3C7E1927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80629-6BF9-448D-A7C4-9FC3562A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26F3E-439B-4ED3-994F-D644EE6A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3D668-BAE0-428F-B97E-36B10511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F9ED3-0A1F-4C81-816A-645EE5D4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7C83B-1014-41A3-83F7-21EC7BB7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D9691-E0C3-4FA2-8F1C-EF153A4C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C2296-9615-4B08-9B86-B5EBE15B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EF872-67E6-4975-B4BA-414C4080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29132-6BE0-436E-B5A6-96C6DC53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EDE04-B4AB-4C63-A3C7-F6F9B861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DD3-570E-4B66-9B31-883AD192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C3DA9-1AE7-4A2F-8027-2EAE6D17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FBE47-5F2B-4C4B-ADEA-3C221B54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E483A-2E23-4B28-A4F5-AD3165A7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7D0D8-224F-4307-9F45-D916C5DF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1E628-82B6-44B0-A5FC-2C6B3C75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0CC86-ADF8-4BA5-A904-32B680F0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BCAFB-F4F9-4BAA-A5C8-2277BE68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7FE42-EDDD-463E-B01B-42B9E768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28C0E-D07F-4F2D-9DF3-DD5C48EA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FCED1-BAEC-4407-B234-72E68192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17A7-7BCE-46F6-8FBF-9198A806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4287E-597D-4C7C-96EE-88C02342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C72E3-7845-4277-BEA4-5BF8E2CE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9130D-9C66-41A4-A282-D43B4598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F8DE3-35C5-4081-AC4E-D77409C2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56F35-51B2-453D-9915-15AB999D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F8147-2C83-4E31-84CF-03A2C2BA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7D46F-1B3C-4C65-8436-FDC8CB53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EECE4-F114-40B3-8403-6BA7DA7D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12851-8FBD-4147-BCDC-B38E4E49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78FD1-67C5-403F-A7CF-B9C3FAD7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B13-7DF1-4CCB-8084-958CC581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93B7F-323C-4AA9-972D-D3AA2BCE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52B2E-C03E-4EC2-970C-46B268B5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BE688-DF95-45FA-BFE9-2373291B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33B89-530F-4EB6-A23E-C50CCC8D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B812D-02E4-465A-9FEC-3C1DBEB1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40267-B02A-4E7A-AB45-D1424EF3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5870E-6299-4348-9C11-4B046034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CDDDF-0FBC-4F51-B6A9-46CCC2BA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5FF75-9C9D-446C-AF0D-33AA8B7A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F09D5-AFA4-45CB-A082-EB93AF6C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10F7-7FA0-4A82-A31D-088F31D8AD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188C-74A0-4AEE-997F-8A7F84A8A6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A6AA-F0BA-4DB9-94AE-A4DBA16547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6180-0DA8-447D-9B9F-3E63B3BF5A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DFB7-821C-49B0-ADD7-9D30125F23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DFDD-F495-4671-83DF-AB8146DCF3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7C54-3498-4DC5-B139-0FFCE5EEA1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BABE-3749-47FC-8454-DBF97D773A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34E6-1DA4-407B-A399-4EC943369F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ABC0-9695-4F66-BE09-5B0F659FE3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E623-2605-4338-B281-5CF0F30A4C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EB26-AB7B-4517-8562-7AF4F46421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791E-C564-4EDC-833D-D35CF56CC5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86AD-4722-47F6-9F0A-E8903DD135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9F0B-1DBA-4372-AC8C-7AE6AF6EFF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MH_SubTitle_1">
            <a:hlinkClick r:id="rId1" action="ppaction://hlinksldjump"/>
          </p:cNvPr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MH_SubTitle_2">
            <a:hlinkClick r:id="rId2" action="ppaction://hlinksldjump"/>
          </p:cNvPr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MH_SubTitle_3">
            <a:hlinkClick r:id="rId3" action="ppaction://hlinksldjump"/>
          </p:cNvPr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MH_SubTitle_4">
            <a:hlinkClick r:id="rId4" action="ppaction://hlinksldjump"/>
          </p:cNvPr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当堂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603" name="MH_Other_7" descr=""/>
            <p:cNvPicPr/>
            <p:nvPr/>
          </p:nvPicPr>
          <p:blipFill>
            <a:blip r:embed="rId5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07" name="MH_Other_9" descr=""/>
            <p:cNvPicPr/>
            <p:nvPr/>
          </p:nvPicPr>
          <p:blipFill>
            <a:blip r:embed="rId7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8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MH_Other_11" descr=""/>
          <p:cNvPicPr/>
          <p:nvPr/>
        </p:nvPicPr>
        <p:blipFill>
          <a:blip r:embed="rId9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10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3"/>
          <p:cNvSpPr/>
          <p:nvPr/>
        </p:nvSpPr>
        <p:spPr>
          <a:xfrm>
            <a:off x="5364000" y="62064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学练优七年级语文上（</a:t>
            </a:r>
            <a:r>
              <a:rPr b="1" lang="en-US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RJ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            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4130"/>
          <p:cNvSpPr/>
          <p:nvPr/>
        </p:nvSpPr>
        <p:spPr>
          <a:xfrm>
            <a:off x="393840" y="2276640"/>
            <a:ext cx="78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23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女娲造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3" descr="10"/>
          <p:cNvPicPr/>
          <p:nvPr/>
        </p:nvPicPr>
        <p:blipFill>
          <a:blip r:embed="rId1"/>
          <a:stretch/>
        </p:blipFill>
        <p:spPr>
          <a:xfrm>
            <a:off x="666720" y="612720"/>
            <a:ext cx="4613400" cy="25084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" descr="7"/>
          <p:cNvPicPr/>
          <p:nvPr/>
        </p:nvPicPr>
        <p:blipFill>
          <a:blip r:embed="rId2"/>
          <a:stretch/>
        </p:blipFill>
        <p:spPr>
          <a:xfrm>
            <a:off x="1469880" y="3413160"/>
            <a:ext cx="2054520" cy="296856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5" descr="8"/>
          <p:cNvPicPr/>
          <p:nvPr/>
        </p:nvPicPr>
        <p:blipFill>
          <a:blip r:embed="rId3"/>
          <a:stretch/>
        </p:blipFill>
        <p:spPr>
          <a:xfrm>
            <a:off x="5735520" y="1295280"/>
            <a:ext cx="3097440" cy="18892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6" descr="9"/>
          <p:cNvPicPr/>
          <p:nvPr/>
        </p:nvPicPr>
        <p:blipFill>
          <a:blip r:embed="rId4"/>
          <a:stretch/>
        </p:blipFill>
        <p:spPr>
          <a:xfrm>
            <a:off x="4883040" y="3505320"/>
            <a:ext cx="2613240" cy="242568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8"/>
          <p:cNvSpPr/>
          <p:nvPr/>
        </p:nvSpPr>
        <p:spPr>
          <a:xfrm>
            <a:off x="259092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9"/>
          <p:cNvSpPr/>
          <p:nvPr/>
        </p:nvSpPr>
        <p:spPr>
          <a:xfrm>
            <a:off x="3046320" y="59529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8334360" y="268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1"/>
          <p:cNvSpPr/>
          <p:nvPr/>
        </p:nvSpPr>
        <p:spPr>
          <a:xfrm>
            <a:off x="6248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2"/>
          <p:cNvSpPr/>
          <p:nvPr/>
        </p:nvSpPr>
        <p:spPr>
          <a:xfrm>
            <a:off x="4667400" y="5911920"/>
            <a:ext cx="44766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根据图片，展开想象，讲述故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当堂检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3"/>
          <p:cNvGrpSpPr/>
          <p:nvPr/>
        </p:nvGrpSpPr>
        <p:grpSpPr>
          <a:xfrm>
            <a:off x="684360" y="909720"/>
            <a:ext cx="1714320" cy="499680"/>
            <a:chOff x="684360" y="909720"/>
            <a:chExt cx="1714320" cy="499680"/>
          </a:xfrm>
        </p:grpSpPr>
        <p:sp>
          <p:nvSpPr>
            <p:cNvPr id="618" name="流程图: 文档 2"/>
            <p:cNvSpPr/>
            <p:nvPr/>
          </p:nvSpPr>
          <p:spPr>
            <a:xfrm>
              <a:off x="684360" y="95580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文本框 4101"/>
            <p:cNvSpPr/>
            <p:nvPr/>
          </p:nvSpPr>
          <p:spPr>
            <a:xfrm>
              <a:off x="684360" y="90972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学习目标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文本框 1"/>
          <p:cNvSpPr/>
          <p:nvPr/>
        </p:nvSpPr>
        <p:spPr>
          <a:xfrm>
            <a:off x="4018680" y="176220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比较阅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整体感知故事情节，初步感受想象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3"/>
          <p:cNvSpPr/>
          <p:nvPr/>
        </p:nvSpPr>
        <p:spPr>
          <a:xfrm>
            <a:off x="2635560" y="257508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探究阅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体会神话故事的魅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4"/>
          <p:cNvSpPr/>
          <p:nvPr/>
        </p:nvSpPr>
        <p:spPr>
          <a:xfrm>
            <a:off x="3120120" y="341640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e91303"/>
                </a:solidFill>
                <a:latin typeface="Times New Roman"/>
              </a:rPr>
              <a:t>拓展阅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试运用创造性想象扩写神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预习课文    相关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组合 6147"/>
          <p:cNvGrpSpPr/>
          <p:nvPr/>
        </p:nvGrpSpPr>
        <p:grpSpPr>
          <a:xfrm>
            <a:off x="325440" y="334800"/>
            <a:ext cx="2232000" cy="794880"/>
            <a:chOff x="325440" y="334800"/>
            <a:chExt cx="2232000" cy="794880"/>
          </a:xfrm>
        </p:grpSpPr>
        <p:sp>
          <p:nvSpPr>
            <p:cNvPr id="630" name="矩形 7"/>
            <p:cNvSpPr/>
            <p:nvPr/>
          </p:nvSpPr>
          <p:spPr>
            <a:xfrm>
              <a:off x="885240" y="334800"/>
              <a:ext cx="1672200" cy="762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任意多边形 16"/>
            <p:cNvSpPr/>
            <p:nvPr/>
          </p:nvSpPr>
          <p:spPr>
            <a:xfrm>
              <a:off x="325440" y="62316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矩形 17"/>
            <p:cNvSpPr/>
            <p:nvPr/>
          </p:nvSpPr>
          <p:spPr>
            <a:xfrm>
              <a:off x="687240" y="57240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文本框 6151"/>
            <p:cNvSpPr/>
            <p:nvPr/>
          </p:nvSpPr>
          <p:spPr>
            <a:xfrm>
              <a:off x="1168560" y="609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检查预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组合 3"/>
          <p:cNvGrpSpPr/>
          <p:nvPr/>
        </p:nvGrpSpPr>
        <p:grpSpPr>
          <a:xfrm>
            <a:off x="684360" y="1268280"/>
            <a:ext cx="1714320" cy="499680"/>
            <a:chOff x="684360" y="1268280"/>
            <a:chExt cx="1714320" cy="499680"/>
          </a:xfrm>
        </p:grpSpPr>
        <p:sp>
          <p:nvSpPr>
            <p:cNvPr id="636" name="流程图: 文档 2"/>
            <p:cNvSpPr/>
            <p:nvPr/>
          </p:nvSpPr>
          <p:spPr>
            <a:xfrm>
              <a:off x="684360" y="131436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文本框 4101"/>
            <p:cNvSpPr/>
            <p:nvPr/>
          </p:nvSpPr>
          <p:spPr>
            <a:xfrm>
              <a:off x="684360" y="126828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走近作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8" name="图片 1" descr="5882b2b7d0a20cf440ab305973094b36acaf9979"/>
          <p:cNvPicPr/>
          <p:nvPr/>
        </p:nvPicPr>
        <p:blipFill>
          <a:blip r:embed="rId1"/>
          <a:stretch/>
        </p:blipFill>
        <p:spPr>
          <a:xfrm>
            <a:off x="536400" y="2324160"/>
            <a:ext cx="2868840" cy="2421000"/>
          </a:xfrm>
          <a:prstGeom prst="rect">
            <a:avLst/>
          </a:prstGeom>
          <a:ln w="0">
            <a:noFill/>
          </a:ln>
        </p:spPr>
      </p:pic>
      <p:sp>
        <p:nvSpPr>
          <p:cNvPr id="639" name="文本框 3"/>
          <p:cNvSpPr/>
          <p:nvPr/>
        </p:nvSpPr>
        <p:spPr>
          <a:xfrm>
            <a:off x="3498840" y="1219320"/>
            <a:ext cx="54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袁珂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），四川新都人，神话学家。本名袁圣时，笔名丙生、高标、袁展等。著有《中国古代神话》、《中国神话传说》、《古神话选释》、《神话论文集》、《袁珂神话论集》、《中国神话百题》、《神话故事新编》、《中华文化集粹丛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异篇》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初读课文    整体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文本框 1"/>
          <p:cNvSpPr/>
          <p:nvPr/>
        </p:nvSpPr>
        <p:spPr>
          <a:xfrm>
            <a:off x="2180880" y="1422360"/>
            <a:ext cx="37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女娲为什么要造人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娲是怎样造人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3"/>
          <p:cNvGrpSpPr/>
          <p:nvPr/>
        </p:nvGrpSpPr>
        <p:grpSpPr>
          <a:xfrm>
            <a:off x="1754280" y="2598840"/>
            <a:ext cx="3036240" cy="2573280"/>
            <a:chOff x="1754280" y="2598840"/>
            <a:chExt cx="3036240" cy="2573280"/>
          </a:xfrm>
        </p:grpSpPr>
        <p:sp>
          <p:nvSpPr>
            <p:cNvPr id="647" name="Text Box 4"/>
            <p:cNvSpPr/>
            <p:nvPr/>
          </p:nvSpPr>
          <p:spPr>
            <a:xfrm>
              <a:off x="1754280" y="3730680"/>
              <a:ext cx="182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女娲造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AutoShape 5"/>
            <p:cNvSpPr/>
            <p:nvPr/>
          </p:nvSpPr>
          <p:spPr>
            <a:xfrm>
              <a:off x="3627360" y="2867040"/>
              <a:ext cx="144360" cy="23050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59760 h 2305080"/>
                <a:gd name="textAreaBottom" fmla="*/ 2245320 h 23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182"/>
                  </a:lnTo>
                  <a:cubicBezTo>
                    <a:pt x="10800" y="10081"/>
                    <a:pt x="5400" y="10979"/>
                    <a:pt x="0" y="10979"/>
                  </a:cubicBezTo>
                  <a:cubicBezTo>
                    <a:pt x="5400" y="10979"/>
                    <a:pt x="10800" y="11878"/>
                    <a:pt x="10800" y="12776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6"/>
            <p:cNvSpPr/>
            <p:nvPr/>
          </p:nvSpPr>
          <p:spPr>
            <a:xfrm>
              <a:off x="3988080" y="259884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原因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7"/>
          <p:cNvSpPr/>
          <p:nvPr/>
        </p:nvSpPr>
        <p:spPr>
          <a:xfrm>
            <a:off x="5366520" y="2598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到孤独荒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8"/>
          <p:cNvGrpSpPr/>
          <p:nvPr/>
        </p:nvGrpSpPr>
        <p:grpSpPr>
          <a:xfrm>
            <a:off x="3967560" y="3443400"/>
            <a:ext cx="1028160" cy="1728720"/>
            <a:chOff x="3967560" y="3443400"/>
            <a:chExt cx="1028160" cy="1728720"/>
          </a:xfrm>
        </p:grpSpPr>
        <p:sp>
          <p:nvSpPr>
            <p:cNvPr id="652" name="Text Box 9"/>
            <p:cNvSpPr/>
            <p:nvPr/>
          </p:nvSpPr>
          <p:spPr>
            <a:xfrm>
              <a:off x="3967560" y="4019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过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10"/>
            <p:cNvSpPr/>
            <p:nvPr/>
          </p:nvSpPr>
          <p:spPr>
            <a:xfrm>
              <a:off x="4780080" y="3443400"/>
              <a:ext cx="215640" cy="172872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Text Box 11"/>
          <p:cNvSpPr/>
          <p:nvPr/>
        </p:nvSpPr>
        <p:spPr>
          <a:xfrm>
            <a:off x="5509080" y="3174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揉团黄泥造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12"/>
          <p:cNvGrpSpPr/>
          <p:nvPr/>
        </p:nvGrpSpPr>
        <p:grpSpPr>
          <a:xfrm>
            <a:off x="5509080" y="3659040"/>
            <a:ext cx="1278000" cy="839160"/>
            <a:chOff x="5509080" y="3659040"/>
            <a:chExt cx="1278000" cy="839160"/>
          </a:xfrm>
        </p:grpSpPr>
        <p:sp>
          <p:nvSpPr>
            <p:cNvPr id="656" name="Text Box 13"/>
            <p:cNvSpPr/>
            <p:nvPr/>
          </p:nvSpPr>
          <p:spPr>
            <a:xfrm>
              <a:off x="550908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挥溅泥点造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14"/>
            <p:cNvSpPr/>
            <p:nvPr/>
          </p:nvSpPr>
          <p:spPr>
            <a:xfrm>
              <a:off x="6075360" y="36590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15"/>
          <p:cNvGrpSpPr/>
          <p:nvPr/>
        </p:nvGrpSpPr>
        <p:grpSpPr>
          <a:xfrm>
            <a:off x="5496480" y="4522680"/>
            <a:ext cx="1278000" cy="696240"/>
            <a:chOff x="5496480" y="4522680"/>
            <a:chExt cx="1278000" cy="696240"/>
          </a:xfrm>
        </p:grpSpPr>
        <p:sp>
          <p:nvSpPr>
            <p:cNvPr id="659" name="Text Box 16"/>
            <p:cNvSpPr/>
            <p:nvPr/>
          </p:nvSpPr>
          <p:spPr>
            <a:xfrm>
              <a:off x="5496480" y="47592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男女婚配造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6075360" y="45226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4"/>
          <p:cNvSpPr/>
          <p:nvPr/>
        </p:nvSpPr>
        <p:spPr>
          <a:xfrm>
            <a:off x="538200" y="716040"/>
            <a:ext cx="856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故事中哪些内容体现出女娲的“神”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故事中哪些内容体现出女娲的“人”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2"/>
          <p:cNvSpPr/>
          <p:nvPr/>
        </p:nvSpPr>
        <p:spPr>
          <a:xfrm>
            <a:off x="825480" y="1986120"/>
            <a:ext cx="34671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天变化七十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揉黄泥造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挥洒泥浆造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826920" y="4362480"/>
            <a:ext cx="34671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寂寞孤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自豪欣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忙碌疲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4"/>
          <p:cNvSpPr/>
          <p:nvPr/>
        </p:nvSpPr>
        <p:spPr>
          <a:xfrm>
            <a:off x="3851280" y="4506840"/>
            <a:ext cx="289080" cy="1727280"/>
          </a:xfrm>
          <a:custGeom>
            <a:avLst/>
            <a:gdLst>
              <a:gd name="textAreaLeft" fmla="*/ 0 w 289080"/>
              <a:gd name="textAreaRight" fmla="*/ 104400 w 289080"/>
              <a:gd name="textAreaTop" fmla="*/ 44640 h 1727280"/>
              <a:gd name="textAreaBottom" fmla="*/ 168264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5"/>
          <p:cNvSpPr/>
          <p:nvPr/>
        </p:nvSpPr>
        <p:spPr>
          <a:xfrm>
            <a:off x="3851280" y="2058840"/>
            <a:ext cx="289080" cy="1727280"/>
          </a:xfrm>
          <a:custGeom>
            <a:avLst/>
            <a:gdLst>
              <a:gd name="textAreaLeft" fmla="*/ 0 w 289080"/>
              <a:gd name="textAreaRight" fmla="*/ 104400 w 289080"/>
              <a:gd name="textAreaTop" fmla="*/ 44640 h 1727280"/>
              <a:gd name="textAreaBottom" fmla="*/ 168264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4356000" y="220356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神”的非凡能力和神奇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7"/>
          <p:cNvSpPr/>
          <p:nvPr/>
        </p:nvSpPr>
        <p:spPr>
          <a:xfrm>
            <a:off x="4427640" y="46512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人”的心理、情感、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8"/>
          <p:cNvSpPr/>
          <p:nvPr/>
        </p:nvSpPr>
        <p:spPr>
          <a:xfrm>
            <a:off x="6732720" y="2058840"/>
            <a:ext cx="216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想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大胆奇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9"/>
          <p:cNvSpPr/>
          <p:nvPr/>
        </p:nvSpPr>
        <p:spPr>
          <a:xfrm>
            <a:off x="6732720" y="4506840"/>
            <a:ext cx="241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想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真实合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文本框 105"/>
          <p:cNvSpPr/>
          <p:nvPr/>
        </p:nvSpPr>
        <p:spPr>
          <a:xfrm>
            <a:off x="617400" y="955800"/>
            <a:ext cx="81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女娲造人的具体过程是真的吗？你怎样理解这种写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文本框 1"/>
          <p:cNvSpPr/>
          <p:nvPr/>
        </p:nvSpPr>
        <p:spPr>
          <a:xfrm>
            <a:off x="836640" y="1765440"/>
            <a:ext cx="773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女蜗造人的情节显然是想象的，神话是在科学水平不发达的远古时代产生的，那时的人们无法对人的诞生做出科学的准确的解释。但是，人类又想要探求自身起源，所以，只好借助于想象来解决这个问题了，而这种大胆而奇特的想象恰恰就是神话故事中的亮点。试想，没有了这种想象，还有神话故事的存在吗？这种想象体现了远古时代人们强烈的探求欲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3"/>
          <p:cNvSpPr/>
          <p:nvPr/>
        </p:nvSpPr>
        <p:spPr>
          <a:xfrm>
            <a:off x="609480" y="10494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记述了女娲造人的全过程，表现了原始人类对人类起源的好奇和追索，以及在当时社会条件下，所做出的丰富想象，表达了作者对生命诞生的喜悦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图片 1" descr="1439561912"/>
          <p:cNvPicPr/>
          <p:nvPr/>
        </p:nvPicPr>
        <p:blipFill>
          <a:blip r:embed="rId1"/>
          <a:stretch/>
        </p:blipFill>
        <p:spPr>
          <a:xfrm>
            <a:off x="2300400" y="2727360"/>
            <a:ext cx="5048280" cy="3333600"/>
          </a:xfrm>
          <a:prstGeom prst="rect">
            <a:avLst/>
          </a:prstGeom>
          <a:ln w="0">
            <a:noFill/>
          </a:ln>
        </p:spPr>
      </p:pic>
      <p:sp>
        <p:nvSpPr>
          <p:cNvPr id="67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语文备课大师【全免费】</dc:creator>
  <dc:description>语文备课大师【全免费】</dc:description>
  <cp:keywords/>
  <dc:language>en-US</dc:language>
  <cp:lastModifiedBy>xuhuachang</cp:lastModifiedBy>
  <dcterms:modified xsi:type="dcterms:W3CDTF">2017-09-16T18:21:24Z</dcterms:modified>
  <cp:revision>0</cp:revision>
  <dc:subject/>
  <dc:title>语文备课大师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