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0F4-3399-4287-A123-44E9BD84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5D8-D0A3-4111-AA8F-271C1D1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FE4E-6DEE-4CB7-BD87-2F34C15D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1EAC2-0BC8-475B-8E51-FCF685DD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AF54E-29F6-455B-8621-37025741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4AC81-9AA8-4F89-A26F-7C3BA6B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DFBD-9A50-4E5E-8304-7B5E3C3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1969D-73A5-4C9D-A1DD-475DD042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CB324-CAC7-461F-8654-2EF83A90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30788-375B-45F2-A067-657E0280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36CB5-21EA-4D16-9B68-522AD438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8C350-B7F0-494B-B41D-7DC2D147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1106-3BEC-41A7-9D0E-6C9F08DF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02D5D-3E7A-42E8-B781-F25A58E0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A4E12-55AB-4CA3-B969-E04A528F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7C341-65BA-47DA-92CA-ADC8CEEC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EE022-0063-4E8A-B9A4-A566509E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5B861-72BC-43BC-AADC-1AF5506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674F5-5849-468E-8301-5D573859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76A24-2D6B-4852-BC08-A12962B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7DE0F-F8DE-4F59-88C1-FD69052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9988-B1C8-4C6F-948A-1C6C64F8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3D1E-F522-48ED-B31C-0EF31601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A07-7562-4927-8C58-BC09D50F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A9FA1-1A9F-4727-BA36-D685D0D2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F8FB4-80B8-4E1C-BBCB-60967875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C011-E7A7-44CE-8BA2-E7EC99BB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98EC-54AE-4BC4-AA6A-90E4AB6A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FE3AC-DEE1-46C9-861A-B93A629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3DDE9-D5E7-4F68-83BB-E0FE7F96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115A-D329-4FB0-90D9-A83A1DF8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D348C5-5273-453C-AF26-2EE577FD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EBBA9-33B7-4A68-BD31-FCA62D6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0BA5A-CBBC-41F4-B68F-AF47B17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D331-21C2-4F69-91D4-FB9BB2A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EE4C1-29DB-4FE7-A480-5BD81E8B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F9C24-79AC-4E5E-9816-D76F3301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9804C-6A52-420C-918C-7B4F178E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3609C-6047-404D-A77D-1CA6997D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747594-DD88-4D53-A7EC-36133EC3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297BD-7A54-45BA-96F3-A1F9EEC1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B14D5-E929-41E7-8128-DDE18017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4DF31-9E7B-42A3-A8A4-8F3ED71A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75E35-D71B-4B4F-8476-5D117E63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95A32-2FBE-4427-97B3-21577FAE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0A4E-0FA7-4B1A-A48C-B1234E28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3F0F3-3505-4E70-841F-BA6FAEFF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ED248-7932-4654-9183-CAB201EA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9FB15-408D-45C6-84A3-0F877D37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7A5D9-7C45-4A8D-AD9A-86C7F6BF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7580C-DFCD-4FA7-AB03-C29E1D01B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02785-0664-4718-8132-5AE3744E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4F97C8-CDEE-4DB6-8BBD-374AA99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1E768D-478B-4040-9ECE-CC560959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04FCB2-A967-4EC0-920C-A5886BD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7C2EF-783A-43F4-B491-DE31E4A5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17EA-F203-491C-87F7-B549E744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1B2DE-DC70-4EEE-8A68-09F00534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EB616-51D5-4669-9747-31CD483F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1B62B-89D6-4E9C-B2B1-9EB71F25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38F584-6112-4BE1-B981-B327F455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8BB567-092C-4C16-9093-8F5FF4F4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755B16-985A-4664-9A3C-203ED25E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082A8-A6D8-4416-BDCA-A4A43CD6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DF2A3-C3C9-4534-8456-DD335815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FF0EA-1B79-44D4-A590-3B6E050D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AFA4E5-19FA-422F-98F5-1CFC8FF8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4528-6675-465C-AC90-1ABCBA7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4A493-91B5-405B-9597-501BEF5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9D9B34-FE3E-4D5C-90F5-D2B77A1E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5B2CC-BE8B-4484-A64B-9D5DAB47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07D4B-0C9A-4B5C-A3BF-8BB5DF58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8175A7-B697-4B8A-8183-4AD43EE5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804AD7-5EF8-4B75-BF12-F9A6E06E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0D8C7-F975-4DF4-8C5D-A74723FE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705DE-46D6-44B6-8C70-FD1FE35F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405C4-3825-4430-8EDC-F8983EAC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E8F26-DF24-41CD-A427-7D2E880A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1D912-68D2-45D3-A3E4-8EBA0347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90FCA-66B4-4610-AABF-D7501205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4C9DA-4AC2-4DBD-AC8B-7977B05B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2DB7FD-B150-4180-A968-0108A2CA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FB5CAA-8892-4BD6-9449-07448705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05BF37-E307-415C-A898-483C6B9C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AF99E-5043-45D2-B36D-CC58DA40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188AD-00B9-4410-9AF1-3A5DDE90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C2DA8-C347-47BA-87F5-0BE6A536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CCA82-0965-441E-B1EA-7D531D46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32378-C0A7-499A-8B0B-43B8F10C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9AEC-2EA9-410C-BC27-8921AB4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EA504-534B-48E5-B2B1-2E50801E6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3222-2271-49C7-AB17-29832E2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3E4-FFB4-466F-93A3-9F70E968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E490-EA22-4321-9B02-C56E8DB1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74ED-7BEC-4177-B45C-3352A080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AFF1-567C-4EC2-B9C7-8896E435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E824-2E8F-4C5D-A82B-2375A5F3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AE1D-4251-44AD-B409-F5ABF184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E0E3-5C57-4282-B6E1-F019FD42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BDF91-9239-4B9A-841D-E069D117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E488-BF92-4728-AC34-00EA3CE1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BE105-D1A8-412A-AFFC-3FB92753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003E9-A312-4069-8D35-004B3240A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D227-65F8-4408-AF18-8854DED8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AAC4-DACB-438F-9539-3D6D64E2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79BB-EC85-4AAF-AE19-5842062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84C34-E42C-4E91-81DE-13D5801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CE5CA-75D6-4BE0-865B-5C1B2CC4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83D2B-742F-48BD-B494-D4B195EE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36891-2D60-4811-A406-D6405A1F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3586-2AC9-4618-AC34-4FE55E7F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2EA5C-A343-4F54-8DAF-005DE1A1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9A971-985E-4C7C-805D-2C85E9C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8D17-E0CA-47B2-80C1-A67FAC59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22B8-E91E-4274-9589-EB61CE53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D728-027E-4EA9-8894-8DD6F4F2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0D0F-6DA7-42C0-8C7B-A2956770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A2F0-D433-4090-BC38-178FA46B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F5442-65E8-4CA2-8639-3A36FCA0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5CDB-0C9E-4F19-8162-1543C1F4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DBAFB-004B-43DD-9EF1-5F75630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3340B-DD12-4D1F-A67B-FB81CED3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FA308-FC08-4A00-BAD1-EC51652C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8246C-88F3-44C9-8859-B3285C3F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FFC5E-AA0B-44CC-943C-C1F8395E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AAE-84E8-4170-BC88-5B8A5696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5D44-00F0-46FB-9B02-AA28901D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01B2-D78D-42C5-918D-A839C2D0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6E62-AB36-426A-8099-FB85E793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2A43-1206-4F59-93C5-18068F0C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3DD3-3049-4A72-AEED-D9BF936B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CFAA9-3F52-44CE-A3B5-1B06CDD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7C420-AA06-4395-A775-9C4DE0F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CA595-EEA6-4C0B-A9B9-DE746E0C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7DE45-AF21-4491-A277-7106B843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F51B2-3FB0-48F8-A187-5F92FDE4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10B-E68B-4E36-9E85-2F201DDA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1CC7-C1C3-409B-A980-B8E61593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3585C-9552-4232-9AEC-6AFEFC17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6A0C-F35B-42F7-A5B0-91A91BCD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4651-E2CD-404C-B64C-01D46F55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63641-2C3C-4C9F-94A7-D563B5BE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1F3B-A9EF-4E76-9EAE-39E75C33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BC08-2DB9-4EA4-90B5-E4ABFA8C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533F-791A-4F2C-861B-4D6FBB69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8A82-9F75-4DBA-BA1B-ED126AE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9525-22F0-4D33-8C40-E5CAE2D7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1CF-A916-49AC-93F6-91476DB3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43FB-A5E9-4199-B6E7-E2D7EF5E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1BAC9-E841-4E6A-8B42-2A1701648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31690-6742-43BA-BF4B-32828645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7866A-6BC9-4C08-A461-20898B50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64669-7402-478B-B052-23BDD3D8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B35B5-1E8A-446D-8A9B-48096D7E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2EA0A-53FD-4E0F-A496-A8D514D8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AE2D9-06AB-439E-8DCA-12AF2440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6C23D-6950-4580-BCDD-79F0DEB4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E4030-BAC8-4663-829B-0D31C42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EBE-AE11-42DD-8DDB-00672797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A8FAB-7063-4B4A-86F3-5D5C720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F388A-10B3-49E4-9E5C-D2E4FE08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6D984-E3B1-4615-8F94-D155AACC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2236-A2C3-4867-963A-00A54F59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9B985-BCA8-4653-813F-B9FD89F66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43CAE-333D-4DD7-8ADC-D756EB79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17271-DD97-45CC-8429-1A73C60D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287BF-9F9F-4DEC-BBFF-D46CC70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9CED3-B626-42B2-9DC5-FCC10E02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3C5833-135F-44DB-B910-EEA22F30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253-8163-41C5-A9E7-E4A06BA1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A8C4-D749-41B9-B1B5-F87FA1EC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8144-8EF0-408C-8ABE-FA015235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CA58-3D7F-4FDB-9D66-6E12989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19459-3D7D-4E3F-B921-17207C4F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EC8C5-13E4-49A9-81A6-35073C40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085C0-D539-4BE1-B630-B460981F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108C1-E586-40BF-94B3-7E04FEDD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23E5F5-4173-44C0-B609-DDA3C8A14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EA3E9-8349-41A6-A233-FFFFD15A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C9098-71A6-4016-90BF-7FF3A0C0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617A-7559-4A45-A8E9-41E25EE598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E803-B044-493E-8248-7A0F43F8F5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ECD-3186-488E-B177-347884F9C5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FA3-0B5B-4112-93DC-56B333921D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5F55-5895-43F9-BF80-4CE0BDF8F2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4327-636D-44A1-8B09-75C20C043C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E8AF-BA8D-466F-8A06-6CF93E442B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6370-9030-48A9-A98C-8964C49A39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0CD9-53F7-4867-9A05-281EA61E11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9FE-636F-49AB-8BB6-FCA945C430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7ED-E695-40FD-919C-AA48E11118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A854-FC5F-4376-B646-E2ECB2B8E5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ADC3-3E66-408B-B187-8E18B4C882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B9A5-2EB7-4AA1-8A9A-4481AAE28C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B36C-A54A-4465-BBEF-6E5A6FE26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2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诗二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3"/>
          <p:cNvSpPr/>
          <p:nvPr/>
        </p:nvSpPr>
        <p:spPr>
          <a:xfrm>
            <a:off x="2672280" y="612720"/>
            <a:ext cx="51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2505240" y="148428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5"/>
          <p:cNvSpPr/>
          <p:nvPr/>
        </p:nvSpPr>
        <p:spPr>
          <a:xfrm>
            <a:off x="2505240" y="2347920"/>
            <a:ext cx="102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6"/>
          <p:cNvSpPr/>
          <p:nvPr/>
        </p:nvSpPr>
        <p:spPr>
          <a:xfrm>
            <a:off x="2505240" y="3213000"/>
            <a:ext cx="115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16160" y="407664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8"/>
          <p:cNvSpPr/>
          <p:nvPr/>
        </p:nvSpPr>
        <p:spPr>
          <a:xfrm>
            <a:off x="2576520" y="49402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9"/>
          <p:cNvSpPr/>
          <p:nvPr/>
        </p:nvSpPr>
        <p:spPr>
          <a:xfrm>
            <a:off x="1352520" y="6024600"/>
            <a:ext cx="468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明   美好   自由   幸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0"/>
          <p:cNvSpPr/>
          <p:nvPr/>
        </p:nvSpPr>
        <p:spPr>
          <a:xfrm flipH="1">
            <a:off x="1856880" y="5448240"/>
            <a:ext cx="954360" cy="6494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11"/>
          <p:cNvSpPr/>
          <p:nvPr/>
        </p:nvSpPr>
        <p:spPr>
          <a:xfrm flipH="1">
            <a:off x="2792160" y="5443560"/>
            <a:ext cx="215640" cy="67320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12"/>
          <p:cNvSpPr/>
          <p:nvPr/>
        </p:nvSpPr>
        <p:spPr>
          <a:xfrm>
            <a:off x="3079800" y="5443560"/>
            <a:ext cx="720720" cy="6476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13"/>
          <p:cNvSpPr/>
          <p:nvPr/>
        </p:nvSpPr>
        <p:spPr>
          <a:xfrm>
            <a:off x="3368520" y="5443560"/>
            <a:ext cx="1295640" cy="57636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14"/>
          <p:cNvSpPr/>
          <p:nvPr/>
        </p:nvSpPr>
        <p:spPr>
          <a:xfrm>
            <a:off x="3944880" y="620640"/>
            <a:ext cx="723960" cy="1224000"/>
          </a:xfrm>
          <a:custGeom>
            <a:avLst/>
            <a:gdLst>
              <a:gd name="textAreaLeft" fmla="*/ 0 w 723960"/>
              <a:gd name="textAreaRight" fmla="*/ 261360 w 7239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5"/>
          <p:cNvSpPr/>
          <p:nvPr/>
        </p:nvSpPr>
        <p:spPr>
          <a:xfrm>
            <a:off x="6932520" y="3571920"/>
            <a:ext cx="144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6"/>
          <p:cNvSpPr/>
          <p:nvPr/>
        </p:nvSpPr>
        <p:spPr>
          <a:xfrm>
            <a:off x="4808520" y="981000"/>
            <a:ext cx="1297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7"/>
          <p:cNvSpPr/>
          <p:nvPr/>
        </p:nvSpPr>
        <p:spPr>
          <a:xfrm>
            <a:off x="3008160" y="1128600"/>
            <a:ext cx="0" cy="432000"/>
          </a:xfrm>
          <a:prstGeom prst="line">
            <a:avLst/>
          </a:prstGeom>
          <a:ln w="31680">
            <a:solidFill>
              <a:srgbClr val="80008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8"/>
          <p:cNvSpPr/>
          <p:nvPr/>
        </p:nvSpPr>
        <p:spPr>
          <a:xfrm>
            <a:off x="3008160" y="2065320"/>
            <a:ext cx="1800" cy="358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9"/>
          <p:cNvSpPr/>
          <p:nvPr/>
        </p:nvSpPr>
        <p:spPr>
          <a:xfrm>
            <a:off x="3008160" y="2855880"/>
            <a:ext cx="0" cy="432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20"/>
          <p:cNvSpPr/>
          <p:nvPr/>
        </p:nvSpPr>
        <p:spPr>
          <a:xfrm>
            <a:off x="3008160" y="3716280"/>
            <a:ext cx="0" cy="50328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21"/>
          <p:cNvSpPr/>
          <p:nvPr/>
        </p:nvSpPr>
        <p:spPr>
          <a:xfrm>
            <a:off x="3008160" y="4584600"/>
            <a:ext cx="0" cy="36036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6176880" y="2563920"/>
            <a:ext cx="723960" cy="2735280"/>
          </a:xfrm>
          <a:custGeom>
            <a:avLst/>
            <a:gdLst>
              <a:gd name="textAreaLeft" fmla="*/ 0 w 723960"/>
              <a:gd name="textAreaRight" fmla="*/ 261360 w 723960"/>
              <a:gd name="textAreaTop" fmla="*/ 70920 h 2735280"/>
              <a:gd name="textAreaBottom" fmla="*/ 266436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3944880" y="227664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944880" y="3139920"/>
            <a:ext cx="122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944880" y="4076640"/>
            <a:ext cx="23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矩形 326659"/>
          <p:cNvSpPr/>
          <p:nvPr/>
        </p:nvSpPr>
        <p:spPr>
          <a:xfrm>
            <a:off x="3452760" y="1851120"/>
            <a:ext cx="3276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远远的街灯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明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明星　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好像　着无数的街灯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326660"/>
          <p:cNvSpPr/>
          <p:nvPr/>
        </p:nvSpPr>
        <p:spPr>
          <a:xfrm>
            <a:off x="2223000" y="184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26667"/>
          <p:cNvSpPr/>
          <p:nvPr/>
        </p:nvSpPr>
        <p:spPr>
          <a:xfrm>
            <a:off x="2022480" y="344160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26668"/>
          <p:cNvSpPr/>
          <p:nvPr/>
        </p:nvSpPr>
        <p:spPr>
          <a:xfrm>
            <a:off x="2314440" y="252468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26669"/>
          <p:cNvSpPr/>
          <p:nvPr/>
        </p:nvSpPr>
        <p:spPr>
          <a:xfrm>
            <a:off x="2619360" y="249444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26670"/>
          <p:cNvSpPr/>
          <p:nvPr/>
        </p:nvSpPr>
        <p:spPr>
          <a:xfrm>
            <a:off x="1933560" y="257076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326672">
            <a:hlinkClick r:id="rId1" action="ppaction://hlinksldjump"/>
          </p:cNvPr>
          <p:cNvSpPr/>
          <p:nvPr/>
        </p:nvSpPr>
        <p:spPr>
          <a:xfrm>
            <a:off x="5039280" y="1870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326673"/>
          <p:cNvSpPr/>
          <p:nvPr/>
        </p:nvSpPr>
        <p:spPr>
          <a:xfrm>
            <a:off x="4124880" y="240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326674"/>
          <p:cNvSpPr/>
          <p:nvPr/>
        </p:nvSpPr>
        <p:spPr>
          <a:xfrm>
            <a:off x="5039280" y="29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326675"/>
          <p:cNvSpPr/>
          <p:nvPr/>
        </p:nvSpPr>
        <p:spPr>
          <a:xfrm>
            <a:off x="4062240" y="3527280"/>
            <a:ext cx="4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326678"/>
          <p:cNvSpPr/>
          <p:nvPr/>
        </p:nvSpPr>
        <p:spPr>
          <a:xfrm>
            <a:off x="2403360" y="2451240"/>
            <a:ext cx="0" cy="838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326679"/>
          <p:cNvSpPr/>
          <p:nvPr/>
        </p:nvSpPr>
        <p:spPr>
          <a:xfrm flipV="1">
            <a:off x="2784600" y="2451240"/>
            <a:ext cx="0" cy="9144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矩形 326680"/>
          <p:cNvSpPr/>
          <p:nvPr/>
        </p:nvSpPr>
        <p:spPr>
          <a:xfrm>
            <a:off x="4067280" y="660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节赏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357391"/>
          <p:cNvSpPr/>
          <p:nvPr/>
        </p:nvSpPr>
        <p:spPr>
          <a:xfrm>
            <a:off x="3831840" y="40752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人间万家灯火的壮观景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357392"/>
          <p:cNvSpPr/>
          <p:nvPr/>
        </p:nvSpPr>
        <p:spPr>
          <a:xfrm>
            <a:off x="2742480" y="409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360463"/>
          <p:cNvSpPr/>
          <p:nvPr/>
        </p:nvSpPr>
        <p:spPr>
          <a:xfrm>
            <a:off x="2715480" y="4529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60464"/>
          <p:cNvSpPr/>
          <p:nvPr/>
        </p:nvSpPr>
        <p:spPr>
          <a:xfrm>
            <a:off x="3592440" y="4510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群星闪烁的姿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361489"/>
          <p:cNvSpPr/>
          <p:nvPr/>
        </p:nvSpPr>
        <p:spPr>
          <a:xfrm>
            <a:off x="2735280" y="49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华文细黑"/>
                <a:ea typeface="华文细黑"/>
              </a:rPr>
              <a:t>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文本框 361490"/>
          <p:cNvSpPr/>
          <p:nvPr/>
        </p:nvSpPr>
        <p:spPr>
          <a:xfrm>
            <a:off x="3603240" y="5016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诗人的欣喜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362515"/>
          <p:cNvSpPr/>
          <p:nvPr/>
        </p:nvSpPr>
        <p:spPr>
          <a:xfrm>
            <a:off x="2679840" y="551196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362516"/>
          <p:cNvSpPr/>
          <p:nvPr/>
        </p:nvSpPr>
        <p:spPr>
          <a:xfrm>
            <a:off x="3934440" y="55119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暗示天上有人把街灯点亮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文本框 467969"/>
          <p:cNvSpPr/>
          <p:nvPr/>
        </p:nvSpPr>
        <p:spPr>
          <a:xfrm>
            <a:off x="810000" y="131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67970"/>
          <p:cNvSpPr/>
          <p:nvPr/>
        </p:nvSpPr>
        <p:spPr>
          <a:xfrm>
            <a:off x="734040" y="426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左大括号 467971"/>
          <p:cNvSpPr/>
          <p:nvPr/>
        </p:nvSpPr>
        <p:spPr>
          <a:xfrm>
            <a:off x="1611360" y="2479680"/>
            <a:ext cx="304920" cy="3962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2960 h 3962520"/>
              <a:gd name="textAreaBottom" fmla="*/ 385956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467976"/>
          <p:cNvSpPr/>
          <p:nvPr/>
        </p:nvSpPr>
        <p:spPr>
          <a:xfrm>
            <a:off x="2105640" y="1066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467977"/>
          <p:cNvSpPr/>
          <p:nvPr/>
        </p:nvSpPr>
        <p:spPr>
          <a:xfrm>
            <a:off x="2073600" y="1828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467978"/>
          <p:cNvSpPr/>
          <p:nvPr/>
        </p:nvSpPr>
        <p:spPr>
          <a:xfrm>
            <a:off x="2105640" y="2465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467979"/>
          <p:cNvSpPr/>
          <p:nvPr/>
        </p:nvSpPr>
        <p:spPr>
          <a:xfrm>
            <a:off x="2105640" y="3276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467980"/>
          <p:cNvSpPr/>
          <p:nvPr/>
        </p:nvSpPr>
        <p:spPr>
          <a:xfrm>
            <a:off x="2073600" y="41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67981"/>
          <p:cNvSpPr/>
          <p:nvPr/>
        </p:nvSpPr>
        <p:spPr>
          <a:xfrm>
            <a:off x="2164320" y="50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67982"/>
          <p:cNvSpPr/>
          <p:nvPr/>
        </p:nvSpPr>
        <p:spPr>
          <a:xfrm>
            <a:off x="2105640" y="6095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467983"/>
          <p:cNvSpPr/>
          <p:nvPr/>
        </p:nvSpPr>
        <p:spPr>
          <a:xfrm>
            <a:off x="2286000" y="15238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467984"/>
          <p:cNvSpPr/>
          <p:nvPr/>
        </p:nvSpPr>
        <p:spPr>
          <a:xfrm flipV="1">
            <a:off x="2438280" y="1447920"/>
            <a:ext cx="0" cy="3808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467985"/>
          <p:cNvSpPr/>
          <p:nvPr/>
        </p:nvSpPr>
        <p:spPr>
          <a:xfrm>
            <a:off x="2362320" y="36576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467986"/>
          <p:cNvSpPr/>
          <p:nvPr/>
        </p:nvSpPr>
        <p:spPr>
          <a:xfrm>
            <a:off x="2362320" y="4572000"/>
            <a:ext cx="0" cy="53352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467987"/>
          <p:cNvSpPr/>
          <p:nvPr/>
        </p:nvSpPr>
        <p:spPr>
          <a:xfrm>
            <a:off x="2362320" y="5486400"/>
            <a:ext cx="0" cy="60948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467988"/>
          <p:cNvSpPr/>
          <p:nvPr/>
        </p:nvSpPr>
        <p:spPr>
          <a:xfrm>
            <a:off x="2362320" y="2209680"/>
            <a:ext cx="0" cy="38124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直接连接符 467989"/>
          <p:cNvSpPr/>
          <p:nvPr/>
        </p:nvSpPr>
        <p:spPr>
          <a:xfrm>
            <a:off x="2362320" y="2895480"/>
            <a:ext cx="0" cy="457200"/>
          </a:xfrm>
          <a:prstGeom prst="line">
            <a:avLst/>
          </a:prstGeom>
          <a:ln cap="sq" w="3816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左大括号 467990"/>
          <p:cNvSpPr/>
          <p:nvPr/>
        </p:nvSpPr>
        <p:spPr>
          <a:xfrm>
            <a:off x="1752480" y="121932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467991"/>
          <p:cNvSpPr/>
          <p:nvPr/>
        </p:nvSpPr>
        <p:spPr>
          <a:xfrm>
            <a:off x="233280" y="5205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三四节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467992"/>
          <p:cNvSpPr/>
          <p:nvPr/>
        </p:nvSpPr>
        <p:spPr>
          <a:xfrm>
            <a:off x="2989800" y="2459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67993"/>
          <p:cNvSpPr/>
          <p:nvPr/>
        </p:nvSpPr>
        <p:spPr>
          <a:xfrm>
            <a:off x="2803680" y="3297240"/>
            <a:ext cx="19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列、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右中括号 467994"/>
          <p:cNvSpPr/>
          <p:nvPr/>
        </p:nvSpPr>
        <p:spPr>
          <a:xfrm>
            <a:off x="4495680" y="2590920"/>
            <a:ext cx="76320" cy="914400"/>
          </a:xfrm>
          <a:custGeom>
            <a:avLst/>
            <a:gdLst>
              <a:gd name="textAreaLeft" fmla="*/ 0 w 76320"/>
              <a:gd name="textAreaRight" fmla="*/ 53640 w 7632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67995"/>
          <p:cNvSpPr/>
          <p:nvPr/>
        </p:nvSpPr>
        <p:spPr>
          <a:xfrm>
            <a:off x="5142240" y="2697120"/>
            <a:ext cx="1643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美好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右中括号 468001"/>
          <p:cNvSpPr/>
          <p:nvPr/>
        </p:nvSpPr>
        <p:spPr>
          <a:xfrm>
            <a:off x="2971800" y="4267080"/>
            <a:ext cx="76320" cy="2133720"/>
          </a:xfrm>
          <a:custGeom>
            <a:avLst/>
            <a:gdLst>
              <a:gd name="textAreaLeft" fmla="*/ 0 w 76320"/>
              <a:gd name="textAreaRight" fmla="*/ 53640 w 76320"/>
              <a:gd name="textAreaTop" fmla="*/ 88560 h 2133720"/>
              <a:gd name="textAreaBottom" fmla="*/ 204516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799"/>
                </a:cubicBezTo>
                <a:lnTo>
                  <a:pt x="21600" y="19801"/>
                </a:lnTo>
                <a:cubicBezTo>
                  <a:pt x="21600" y="20701"/>
                  <a:pt x="108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468002"/>
          <p:cNvSpPr/>
          <p:nvPr/>
        </p:nvSpPr>
        <p:spPr>
          <a:xfrm>
            <a:off x="4080600" y="4626000"/>
            <a:ext cx="2009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黑暗势力压迫的反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对自由幸福生活的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矩形 587777"/>
          <p:cNvSpPr/>
          <p:nvPr/>
        </p:nvSpPr>
        <p:spPr>
          <a:xfrm>
            <a:off x="762120" y="1523880"/>
            <a:ext cx="541008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信，请看那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流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他们提着灯笼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形标注 587779"/>
          <p:cNvSpPr/>
          <p:nvPr/>
        </p:nvSpPr>
        <p:spPr>
          <a:xfrm>
            <a:off x="2622600" y="2236680"/>
            <a:ext cx="4724280" cy="266868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朵”字常用于花，花是美好的象征，把流星比作花，比喻天上的生活像花朵一样美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右弧形箭头 587781"/>
          <p:cNvSpPr/>
          <p:nvPr/>
        </p:nvSpPr>
        <p:spPr>
          <a:xfrm>
            <a:off x="3429000" y="1523880"/>
            <a:ext cx="2133720" cy="1828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3981"/>
                <a:lnTo>
                  <a:pt x="7195" y="21168"/>
                </a:lnTo>
                <a:lnTo>
                  <a:pt x="0" y="17280"/>
                </a:lnTo>
                <a:lnTo>
                  <a:pt x="7195" y="12528"/>
                </a:lnTo>
                <a:lnTo>
                  <a:pt x="7195" y="14688"/>
                </a:lnTo>
                <a:arcTo wR="21600" hR="7560" stAng="2683981" swAng="-2326546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587784"/>
          <p:cNvSpPr/>
          <p:nvPr/>
        </p:nvSpPr>
        <p:spPr>
          <a:xfrm>
            <a:off x="2133720" y="3048120"/>
            <a:ext cx="5257800" cy="2438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587785"/>
          <p:cNvSpPr/>
          <p:nvPr/>
        </p:nvSpPr>
        <p:spPr>
          <a:xfrm>
            <a:off x="3352680" y="3276720"/>
            <a:ext cx="3657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587786"/>
          <p:cNvSpPr/>
          <p:nvPr/>
        </p:nvSpPr>
        <p:spPr>
          <a:xfrm>
            <a:off x="3276720" y="3276720"/>
            <a:ext cx="0" cy="228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587787"/>
          <p:cNvSpPr/>
          <p:nvPr/>
        </p:nvSpPr>
        <p:spPr>
          <a:xfrm>
            <a:off x="3352680" y="5638680"/>
            <a:ext cx="3505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2"/>
          <p:cNvSpPr/>
          <p:nvPr/>
        </p:nvSpPr>
        <p:spPr>
          <a:xfrm>
            <a:off x="2141640" y="105264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------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"/>
          <p:cNvSpPr/>
          <p:nvPr/>
        </p:nvSpPr>
        <p:spPr>
          <a:xfrm>
            <a:off x="457200" y="907920"/>
            <a:ext cx="5461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联 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4"/>
          <p:cNvSpPr/>
          <p:nvPr/>
        </p:nvSpPr>
        <p:spPr>
          <a:xfrm>
            <a:off x="1852560" y="29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物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852560" y="3932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6"/>
          <p:cNvSpPr/>
          <p:nvPr/>
        </p:nvSpPr>
        <p:spPr>
          <a:xfrm>
            <a:off x="1852560" y="4940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牛郎织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7"/>
          <p:cNvSpPr/>
          <p:nvPr/>
        </p:nvSpPr>
        <p:spPr>
          <a:xfrm>
            <a:off x="4229280" y="2997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美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珍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4229280" y="3932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浅浅、不甚宽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9"/>
          <p:cNvSpPr/>
          <p:nvPr/>
        </p:nvSpPr>
        <p:spPr>
          <a:xfrm>
            <a:off x="4013280" y="4940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往、闲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10"/>
          <p:cNvSpPr/>
          <p:nvPr/>
        </p:nvSpPr>
        <p:spPr>
          <a:xfrm>
            <a:off x="1494000" y="3139920"/>
            <a:ext cx="358560" cy="2160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5"/>
                </a:cubicBezTo>
                <a:lnTo>
                  <a:pt x="10800" y="9005"/>
                </a:lnTo>
                <a:cubicBezTo>
                  <a:pt x="10800" y="9903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5"/>
                </a:cubicBezTo>
                <a:lnTo>
                  <a:pt x="10800" y="19805"/>
                </a:lnTo>
                <a:cubicBezTo>
                  <a:pt x="10800" y="207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245280" y="2997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美丽富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114560" y="3139920"/>
            <a:ext cx="5461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6534000" y="494028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自由、幸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4"/>
          <p:cNvSpPr/>
          <p:nvPr/>
        </p:nvSpPr>
        <p:spPr>
          <a:xfrm>
            <a:off x="239760" y="3645000"/>
            <a:ext cx="546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文本框 105"/>
          <p:cNvSpPr/>
          <p:nvPr/>
        </p:nvSpPr>
        <p:spPr>
          <a:xfrm>
            <a:off x="1406520" y="2552760"/>
            <a:ext cx="65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第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课时 太阳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文本框 99"/>
          <p:cNvSpPr/>
          <p:nvPr/>
        </p:nvSpPr>
        <p:spPr>
          <a:xfrm>
            <a:off x="2459160" y="1111320"/>
            <a:ext cx="5079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有一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神秘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航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划来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镀金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巨船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驶过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顶空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子午线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缓缓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扯下了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沿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它穿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紧密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光波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或停靠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云的海岸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卸下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烁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白银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又驶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另一个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港湾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它驶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黑暗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时候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船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焚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大火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使它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沉没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于灰色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浪涛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溅起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银星千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文本框 99"/>
          <p:cNvSpPr/>
          <p:nvPr/>
        </p:nvSpPr>
        <p:spPr>
          <a:xfrm>
            <a:off x="200160" y="15224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首诗热情赞颂了太阳，作者是按什么顺序来描写太阳船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的颜色有怎样的变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文本框 1"/>
          <p:cNvSpPr/>
          <p:nvPr/>
        </p:nvSpPr>
        <p:spPr>
          <a:xfrm>
            <a:off x="117360" y="3222720"/>
            <a:ext cx="885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按太阳运行的时间顺序来描写太阳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早晨：金色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太阳升高到日落前：白色 </a:t>
            </a:r>
            <a:r>
              <a:rPr b="1" lang="en-US" sz="2400" spc="-1" strike="noStrike">
                <a:solidFill>
                  <a:srgbClr val="0000ff"/>
                </a:solidFill>
                <a:latin typeface="楷体"/>
                <a:ea typeface="楷体"/>
              </a:rPr>
              <a:t>→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日落时分：红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72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文本框 99"/>
          <p:cNvSpPr/>
          <p:nvPr/>
        </p:nvSpPr>
        <p:spPr>
          <a:xfrm>
            <a:off x="901800" y="10238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要求，赏析下面诗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2"/>
          <p:cNvSpPr/>
          <p:nvPr/>
        </p:nvSpPr>
        <p:spPr>
          <a:xfrm>
            <a:off x="846000" y="1725480"/>
            <a:ext cx="797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当它卸下批闪烁的白银，又驶向另一个港湾。（从修辞角度赏析该语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"/>
          <p:cNvSpPr/>
          <p:nvPr/>
        </p:nvSpPr>
        <p:spPr>
          <a:xfrm>
            <a:off x="905040" y="3014640"/>
            <a:ext cx="779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用“白银”比喻阳光，“卸下批闪烁的白银”比喻天色已晚，太阳光逐渐变暗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驶向另一个港湾”比喻太阳即将落山。这两句诗，生动形象地表现出太阳在天空中的位置及光线的变化的，给人以美感及想像的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文本框 105"/>
          <p:cNvSpPr/>
          <p:nvPr/>
        </p:nvSpPr>
        <p:spPr>
          <a:xfrm>
            <a:off x="1276200" y="1724040"/>
            <a:ext cx="679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理解诗中联想和想象的运用，培养联想和想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1"/>
          <p:cNvSpPr/>
          <p:nvPr/>
        </p:nvSpPr>
        <p:spPr>
          <a:xfrm>
            <a:off x="1243080" y="3029040"/>
            <a:ext cx="672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培养对自由幸福美好生活的向往与追求，体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浪漫主义的创作特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文本框 99"/>
          <p:cNvSpPr/>
          <p:nvPr/>
        </p:nvSpPr>
        <p:spPr>
          <a:xfrm>
            <a:off x="890640" y="995400"/>
            <a:ext cx="761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使它沉没于灰色的浪涛，却溅起了银星千颗。”中的“溅”字用得好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1"/>
          <p:cNvSpPr/>
          <p:nvPr/>
        </p:nvSpPr>
        <p:spPr>
          <a:xfrm>
            <a:off x="1089000" y="2622600"/>
            <a:ext cx="70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一个“溅”字化静为动，它形象地写出了太阳落山，星星出现的场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文本框 99"/>
          <p:cNvSpPr/>
          <p:nvPr/>
        </p:nvSpPr>
        <p:spPr>
          <a:xfrm>
            <a:off x="847800" y="1273320"/>
            <a:ext cx="768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言志，作者吴望尧借“太阳船”寄托 自己什么情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一说你的理解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1"/>
          <p:cNvSpPr/>
          <p:nvPr/>
        </p:nvSpPr>
        <p:spPr>
          <a:xfrm>
            <a:off x="1319040" y="3214800"/>
            <a:ext cx="64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寄托自己对光明与幸福的渴望，对故乡与大陆的思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文本框 99"/>
          <p:cNvSpPr/>
          <p:nvPr/>
        </p:nvSpPr>
        <p:spPr>
          <a:xfrm>
            <a:off x="682560" y="1219320"/>
            <a:ext cx="79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本诗想象可谓天马行空，但是又合乎情理。说说诗人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何依据现实展开想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"/>
          <p:cNvSpPr/>
          <p:nvPr/>
        </p:nvSpPr>
        <p:spPr>
          <a:xfrm>
            <a:off x="968400" y="2792520"/>
            <a:ext cx="74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诗人把天空想象成航线，把太阳想象成船，晴天太阳东升西落，想象成船在天空中穿行，把云想象成海岸，太阳落山，余辉晚霞想象成大火，太阳落山，星星出现，想象合乎情理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图片 2" descr=""/>
          <p:cNvPicPr/>
          <p:nvPr/>
        </p:nvPicPr>
        <p:blipFill>
          <a:blip r:embed="rId1"/>
          <a:stretch/>
        </p:blipFill>
        <p:spPr>
          <a:xfrm>
            <a:off x="5251320" y="2238480"/>
            <a:ext cx="295560" cy="2025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7" name="图片 103" descr=""/>
          <p:cNvPicPr/>
          <p:nvPr/>
        </p:nvPicPr>
        <p:blipFill>
          <a:blip r:embed="rId2"/>
          <a:stretch/>
        </p:blipFill>
        <p:spPr>
          <a:xfrm>
            <a:off x="2376360" y="2222640"/>
            <a:ext cx="219240" cy="21128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788" name="图片 3" descr=""/>
          <p:cNvPicPr/>
          <p:nvPr/>
        </p:nvPicPr>
        <p:blipFill>
          <a:blip r:embed="rId3"/>
          <a:stretch/>
        </p:blipFill>
        <p:spPr>
          <a:xfrm>
            <a:off x="1574640" y="3144960"/>
            <a:ext cx="638280" cy="33336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789" name="文本框 105"/>
          <p:cNvSpPr/>
          <p:nvPr/>
        </p:nvSpPr>
        <p:spPr>
          <a:xfrm>
            <a:off x="2611440" y="2854440"/>
            <a:ext cx="584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航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岸          想象丰富合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4"/>
          <p:cNvSpPr/>
          <p:nvPr/>
        </p:nvSpPr>
        <p:spPr>
          <a:xfrm>
            <a:off x="2616120" y="23050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图片 4105" descr="F:\ly\background.gif"/>
          <p:cNvPicPr/>
          <p:nvPr/>
        </p:nvPicPr>
        <p:blipFill>
          <a:blip r:embed="rId1"/>
          <a:stretch/>
        </p:blipFill>
        <p:spPr>
          <a:xfrm>
            <a:off x="2390760" y="1162080"/>
            <a:ext cx="4865760" cy="35053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4101"/>
          <p:cNvSpPr/>
          <p:nvPr/>
        </p:nvSpPr>
        <p:spPr>
          <a:xfrm>
            <a:off x="2370240" y="4967280"/>
            <a:ext cx="589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喜欢星光灿烂的夜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2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38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33795"/>
          <p:cNvSpPr/>
          <p:nvPr/>
        </p:nvSpPr>
        <p:spPr>
          <a:xfrm>
            <a:off x="4365720" y="2554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郭沫若，原名郭开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川乐山人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诗人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代表诗集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女神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星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" descr="54fbb2fb43166d22d9a4bf9b452309f79152d2ea"/>
          <p:cNvPicPr/>
          <p:nvPr/>
        </p:nvPicPr>
        <p:blipFill>
          <a:blip r:embed="rId1"/>
          <a:stretch/>
        </p:blipFill>
        <p:spPr>
          <a:xfrm>
            <a:off x="628560" y="2114640"/>
            <a:ext cx="2527560" cy="3406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矩形 31747"/>
          <p:cNvSpPr/>
          <p:nvPr/>
        </p:nvSpPr>
        <p:spPr>
          <a:xfrm flipV="1" rot="10812000">
            <a:off x="1036080" y="1148760"/>
            <a:ext cx="73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写作背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这首诗写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代初期，此时，“五四”运动的洪波已经消退，大革命的时代尚未到来。半殖民地牛封建的中国，依旧被帝国主义列强和各派军阀势力窒息着。面对这种现实，诗人感到失望和痛苦，他痛恨黑暗的现实，向往光明的未来。在灿烂星空的诱发下，写下了这首充满浪漫色彩的著名诗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上的街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矩形 17411"/>
          <p:cNvSpPr/>
          <p:nvPr/>
        </p:nvSpPr>
        <p:spPr>
          <a:xfrm>
            <a:off x="900000" y="568440"/>
            <a:ext cx="8001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　天上的街市  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远远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闪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上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明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现了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好像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点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无数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灯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e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宋体"/>
              </a:rPr>
              <a:t>缥缈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空中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美丽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sh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街市上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陈列的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些物品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世上没有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珍奇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q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看，那浅浅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天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宽广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gu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那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隔着河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牛郎织女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 定能够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骑着牛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来往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w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我想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此刻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定然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天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闲游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o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信，请看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那朵流星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是他们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提着灯笼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/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走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文本框 174083"/>
          <p:cNvSpPr/>
          <p:nvPr/>
        </p:nvSpPr>
        <p:spPr>
          <a:xfrm>
            <a:off x="533520" y="2022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燕尾形箭头 174084"/>
          <p:cNvSpPr/>
          <p:nvPr/>
        </p:nvSpPr>
        <p:spPr>
          <a:xfrm>
            <a:off x="3124080" y="23274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174085"/>
          <p:cNvSpPr/>
          <p:nvPr/>
        </p:nvSpPr>
        <p:spPr>
          <a:xfrm>
            <a:off x="1752480" y="2022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74086"/>
          <p:cNvSpPr/>
          <p:nvPr/>
        </p:nvSpPr>
        <p:spPr>
          <a:xfrm>
            <a:off x="3505320" y="1870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174087"/>
          <p:cNvSpPr/>
          <p:nvPr/>
        </p:nvSpPr>
        <p:spPr>
          <a:xfrm>
            <a:off x="5181480" y="2022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174088"/>
          <p:cNvSpPr/>
          <p:nvPr/>
        </p:nvSpPr>
        <p:spPr>
          <a:xfrm>
            <a:off x="1600200" y="278460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174089"/>
          <p:cNvSpPr/>
          <p:nvPr/>
        </p:nvSpPr>
        <p:spPr>
          <a:xfrm>
            <a:off x="2057400" y="2708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174091"/>
          <p:cNvSpPr/>
          <p:nvPr/>
        </p:nvSpPr>
        <p:spPr>
          <a:xfrm>
            <a:off x="457200" y="4537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174093"/>
          <p:cNvSpPr/>
          <p:nvPr/>
        </p:nvSpPr>
        <p:spPr>
          <a:xfrm>
            <a:off x="1752480" y="453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甲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174094"/>
          <p:cNvSpPr/>
          <p:nvPr/>
        </p:nvSpPr>
        <p:spPr>
          <a:xfrm>
            <a:off x="3276720" y="4842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燕尾形箭头 174095"/>
          <p:cNvSpPr/>
          <p:nvPr/>
        </p:nvSpPr>
        <p:spPr>
          <a:xfrm>
            <a:off x="3200400" y="484200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文本框 174096"/>
          <p:cNvSpPr/>
          <p:nvPr/>
        </p:nvSpPr>
        <p:spPr>
          <a:xfrm>
            <a:off x="3429000" y="4384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创造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文本框 174098"/>
          <p:cNvSpPr/>
          <p:nvPr/>
        </p:nvSpPr>
        <p:spPr>
          <a:xfrm>
            <a:off x="5257800" y="4613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乙事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174099"/>
          <p:cNvSpPr/>
          <p:nvPr/>
        </p:nvSpPr>
        <p:spPr>
          <a:xfrm>
            <a:off x="1743120" y="53071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存在                          不存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74081"/>
          <p:cNvSpPr/>
          <p:nvPr/>
        </p:nvSpPr>
        <p:spPr>
          <a:xfrm>
            <a:off x="304920" y="80316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11f5"/>
                </a:solidFill>
                <a:latin typeface="宋体"/>
              </a:rPr>
              <a:t>想象与联想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