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chimes.wav" ContentType="audio/x-wav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E85-EF8A-4457-9CCE-00C992A1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A031-F332-4587-9ACC-0D5CB675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F01C3-993E-4E42-8850-FA0201B5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6755E-7FA0-47AE-9433-0B8C8BEE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421B1-AA81-4B3A-A71E-5974D7EB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BC136-2831-4716-A145-131B5449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75F5F-DEF0-4A01-9498-437D63B0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7B9D0-6DF1-4285-9D6C-D2F32889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260E7-65C3-4E66-BE67-293DDC31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B8270-397E-4CE6-AAC7-C545BF78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EE880-0493-43D4-82FB-FC5DDC82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06E6C-1E92-4581-829B-B6D5CBF4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8053-64D9-493F-887B-B36CF950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8573D-D989-455B-A811-1D957951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EE985-A418-4F49-A121-82148035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7F7A6-14B9-438D-84FC-23A25114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9D0D7-DF70-4B2B-A4B2-1305DC10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9CB5C-9F0D-4309-AE20-BA2AD150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C249A-2BA3-4B91-9435-A40B4C6E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F9599-AFE0-46E6-AD8A-B69503F4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23709-2D93-4DB7-8ADC-FC782B63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BE911-A252-42FC-A003-4703AC29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71EEE-6250-47BC-970E-04EA2907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C683-6965-4AF8-BFE1-A868F66C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222E3-8AB0-46B2-B765-D84C8667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CE4C7-AABF-458B-B2E4-BA371C85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21D6F-C5E8-4695-B104-919252F4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4B9C4-390B-48F6-AD1C-EB672F91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6A7DA-EDF5-4611-A6DB-A438ED70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33978-3360-43D1-AD56-8E756DE6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26EEF-F824-4C8F-9E9B-64EF2F76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C5C23-456D-4316-8C34-10CE92A9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73DA6-76F1-45BE-AE4A-808F4EF3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63138-7F5D-4E44-9E96-F018913A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AAE6-2C89-4B43-A95E-DB2E3691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44FFC-082E-4C3E-BDB8-B0E5F903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0C876-AE78-45A9-AB94-795E9612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0077E-EE06-43CE-B03C-6301D927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50D1F-51E5-4C2A-B40B-14AE705D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4B7A2-43DD-496B-AB83-2CCC8E73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AFE02-81F2-481C-8EC8-D997F7EC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19622-CC62-46A6-865F-B5697FCE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6FF95-2E4B-403D-987B-8902BB42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91A6F-DD30-485C-9506-04FE8E03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205B6-2A0F-4E94-8A19-E36AEDA4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E079-F0C8-45EB-BF2F-40B7AEA3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FF8AA-00B1-471B-82C3-3E3C6DA1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F13AF-6442-40C5-9F91-32F68517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79DBA-0932-4D22-9A1D-6EE04850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2C998-2FCC-48B7-87BF-6C2B2262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86D7D-48A3-4232-8D77-2A5FEDFE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25DBFE-3EEF-471A-BE3C-A3789269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A8BBF8-3920-4FB2-B775-3491739F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826AB9-2A9A-460C-A5C6-3FB665E7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45575-0E4B-47FA-9D29-44412279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4CD3F1-DD72-4E61-817E-5E044D29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2313-1591-4075-89EC-E0E2F115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6E976-0113-49E7-A9A9-1054CFBB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C522A6-7C64-4AB3-B387-C50B6506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A37201-8C71-4B60-9323-442BC306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992489-FCC1-41DE-8433-8D2761CC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2E63C7-2A6A-48AB-9F22-5D84EC76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04A4EC-6685-4602-A8C4-90D04E14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F33A31-DBD2-46CE-8A64-1C147BE1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7F50D9-813E-41B7-AB81-B764CC46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4C4E6E-9476-477D-B064-745EA914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407E6C-5524-40A7-962E-DAF69A3F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3E3E-3A1D-481D-911D-F4253C8C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91E55E-C267-43AC-85E8-45174F35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5AED08-B3F3-4779-84EF-A3DBDF1F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7C0A07-2F62-402C-BFF2-9E1C90F5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A12DC3-967D-4036-BA3E-F3181465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53B345-5D69-4112-9637-B3BF738B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568684-F750-47D8-A156-C7CA931A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8895F2-5BDE-454C-A71D-0EA9C2E7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2F1BF2-B7B3-457F-B75D-E780187B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76EEB4-5D81-48D8-B706-361CFE34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E432C0-0824-4E1E-9A91-A063C11C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0F38-B61E-4251-8441-C2168462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B20758-ECBF-4C61-B2B7-6224BB21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95496D-0F26-49BD-AB88-8CF56414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6B74AC-2CBA-4DC1-8F69-0497ED62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B7B7D0-9512-41C8-9780-B908ED42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361104-AFB2-4C2F-B671-13112A07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EECF76-5585-459A-90FB-B42D592E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346856-7B81-44F7-9E1C-94AC3A6D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8F7386-C15C-4552-BBE7-3ACD43DA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EDC723-1D33-4E85-983D-CF7570A9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9F3FBB-9FD0-4467-8110-C1CD099E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335D-4C4D-45A8-9EE2-D87151FC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2110CE-3D1B-4A94-9B6A-269E591D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58F7-331E-432A-B02B-892F9E96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26A4-8DFB-4F0D-8E88-346865FA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B5A8-41BD-44FB-990B-90709F6C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7313-70B0-4A6C-BA0B-C31420AD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1DDF-5539-4118-9AB3-F3B5C27E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60AA-2338-4168-A3DC-AEE91E3D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FE2E-2634-4207-985C-B4981C5C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FCC6E-CCA6-4243-918C-72DDA618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60C62-433E-4273-A6F6-051965E6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7E50E-6A78-4E00-B70A-8113F11E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0F522-9A7E-4862-AD5B-83AF8BF7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5BD99-B102-432E-9E41-26A44385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25DC-C80F-4D55-9E19-07A07E3B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665F8-C3CF-4C63-80AF-96CBAB75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5DB5A-4F4E-4727-933B-907E2323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5F7D2-5579-4BD1-9D69-3728BCD4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568C6-5450-43A2-9113-8E1A8923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17C15-E3BF-41C9-B3B4-65C2215C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5712C-5D28-4B84-9D75-89A54328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2BF15-852F-40CB-830F-09067CAD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CC650-09DE-4A39-8CE1-CC05B1F8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156B7-2DBD-461C-916A-1B6BEDF5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8883B-5F0D-400C-8418-44AF46AC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BF07-1AED-4112-A4E4-20CB83A7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D2EC5-AE0C-4FCD-B5AD-E0E03235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219E5-B249-4A64-A7C9-696E0D79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5B18A-D682-4588-9E65-F7E232E5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D70AA-0F72-436C-88FE-30C4BC87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B25DA-5892-4DD6-8DC4-981F7FB4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4372E-D8E5-47A4-ACA7-AD446772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F2CEF-A508-4BE1-B9C2-9BD5967A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C1093-CEF3-4661-847E-4256C791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9A509-D2E7-499B-A746-5C903D41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2832D-8E2B-4529-871C-35176E73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69D5-0E9D-46F9-9D80-759C3F20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5A789-1382-4205-A72A-CA86117D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84DE6-E156-4310-B751-4C6AF01D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831AE-4A0B-4AD0-9F9A-7188D41E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773C9-F965-418F-B82A-490C917D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34BDD-7E8A-4096-BA0C-CC54C7A4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761C7-3128-4BDC-8E75-89B1C023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3E94E-8627-4C20-A5D2-D5388D11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3CAC6-E7C3-4636-AE5D-E6ECF1F8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68F39-02CD-4983-9178-F12FAB35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85E9B-1D8E-4941-8323-5B6393FD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2E6-2A35-466D-AD1B-A7E92A85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060D4-5010-47E8-8514-94129AF1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A7851-AD69-4AC1-B257-EA3AD5E1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400AC-8946-4D97-9B0E-B96C5998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4E988-82C8-4697-97BD-5602D8DF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4B54D-2C1E-4396-9221-376ED7B6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61939-E9D9-4DBB-A0EE-20CF89D4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61321-E309-421E-9883-32EFEAA0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3FD02-51E1-4B66-9AA0-A3532363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1153C-BED2-4325-9A2B-8993746E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26CC7-913C-44D5-BF94-1938EA56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FB4D-DF4B-4327-AFDE-941C5307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4AAB5-7EE9-4B14-8B1B-8BA86568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2401B-BEE5-4B10-8FD7-87E364A9F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193CF-7A21-46A3-9486-B38FE329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F37B2-B401-4A14-BEED-9F090489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A2040-FD5D-42D4-95AF-0A9D547D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43A11-C3C5-4F20-A542-95093340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1142F-6048-4E80-A707-00F9B01B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6C609-11DF-403C-B415-89D01BB6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AF63E-F04A-42A5-AF49-B868C040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2E877-578C-4463-8070-D47A6C4F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1EC7-D654-482B-B338-B0A0CB34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EC960-611A-4451-BC90-60F3CEB1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76514-DBE7-47F3-AF73-A5063D4E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5BB40-ACF0-46C4-A585-E2511619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566D1-BC40-4665-A1B1-8AA6E273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C3A22-F82A-4A50-B273-FA3EE1A5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972E0-738F-40CF-9F55-8EF00B70B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D5EB7-17B4-4C3F-8178-445A37B8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417B2-419F-47BF-A484-BFD32F49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074AE-3E14-401E-8535-DB6E719D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8F728-9477-4129-B70E-68655585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9275-DE94-49C1-B471-91FD9740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31353-F147-4682-B8C4-DDBFA8BF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6F9B3-444B-4B28-8D0D-11D8B68E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2135B-2C28-4197-A1C0-43C0E3CC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1501B-81EB-4927-9917-61D531CD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BAA7F-59A3-4BA5-8846-D92670A8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C7D10-4A30-40B3-952F-533C428A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B67AE-3B19-45DD-8C32-AB73C6D7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152F8-323B-4587-BFA0-7DDEA854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82A56-51F1-4BFA-AE71-191E7911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44F03-0E22-49DC-A06B-2F798BD4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17A9-789F-4328-92C8-5E99FC5B51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713F-0AFF-40D7-A42A-67EEDD9E64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E888-A4A0-4FF0-8ABC-24FDBC76FF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166D-239B-46AD-82F9-9981880A4E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C31E-262F-49FA-B884-0D568FAC23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C1AC-88C5-4E65-B053-1CC6455D4D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8554-E3BA-4428-956F-BBB8D4AB85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0E38-6D29-467A-AAAB-46887E1689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233B-9B2F-4CC3-94F8-91A9CE3E6F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25DC-EE76-4EBC-9563-1BAECD97FD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F06A-F9C6-4620-A4F1-3FC82A1317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44CA-79F3-4D94-BA53-909EF80E47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AD3E-D963-4455-A49A-7E41D0FD8D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9A12-65BF-4417-90E4-3050CFCAAA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F596-4A91-4E5C-B9EA-9D862DD019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MH_SubTitle_1">
            <a:hlinkClick r:id="rId1" action="ppaction://hlinksldjump"/>
          </p:cNvPr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MH_SubTitle_2">
            <a:hlinkClick r:id="rId2" action="ppaction://hlinksldjump"/>
          </p:cNvPr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MH_SubTitle_3">
            <a:hlinkClick r:id="rId3" action="ppaction://hlinksldjump"/>
          </p:cNvPr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MH_SubTitle_4">
            <a:hlinkClick r:id="rId4" action="ppaction://hlinksldjump"/>
          </p:cNvPr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当堂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603" name="MH_Other_7" descr=""/>
            <p:cNvPicPr/>
            <p:nvPr/>
          </p:nvPicPr>
          <p:blipFill>
            <a:blip r:embed="rId5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607" name="MH_Other_9" descr=""/>
            <p:cNvPicPr/>
            <p:nvPr/>
          </p:nvPicPr>
          <p:blipFill>
            <a:blip r:embed="rId7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8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MH_Other_11" descr=""/>
          <p:cNvPicPr/>
          <p:nvPr/>
        </p:nvPicPr>
        <p:blipFill>
          <a:blip r:embed="rId9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10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3"/>
          <p:cNvSpPr/>
          <p:nvPr/>
        </p:nvSpPr>
        <p:spPr>
          <a:xfrm>
            <a:off x="5364000" y="620640"/>
            <a:ext cx="37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学练优七年级语文上（</a:t>
            </a:r>
            <a:r>
              <a:rPr b="1" lang="en-US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RJ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            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教学课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4130"/>
          <p:cNvSpPr/>
          <p:nvPr/>
        </p:nvSpPr>
        <p:spPr>
          <a:xfrm>
            <a:off x="393840" y="2276640"/>
            <a:ext cx="78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24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寓言四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文本框 105"/>
          <p:cNvSpPr/>
          <p:nvPr/>
        </p:nvSpPr>
        <p:spPr>
          <a:xfrm>
            <a:off x="825480" y="148284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这则寓言中你获得了怎样的启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文本框 1"/>
          <p:cNvSpPr/>
          <p:nvPr/>
        </p:nvSpPr>
        <p:spPr>
          <a:xfrm>
            <a:off x="1198440" y="2754360"/>
            <a:ext cx="682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讽刺、批评那些爱慕虚荣、自命不凡的人。告诉人们要有自知之明，不能妄自尊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文本框 1"/>
          <p:cNvSpPr/>
          <p:nvPr/>
        </p:nvSpPr>
        <p:spPr>
          <a:xfrm>
            <a:off x="1247040" y="1846440"/>
            <a:ext cx="91188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赫耳莫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左大括号 2"/>
          <p:cNvSpPr/>
          <p:nvPr/>
        </p:nvSpPr>
        <p:spPr>
          <a:xfrm>
            <a:off x="2405160" y="1057320"/>
            <a:ext cx="75960" cy="2879640"/>
          </a:xfrm>
          <a:custGeom>
            <a:avLst/>
            <a:gdLst>
              <a:gd name="textAreaLeft" fmla="*/ 48600 w 75960"/>
              <a:gd name="textAreaRight" fmla="*/ 76320 w 75960"/>
              <a:gd name="textAreaTop" fmla="*/ 1800 h 2879640"/>
              <a:gd name="textAreaBottom" fmla="*/ 287784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"/>
                  <a:pt x="10800" y="48"/>
                </a:cubicBezTo>
                <a:lnTo>
                  <a:pt x="10800" y="10752"/>
                </a:lnTo>
                <a:cubicBezTo>
                  <a:pt x="10800" y="10776"/>
                  <a:pt x="5400" y="10800"/>
                  <a:pt x="0" y="10800"/>
                </a:cubicBezTo>
                <a:cubicBezTo>
                  <a:pt x="5400" y="10800"/>
                  <a:pt x="10800" y="10824"/>
                  <a:pt x="10800" y="10848"/>
                </a:cubicBezTo>
                <a:lnTo>
                  <a:pt x="10800" y="21552"/>
                </a:lnTo>
                <a:cubicBezTo>
                  <a:pt x="10800" y="2157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3"/>
          <p:cNvSpPr/>
          <p:nvPr/>
        </p:nvSpPr>
        <p:spPr>
          <a:xfrm>
            <a:off x="2584440" y="1033560"/>
            <a:ext cx="42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宙斯雕像         一个银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文本框 4"/>
          <p:cNvSpPr/>
          <p:nvPr/>
        </p:nvSpPr>
        <p:spPr>
          <a:xfrm>
            <a:off x="2568600" y="2308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赫拉雕像         还要贵一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文本框 5"/>
          <p:cNvSpPr/>
          <p:nvPr/>
        </p:nvSpPr>
        <p:spPr>
          <a:xfrm>
            <a:off x="2550960" y="3584520"/>
            <a:ext cx="51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自己雕像         算饶头白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右大括号 6"/>
          <p:cNvSpPr/>
          <p:nvPr/>
        </p:nvSpPr>
        <p:spPr>
          <a:xfrm>
            <a:off x="6729480" y="1057320"/>
            <a:ext cx="144360" cy="2879640"/>
          </a:xfrm>
          <a:custGeom>
            <a:avLst/>
            <a:gdLst>
              <a:gd name="textAreaLeft" fmla="*/ 0 w 144360"/>
              <a:gd name="textAreaRight" fmla="*/ 52200 w 144360"/>
              <a:gd name="textAreaTop" fmla="*/ 3600 h 2879640"/>
              <a:gd name="textAreaBottom" fmla="*/ 287604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"/>
                  <a:pt x="10800" y="90"/>
                </a:cubicBezTo>
                <a:lnTo>
                  <a:pt x="10800" y="10710"/>
                </a:lnTo>
                <a:cubicBezTo>
                  <a:pt x="10800" y="10755"/>
                  <a:pt x="16200" y="10800"/>
                  <a:pt x="21600" y="10800"/>
                </a:cubicBezTo>
                <a:cubicBezTo>
                  <a:pt x="16200" y="10800"/>
                  <a:pt x="10800" y="10845"/>
                  <a:pt x="10800" y="10890"/>
                </a:cubicBezTo>
                <a:lnTo>
                  <a:pt x="10800" y="21510"/>
                </a:lnTo>
                <a:cubicBezTo>
                  <a:pt x="10800" y="2155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8"/>
          <p:cNvSpPr/>
          <p:nvPr/>
        </p:nvSpPr>
        <p:spPr>
          <a:xfrm>
            <a:off x="7224840" y="1911240"/>
            <a:ext cx="5461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雕像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9"/>
          <p:cNvSpPr/>
          <p:nvPr/>
        </p:nvSpPr>
        <p:spPr>
          <a:xfrm>
            <a:off x="2332080" y="4956120"/>
            <a:ext cx="16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尊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6" name="直接箭头连接符 10"/>
          <p:cNvCxnSpPr/>
          <p:nvPr/>
        </p:nvCxnSpPr>
        <p:spPr>
          <a:xfrm>
            <a:off x="3562200" y="5184360"/>
            <a:ext cx="2169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7" name="文本框 12"/>
          <p:cNvSpPr/>
          <p:nvPr/>
        </p:nvSpPr>
        <p:spPr>
          <a:xfrm>
            <a:off x="5832360" y="4938840"/>
            <a:ext cx="16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算饶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13"/>
          <p:cNvSpPr/>
          <p:nvPr/>
        </p:nvSpPr>
        <p:spPr>
          <a:xfrm>
            <a:off x="3890880" y="4813200"/>
            <a:ext cx="16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讽  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14"/>
          <p:cNvSpPr/>
          <p:nvPr/>
        </p:nvSpPr>
        <p:spPr>
          <a:xfrm>
            <a:off x="3587760" y="5154480"/>
            <a:ext cx="19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盲目自大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图片 1" descr="ht8820051211831199400"/>
          <p:cNvPicPr/>
          <p:nvPr/>
        </p:nvPicPr>
        <p:blipFill>
          <a:blip r:embed="rId1"/>
          <a:stretch/>
        </p:blipFill>
        <p:spPr>
          <a:xfrm>
            <a:off x="2940120" y="1511280"/>
            <a:ext cx="5238720" cy="3811680"/>
          </a:xfrm>
          <a:prstGeom prst="rect">
            <a:avLst/>
          </a:prstGeom>
          <a:ln w="0">
            <a:noFill/>
          </a:ln>
        </p:spPr>
      </p:pic>
      <p:sp>
        <p:nvSpPr>
          <p:cNvPr id="672" name="文本框 3"/>
          <p:cNvSpPr/>
          <p:nvPr/>
        </p:nvSpPr>
        <p:spPr>
          <a:xfrm>
            <a:off x="1579680" y="2127240"/>
            <a:ext cx="546120" cy="27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蚊子和狮子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3"/>
          <p:cNvSpPr/>
          <p:nvPr/>
        </p:nvSpPr>
        <p:spPr>
          <a:xfrm>
            <a:off x="1492560" y="1500120"/>
            <a:ext cx="38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则寓言的故事部分主要写了哪些情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674640" y="2676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蚊子扬长避短战胜了狮子，后因骄傲自满被蜘蛛网粘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3" descr="12"/>
          <p:cNvPicPr/>
          <p:nvPr/>
        </p:nvPicPr>
        <p:blipFill>
          <a:blip r:embed="rId1"/>
          <a:stretch/>
        </p:blipFill>
        <p:spPr>
          <a:xfrm>
            <a:off x="2508120" y="3548160"/>
            <a:ext cx="3996000" cy="2535120"/>
          </a:xfrm>
          <a:prstGeom prst="rect">
            <a:avLst/>
          </a:prstGeom>
          <a:ln w="0">
            <a:noFill/>
          </a:ln>
        </p:spPr>
      </p:pic>
      <p:sp>
        <p:nvSpPr>
          <p:cNvPr id="67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3"/>
          <p:cNvSpPr/>
          <p:nvPr/>
        </p:nvSpPr>
        <p:spPr>
          <a:xfrm>
            <a:off x="1492200" y="2203560"/>
            <a:ext cx="22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蚊子：冲、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8"/>
          <p:cNvSpPr/>
          <p:nvPr/>
        </p:nvSpPr>
        <p:spPr>
          <a:xfrm>
            <a:off x="3200400" y="190512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4255560" y="195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扬长避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1"/>
          <p:cNvSpPr/>
          <p:nvPr/>
        </p:nvSpPr>
        <p:spPr>
          <a:xfrm>
            <a:off x="44197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2"/>
          <p:cNvSpPr/>
          <p:nvPr/>
        </p:nvSpPr>
        <p:spPr>
          <a:xfrm>
            <a:off x="6019920" y="228600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狮子：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3"/>
          <p:cNvSpPr/>
          <p:nvPr/>
        </p:nvSpPr>
        <p:spPr>
          <a:xfrm>
            <a:off x="2370240" y="38545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蚊子：吹、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5"/>
          <p:cNvSpPr/>
          <p:nvPr/>
        </p:nvSpPr>
        <p:spPr>
          <a:xfrm>
            <a:off x="4244400" y="3529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骄傲自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6"/>
          <p:cNvSpPr/>
          <p:nvPr/>
        </p:nvSpPr>
        <p:spPr>
          <a:xfrm>
            <a:off x="4363920" y="4200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7"/>
          <p:cNvSpPr/>
          <p:nvPr/>
        </p:nvSpPr>
        <p:spPr>
          <a:xfrm>
            <a:off x="6019920" y="388620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蜘蛛：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23"/>
          <p:cNvSpPr/>
          <p:nvPr/>
        </p:nvSpPr>
        <p:spPr>
          <a:xfrm>
            <a:off x="4037040" y="2394000"/>
            <a:ext cx="1447920" cy="152280"/>
          </a:xfrm>
          <a:prstGeom prst="rightArrow">
            <a:avLst>
              <a:gd name="adj1" fmla="val 50000"/>
              <a:gd name="adj2" fmla="val 23770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24"/>
          <p:cNvSpPr/>
          <p:nvPr/>
        </p:nvSpPr>
        <p:spPr>
          <a:xfrm>
            <a:off x="4037040" y="4014720"/>
            <a:ext cx="1523880" cy="152640"/>
          </a:xfrm>
          <a:prstGeom prst="rightArrow">
            <a:avLst>
              <a:gd name="adj1" fmla="val 50000"/>
              <a:gd name="adj2" fmla="val 24958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3"/>
          <p:cNvSpPr/>
          <p:nvPr/>
        </p:nvSpPr>
        <p:spPr>
          <a:xfrm>
            <a:off x="325440" y="1866960"/>
            <a:ext cx="883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除此之外，你还懂得了哪些道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5"/>
          <p:cNvSpPr/>
          <p:nvPr/>
        </p:nvSpPr>
        <p:spPr>
          <a:xfrm>
            <a:off x="312840" y="30654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要战胜对方必须知己知彼，要善于以己之长攻敌所短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面对强手和困难，应毫不退缩，勇往直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文本框 105"/>
          <p:cNvSpPr/>
          <p:nvPr/>
        </p:nvSpPr>
        <p:spPr>
          <a:xfrm>
            <a:off x="627120" y="128412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对比探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1"/>
          <p:cNvSpPr/>
          <p:nvPr/>
        </p:nvSpPr>
        <p:spPr>
          <a:xfrm>
            <a:off x="638280" y="1731960"/>
            <a:ext cx="819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比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蚊子和狮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赫耳墨斯和雕像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在结构和写法上的异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）相同点：结构相同。都是第一段讲故事，第二段议论并得出道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）不同点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表现方法不同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把神当作人来写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则用拟人手法，赋予动物以人的情感和性格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表达方式不同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主要运用语言、动作和心理描写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主要运用语言描写和动作描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图片 1" descr="27691"/>
          <p:cNvPicPr/>
          <p:nvPr/>
        </p:nvPicPr>
        <p:blipFill>
          <a:blip r:embed="rId1"/>
          <a:stretch/>
        </p:blipFill>
        <p:spPr>
          <a:xfrm>
            <a:off x="2921040" y="1773360"/>
            <a:ext cx="3794040" cy="2552400"/>
          </a:xfrm>
          <a:prstGeom prst="rect">
            <a:avLst/>
          </a:prstGeom>
          <a:ln w="0">
            <a:noFill/>
          </a:ln>
        </p:spPr>
      </p:pic>
      <p:sp>
        <p:nvSpPr>
          <p:cNvPr id="698" name="文本框 2"/>
          <p:cNvSpPr/>
          <p:nvPr/>
        </p:nvSpPr>
        <p:spPr>
          <a:xfrm>
            <a:off x="3352680" y="4564080"/>
            <a:ext cx="29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穿井得一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副标题 5122"/>
          <p:cNvSpPr/>
          <p:nvPr/>
        </p:nvSpPr>
        <p:spPr>
          <a:xfrm>
            <a:off x="752400" y="1054080"/>
            <a:ext cx="770580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宋之丁氏，家无井而出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溉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常一人居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家穿井，告人曰：“吾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穿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得一人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文本框 5124"/>
          <p:cNvSpPr/>
          <p:nvPr/>
        </p:nvSpPr>
        <p:spPr>
          <a:xfrm>
            <a:off x="4314960" y="1544760"/>
            <a:ext cx="30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从井里打水浇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文本框 5125"/>
          <p:cNvSpPr/>
          <p:nvPr/>
        </p:nvSpPr>
        <p:spPr>
          <a:xfrm>
            <a:off x="620640" y="26892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等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文本框 5127"/>
          <p:cNvSpPr/>
          <p:nvPr/>
        </p:nvSpPr>
        <p:spPr>
          <a:xfrm>
            <a:off x="5083200" y="26179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打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5126"/>
          <p:cNvSpPr/>
          <p:nvPr/>
        </p:nvSpPr>
        <p:spPr>
          <a:xfrm>
            <a:off x="812880" y="3560760"/>
            <a:ext cx="74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宋国有一家姓丁的，家中没有井，须到外面打水浇地，因此经常有一个人住在外面。等到他家打了一眼井之后，便对别人说：“我家打井得到一个人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副标题 6146"/>
          <p:cNvSpPr/>
          <p:nvPr/>
        </p:nvSpPr>
        <p:spPr>
          <a:xfrm>
            <a:off x="250920" y="1341360"/>
            <a:ext cx="87138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传之者，曰：“丁氏穿井得一人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人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，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宋君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文本框 6148"/>
          <p:cNvSpPr/>
          <p:nvPr/>
        </p:nvSpPr>
        <p:spPr>
          <a:xfrm>
            <a:off x="1224000" y="10684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听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6151"/>
          <p:cNvSpPr/>
          <p:nvPr/>
        </p:nvSpPr>
        <p:spPr>
          <a:xfrm>
            <a:off x="880920" y="209232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谈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6153"/>
          <p:cNvSpPr/>
          <p:nvPr/>
        </p:nvSpPr>
        <p:spPr>
          <a:xfrm>
            <a:off x="1863720" y="29638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使听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6154"/>
          <p:cNvSpPr/>
          <p:nvPr/>
        </p:nvSpPr>
        <p:spPr>
          <a:xfrm>
            <a:off x="3156480" y="20257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向、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6149"/>
          <p:cNvSpPr/>
          <p:nvPr/>
        </p:nvSpPr>
        <p:spPr>
          <a:xfrm>
            <a:off x="714240" y="3917880"/>
            <a:ext cx="75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有人听到这话，传播说：“丁家打井打出了一个人。”都城的人都谈论这件事，这件事被宋君听见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组合 3"/>
          <p:cNvGrpSpPr/>
          <p:nvPr/>
        </p:nvGrpSpPr>
        <p:grpSpPr>
          <a:xfrm>
            <a:off x="684360" y="909720"/>
            <a:ext cx="1714320" cy="499680"/>
            <a:chOff x="684360" y="909720"/>
            <a:chExt cx="1714320" cy="499680"/>
          </a:xfrm>
        </p:grpSpPr>
        <p:sp>
          <p:nvSpPr>
            <p:cNvPr id="618" name="流程图: 文档 2"/>
            <p:cNvSpPr/>
            <p:nvPr/>
          </p:nvSpPr>
          <p:spPr>
            <a:xfrm>
              <a:off x="684360" y="955800"/>
              <a:ext cx="1671840" cy="453600"/>
            </a:xfrm>
            <a:prstGeom prst="flowChartDocument">
              <a:avLst/>
            </a:prstGeom>
            <a:solidFill>
              <a:srgbClr val="228989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文本框 4101"/>
            <p:cNvSpPr/>
            <p:nvPr/>
          </p:nvSpPr>
          <p:spPr>
            <a:xfrm>
              <a:off x="684360" y="90972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学习目标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文本框 105"/>
          <p:cNvSpPr/>
          <p:nvPr/>
        </p:nvSpPr>
        <p:spPr>
          <a:xfrm>
            <a:off x="1305000" y="174456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了解几则寓言的故事情节和寓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1"/>
          <p:cNvSpPr/>
          <p:nvPr/>
        </p:nvSpPr>
        <p:spPr>
          <a:xfrm>
            <a:off x="1314360" y="2430360"/>
            <a:ext cx="70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习改写及编写寓言，进一步培养发散思维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3"/>
          <p:cNvSpPr/>
          <p:nvPr/>
        </p:nvSpPr>
        <p:spPr>
          <a:xfrm>
            <a:off x="1336680" y="3209760"/>
            <a:ext cx="661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联系生活实际感悟寓言，培养健全人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副标题 7170"/>
          <p:cNvSpPr/>
          <p:nvPr/>
        </p:nvSpPr>
        <p:spPr>
          <a:xfrm>
            <a:off x="1386000" y="1089000"/>
            <a:ext cx="647064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宋君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问之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丁氏。丁氏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得一人之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非得一人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井中也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7172"/>
          <p:cNvSpPr/>
          <p:nvPr/>
        </p:nvSpPr>
        <p:spPr>
          <a:xfrm>
            <a:off x="2813760" y="1495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7174"/>
          <p:cNvSpPr/>
          <p:nvPr/>
        </p:nvSpPr>
        <p:spPr>
          <a:xfrm>
            <a:off x="4081320" y="15177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7177"/>
          <p:cNvSpPr/>
          <p:nvPr/>
        </p:nvSpPr>
        <p:spPr>
          <a:xfrm>
            <a:off x="6375240" y="15177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回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7180"/>
          <p:cNvSpPr/>
          <p:nvPr/>
        </p:nvSpPr>
        <p:spPr>
          <a:xfrm>
            <a:off x="2693880" y="279864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劳动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7181"/>
          <p:cNvSpPr/>
          <p:nvPr/>
        </p:nvSpPr>
        <p:spPr>
          <a:xfrm>
            <a:off x="5307120" y="264492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7173"/>
          <p:cNvSpPr/>
          <p:nvPr/>
        </p:nvSpPr>
        <p:spPr>
          <a:xfrm>
            <a:off x="1158840" y="3549600"/>
            <a:ext cx="735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宋国国君派人去问姓丁的。丁家的人回答说：“得到一个人的劳力，并不是从井中挖出一个人来呀。” 早知道是这个结果，还不如不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占位符 16386"/>
          <p:cNvSpPr/>
          <p:nvPr/>
        </p:nvSpPr>
        <p:spPr>
          <a:xfrm>
            <a:off x="276120" y="1063800"/>
            <a:ext cx="8623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短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穿井得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事情发展顺序叙述。有开端、发展、结局，但最后也未点出寓意。全文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节，分三层。 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一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叙述宋国姓丁人家因为要到外面打井水用，常要占一个劳动力。后来自家打了井，趣说为“穿井得一人”。 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二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人并未懂这话，就把丁氏的话传开了，直传到国君那里。 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三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丁氏告诉国君使者自己的话的真正意思。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文本框 8200"/>
          <p:cNvSpPr/>
          <p:nvPr/>
        </p:nvSpPr>
        <p:spPr>
          <a:xfrm>
            <a:off x="230040" y="18255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则寓言故事说明了一个什么道理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8201"/>
          <p:cNvSpPr/>
          <p:nvPr/>
        </p:nvSpPr>
        <p:spPr>
          <a:xfrm>
            <a:off x="241200" y="2801880"/>
            <a:ext cx="85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告诉人们不可轻信传言并盲目传播，说话、念词不要产生歧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" descr="f3d3572c11dfa9ecb69c893b61d0f703918fc168"/>
          <p:cNvPicPr/>
          <p:nvPr/>
        </p:nvPicPr>
        <p:blipFill>
          <a:blip r:embed="rId1"/>
          <a:srcRect l="-1001" t="-1044" r="1015" b="8188"/>
          <a:stretch/>
        </p:blipFill>
        <p:spPr>
          <a:xfrm>
            <a:off x="3295800" y="3549600"/>
            <a:ext cx="255240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占位符 17410"/>
          <p:cNvSpPr/>
          <p:nvPr/>
        </p:nvSpPr>
        <p:spPr>
          <a:xfrm>
            <a:off x="457200" y="131292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fffff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作方法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穿井得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幽默风趣。故事中因对话中有一个多义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”，可指人也可指劳动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把“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得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音义混用，而被人误解，结果越传越远，居然传到国君耳朵里去了。最后道出真相，事实与传言相差太大，不禁令人发笑。文章就是在笑中教育了人们不可轻信传言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12" descr="qiryt2"/>
          <p:cNvPicPr/>
          <p:nvPr/>
        </p:nvPicPr>
        <p:blipFill>
          <a:blip r:embed="rId1"/>
          <a:stretch/>
        </p:blipFill>
        <p:spPr>
          <a:xfrm>
            <a:off x="3824280" y="1133640"/>
            <a:ext cx="2994120" cy="4433760"/>
          </a:xfrm>
          <a:prstGeom prst="rect">
            <a:avLst/>
          </a:prstGeom>
          <a:ln w="0">
            <a:noFill/>
          </a:ln>
        </p:spPr>
      </p:pic>
      <p:sp>
        <p:nvSpPr>
          <p:cNvPr id="730" name="文本框 1"/>
          <p:cNvSpPr/>
          <p:nvPr/>
        </p:nvSpPr>
        <p:spPr>
          <a:xfrm>
            <a:off x="2164680" y="1854360"/>
            <a:ext cx="60696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杞人忧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4"/>
          <p:cNvSpPr/>
          <p:nvPr/>
        </p:nvSpPr>
        <p:spPr>
          <a:xfrm>
            <a:off x="466560" y="1409760"/>
            <a:ext cx="84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杞国有人忧天地崩坠，身无所寄，废寝食者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5"/>
          <p:cNvSpPr/>
          <p:nvPr/>
        </p:nvSpPr>
        <p:spPr>
          <a:xfrm>
            <a:off x="0" y="2627280"/>
            <a:ext cx="90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音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崩 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寝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食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6"/>
          <p:cNvSpPr/>
          <p:nvPr/>
        </p:nvSpPr>
        <p:spPr>
          <a:xfrm>
            <a:off x="1127520" y="226368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q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8"/>
          <p:cNvSpPr/>
          <p:nvPr/>
        </p:nvSpPr>
        <p:spPr>
          <a:xfrm>
            <a:off x="2236680" y="22255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ēngzhu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"/>
          <p:cNvSpPr/>
          <p:nvPr/>
        </p:nvSpPr>
        <p:spPr>
          <a:xfrm>
            <a:off x="4743360" y="223056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qǐ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2"/>
          <p:cNvSpPr/>
          <p:nvPr/>
        </p:nvSpPr>
        <p:spPr>
          <a:xfrm>
            <a:off x="0" y="3274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释：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忧：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崩坠：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所：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寄：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者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3"/>
          <p:cNvSpPr/>
          <p:nvPr/>
        </p:nvSpPr>
        <p:spPr>
          <a:xfrm>
            <a:off x="2843280" y="386064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4"/>
          <p:cNvSpPr/>
          <p:nvPr/>
        </p:nvSpPr>
        <p:spPr>
          <a:xfrm>
            <a:off x="2411280" y="32814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担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5"/>
          <p:cNvSpPr/>
          <p:nvPr/>
        </p:nvSpPr>
        <p:spPr>
          <a:xfrm>
            <a:off x="5659560" y="328932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崩塌坠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6"/>
          <p:cNvSpPr/>
          <p:nvPr/>
        </p:nvSpPr>
        <p:spPr>
          <a:xfrm>
            <a:off x="2428920" y="4003560"/>
            <a:ext cx="18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地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7"/>
          <p:cNvSpPr/>
          <p:nvPr/>
        </p:nvSpPr>
        <p:spPr>
          <a:xfrm>
            <a:off x="5435640" y="401796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依托，依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9"/>
          <p:cNvSpPr/>
          <p:nvPr/>
        </p:nvSpPr>
        <p:spPr>
          <a:xfrm>
            <a:off x="2362320" y="474012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用在句末，表示停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573120" y="900000"/>
            <a:ext cx="81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又有忧彼之所忧者，因往晓之，曰：“天，积气耳，无处无气。若屈伸呼吸，终日在天中行止，奈何忧崩坠乎？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5"/>
          <p:cNvSpPr/>
          <p:nvPr/>
        </p:nvSpPr>
        <p:spPr>
          <a:xfrm>
            <a:off x="701280" y="2411280"/>
            <a:ext cx="36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音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若</a:t>
            </a:r>
            <a:r>
              <a:rPr b="1" i="1" lang="zh-CN" sz="2400" spc="-1" strike="noStrike">
                <a:solidFill>
                  <a:srgbClr val="003399"/>
                </a:solidFill>
                <a:latin typeface="Times New Roman"/>
              </a:rPr>
              <a:t>　　　　　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6"/>
          <p:cNvSpPr/>
          <p:nvPr/>
        </p:nvSpPr>
        <p:spPr>
          <a:xfrm>
            <a:off x="2463840" y="231624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7"/>
          <p:cNvSpPr/>
          <p:nvPr/>
        </p:nvSpPr>
        <p:spPr>
          <a:xfrm>
            <a:off x="2179800" y="23716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ru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9"/>
          <p:cNvSpPr/>
          <p:nvPr/>
        </p:nvSpPr>
        <p:spPr>
          <a:xfrm>
            <a:off x="5364000" y="234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zhō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0"/>
          <p:cNvSpPr/>
          <p:nvPr/>
        </p:nvSpPr>
        <p:spPr>
          <a:xfrm>
            <a:off x="758520" y="2987640"/>
            <a:ext cx="599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释：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彼：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因：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晓：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之：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耳：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若：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呼吸：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2"/>
          <p:cNvSpPr/>
          <p:nvPr/>
        </p:nvSpPr>
        <p:spPr>
          <a:xfrm>
            <a:off x="2987640" y="31608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13"/>
          <p:cNvSpPr/>
          <p:nvPr/>
        </p:nvSpPr>
        <p:spPr>
          <a:xfrm>
            <a:off x="5438880" y="312408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助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14"/>
          <p:cNvSpPr/>
          <p:nvPr/>
        </p:nvSpPr>
        <p:spPr>
          <a:xfrm>
            <a:off x="2871720" y="36702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于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5"/>
          <p:cNvSpPr/>
          <p:nvPr/>
        </p:nvSpPr>
        <p:spPr>
          <a:xfrm>
            <a:off x="5337000" y="3622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前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6"/>
          <p:cNvSpPr/>
          <p:nvPr/>
        </p:nvSpPr>
        <p:spPr>
          <a:xfrm>
            <a:off x="2894040" y="42084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开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8"/>
          <p:cNvSpPr/>
          <p:nvPr/>
        </p:nvSpPr>
        <p:spPr>
          <a:xfrm>
            <a:off x="5294160" y="41497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代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9"/>
          <p:cNvSpPr/>
          <p:nvPr/>
        </p:nvSpPr>
        <p:spPr>
          <a:xfrm>
            <a:off x="2987640" y="4795920"/>
            <a:ext cx="9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罢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20"/>
          <p:cNvSpPr/>
          <p:nvPr/>
        </p:nvSpPr>
        <p:spPr>
          <a:xfrm>
            <a:off x="5370480" y="46846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地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21"/>
          <p:cNvSpPr/>
          <p:nvPr/>
        </p:nvSpPr>
        <p:spPr>
          <a:xfrm>
            <a:off x="3132000" y="530064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22"/>
          <p:cNvSpPr/>
          <p:nvPr/>
        </p:nvSpPr>
        <p:spPr>
          <a:xfrm>
            <a:off x="5686560" y="533412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呼气和吸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4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4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4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9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4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9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4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4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4"/>
          <p:cNvSpPr/>
          <p:nvPr/>
        </p:nvSpPr>
        <p:spPr>
          <a:xfrm>
            <a:off x="428760" y="9810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人曰：“天果积气，日月星宿不当坠邪？”晓之者曰：“日月星宿，亦积气中之有光耀者，只使坠，亦不能有所中伤。”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430200" y="2779560"/>
            <a:ext cx="72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何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坠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1550880" y="24638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à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8"/>
          <p:cNvSpPr/>
          <p:nvPr/>
        </p:nvSpPr>
        <p:spPr>
          <a:xfrm>
            <a:off x="3385080" y="234792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ā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0"/>
          <p:cNvSpPr/>
          <p:nvPr/>
        </p:nvSpPr>
        <p:spPr>
          <a:xfrm>
            <a:off x="4975560" y="23162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zhò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1"/>
          <p:cNvSpPr/>
          <p:nvPr/>
        </p:nvSpPr>
        <p:spPr>
          <a:xfrm>
            <a:off x="430200" y="3500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释：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果：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者：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光耀：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只使：　　　　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2"/>
          <p:cNvSpPr/>
          <p:nvPr/>
        </p:nvSpPr>
        <p:spPr>
          <a:xfrm>
            <a:off x="2843280" y="364500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果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3"/>
          <p:cNvSpPr/>
          <p:nvPr/>
        </p:nvSpPr>
        <p:spPr>
          <a:xfrm>
            <a:off x="5651640" y="3645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应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4"/>
          <p:cNvSpPr/>
          <p:nvPr/>
        </p:nvSpPr>
        <p:spPr>
          <a:xfrm>
            <a:off x="2822400" y="4211640"/>
            <a:ext cx="21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5"/>
          <p:cNvSpPr/>
          <p:nvPr/>
        </p:nvSpPr>
        <p:spPr>
          <a:xfrm>
            <a:off x="5651640" y="4221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星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6"/>
          <p:cNvSpPr/>
          <p:nvPr/>
        </p:nvSpPr>
        <p:spPr>
          <a:xfrm>
            <a:off x="3059280" y="47242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光亮，光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7"/>
          <p:cNvSpPr/>
          <p:nvPr/>
        </p:nvSpPr>
        <p:spPr>
          <a:xfrm>
            <a:off x="3059280" y="52959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即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8"/>
          <p:cNvSpPr/>
          <p:nvPr/>
        </p:nvSpPr>
        <p:spPr>
          <a:xfrm>
            <a:off x="5938920" y="52992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打中，击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3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8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3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8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3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8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3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4"/>
          <p:cNvSpPr/>
          <p:nvPr/>
        </p:nvSpPr>
        <p:spPr>
          <a:xfrm>
            <a:off x="611280" y="759240"/>
            <a:ext cx="784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人曰：“奈地坏何？”晓者曰：“地积块耳，充塞四虚，无处无块。若躇步跐蹈，终日在地上行止，奈何忧其坏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1176840" y="2276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步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     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6"/>
          <p:cNvSpPr/>
          <p:nvPr/>
        </p:nvSpPr>
        <p:spPr>
          <a:xfrm>
            <a:off x="1574640" y="1963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h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7"/>
          <p:cNvSpPr/>
          <p:nvPr/>
        </p:nvSpPr>
        <p:spPr>
          <a:xfrm>
            <a:off x="4241880" y="197964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8"/>
          <p:cNvSpPr/>
          <p:nvPr/>
        </p:nvSpPr>
        <p:spPr>
          <a:xfrm>
            <a:off x="466560" y="32130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释：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若：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跐：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终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行止：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奈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10"/>
          <p:cNvSpPr/>
          <p:nvPr/>
        </p:nvSpPr>
        <p:spPr>
          <a:xfrm>
            <a:off x="3121920" y="3354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1"/>
          <p:cNvSpPr/>
          <p:nvPr/>
        </p:nvSpPr>
        <p:spPr>
          <a:xfrm>
            <a:off x="6227640" y="33526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2"/>
          <p:cNvSpPr/>
          <p:nvPr/>
        </p:nvSpPr>
        <p:spPr>
          <a:xfrm>
            <a:off x="3132000" y="39304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6199200" y="38656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整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4"/>
          <p:cNvSpPr/>
          <p:nvPr/>
        </p:nvSpPr>
        <p:spPr>
          <a:xfrm>
            <a:off x="3276720" y="443556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行动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6"/>
          <p:cNvSpPr/>
          <p:nvPr/>
        </p:nvSpPr>
        <p:spPr>
          <a:xfrm>
            <a:off x="6229440" y="44355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为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2"/>
          <p:cNvSpPr/>
          <p:nvPr/>
        </p:nvSpPr>
        <p:spPr>
          <a:xfrm>
            <a:off x="465120" y="851040"/>
            <a:ext cx="8151840" cy="53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杞国有一个人，担心天会坠落下来、地会崩塌下去，自己没有地方依托，（因此）睡不着觉，吃不下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又有一个人，看到这个人这样担心，又为这个人担忧，于是前去开导他，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聚积在一起的气体罢了，没有什么地方没有气。你一屈一伸、一呼一吸，整天都在天中活动，为什么担忧天会坠落呢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那人说：“假如天果真是聚积在一起的气体，日月星辰不应当坠落了吗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开导他的人说：“日月星辰，也只是聚积在一起的有光的气体，即使坠落，也不会击中、打伤人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那人说：“地塌了怎么办呢？”开导者说：“大地是聚积在一起的土块，四处都塞满了，没有地方没有土块。你整天踩踏着它，整天在地上行走，为什么要担心它会崩塌呢？”那人放下心来十分高兴，开导他的人也放下心来非常高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预习课文    相关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WordArt 4"/>
          <p:cNvSpPr/>
          <p:nvPr/>
        </p:nvSpPr>
        <p:spPr>
          <a:xfrm>
            <a:off x="2335320" y="620640"/>
            <a:ext cx="761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5"/>
          <p:cNvSpPr/>
          <p:nvPr/>
        </p:nvSpPr>
        <p:spPr>
          <a:xfrm>
            <a:off x="2335320" y="1484280"/>
            <a:ext cx="792000" cy="1368360"/>
          </a:xfrm>
          <a:prstGeom prst="downArrow">
            <a:avLst>
              <a:gd name="adj1" fmla="val 50000"/>
              <a:gd name="adj2" fmla="val 43185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6"/>
          <p:cNvSpPr/>
          <p:nvPr/>
        </p:nvSpPr>
        <p:spPr>
          <a:xfrm>
            <a:off x="4330080" y="7650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地崩坠，身无所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WordArt 7"/>
          <p:cNvSpPr/>
          <p:nvPr/>
        </p:nvSpPr>
        <p:spPr>
          <a:xfrm>
            <a:off x="2282760" y="2882880"/>
            <a:ext cx="771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8"/>
          <p:cNvSpPr/>
          <p:nvPr/>
        </p:nvSpPr>
        <p:spPr>
          <a:xfrm>
            <a:off x="3127320" y="1989000"/>
            <a:ext cx="358920" cy="2448000"/>
          </a:xfrm>
          <a:custGeom>
            <a:avLst/>
            <a:gdLst>
              <a:gd name="textAreaLeft" fmla="*/ 229320 w 358920"/>
              <a:gd name="textAreaRight" fmla="*/ 359280 w 35892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9"/>
          <p:cNvSpPr/>
          <p:nvPr/>
        </p:nvSpPr>
        <p:spPr>
          <a:xfrm>
            <a:off x="4318920" y="1720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，积气耳，无处无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0"/>
          <p:cNvSpPr/>
          <p:nvPr/>
        </p:nvSpPr>
        <p:spPr>
          <a:xfrm>
            <a:off x="4257000" y="28526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月星宿，亦积气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4371120" y="39909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，积块耳，充塞四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13"/>
          <p:cNvSpPr/>
          <p:nvPr/>
        </p:nvSpPr>
        <p:spPr>
          <a:xfrm>
            <a:off x="2335320" y="3860640"/>
            <a:ext cx="792000" cy="1511640"/>
          </a:xfrm>
          <a:prstGeom prst="downArrow">
            <a:avLst>
              <a:gd name="adj1" fmla="val 50000"/>
              <a:gd name="adj2" fmla="val 4770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5"/>
          <p:cNvSpPr/>
          <p:nvPr/>
        </p:nvSpPr>
        <p:spPr>
          <a:xfrm>
            <a:off x="3268800" y="5229360"/>
            <a:ext cx="52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消除没有根据或不必要的担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a0000"/>
                </a:solidFill>
                <a:latin typeface="宋体"/>
              </a:rPr>
              <a:t>（天下本无事，庸人自扰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WordArt 16"/>
          <p:cNvSpPr/>
          <p:nvPr/>
        </p:nvSpPr>
        <p:spPr>
          <a:xfrm>
            <a:off x="2252520" y="5149800"/>
            <a:ext cx="7621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0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3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6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4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9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2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29"/>
          <p:cNvSpPr/>
          <p:nvPr/>
        </p:nvSpPr>
        <p:spPr>
          <a:xfrm>
            <a:off x="210960" y="141300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的讲了什么事？寓意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0"/>
          <p:cNvSpPr/>
          <p:nvPr/>
        </p:nvSpPr>
        <p:spPr>
          <a:xfrm>
            <a:off x="250920" y="2354400"/>
            <a:ext cx="846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杞人担心天坠地崩，身无所寄而寝食不安。传统认为，杞人的做法完全是庸人自扰，无根据地瞎担心。告诉我们要消除没有根据或不必要的忧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2" descr="未标题-1"/>
          <p:cNvPicPr/>
          <p:nvPr/>
        </p:nvPicPr>
        <p:blipFill>
          <a:blip r:embed="rId1"/>
          <a:stretch/>
        </p:blipFill>
        <p:spPr>
          <a:xfrm>
            <a:off x="3514680" y="3890880"/>
            <a:ext cx="3084480" cy="2347920"/>
          </a:xfrm>
          <a:prstGeom prst="rect">
            <a:avLst/>
          </a:prstGeom>
          <a:ln w="0">
            <a:noFill/>
          </a:ln>
        </p:spPr>
      </p:pic>
      <p:sp>
        <p:nvSpPr>
          <p:cNvPr id="80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1138320" y="3197160"/>
            <a:ext cx="714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寓言是文学作品的一种体裁，是带有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讽喻和讽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故事。其篇幅大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简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主人公可以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拟人化的生物或非生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主题多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借此喻彼，借远喻近，借小喻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使深奥的道理从简单的故事中体现出来，具有鲜明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哲理性和讽刺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在创作上常常采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夸张和拟人等表现手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图片 1" descr="003i0MYrzy6L6EUHeoq4a&amp;690"/>
          <p:cNvPicPr/>
          <p:nvPr/>
        </p:nvPicPr>
        <p:blipFill>
          <a:blip r:embed="rId1"/>
          <a:stretch/>
        </p:blipFill>
        <p:spPr>
          <a:xfrm>
            <a:off x="3452760" y="585720"/>
            <a:ext cx="4191120" cy="5686560"/>
          </a:xfrm>
          <a:prstGeom prst="rect">
            <a:avLst/>
          </a:prstGeom>
          <a:ln w="0">
            <a:noFill/>
          </a:ln>
        </p:spPr>
      </p:pic>
      <p:sp>
        <p:nvSpPr>
          <p:cNvPr id="632" name="文本框 2"/>
          <p:cNvSpPr/>
          <p:nvPr/>
        </p:nvSpPr>
        <p:spPr>
          <a:xfrm>
            <a:off x="1658880" y="1206360"/>
            <a:ext cx="5461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赫耳墨斯和雕像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1028"/>
          <p:cNvSpPr/>
          <p:nvPr/>
        </p:nvSpPr>
        <p:spPr>
          <a:xfrm>
            <a:off x="136440" y="961920"/>
            <a:ext cx="87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赫耳墨斯为什么来到凡间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029"/>
          <p:cNvSpPr/>
          <p:nvPr/>
        </p:nvSpPr>
        <p:spPr>
          <a:xfrm>
            <a:off x="228600" y="1627200"/>
            <a:ext cx="86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因为想赫耳墨斯知道他在人间受到多大的尊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027"/>
          <p:cNvSpPr/>
          <p:nvPr/>
        </p:nvSpPr>
        <p:spPr>
          <a:xfrm>
            <a:off x="157320" y="2133720"/>
            <a:ext cx="80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为什么挑了宙斯和赫拉的雕像来问价，请说出他此刻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心理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030"/>
          <p:cNvSpPr/>
          <p:nvPr/>
        </p:nvSpPr>
        <p:spPr>
          <a:xfrm>
            <a:off x="338040" y="3505320"/>
            <a:ext cx="84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先问宙斯雕像的价格，大有跟最高的神一比高低的想法；知道价钱不高后，他十分满意。问赫拉雕像的价钱之后，他更觉得自己是商人的庇护神，人们对他会更尊重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2"/>
          <p:cNvSpPr/>
          <p:nvPr/>
        </p:nvSpPr>
        <p:spPr>
          <a:xfrm>
            <a:off x="228600" y="29242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个简单的“笑”，传神地写出了赫耳墨斯微妙的内心世界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嘲笑宙斯雕像价格低，讥笑宙斯不如赫拉，暗想商人会把自己的身价抬得很高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这正是他虚荣心的具体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228600" y="955800"/>
            <a:ext cx="855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墨斯三次问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态、语气一样吗？为什么要“笑着问道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“笑”有什么含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915840" y="8287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赫耳墨斯和雕像者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5"/>
          <p:cNvSpPr/>
          <p:nvPr/>
        </p:nvSpPr>
        <p:spPr>
          <a:xfrm>
            <a:off x="1650960" y="2340000"/>
            <a:ext cx="55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笑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8"/>
          <p:cNvSpPr/>
          <p:nvPr/>
        </p:nvSpPr>
        <p:spPr>
          <a:xfrm>
            <a:off x="2451240" y="4971960"/>
            <a:ext cx="45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爱慕虚荣而不被重视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13"/>
          <p:cNvSpPr/>
          <p:nvPr/>
        </p:nvSpPr>
        <p:spPr>
          <a:xfrm>
            <a:off x="4282920" y="3068640"/>
            <a:ext cx="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4"/>
          <p:cNvSpPr/>
          <p:nvPr/>
        </p:nvSpPr>
        <p:spPr>
          <a:xfrm>
            <a:off x="883440" y="1711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情节发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5"/>
          <p:cNvSpPr/>
          <p:nvPr/>
        </p:nvSpPr>
        <p:spPr>
          <a:xfrm>
            <a:off x="1666800" y="3352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心理描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6"/>
          <p:cNvSpPr/>
          <p:nvPr/>
        </p:nvSpPr>
        <p:spPr>
          <a:xfrm>
            <a:off x="4867200" y="33526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语言、神态描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7"/>
          <p:cNvSpPr/>
          <p:nvPr/>
        </p:nvSpPr>
        <p:spPr>
          <a:xfrm>
            <a:off x="3114720" y="4191120"/>
            <a:ext cx="37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反衬手法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20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20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20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3"/>
          <p:cNvSpPr/>
          <p:nvPr/>
        </p:nvSpPr>
        <p:spPr>
          <a:xfrm>
            <a:off x="723960" y="331488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讽刺、批评那些爱慕虚荣、妄自尊大的人。告诉人们要有自知之明，不能妄自尊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663480" y="987480"/>
            <a:ext cx="74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这则寓言生动刻画出一个怎样的赫耳墨斯形象？课文寓意是什么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7"/>
          <p:cNvSpPr/>
          <p:nvPr/>
        </p:nvSpPr>
        <p:spPr>
          <a:xfrm>
            <a:off x="557280" y="2557440"/>
            <a:ext cx="73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生动刻画出一个妄自尊大、爱慕虚荣者的形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语文备课大师【全免费】</dc:creator>
  <dc:description>语文备课大师【全免费】</dc:description>
  <cp:keywords/>
  <dc:language>en-US</dc:language>
  <cp:lastModifiedBy>xuhuachang</cp:lastModifiedBy>
  <dcterms:modified xsi:type="dcterms:W3CDTF">2017-09-16T18:21:24Z</dcterms:modified>
  <cp:revision>0</cp:revision>
  <dc:subject/>
  <dc:title>语文备课大师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