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6CB-DB22-4E75-BF2E-E76CA536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B19-57E5-4E2F-93BA-EBE605B9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2194-0CD1-4E07-B0EB-CA40B282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E6703-5543-428A-B140-E831C7B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33FA4-CB8B-438F-B94D-62ED812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58E4-DA59-4551-8E3E-AFEA608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053FA-FB99-4A39-B00E-72A1063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157F7-893A-44E0-A84C-528AAC3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E86C4-2C8C-4F57-9A44-BB25299F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D5BCF-BA32-4BB5-93C1-E1866455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0F2FD-78EE-4DB1-A889-FFF38249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99529-0F77-447A-890F-F65ACCFA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4D3-12F1-4976-A455-0912EC1E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FDA2-E8D8-4097-93F8-96292FC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EA8DE-967C-4E28-8C90-CD7FCAC7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83BAD-5E27-4695-8E47-761BAF1C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421A-5E71-45DB-9DA8-9BE5139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5E537-32B9-4E47-9821-C9AD31E2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E470-DF63-4F60-A746-3DE0C90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76265-0879-487D-8F86-9295366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76C6C-539C-4929-B356-8DCC2897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51756-3237-427C-B9B1-46F47D4B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9975D-3537-4CBF-B7DF-AD2BB66B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15E-053A-4F92-AD75-DDF9A489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7BBFC-BB48-4B88-A4E6-18CBEA25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6FDA8-16CF-4BD3-A2C7-D7176B18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5A782-3F1D-4BC9-8BF5-630329F8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42D1-36E6-4AB5-8B3E-56FE044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757E1-2082-40D2-8964-453432C8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49577-F35B-4E82-88BF-C9D928BB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E93E3-0194-4ACB-91D2-028A0C9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CADF6-9DCE-4DDF-B96D-8BEC6F5A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8323C-47A3-40DF-A468-B3615DE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25B1B-7F50-4266-BB66-73CD3EE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7D84-EB0F-4456-98E2-E3DAC6C9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1AFCA-B180-497A-876D-EA6008A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1492-8B2D-4A31-9077-4423DDAA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CEA20-5DFB-4AB1-9EB2-7C2F2F89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238AE-5FAB-4803-9169-854BC955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77DBC-7D8E-4CAC-8941-E6AF518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1ABBE-7B3E-4BE3-A8E6-97CC4A8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06A3B-2B05-4EE1-919B-E0D21E8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3D5A4-83B1-4116-83AD-4A37E60D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588E7-782A-4053-B3FB-EF8E044F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CB4C3-12AA-4D96-A012-0F43AE4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0699-FB74-45DA-A089-4DED1CF5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EBDC6-E2C9-4E37-AD89-56A1794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3F840-C35F-4477-9E7B-FAF631C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AA0D9-71E5-46EC-B5C5-C80E1FC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92D56-AC6C-4793-AEB4-9F7096A2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85489-725B-4330-8514-61D5ABAF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061B6-5CCE-4E98-8FC4-83E095B8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FB44A-F7A0-42D7-B11C-AD9973D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40125-6C14-400E-93C2-97ED36E5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7B838-E147-45AE-B1B6-3B6567B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174FC-9870-42B3-BEA4-6BA2BFB9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2EE-AA24-456A-9CCD-EE55931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DCFF3-2641-4C98-95CD-5B358D2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46353-5897-4611-9AC3-0DB4396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C2067-9924-4401-9D0C-6AB5915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052DB-371D-4BE9-B4F8-A4AEBCF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FFDCA-0123-4417-A427-25FB9F66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30A2E-72CE-4B28-BECE-603FE52F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F4898-E692-4F28-940C-C5B43028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839E1-A1B9-4BA3-B3C6-B595DF09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F746E-32B6-4660-9BD3-35CE14D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DE403-8EF3-4010-B5E2-740DA834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E0FE-D8F9-49FA-A82A-5E625A9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6D72F-8797-4539-9B98-3C47B10D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3FE2F-07F5-4035-8984-96F60E4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3BBA2-0E7E-45F8-8AD7-509A6619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DDEF9-6FB7-4F03-A1E9-161899D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33596-B6A0-4A7A-A292-9661272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4B79F-BC3D-4EC9-81D3-6603CC56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7B990-C2AB-4F24-9EC8-BC1F05E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4FEFB-A8E6-4E6C-B158-5627C5DB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BE079-99F8-4F80-91AB-7DBBBC1C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058F8-B26D-44D7-9AA2-BF9B60FD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35A-B79D-41C6-B490-6964D297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DA333-0FBE-4E62-AE4D-5423C6FB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68735-73C8-4686-92AD-178DDF95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F3887-0962-4810-9BD1-B09996D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4F3FA-ACD4-4B21-9BD3-C40354F2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E94BE-05B7-45A8-8B2D-BF50124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3E1A3-3CB7-4E6A-ABF3-E84E648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0137B-EF89-48EE-BFFF-8D8F7FD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7F5D8-41ED-42B6-821D-EB7E487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DCEC0-F729-49B1-A6A7-89917F07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97ACE-733A-4100-A098-9C6CDCB6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A21-9333-4872-A985-54F13CF5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FD51F-F818-4374-8F92-1EAEF0C2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3AD6-281F-43F8-AD71-017DCBA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3A0-5643-40AF-AD03-7970838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89A3-20D6-493D-8B3E-D28C649D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57C2-3A18-4BF7-935B-7035632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D686-704F-44F0-A692-4EE62CA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347-AF5C-4254-ABDF-0C6DCF07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2E70-FF46-43D4-AB32-FE1BBA9A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3617-8651-4E37-9B70-DB81DEBD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5944-1DC9-4570-85DA-13C20DF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064E-06DD-45B7-807B-F9FB8B8F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C97D-15F3-4350-A791-2EA206E1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2270-5AB8-4E34-A88D-21FD8784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C3C-055E-4A97-979A-7D595894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1259-C539-4AB9-BFAF-973F417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4F12-5D34-4E66-BA13-D40312E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A78B-F478-4A16-BEF1-CC5B6E76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4668-417F-4CBA-8BF1-CB4F6AD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979D-868F-477E-ADE5-C473951B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B216-2630-40F7-A459-C24E6342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D31B-C819-4200-834A-94BC481B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083D-ED93-4352-A4FA-F722891E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10D4-CCCF-4659-A8BC-C8FB1D50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FC33-9A25-4271-A988-086AFCA2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13C-50E2-4768-A72C-2FE6F700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24B4-BBF3-417A-A6C8-95CE4FC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B725-A2DB-4991-9A4B-6C7E2C8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E488-2CCB-452C-A043-ED8532E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C1DC-0447-4D74-8AA8-AB343AD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FC41-C1D9-48F2-9D31-7C48BF0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B6BA-C8D5-4C07-BA6B-F69117A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5677-E706-4C3A-8033-20ACEFC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9284-CDE1-4DC5-8A2B-8B5CF50C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F605-8829-4780-B50A-C683ED4C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4D11-C377-4175-9A24-CDA5CAA1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2CE-CEDF-41EA-89F0-5E398155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2211-4082-4FF3-896E-10B09EB8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D7B9-69AE-4B67-87D9-1EF496F5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1707-24D3-4570-8AA9-CA5C6F2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EA4FD-1788-4EDF-86D6-44A25DAA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77BF-91CE-4BC5-BB22-24F5F13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DC61-403A-41AC-A662-6BA6228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8489-7959-4E50-9BC5-B3DF104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24052-6358-404A-9BAA-E5B15CCD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DB78-0197-4502-803F-F861FB52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C9CC-09B7-4367-9A53-55376B01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8A8-A190-4D63-876A-A5186A2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5A1D3-5158-4F8E-BCB2-8E007B8A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C73E-B35D-4628-85B2-E05DDF92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9E6F-1967-48A2-A36A-07E6B876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C3161-99B5-4336-93DF-89443F9F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A767-3725-4930-9526-654618C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5593-A4BD-4012-A627-52AB360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1105-F4D2-4A0C-833D-7251668A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44D8-CC9B-4226-AC7F-FFF1A11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1713-23B6-47C2-AA61-4F381D9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74032-C88E-464E-B872-6C2D185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252-549D-4FBF-9BD8-BBE162E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3267A-A7FE-489A-B056-AB6B96B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D8F1-445E-498E-8896-A1C561E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61A1-8AFD-4EDA-9A89-AE2BC44C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B157-EE99-4E42-BC8B-975E34C2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9D45-0D71-40A0-B2EA-4DBCD61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8262-3544-4E05-872E-4B9A56F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46910-A7A7-4CA8-B72B-20BE7FF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ECA6-3CDD-4229-BD20-3B29B779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0A1A9-1380-49FB-9418-0834C58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763A-B137-450B-BEB3-E909EFB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BEF-72DC-480C-A0F5-5C34698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AE72-2EEF-497F-9243-7936785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AA88-65D4-407A-96C0-BE6705DF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8F19E-E783-4D8E-840D-B32E4E8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63CB8-AC58-48E9-A8AE-E36DC25F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246E-B985-4ED8-B2DB-1B495C99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398BB-F7B9-4336-B658-3B53E3FC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7857A-B026-4E01-8DFF-FF3D277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FE52A-F5FE-49B1-BFAD-B91A62BC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86A2-D9BA-4FF8-9EC6-963988D4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FA50-866A-44A7-89A8-87B196C2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EB2-88BD-4A67-B9F8-CC870578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CE350-F4B7-4C00-9F18-4F4DDAA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8C45-C471-4446-BD5F-75DFD55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A1A34-EAE0-434A-A2D9-E388324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C48E-F28E-4DDC-931D-822967B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1D354-A488-48AA-AF69-2FC9A4B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33AE1-0D52-4A08-B07C-A802FF37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6460E-2C9A-4F2E-A6CD-F2F46CBE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14BF3-93F8-4894-9A92-0EC87BA5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4388-10DC-4B53-BC64-5BF56A5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380FC-D0B0-4785-A2D9-55BFD65F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FFA-7A54-454F-97F8-76BC43EF8F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FFBD-2BDB-4675-81E7-196B461D0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1936-9B29-4FBB-9D6B-D6B20D161F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3A51-1F5A-4CC8-9791-1A4E65B4E1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286-136A-471A-AAC4-27E36900A9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CCB-E584-4006-87B6-2014A875A6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C6A3-D46A-47C7-A710-85507EAA87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C718-149A-41EC-99CA-EE8D02B767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6C6-D505-44C7-AC0D-D180C22076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612F-CF63-40CF-B048-B3A40856A4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03FE-038C-4A27-A5A6-795C2F709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151-7B9F-4800-A5B0-3A594ABB66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0560-8C96-44D7-9AAA-E91A8D609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58F-8948-496C-BFA2-5C606A8F72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510A-C140-43A0-87C7-87D27264A4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2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诗二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2672280" y="6127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505240" y="148428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505240" y="2347920"/>
            <a:ext cx="10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505240" y="321300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21616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2576520" y="49402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1352520" y="602460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明   美好   自由   幸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"/>
          <p:cNvSpPr/>
          <p:nvPr/>
        </p:nvSpPr>
        <p:spPr>
          <a:xfrm flipH="1">
            <a:off x="1856880" y="5448240"/>
            <a:ext cx="954360" cy="649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1"/>
          <p:cNvSpPr/>
          <p:nvPr/>
        </p:nvSpPr>
        <p:spPr>
          <a:xfrm flipH="1">
            <a:off x="2792160" y="5443560"/>
            <a:ext cx="215640" cy="6732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3079800" y="5443560"/>
            <a:ext cx="72072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3"/>
          <p:cNvSpPr/>
          <p:nvPr/>
        </p:nvSpPr>
        <p:spPr>
          <a:xfrm>
            <a:off x="3368520" y="5443560"/>
            <a:ext cx="1295640" cy="5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4"/>
          <p:cNvSpPr/>
          <p:nvPr/>
        </p:nvSpPr>
        <p:spPr>
          <a:xfrm>
            <a:off x="3944880" y="620640"/>
            <a:ext cx="723960" cy="1224000"/>
          </a:xfrm>
          <a:custGeom>
            <a:avLst/>
            <a:gdLst>
              <a:gd name="textAreaLeft" fmla="*/ 0 w 723960"/>
              <a:gd name="textAreaRight" fmla="*/ 261360 w 7239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6932520" y="35719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4808520" y="981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3008160" y="1128600"/>
            <a:ext cx="0" cy="432000"/>
          </a:xfrm>
          <a:prstGeom prst="line">
            <a:avLst/>
          </a:prstGeom>
          <a:ln w="31680">
            <a:solidFill>
              <a:srgbClr val="8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8"/>
          <p:cNvSpPr/>
          <p:nvPr/>
        </p:nvSpPr>
        <p:spPr>
          <a:xfrm>
            <a:off x="3008160" y="2065320"/>
            <a:ext cx="1800" cy="3589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9"/>
          <p:cNvSpPr/>
          <p:nvPr/>
        </p:nvSpPr>
        <p:spPr>
          <a:xfrm>
            <a:off x="3008160" y="2855880"/>
            <a:ext cx="0" cy="432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0"/>
          <p:cNvSpPr/>
          <p:nvPr/>
        </p:nvSpPr>
        <p:spPr>
          <a:xfrm>
            <a:off x="3008160" y="3716280"/>
            <a:ext cx="0" cy="503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3008160" y="4584600"/>
            <a:ext cx="0" cy="360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6176880" y="2563920"/>
            <a:ext cx="723960" cy="2735280"/>
          </a:xfrm>
          <a:custGeom>
            <a:avLst/>
            <a:gdLst>
              <a:gd name="textAreaLeft" fmla="*/ 0 w 723960"/>
              <a:gd name="textAreaRight" fmla="*/ 261360 w 723960"/>
              <a:gd name="textAreaTop" fmla="*/ 70920 h 2735280"/>
              <a:gd name="textAreaBottom" fmla="*/ 266436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3944880" y="2276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944880" y="313992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944880" y="40766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326659"/>
          <p:cNvSpPr/>
          <p:nvPr/>
        </p:nvSpPr>
        <p:spPr>
          <a:xfrm>
            <a:off x="3452760" y="185112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远远的街灯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明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明星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街灯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326660"/>
          <p:cNvSpPr/>
          <p:nvPr/>
        </p:nvSpPr>
        <p:spPr>
          <a:xfrm>
            <a:off x="2223000" y="184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26667"/>
          <p:cNvSpPr/>
          <p:nvPr/>
        </p:nvSpPr>
        <p:spPr>
          <a:xfrm>
            <a:off x="2022480" y="34416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26668"/>
          <p:cNvSpPr/>
          <p:nvPr/>
        </p:nvSpPr>
        <p:spPr>
          <a:xfrm>
            <a:off x="2314440" y="252468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26669"/>
          <p:cNvSpPr/>
          <p:nvPr/>
        </p:nvSpPr>
        <p:spPr>
          <a:xfrm>
            <a:off x="2619360" y="24944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26670"/>
          <p:cNvSpPr/>
          <p:nvPr/>
        </p:nvSpPr>
        <p:spPr>
          <a:xfrm>
            <a:off x="1933560" y="25707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26672">
            <a:hlinkClick r:id="rId1" action="ppaction://hlinksldjump"/>
          </p:cNvPr>
          <p:cNvSpPr/>
          <p:nvPr/>
        </p:nvSpPr>
        <p:spPr>
          <a:xfrm>
            <a:off x="5039280" y="187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26673"/>
          <p:cNvSpPr/>
          <p:nvPr/>
        </p:nvSpPr>
        <p:spPr>
          <a:xfrm>
            <a:off x="412488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26674"/>
          <p:cNvSpPr/>
          <p:nvPr/>
        </p:nvSpPr>
        <p:spPr>
          <a:xfrm>
            <a:off x="5039280" y="29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6675"/>
          <p:cNvSpPr/>
          <p:nvPr/>
        </p:nvSpPr>
        <p:spPr>
          <a:xfrm>
            <a:off x="4062240" y="3527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326678"/>
          <p:cNvSpPr/>
          <p:nvPr/>
        </p:nvSpPr>
        <p:spPr>
          <a:xfrm>
            <a:off x="2403360" y="245124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326679"/>
          <p:cNvSpPr/>
          <p:nvPr/>
        </p:nvSpPr>
        <p:spPr>
          <a:xfrm flipV="1">
            <a:off x="2784600" y="2451240"/>
            <a:ext cx="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326680"/>
          <p:cNvSpPr/>
          <p:nvPr/>
        </p:nvSpPr>
        <p:spPr>
          <a:xfrm>
            <a:off x="4067280" y="660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节赏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357391"/>
          <p:cNvSpPr/>
          <p:nvPr/>
        </p:nvSpPr>
        <p:spPr>
          <a:xfrm>
            <a:off x="3831840" y="4075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间万家灯火的壮观景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357392"/>
          <p:cNvSpPr/>
          <p:nvPr/>
        </p:nvSpPr>
        <p:spPr>
          <a:xfrm>
            <a:off x="2742480" y="409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360463"/>
          <p:cNvSpPr/>
          <p:nvPr/>
        </p:nvSpPr>
        <p:spPr>
          <a:xfrm>
            <a:off x="27154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60464"/>
          <p:cNvSpPr/>
          <p:nvPr/>
        </p:nvSpPr>
        <p:spPr>
          <a:xfrm>
            <a:off x="3592440" y="451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群星闪烁的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361489"/>
          <p:cNvSpPr/>
          <p:nvPr/>
        </p:nvSpPr>
        <p:spPr>
          <a:xfrm>
            <a:off x="2735280" y="49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华文细黑"/>
                <a:ea typeface="华文细黑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1490"/>
          <p:cNvSpPr/>
          <p:nvPr/>
        </p:nvSpPr>
        <p:spPr>
          <a:xfrm>
            <a:off x="3603240" y="5016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诗人的欣喜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362515"/>
          <p:cNvSpPr/>
          <p:nvPr/>
        </p:nvSpPr>
        <p:spPr>
          <a:xfrm>
            <a:off x="2679840" y="55119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362516"/>
          <p:cNvSpPr/>
          <p:nvPr/>
        </p:nvSpPr>
        <p:spPr>
          <a:xfrm>
            <a:off x="3934440" y="55119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暗示天上有人把街灯点亮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467969"/>
          <p:cNvSpPr/>
          <p:nvPr/>
        </p:nvSpPr>
        <p:spPr>
          <a:xfrm>
            <a:off x="810000" y="131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67970"/>
          <p:cNvSpPr/>
          <p:nvPr/>
        </p:nvSpPr>
        <p:spPr>
          <a:xfrm>
            <a:off x="734040" y="42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左大括号 467971"/>
          <p:cNvSpPr/>
          <p:nvPr/>
        </p:nvSpPr>
        <p:spPr>
          <a:xfrm>
            <a:off x="1611360" y="2479680"/>
            <a:ext cx="304920" cy="3962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467976"/>
          <p:cNvSpPr/>
          <p:nvPr/>
        </p:nvSpPr>
        <p:spPr>
          <a:xfrm>
            <a:off x="2105640" y="106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67977"/>
          <p:cNvSpPr/>
          <p:nvPr/>
        </p:nvSpPr>
        <p:spPr>
          <a:xfrm>
            <a:off x="207360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467978"/>
          <p:cNvSpPr/>
          <p:nvPr/>
        </p:nvSpPr>
        <p:spPr>
          <a:xfrm>
            <a:off x="2105640" y="246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467979"/>
          <p:cNvSpPr/>
          <p:nvPr/>
        </p:nvSpPr>
        <p:spPr>
          <a:xfrm>
            <a:off x="210564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67980"/>
          <p:cNvSpPr/>
          <p:nvPr/>
        </p:nvSpPr>
        <p:spPr>
          <a:xfrm>
            <a:off x="207360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467981"/>
          <p:cNvSpPr/>
          <p:nvPr/>
        </p:nvSpPr>
        <p:spPr>
          <a:xfrm>
            <a:off x="2164320" y="50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67982"/>
          <p:cNvSpPr/>
          <p:nvPr/>
        </p:nvSpPr>
        <p:spPr>
          <a:xfrm>
            <a:off x="2105640" y="609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467983"/>
          <p:cNvSpPr/>
          <p:nvPr/>
        </p:nvSpPr>
        <p:spPr>
          <a:xfrm>
            <a:off x="2286000" y="15238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467984"/>
          <p:cNvSpPr/>
          <p:nvPr/>
        </p:nvSpPr>
        <p:spPr>
          <a:xfrm flipV="1">
            <a:off x="2438280" y="1447920"/>
            <a:ext cx="0" cy="3808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467985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467986"/>
          <p:cNvSpPr/>
          <p:nvPr/>
        </p:nvSpPr>
        <p:spPr>
          <a:xfrm>
            <a:off x="2362320" y="45720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467987"/>
          <p:cNvSpPr/>
          <p:nvPr/>
        </p:nvSpPr>
        <p:spPr>
          <a:xfrm>
            <a:off x="2362320" y="5486400"/>
            <a:ext cx="0" cy="6094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467988"/>
          <p:cNvSpPr/>
          <p:nvPr/>
        </p:nvSpPr>
        <p:spPr>
          <a:xfrm>
            <a:off x="2362320" y="22096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467989"/>
          <p:cNvSpPr/>
          <p:nvPr/>
        </p:nvSpPr>
        <p:spPr>
          <a:xfrm>
            <a:off x="2362320" y="2895480"/>
            <a:ext cx="0" cy="45720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左大括号 467990"/>
          <p:cNvSpPr/>
          <p:nvPr/>
        </p:nvSpPr>
        <p:spPr>
          <a:xfrm>
            <a:off x="1752480" y="1219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467991"/>
          <p:cNvSpPr/>
          <p:nvPr/>
        </p:nvSpPr>
        <p:spPr>
          <a:xfrm>
            <a:off x="233280" y="5205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三四节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467992"/>
          <p:cNvSpPr/>
          <p:nvPr/>
        </p:nvSpPr>
        <p:spPr>
          <a:xfrm>
            <a:off x="2989800" y="24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67993"/>
          <p:cNvSpPr/>
          <p:nvPr/>
        </p:nvSpPr>
        <p:spPr>
          <a:xfrm>
            <a:off x="2803680" y="329724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列、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右中括号 467994"/>
          <p:cNvSpPr/>
          <p:nvPr/>
        </p:nvSpPr>
        <p:spPr>
          <a:xfrm>
            <a:off x="4495680" y="25909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67995"/>
          <p:cNvSpPr/>
          <p:nvPr/>
        </p:nvSpPr>
        <p:spPr>
          <a:xfrm>
            <a:off x="5142240" y="269712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美好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右中括号 468001"/>
          <p:cNvSpPr/>
          <p:nvPr/>
        </p:nvSpPr>
        <p:spPr>
          <a:xfrm>
            <a:off x="2971800" y="4267080"/>
            <a:ext cx="76320" cy="2133720"/>
          </a:xfrm>
          <a:custGeom>
            <a:avLst/>
            <a:gdLst>
              <a:gd name="textAreaLeft" fmla="*/ 0 w 76320"/>
              <a:gd name="textAreaRight" fmla="*/ 53640 w 76320"/>
              <a:gd name="textAreaTop" fmla="*/ 88560 h 2133720"/>
              <a:gd name="textAreaBottom" fmla="*/ 20451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799"/>
                </a:cubicBezTo>
                <a:lnTo>
                  <a:pt x="21600" y="19801"/>
                </a:lnTo>
                <a:cubicBezTo>
                  <a:pt x="21600" y="20701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468002"/>
          <p:cNvSpPr/>
          <p:nvPr/>
        </p:nvSpPr>
        <p:spPr>
          <a:xfrm>
            <a:off x="4080600" y="4626000"/>
            <a:ext cx="200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黑暗势力压迫的反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自由幸福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587777"/>
          <p:cNvSpPr/>
          <p:nvPr/>
        </p:nvSpPr>
        <p:spPr>
          <a:xfrm>
            <a:off x="762120" y="1523880"/>
            <a:ext cx="5410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信，请看那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流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他们提着灯笼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形标注 587779"/>
          <p:cNvSpPr/>
          <p:nvPr/>
        </p:nvSpPr>
        <p:spPr>
          <a:xfrm>
            <a:off x="2622600" y="2236680"/>
            <a:ext cx="4724280" cy="26686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朵”字常用于花，花是美好的象征，把流星比作花，比喻天上的生活像花朵一样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右弧形箭头 587781"/>
          <p:cNvSpPr/>
          <p:nvPr/>
        </p:nvSpPr>
        <p:spPr>
          <a:xfrm>
            <a:off x="3429000" y="1523880"/>
            <a:ext cx="2133720" cy="1828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981"/>
                <a:lnTo>
                  <a:pt x="7195" y="21168"/>
                </a:lnTo>
                <a:lnTo>
                  <a:pt x="0" y="17280"/>
                </a:lnTo>
                <a:lnTo>
                  <a:pt x="7195" y="12528"/>
                </a:lnTo>
                <a:lnTo>
                  <a:pt x="7195" y="14688"/>
                </a:lnTo>
                <a:arcTo wR="21600" hR="7560" stAng="2683981" swAng="-232654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587784"/>
          <p:cNvSpPr/>
          <p:nvPr/>
        </p:nvSpPr>
        <p:spPr>
          <a:xfrm>
            <a:off x="2133720" y="3048120"/>
            <a:ext cx="5257800" cy="2438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587785"/>
          <p:cNvSpPr/>
          <p:nvPr/>
        </p:nvSpPr>
        <p:spPr>
          <a:xfrm>
            <a:off x="3352680" y="3276720"/>
            <a:ext cx="365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587786"/>
          <p:cNvSpPr/>
          <p:nvPr/>
        </p:nvSpPr>
        <p:spPr>
          <a:xfrm>
            <a:off x="3276720" y="3276720"/>
            <a:ext cx="0" cy="22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587787"/>
          <p:cNvSpPr/>
          <p:nvPr/>
        </p:nvSpPr>
        <p:spPr>
          <a:xfrm>
            <a:off x="3352680" y="5638680"/>
            <a:ext cx="350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141640" y="1052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457200" y="90792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8525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852560" y="393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852560" y="494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4229280" y="299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4229280" y="3932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浅浅、不甚宽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013280" y="4940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1494000" y="3139920"/>
            <a:ext cx="358560" cy="2160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245280" y="2997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美丽富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114560" y="3139920"/>
            <a:ext cx="546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6534000" y="494028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由、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239760" y="364500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文本框 105"/>
          <p:cNvSpPr/>
          <p:nvPr/>
        </p:nvSpPr>
        <p:spPr>
          <a:xfrm>
            <a:off x="1406520" y="2552760"/>
            <a:ext cx="65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课时 太阳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99"/>
          <p:cNvSpPr/>
          <p:nvPr/>
        </p:nvSpPr>
        <p:spPr>
          <a:xfrm>
            <a:off x="2459160" y="111132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一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秘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航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划来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镀金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巨船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驶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顶空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子午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缓缓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扯下了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沿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穿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紧密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波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停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云的海岸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卸下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烁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又驶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另一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港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它驶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黑暗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候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船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焚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火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沉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灰色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浪涛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溅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银星千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文本框 99"/>
          <p:cNvSpPr/>
          <p:nvPr/>
        </p:nvSpPr>
        <p:spPr>
          <a:xfrm>
            <a:off x="200160" y="152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热情赞颂了太阳，作者是按什么顺序来描写太阳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的颜色有怎样的变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"/>
          <p:cNvSpPr/>
          <p:nvPr/>
        </p:nvSpPr>
        <p:spPr>
          <a:xfrm>
            <a:off x="117360" y="3222720"/>
            <a:ext cx="88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按太阳运行的时间顺序来描写太阳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早晨：金色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太阳升高到日落前：白色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日落时分：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文本框 99"/>
          <p:cNvSpPr/>
          <p:nvPr/>
        </p:nvSpPr>
        <p:spPr>
          <a:xfrm>
            <a:off x="901800" y="1023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要求，赏析下面诗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2"/>
          <p:cNvSpPr/>
          <p:nvPr/>
        </p:nvSpPr>
        <p:spPr>
          <a:xfrm>
            <a:off x="846000" y="172548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它卸下批闪烁的白银，又驶向另一个港湾。（从修辞角度赏析该语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"/>
          <p:cNvSpPr/>
          <p:nvPr/>
        </p:nvSpPr>
        <p:spPr>
          <a:xfrm>
            <a:off x="905040" y="3014640"/>
            <a:ext cx="77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用“白银”比喻阳光，“卸下批闪烁的白银”比喻天色已晚，太阳光逐渐变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驶向另一个港湾”比喻太阳即将落山。这两句诗，生动形象地表现出太阳在天空中的位置及光线的变化的，给人以美感及想像的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276200" y="1724040"/>
            <a:ext cx="67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诗中联想和想象的运用，培养联想和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243080" y="30290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对自由幸福美好生活的向往与追求，体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浪漫主义的创作特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文本框 99"/>
          <p:cNvSpPr/>
          <p:nvPr/>
        </p:nvSpPr>
        <p:spPr>
          <a:xfrm>
            <a:off x="890640" y="995400"/>
            <a:ext cx="76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它沉没于灰色的浪涛，却溅起了银星千颗。”中的“溅”字用得好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1"/>
          <p:cNvSpPr/>
          <p:nvPr/>
        </p:nvSpPr>
        <p:spPr>
          <a:xfrm>
            <a:off x="1089000" y="26226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个“溅”字化静为动，它形象地写出了太阳落山，星星出现的场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文本框 99"/>
          <p:cNvSpPr/>
          <p:nvPr/>
        </p:nvSpPr>
        <p:spPr>
          <a:xfrm>
            <a:off x="847800" y="1273320"/>
            <a:ext cx="76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言志，作者吴望尧借“太阳船”寄托 自己什么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你的理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"/>
          <p:cNvSpPr/>
          <p:nvPr/>
        </p:nvSpPr>
        <p:spPr>
          <a:xfrm>
            <a:off x="1319040" y="321480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寄托自己对光明与幸福的渴望，对故乡与大陆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99"/>
          <p:cNvSpPr/>
          <p:nvPr/>
        </p:nvSpPr>
        <p:spPr>
          <a:xfrm>
            <a:off x="682560" y="1219320"/>
            <a:ext cx="79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诗想象可谓天马行空，但是又合乎情理。说说诗人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依据现实展开想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"/>
          <p:cNvSpPr/>
          <p:nvPr/>
        </p:nvSpPr>
        <p:spPr>
          <a:xfrm>
            <a:off x="968400" y="279252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诗人把天空想象成航线，把太阳想象成船，晴天太阳东升西落，想象成船在天空中穿行，把云想象成海岸，太阳落山，余辉晚霞想象成大火，太阳落山，星星出现，想象合乎情理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2" descr=""/>
          <p:cNvPicPr/>
          <p:nvPr/>
        </p:nvPicPr>
        <p:blipFill>
          <a:blip r:embed="rId1"/>
          <a:stretch/>
        </p:blipFill>
        <p:spPr>
          <a:xfrm>
            <a:off x="5251320" y="2238480"/>
            <a:ext cx="295560" cy="2025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7" name="图片 103" descr=""/>
          <p:cNvPicPr/>
          <p:nvPr/>
        </p:nvPicPr>
        <p:blipFill>
          <a:blip r:embed="rId2"/>
          <a:stretch/>
        </p:blipFill>
        <p:spPr>
          <a:xfrm>
            <a:off x="2376360" y="2222640"/>
            <a:ext cx="219240" cy="2112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8" name="图片 3" descr=""/>
          <p:cNvPicPr/>
          <p:nvPr/>
        </p:nvPicPr>
        <p:blipFill>
          <a:blip r:embed="rId3"/>
          <a:stretch/>
        </p:blipFill>
        <p:spPr>
          <a:xfrm>
            <a:off x="1574640" y="3144960"/>
            <a:ext cx="638280" cy="33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89" name="文本框 105"/>
          <p:cNvSpPr/>
          <p:nvPr/>
        </p:nvSpPr>
        <p:spPr>
          <a:xfrm>
            <a:off x="2611440" y="28544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岸          想象丰富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4"/>
          <p:cNvSpPr/>
          <p:nvPr/>
        </p:nvSpPr>
        <p:spPr>
          <a:xfrm>
            <a:off x="2616120" y="23050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4105" descr="F:\ly\background.gif"/>
          <p:cNvPicPr/>
          <p:nvPr/>
        </p:nvPicPr>
        <p:blipFill>
          <a:blip r:embed="rId1"/>
          <a:stretch/>
        </p:blipFill>
        <p:spPr>
          <a:xfrm>
            <a:off x="2390760" y="1162080"/>
            <a:ext cx="4865760" cy="35053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4101"/>
          <p:cNvSpPr/>
          <p:nvPr/>
        </p:nvSpPr>
        <p:spPr>
          <a:xfrm>
            <a:off x="2370240" y="496728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喜欢星光灿烂的夜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2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8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矩形 33795"/>
          <p:cNvSpPr/>
          <p:nvPr/>
        </p:nvSpPr>
        <p:spPr>
          <a:xfrm>
            <a:off x="4365720" y="2554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郭沫若，原名郭开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川乐山人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诗人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代表诗集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女神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星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" descr="54fbb2fb43166d22d9a4bf9b452309f79152d2ea"/>
          <p:cNvPicPr/>
          <p:nvPr/>
        </p:nvPicPr>
        <p:blipFill>
          <a:blip r:embed="rId1"/>
          <a:stretch/>
        </p:blipFill>
        <p:spPr>
          <a:xfrm>
            <a:off x="628560" y="2114640"/>
            <a:ext cx="2527560" cy="340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31747"/>
          <p:cNvSpPr/>
          <p:nvPr/>
        </p:nvSpPr>
        <p:spPr>
          <a:xfrm flipV="1" rot="10812000">
            <a:off x="1036080" y="1148760"/>
            <a:ext cx="73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写作背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这首诗写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代初期，此时，“五四”运动的洪波已经消退，大革命的时代尚未到来。半殖民地牛封建的中国，依旧被帝国主义列强和各派军阀势力窒息着。面对这种现实，诗人感到失望和痛苦，他痛恨黑暗的现实，向往光明的未来。在灿烂星空的诱发下，写下了这首充满浪漫色彩的著名诗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17411"/>
          <p:cNvSpPr/>
          <p:nvPr/>
        </p:nvSpPr>
        <p:spPr>
          <a:xfrm>
            <a:off x="900000" y="568440"/>
            <a:ext cx="8001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　天上的街市  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远远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上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现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e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缥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空中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陈列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些物品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世上没有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看，那浅浅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宽广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gu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隔着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  定能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骑着牛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w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刻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天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闲游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信，请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朵流星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提着灯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走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文本框 174083"/>
          <p:cNvSpPr/>
          <p:nvPr/>
        </p:nvSpPr>
        <p:spPr>
          <a:xfrm>
            <a:off x="533520" y="202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箭头 174084"/>
          <p:cNvSpPr/>
          <p:nvPr/>
        </p:nvSpPr>
        <p:spPr>
          <a:xfrm>
            <a:off x="3124080" y="23274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74085"/>
          <p:cNvSpPr/>
          <p:nvPr/>
        </p:nvSpPr>
        <p:spPr>
          <a:xfrm>
            <a:off x="1752480" y="202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74086"/>
          <p:cNvSpPr/>
          <p:nvPr/>
        </p:nvSpPr>
        <p:spPr>
          <a:xfrm>
            <a:off x="3505320" y="1870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174087"/>
          <p:cNvSpPr/>
          <p:nvPr/>
        </p:nvSpPr>
        <p:spPr>
          <a:xfrm>
            <a:off x="5181480" y="202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74088"/>
          <p:cNvSpPr/>
          <p:nvPr/>
        </p:nvSpPr>
        <p:spPr>
          <a:xfrm>
            <a:off x="1600200" y="278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74089"/>
          <p:cNvSpPr/>
          <p:nvPr/>
        </p:nvSpPr>
        <p:spPr>
          <a:xfrm>
            <a:off x="2057400" y="2708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174091"/>
          <p:cNvSpPr/>
          <p:nvPr/>
        </p:nvSpPr>
        <p:spPr>
          <a:xfrm>
            <a:off x="457200" y="453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74093"/>
          <p:cNvSpPr/>
          <p:nvPr/>
        </p:nvSpPr>
        <p:spPr>
          <a:xfrm>
            <a:off x="1752480" y="453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74094"/>
          <p:cNvSpPr/>
          <p:nvPr/>
        </p:nvSpPr>
        <p:spPr>
          <a:xfrm>
            <a:off x="3276720" y="48420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燕尾形箭头 174095"/>
          <p:cNvSpPr/>
          <p:nvPr/>
        </p:nvSpPr>
        <p:spPr>
          <a:xfrm>
            <a:off x="3200400" y="4842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74096"/>
          <p:cNvSpPr/>
          <p:nvPr/>
        </p:nvSpPr>
        <p:spPr>
          <a:xfrm>
            <a:off x="3429000" y="438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创造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174098"/>
          <p:cNvSpPr/>
          <p:nvPr/>
        </p:nvSpPr>
        <p:spPr>
          <a:xfrm>
            <a:off x="5257800" y="461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74099"/>
          <p:cNvSpPr/>
          <p:nvPr/>
        </p:nvSpPr>
        <p:spPr>
          <a:xfrm>
            <a:off x="1743120" y="5307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不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74081"/>
          <p:cNvSpPr/>
          <p:nvPr/>
        </p:nvSpPr>
        <p:spPr>
          <a:xfrm>
            <a:off x="304920" y="80316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与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