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11.png" ContentType="image/png"/>
  <Override PartName="/ppt/media/image17.jpeg" ContentType="image/jpeg"/>
  <Override PartName="/ppt/media/image14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3.jpeg" ContentType="image/jpeg"/>
  <Override PartName="/ppt/media/image9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B4C1A-9710-470E-8887-C22AFEF22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2FD32-C2B7-468A-A82A-61CD3368C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733949-4E44-40EB-A9CE-515A1C3AA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3458C1-9BA9-4DE4-AD13-2EF993313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4A748D-5BC0-4C34-850F-C67653EC8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FF9E0F-0F48-4B13-875A-59B832979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CC73C7-532B-42F2-AB7C-B377FF12B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69962E-9B76-47BD-AA5A-D51BA6C29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43FA55-ACF5-49BF-A500-03E0F7D99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4B44EF-FA12-4FA4-A84A-3C9512B3B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C348CD-FB13-4B2F-8C35-9FD762AA9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C1E71F-4DC9-4708-B715-5DEBA9FFB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6BBF2-BEDE-4CE6-AB31-2F96556E6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9F4099-575C-4990-B768-EE4F29526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DFADC0-4ED5-48F8-9D7F-89B926820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9A8BC4-2FC2-457F-B109-A47789807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A38C73-94B7-489B-A738-65C66464F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74E2B6-BECE-4683-AD42-55B16BA77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9A9C48-4844-49E9-B9E8-93FA068A8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6E6F89-4920-488A-8F8C-B1A701A00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BA53D7-F02B-43BD-9DC0-B38DD46ED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1CEF18-91C0-4A3A-A98F-730FE8FCD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7666FC-8EC2-4D35-A7A9-FDEFED249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2D2BA-4F29-479A-9D5F-FFF29A098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107550-B798-4B2C-8DD6-D1B82F7DA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1F9013-D029-4522-9267-0F3753A60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E0DDC8-4A36-442E-9E5C-6942DC8A8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1D8E43-E439-46D6-9769-A098BF669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8044AD-5E40-4282-9E76-A4396F329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533FF9-C194-4337-86E5-0A4E39DC3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24AAFD-915C-4FBA-9252-3D83BDB84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08DC36-0BD1-436A-8A98-8638ED942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0052B4-157B-4058-A5DA-CB867A5A5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B69922-58E1-4D36-8A4F-9573D5428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0A0F2-FFE7-459E-8840-47177EC3C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351805-CAF0-40F1-8A54-A53D514C1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F5F041-77D9-4AE8-8ADB-DFCA35CE2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A71309-6A9F-44CC-8D2E-018985CA3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0AA2FC-8FD6-4142-B46D-347776BEA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AF0441-D846-48A7-8820-A6EC143ED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4F621C-4D78-4CE1-88DB-6A6E00B02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BB9E3F-1AD5-454C-B3D5-B0A08E8BA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BED2CA-4F54-4E7A-967F-26C411131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27CC69-2EF6-4D8E-ADA4-CB65139E3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4449D2-2162-4709-B55C-805C678CC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545A0-9599-4D38-8A96-748150835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94A081-96DC-4EDB-80C6-3E60E6AA1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1F1D8B-BB4D-4F32-854F-F81527C60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EBCD21-66D0-4405-B63F-773831F4D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66AE67-EFFF-4045-92E5-81D510FB1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C666B7-40BC-49C7-9B18-1E75ECADA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C6CD3C3-B147-457D-BE4B-0D507EFAE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E52BEF7-041D-464B-ACB8-90392943C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F3A1E52-AD4D-439A-AAB1-6D6A7C011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A5C92F5-A966-4BF3-8CF3-F09C23045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B03DAC1-367B-425A-9B4A-52A561A48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95716-46EA-4A1E-81D9-62F360B34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9952B74-7E73-4BDE-9EDB-2F0B204BB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10176FD-2423-485B-8BEC-A1E232A13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D478C1A-FF0C-4934-AE98-6C48225E0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11C94C0-D523-46EC-8A00-6B0DFF017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19E5D4A-9570-44F8-AA2F-42DC27E23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9ED5B4E-1CF2-4EF5-A158-2966900F0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39881B1-E23D-47C1-97A7-0B6B95799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BEAEF27-0508-4005-A20A-4EDDE0277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D32DF5F-8601-4D13-8C7F-0B1CD0896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AFB9A6E-01C0-4F43-B5B7-0462F8B52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504BB-2255-4349-BB94-65007E630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B6B1C4E-FD01-44F8-A80C-07731F97D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CDF1988-A640-46C9-84CB-977C3DA57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9F6CC59-0AB8-4FE0-AFA7-02E993F92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FB4036B-A675-4178-A509-F9BF375A4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D6FAD7B-23F9-48BF-859A-FB044E94D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DC0B6FD-CAED-4736-9331-1C67A9905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38E7E65-C68D-4A17-B26D-A726963B7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5B5525C-A8E4-4458-BD81-488B57C87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E0896AE-D60E-4B3C-9874-49A3B025F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EB5D9B8-0030-4ED9-BBD0-0EE99544C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B434C-188A-4B56-9AA9-2027A52B6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26C6718-8D13-4AC3-9EBD-02F1083FE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D2A5F90-30AF-4B90-BF5F-30311ECA8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280E690-4C3D-4DDC-A6EB-7639966A7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5821D2A-7B95-4B8C-94AB-575C49439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343616A-124F-4B5C-8791-8B3EE7534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7D9AE1C-EEE1-4FC8-8694-B06831E5F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2351FB7-8983-4B66-BBE3-2B6A470BD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95DA2BC-52E0-4D77-96B6-6E9F74CC3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70C6E58-DEC1-4B9A-8A72-52164D586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12C17B4-981D-4628-8881-CC6E9449B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8E5A1-F7EB-4550-9AD2-520A20298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F23F9D1-CBBF-4D86-AD84-6D9F2C779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43D47-2B4C-4D40-A11C-00A711E08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B4C0C-92BA-4D6C-B12B-EDA1AE8F7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68148-0CEB-4145-A6FB-A292F438C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7BA34-677A-4CB2-8001-745C579FB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42047-41F6-48AF-92FD-6BCE53733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2A544-FFB4-4A23-ACAD-F5AD2223E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E3035-47D9-4D29-9E22-2DA1A3DD5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9A5FB9-756E-41E5-B915-AE8A07F7E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C9491D-2438-47AB-987D-76819B258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B859DB-5578-453A-8B0F-B87D72C7A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7FB70D-AB0E-4942-AD9D-F02144AEB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ADBA9A-7FE9-432D-94B8-AC7C6BB5C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D7578-A2BB-4604-A497-1C676FFC4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BF3B59-6A98-41D9-BD2B-32F787C73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D5BDDF-3D5C-45FF-8370-7F8767CEE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48BA57-95B8-4D3D-B66A-12FEB095D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E0618B-7AF4-4329-9873-110EDFF1A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C34109-3DAD-4392-9A92-51F94B1EF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61F785-6668-48EB-AACD-67956EEDB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4A779F-C711-4138-A4D0-8E729E474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C5CFED-DC52-407C-AC75-C933A8D2A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F34F7B-5F45-4678-90C8-E439ADD57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F110F7-D57E-42C5-9D8B-34D0AB966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57817-FD0C-42D5-8989-8703D0F40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229649-B7CA-406B-B4F3-E7589C3CB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3D1646-AFFD-4D37-AF53-D21D54F1C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874C7C-0DAA-46AB-9078-65BD0BFC1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C67F69-D80E-4FD0-B38A-33CB54E29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12BD31-71E1-4724-849C-CBF709B33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666BA0-BD0E-4FED-87C3-8C483EB22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BCE97D-3A0F-497F-8166-32768A1FE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D99FD2-CC10-4E60-90CC-CC8D8D00C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462E2C-61B0-4852-90D9-4370E8536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C593FA-0837-4937-A3B4-188ED6B9D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C0197-9806-4A2F-AED5-83CA86E3B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F94D31-ADB3-4F2A-A848-71216476D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EC3694-7BAE-4DDE-B351-65908C6B5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0240FC-F895-45D9-857D-1E5E3EF1C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56EA15-64E0-4DE9-917D-9E0077FF0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724421-285B-478E-96DF-D9617A011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7DCE1C-B81D-4137-A69C-F44402653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AD0071-2CAC-4932-A5D8-3BF25C453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419562-A9FC-49E3-84EA-4BB32F351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8B00B5-6E36-49D8-9D86-5B938E15A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A0BBA2-AC20-4D02-A809-45F07C170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822D0-83BA-4E3A-92E1-89BBDDAA3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089222-C812-4974-96B6-C378E0EEA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95BE67-5269-41FA-B445-590FE8153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0C6B21-ED11-4174-8866-3446CFF71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54E243-0656-42E2-BB1D-70D1F8E70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C2383E-D0F6-4B6A-8544-43474490C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E711AE-2D8D-45EC-A6C6-A1270FD98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5FED86-C889-444D-8F4F-F23A9668F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F1E88B-B5E2-49C4-B90A-0A1468E30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783CA1-ADB2-48E5-90FC-7B9E29B4D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8E5F62-F0F1-47F9-A5AC-4442D4EAB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2888E-50EE-4EF5-A52D-4EEA4EF93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06CDD8-A96C-4E5E-B488-EF8BC004C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D042B0-3988-4A50-B2C1-E730F85F0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2064FA-3C04-4D7F-BA7B-071EC47B8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4CCE32-7AEC-474E-9D12-831F853CA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FCE846-A5B1-4E1F-9BC4-AB8C14393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54FBC6-4E65-46A9-BA22-579FC8545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F9BC89-77EE-4A2C-8BB8-369D76DBD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E44E0A-F790-41B7-86C1-3E3E91AC4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601AC0-3311-4D2D-A6FF-338485243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B84A20-04B8-4F7F-8872-88A52675E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32619-668A-4F58-853A-71D95239A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B8EF5A-2219-49E0-896F-9E7681F2A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DF5571-B176-4D44-B8F4-8F2CA4C0B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876F15-A0BD-4464-BE97-328A5C7E8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C15DA0-E142-4877-9C16-36635A7BD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85423E-7724-47DD-B576-62CC92AB1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EE444A-3308-4438-8650-32E3B285C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90C5B4-33DC-4D24-B2FF-971B785C9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1BF9D7-B955-4278-B5DA-B9EF9FD0B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79DC0C-7507-4D9C-BBE8-C751163D2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7891C4-83C9-4521-9CF2-B49EA4AA8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CF61E-A2EC-41C2-AD63-BA9DAB7E5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C6C4BE-28C2-46EC-B774-7886B7667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A562F8-4D11-4CC8-85FB-761EFB8E1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4B5382-1D7C-41AB-8632-0200E767F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0BBE42-93B5-4349-8AFD-EB1C27E1B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A28268-1637-4FF6-A7CE-3AC0FFBAA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A3F00A-FBA8-48E7-B1DE-20933E3CC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38C8AF-666B-42FC-993E-E3277873C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448E7D-ADCC-4758-989D-29D80A168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3216E7-7BAF-4BE6-A3AB-96E69B1D9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436B61-19D1-4FA9-A303-057FCC8C2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2EE8E-8B69-484E-8156-31D0EBEA1C2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0F506-6A19-4990-A366-C7C55FE5948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BF353-C16D-4802-B9E3-D26EF0FBBAE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AB67E-916E-49F3-86F5-204AE864582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61F49-7B43-432A-9860-228F25F7E09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150F6-02B5-4C2F-90AC-AF5A92502CE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BB7BC-2774-4301-83E8-BB74A05103A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7414B-8B36-4D18-9519-4F9120C5527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25501-1A77-4244-B6C6-3441BA9F5C7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70BF1-79A7-4279-A175-4D333034E06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E5BCF-CB35-45E3-9349-BC2E123D5B2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7E314-6C6C-4719-8C67-96511DC691A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31607-7727-466B-A11A-E3A3FFD674E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60016-7EBF-4AD5-891F-9AA424D1669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87CB8-636A-4FDF-A8AE-5C18F99683F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" Target="slide1.xml"/><Relationship Id="rId4" Type="http://schemas.openxmlformats.org/officeDocument/2006/relationships/slide" Target="slide1.xml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image" Target="../media/image1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4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2.xml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4.pn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AutoShape 7"/>
          <p:cNvSpPr/>
          <p:nvPr/>
        </p:nvSpPr>
        <p:spPr>
          <a:xfrm>
            <a:off x="0" y="6454800"/>
            <a:ext cx="9144000" cy="403200"/>
          </a:xfrm>
          <a:prstGeom prst="flowChartProcess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MH_Text_1"/>
          <p:cNvSpPr/>
          <p:nvPr/>
        </p:nvSpPr>
        <p:spPr>
          <a:xfrm>
            <a:off x="735120" y="4668840"/>
            <a:ext cx="1665360" cy="1055520"/>
          </a:xfrm>
          <a:prstGeom prst="roundRect">
            <a:avLst>
              <a:gd name="adj" fmla="val 6991"/>
            </a:avLst>
          </a:prstGeom>
          <a:solidFill>
            <a:srgbClr val="ccffff"/>
          </a:solidFill>
          <a:ln w="0">
            <a:noFill/>
          </a:ln>
          <a:effectLst>
            <a:outerShdw dist="25455" dir="27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0" bIns="4716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MH_SubTitle_1">
            <a:hlinkClick r:id="rId1" action="ppaction://hlinksldjump"/>
          </p:cNvPr>
          <p:cNvSpPr/>
          <p:nvPr/>
        </p:nvSpPr>
        <p:spPr>
          <a:xfrm>
            <a:off x="733320" y="4940280"/>
            <a:ext cx="1665360" cy="53964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宋体"/>
              </a:rPr>
              <a:t>导入新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MH_Other_1"/>
          <p:cNvSpPr/>
          <p:nvPr/>
        </p:nvSpPr>
        <p:spPr>
          <a:xfrm>
            <a:off x="2160720" y="5111640"/>
            <a:ext cx="168120" cy="171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2e61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MH_Text_2"/>
          <p:cNvSpPr/>
          <p:nvPr/>
        </p:nvSpPr>
        <p:spPr>
          <a:xfrm>
            <a:off x="2700360" y="4653000"/>
            <a:ext cx="1665360" cy="1057320"/>
          </a:xfrm>
          <a:prstGeom prst="roundRect">
            <a:avLst>
              <a:gd name="adj" fmla="val 6991"/>
            </a:avLst>
          </a:prstGeom>
          <a:solidFill>
            <a:srgbClr val="ccffff"/>
          </a:solidFill>
          <a:ln w="0">
            <a:noFill/>
          </a:ln>
          <a:effectLst>
            <a:outerShdw dist="25455" dir="27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0" bIns="4716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MH_SubTitle_2">
            <a:hlinkClick r:id="rId2" action="ppaction://hlinksldjump"/>
          </p:cNvPr>
          <p:cNvSpPr/>
          <p:nvPr/>
        </p:nvSpPr>
        <p:spPr>
          <a:xfrm>
            <a:off x="2722680" y="4940280"/>
            <a:ext cx="1665000" cy="53964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宋体"/>
              </a:rPr>
              <a:t>讲授新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MH_Other_2"/>
          <p:cNvSpPr/>
          <p:nvPr/>
        </p:nvSpPr>
        <p:spPr>
          <a:xfrm>
            <a:off x="2757600" y="5108400"/>
            <a:ext cx="168120" cy="171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707c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MH_Other_3"/>
          <p:cNvSpPr/>
          <p:nvPr/>
        </p:nvSpPr>
        <p:spPr>
          <a:xfrm>
            <a:off x="4191120" y="5111640"/>
            <a:ext cx="168120" cy="171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707c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MH_Text_3"/>
          <p:cNvSpPr/>
          <p:nvPr/>
        </p:nvSpPr>
        <p:spPr>
          <a:xfrm>
            <a:off x="4730760" y="4667400"/>
            <a:ext cx="1666800" cy="1056960"/>
          </a:xfrm>
          <a:prstGeom prst="roundRect">
            <a:avLst>
              <a:gd name="adj" fmla="val 6991"/>
            </a:avLst>
          </a:prstGeom>
          <a:solidFill>
            <a:srgbClr val="ccffff"/>
          </a:solidFill>
          <a:ln w="0">
            <a:noFill/>
          </a:ln>
          <a:effectLst>
            <a:outerShdw dist="25455" dir="27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0" bIns="4716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MH_SubTitle_3">
            <a:hlinkClick r:id="rId3" action="ppaction://hlinksldjump"/>
          </p:cNvPr>
          <p:cNvSpPr/>
          <p:nvPr/>
        </p:nvSpPr>
        <p:spPr>
          <a:xfrm>
            <a:off x="4730760" y="4940280"/>
            <a:ext cx="1665360" cy="53964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宋体"/>
              </a:rPr>
              <a:t>课堂小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MH_Other_4"/>
          <p:cNvSpPr/>
          <p:nvPr/>
        </p:nvSpPr>
        <p:spPr>
          <a:xfrm>
            <a:off x="4788000" y="5108400"/>
            <a:ext cx="169920" cy="171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2e61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MH_Other_5"/>
          <p:cNvSpPr/>
          <p:nvPr/>
        </p:nvSpPr>
        <p:spPr>
          <a:xfrm>
            <a:off x="6189840" y="5111640"/>
            <a:ext cx="168120" cy="171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2e61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MH_Text_4"/>
          <p:cNvSpPr/>
          <p:nvPr/>
        </p:nvSpPr>
        <p:spPr>
          <a:xfrm>
            <a:off x="6738840" y="4667400"/>
            <a:ext cx="1665360" cy="1056960"/>
          </a:xfrm>
          <a:prstGeom prst="roundRect">
            <a:avLst>
              <a:gd name="adj" fmla="val 6991"/>
            </a:avLst>
          </a:prstGeom>
          <a:solidFill>
            <a:srgbClr val="ccffff"/>
          </a:solidFill>
          <a:ln w="0">
            <a:noFill/>
          </a:ln>
          <a:effectLst>
            <a:outerShdw dist="25455" dir="27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0" bIns="4716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MH_SubTitle_4">
            <a:hlinkClick r:id="rId4" action="ppaction://hlinksldjump"/>
          </p:cNvPr>
          <p:cNvSpPr/>
          <p:nvPr/>
        </p:nvSpPr>
        <p:spPr>
          <a:xfrm>
            <a:off x="6738840" y="4940280"/>
            <a:ext cx="1668600" cy="53964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宋体"/>
              </a:rPr>
              <a:t>当堂检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MH_Other_6"/>
          <p:cNvSpPr/>
          <p:nvPr/>
        </p:nvSpPr>
        <p:spPr>
          <a:xfrm>
            <a:off x="6788160" y="5108400"/>
            <a:ext cx="168120" cy="171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707c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2" name="组合 3093"/>
          <p:cNvGrpSpPr/>
          <p:nvPr/>
        </p:nvGrpSpPr>
        <p:grpSpPr>
          <a:xfrm>
            <a:off x="2097000" y="5064120"/>
            <a:ext cx="890640" cy="266760"/>
            <a:chOff x="2097000" y="5064120"/>
            <a:chExt cx="890640" cy="266760"/>
          </a:xfrm>
        </p:grpSpPr>
        <p:pic>
          <p:nvPicPr>
            <p:cNvPr id="603" name="MH_Other_7" descr=""/>
            <p:cNvPicPr/>
            <p:nvPr/>
          </p:nvPicPr>
          <p:blipFill>
            <a:blip r:embed="rId5"/>
            <a:stretch/>
          </p:blipFill>
          <p:spPr>
            <a:xfrm>
              <a:off x="2097000" y="5064120"/>
              <a:ext cx="890640" cy="26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4" name="Text Box 24"/>
            <p:cNvSpPr/>
            <p:nvPr/>
          </p:nvSpPr>
          <p:spPr>
            <a:xfrm>
              <a:off x="2208240" y="5166720"/>
              <a:ext cx="669960" cy="6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5" name="MH_Other_8"/>
          <p:cNvSpPr/>
          <p:nvPr/>
        </p:nvSpPr>
        <p:spPr>
          <a:xfrm>
            <a:off x="2195640" y="5153040"/>
            <a:ext cx="695160" cy="88920"/>
          </a:xfrm>
          <a:prstGeom prst="roundRect">
            <a:avLst>
              <a:gd name="adj" fmla="val 50000"/>
            </a:avLst>
          </a:prstGeom>
          <a:blipFill rotWithShape="0">
            <a:blip r:embed="rId6">
              <a:alphaModFix amt="2000"/>
            </a:blip>
            <a:srcRect/>
            <a:stretch/>
          </a:blipFill>
          <a:ln w="0">
            <a:noFill/>
          </a:ln>
          <a:effectLst>
            <a:outerShdw dist="153753" dir="2700000" blurRad="0" rotWithShape="0">
              <a:srgbClr val="000000">
                <a:alpha val="3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6" name="组合 3097"/>
          <p:cNvGrpSpPr/>
          <p:nvPr/>
        </p:nvGrpSpPr>
        <p:grpSpPr>
          <a:xfrm>
            <a:off x="4127400" y="5064120"/>
            <a:ext cx="888840" cy="266760"/>
            <a:chOff x="4127400" y="5064120"/>
            <a:chExt cx="888840" cy="266760"/>
          </a:xfrm>
        </p:grpSpPr>
        <p:pic>
          <p:nvPicPr>
            <p:cNvPr id="607" name="MH_Other_9" descr=""/>
            <p:cNvPicPr/>
            <p:nvPr/>
          </p:nvPicPr>
          <p:blipFill>
            <a:blip r:embed="rId7"/>
            <a:stretch/>
          </p:blipFill>
          <p:spPr>
            <a:xfrm>
              <a:off x="4127400" y="5064120"/>
              <a:ext cx="888840" cy="26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8" name="Text Box 28"/>
            <p:cNvSpPr/>
            <p:nvPr/>
          </p:nvSpPr>
          <p:spPr>
            <a:xfrm>
              <a:off x="4238640" y="5166720"/>
              <a:ext cx="669960" cy="6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9" name="MH_Other_10"/>
          <p:cNvSpPr/>
          <p:nvPr/>
        </p:nvSpPr>
        <p:spPr>
          <a:xfrm>
            <a:off x="4226040" y="5153040"/>
            <a:ext cx="695160" cy="88920"/>
          </a:xfrm>
          <a:prstGeom prst="roundRect">
            <a:avLst>
              <a:gd name="adj" fmla="val 50000"/>
            </a:avLst>
          </a:prstGeom>
          <a:blipFill rotWithShape="0">
            <a:blip r:embed="rId8">
              <a:alphaModFix amt="2000"/>
            </a:blip>
            <a:srcRect/>
            <a:stretch/>
          </a:blipFill>
          <a:ln w="0">
            <a:noFill/>
          </a:ln>
          <a:effectLst>
            <a:outerShdw dist="153753" dir="2700000" blurRad="0" rotWithShape="0">
              <a:srgbClr val="000000">
                <a:alpha val="3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0" name="MH_Other_11" descr=""/>
          <p:cNvPicPr/>
          <p:nvPr/>
        </p:nvPicPr>
        <p:blipFill>
          <a:blip r:embed="rId9"/>
          <a:stretch/>
        </p:blipFill>
        <p:spPr>
          <a:xfrm>
            <a:off x="6126120" y="5064120"/>
            <a:ext cx="890640" cy="266760"/>
          </a:xfrm>
          <a:prstGeom prst="rect">
            <a:avLst/>
          </a:prstGeom>
          <a:ln w="0">
            <a:noFill/>
          </a:ln>
        </p:spPr>
      </p:pic>
      <p:sp>
        <p:nvSpPr>
          <p:cNvPr id="611" name="Text Box 31"/>
          <p:cNvSpPr/>
          <p:nvPr/>
        </p:nvSpPr>
        <p:spPr>
          <a:xfrm>
            <a:off x="6237360" y="5165640"/>
            <a:ext cx="669960" cy="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MH_Other_12"/>
          <p:cNvSpPr/>
          <p:nvPr/>
        </p:nvSpPr>
        <p:spPr>
          <a:xfrm>
            <a:off x="6224760" y="5153040"/>
            <a:ext cx="695160" cy="88920"/>
          </a:xfrm>
          <a:prstGeom prst="roundRect">
            <a:avLst>
              <a:gd name="adj" fmla="val 50000"/>
            </a:avLst>
          </a:prstGeom>
          <a:blipFill rotWithShape="0">
            <a:blip r:embed="rId10">
              <a:alphaModFix amt="2000"/>
            </a:blip>
            <a:srcRect/>
            <a:stretch/>
          </a:blipFill>
          <a:ln w="0">
            <a:noFill/>
          </a:ln>
          <a:effectLst>
            <a:outerShdw dist="153753" dir="2700000" blurRad="0" rotWithShape="0">
              <a:srgbClr val="000000">
                <a:alpha val="3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Text Box 33"/>
          <p:cNvSpPr/>
          <p:nvPr/>
        </p:nvSpPr>
        <p:spPr>
          <a:xfrm>
            <a:off x="5364000" y="620640"/>
            <a:ext cx="378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7"/>
                </a:solidFill>
                <a:latin typeface="华文细黑"/>
                <a:ea typeface="华文细黑"/>
              </a:rPr>
              <a:t>学练优七年级语文上（</a:t>
            </a:r>
            <a:r>
              <a:rPr b="1" lang="en-US" sz="2400" spc="-1" strike="noStrike">
                <a:solidFill>
                  <a:srgbClr val="fffff7"/>
                </a:solidFill>
                <a:latin typeface="华文细黑"/>
                <a:ea typeface="华文细黑"/>
              </a:rPr>
              <a:t>RJ</a:t>
            </a:r>
            <a:r>
              <a:rPr b="1" lang="zh-CN" sz="2400" spc="-1" strike="noStrike">
                <a:solidFill>
                  <a:srgbClr val="fffff7"/>
                </a:solidFill>
                <a:latin typeface="华文细黑"/>
                <a:ea typeface="华文细黑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7"/>
                </a:solidFill>
                <a:latin typeface="华文细黑"/>
                <a:ea typeface="华文细黑"/>
              </a:rPr>
              <a:t>            </a:t>
            </a:r>
            <a:r>
              <a:rPr b="1" lang="zh-CN" sz="2400" spc="-1" strike="noStrike">
                <a:solidFill>
                  <a:srgbClr val="fffff7"/>
                </a:solidFill>
                <a:latin typeface="华文细黑"/>
                <a:ea typeface="华文细黑"/>
              </a:rPr>
              <a:t>教学课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文本框 4130"/>
          <p:cNvSpPr/>
          <p:nvPr/>
        </p:nvSpPr>
        <p:spPr>
          <a:xfrm>
            <a:off x="393840" y="2276640"/>
            <a:ext cx="7812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  <a:ea typeface="隶书"/>
              </a:rPr>
              <a:t> 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隶书"/>
              </a:rPr>
              <a:t>21 </a:t>
            </a:r>
            <a:r>
              <a:rPr b="0" lang="zh-CN" sz="6000" spc="-1" strike="noStrike">
                <a:solidFill>
                  <a:srgbClr val="000000"/>
                </a:solidFill>
                <a:latin typeface="Times New Roman"/>
                <a:ea typeface="隶书"/>
              </a:rPr>
              <a:t>皇帝的新装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任意多边形 10"/>
          <p:cNvSpPr/>
          <p:nvPr/>
        </p:nvSpPr>
        <p:spPr>
          <a:xfrm>
            <a:off x="0" y="4865760"/>
            <a:ext cx="9144000" cy="1687320"/>
          </a:xfrm>
          <a:custGeom>
            <a:avLst/>
            <a:gdLst/>
            <a:ahLst/>
            <a:rect l="l" t="t" r="r" b="b"/>
            <a:pathLst>
              <a:path w="9144000" h="1688812">
                <a:moveTo>
                  <a:pt x="0" y="797721"/>
                </a:moveTo>
                <a:cubicBezTo>
                  <a:pt x="1714500" y="-118242"/>
                  <a:pt x="5314950" y="-688842"/>
                  <a:pt x="9144000" y="1640898"/>
                </a:cubicBezTo>
                <a:lnTo>
                  <a:pt x="9144000" y="1688812"/>
                </a:lnTo>
                <a:cubicBezTo>
                  <a:pt x="6400800" y="428191"/>
                  <a:pt x="3457575" y="-346656"/>
                  <a:pt x="0" y="907323"/>
                </a:cubicBezTo>
                <a:lnTo>
                  <a:pt x="0" y="797721"/>
                </a:lnTo>
                <a:close/>
              </a:path>
            </a:pathLst>
          </a:custGeom>
          <a:solidFill>
            <a:srgbClr val="19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任意多边形 6"/>
          <p:cNvSpPr/>
          <p:nvPr/>
        </p:nvSpPr>
        <p:spPr>
          <a:xfrm>
            <a:off x="0" y="5122800"/>
            <a:ext cx="9153360" cy="1505160"/>
          </a:xfrm>
          <a:custGeom>
            <a:avLst/>
            <a:gdLst/>
            <a:ahLst/>
            <a:rect l="l" t="t" r="r" b="b"/>
            <a:pathLst>
              <a:path w="9153525" h="1504898">
                <a:moveTo>
                  <a:pt x="0" y="613807"/>
                </a:moveTo>
                <a:cubicBezTo>
                  <a:pt x="1933575" y="-73556"/>
                  <a:pt x="4972050" y="-596531"/>
                  <a:pt x="9153525" y="1418884"/>
                </a:cubicBezTo>
                <a:lnTo>
                  <a:pt x="9144000" y="1504898"/>
                </a:lnTo>
                <a:cubicBezTo>
                  <a:pt x="7581900" y="720527"/>
                  <a:pt x="3390900" y="-368645"/>
                  <a:pt x="0" y="723409"/>
                </a:cubicBezTo>
                <a:lnTo>
                  <a:pt x="0" y="613807"/>
                </a:lnTo>
                <a:close/>
              </a:path>
            </a:pathLst>
          </a:custGeom>
          <a:solidFill>
            <a:srgbClr val="26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2" name="图片 1" descr=""/>
          <p:cNvPicPr/>
          <p:nvPr/>
        </p:nvPicPr>
        <p:blipFill>
          <a:blip r:embed="rId1"/>
          <a:stretch/>
        </p:blipFill>
        <p:spPr>
          <a:xfrm>
            <a:off x="2187720" y="1598760"/>
            <a:ext cx="4768560" cy="2709720"/>
          </a:xfrm>
          <a:prstGeom prst="rect">
            <a:avLst/>
          </a:prstGeom>
          <a:ln w="0">
            <a:noFill/>
          </a:ln>
        </p:spPr>
      </p:pic>
      <p:sp>
        <p:nvSpPr>
          <p:cNvPr id="703" name="Rectangle 2"/>
          <p:cNvSpPr/>
          <p:nvPr/>
        </p:nvSpPr>
        <p:spPr>
          <a:xfrm>
            <a:off x="2048040" y="3287880"/>
            <a:ext cx="5116320" cy="9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96666"/>
                </a:solidFill>
                <a:latin typeface="微软雅黑"/>
                <a:ea typeface="微软雅黑"/>
              </a:rPr>
              <a:t>精读课文    细节探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文本框 18434"/>
          <p:cNvSpPr/>
          <p:nvPr/>
        </p:nvSpPr>
        <p:spPr>
          <a:xfrm>
            <a:off x="304920" y="762120"/>
            <a:ext cx="8642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在故事情节发展中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骗子们说了一句话起着关键的作用，找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找，并说说它为什么是关键语句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矩形 18435"/>
          <p:cNvSpPr/>
          <p:nvPr/>
        </p:nvSpPr>
        <p:spPr>
          <a:xfrm>
            <a:off x="457200" y="2286000"/>
            <a:ext cx="851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“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楷体"/>
                <a:ea typeface="楷体"/>
              </a:rPr>
              <a:t>任何不称职的或愚蠢得不可救药的人，都看不见这衣服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”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矩形 18436"/>
          <p:cNvSpPr/>
          <p:nvPr/>
        </p:nvSpPr>
        <p:spPr>
          <a:xfrm>
            <a:off x="457200" y="2978280"/>
            <a:ext cx="8432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这句话，在故事情节发展中起着关键的推动作用。骗子胡说那衣服具有这样一种“奇怪的特性”，不但抓住了皇帝的昏庸荒政而又想辨别出官员是否称职、是聪明还是愚蠢，以求保住皇位的心理，而且抓住了大臣们只想保住官位的心理，因而骗术步步行通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0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5" dur="5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矩形 19457"/>
          <p:cNvSpPr/>
          <p:nvPr/>
        </p:nvSpPr>
        <p:spPr>
          <a:xfrm>
            <a:off x="1219320" y="2989440"/>
            <a:ext cx="746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矩形 19458"/>
          <p:cNvSpPr/>
          <p:nvPr/>
        </p:nvSpPr>
        <p:spPr>
          <a:xfrm>
            <a:off x="600120" y="965160"/>
            <a:ext cx="78105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在根本不存在的“新装”面前，很多人都不敢说真话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想一想他们不敢说真话的原因是什么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文本框 19459"/>
          <p:cNvSpPr/>
          <p:nvPr/>
        </p:nvSpPr>
        <p:spPr>
          <a:xfrm>
            <a:off x="898560" y="2349360"/>
            <a:ext cx="69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老大臣、“另外一位诚实的官员”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文本框 19460"/>
          <p:cNvSpPr/>
          <p:nvPr/>
        </p:nvSpPr>
        <p:spPr>
          <a:xfrm>
            <a:off x="898560" y="2924280"/>
            <a:ext cx="536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怕别人说自己愚蠢，更怕丢了乌纱帽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文本框 19461"/>
          <p:cNvSpPr/>
          <p:nvPr/>
        </p:nvSpPr>
        <p:spPr>
          <a:xfrm>
            <a:off x="895320" y="3693960"/>
            <a:ext cx="165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皇帝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文本框 19462"/>
          <p:cNvSpPr/>
          <p:nvPr/>
        </p:nvSpPr>
        <p:spPr>
          <a:xfrm>
            <a:off x="1814400" y="367992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怕别人说自己愚蠢，也怕丢了王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文本框 19463"/>
          <p:cNvSpPr/>
          <p:nvPr/>
        </p:nvSpPr>
        <p:spPr>
          <a:xfrm>
            <a:off x="1130400" y="46022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老百姓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矩形 19464"/>
          <p:cNvSpPr/>
          <p:nvPr/>
        </p:nvSpPr>
        <p:spPr>
          <a:xfrm>
            <a:off x="4116600" y="462744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怕人嘲笑愚蠢；怕招杀身之祸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" dur="500"/>
                                        <p:tgtEl>
                                          <p:spTgt spid="7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500"/>
                                        <p:tgtEl>
                                          <p:spTgt spid="7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文本框 20481"/>
          <p:cNvSpPr/>
          <p:nvPr/>
        </p:nvSpPr>
        <p:spPr>
          <a:xfrm>
            <a:off x="858960" y="1886040"/>
            <a:ext cx="792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小孩子为什么敢说真话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文本框 20482"/>
          <p:cNvSpPr/>
          <p:nvPr/>
        </p:nvSpPr>
        <p:spPr>
          <a:xfrm>
            <a:off x="1500120" y="2940120"/>
            <a:ext cx="5977080" cy="642600"/>
          </a:xfrm>
          <a:prstGeom prst="rect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因为小孩子单纯，天真活泼，不懂得人情世故无所顾忌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500"/>
                                        <p:tgtEl>
                                          <p:spTgt spid="7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矩形 21505"/>
          <p:cNvSpPr/>
          <p:nvPr/>
        </p:nvSpPr>
        <p:spPr>
          <a:xfrm>
            <a:off x="896760" y="2349360"/>
            <a:ext cx="19656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皇帝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---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大臣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---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骗子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---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孩子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---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文本框 21506"/>
          <p:cNvSpPr/>
          <p:nvPr/>
        </p:nvSpPr>
        <p:spPr>
          <a:xfrm>
            <a:off x="2197080" y="234936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昏庸无能、爱慕虚荣、愚蠢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文本框 21507"/>
          <p:cNvSpPr/>
          <p:nvPr/>
        </p:nvSpPr>
        <p:spPr>
          <a:xfrm>
            <a:off x="2214720" y="292572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虚伪愚昧、阿</a:t>
            </a: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(ē)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谀</a:t>
            </a: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(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yú</a:t>
            </a: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)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奉承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文本框 21508"/>
          <p:cNvSpPr/>
          <p:nvPr/>
        </p:nvSpPr>
        <p:spPr>
          <a:xfrm>
            <a:off x="2926440" y="344484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狡猾伪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文本框 21509"/>
          <p:cNvSpPr/>
          <p:nvPr/>
        </p:nvSpPr>
        <p:spPr>
          <a:xfrm>
            <a:off x="2235240" y="397980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纯洁天真、无所顾忌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矩形 21510"/>
          <p:cNvSpPr/>
          <p:nvPr/>
        </p:nvSpPr>
        <p:spPr>
          <a:xfrm>
            <a:off x="611280" y="99684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概括出皇帝、大臣及官员、小孩的性格特点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" dur="500"/>
                                        <p:tgtEl>
                                          <p:spTgt spid="7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3" dur="500"/>
                                        <p:tgtEl>
                                          <p:spTgt spid="7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8" dur="500"/>
                                        <p:tgtEl>
                                          <p:spTgt spid="7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500"/>
                                        <p:tgtEl>
                                          <p:spTgt spid="7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文本框 22529"/>
          <p:cNvSpPr/>
          <p:nvPr/>
        </p:nvSpPr>
        <p:spPr>
          <a:xfrm>
            <a:off x="614520" y="717480"/>
            <a:ext cx="716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课文主要运用了什么艺术手法？有什么作用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文本框 22530"/>
          <p:cNvSpPr/>
          <p:nvPr/>
        </p:nvSpPr>
        <p:spPr>
          <a:xfrm>
            <a:off x="814320" y="3830760"/>
            <a:ext cx="765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作用：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无情地鞭挞了至高无上的皇帝和道貌岸然的大臣，辛辣地嘲笑了他们的愚蠢虚伪卑鄙自私，曲折地反映了现实生活，反映了封建专制制度的腐朽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矩形 22531"/>
          <p:cNvSpPr/>
          <p:nvPr/>
        </p:nvSpPr>
        <p:spPr>
          <a:xfrm>
            <a:off x="831960" y="1422360"/>
            <a:ext cx="771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夸张与想象：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本文写出骗子用根本不存在的布料、衣服向皇帝行骗，写出皇帝和大臣们都甘愿受骗、并且骗人，最后写出皇帝赤裸全身在大街上游行，构成了丰富的想象和大胆的夸张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0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1" name="图片 27649" descr="a3"/>
          <p:cNvPicPr/>
          <p:nvPr/>
        </p:nvPicPr>
        <p:blipFill>
          <a:blip r:embed="rId1"/>
          <a:stretch/>
        </p:blipFill>
        <p:spPr>
          <a:xfrm>
            <a:off x="1503360" y="1946160"/>
            <a:ext cx="6629400" cy="4068720"/>
          </a:xfrm>
          <a:prstGeom prst="rect">
            <a:avLst/>
          </a:prstGeom>
          <a:ln w="0">
            <a:noFill/>
          </a:ln>
        </p:spPr>
      </p:pic>
      <p:sp>
        <p:nvSpPr>
          <p:cNvPr id="732" name="矩形 27650"/>
          <p:cNvSpPr/>
          <p:nvPr/>
        </p:nvSpPr>
        <p:spPr>
          <a:xfrm>
            <a:off x="558720" y="85104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用夸张的手法，描述一下皇帝穿着新衣游行时装模作样的丑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文本框 1"/>
          <p:cNvSpPr/>
          <p:nvPr/>
        </p:nvSpPr>
        <p:spPr>
          <a:xfrm>
            <a:off x="876240" y="1825560"/>
            <a:ext cx="800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虽然骗子是最可恨的，但是在这里骗子其实就是一面“镜子”、一把“解剖刀”的角色。通过他们照出了皇帝及大小官吏们的丑恶灵魂，解剖了一个谎言充塞、欺骗成风的病态社会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课堂小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1" dur="80"/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2" dur="80"/>
                                        <p:tgtEl>
                                          <p:spTgt spid="7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3" dur="80"/>
                                        <p:tgtEl>
                                          <p:spTgt spid="7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文本框 26626"/>
          <p:cNvSpPr/>
          <p:nvPr/>
        </p:nvSpPr>
        <p:spPr>
          <a:xfrm>
            <a:off x="393840" y="1270080"/>
            <a:ext cx="546120" cy="38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展开想象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文本框 26627"/>
          <p:cNvSpPr/>
          <p:nvPr/>
        </p:nvSpPr>
        <p:spPr>
          <a:xfrm>
            <a:off x="1427040" y="1633680"/>
            <a:ext cx="70311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假如皇帝去游行时，两个骗子也混在人群中，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们之间将会有怎样的小声而又得意的对话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文本框 26628"/>
          <p:cNvSpPr/>
          <p:nvPr/>
        </p:nvSpPr>
        <p:spPr>
          <a:xfrm>
            <a:off x="1467000" y="3173400"/>
            <a:ext cx="7173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假如皇帝游行完毕，在皇宫门口碰到两个骗子，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会怎样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当堂检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任意多边形 10"/>
          <p:cNvSpPr/>
          <p:nvPr/>
        </p:nvSpPr>
        <p:spPr>
          <a:xfrm>
            <a:off x="0" y="4865760"/>
            <a:ext cx="9144000" cy="1687320"/>
          </a:xfrm>
          <a:custGeom>
            <a:avLst/>
            <a:gdLst/>
            <a:ahLst/>
            <a:rect l="l" t="t" r="r" b="b"/>
            <a:pathLst>
              <a:path w="9144000" h="1688812">
                <a:moveTo>
                  <a:pt x="0" y="797721"/>
                </a:moveTo>
                <a:cubicBezTo>
                  <a:pt x="1714500" y="-118242"/>
                  <a:pt x="5314950" y="-688842"/>
                  <a:pt x="9144000" y="1640898"/>
                </a:cubicBezTo>
                <a:lnTo>
                  <a:pt x="9144000" y="1688812"/>
                </a:lnTo>
                <a:cubicBezTo>
                  <a:pt x="6400800" y="428191"/>
                  <a:pt x="3457575" y="-346656"/>
                  <a:pt x="0" y="907323"/>
                </a:cubicBezTo>
                <a:lnTo>
                  <a:pt x="0" y="797721"/>
                </a:lnTo>
                <a:close/>
              </a:path>
            </a:pathLst>
          </a:custGeom>
          <a:solidFill>
            <a:srgbClr val="19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任意多边形 6"/>
          <p:cNvSpPr/>
          <p:nvPr/>
        </p:nvSpPr>
        <p:spPr>
          <a:xfrm>
            <a:off x="0" y="5122800"/>
            <a:ext cx="9153360" cy="1505160"/>
          </a:xfrm>
          <a:custGeom>
            <a:avLst/>
            <a:gdLst/>
            <a:ahLst/>
            <a:rect l="l" t="t" r="r" b="b"/>
            <a:pathLst>
              <a:path w="9153525" h="1504898">
                <a:moveTo>
                  <a:pt x="0" y="613807"/>
                </a:moveTo>
                <a:cubicBezTo>
                  <a:pt x="1933575" y="-73556"/>
                  <a:pt x="4972050" y="-596531"/>
                  <a:pt x="9153525" y="1418884"/>
                </a:cubicBezTo>
                <a:lnTo>
                  <a:pt x="9144000" y="1504898"/>
                </a:lnTo>
                <a:cubicBezTo>
                  <a:pt x="7581900" y="720527"/>
                  <a:pt x="3390900" y="-368645"/>
                  <a:pt x="0" y="723409"/>
                </a:cubicBezTo>
                <a:lnTo>
                  <a:pt x="0" y="613807"/>
                </a:lnTo>
                <a:close/>
              </a:path>
            </a:pathLst>
          </a:custGeom>
          <a:solidFill>
            <a:srgbClr val="26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7" name="组合 3"/>
          <p:cNvGrpSpPr/>
          <p:nvPr/>
        </p:nvGrpSpPr>
        <p:grpSpPr>
          <a:xfrm>
            <a:off x="684360" y="909720"/>
            <a:ext cx="1714320" cy="499680"/>
            <a:chOff x="684360" y="909720"/>
            <a:chExt cx="1714320" cy="499680"/>
          </a:xfrm>
        </p:grpSpPr>
        <p:sp>
          <p:nvSpPr>
            <p:cNvPr id="618" name="流程图: 文档 2"/>
            <p:cNvSpPr/>
            <p:nvPr/>
          </p:nvSpPr>
          <p:spPr>
            <a:xfrm>
              <a:off x="684360" y="955800"/>
              <a:ext cx="1671840" cy="453600"/>
            </a:xfrm>
            <a:prstGeom prst="flowChartDocument">
              <a:avLst/>
            </a:prstGeom>
            <a:solidFill>
              <a:srgbClr val="228989"/>
            </a:solidFill>
            <a:ln w="25560">
              <a:solidFill>
                <a:srgbClr val="2395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文本框 4101"/>
            <p:cNvSpPr/>
            <p:nvPr/>
          </p:nvSpPr>
          <p:spPr>
            <a:xfrm>
              <a:off x="684360" y="909720"/>
              <a:ext cx="171432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2300" spc="-1" strike="noStrike">
                  <a:solidFill>
                    <a:srgbClr val="ffffff"/>
                  </a:solidFill>
                  <a:latin typeface="宋体"/>
                  <a:ea typeface="幼圆"/>
                </a:rPr>
                <a:t>学习目标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0" name=""/>
          <p:cNvSpPr txBox="1"/>
          <p:nvPr/>
        </p:nvSpPr>
        <p:spPr>
          <a:xfrm>
            <a:off x="600120" y="1815840"/>
            <a:ext cx="8229600" cy="25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掌握童话以及安徒生的文学常识；积累生字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理清故事情节；分析人物形象；了解童话中夸张和想象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作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培养真诚、求实、不慕虚荣的品格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导入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6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6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6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6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6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6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6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6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6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6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2" name="图片 10242" descr="丑小鸭"/>
          <p:cNvPicPr/>
          <p:nvPr/>
        </p:nvPicPr>
        <p:blipFill>
          <a:blip r:embed="rId1"/>
          <a:stretch/>
        </p:blipFill>
        <p:spPr>
          <a:xfrm>
            <a:off x="1042920" y="3500280"/>
            <a:ext cx="3313080" cy="2449800"/>
          </a:xfrm>
          <a:prstGeom prst="rect">
            <a:avLst/>
          </a:prstGeom>
          <a:ln w="0">
            <a:noFill/>
          </a:ln>
        </p:spPr>
      </p:pic>
      <p:pic>
        <p:nvPicPr>
          <p:cNvPr id="623" name="图片 10243" descr="海的女儿"/>
          <p:cNvPicPr/>
          <p:nvPr/>
        </p:nvPicPr>
        <p:blipFill>
          <a:blip r:embed="rId2"/>
          <a:stretch/>
        </p:blipFill>
        <p:spPr>
          <a:xfrm>
            <a:off x="4716360" y="1197000"/>
            <a:ext cx="3311640" cy="2232000"/>
          </a:xfrm>
          <a:prstGeom prst="rect">
            <a:avLst/>
          </a:prstGeom>
          <a:ln w="0">
            <a:noFill/>
          </a:ln>
        </p:spPr>
      </p:pic>
      <p:pic>
        <p:nvPicPr>
          <p:cNvPr id="624" name="图片 10244" descr="火柴"/>
          <p:cNvPicPr/>
          <p:nvPr/>
        </p:nvPicPr>
        <p:blipFill>
          <a:blip r:embed="rId3"/>
          <a:stretch/>
        </p:blipFill>
        <p:spPr>
          <a:xfrm>
            <a:off x="1042920" y="1268280"/>
            <a:ext cx="3313080" cy="2089440"/>
          </a:xfrm>
          <a:prstGeom prst="rect">
            <a:avLst/>
          </a:prstGeom>
          <a:ln w="0">
            <a:noFill/>
          </a:ln>
        </p:spPr>
      </p:pic>
      <p:pic>
        <p:nvPicPr>
          <p:cNvPr id="625" name="图片 10247" descr="U529P18T90D43050F1532DT20041130104053"/>
          <p:cNvPicPr/>
          <p:nvPr/>
        </p:nvPicPr>
        <p:blipFill>
          <a:blip r:embed="rId4"/>
          <a:stretch/>
        </p:blipFill>
        <p:spPr>
          <a:xfrm>
            <a:off x="4716360" y="3500280"/>
            <a:ext cx="3311640" cy="2448000"/>
          </a:xfrm>
          <a:prstGeom prst="rect">
            <a:avLst/>
          </a:prstGeom>
          <a:ln w="0">
            <a:noFill/>
          </a:ln>
        </p:spPr>
      </p:pic>
      <p:sp>
        <p:nvSpPr>
          <p:cNvPr id="626" name="文本框 1"/>
          <p:cNvSpPr/>
          <p:nvPr/>
        </p:nvSpPr>
        <p:spPr>
          <a:xfrm>
            <a:off x="1647720" y="819000"/>
            <a:ext cx="183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《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卖火柴的小女孩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文本框 2"/>
          <p:cNvSpPr/>
          <p:nvPr/>
        </p:nvSpPr>
        <p:spPr>
          <a:xfrm>
            <a:off x="5707800" y="720720"/>
            <a:ext cx="128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《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海的女儿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文本框 3"/>
          <p:cNvSpPr/>
          <p:nvPr/>
        </p:nvSpPr>
        <p:spPr>
          <a:xfrm>
            <a:off x="1942560" y="5999040"/>
            <a:ext cx="110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《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丑小鸭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文本框 4"/>
          <p:cNvSpPr/>
          <p:nvPr/>
        </p:nvSpPr>
        <p:spPr>
          <a:xfrm>
            <a:off x="5784120" y="5997600"/>
            <a:ext cx="128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《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拇指姑娘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导入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任意多边形 10"/>
          <p:cNvSpPr/>
          <p:nvPr/>
        </p:nvSpPr>
        <p:spPr>
          <a:xfrm>
            <a:off x="0" y="4865760"/>
            <a:ext cx="9144000" cy="1687320"/>
          </a:xfrm>
          <a:custGeom>
            <a:avLst/>
            <a:gdLst/>
            <a:ahLst/>
            <a:rect l="l" t="t" r="r" b="b"/>
            <a:pathLst>
              <a:path w="9144000" h="1688812">
                <a:moveTo>
                  <a:pt x="0" y="797721"/>
                </a:moveTo>
                <a:cubicBezTo>
                  <a:pt x="1714500" y="-118242"/>
                  <a:pt x="5314950" y="-688842"/>
                  <a:pt x="9144000" y="1640898"/>
                </a:cubicBezTo>
                <a:lnTo>
                  <a:pt x="9144000" y="1688812"/>
                </a:lnTo>
                <a:cubicBezTo>
                  <a:pt x="6400800" y="428191"/>
                  <a:pt x="3457575" y="-346656"/>
                  <a:pt x="0" y="907323"/>
                </a:cubicBezTo>
                <a:lnTo>
                  <a:pt x="0" y="797721"/>
                </a:lnTo>
                <a:close/>
              </a:path>
            </a:pathLst>
          </a:custGeom>
          <a:solidFill>
            <a:srgbClr val="19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任意多边形 6"/>
          <p:cNvSpPr/>
          <p:nvPr/>
        </p:nvSpPr>
        <p:spPr>
          <a:xfrm>
            <a:off x="0" y="5122800"/>
            <a:ext cx="9153360" cy="1505160"/>
          </a:xfrm>
          <a:custGeom>
            <a:avLst/>
            <a:gdLst/>
            <a:ahLst/>
            <a:rect l="l" t="t" r="r" b="b"/>
            <a:pathLst>
              <a:path w="9153525" h="1504898">
                <a:moveTo>
                  <a:pt x="0" y="613807"/>
                </a:moveTo>
                <a:cubicBezTo>
                  <a:pt x="1933575" y="-73556"/>
                  <a:pt x="4972050" y="-596531"/>
                  <a:pt x="9153525" y="1418884"/>
                </a:cubicBezTo>
                <a:lnTo>
                  <a:pt x="9144000" y="1504898"/>
                </a:lnTo>
                <a:cubicBezTo>
                  <a:pt x="7581900" y="720527"/>
                  <a:pt x="3390900" y="-368645"/>
                  <a:pt x="0" y="723409"/>
                </a:cubicBezTo>
                <a:lnTo>
                  <a:pt x="0" y="613807"/>
                </a:lnTo>
                <a:close/>
              </a:path>
            </a:pathLst>
          </a:custGeom>
          <a:solidFill>
            <a:srgbClr val="26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4" name="图片 1" descr=""/>
          <p:cNvPicPr/>
          <p:nvPr/>
        </p:nvPicPr>
        <p:blipFill>
          <a:blip r:embed="rId1"/>
          <a:stretch/>
        </p:blipFill>
        <p:spPr>
          <a:xfrm>
            <a:off x="2187720" y="1598760"/>
            <a:ext cx="4768560" cy="2709720"/>
          </a:xfrm>
          <a:prstGeom prst="rect">
            <a:avLst/>
          </a:prstGeom>
          <a:ln w="0">
            <a:noFill/>
          </a:ln>
        </p:spPr>
      </p:pic>
      <p:sp>
        <p:nvSpPr>
          <p:cNvPr id="635" name="Rectangle 2"/>
          <p:cNvSpPr/>
          <p:nvPr/>
        </p:nvSpPr>
        <p:spPr>
          <a:xfrm>
            <a:off x="2048040" y="3287880"/>
            <a:ext cx="5116320" cy="9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96666"/>
                </a:solidFill>
                <a:latin typeface="微软雅黑"/>
                <a:ea typeface="微软雅黑"/>
              </a:rPr>
              <a:t>预习课文    相关介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6" name="组合 6147"/>
          <p:cNvGrpSpPr/>
          <p:nvPr/>
        </p:nvGrpSpPr>
        <p:grpSpPr>
          <a:xfrm>
            <a:off x="325440" y="334800"/>
            <a:ext cx="2232000" cy="794880"/>
            <a:chOff x="325440" y="334800"/>
            <a:chExt cx="2232000" cy="794880"/>
          </a:xfrm>
        </p:grpSpPr>
        <p:sp>
          <p:nvSpPr>
            <p:cNvPr id="637" name="矩形 7"/>
            <p:cNvSpPr/>
            <p:nvPr/>
          </p:nvSpPr>
          <p:spPr>
            <a:xfrm>
              <a:off x="885240" y="334800"/>
              <a:ext cx="1672200" cy="762840"/>
            </a:xfrm>
            <a:custGeom>
              <a:avLst/>
              <a:gdLst/>
              <a:ahLst/>
              <a:rect l="l" t="t" r="r" b="b"/>
              <a:pathLst>
                <a:path w="2520280" h="1872208">
                  <a:moveTo>
                    <a:pt x="0" y="1872208"/>
                  </a:moveTo>
                  <a:lnTo>
                    <a:pt x="2520280" y="1872208"/>
                  </a:lnTo>
                  <a:lnTo>
                    <a:pt x="0" y="1872208"/>
                  </a:lnTo>
                  <a:close/>
                  <a:moveTo>
                    <a:pt x="0" y="0"/>
                  </a:moveTo>
                  <a:lnTo>
                    <a:pt x="916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sq" w="1260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任意多边形 16"/>
            <p:cNvSpPr/>
            <p:nvPr/>
          </p:nvSpPr>
          <p:spPr>
            <a:xfrm>
              <a:off x="325440" y="623160"/>
              <a:ext cx="524160" cy="482760"/>
            </a:xfrm>
            <a:custGeom>
              <a:avLst/>
              <a:gdLst/>
              <a:ahLst/>
              <a:rect l="l" t="t" r="r" b="b"/>
              <a:pathLst>
                <a:path w="696310" h="696310">
                  <a:moveTo>
                    <a:pt x="0" y="0"/>
                  </a:moveTo>
                  <a:lnTo>
                    <a:pt x="459827" y="0"/>
                  </a:lnTo>
                  <a:lnTo>
                    <a:pt x="459827" y="236483"/>
                  </a:lnTo>
                  <a:lnTo>
                    <a:pt x="696310" y="236483"/>
                  </a:lnTo>
                  <a:lnTo>
                    <a:pt x="696310" y="696310"/>
                  </a:lnTo>
                  <a:lnTo>
                    <a:pt x="0" y="6963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矩形 17"/>
            <p:cNvSpPr/>
            <p:nvPr/>
          </p:nvSpPr>
          <p:spPr>
            <a:xfrm>
              <a:off x="687240" y="572400"/>
              <a:ext cx="163440" cy="168480"/>
            </a:xfrm>
            <a:prstGeom prst="rect">
              <a:avLst/>
            </a:prstGeom>
            <a:solidFill>
              <a:srgbClr val="008080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79640" tIns="168480" bIns="-47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文本框 6151"/>
            <p:cNvSpPr/>
            <p:nvPr/>
          </p:nvSpPr>
          <p:spPr>
            <a:xfrm>
              <a:off x="1168560" y="6091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6666"/>
                  </a:solidFill>
                  <a:latin typeface="微软雅黑"/>
                  <a:ea typeface="微软雅黑"/>
                </a:rPr>
                <a:t>检查预习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1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2" name="组合 3"/>
          <p:cNvGrpSpPr/>
          <p:nvPr/>
        </p:nvGrpSpPr>
        <p:grpSpPr>
          <a:xfrm>
            <a:off x="684360" y="1268280"/>
            <a:ext cx="1714320" cy="499680"/>
            <a:chOff x="684360" y="1268280"/>
            <a:chExt cx="1714320" cy="499680"/>
          </a:xfrm>
        </p:grpSpPr>
        <p:sp>
          <p:nvSpPr>
            <p:cNvPr id="643" name="流程图: 文档 2"/>
            <p:cNvSpPr/>
            <p:nvPr/>
          </p:nvSpPr>
          <p:spPr>
            <a:xfrm>
              <a:off x="684360" y="1314360"/>
              <a:ext cx="1671840" cy="453600"/>
            </a:xfrm>
            <a:prstGeom prst="flowChartDocument">
              <a:avLst/>
            </a:prstGeom>
            <a:solidFill>
              <a:srgbClr val="228989"/>
            </a:solidFill>
            <a:ln w="25560">
              <a:solidFill>
                <a:srgbClr val="2395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文本框 4101"/>
            <p:cNvSpPr/>
            <p:nvPr/>
          </p:nvSpPr>
          <p:spPr>
            <a:xfrm>
              <a:off x="684360" y="1268280"/>
              <a:ext cx="171432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2300" spc="-1" strike="noStrike">
                  <a:solidFill>
                    <a:srgbClr val="ffffff"/>
                  </a:solidFill>
                  <a:latin typeface="宋体"/>
                  <a:ea typeface="幼圆"/>
                </a:rPr>
                <a:t>走近作者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45" name="图片 9219" descr="安徒生"/>
          <p:cNvPicPr/>
          <p:nvPr/>
        </p:nvPicPr>
        <p:blipFill>
          <a:blip r:embed="rId1"/>
          <a:stretch/>
        </p:blipFill>
        <p:spPr>
          <a:xfrm>
            <a:off x="563400" y="2135160"/>
            <a:ext cx="2227320" cy="3375000"/>
          </a:xfrm>
          <a:prstGeom prst="rect">
            <a:avLst/>
          </a:prstGeom>
          <a:ln w="0">
            <a:noFill/>
          </a:ln>
        </p:spPr>
      </p:pic>
      <p:sp>
        <p:nvSpPr>
          <p:cNvPr id="646" name="文本框 1"/>
          <p:cNvSpPr/>
          <p:nvPr/>
        </p:nvSpPr>
        <p:spPr>
          <a:xfrm>
            <a:off x="3065400" y="1238400"/>
            <a:ext cx="59263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安徒生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805—187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全名是：汉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克利斯坦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安徒生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19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世纪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Times New Roman"/>
              </a:rPr>
              <a:t>丹麦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文学巨匠，世界著名的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Times New Roman"/>
              </a:rPr>
              <a:t>童话作家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他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6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余篇童话在近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5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年中被翻译成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4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多种文字，从丹麦传向世界。安徒生生于鞋匠家庭，童年生活穷苦，早期写有诗歌、剧本和长篇小说等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83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年开始写童话，著名的童话有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《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丑小鸭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《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海的女儿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《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卖火柴的小女孩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《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夜莺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《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皇帝的新装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" dur="80"/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" dur="80"/>
                                        <p:tgtEl>
                                          <p:spTgt spid="6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" dur="80"/>
                                        <p:tgtEl>
                                          <p:spTgt spid="6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任意多边形 10"/>
          <p:cNvSpPr/>
          <p:nvPr/>
        </p:nvSpPr>
        <p:spPr>
          <a:xfrm>
            <a:off x="0" y="4865760"/>
            <a:ext cx="9144000" cy="1687320"/>
          </a:xfrm>
          <a:custGeom>
            <a:avLst/>
            <a:gdLst/>
            <a:ahLst/>
            <a:rect l="l" t="t" r="r" b="b"/>
            <a:pathLst>
              <a:path w="9144000" h="1688812">
                <a:moveTo>
                  <a:pt x="0" y="797721"/>
                </a:moveTo>
                <a:cubicBezTo>
                  <a:pt x="1714500" y="-118242"/>
                  <a:pt x="5314950" y="-688842"/>
                  <a:pt x="9144000" y="1640898"/>
                </a:cubicBezTo>
                <a:lnTo>
                  <a:pt x="9144000" y="1688812"/>
                </a:lnTo>
                <a:cubicBezTo>
                  <a:pt x="6400800" y="428191"/>
                  <a:pt x="3457575" y="-346656"/>
                  <a:pt x="0" y="907323"/>
                </a:cubicBezTo>
                <a:lnTo>
                  <a:pt x="0" y="797721"/>
                </a:lnTo>
                <a:close/>
              </a:path>
            </a:pathLst>
          </a:custGeom>
          <a:solidFill>
            <a:srgbClr val="19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任意多边形 6"/>
          <p:cNvSpPr/>
          <p:nvPr/>
        </p:nvSpPr>
        <p:spPr>
          <a:xfrm>
            <a:off x="0" y="5122800"/>
            <a:ext cx="9153360" cy="1505160"/>
          </a:xfrm>
          <a:custGeom>
            <a:avLst/>
            <a:gdLst/>
            <a:ahLst/>
            <a:rect l="l" t="t" r="r" b="b"/>
            <a:pathLst>
              <a:path w="9153525" h="1504898">
                <a:moveTo>
                  <a:pt x="0" y="613807"/>
                </a:moveTo>
                <a:cubicBezTo>
                  <a:pt x="1933575" y="-73556"/>
                  <a:pt x="4972050" y="-596531"/>
                  <a:pt x="9153525" y="1418884"/>
                </a:cubicBezTo>
                <a:lnTo>
                  <a:pt x="9144000" y="1504898"/>
                </a:lnTo>
                <a:cubicBezTo>
                  <a:pt x="7581900" y="720527"/>
                  <a:pt x="3390900" y="-368645"/>
                  <a:pt x="0" y="723409"/>
                </a:cubicBezTo>
                <a:lnTo>
                  <a:pt x="0" y="613807"/>
                </a:lnTo>
                <a:close/>
              </a:path>
            </a:pathLst>
          </a:custGeom>
          <a:solidFill>
            <a:srgbClr val="26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0" name="图片 1" descr=""/>
          <p:cNvPicPr/>
          <p:nvPr/>
        </p:nvPicPr>
        <p:blipFill>
          <a:blip r:embed="rId1"/>
          <a:stretch/>
        </p:blipFill>
        <p:spPr>
          <a:xfrm>
            <a:off x="2187720" y="1598760"/>
            <a:ext cx="4768560" cy="2709720"/>
          </a:xfrm>
          <a:prstGeom prst="rect">
            <a:avLst/>
          </a:prstGeom>
          <a:ln w="0">
            <a:noFill/>
          </a:ln>
        </p:spPr>
      </p:pic>
      <p:sp>
        <p:nvSpPr>
          <p:cNvPr id="651" name="Rectangle 2"/>
          <p:cNvSpPr/>
          <p:nvPr/>
        </p:nvSpPr>
        <p:spPr>
          <a:xfrm>
            <a:off x="2048040" y="3287880"/>
            <a:ext cx="5116320" cy="9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96666"/>
                </a:solidFill>
                <a:latin typeface="微软雅黑"/>
                <a:ea typeface="微软雅黑"/>
              </a:rPr>
              <a:t>初读课文    整体感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文本框 11265"/>
          <p:cNvSpPr/>
          <p:nvPr/>
        </p:nvSpPr>
        <p:spPr>
          <a:xfrm>
            <a:off x="676440" y="2298600"/>
            <a:ext cx="4800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童话是儿童文学的一种，它通过丰富的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想象、幻想、夸张、拟人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等艺术手法来塑造形象，反映社会生活，对儿童进行思想教育。语言通俗易懂，情节曲折离奇，引人入胜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3" name="图片 11266" descr="a2"/>
          <p:cNvPicPr/>
          <p:nvPr/>
        </p:nvPicPr>
        <p:blipFill>
          <a:blip r:embed="rId1"/>
          <a:stretch/>
        </p:blipFill>
        <p:spPr>
          <a:xfrm>
            <a:off x="5940360" y="1971720"/>
            <a:ext cx="2764080" cy="3562200"/>
          </a:xfrm>
          <a:prstGeom prst="rect">
            <a:avLst/>
          </a:prstGeom>
          <a:ln w="0">
            <a:noFill/>
          </a:ln>
        </p:spPr>
      </p:pic>
      <p:sp>
        <p:nvSpPr>
          <p:cNvPr id="654" name="矩形 11267"/>
          <p:cNvSpPr txBox="1"/>
          <p:nvPr/>
        </p:nvSpPr>
        <p:spPr>
          <a:xfrm>
            <a:off x="1676520" y="1135080"/>
            <a:ext cx="1962000" cy="69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华文彩云"/>
              </a:rPr>
              <a:t>童话</a:t>
            </a:r>
            <a:endParaRPr b="1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华文彩云"/>
              <a:ea typeface="华文彩云"/>
            </a:endParaRPr>
          </a:p>
        </p:txBody>
      </p:sp>
      <p:sp>
        <p:nvSpPr>
          <p:cNvPr id="655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6" name="组合 16387"/>
          <p:cNvGrpSpPr/>
          <p:nvPr/>
        </p:nvGrpSpPr>
        <p:grpSpPr>
          <a:xfrm>
            <a:off x="969840" y="839880"/>
            <a:ext cx="5905440" cy="459720"/>
            <a:chOff x="969840" y="839880"/>
            <a:chExt cx="5905440" cy="459720"/>
          </a:xfrm>
        </p:grpSpPr>
        <p:sp>
          <p:nvSpPr>
            <p:cNvPr id="657" name="文本框 16388">
              <a:hlinkClick r:id="rId1" action="ppaction://hlinksldjump"/>
            </p:cNvPr>
            <p:cNvSpPr/>
            <p:nvPr/>
          </p:nvSpPr>
          <p:spPr>
            <a:xfrm>
              <a:off x="969840" y="839880"/>
              <a:ext cx="180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爱新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文本框 16389"/>
            <p:cNvSpPr/>
            <p:nvPr/>
          </p:nvSpPr>
          <p:spPr>
            <a:xfrm>
              <a:off x="4425840" y="839880"/>
              <a:ext cx="2449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宋体"/>
                </a:rPr>
                <a:t>(</a:t>
              </a:r>
              <a:r>
                <a:rPr b="1" lang="zh-CN" sz="2400" spc="-1" strike="noStrike">
                  <a:solidFill>
                    <a:srgbClr val="ff0000"/>
                  </a:solidFill>
                  <a:latin typeface="宋体"/>
                </a:rPr>
                <a:t>第一段</a:t>
              </a:r>
              <a:r>
                <a:rPr b="1" lang="en-US" sz="2400" spc="-1" strike="noStrike">
                  <a:solidFill>
                    <a:srgbClr val="ff0000"/>
                  </a:solidFill>
                  <a:latin typeface="宋体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矩形 16390"/>
            <p:cNvSpPr/>
            <p:nvPr/>
          </p:nvSpPr>
          <p:spPr>
            <a:xfrm>
              <a:off x="2871000" y="839880"/>
              <a:ext cx="90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(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引子</a:t>
              </a: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0" name="组合 16391"/>
          <p:cNvGrpSpPr/>
          <p:nvPr/>
        </p:nvGrpSpPr>
        <p:grpSpPr>
          <a:xfrm>
            <a:off x="969840" y="1703520"/>
            <a:ext cx="5682600" cy="459720"/>
            <a:chOff x="969840" y="1703520"/>
            <a:chExt cx="5682600" cy="459720"/>
          </a:xfrm>
        </p:grpSpPr>
        <p:sp>
          <p:nvSpPr>
            <p:cNvPr id="661" name="文本框 16392">
              <a:hlinkClick r:id="rId2" action="ppaction://hlinksldjump"/>
            </p:cNvPr>
            <p:cNvSpPr/>
            <p:nvPr/>
          </p:nvSpPr>
          <p:spPr>
            <a:xfrm>
              <a:off x="969840" y="1703520"/>
              <a:ext cx="172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做新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矩形 16393"/>
            <p:cNvSpPr/>
            <p:nvPr/>
          </p:nvSpPr>
          <p:spPr>
            <a:xfrm>
              <a:off x="4703760" y="1703520"/>
              <a:ext cx="1948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宋体"/>
                </a:rPr>
                <a:t>（第二段</a:t>
              </a:r>
              <a:r>
                <a:rPr b="1" lang="en-US" sz="2400" spc="-1" strike="noStrike">
                  <a:solidFill>
                    <a:srgbClr val="ff0000"/>
                  </a:solidFill>
                  <a:latin typeface="宋体"/>
                </a:rPr>
                <a:t>—</a:t>
              </a:r>
              <a:r>
                <a:rPr b="1" lang="zh-CN" sz="2400" spc="-1" strike="noStrike">
                  <a:solidFill>
                    <a:srgbClr val="ff0000"/>
                  </a:solidFill>
                  <a:latin typeface="宋体"/>
                </a:rPr>
                <a:t>第四段）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矩形 16394"/>
            <p:cNvSpPr/>
            <p:nvPr/>
          </p:nvSpPr>
          <p:spPr>
            <a:xfrm>
              <a:off x="2799360" y="1703520"/>
              <a:ext cx="90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(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开端</a:t>
              </a: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4" name="组合 16395"/>
          <p:cNvGrpSpPr/>
          <p:nvPr/>
        </p:nvGrpSpPr>
        <p:grpSpPr>
          <a:xfrm>
            <a:off x="969840" y="2568600"/>
            <a:ext cx="6229440" cy="459720"/>
            <a:chOff x="969840" y="2568600"/>
            <a:chExt cx="6229440" cy="459720"/>
          </a:xfrm>
        </p:grpSpPr>
        <p:sp>
          <p:nvSpPr>
            <p:cNvPr id="665" name="文本框 16396"/>
            <p:cNvSpPr/>
            <p:nvPr/>
          </p:nvSpPr>
          <p:spPr>
            <a:xfrm>
              <a:off x="969840" y="2568600"/>
              <a:ext cx="180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看新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矩形 16397"/>
            <p:cNvSpPr/>
            <p:nvPr/>
          </p:nvSpPr>
          <p:spPr>
            <a:xfrm>
              <a:off x="4897080" y="2568600"/>
              <a:ext cx="2302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宋体"/>
                </a:rPr>
                <a:t>(</a:t>
              </a:r>
              <a:r>
                <a:rPr b="1" lang="zh-CN" sz="2400" spc="-1" strike="noStrike">
                  <a:solidFill>
                    <a:srgbClr val="ff0000"/>
                  </a:solidFill>
                  <a:latin typeface="宋体"/>
                </a:rPr>
                <a:t>第五段</a:t>
              </a:r>
              <a:r>
                <a:rPr b="1" lang="en-US" sz="2400" spc="-1" strike="noStrike">
                  <a:solidFill>
                    <a:srgbClr val="ff0000"/>
                  </a:solidFill>
                  <a:latin typeface="宋体"/>
                </a:rPr>
                <a:t>—</a:t>
              </a:r>
              <a:r>
                <a:rPr b="1" lang="zh-CN" sz="2400" spc="-1" strike="noStrike">
                  <a:solidFill>
                    <a:srgbClr val="ff0000"/>
                  </a:solidFill>
                  <a:latin typeface="宋体"/>
                </a:rPr>
                <a:t>第二十二段</a:t>
              </a:r>
              <a:r>
                <a:rPr b="1" lang="en-US" sz="2400" spc="-1" strike="noStrike">
                  <a:solidFill>
                    <a:srgbClr val="ff0000"/>
                  </a:solidFill>
                  <a:latin typeface="宋体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矩形 16398"/>
            <p:cNvSpPr/>
            <p:nvPr/>
          </p:nvSpPr>
          <p:spPr>
            <a:xfrm>
              <a:off x="2871000" y="2568600"/>
              <a:ext cx="90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(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发展</a:t>
              </a: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8" name="组合 16399"/>
          <p:cNvGrpSpPr/>
          <p:nvPr/>
        </p:nvGrpSpPr>
        <p:grpSpPr>
          <a:xfrm>
            <a:off x="993600" y="3255840"/>
            <a:ext cx="7619760" cy="478800"/>
            <a:chOff x="993600" y="3255840"/>
            <a:chExt cx="7619760" cy="478800"/>
          </a:xfrm>
        </p:grpSpPr>
        <p:sp>
          <p:nvSpPr>
            <p:cNvPr id="669" name="文本框 16400"/>
            <p:cNvSpPr/>
            <p:nvPr/>
          </p:nvSpPr>
          <p:spPr>
            <a:xfrm>
              <a:off x="993600" y="3274920"/>
              <a:ext cx="2498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穿新装展新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文本框 16401"/>
            <p:cNvSpPr/>
            <p:nvPr/>
          </p:nvSpPr>
          <p:spPr>
            <a:xfrm>
              <a:off x="3948840" y="3274920"/>
              <a:ext cx="4664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宋体"/>
                </a:rPr>
                <a:t>        </a:t>
              </a:r>
              <a:r>
                <a:rPr b="1" lang="zh-CN" sz="2400" spc="-1" strike="noStrike">
                  <a:solidFill>
                    <a:srgbClr val="ff0000"/>
                  </a:solidFill>
                  <a:latin typeface="宋体"/>
                </a:rPr>
                <a:t>（二十三段</a:t>
              </a:r>
              <a:r>
                <a:rPr b="1" lang="en-US" sz="2400" spc="-1" strike="noStrike">
                  <a:solidFill>
                    <a:srgbClr val="ff0000"/>
                  </a:solidFill>
                  <a:latin typeface="宋体"/>
                </a:rPr>
                <a:t>—</a:t>
              </a:r>
              <a:r>
                <a:rPr b="1" lang="zh-CN" sz="2400" spc="-1" strike="noStrike">
                  <a:solidFill>
                    <a:srgbClr val="ff0000"/>
                  </a:solidFill>
                  <a:latin typeface="宋体"/>
                </a:rPr>
                <a:t>结尾）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文本框 16402"/>
            <p:cNvSpPr/>
            <p:nvPr/>
          </p:nvSpPr>
          <p:spPr>
            <a:xfrm>
              <a:off x="3066840" y="3255840"/>
              <a:ext cx="1510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（高潮</a:t>
              </a: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.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结局）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72" name="图片 1" descr="图片1"/>
          <p:cNvPicPr/>
          <p:nvPr/>
        </p:nvPicPr>
        <p:blipFill>
          <a:blip r:embed="rId3"/>
          <a:stretch/>
        </p:blipFill>
        <p:spPr>
          <a:xfrm>
            <a:off x="3451320" y="3914640"/>
            <a:ext cx="2438280" cy="2319480"/>
          </a:xfrm>
          <a:prstGeom prst="rect">
            <a:avLst/>
          </a:prstGeom>
          <a:ln w="0">
            <a:noFill/>
          </a:ln>
        </p:spPr>
      </p:pic>
      <p:sp>
        <p:nvSpPr>
          <p:cNvPr id="673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4" name="图片 17409" descr="e"/>
          <p:cNvPicPr/>
          <p:nvPr/>
        </p:nvPicPr>
        <p:blipFill>
          <a:blip r:embed="rId1"/>
          <a:srcRect l="48817" t="42311" r="3855" b="19231"/>
          <a:stretch/>
        </p:blipFill>
        <p:spPr>
          <a:xfrm>
            <a:off x="3809880" y="762120"/>
            <a:ext cx="1600200" cy="1500120"/>
          </a:xfrm>
          <a:prstGeom prst="rect">
            <a:avLst/>
          </a:prstGeom>
          <a:ln w="0">
            <a:noFill/>
          </a:ln>
        </p:spPr>
      </p:pic>
      <p:sp>
        <p:nvSpPr>
          <p:cNvPr id="675" name="文本框 17410"/>
          <p:cNvSpPr/>
          <p:nvPr/>
        </p:nvSpPr>
        <p:spPr>
          <a:xfrm>
            <a:off x="3962520" y="214776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138f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皇  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文本框 17411"/>
          <p:cNvSpPr/>
          <p:nvPr/>
        </p:nvSpPr>
        <p:spPr>
          <a:xfrm>
            <a:off x="6645240" y="3111480"/>
            <a:ext cx="10335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8138f"/>
                </a:solidFill>
                <a:latin typeface="Times New Roman"/>
              </a:rPr>
              <a:t>骗 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文本框 17412"/>
          <p:cNvSpPr/>
          <p:nvPr/>
        </p:nvSpPr>
        <p:spPr>
          <a:xfrm>
            <a:off x="4267080" y="3276720"/>
            <a:ext cx="1219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直接连接符 17413"/>
          <p:cNvSpPr/>
          <p:nvPr/>
        </p:nvSpPr>
        <p:spPr>
          <a:xfrm>
            <a:off x="4648320" y="2514600"/>
            <a:ext cx="0" cy="8380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直接连接符 17414"/>
          <p:cNvSpPr/>
          <p:nvPr/>
        </p:nvSpPr>
        <p:spPr>
          <a:xfrm flipH="1">
            <a:off x="5028840" y="3200400"/>
            <a:ext cx="1066680" cy="5335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直接连接符 17415"/>
          <p:cNvSpPr/>
          <p:nvPr/>
        </p:nvSpPr>
        <p:spPr>
          <a:xfrm flipH="1" flipV="1">
            <a:off x="4876920" y="4038120"/>
            <a:ext cx="1295280" cy="1295640"/>
          </a:xfrm>
          <a:prstGeom prst="line">
            <a:avLst/>
          </a:prstGeom>
          <a:ln w="7632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直接连接符 17416"/>
          <p:cNvSpPr/>
          <p:nvPr/>
        </p:nvSpPr>
        <p:spPr>
          <a:xfrm flipV="1">
            <a:off x="3429000" y="3962160"/>
            <a:ext cx="990720" cy="990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直接连接符 17417"/>
          <p:cNvSpPr/>
          <p:nvPr/>
        </p:nvSpPr>
        <p:spPr>
          <a:xfrm>
            <a:off x="2895480" y="3200400"/>
            <a:ext cx="144792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文本框 17418"/>
          <p:cNvSpPr/>
          <p:nvPr/>
        </p:nvSpPr>
        <p:spPr>
          <a:xfrm>
            <a:off x="7426080" y="5105520"/>
            <a:ext cx="1033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8138f"/>
                </a:solidFill>
                <a:latin typeface="Times New Roman"/>
              </a:rPr>
              <a:t>小 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文本框 17419"/>
          <p:cNvSpPr/>
          <p:nvPr/>
        </p:nvSpPr>
        <p:spPr>
          <a:xfrm>
            <a:off x="5181480" y="29718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文本框 17420"/>
          <p:cNvSpPr/>
          <p:nvPr/>
        </p:nvSpPr>
        <p:spPr>
          <a:xfrm>
            <a:off x="4038480" y="266688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文本框 17421"/>
          <p:cNvSpPr/>
          <p:nvPr/>
        </p:nvSpPr>
        <p:spPr>
          <a:xfrm>
            <a:off x="3200400" y="327672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文本框 17422"/>
          <p:cNvSpPr/>
          <p:nvPr/>
        </p:nvSpPr>
        <p:spPr>
          <a:xfrm>
            <a:off x="3657600" y="44197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椭圆 17423"/>
          <p:cNvSpPr/>
          <p:nvPr/>
        </p:nvSpPr>
        <p:spPr>
          <a:xfrm>
            <a:off x="5105520" y="4191120"/>
            <a:ext cx="761760" cy="761760"/>
          </a:xfrm>
          <a:prstGeom prst="ellipse">
            <a:avLst/>
          </a:prstGeom>
          <a:solidFill>
            <a:srgbClr val="ffccff"/>
          </a:solidFill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9" name="组合 17426"/>
          <p:cNvGrpSpPr/>
          <p:nvPr/>
        </p:nvGrpSpPr>
        <p:grpSpPr>
          <a:xfrm>
            <a:off x="1828800" y="1676520"/>
            <a:ext cx="1174680" cy="2108880"/>
            <a:chOff x="1828800" y="1676520"/>
            <a:chExt cx="1174680" cy="2108880"/>
          </a:xfrm>
        </p:grpSpPr>
        <p:pic>
          <p:nvPicPr>
            <p:cNvPr id="690" name="图片 17427" descr=""/>
            <p:cNvPicPr/>
            <p:nvPr/>
          </p:nvPicPr>
          <p:blipFill>
            <a:blip r:embed="rId2"/>
            <a:stretch/>
          </p:blipFill>
          <p:spPr>
            <a:xfrm>
              <a:off x="1828800" y="1676520"/>
              <a:ext cx="1174680" cy="148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1" name="矩形 17428"/>
            <p:cNvSpPr/>
            <p:nvPr/>
          </p:nvSpPr>
          <p:spPr>
            <a:xfrm>
              <a:off x="2172600" y="338652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2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大臣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2" name="组合 17429"/>
          <p:cNvGrpSpPr/>
          <p:nvPr/>
        </p:nvGrpSpPr>
        <p:grpSpPr>
          <a:xfrm>
            <a:off x="1828800" y="4114800"/>
            <a:ext cx="1599840" cy="2065320"/>
            <a:chOff x="1828800" y="4114800"/>
            <a:chExt cx="1599840" cy="2065320"/>
          </a:xfrm>
        </p:grpSpPr>
        <p:graphicFrame>
          <p:nvGraphicFramePr>
            <p:cNvPr id="693" name="对象 17430"/>
            <p:cNvGraphicFramePr/>
            <p:nvPr/>
          </p:nvGraphicFramePr>
          <p:xfrm>
            <a:off x="1828800" y="4114800"/>
            <a:ext cx="1421640" cy="14580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694" name="对象 17430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828800" y="4114800"/>
                      <a:ext cx="1421640" cy="1458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95" name="文本框 17431"/>
            <p:cNvSpPr/>
            <p:nvPr/>
          </p:nvSpPr>
          <p:spPr>
            <a:xfrm>
              <a:off x="2205000" y="5781240"/>
              <a:ext cx="1223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百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96" name="图片 17432" descr="b"/>
          <p:cNvPicPr/>
          <p:nvPr/>
        </p:nvPicPr>
        <p:blipFill>
          <a:blip r:embed="rId5"/>
          <a:srcRect l="3296" t="35337" r="24227" b="0"/>
          <a:stretch/>
        </p:blipFill>
        <p:spPr>
          <a:xfrm>
            <a:off x="6400800" y="4267080"/>
            <a:ext cx="1380960" cy="1905120"/>
          </a:xfrm>
          <a:prstGeom prst="rect">
            <a:avLst/>
          </a:prstGeom>
          <a:ln w="0">
            <a:noFill/>
          </a:ln>
        </p:spPr>
      </p:pic>
      <p:pic>
        <p:nvPicPr>
          <p:cNvPr id="697" name="图片 17433" descr="d"/>
          <p:cNvPicPr/>
          <p:nvPr/>
        </p:nvPicPr>
        <p:blipFill>
          <a:blip r:embed="rId6"/>
          <a:srcRect l="0" t="28263" r="3123" b="4349"/>
          <a:stretch/>
        </p:blipFill>
        <p:spPr>
          <a:xfrm>
            <a:off x="6302520" y="1033560"/>
            <a:ext cx="2133360" cy="2133360"/>
          </a:xfrm>
          <a:prstGeom prst="rect">
            <a:avLst/>
          </a:prstGeom>
          <a:ln w="0">
            <a:noFill/>
          </a:ln>
        </p:spPr>
      </p:pic>
      <p:sp>
        <p:nvSpPr>
          <p:cNvPr id="698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09T08:14:18Z</dcterms:created>
  <dc:creator>语文备课大师【全免费】</dc:creator>
  <dc:description>语文备课大师【全免费】</dc:description>
  <cp:keywords/>
  <dc:language>en-US</dc:language>
  <cp:lastModifiedBy>xuhuachang</cp:lastModifiedBy>
  <dcterms:modified xsi:type="dcterms:W3CDTF">2017-09-16T18:21:24Z</dcterms:modified>
  <cp:revision>0</cp:revision>
  <dc:subject/>
  <dc:title>语文备课大师【全免费】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850</vt:lpwstr>
  </property>
</Properties>
</file>