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</p:sldIdLst>
  <p:sldSz cx="18003838" cy="1116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0A21-73E2-4D5D-B4E4-F9A940B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C8A0-331E-44D4-9400-94FD65F1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1325F-D004-46FA-B7EB-A536BAF5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5B055-0C16-438D-8BF6-C52B890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0E41-C4A8-4DF1-B0E0-0DF765D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977B-6ADA-4E8F-BCE9-0A7788A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C8EB-8808-4C4C-9AC6-330C8635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3830B-2DF2-4FBE-8E76-0D5DCADC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A7106-C4C0-4B8D-B4B5-5C870AE8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F6393-F30E-4827-B803-589E8F57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53E0-0C4C-47AB-8CD2-7FC8DBDD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99AF8-01F9-45ED-A8E2-1EB05E83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A7E8C-A2DB-4089-85DA-BC9AFD01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3FC71-7D51-48AE-A2CC-58BA8110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B6478-FA94-4A77-A311-6960FDF8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D19B4-CF19-4DF3-B042-9D62A7C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25CCA-343D-4605-926A-27D30C1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3310D-E04A-445E-8F82-563E123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A31CB-348D-4682-B09E-7B80BF9B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D705E-46CA-4851-A22F-F14EC389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AC64D-2991-4749-8491-BFC968F3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0CD8B-4A13-46D2-8CFC-5704928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6EBF7-AD08-4779-AB0A-E00FA45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58C86-CAED-4517-874D-0ECA0284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11495-2313-44C4-8A14-75EB42D8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704B5-E4C7-4A80-A9E2-E6F3F96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109C9-2981-4CD1-A3A5-6E52BA95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A524D-664A-46CD-B50F-996BC9E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1FC66-7BBE-4BC2-A619-0F96612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87B33-BBF6-4A6B-ACB9-77B2B14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0D7-7847-4A62-B5E4-F223FE41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774C5-1F50-47F6-9915-6A14229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49932-5A3C-40AD-B3D9-39D04AE6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824B1-A821-4292-9CD4-86220F09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5AC33-B03E-4698-A3F1-C8863748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329D-1548-4480-A51F-77B82D36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71F90-5C5E-44CA-BD90-E7641B89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95C9-88C2-4ED4-AFCC-3AEE7AC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22C97-B26D-42FA-80FD-CD9208C5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773D9-4788-4B58-A017-0B40911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4DD3A-270D-4B38-B4FF-BB71B67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F85-0810-4A38-8443-7FE9A4A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F32B1-E5E0-4574-A499-E36F304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53BCB-9F59-42D2-9033-A89B8A5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A362E-EEFC-4C8A-BBE4-2F3827A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65E22-05B6-48ED-A31A-D2D7EC2F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A45D-DD17-454F-92A8-E3F79957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4EE3D-3462-4F45-87FE-BE8C70DC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21B31-8DC3-4B22-A517-C05E18F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D9653-3971-4DCF-83CE-468B91A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D964B-EB6E-441D-84BC-5051CCC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8F749-9C0D-4C34-9DC2-FFA42F3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59F-36CB-48D3-944E-8539A52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47541-62A5-43AC-B65D-344F8DA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8CCA-313B-4A71-B575-2F24556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8F10C-B989-4738-9778-9807249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C6AB6-063C-42CF-B55C-F6A13B3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27BEA-4C70-4FF6-B4D8-AB51A87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3FDE3-7F1D-4D17-BDDA-612CC6A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1959A-CC32-4424-B0EE-8361CB47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921AA-E0C7-4E59-9280-E44A0D82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FD372-0FCE-4B56-AEF0-ECB176A7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670AD-6058-4A7E-91F8-E7AFBF0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CC5-FCCB-4696-896C-72C2261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C555D-8CB2-4484-8061-A27FAEE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46DD3-EB55-4DF2-9384-3618211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67DA7-25FF-44EA-B03A-BA265B5F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670E9-64FD-4B78-BB66-C45BE82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64A86-269B-4BE7-8C9D-2B435CD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DE34F-8E25-47D6-9328-761DF03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4F76A-8891-498E-B8EB-C78CA6A1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26F02-5BE2-4530-90EC-3F321DAC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9653B-D471-40D1-8A4A-300927D3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FADBD-60FB-4C79-BF19-D0AEDF6A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576-8F5E-4E3C-A6CE-A8812040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5063C-4224-4A1F-B198-D1F59250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DBED1-E112-4429-A9E4-F2075E68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D224C-8152-4FC4-B686-83C922CC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7E4A8-E4EE-418B-A9D5-EF83B37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27C84-7FAC-4C7B-A524-19860EE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20F61-F8FA-42F8-B351-A0A912B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67E50-7273-4967-851B-1D2307C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808E0-34B2-430E-ACC8-F2C6593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1F2EC-72DC-4D71-818D-C4A7E37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D574D-8614-4C44-BAAC-9E1173E1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9EC-D709-4D60-AA39-1A457B6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80BBB-716E-4235-A991-4CD0C2D6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39CB8-91F1-4E48-8FA5-5CA677FC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E39F5-9115-4192-9E63-93D5D2B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D0417-1E39-4B8C-8982-B7A5282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82311-A8D7-4695-9534-EC40CBD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A7DDE-C442-4B8F-B3A1-F3484D6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EAC99-4F9A-4DA6-BE5D-6604D23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834C4-A1EB-429B-A1A8-E702764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D31A4-7EAA-4295-B1AC-BCC3EEC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5E8B2-AB2C-4545-A661-D6EC02D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13-8E76-4710-AD38-7F48B959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720DB-C386-423A-B893-35F402F3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D6C4A-AD08-43A5-87F3-DB4211F8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3C0C7-681B-400B-B73E-A3BBAA1D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BCD42-1CF9-42D7-A2A8-71D47203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E8B81-FBE2-43F2-8244-5D62E0B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8068A-C690-462A-9DEF-472B6EF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6399B-027D-425C-AA1E-9F4E242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88E5F-BC00-4DBF-9E6C-E8A08225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F6EB0-D340-4A70-8C18-966F01DB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A1CCC-6511-40DE-B89F-33D4E3A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2B2-4A91-4168-B328-21EFD00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F3840-E8FA-4190-B55F-0221E76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799B9-0E87-4C8C-83FB-6AEDFFF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54631-683D-4C5B-BEA9-731AA0B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3E7E1-2411-470A-A872-C0278F2F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AE172-2002-416C-8424-A5A4DCD6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872-FFF7-475C-9045-73D6F4D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120-1184-4FB3-8950-5DC65AD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529-81FD-4713-8498-5A3F99F9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00A-F560-4F28-9E98-9B193680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BDF21-4497-41A4-B9C5-C2C6194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19070-6C29-499E-88C9-82E56BC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B0DE5-9BC0-4F68-87C7-738C503C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04565-9FF4-4886-9866-6598BF0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B6005-0E26-4F31-BF19-A489F077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961EF-4474-4227-96D4-4164EE0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56C08-31B4-4708-BEDB-FB1D642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B902F-04B1-4143-9D85-5DF314FC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E3282-28C6-40DA-A6AF-4B51F011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B125-CAFB-49C8-8F6B-EED47D63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C16D7-9177-4886-ADCD-7D388DD4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ED5E8-18AA-4A11-B55F-883A56A5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8F913-D4F0-4152-B50A-7E8BED21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031BB-2D09-4BC8-9005-7C51BD3D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7B4C6-436C-472D-BD4D-7293FCF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AD2DF-5012-40B6-A443-3003DD8A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31B7E-A9B1-40BD-825C-A8BBECE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7BC77-43BE-4E84-9F9F-3634E209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F98FB-F677-4929-B6E7-56E430C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54432-F417-44EB-B2B8-BE96EE2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C2A6-248C-42FF-8939-B17836B2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CA911-A313-4015-8CEA-7F9DC925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2C9B3-64CD-4A5B-8FD6-23FE05D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1BB5C-DF00-4BFA-A9B5-EA15C291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19F35-FF50-4A29-941A-3585B632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CCA7F-4614-4DB3-BCCD-BBF4C091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2169F-F343-411B-A069-62000AB8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83B29-C390-438F-9AC2-EAB4BBF8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294BD-5EFF-400E-884C-560BE918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4B3AA-6A5C-43AF-82D5-B2BB773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292AE1-B01B-4FA4-83EA-94D32780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7CD-2D07-47C1-84A9-8644BC0C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AD59D-8969-4BB8-96A6-E88AAED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E2710-B9D4-43FE-93DB-E8722539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70E19-E0D6-4164-8411-144E5BE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627CD-3D45-4054-A326-FA54D5A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3B974-872F-4D7D-9355-B5D705CC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71F88-5E76-4878-A35E-AD465180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48975-C5B4-479E-AD61-E8538805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42C070-81EC-4CE9-B315-8A655554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1E062-0698-4C79-BE52-4FC835A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1EE5CF-62C9-4DA1-B34B-2F7D19A5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17F4-DAF7-4179-825C-EFB038E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2D4C5-6498-4AF8-863C-1E95850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48AC9-1556-4564-A86D-09CBE911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A35FC2-F1CF-4D42-808C-E874799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D9336-E13B-4073-8582-FA65DBF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F977C-0D68-45D6-930D-026E369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02D81-8D5B-4F9F-A846-AC0ADE0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EC53E-1AE9-40A7-BBD8-2AA95375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B32E4-2E3A-4B31-8A0C-FFF329C8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FA124-B613-4124-8A0F-213CE336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A9D315-AF21-4A2E-AE5E-D94B8252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3909-0607-4E7B-BE86-3B0B87C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14F843-08FA-45A6-A15C-976D845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FA7ADF-53B5-4A58-969A-3BBBC1B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CDE2C-CFBD-4A6D-B9F7-F29C9C4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32F870-326D-441E-AF47-1F1AF03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3D7565-EDD8-4E25-8121-1F523427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122228-C526-4427-92B8-C465603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78FC67-807D-44F9-9904-347AAAA9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87B9D4-FF38-49AF-9E66-BA5300C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003A9-A0AC-4521-91B4-CA958284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2A87A-0A3E-492D-84C0-E1E1E617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7018-2F3E-43E1-825A-959B1109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5A679F-FD8D-4A6A-9484-13F18F04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EB14-5B4B-42E8-962A-FCFE11C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1A75-C972-4114-BDC6-368DBC3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DA1-CBCC-43A8-954B-1B6ECCE8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5DE-6734-4A70-8AE7-0F17311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7943-974B-4B64-98C2-0B0E7681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CDFE-3C95-4A4A-B348-4EDC8469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C26B-59A4-40DF-A5C8-1F2D7AA8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E7F3-B6CA-420A-8CAF-29DAECC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B502-5CB6-4966-B875-EAC86277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9711-30EF-4D98-9890-FFC4ABD5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DD02-D56C-4AF0-8900-7FCE25D2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202D-B5D1-4004-8CDD-74FDEE9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BE16-80C7-4A2F-976B-FD416ACA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F0C8-CB0D-4AD7-8068-9F8DD20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C112-C7A0-451D-83D1-E1A4A85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9FB0-5F39-4134-B638-B6755ED2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5B84-04FF-4CAB-B083-2FAFA7BA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33C4-8888-4017-878F-58C56CD1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E815-8BD5-4E8F-97C2-7B7FD80D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A9AF-F2C1-4EFB-8994-B74DF3B0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143B-AB8B-45C4-82EE-F1D9141A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84BF-B263-42BB-81A9-4352121F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29D1-705E-4D83-9BE3-4EBC81F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AF8A-7D49-4E57-BE05-C538AD1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61F7-E1B3-46DB-BE37-DC2F449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200F-6A51-4E5B-B28A-70991BF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8706-D9DB-47C3-983D-AF72958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3315-778F-4387-AFC0-25E16FDD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2C68-3235-470C-8C0E-77214FE1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DF13-215F-41FC-9FB5-0D577A98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2404-30EC-4239-B07B-F0A0012B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DCDC-A5BE-471E-994E-1D44385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6D8A-F136-4AB0-B650-92A88D53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9797-9A91-47BE-ADEE-89B55BE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29D6-9715-4381-8942-F75C620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2CB6-A886-4BE1-89DB-2DF689AB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19F57-A0B6-45A4-AB00-D3B4F0C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BF0C-451C-4B2C-AB8A-06F90A8C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3C27-7B78-45E3-BC49-D47A4FB5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6E45-4F15-4F59-A5D3-42232A7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5B1E1-2875-4B89-A27B-99155CE5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B38B-1D94-4E96-BEF7-35BC3EC9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758B-8586-4C3B-AC03-C140AB24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66E8-170F-4531-B0CF-E8214E33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095A9-F9AB-423E-8434-F5147FA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2448F-5F11-4CE3-8900-D81077D1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BDD6-7E8B-4AE8-8C23-F134885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F337-CFEB-4620-B8D9-EA3ADD27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2D45-828C-431A-99B1-933EFA5A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C622-36DF-4DCC-AD93-595E2C8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05C5-DBBC-4C5C-89AE-43D320C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DC37-165D-40B6-B46F-A4C0B6E8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E0F7F-903E-44D7-B8FF-D356EA1B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1F4F3-6BC3-431F-AE7E-FA04D124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F561-F4A9-4938-80B8-BC6A97B5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43CA-0EB3-4911-A24B-12645A0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33B9-A940-4CB4-B24C-93B2CF20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6ADC-A115-4202-B527-DD149DE3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84FF2-D296-4122-B0EC-BA32D6E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B901E-A8A9-441D-9D7A-FA03222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61D5D-CDFB-4924-97BB-EBE9225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9419D-24CE-4F46-A610-44986DB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D06A-8F03-4F87-9A35-23861EA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46BC-6748-4E74-AF38-A42F0BEC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7A1A-4537-4DB2-8874-07663E01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4DEF-3570-415C-8710-FB27B7E3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BD1C6-F7C4-471B-9CA4-1405105D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BC30-245D-431F-94DD-A3CE772D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220E7-0D86-4319-AB9A-1305B662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77.xml"/><Relationship Id="rId11" Type="http://schemas.openxmlformats.org/officeDocument/2006/relationships/slideLayout" Target="../slideLayouts/slideLayout278.xml"/><Relationship Id="rId12" Type="http://schemas.openxmlformats.org/officeDocument/2006/relationships/slideLayout" Target="../slideLayouts/slideLayout279.xml"/><Relationship Id="rId13" Type="http://schemas.openxmlformats.org/officeDocument/2006/relationships/slideLayout" Target="../slideLayouts/slideLayout280.xml"/><Relationship Id="rId14" Type="http://schemas.openxmlformats.org/officeDocument/2006/relationships/slideLayout" Target="../slideLayouts/slideLayout281.xml"/><Relationship Id="rId15" Type="http://schemas.openxmlformats.org/officeDocument/2006/relationships/slideLayout" Target="../slideLayouts/slideLayout282.xml"/><Relationship Id="rId16" Type="http://schemas.openxmlformats.org/officeDocument/2006/relationships/slideLayout" Target="../slideLayouts/slideLayout283.xml"/><Relationship Id="rId17" Type="http://schemas.openxmlformats.org/officeDocument/2006/relationships/slideLayout" Target="../slideLayouts/slideLayout284.xml"/><Relationship Id="rId18" Type="http://schemas.openxmlformats.org/officeDocument/2006/relationships/slideLayout" Target="../slideLayouts/slideLayout285.xml"/><Relationship Id="rId19" Type="http://schemas.openxmlformats.org/officeDocument/2006/relationships/slideLayout" Target="../slideLayouts/slideLayout286.xml"/><Relationship Id="rId20" Type="http://schemas.openxmlformats.org/officeDocument/2006/relationships/slideLayout" Target="../slideLayouts/slideLayout287.xml"/><Relationship Id="rId21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5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6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7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6F9-702F-4EBB-A3F0-BB80DF516F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dt" idx="28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9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30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33D-E91A-47B0-A039-DF5F558E290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dt" idx="31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32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33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A1E-8C91-40C7-9DE7-C2A3FEAA796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dt" idx="34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ftr" idx="35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6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6EF6-479A-4065-8C5D-F88DDF8025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dt" idx="37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38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39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305B-2E1F-48F3-9D33-23A8B6D0D2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600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dt" idx="40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ftr" idx="41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42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008-E788-4072-8070-39B557C458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dt" idx="43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44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45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614-CFB3-4EA4-9BA0-237054BE1D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682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dt" idx="46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47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48"/>
          </p:nvPr>
        </p:nvSpPr>
        <p:spPr>
          <a:xfrm>
            <a:off x="12901680" y="10169640"/>
            <a:ext cx="374976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A08-CFCE-413D-BF60-3A9962B78281}" type="slidenum"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723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dt" idx="49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ftr" idx="50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3880" indent="-6238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52056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2" marL="2082960" indent="-4161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2916360" indent="-416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3747960" indent="-415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3747960" indent="-415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3747960" indent="-415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76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dt" idx="51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ftr" idx="52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3640" y="1116000"/>
            <a:ext cx="1681488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0120" y="3224160"/>
            <a:ext cx="16814880" cy="632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4000"/>
          </a:bodyPr>
          <a:p>
            <a:pPr marL="523800" indent="-523800">
              <a:spcBef>
                <a:spcPts val="1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1" marL="1135800" indent="-435960">
              <a:spcBef>
                <a:spcPts val="145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2" marL="1748160" indent="-349200">
              <a:spcBef>
                <a:spcPts val="145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3" marL="2448000" indent="-349200">
              <a:spcBef>
                <a:spcPts val="1451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4" marL="3148200" indent="-349200">
              <a:spcBef>
                <a:spcPts val="1451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5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6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593280" y="9798120"/>
            <a:ext cx="450684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8CB9-2670-485A-A915-B57F30534318}" type="datetime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6151320" y="9798120"/>
            <a:ext cx="570060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12901320" y="9798120"/>
            <a:ext cx="450684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E15-F432-423B-8DFF-016423B1605D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dt" idx="53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ftr" idx="54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dt" idx="55"/>
          </p:nvPr>
        </p:nvSpPr>
        <p:spPr>
          <a:xfrm>
            <a:off x="90000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ftr" idx="56"/>
          </p:nvPr>
        </p:nvSpPr>
        <p:spPr>
          <a:xfrm>
            <a:off x="6151320" y="10164600"/>
            <a:ext cx="570060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sldNum" idx="57"/>
          </p:nvPr>
        </p:nvSpPr>
        <p:spPr>
          <a:xfrm>
            <a:off x="1290168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9945-1359-4E3F-B939-FA884E7259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886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695160" y="3370320"/>
            <a:ext cx="162021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83160" bIns="83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8000" spc="-1" strike="noStrike">
                <a:solidFill>
                  <a:srgbClr val="1f497d"/>
                </a:solidFill>
                <a:latin typeface="Calibri"/>
                <a:ea typeface="黑体"/>
              </a:rPr>
              <a:t>祝同学们学习愉快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dt" idx="58"/>
          </p:nvPr>
        </p:nvSpPr>
        <p:spPr>
          <a:xfrm>
            <a:off x="90000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ftr" idx="59"/>
          </p:nvPr>
        </p:nvSpPr>
        <p:spPr>
          <a:xfrm>
            <a:off x="6151320" y="10164600"/>
            <a:ext cx="569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sldNum" idx="60"/>
          </p:nvPr>
        </p:nvSpPr>
        <p:spPr>
          <a:xfrm>
            <a:off x="1290168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304-974D-45C4-B6C6-99D101F009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93640" y="1116000"/>
            <a:ext cx="1681488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00120" y="3224160"/>
            <a:ext cx="16814880" cy="632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4000"/>
          </a:bodyPr>
          <a:p>
            <a:pPr marL="523800" indent="-523800">
              <a:spcBef>
                <a:spcPts val="1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1" marL="1135800" indent="-435960">
              <a:spcBef>
                <a:spcPts val="145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2" marL="1748160" indent="-349200">
              <a:spcBef>
                <a:spcPts val="145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3" marL="2448000" indent="-349200">
              <a:spcBef>
                <a:spcPts val="1451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4" marL="3148200" indent="-349200">
              <a:spcBef>
                <a:spcPts val="1451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5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6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1"/>
          </p:nvPr>
        </p:nvSpPr>
        <p:spPr>
          <a:xfrm>
            <a:off x="593280" y="9890280"/>
            <a:ext cx="4506840" cy="7761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B39F-2575-4BE7-87CD-CD14C7839793}" type="datetime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2"/>
          </p:nvPr>
        </p:nvSpPr>
        <p:spPr>
          <a:xfrm>
            <a:off x="6151320" y="9890280"/>
            <a:ext cx="5700600" cy="7761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3"/>
          </p:nvPr>
        </p:nvSpPr>
        <p:spPr>
          <a:xfrm>
            <a:off x="12901320" y="9890280"/>
            <a:ext cx="4506840" cy="7761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3637-511E-47B3-82DD-3DDE952B3D4C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"/>
          <p:cNvGrpSpPr/>
          <p:nvPr/>
        </p:nvGrpSpPr>
        <p:grpSpPr>
          <a:xfrm>
            <a:off x="0" y="0"/>
            <a:ext cx="18027000" cy="1231560"/>
            <a:chOff x="0" y="0"/>
            <a:chExt cx="18027000" cy="1231560"/>
          </a:xfrm>
        </p:grpSpPr>
        <p:sp>
          <p:nvSpPr>
            <p:cNvPr id="969" name="Freeform 3"/>
            <p:cNvSpPr/>
            <p:nvPr/>
          </p:nvSpPr>
          <p:spPr>
            <a:xfrm>
              <a:off x="15480" y="0"/>
              <a:ext cx="18011520" cy="123156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"/>
            <p:cNvSpPr/>
            <p:nvPr/>
          </p:nvSpPr>
          <p:spPr>
            <a:xfrm>
              <a:off x="0" y="252720"/>
              <a:ext cx="799920" cy="653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"/>
            <p:cNvSpPr/>
            <p:nvPr/>
          </p:nvSpPr>
          <p:spPr>
            <a:xfrm>
              <a:off x="174960" y="0"/>
              <a:ext cx="2212560" cy="118512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>
              <a:off x="409320" y="694440"/>
              <a:ext cx="784440" cy="5011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"/>
            <p:cNvSpPr/>
            <p:nvPr/>
          </p:nvSpPr>
          <p:spPr>
            <a:xfrm>
              <a:off x="1065960" y="0"/>
              <a:ext cx="496800" cy="186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"/>
            <p:cNvSpPr/>
            <p:nvPr/>
          </p:nvSpPr>
          <p:spPr>
            <a:xfrm>
              <a:off x="1524960" y="0"/>
              <a:ext cx="1421640" cy="558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4525200" y="95400"/>
              <a:ext cx="1294200" cy="278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"/>
            <p:cNvSpPr/>
            <p:nvPr/>
          </p:nvSpPr>
          <p:spPr>
            <a:xfrm>
              <a:off x="5594040" y="0"/>
              <a:ext cx="1625040" cy="58068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"/>
            <p:cNvSpPr/>
            <p:nvPr/>
          </p:nvSpPr>
          <p:spPr>
            <a:xfrm>
              <a:off x="6072480" y="397440"/>
              <a:ext cx="1347120" cy="60192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7069680" y="224640"/>
              <a:ext cx="1237320" cy="5860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"/>
            <p:cNvSpPr/>
            <p:nvPr/>
          </p:nvSpPr>
          <p:spPr>
            <a:xfrm>
              <a:off x="7076160" y="619560"/>
              <a:ext cx="1612080" cy="5760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"/>
            <p:cNvSpPr/>
            <p:nvPr/>
          </p:nvSpPr>
          <p:spPr>
            <a:xfrm>
              <a:off x="8510760" y="836640"/>
              <a:ext cx="1293480" cy="2581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5"/>
            <p:cNvSpPr/>
            <p:nvPr/>
          </p:nvSpPr>
          <p:spPr>
            <a:xfrm>
              <a:off x="9892080" y="968400"/>
              <a:ext cx="468360" cy="18540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6"/>
            <p:cNvSpPr/>
            <p:nvPr/>
          </p:nvSpPr>
          <p:spPr>
            <a:xfrm>
              <a:off x="10823400" y="689040"/>
              <a:ext cx="462600" cy="23544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7"/>
            <p:cNvSpPr/>
            <p:nvPr/>
          </p:nvSpPr>
          <p:spPr>
            <a:xfrm>
              <a:off x="11189160" y="149760"/>
              <a:ext cx="2931120" cy="40788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8"/>
            <p:cNvSpPr/>
            <p:nvPr/>
          </p:nvSpPr>
          <p:spPr>
            <a:xfrm>
              <a:off x="11520000" y="374040"/>
              <a:ext cx="1162800" cy="25344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9"/>
            <p:cNvSpPr/>
            <p:nvPr/>
          </p:nvSpPr>
          <p:spPr>
            <a:xfrm>
              <a:off x="11307240" y="795240"/>
              <a:ext cx="994320" cy="40788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0"/>
            <p:cNvSpPr/>
            <p:nvPr/>
          </p:nvSpPr>
          <p:spPr>
            <a:xfrm>
              <a:off x="10666800" y="751320"/>
              <a:ext cx="1187640" cy="449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1"/>
            <p:cNvSpPr/>
            <p:nvPr/>
          </p:nvSpPr>
          <p:spPr>
            <a:xfrm>
              <a:off x="13057920" y="483120"/>
              <a:ext cx="1634400" cy="1778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2"/>
            <p:cNvSpPr/>
            <p:nvPr/>
          </p:nvSpPr>
          <p:spPr>
            <a:xfrm>
              <a:off x="14654880" y="480240"/>
              <a:ext cx="1678320" cy="3096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3"/>
            <p:cNvSpPr/>
            <p:nvPr/>
          </p:nvSpPr>
          <p:spPr>
            <a:xfrm>
              <a:off x="15527520" y="805680"/>
              <a:ext cx="2499480" cy="3686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4"/>
            <p:cNvSpPr/>
            <p:nvPr/>
          </p:nvSpPr>
          <p:spPr>
            <a:xfrm>
              <a:off x="16620840" y="619560"/>
              <a:ext cx="1256400" cy="29664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25"/>
          <p:cNvGrpSpPr/>
          <p:nvPr/>
        </p:nvGrpSpPr>
        <p:grpSpPr>
          <a:xfrm>
            <a:off x="0" y="10058400"/>
            <a:ext cx="18050760" cy="224640"/>
            <a:chOff x="0" y="10058400"/>
            <a:chExt cx="18050760" cy="224640"/>
          </a:xfrm>
        </p:grpSpPr>
        <p:sp>
          <p:nvSpPr>
            <p:cNvPr id="992" name="Freeform 26"/>
            <p:cNvSpPr/>
            <p:nvPr/>
          </p:nvSpPr>
          <p:spPr>
            <a:xfrm>
              <a:off x="12628800" y="10096920"/>
              <a:ext cx="5421960" cy="1861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7"/>
            <p:cNvSpPr/>
            <p:nvPr/>
          </p:nvSpPr>
          <p:spPr>
            <a:xfrm>
              <a:off x="5397120" y="10073520"/>
              <a:ext cx="8296560" cy="15516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8"/>
            <p:cNvSpPr/>
            <p:nvPr/>
          </p:nvSpPr>
          <p:spPr>
            <a:xfrm>
              <a:off x="0" y="10058400"/>
              <a:ext cx="6378120" cy="159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2"/>
          <p:cNvGrpSpPr/>
          <p:nvPr/>
        </p:nvGrpSpPr>
        <p:grpSpPr>
          <a:xfrm>
            <a:off x="38160" y="1806480"/>
            <a:ext cx="18025200" cy="1231560"/>
            <a:chOff x="38160" y="1806480"/>
            <a:chExt cx="18025200" cy="1231560"/>
          </a:xfrm>
        </p:grpSpPr>
        <p:sp>
          <p:nvSpPr>
            <p:cNvPr id="996" name="Freeform 3"/>
            <p:cNvSpPr/>
            <p:nvPr/>
          </p:nvSpPr>
          <p:spPr>
            <a:xfrm>
              <a:off x="53640" y="1806480"/>
              <a:ext cx="18009720" cy="123156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"/>
            <p:cNvSpPr/>
            <p:nvPr/>
          </p:nvSpPr>
          <p:spPr>
            <a:xfrm>
              <a:off x="38160" y="2059200"/>
              <a:ext cx="799920" cy="653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"/>
            <p:cNvSpPr/>
            <p:nvPr/>
          </p:nvSpPr>
          <p:spPr>
            <a:xfrm>
              <a:off x="213120" y="1806480"/>
              <a:ext cx="2212200" cy="118512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"/>
            <p:cNvSpPr/>
            <p:nvPr/>
          </p:nvSpPr>
          <p:spPr>
            <a:xfrm>
              <a:off x="447480" y="2500920"/>
              <a:ext cx="784440" cy="5011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"/>
            <p:cNvSpPr/>
            <p:nvPr/>
          </p:nvSpPr>
          <p:spPr>
            <a:xfrm>
              <a:off x="1103760" y="1806480"/>
              <a:ext cx="496440" cy="186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"/>
            <p:cNvSpPr/>
            <p:nvPr/>
          </p:nvSpPr>
          <p:spPr>
            <a:xfrm>
              <a:off x="1563120" y="1806480"/>
              <a:ext cx="1421280" cy="558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9"/>
            <p:cNvSpPr/>
            <p:nvPr/>
          </p:nvSpPr>
          <p:spPr>
            <a:xfrm>
              <a:off x="4563000" y="1901880"/>
              <a:ext cx="1293840" cy="278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"/>
            <p:cNvSpPr/>
            <p:nvPr/>
          </p:nvSpPr>
          <p:spPr>
            <a:xfrm>
              <a:off x="5631840" y="1806480"/>
              <a:ext cx="1624680" cy="58068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"/>
            <p:cNvSpPr/>
            <p:nvPr/>
          </p:nvSpPr>
          <p:spPr>
            <a:xfrm>
              <a:off x="6109920" y="2203920"/>
              <a:ext cx="1347120" cy="60192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2"/>
            <p:cNvSpPr/>
            <p:nvPr/>
          </p:nvSpPr>
          <p:spPr>
            <a:xfrm>
              <a:off x="7107120" y="2031120"/>
              <a:ext cx="1237320" cy="5860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3"/>
            <p:cNvSpPr/>
            <p:nvPr/>
          </p:nvSpPr>
          <p:spPr>
            <a:xfrm>
              <a:off x="7113600" y="2426040"/>
              <a:ext cx="1612080" cy="5760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"/>
            <p:cNvSpPr/>
            <p:nvPr/>
          </p:nvSpPr>
          <p:spPr>
            <a:xfrm>
              <a:off x="8547840" y="2643120"/>
              <a:ext cx="1293120" cy="2581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"/>
            <p:cNvSpPr/>
            <p:nvPr/>
          </p:nvSpPr>
          <p:spPr>
            <a:xfrm>
              <a:off x="9929160" y="2774880"/>
              <a:ext cx="468360" cy="18540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6"/>
            <p:cNvSpPr/>
            <p:nvPr/>
          </p:nvSpPr>
          <p:spPr>
            <a:xfrm>
              <a:off x="10860480" y="2495520"/>
              <a:ext cx="462600" cy="23544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7"/>
            <p:cNvSpPr/>
            <p:nvPr/>
          </p:nvSpPr>
          <p:spPr>
            <a:xfrm>
              <a:off x="11226240" y="1956240"/>
              <a:ext cx="2931120" cy="40788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8"/>
            <p:cNvSpPr/>
            <p:nvPr/>
          </p:nvSpPr>
          <p:spPr>
            <a:xfrm>
              <a:off x="11557080" y="2180520"/>
              <a:ext cx="1162800" cy="25344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9"/>
            <p:cNvSpPr/>
            <p:nvPr/>
          </p:nvSpPr>
          <p:spPr>
            <a:xfrm>
              <a:off x="11344320" y="2601720"/>
              <a:ext cx="993960" cy="40788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0"/>
            <p:cNvSpPr/>
            <p:nvPr/>
          </p:nvSpPr>
          <p:spPr>
            <a:xfrm>
              <a:off x="10703880" y="2557800"/>
              <a:ext cx="1187640" cy="449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1"/>
            <p:cNvSpPr/>
            <p:nvPr/>
          </p:nvSpPr>
          <p:spPr>
            <a:xfrm>
              <a:off x="13095000" y="2289600"/>
              <a:ext cx="1634040" cy="1778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2"/>
            <p:cNvSpPr/>
            <p:nvPr/>
          </p:nvSpPr>
          <p:spPr>
            <a:xfrm>
              <a:off x="14691600" y="2286720"/>
              <a:ext cx="1677960" cy="3096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3"/>
            <p:cNvSpPr/>
            <p:nvPr/>
          </p:nvSpPr>
          <p:spPr>
            <a:xfrm>
              <a:off x="15563880" y="2612160"/>
              <a:ext cx="2499480" cy="3686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4"/>
            <p:cNvSpPr/>
            <p:nvPr/>
          </p:nvSpPr>
          <p:spPr>
            <a:xfrm>
              <a:off x="16657560" y="2426040"/>
              <a:ext cx="1256400" cy="29664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5"/>
          <p:cNvGrpSpPr/>
          <p:nvPr/>
        </p:nvGrpSpPr>
        <p:grpSpPr>
          <a:xfrm>
            <a:off x="41400" y="10028160"/>
            <a:ext cx="18050760" cy="223200"/>
            <a:chOff x="41400" y="10028160"/>
            <a:chExt cx="18050760" cy="223200"/>
          </a:xfrm>
        </p:grpSpPr>
        <p:sp>
          <p:nvSpPr>
            <p:cNvPr id="1019" name="Freeform 26"/>
            <p:cNvSpPr/>
            <p:nvPr/>
          </p:nvSpPr>
          <p:spPr>
            <a:xfrm>
              <a:off x="12670200" y="10066320"/>
              <a:ext cx="5421960" cy="18504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7"/>
            <p:cNvSpPr/>
            <p:nvPr/>
          </p:nvSpPr>
          <p:spPr>
            <a:xfrm>
              <a:off x="5438520" y="10043280"/>
              <a:ext cx="8296560" cy="15408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8"/>
            <p:cNvSpPr/>
            <p:nvPr/>
          </p:nvSpPr>
          <p:spPr>
            <a:xfrm>
              <a:off x="41400" y="10028160"/>
              <a:ext cx="6378120" cy="15876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350720" y="1251000"/>
            <a:ext cx="1530180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1350720" y="3223800"/>
            <a:ext cx="15301800" cy="66978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9000"/>
          </a:bodyPr>
          <a:p>
            <a:pPr marL="555120" indent="-555120"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1" marL="1203480" indent="-461880">
              <a:spcBef>
                <a:spcPts val="1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2" marL="1852200" indent="-369720">
              <a:spcBef>
                <a:spcPts val="1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3" marL="2593800" indent="-369720">
              <a:spcBef>
                <a:spcPts val="1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4" marL="3334320" indent="-369720">
              <a:spcBef>
                <a:spcPts val="1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5" marL="3334320" indent="-369720">
              <a:spcBef>
                <a:spcPts val="1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6" marL="3334320" indent="-369720">
              <a:spcBef>
                <a:spcPts val="1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4"/>
          </p:nvPr>
        </p:nvSpPr>
        <p:spPr>
          <a:xfrm>
            <a:off x="1350720" y="10333080"/>
            <a:ext cx="3749400" cy="7430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65"/>
          </p:nvPr>
        </p:nvSpPr>
        <p:spPr>
          <a:xfrm>
            <a:off x="6151320" y="10333080"/>
            <a:ext cx="5700600" cy="7430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66"/>
          </p:nvPr>
        </p:nvSpPr>
        <p:spPr>
          <a:xfrm>
            <a:off x="12901680" y="10333080"/>
            <a:ext cx="3749760" cy="7430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29BD-5E09-4EF5-BF8B-F9B20A9AA3B8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0"/>
    <p:sldLayoutId id="2147483949" r:id="rId11"/>
    <p:sldLayoutId id="2147483950" r:id="rId12"/>
    <p:sldLayoutId id="2147483951" r:id="rId13"/>
    <p:sldLayoutId id="2147483952" r:id="rId14"/>
    <p:sldLayoutId id="2147483953" r:id="rId15"/>
    <p:sldLayoutId id="2147483954" r:id="rId16"/>
    <p:sldLayoutId id="2147483955" r:id="rId17"/>
    <p:sldLayoutId id="2147483956" r:id="rId18"/>
    <p:sldLayoutId id="2147483957" r:id="rId19"/>
    <p:sldLayoutId id="2147483958" r:id="rId20"/>
    <p:sldLayoutId id="2147483959" r:id="rId21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" descr=""/>
          <p:cNvPicPr/>
          <p:nvPr/>
        </p:nvPicPr>
        <p:blipFill>
          <a:blip r:embed="rId2"/>
          <a:srcRect l="9083" t="0" r="0" b="0"/>
          <a:stretch/>
        </p:blipFill>
        <p:spPr>
          <a:xfrm>
            <a:off x="0" y="-17640"/>
            <a:ext cx="18089640" cy="11161800"/>
          </a:xfrm>
          <a:prstGeom prst="rect">
            <a:avLst/>
          </a:prstGeom>
          <a:ln w="0">
            <a:noFill/>
          </a:ln>
        </p:spPr>
      </p:pic>
      <p:sp>
        <p:nvSpPr>
          <p:cNvPr id="1064" name="PlaceHolder 1"/>
          <p:cNvSpPr>
            <a:spLocks noGrp="1"/>
          </p:cNvSpPr>
          <p:nvPr>
            <p:ph type="dt" idx="67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68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69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1C24-1CD7-4340-A2C3-1DC741DBF03A}" type="slidenum">
              <a:rPr b="0" lang="zh-TW" sz="2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3"/>
          <a:stretch/>
        </p:blipFill>
        <p:spPr>
          <a:xfrm>
            <a:off x="0" y="8485200"/>
            <a:ext cx="2895480" cy="2676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447480"/>
            <a:ext cx="15308280" cy="18586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80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0000" y="2604600"/>
            <a:ext cx="16202160" cy="73659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98000"/>
          </a:bodyPr>
          <a:p>
            <a:pPr marL="611280" indent="-61128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1" marL="1325160" indent="-50868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2" marL="2039400" indent="-40716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3" marL="2856240" indent="-40716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4" marL="3672720" indent="-40716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5" marL="3672720" indent="-407160">
              <a:spcBef>
                <a:spcPts val="1451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6" marL="3672720" indent="-407160">
              <a:spcBef>
                <a:spcPts val="1451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900000" y="10345320"/>
            <a:ext cx="4200480" cy="593640"/>
          </a:xfrm>
          <a:prstGeom prst="rect">
            <a:avLst/>
          </a:prstGeom>
          <a:noFill/>
          <a:ln w="0">
            <a:noFill/>
          </a:ln>
        </p:spPr>
        <p:txBody>
          <a:bodyPr lIns="499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6151320" y="10345320"/>
            <a:ext cx="5700600" cy="5936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12901680" y="10345320"/>
            <a:ext cx="4200480" cy="5936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83160" bIns="8316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8286-5FE3-488E-BE20-33D4CDD2864D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18027000" cy="1231560"/>
            <a:chOff x="0" y="0"/>
            <a:chExt cx="18027000" cy="1231560"/>
          </a:xfrm>
        </p:grpSpPr>
        <p:sp>
          <p:nvSpPr>
            <p:cNvPr id="122" name="Freeform 3"/>
            <p:cNvSpPr/>
            <p:nvPr/>
          </p:nvSpPr>
          <p:spPr>
            <a:xfrm>
              <a:off x="15480" y="0"/>
              <a:ext cx="18011520" cy="123156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0" y="252720"/>
              <a:ext cx="799920" cy="653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174960" y="0"/>
              <a:ext cx="2212560" cy="118512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409320" y="694440"/>
              <a:ext cx="784440" cy="5011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1065960" y="0"/>
              <a:ext cx="496800" cy="186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1524960" y="0"/>
              <a:ext cx="1421640" cy="558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525200" y="95400"/>
              <a:ext cx="1294200" cy="278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5594040" y="0"/>
              <a:ext cx="1625040" cy="58068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6072480" y="397440"/>
              <a:ext cx="1347120" cy="60192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7069680" y="224640"/>
              <a:ext cx="1237320" cy="5860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076160" y="619560"/>
              <a:ext cx="1612080" cy="5760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8510760" y="836640"/>
              <a:ext cx="1293480" cy="2581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9892080" y="968400"/>
              <a:ext cx="468360" cy="18540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10823400" y="689040"/>
              <a:ext cx="462600" cy="23544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11189160" y="149760"/>
              <a:ext cx="2931120" cy="40788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11520000" y="374040"/>
              <a:ext cx="1162800" cy="25344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11307240" y="795240"/>
              <a:ext cx="994320" cy="40788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0666800" y="751320"/>
              <a:ext cx="1187640" cy="449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13057920" y="483120"/>
              <a:ext cx="1634400" cy="1778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14654880" y="480240"/>
              <a:ext cx="1678320" cy="3096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15527520" y="805680"/>
              <a:ext cx="2499480" cy="3686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16620840" y="619560"/>
              <a:ext cx="1256400" cy="29664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0058400"/>
            <a:ext cx="18050760" cy="224640"/>
            <a:chOff x="0" y="10058400"/>
            <a:chExt cx="18050760" cy="224640"/>
          </a:xfrm>
        </p:grpSpPr>
        <p:sp>
          <p:nvSpPr>
            <p:cNvPr id="145" name="Freeform 26"/>
            <p:cNvSpPr/>
            <p:nvPr/>
          </p:nvSpPr>
          <p:spPr>
            <a:xfrm>
              <a:off x="12628800" y="10096920"/>
              <a:ext cx="5421960" cy="1861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5397120" y="10073520"/>
              <a:ext cx="8296560" cy="15516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0" y="10058400"/>
              <a:ext cx="6378120" cy="159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0720" y="1251000"/>
            <a:ext cx="1530180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350720" y="3223800"/>
            <a:ext cx="15301800" cy="66978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9000"/>
          </a:bodyPr>
          <a:p>
            <a:pPr marL="555120" indent="-555120"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1" marL="1203480" indent="-461880">
              <a:spcBef>
                <a:spcPts val="1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2" marL="1852200" indent="-369720">
              <a:spcBef>
                <a:spcPts val="1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3" marL="2593800" indent="-369720">
              <a:spcBef>
                <a:spcPts val="1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4" marL="3334320" indent="-369720">
              <a:spcBef>
                <a:spcPts val="1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5" marL="3334320" indent="-369720">
              <a:spcBef>
                <a:spcPts val="1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6" marL="3334320" indent="-369720">
              <a:spcBef>
                <a:spcPts val="1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1309680" y="10363320"/>
            <a:ext cx="374976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6109920" y="1036332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12860280" y="10363320"/>
            <a:ext cx="37512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AA7-8842-4096-A428-76448DA844E4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dt" idx="10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CD9-AA29-480B-A66A-9FCF1475DC66}" type="datetime">
              <a:rPr b="0" lang="zh-CN" sz="2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1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2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241-86EF-4DFC-BE76-490B3FF78CE3}" type="slidenum">
              <a:rPr b="0" lang="zh-CN" sz="2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图片 6" descr=""/>
          <p:cNvPicPr/>
          <p:nvPr/>
        </p:nvPicPr>
        <p:blipFill>
          <a:blip r:embed="rId2"/>
          <a:srcRect l="9083" t="0" r="0" b="0"/>
          <a:stretch/>
        </p:blipFill>
        <p:spPr>
          <a:xfrm>
            <a:off x="0" y="-17640"/>
            <a:ext cx="18089640" cy="111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6BC-3D29-4547-BCB0-CC095CC85F7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9C9-1131-41FD-91E9-450E30FECBF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dt" idx="19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0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3C8F-0010-4188-AA36-2616C46A5F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dt" idx="22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3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4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834E-B369-4562-87C0-257C2297B8F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5" descr="https://timgsa.baidu.com/timg?image&amp;quality=80&amp;size=b10000_10000&amp;sec=1473258146046&amp;di=9c26269513e36b32ce186304e6d6ea18&amp;imgtype=jpg&amp;src=http%3A%2F%2Fimg1.ph.126.net%2Fkn8aoigem98b7FPrvlK_Lw%3D%3D%2F6630194753467250320.jpg"/>
          <p:cNvPicPr/>
          <p:nvPr/>
        </p:nvPicPr>
        <p:blipFill>
          <a:blip r:embed="rId1"/>
          <a:stretch/>
        </p:blipFill>
        <p:spPr>
          <a:xfrm>
            <a:off x="0" y="0"/>
            <a:ext cx="18002160" cy="11161800"/>
          </a:xfrm>
          <a:prstGeom prst="rect">
            <a:avLst/>
          </a:prstGeom>
          <a:ln w="0">
            <a:noFill/>
          </a:ln>
        </p:spPr>
      </p:pic>
      <p:sp>
        <p:nvSpPr>
          <p:cNvPr id="1104" name="Text Box 2"/>
          <p:cNvSpPr/>
          <p:nvPr/>
        </p:nvSpPr>
        <p:spPr>
          <a:xfrm>
            <a:off x="5249880" y="4340160"/>
            <a:ext cx="76518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83160" bIns="83160" anchor="t">
            <a:spAutoFit/>
          </a:bodyPr>
          <a:p>
            <a:pPr algn="ctr"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"/>
          <p:cNvSpPr/>
          <p:nvPr/>
        </p:nvSpPr>
        <p:spPr>
          <a:xfrm>
            <a:off x="3286080" y="838080"/>
            <a:ext cx="12817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900" spc="-1" strike="noStrike">
                <a:solidFill>
                  <a:srgbClr val="0070c0"/>
                </a:solidFill>
                <a:latin typeface="Times New Roman"/>
                <a:ea typeface="方正流行体简体"/>
              </a:rPr>
              <a:t>动 物 笑 谈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1"/>
          <p:cNvSpPr/>
          <p:nvPr/>
        </p:nvSpPr>
        <p:spPr>
          <a:xfrm>
            <a:off x="11896560" y="4713120"/>
            <a:ext cx="50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康拉德</a:t>
            </a:r>
            <a:r>
              <a:rPr b="0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·</a:t>
            </a: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劳伦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771480" y="1971720"/>
            <a:ext cx="163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从作者身上发现了什么？你又受到了哪些启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作者专注于动物行为研究，为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探求真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不惜放下人类的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高贵身段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与动物们打成一片。不明原委的人很容易把他的行为视为怪诞或发疯。由此看来，科学工作者不但要承受科学研究的艰苦劳动，还要能忍受人们的误解，这是尤其难能可贵的地方。我么应该认识到科学工作的艰辛，认识到打破世俗观念需要极大的勇气。这一切需要热爱与爱心，洒脱与旷达的胸怀才能实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3" descr="https://timgsa.baidu.com/timg?image&amp;quality=80&amp;size=b10000_10000&amp;sec=1473259068175&amp;di=f8737dcf6aadd25f2a28d1c28757e1b7&amp;imgtype=jpg&amp;src=http%3A%2F%2Fweituibao.qiniudn.com%2Ffiles%2Fphp%2Fupload%2Fimage%2F20150115%2F1421303184595363.jpg%2521editor.jpg"/>
          <p:cNvPicPr/>
          <p:nvPr/>
        </p:nvPicPr>
        <p:blipFill>
          <a:blip r:embed="rId1"/>
          <a:stretch/>
        </p:blipFill>
        <p:spPr>
          <a:xfrm>
            <a:off x="223920" y="476280"/>
            <a:ext cx="6038640" cy="40291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5" descr="https://timgsa.baidu.com/timg?image&amp;quality=80&amp;size=b10000_10000&amp;sec=1473259108883&amp;di=5ac141bc91facf47e13ad879750fdbad&amp;imgtype=jpg&amp;src=http%3A%2F%2Fs11.sinaimg.cn%2Fmw690%2F003AhXAhgy6T0MR4Aauca%26amp%3B690"/>
          <p:cNvPicPr/>
          <p:nvPr/>
        </p:nvPicPr>
        <p:blipFill>
          <a:blip r:embed="rId2"/>
          <a:stretch/>
        </p:blipFill>
        <p:spPr>
          <a:xfrm>
            <a:off x="6296040" y="4362480"/>
            <a:ext cx="5516640" cy="3730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7" descr="https://timgsa.baidu.com/timg?image&amp;quality=80&amp;size=b10000_10000&amp;sec=1473259142095&amp;di=67c02d9d08bcef6afcaf6f352699fd2b&amp;imgtype=jpg&amp;src=http%3A%2F%2Fngdsb.hinews.cn%2Fresfile%2F2013-05-31%2F030%2Fng20130531_030b002.jpg"/>
          <p:cNvPicPr/>
          <p:nvPr/>
        </p:nvPicPr>
        <p:blipFill>
          <a:blip r:embed="rId3"/>
          <a:stretch/>
        </p:blipFill>
        <p:spPr>
          <a:xfrm>
            <a:off x="12125160" y="7958160"/>
            <a:ext cx="409752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2" descr="https://timgsa.baidu.com/timg?image&amp;quality=80&amp;size=b10000_10000&amp;sec=1473259214825&amp;di=560599d04639916b208eb700c5136d7b&amp;imgtype=jpg&amp;src=http%3A%2F%2Fwww.socar.cc%2Fd%2Ffile%2Flvyou%2Fguonei%2F2016-08-29%2F6b0893cfe757370319191bf9e2406891.jpg"/>
          <p:cNvPicPr/>
          <p:nvPr/>
        </p:nvPicPr>
        <p:blipFill>
          <a:blip r:embed="rId1"/>
          <a:stretch/>
        </p:blipFill>
        <p:spPr>
          <a:xfrm>
            <a:off x="1609560" y="1517760"/>
            <a:ext cx="5276880" cy="3073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https://timgsa.baidu.com/timg?image&amp;quality=80&amp;size=b10000_10000&amp;sec=1473259235886&amp;di=98284a595a98fa9680c3cba32cc1012f&amp;imgtype=jpg&amp;src=http%3A%2F%2Fphotocdn.sohu.com%2F20110111%2FImg278797435.jpg"/>
          <p:cNvPicPr/>
          <p:nvPr/>
        </p:nvPicPr>
        <p:blipFill>
          <a:blip r:embed="rId2"/>
          <a:stretch/>
        </p:blipFill>
        <p:spPr>
          <a:xfrm>
            <a:off x="11287080" y="1305000"/>
            <a:ext cx="4876920" cy="3276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6" descr="https://timgsa.baidu.com/timg?image&amp;quality=80&amp;size=b10000_10000&amp;sec=1473259273930&amp;di=59cc2f5bab0ce912c4b309052147756d&amp;imgtype=jpg&amp;src=http%3A%2F%2Fimg2.3lian.com%2F2014%2Ff4%2F106%2Fd%2F90.jpg"/>
          <p:cNvPicPr/>
          <p:nvPr/>
        </p:nvPicPr>
        <p:blipFill>
          <a:blip r:embed="rId3"/>
          <a:stretch/>
        </p:blipFill>
        <p:spPr>
          <a:xfrm>
            <a:off x="3591000" y="4768920"/>
            <a:ext cx="11048760" cy="6334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350720" y="495360"/>
            <a:ext cx="1245060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1350720" y="2728800"/>
            <a:ext cx="15301800" cy="68198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2" descr="C:\Documents and Settings\zhaoqingju\桌面\{9E048488-6E42-432A-BBB4-CE60C38E2DB4}.bmp"/>
          <p:cNvPicPr/>
          <p:nvPr/>
        </p:nvPicPr>
        <p:blipFill>
          <a:blip r:embed="rId2"/>
          <a:stretch/>
        </p:blipFill>
        <p:spPr>
          <a:xfrm>
            <a:off x="0" y="0"/>
            <a:ext cx="18002160" cy="1112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4"/>
          <p:cNvSpPr/>
          <p:nvPr/>
        </p:nvSpPr>
        <p:spPr>
          <a:xfrm>
            <a:off x="1305000" y="933480"/>
            <a:ext cx="944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"/>
          <p:cNvSpPr/>
          <p:nvPr/>
        </p:nvSpPr>
        <p:spPr>
          <a:xfrm>
            <a:off x="7788240" y="2400480"/>
            <a:ext cx="967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康拉德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劳伦兹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903—1989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，奥地利动物行为学家、科普作家。曾获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年诺贝尔生理医学奖。除了在学术上的成就之外，劳伦兹最为人所称道的，是他在动物行为方面的通俗写作，著有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所罗门王的指环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攻击的秘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雁语者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狗的家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6" descr="J77KOXAAPM_M[2P2$7AQ}5I"/>
          <p:cNvPicPr/>
          <p:nvPr/>
        </p:nvPicPr>
        <p:blipFill>
          <a:blip r:embed="rId1"/>
          <a:stretch/>
        </p:blipFill>
        <p:spPr>
          <a:xfrm>
            <a:off x="1457280" y="2610000"/>
            <a:ext cx="5791320" cy="739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2"/>
          <p:cNvSpPr/>
          <p:nvPr/>
        </p:nvSpPr>
        <p:spPr>
          <a:xfrm>
            <a:off x="923760" y="1390680"/>
            <a:ext cx="137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1990800" y="2762280"/>
            <a:ext cx="11887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了解科学小品的特点，学习科学小品的写法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了解课文内容，体会本文生动幽默的语言风格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感受作者专注、忘我的工作精神和极高的专业素养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" descr="C:\Documents and Settings\zhaoqingju\桌面\1.bmp"/>
          <p:cNvPicPr/>
          <p:nvPr/>
        </p:nvPicPr>
        <p:blipFill>
          <a:blip r:embed="rId1"/>
          <a:stretch/>
        </p:blipFill>
        <p:spPr>
          <a:xfrm>
            <a:off x="14106600" y="7539120"/>
            <a:ext cx="384336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2"/>
          <p:cNvSpPr/>
          <p:nvPr/>
        </p:nvSpPr>
        <p:spPr>
          <a:xfrm>
            <a:off x="1533600" y="933480"/>
            <a:ext cx="156207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掌握生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嗔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chēn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怪：对人表示不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怪诞不经：离奇古怪，不合常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孵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fū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：鸟类伏在卵上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用体温使卵内的胚胎发育成幼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凫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fú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：野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麝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shè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香鸭：一种水鸭，羽毛会散发出近似麝香的香气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大相径庭：彼此相差很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需索：索取，需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https://timgsa.baidu.com/timg?image&amp;quality=80&amp;size=b10000_10000&amp;sec=1473258406182&amp;di=9e0e013a3dbbc5318f02b9ecd27de695&amp;imgtype=jpg&amp;src=http%3A%2F%2Fs8.sinaimg.cn%2Fmw690%2F001PnvR9zy6OUoBVsfda7%26690"/>
          <p:cNvPicPr/>
          <p:nvPr/>
        </p:nvPicPr>
        <p:blipFill>
          <a:blip r:embed="rId1"/>
          <a:stretch/>
        </p:blipFill>
        <p:spPr>
          <a:xfrm>
            <a:off x="13192200" y="7659720"/>
            <a:ext cx="4809960" cy="348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1762200" y="1085760"/>
            <a:ext cx="14934960" cy="9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神采奕奕（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yì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）：形容精神饱满，容光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焕发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秃鹰：又名白头海雕，为北美所有，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一种大型猛禽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鹳（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ɡuàn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一种形似白鹤的鸟，羽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灰白色或黑色，嘴长而直，生活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江、湖、池沼的近旁，以鱼虾为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蹒跚（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pán shān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）：腿脚不灵便，走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缓慢、摇摆的样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3" descr="https://timgsa.baidu.com/timg?image&amp;quality=80&amp;size=b10000_10000&amp;sec=1473258698670&amp;di=4f9a01fa0ff0a2e39fe5f64919faf63c&amp;imgtype=jpg&amp;src=http%3A%2F%2Fdimg09.c-ctrip.com%2Fimages%2Ffd%2Ftg%2Fg4%2FM06%2F48%2F73%2FCggYHlX3uMGAUREzABNQZIlUO88428_C_671_10000.jpg"/>
          <p:cNvPicPr/>
          <p:nvPr/>
        </p:nvPicPr>
        <p:blipFill>
          <a:blip r:embed="rId1"/>
          <a:stretch/>
        </p:blipFill>
        <p:spPr>
          <a:xfrm>
            <a:off x="12387240" y="6951600"/>
            <a:ext cx="5614920" cy="4210200"/>
          </a:xfrm>
          <a:prstGeom prst="rect">
            <a:avLst/>
          </a:prstGeom>
          <a:ln w="0">
            <a:noFill/>
          </a:ln>
        </p:spPr>
      </p:pic>
      <p:sp>
        <p:nvSpPr>
          <p:cNvPr id="1117" name="Text Box 2"/>
          <p:cNvSpPr/>
          <p:nvPr/>
        </p:nvSpPr>
        <p:spPr>
          <a:xfrm>
            <a:off x="1152360" y="1314360"/>
            <a:ext cx="13716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默读课文，说说课文都写了动物哪些可笑的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一件可笑的事验证小水鸭凭声音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领母亲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-9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二件可笑的事是化装撒旦给小穴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上锡环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0-13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三件可笑的事是学鸟叫唤回试图远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飞的大鹦鹉“可可”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1-23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542880" y="1547640"/>
            <a:ext cx="123444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重点问题探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可可由“我”养后有什么变化吗？你从这些变化中读出了什么？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开始时不敢随意行动，坐在树枝上想飞却又不敢飞；后来变得活泼而神采奕奕起来，并且对我恋恋不舍。这是因为“我”对动物的尊重与爱，把它们视为平等的朋友，使它恢复了本来的面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3" descr="https://timgsa.baidu.com/timg?image&amp;quality=80&amp;size=b10000_10000&amp;sec=1473258836723&amp;di=ac489e9aaeb5b66d64d8375a641e4f4a&amp;imgtype=jpg&amp;src=http%3A%2F%2Fm2.quanjing.com%2F2m%2Fminden006%2Fmin00447673.jpg"/>
          <p:cNvPicPr/>
          <p:nvPr/>
        </p:nvPicPr>
        <p:blipFill>
          <a:blip r:embed="rId1"/>
          <a:stretch/>
        </p:blipFill>
        <p:spPr>
          <a:xfrm>
            <a:off x="13039560" y="5118120"/>
            <a:ext cx="4962600" cy="5872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2"/>
          <p:cNvSpPr/>
          <p:nvPr/>
        </p:nvSpPr>
        <p:spPr>
          <a:xfrm>
            <a:off x="542880" y="2000160"/>
            <a:ext cx="1592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老天！这不是可可吗？它的翅膀稳定地动着，不是很清楚地表示它正要去做长途飞行？” 这几句话反映了此时“我”怎样的心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一个方面为“可可”的飞行感到骄傲，另一个方面又对它的即将离去恋恋不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3" descr="https://timgsa.baidu.com/timg?image&amp;quality=80&amp;size=b10000_10000&amp;sec=1473258959001&amp;di=fc21a16d588eea4f4f575404a96f567d&amp;imgtype=jpg&amp;src=http%3A%2F%2Fimg3.douban.com%2Fview%2Fnote%2Flarge%2Fpublic%2Fp8240473.jpg"/>
          <p:cNvPicPr/>
          <p:nvPr/>
        </p:nvPicPr>
        <p:blipFill>
          <a:blip r:embed="rId1"/>
          <a:stretch/>
        </p:blipFill>
        <p:spPr>
          <a:xfrm>
            <a:off x="12031560" y="6951600"/>
            <a:ext cx="59565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34440" y="1619280"/>
            <a:ext cx="14609880" cy="68198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经历了一番反复的思想斗争后，“我到底还是叫了”。揣摩“我”“叫了”之后的心理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叫”一方面表明“我”对鹦鹉可可的依恋之情，另一方面也表明“我”仍在继续自己的实验，看看能不能改变可可的习惯。可可的反应，让“我”尤其惊喜。这也是“我”的爱心所得到的回报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3" name="Picture 2" descr="https://timgsa.baidu.com/timg?image&amp;quality=80&amp;size=b10000_10000&amp;sec=1473259004210&amp;di=23a2bb97e975cf8153bd45e736854d0a&amp;imgtype=jpg&amp;src=http%3A%2F%2Fpic250.quanjing.com%2Fage_foto111%2Fn88-1745326.jpg"/>
          <p:cNvPicPr/>
          <p:nvPr/>
        </p:nvPicPr>
        <p:blipFill>
          <a:blip r:embed="rId1"/>
          <a:stretch/>
        </p:blipFill>
        <p:spPr>
          <a:xfrm>
            <a:off x="14868360" y="6461280"/>
            <a:ext cx="3133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7:55:43Z</dcterms:created>
  <dc:creator>语文备课大师【全免费】</dc:creator>
  <dc:description>语文备课大师【全免费】</dc:description>
  <dc:language>en-US</dc:language>
  <cp:lastModifiedBy>zhaoqingju</cp:lastModifiedBy>
  <dcterms:modified xsi:type="dcterms:W3CDTF">2017-09-16T18:05:59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