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</p:sldIdLst>
  <p:sldSz cx="18003838" cy="11163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01936-21F1-4F45-A634-7EBD2FAD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B70AE-4DE8-412D-A187-95B0659C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30875-BBC2-4DC2-9880-1C33E639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24CC3-E0BD-4B69-BE24-2F54334D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E311F-B32C-4659-86F6-FF7A7D4F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12BE7-7D6E-4BD6-9354-B999578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44BD0-9DB9-4917-AE5B-A58D2F49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A65BA-93F7-4209-A254-F0B8F9A2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0340F-F3ED-408D-B776-CE436D82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98320-95AA-4C86-83CB-6DD32828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ADA7F-A3CD-4B06-AAFC-E3DC37EF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8B047-4080-4F44-9C4F-7E80922D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BFA1C-9DAA-4DDB-9577-E554A1FC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D4462-4400-4CC9-AA9C-66BFEFAE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14BCA-05FA-4C0B-90C3-A0A091D9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0C13A-3FA0-414C-B401-78650CFA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CF1CD-1855-4733-9EE5-FF40EA9A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BD264-3477-4D59-A119-EE7ECA65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03957-2BCE-45BB-876A-D1CC37CF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FA0D0-389C-47F8-BB74-A87C80F7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2DF50-B9B9-4370-B69E-D9DB670E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05C03-909F-494F-8FF2-35EC064D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BBA0C-15A7-420F-B783-D50A8953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DEB3C-929C-497A-A4D0-99D306A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73F78-BD27-46BB-9374-4C596FE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931D9-4399-482D-BBE8-44017DE5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8E603-6236-49A3-BB13-2A008C8B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00D69-0A26-4ECA-B72A-5E61A0A9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DCE10-38E8-43B6-B798-04BFD4A0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F0036-0C18-4DA2-A2BC-B4253BE3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775-A243-4C09-BCB9-346E40BF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33DBE-373B-4515-B562-D6AA793E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F2C4B-8C4B-4074-9385-81557F76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D87C8-16F6-4D0B-BE3C-65EBE252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03C3-472B-4E6E-813D-FC07B952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D18EC-C9C9-4A75-85D9-45EF1DF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4D4C0-3C56-4587-A53B-1D42984E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59469-898F-46E3-AC5D-8B887B6A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55297-C789-4D8A-BDA1-ABA43BFA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DC56A-5000-4F3E-A107-740E28F3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2FA50-E27E-4926-BAD8-B0E95C81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26E-6484-4AB1-9912-B4CDC03F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CFB38-0D51-4BDD-B1F7-4374D83D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10F0E-C0EF-4638-AD73-17C80A8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AAE94-DF2D-42D4-8704-8EE31508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2F263-1589-4088-97A3-44437CBC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963B8-E9BC-4B7E-9554-308DD8B3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7A6A5-8470-41F5-8127-6DD2F6E9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815E6-1E87-4041-9DD9-236873E9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D1890-D063-44E7-A88F-A0CAD589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33046-C335-41E3-A0AC-30C5C0DF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92FF4-0E2F-4B57-88D3-BB841CF5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02F-93F1-4FEE-9FE2-9FF02FD6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EF0B7-17DC-4F9A-8B8C-E73027B7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7BEE7-A21D-462A-9310-45CF8EB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B8AC6-27FC-40B3-AC96-BDC7E3F3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30565-3394-4518-88DA-3458A6F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1DF5E-5760-466C-9453-7462BED1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13E60-9648-4374-A330-A6A4DA8E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014D-19B9-4987-B13C-60260060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22BF7-2163-4F3A-B01C-45AC17B6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E9A81-1416-4DFB-9C23-3C70F840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62E0C-913B-42BC-A13A-0C0B2D35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16C2-0D2D-4C10-A0FA-8D9F4D14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497A2-60B2-4133-A5FC-A5667814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21512-3DCF-4DB3-BE68-760FF70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337CB-652F-463C-AEB5-0B161286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FF853-505A-4D84-A618-0A56750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7C4A1-45D1-4A6D-AEA5-7AFCE205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57D44-9751-4FE4-B518-B286D465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3C1C2-B59A-4D53-BEA8-05F3E9EF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5523F-684E-4616-8943-94A4FC59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CE9A0-3955-467B-A2AE-31D0C6B1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CF4C5-9AD7-4175-8052-6B6E0EBA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E07-792F-41D5-995A-CE2209CB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26B9D-12B1-470C-97EB-2E2D4366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32151-70A9-419B-8A45-125D25B1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0303A-94E8-451F-B077-8EBB62B8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36A46-F71C-442E-92AF-9D13809B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FB0E7-3F8A-4BB6-86C4-66713AF6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C9F85-D2C1-404D-B222-6BD253D5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3EF0D-38C1-4E43-89F2-DC9BCC0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496DF-8ECD-4E94-B6C5-917DB086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10628-3A52-456D-B5C2-40D79A6F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3AE5F-1548-4E87-B76C-0F34FA0C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415-89E1-43A9-9A0B-6C4BBED6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04D31-977E-44C4-A571-6C34119A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5EF92-D7F5-49C0-A467-4800D5FF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3CA51-BDC2-4B7D-9B10-2EE8FEFA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D313D-4A97-4578-953E-78CA2C45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BFD65-9E4E-44A4-B029-C388ACF6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5F48B-D82B-4343-9BF0-510216E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32375-31E2-4F9B-A582-6A14EFC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096F0-2CF2-415B-A223-F92D2887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BBC51-A5A9-49E2-9FA9-C62E82B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F7E1A-5871-4DE2-BB7A-6B2986C9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2FB-41EB-422F-A1CA-14D13672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D860B-7808-4988-8FC8-C1E3115E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E2A05-F8F8-4CE4-87A2-19227DF5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2FDF6-E0BB-4B7B-AE76-2A7830A0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6D80C-6578-4DE0-9A23-FACF838E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6BE22-F18A-4B6A-979F-C3E13C85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7D372-6617-4077-8043-55C8B52D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38E6C-9577-4E1A-B297-09BDCC8C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EC375-794A-4092-89AD-95D211B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ABE7A-690B-420F-83A6-BE0BCC27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E2B8F-9921-4D42-A2A3-C2A0153F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13B-2B0D-4BA1-B3AF-7CFDFB4A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80EC3-10D7-41CB-BCAC-C9745D92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6BCF9-1728-424B-8745-2E61D878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E4FCC-560C-406B-B60B-DFF350BB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96775-8AB0-48C1-8DBC-EC6D73A0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31C24-00E5-4FEC-A5E0-0558EBE3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898-6C4D-4B1D-B747-8F941E5E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B25-1291-491A-AAB9-6D5C9298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DCE-1EF2-47E2-84BC-98469749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208-4EB7-4247-9936-AFD96431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883B7-475C-4FC4-B9D2-6018F1F4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F6831-18D1-4FF0-9876-E04C29A3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EA448B-2FEC-4376-925B-50CBD57B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CB480-E6ED-4544-B2F3-DDAC9A73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C5F5E-D857-432F-AF22-1330B680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CB891-1CC2-4EB1-9387-FC92DACE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E4C69-8290-44A3-9E88-6E9437E1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63D4A-DF89-48C4-ACA8-347639E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654CB7-D494-405C-A70E-A840AEF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4840-4FAC-4852-A105-05B5A12B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8D2049-42DC-4598-B94B-C24801F9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11C9C-1F4C-43F5-A9F2-F9C0DE06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FC303-EE29-414B-98A1-60CF9566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BEB76-58CA-40D3-B3ED-4259A56F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DF058-1F45-41D1-ABB4-67BE3E90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132218-DC1F-45EF-B6FF-602AB5FF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4CE25-E7DD-48D9-B9F7-758C31B8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D12C0-AA4C-4963-85D7-95874411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C90D3-CB18-4241-B67B-96BD0919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1F700-F16F-4AA2-869A-736C6999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81CE-3AA5-4B4D-9591-A27B3845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D7DBE-090C-484F-BE9C-22FF0F4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5DB3BC-68D6-4978-834A-9D45063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6846D-F19F-4979-99B3-FDEC77E3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F9713-F7D6-4661-8659-2D58C67F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F3395-CF90-444A-8133-583DFF87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101C9B-365B-43CF-B005-75398EA7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C07B5D-E8DA-481B-82BE-B7FE31E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5FF48E-5070-4467-8735-2235D5BD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3EEC83-47A7-4EC1-A68D-97F76F2E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BAE148-5E6B-4053-83AF-C951E681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D184-7A4B-42BA-A211-278726C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DA7C6-2AA8-4460-875F-551382CD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DB6C8-8B84-449E-8E9A-AE269EC6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63D4F-D0AA-4ADD-B1E6-749FDFB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30F94-0C62-4AD0-AF19-4FA755AF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35E181-1FD2-41C5-A6B3-201E579F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6BD936-978B-435C-A81B-945FF8DB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D1D42-88B7-402B-A558-33973CCA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1D6E54-6BCC-4CA4-BF2D-D53C042F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B4B97-F3E0-42B5-8412-4C40DDF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AB937E-6388-4A29-A907-09F94A3D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C7CD-4B48-47BF-8FCB-F0976B31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E76371-2D57-4B1C-B0F1-14BD052B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579B5D-6046-4AC0-A7E6-41754D9C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EC76C2-B4E4-4D33-9828-23EB4BAA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10B408-C720-488D-96C1-E6BA4003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D4F498-C03E-4B28-9B61-C70B582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0D3FB0-72B3-42D7-AAB1-1A104F16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C8E989-6AD6-4F09-9032-393B04AA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269E80-1043-42A2-8E49-CEAA6795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0895F9-7382-44C2-9157-56467341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EAC8B1-BF36-40AD-BEF1-02FE7EE9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D5D9-EBA8-49A9-AAB5-D9CD0551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480425-8A26-42C7-A1CC-67B1B450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1CC6F-CF59-4A55-B2DB-E19D5526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AF6277-F895-47E1-933A-CC92B637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0528A5-4207-47CD-BB56-F5CD4AB7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98A571-293A-43D4-B684-341C28FC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24B006-EDDD-402A-973F-1B58F66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F5D175-90A5-46BD-A698-ACC78410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9A1CA-4303-4CFB-805A-8F7D7473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192A9B-12B5-4E80-88B2-AEC3FDA5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C6FEE1-8C3A-4793-A062-F7410C91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B485-9F20-473F-913F-EEA4C7C5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EBCEC8-8E78-4AA5-84AC-DA15088C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EF54-05F3-4F02-B51A-AC5650B7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7245-0633-44AC-B48D-CFE29AB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D69A-7A2B-44D6-A022-B314BB7D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41FA-C0EF-42CE-AA42-E667A19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0860-A180-48E5-B696-69E36B66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0921-E532-4E91-8F37-027C5DF4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B6BB-C29A-4FFC-BCBC-9F5E50E5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65DC7-8964-4FB0-9196-FD78867B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9C33-CCAF-4EB5-9DCB-84B6587D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890A8-9B18-466D-A794-E4CDB573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FE77A-6ECE-4D56-8FE8-7428CE8F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E298-02B3-4098-B545-E1397BEE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CE00-8340-4EED-8ABB-D6CF34A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C344-FABA-4696-80DB-78BF175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3055-15AA-4CA0-93C3-48D217AA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7FEA-D403-47B8-A665-8D2E69BC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7770-A9C0-4F92-AF25-F6DC2048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5495-D5AF-4B81-B529-3AA3834A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40B8D-9D7C-46CA-98C9-0C87D8BC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A8421-6653-4258-96F3-AD31E3B9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058E1-7D1D-4CE7-9443-8AF762FC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5D036-809D-4136-855F-1392D56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25777-EA63-46F5-97E1-0DD2C442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BD0A-492D-4178-8B61-97C5EE94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DA50-3116-4AD5-9DFF-CB0513B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33DE-E701-422D-90E9-351FC257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355A3-286F-417D-8F23-DBCEAF42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ECD1F-2F0F-44EA-B20F-BEEE36FC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AE33-FE99-4E0E-94B8-66EEE09D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F974F-908A-4EF2-8F0E-53EBA923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78CE-DB64-4C4F-AA53-E178CFF2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A985F-43C7-4273-BB2F-D7B43F46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7B51-E8E5-41F3-85BA-89323987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DE7CB-BAA5-46CF-9B7E-393DE9D1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AD785-DCB2-4AD2-A486-F64A52B6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4D4A7-1791-4732-806A-6712D86B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9AD4-EC16-479E-8E44-70B904F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95AD6-3DCB-405F-ADB8-D39DB8D7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AFFEC-479E-42D2-BD84-947161D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7EC8A-FEF9-4E7B-BB35-2C1F6059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EBE7-7653-46AC-9288-E9D1479E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6BB1A-87E3-4434-8B1B-504EE83E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2BD98-2229-4C2C-BFAE-29437A71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11B3D-2F2B-411F-BE89-E089890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73C09-0114-4FC8-81BB-EAD8C79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80DEC-1D0A-45E3-870C-40507013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6D98E-3E4D-49C3-82E8-0EB8D720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3F08A-1D1C-4C21-9DFF-3B10209F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3B461-2DDB-4ECD-9C6A-A800E5D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CBE44-8119-4DFB-932B-1CA1EE24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6FA59-65D3-48B3-8739-9555ED6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50738-4D09-4789-A3B3-3ACE4F98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CCBCB-1B61-472B-8919-767AA0DB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3778-C00A-4D62-9520-05DF9AAD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7AF93-D96A-4D05-8B96-534C2BDB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86579-E46C-4C2F-ACCE-10079901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A80D8-3F15-470F-B9B5-38F04133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7CD7C-C4BD-4D42-9202-A95205E7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063D6-015C-4175-8E27-6C21BD2D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900000" y="445320"/>
            <a:ext cx="16202880" cy="86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1351D-7499-47DE-A763-D28ACDD6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A805F-8BFE-475C-A34C-C48C6BFD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AD3FD-5DD3-4E0A-BE87-508E35CB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83F61-30D0-4743-B19C-DBABC60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900000" y="5994000"/>
            <a:ext cx="162028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57BAF-72CF-4AC6-8A35-6CCF96A6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9202320" y="261216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9202320" y="5994000"/>
            <a:ext cx="790668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D4246-C637-4AC9-9782-B2329EAB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37848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856600" y="261216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9000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637848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11856600" y="5994000"/>
            <a:ext cx="5217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74165-D97E-40AB-A587-1958F5B2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64CB4-77EE-4E58-BA6E-D4DBBBAF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979C8-2537-406D-BA36-EB5DAC6A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04E16-D010-4A08-B84B-8F5F63BF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77.xml"/><Relationship Id="rId11" Type="http://schemas.openxmlformats.org/officeDocument/2006/relationships/slideLayout" Target="../slideLayouts/slideLayout278.xml"/><Relationship Id="rId12" Type="http://schemas.openxmlformats.org/officeDocument/2006/relationships/slideLayout" Target="../slideLayouts/slideLayout279.xml"/><Relationship Id="rId13" Type="http://schemas.openxmlformats.org/officeDocument/2006/relationships/slideLayout" Target="../slideLayouts/slideLayout280.xml"/><Relationship Id="rId14" Type="http://schemas.openxmlformats.org/officeDocument/2006/relationships/slideLayout" Target="../slideLayouts/slideLayout281.xml"/><Relationship Id="rId15" Type="http://schemas.openxmlformats.org/officeDocument/2006/relationships/slideLayout" Target="../slideLayouts/slideLayout282.xml"/><Relationship Id="rId16" Type="http://schemas.openxmlformats.org/officeDocument/2006/relationships/slideLayout" Target="../slideLayouts/slideLayout283.xml"/><Relationship Id="rId17" Type="http://schemas.openxmlformats.org/officeDocument/2006/relationships/slideLayout" Target="../slideLayouts/slideLayout284.xml"/><Relationship Id="rId18" Type="http://schemas.openxmlformats.org/officeDocument/2006/relationships/slideLayout" Target="../slideLayouts/slideLayout285.xml"/><Relationship Id="rId19" Type="http://schemas.openxmlformats.org/officeDocument/2006/relationships/slideLayout" Target="../slideLayouts/slideLayout286.xml"/><Relationship Id="rId20" Type="http://schemas.openxmlformats.org/officeDocument/2006/relationships/slideLayout" Target="../slideLayouts/slideLayout287.xml"/><Relationship Id="rId21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1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25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6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7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9BBF-AD7B-40CE-92A6-1A2CF0DA257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dt" idx="28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9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30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5CF8-EDBC-4631-9621-2AD759D6CC7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477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dt" idx="31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32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33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3C3-BEC3-4CE5-BD62-1775BE1CF1B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dt" idx="34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ftr" idx="35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6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CDA5-0899-4422-86CA-4C995FCE335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559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dt" idx="37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ftr" idx="38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39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ECCB-1F8A-4F2F-8B65-726E906BB00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600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dt" idx="40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ftr" idx="41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42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6173-EFB1-4A15-ABB7-A2A162EFCC1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641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dt" idx="43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44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45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6DFA-5389-499C-9C25-A2030B350A8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682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dt" idx="46"/>
          </p:nvPr>
        </p:nvSpPr>
        <p:spPr>
          <a:xfrm>
            <a:off x="1350720" y="10169640"/>
            <a:ext cx="37494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ftr" idx="47"/>
          </p:nvPr>
        </p:nvSpPr>
        <p:spPr>
          <a:xfrm>
            <a:off x="6151320" y="1016964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48"/>
          </p:nvPr>
        </p:nvSpPr>
        <p:spPr>
          <a:xfrm>
            <a:off x="12901680" y="10169640"/>
            <a:ext cx="374976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7746-D657-4DD6-8806-CBB577266426}" type="slidenum"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723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dt" idx="49"/>
          </p:nvPr>
        </p:nvSpPr>
        <p:spPr>
          <a:xfrm>
            <a:off x="1350720" y="10169640"/>
            <a:ext cx="37494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ftr" idx="50"/>
          </p:nvPr>
        </p:nvSpPr>
        <p:spPr>
          <a:xfrm>
            <a:off x="6151320" y="1016964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title"/>
          </p:nvPr>
        </p:nvSpPr>
        <p:spPr>
          <a:xfrm>
            <a:off x="900000" y="445320"/>
            <a:ext cx="162028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900000" y="2612160"/>
            <a:ext cx="16202880" cy="647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23880" indent="-62388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52056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2" marL="2082960" indent="-4161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2916360" indent="-416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3747960" indent="-415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3747960" indent="-415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3747960" indent="-415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765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dt" idx="51"/>
          </p:nvPr>
        </p:nvSpPr>
        <p:spPr>
          <a:xfrm>
            <a:off x="1350720" y="10169640"/>
            <a:ext cx="37494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ftr" idx="52"/>
          </p:nvPr>
        </p:nvSpPr>
        <p:spPr>
          <a:xfrm>
            <a:off x="6151320" y="1016964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3640" y="1116000"/>
            <a:ext cx="16814880" cy="1860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00120" y="3224160"/>
            <a:ext cx="16814880" cy="632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84000"/>
          </a:bodyPr>
          <a:p>
            <a:pPr marL="523800" indent="-523800">
              <a:spcBef>
                <a:spcPts val="1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1" marL="1135800" indent="-435960">
              <a:spcBef>
                <a:spcPts val="145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2" marL="1748160" indent="-349200">
              <a:spcBef>
                <a:spcPts val="145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3" marL="2448000" indent="-349200">
              <a:spcBef>
                <a:spcPts val="1451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4" marL="3148200" indent="-349200">
              <a:spcBef>
                <a:spcPts val="1451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5" marL="3148200" indent="-349200">
              <a:spcBef>
                <a:spcPts val="1451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6" marL="3148200" indent="-349200">
              <a:spcBef>
                <a:spcPts val="1451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593280" y="9798120"/>
            <a:ext cx="450684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8128-2B33-492C-9203-9148EC1791A6}" type="datetime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6151320" y="9798120"/>
            <a:ext cx="570060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12901320" y="9798120"/>
            <a:ext cx="450684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CC62-88EE-4486-9812-E7B04CE820AF}" type="slidenum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805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dt" idx="53"/>
          </p:nvPr>
        </p:nvSpPr>
        <p:spPr>
          <a:xfrm>
            <a:off x="1350720" y="10169640"/>
            <a:ext cx="37494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ftr" idx="54"/>
          </p:nvPr>
        </p:nvSpPr>
        <p:spPr>
          <a:xfrm>
            <a:off x="6151320" y="1016964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dt" idx="55"/>
          </p:nvPr>
        </p:nvSpPr>
        <p:spPr>
          <a:xfrm>
            <a:off x="900000" y="10164600"/>
            <a:ext cx="420048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ftr" idx="56"/>
          </p:nvPr>
        </p:nvSpPr>
        <p:spPr>
          <a:xfrm>
            <a:off x="6151320" y="10164600"/>
            <a:ext cx="570060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sldNum" idx="57"/>
          </p:nvPr>
        </p:nvSpPr>
        <p:spPr>
          <a:xfrm>
            <a:off x="12901680" y="10164600"/>
            <a:ext cx="4200480" cy="77472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6410-EC32-44F0-B304-2CB7FBAABB3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886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"/>
          <p:cNvSpPr/>
          <p:nvPr/>
        </p:nvSpPr>
        <p:spPr>
          <a:xfrm>
            <a:off x="695160" y="3370320"/>
            <a:ext cx="162021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83160" bIns="83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8000" spc="-1" strike="noStrike">
                <a:solidFill>
                  <a:srgbClr val="1f497d"/>
                </a:solidFill>
                <a:latin typeface="Calibri"/>
                <a:ea typeface="黑体"/>
              </a:rPr>
              <a:t>祝同学们学习愉快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dt" idx="58"/>
          </p:nvPr>
        </p:nvSpPr>
        <p:spPr>
          <a:xfrm>
            <a:off x="900000" y="10164600"/>
            <a:ext cx="4200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ftr" idx="59"/>
          </p:nvPr>
        </p:nvSpPr>
        <p:spPr>
          <a:xfrm>
            <a:off x="6151320" y="10164600"/>
            <a:ext cx="5699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sldNum" idx="60"/>
          </p:nvPr>
        </p:nvSpPr>
        <p:spPr>
          <a:xfrm>
            <a:off x="12901680" y="10164600"/>
            <a:ext cx="4200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E1F1-1843-4696-BEE7-BFC07B22F6E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93640" y="1116000"/>
            <a:ext cx="16814880" cy="1860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00120" y="3224160"/>
            <a:ext cx="16814880" cy="632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84000"/>
          </a:bodyPr>
          <a:p>
            <a:pPr marL="523800" indent="-523800">
              <a:spcBef>
                <a:spcPts val="1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1" marL="1135800" indent="-435960">
              <a:spcBef>
                <a:spcPts val="145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2" marL="1748160" indent="-349200">
              <a:spcBef>
                <a:spcPts val="145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3" marL="2448000" indent="-349200">
              <a:spcBef>
                <a:spcPts val="1451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4" marL="3148200" indent="-349200">
              <a:spcBef>
                <a:spcPts val="1451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5" marL="3148200" indent="-349200">
              <a:spcBef>
                <a:spcPts val="1451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  <a:p>
            <a:pPr lvl="6" marL="3148200" indent="-349200">
              <a:spcBef>
                <a:spcPts val="1451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5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1"/>
          </p:nvPr>
        </p:nvSpPr>
        <p:spPr>
          <a:xfrm>
            <a:off x="593280" y="9890280"/>
            <a:ext cx="4506840" cy="77616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427C-5D1D-47CE-8885-31ABB76D0C8E}" type="datetime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2"/>
          </p:nvPr>
        </p:nvSpPr>
        <p:spPr>
          <a:xfrm>
            <a:off x="6151320" y="9890280"/>
            <a:ext cx="5700600" cy="77616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3"/>
          </p:nvPr>
        </p:nvSpPr>
        <p:spPr>
          <a:xfrm>
            <a:off x="12901320" y="9890280"/>
            <a:ext cx="4506840" cy="77616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97F-1B3B-4DF6-994C-642C18F23432}" type="slidenum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2"/>
          <p:cNvGrpSpPr/>
          <p:nvPr/>
        </p:nvGrpSpPr>
        <p:grpSpPr>
          <a:xfrm>
            <a:off x="0" y="0"/>
            <a:ext cx="18027000" cy="1231560"/>
            <a:chOff x="0" y="0"/>
            <a:chExt cx="18027000" cy="1231560"/>
          </a:xfrm>
        </p:grpSpPr>
        <p:sp>
          <p:nvSpPr>
            <p:cNvPr id="969" name="Freeform 3"/>
            <p:cNvSpPr/>
            <p:nvPr/>
          </p:nvSpPr>
          <p:spPr>
            <a:xfrm>
              <a:off x="15480" y="0"/>
              <a:ext cx="18011520" cy="123156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"/>
            <p:cNvSpPr/>
            <p:nvPr/>
          </p:nvSpPr>
          <p:spPr>
            <a:xfrm>
              <a:off x="0" y="252720"/>
              <a:ext cx="799920" cy="65340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"/>
            <p:cNvSpPr/>
            <p:nvPr/>
          </p:nvSpPr>
          <p:spPr>
            <a:xfrm>
              <a:off x="174960" y="0"/>
              <a:ext cx="2212560" cy="118512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"/>
            <p:cNvSpPr/>
            <p:nvPr/>
          </p:nvSpPr>
          <p:spPr>
            <a:xfrm>
              <a:off x="409320" y="694440"/>
              <a:ext cx="784440" cy="50112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"/>
            <p:cNvSpPr/>
            <p:nvPr/>
          </p:nvSpPr>
          <p:spPr>
            <a:xfrm>
              <a:off x="1065960" y="0"/>
              <a:ext cx="496800" cy="186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"/>
            <p:cNvSpPr/>
            <p:nvPr/>
          </p:nvSpPr>
          <p:spPr>
            <a:xfrm>
              <a:off x="1524960" y="0"/>
              <a:ext cx="1421640" cy="5580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9"/>
            <p:cNvSpPr/>
            <p:nvPr/>
          </p:nvSpPr>
          <p:spPr>
            <a:xfrm>
              <a:off x="4525200" y="95400"/>
              <a:ext cx="1294200" cy="2786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"/>
            <p:cNvSpPr/>
            <p:nvPr/>
          </p:nvSpPr>
          <p:spPr>
            <a:xfrm>
              <a:off x="5594040" y="0"/>
              <a:ext cx="1625040" cy="58068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"/>
            <p:cNvSpPr/>
            <p:nvPr/>
          </p:nvSpPr>
          <p:spPr>
            <a:xfrm>
              <a:off x="6072480" y="397440"/>
              <a:ext cx="1347120" cy="60192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2"/>
            <p:cNvSpPr/>
            <p:nvPr/>
          </p:nvSpPr>
          <p:spPr>
            <a:xfrm>
              <a:off x="7069680" y="224640"/>
              <a:ext cx="1237320" cy="58608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"/>
            <p:cNvSpPr/>
            <p:nvPr/>
          </p:nvSpPr>
          <p:spPr>
            <a:xfrm>
              <a:off x="7076160" y="619560"/>
              <a:ext cx="1612080" cy="57600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"/>
            <p:cNvSpPr/>
            <p:nvPr/>
          </p:nvSpPr>
          <p:spPr>
            <a:xfrm>
              <a:off x="8510760" y="836640"/>
              <a:ext cx="1293480" cy="25812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5"/>
            <p:cNvSpPr/>
            <p:nvPr/>
          </p:nvSpPr>
          <p:spPr>
            <a:xfrm>
              <a:off x="9892080" y="968400"/>
              <a:ext cx="468360" cy="18540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6"/>
            <p:cNvSpPr/>
            <p:nvPr/>
          </p:nvSpPr>
          <p:spPr>
            <a:xfrm>
              <a:off x="10823400" y="689040"/>
              <a:ext cx="462600" cy="23544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7"/>
            <p:cNvSpPr/>
            <p:nvPr/>
          </p:nvSpPr>
          <p:spPr>
            <a:xfrm>
              <a:off x="11189160" y="149760"/>
              <a:ext cx="2931120" cy="40788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8"/>
            <p:cNvSpPr/>
            <p:nvPr/>
          </p:nvSpPr>
          <p:spPr>
            <a:xfrm>
              <a:off x="11520000" y="374040"/>
              <a:ext cx="1162800" cy="25344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9"/>
            <p:cNvSpPr/>
            <p:nvPr/>
          </p:nvSpPr>
          <p:spPr>
            <a:xfrm>
              <a:off x="11307240" y="795240"/>
              <a:ext cx="994320" cy="40788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0"/>
            <p:cNvSpPr/>
            <p:nvPr/>
          </p:nvSpPr>
          <p:spPr>
            <a:xfrm>
              <a:off x="10666800" y="751320"/>
              <a:ext cx="1187640" cy="4496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1"/>
            <p:cNvSpPr/>
            <p:nvPr/>
          </p:nvSpPr>
          <p:spPr>
            <a:xfrm>
              <a:off x="13057920" y="483120"/>
              <a:ext cx="1634400" cy="1778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2"/>
            <p:cNvSpPr/>
            <p:nvPr/>
          </p:nvSpPr>
          <p:spPr>
            <a:xfrm>
              <a:off x="14654880" y="480240"/>
              <a:ext cx="1678320" cy="30960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3"/>
            <p:cNvSpPr/>
            <p:nvPr/>
          </p:nvSpPr>
          <p:spPr>
            <a:xfrm>
              <a:off x="15527520" y="805680"/>
              <a:ext cx="2499480" cy="3686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4"/>
            <p:cNvSpPr/>
            <p:nvPr/>
          </p:nvSpPr>
          <p:spPr>
            <a:xfrm>
              <a:off x="16620840" y="619560"/>
              <a:ext cx="1256400" cy="29664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25"/>
          <p:cNvGrpSpPr/>
          <p:nvPr/>
        </p:nvGrpSpPr>
        <p:grpSpPr>
          <a:xfrm>
            <a:off x="0" y="10058400"/>
            <a:ext cx="18050760" cy="224640"/>
            <a:chOff x="0" y="10058400"/>
            <a:chExt cx="18050760" cy="224640"/>
          </a:xfrm>
        </p:grpSpPr>
        <p:sp>
          <p:nvSpPr>
            <p:cNvPr id="992" name="Freeform 26"/>
            <p:cNvSpPr/>
            <p:nvPr/>
          </p:nvSpPr>
          <p:spPr>
            <a:xfrm>
              <a:off x="12628800" y="10096920"/>
              <a:ext cx="5421960" cy="18612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7"/>
            <p:cNvSpPr/>
            <p:nvPr/>
          </p:nvSpPr>
          <p:spPr>
            <a:xfrm>
              <a:off x="5397120" y="10073520"/>
              <a:ext cx="8296560" cy="15516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8"/>
            <p:cNvSpPr/>
            <p:nvPr/>
          </p:nvSpPr>
          <p:spPr>
            <a:xfrm>
              <a:off x="0" y="10058400"/>
              <a:ext cx="6378120" cy="159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2"/>
          <p:cNvGrpSpPr/>
          <p:nvPr/>
        </p:nvGrpSpPr>
        <p:grpSpPr>
          <a:xfrm>
            <a:off x="38160" y="1806480"/>
            <a:ext cx="18025200" cy="1231560"/>
            <a:chOff x="38160" y="1806480"/>
            <a:chExt cx="18025200" cy="1231560"/>
          </a:xfrm>
        </p:grpSpPr>
        <p:sp>
          <p:nvSpPr>
            <p:cNvPr id="996" name="Freeform 3"/>
            <p:cNvSpPr/>
            <p:nvPr/>
          </p:nvSpPr>
          <p:spPr>
            <a:xfrm>
              <a:off x="53640" y="1806480"/>
              <a:ext cx="18009720" cy="123156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"/>
            <p:cNvSpPr/>
            <p:nvPr/>
          </p:nvSpPr>
          <p:spPr>
            <a:xfrm>
              <a:off x="38160" y="2059200"/>
              <a:ext cx="799920" cy="65340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"/>
            <p:cNvSpPr/>
            <p:nvPr/>
          </p:nvSpPr>
          <p:spPr>
            <a:xfrm>
              <a:off x="213120" y="1806480"/>
              <a:ext cx="2212200" cy="118512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"/>
            <p:cNvSpPr/>
            <p:nvPr/>
          </p:nvSpPr>
          <p:spPr>
            <a:xfrm>
              <a:off x="447480" y="2500920"/>
              <a:ext cx="784440" cy="50112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"/>
            <p:cNvSpPr/>
            <p:nvPr/>
          </p:nvSpPr>
          <p:spPr>
            <a:xfrm>
              <a:off x="1103760" y="1806480"/>
              <a:ext cx="496440" cy="186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8"/>
            <p:cNvSpPr/>
            <p:nvPr/>
          </p:nvSpPr>
          <p:spPr>
            <a:xfrm>
              <a:off x="1563120" y="1806480"/>
              <a:ext cx="1421280" cy="5580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9"/>
            <p:cNvSpPr/>
            <p:nvPr/>
          </p:nvSpPr>
          <p:spPr>
            <a:xfrm>
              <a:off x="4563000" y="1901880"/>
              <a:ext cx="1293840" cy="2786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"/>
            <p:cNvSpPr/>
            <p:nvPr/>
          </p:nvSpPr>
          <p:spPr>
            <a:xfrm>
              <a:off x="5631840" y="1806480"/>
              <a:ext cx="1624680" cy="58068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1"/>
            <p:cNvSpPr/>
            <p:nvPr/>
          </p:nvSpPr>
          <p:spPr>
            <a:xfrm>
              <a:off x="6109920" y="2203920"/>
              <a:ext cx="1347120" cy="60192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2"/>
            <p:cNvSpPr/>
            <p:nvPr/>
          </p:nvSpPr>
          <p:spPr>
            <a:xfrm>
              <a:off x="7107120" y="2031120"/>
              <a:ext cx="1237320" cy="58608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3"/>
            <p:cNvSpPr/>
            <p:nvPr/>
          </p:nvSpPr>
          <p:spPr>
            <a:xfrm>
              <a:off x="7113600" y="2426040"/>
              <a:ext cx="1612080" cy="57600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4"/>
            <p:cNvSpPr/>
            <p:nvPr/>
          </p:nvSpPr>
          <p:spPr>
            <a:xfrm>
              <a:off x="8547840" y="2643120"/>
              <a:ext cx="1293120" cy="25812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5"/>
            <p:cNvSpPr/>
            <p:nvPr/>
          </p:nvSpPr>
          <p:spPr>
            <a:xfrm>
              <a:off x="9929160" y="2774880"/>
              <a:ext cx="468360" cy="18540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6"/>
            <p:cNvSpPr/>
            <p:nvPr/>
          </p:nvSpPr>
          <p:spPr>
            <a:xfrm>
              <a:off x="10860480" y="2495520"/>
              <a:ext cx="462600" cy="23544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7"/>
            <p:cNvSpPr/>
            <p:nvPr/>
          </p:nvSpPr>
          <p:spPr>
            <a:xfrm>
              <a:off x="11226240" y="1956240"/>
              <a:ext cx="2931120" cy="40788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8"/>
            <p:cNvSpPr/>
            <p:nvPr/>
          </p:nvSpPr>
          <p:spPr>
            <a:xfrm>
              <a:off x="11557080" y="2180520"/>
              <a:ext cx="1162800" cy="25344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9"/>
            <p:cNvSpPr/>
            <p:nvPr/>
          </p:nvSpPr>
          <p:spPr>
            <a:xfrm>
              <a:off x="11344320" y="2601720"/>
              <a:ext cx="993960" cy="40788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0"/>
            <p:cNvSpPr/>
            <p:nvPr/>
          </p:nvSpPr>
          <p:spPr>
            <a:xfrm>
              <a:off x="10703880" y="2557800"/>
              <a:ext cx="1187640" cy="4496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1"/>
            <p:cNvSpPr/>
            <p:nvPr/>
          </p:nvSpPr>
          <p:spPr>
            <a:xfrm>
              <a:off x="13095000" y="2289600"/>
              <a:ext cx="1634040" cy="1778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2"/>
            <p:cNvSpPr/>
            <p:nvPr/>
          </p:nvSpPr>
          <p:spPr>
            <a:xfrm>
              <a:off x="14691600" y="2286720"/>
              <a:ext cx="1677960" cy="30960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3"/>
            <p:cNvSpPr/>
            <p:nvPr/>
          </p:nvSpPr>
          <p:spPr>
            <a:xfrm>
              <a:off x="15563880" y="2612160"/>
              <a:ext cx="2499480" cy="3686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4"/>
            <p:cNvSpPr/>
            <p:nvPr/>
          </p:nvSpPr>
          <p:spPr>
            <a:xfrm>
              <a:off x="16657560" y="2426040"/>
              <a:ext cx="1256400" cy="29664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5"/>
          <p:cNvGrpSpPr/>
          <p:nvPr/>
        </p:nvGrpSpPr>
        <p:grpSpPr>
          <a:xfrm>
            <a:off x="41400" y="10028160"/>
            <a:ext cx="18050760" cy="223200"/>
            <a:chOff x="41400" y="10028160"/>
            <a:chExt cx="18050760" cy="223200"/>
          </a:xfrm>
        </p:grpSpPr>
        <p:sp>
          <p:nvSpPr>
            <p:cNvPr id="1019" name="Freeform 26"/>
            <p:cNvSpPr/>
            <p:nvPr/>
          </p:nvSpPr>
          <p:spPr>
            <a:xfrm>
              <a:off x="12670200" y="10066320"/>
              <a:ext cx="5421960" cy="18504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7"/>
            <p:cNvSpPr/>
            <p:nvPr/>
          </p:nvSpPr>
          <p:spPr>
            <a:xfrm>
              <a:off x="5438520" y="10043280"/>
              <a:ext cx="8296560" cy="15408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8"/>
            <p:cNvSpPr/>
            <p:nvPr/>
          </p:nvSpPr>
          <p:spPr>
            <a:xfrm>
              <a:off x="41400" y="10028160"/>
              <a:ext cx="6378120" cy="15876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350720" y="1251000"/>
            <a:ext cx="15301800" cy="1860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1350720" y="3223800"/>
            <a:ext cx="15301800" cy="66978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89000"/>
          </a:bodyPr>
          <a:p>
            <a:pPr marL="555120" indent="-555120">
              <a:spcBef>
                <a:spcPts val="1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1" marL="1203480" indent="-461880">
              <a:spcBef>
                <a:spcPts val="1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2" marL="1852200" indent="-369720">
              <a:spcBef>
                <a:spcPts val="1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3" marL="2593800" indent="-369720">
              <a:spcBef>
                <a:spcPts val="1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4" marL="3334320" indent="-369720">
              <a:spcBef>
                <a:spcPts val="1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5" marL="3334320" indent="-369720">
              <a:spcBef>
                <a:spcPts val="1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6" marL="3334320" indent="-369720">
              <a:spcBef>
                <a:spcPts val="1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64"/>
          </p:nvPr>
        </p:nvSpPr>
        <p:spPr>
          <a:xfrm>
            <a:off x="1350720" y="10333080"/>
            <a:ext cx="3749400" cy="7430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65"/>
          </p:nvPr>
        </p:nvSpPr>
        <p:spPr>
          <a:xfrm>
            <a:off x="6151320" y="10333080"/>
            <a:ext cx="5700600" cy="7430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66"/>
          </p:nvPr>
        </p:nvSpPr>
        <p:spPr>
          <a:xfrm>
            <a:off x="12901680" y="10333080"/>
            <a:ext cx="3749760" cy="7430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28B7-2FE6-4A8D-AE7A-0306210C52F9}" type="slidenum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10"/>
    <p:sldLayoutId id="2147483949" r:id="rId11"/>
    <p:sldLayoutId id="2147483950" r:id="rId12"/>
    <p:sldLayoutId id="2147483951" r:id="rId13"/>
    <p:sldLayoutId id="2147483952" r:id="rId14"/>
    <p:sldLayoutId id="2147483953" r:id="rId15"/>
    <p:sldLayoutId id="2147483954" r:id="rId16"/>
    <p:sldLayoutId id="2147483955" r:id="rId17"/>
    <p:sldLayoutId id="2147483956" r:id="rId18"/>
    <p:sldLayoutId id="2147483957" r:id="rId19"/>
    <p:sldLayoutId id="2147483958" r:id="rId20"/>
    <p:sldLayoutId id="2147483959" r:id="rId21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" descr=""/>
          <p:cNvPicPr/>
          <p:nvPr/>
        </p:nvPicPr>
        <p:blipFill>
          <a:blip r:embed="rId2"/>
          <a:srcRect l="9083" t="0" r="0" b="0"/>
          <a:stretch/>
        </p:blipFill>
        <p:spPr>
          <a:xfrm>
            <a:off x="0" y="-17640"/>
            <a:ext cx="18089640" cy="11161800"/>
          </a:xfrm>
          <a:prstGeom prst="rect">
            <a:avLst/>
          </a:prstGeom>
          <a:ln w="0">
            <a:noFill/>
          </a:ln>
        </p:spPr>
      </p:pic>
      <p:sp>
        <p:nvSpPr>
          <p:cNvPr id="1064" name="PlaceHolder 1"/>
          <p:cNvSpPr>
            <a:spLocks noGrp="1"/>
          </p:cNvSpPr>
          <p:nvPr>
            <p:ph type="dt" idx="67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68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69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428A-EDA1-44A1-8041-200FE20C23D6}" type="slidenum">
              <a:rPr b="0" lang="zh-TW" sz="2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3"/>
          <a:stretch/>
        </p:blipFill>
        <p:spPr>
          <a:xfrm>
            <a:off x="0" y="8485200"/>
            <a:ext cx="2895480" cy="2676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9640" y="447480"/>
            <a:ext cx="15308280" cy="18586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80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0000" y="2604600"/>
            <a:ext cx="16202160" cy="736596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98000"/>
          </a:bodyPr>
          <a:p>
            <a:pPr marL="611280" indent="-61128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1" marL="1325160" indent="-50868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2" marL="2039400" indent="-40716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3" marL="2856240" indent="-40716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4" marL="3672720" indent="-407160">
              <a:spcBef>
                <a:spcPts val="1451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5" marL="3672720" indent="-407160">
              <a:spcBef>
                <a:spcPts val="1451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  <a:p>
            <a:pPr lvl="6" marL="3672720" indent="-407160">
              <a:spcBef>
                <a:spcPts val="1451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58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900000" y="10345320"/>
            <a:ext cx="4200480" cy="593640"/>
          </a:xfrm>
          <a:prstGeom prst="rect">
            <a:avLst/>
          </a:prstGeom>
          <a:noFill/>
          <a:ln w="0">
            <a:noFill/>
          </a:ln>
        </p:spPr>
        <p:txBody>
          <a:bodyPr lIns="499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6151320" y="10345320"/>
            <a:ext cx="5700600" cy="5936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12901680" y="10345320"/>
            <a:ext cx="4200480" cy="59364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83160" bIns="8316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17B2-D440-42D8-9A2C-FF3440646509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18027000" cy="1231560"/>
            <a:chOff x="0" y="0"/>
            <a:chExt cx="18027000" cy="1231560"/>
          </a:xfrm>
        </p:grpSpPr>
        <p:sp>
          <p:nvSpPr>
            <p:cNvPr id="122" name="Freeform 3"/>
            <p:cNvSpPr/>
            <p:nvPr/>
          </p:nvSpPr>
          <p:spPr>
            <a:xfrm>
              <a:off x="15480" y="0"/>
              <a:ext cx="18011520" cy="123156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0" y="252720"/>
              <a:ext cx="799920" cy="65340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174960" y="0"/>
              <a:ext cx="2212560" cy="118512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409320" y="694440"/>
              <a:ext cx="784440" cy="50112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1065960" y="0"/>
              <a:ext cx="496800" cy="186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1524960" y="0"/>
              <a:ext cx="1421640" cy="55800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525200" y="95400"/>
              <a:ext cx="1294200" cy="27864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5594040" y="0"/>
              <a:ext cx="1625040" cy="58068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6072480" y="397440"/>
              <a:ext cx="1347120" cy="60192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7069680" y="224640"/>
              <a:ext cx="1237320" cy="58608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7076160" y="619560"/>
              <a:ext cx="1612080" cy="57600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8510760" y="836640"/>
              <a:ext cx="1293480" cy="25812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9892080" y="968400"/>
              <a:ext cx="468360" cy="18540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10823400" y="689040"/>
              <a:ext cx="462600" cy="23544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11189160" y="149760"/>
              <a:ext cx="2931120" cy="40788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11520000" y="374040"/>
              <a:ext cx="1162800" cy="25344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11307240" y="795240"/>
              <a:ext cx="994320" cy="40788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10666800" y="751320"/>
              <a:ext cx="1187640" cy="44964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13057920" y="483120"/>
              <a:ext cx="1634400" cy="1778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14654880" y="480240"/>
              <a:ext cx="1678320" cy="30960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15527520" y="805680"/>
              <a:ext cx="2499480" cy="3686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16620840" y="619560"/>
              <a:ext cx="1256400" cy="29664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0058400"/>
            <a:ext cx="18050760" cy="224640"/>
            <a:chOff x="0" y="10058400"/>
            <a:chExt cx="18050760" cy="224640"/>
          </a:xfrm>
        </p:grpSpPr>
        <p:sp>
          <p:nvSpPr>
            <p:cNvPr id="145" name="Freeform 26"/>
            <p:cNvSpPr/>
            <p:nvPr/>
          </p:nvSpPr>
          <p:spPr>
            <a:xfrm>
              <a:off x="12628800" y="10096920"/>
              <a:ext cx="5421960" cy="18612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5397120" y="10073520"/>
              <a:ext cx="8296560" cy="15516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>
              <a:off x="0" y="10058400"/>
              <a:ext cx="6378120" cy="15984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0720" y="1251000"/>
            <a:ext cx="15301800" cy="1860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350720" y="3223800"/>
            <a:ext cx="15301800" cy="66978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 fontScale="89000"/>
          </a:bodyPr>
          <a:p>
            <a:pPr marL="555120" indent="-555120">
              <a:spcBef>
                <a:spcPts val="1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1" marL="1203480" indent="-461880">
              <a:spcBef>
                <a:spcPts val="1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2" marL="1852200" indent="-369720">
              <a:spcBef>
                <a:spcPts val="1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3" marL="2593800" indent="-369720">
              <a:spcBef>
                <a:spcPts val="1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4" marL="3334320" indent="-369720">
              <a:spcBef>
                <a:spcPts val="1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5" marL="3334320" indent="-369720">
              <a:spcBef>
                <a:spcPts val="1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  <a:p>
            <a:pPr lvl="6" marL="3334320" indent="-369720">
              <a:spcBef>
                <a:spcPts val="1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5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1309680" y="10363320"/>
            <a:ext cx="374976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6109920" y="10363320"/>
            <a:ext cx="57006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12860280" y="10363320"/>
            <a:ext cx="3751200" cy="7444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DD91-23B3-4216-8969-7311392C11C9}" type="slidenum"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dt" idx="10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CFF-E0F9-4086-8F8D-C74AFE2ACC71}" type="datetime">
              <a:rPr b="0" lang="zh-CN" sz="2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11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2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F1F1-7359-4770-AC6D-8B4CF4A0DE02}" type="slidenum">
              <a:rPr b="0" lang="zh-CN" sz="2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图片 6" descr=""/>
          <p:cNvPicPr/>
          <p:nvPr/>
        </p:nvPicPr>
        <p:blipFill>
          <a:blip r:embed="rId2"/>
          <a:srcRect l="9083" t="0" r="0" b="0"/>
          <a:stretch/>
        </p:blipFill>
        <p:spPr>
          <a:xfrm>
            <a:off x="0" y="-17640"/>
            <a:ext cx="18089640" cy="111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72EE-EF89-4B01-9E5F-59FF5D4DCE5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6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7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8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8146-9F04-4CD7-AA0E-9755A26083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dt" idx="19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0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1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FCF4-2513-4B8C-A162-DBAB18C076C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44280"/>
            <a:ext cx="17980200" cy="1514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15067440" y="111240"/>
            <a:ext cx="1857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6680" rIns="166680" tIns="83160" bIns="83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dt" idx="22"/>
          </p:nvPr>
        </p:nvSpPr>
        <p:spPr>
          <a:xfrm>
            <a:off x="90000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3"/>
          </p:nvPr>
        </p:nvSpPr>
        <p:spPr>
          <a:xfrm>
            <a:off x="6151320" y="10345680"/>
            <a:ext cx="570060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4"/>
          </p:nvPr>
        </p:nvSpPr>
        <p:spPr>
          <a:xfrm>
            <a:off x="12901680" y="10345680"/>
            <a:ext cx="4200480" cy="59688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F59-3AFE-45AB-980E-81DC858DB23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5" descr="https://timgsa.baidu.com/timg?image&amp;quality=80&amp;size=b10000_10000&amp;sec=1473258146046&amp;di=9c26269513e36b32ce186304e6d6ea18&amp;imgtype=jpg&amp;src=http%3A%2F%2Fimg1.ph.126.net%2Fkn8aoigem98b7FPrvlK_Lw%3D%3D%2F6630194753467250320.jpg"/>
          <p:cNvPicPr/>
          <p:nvPr/>
        </p:nvPicPr>
        <p:blipFill>
          <a:blip r:embed="rId1"/>
          <a:stretch/>
        </p:blipFill>
        <p:spPr>
          <a:xfrm>
            <a:off x="0" y="0"/>
            <a:ext cx="18002160" cy="11161800"/>
          </a:xfrm>
          <a:prstGeom prst="rect">
            <a:avLst/>
          </a:prstGeom>
          <a:ln w="0">
            <a:noFill/>
          </a:ln>
        </p:spPr>
      </p:pic>
      <p:sp>
        <p:nvSpPr>
          <p:cNvPr id="1104" name="Text Box 2"/>
          <p:cNvSpPr/>
          <p:nvPr/>
        </p:nvSpPr>
        <p:spPr>
          <a:xfrm>
            <a:off x="5249880" y="4340160"/>
            <a:ext cx="76518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83160" bIns="83160" anchor="t">
            <a:spAutoFit/>
          </a:bodyPr>
          <a:p>
            <a:pPr algn="ctr">
              <a:spcBef>
                <a:spcPts val="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4"/>
          <p:cNvSpPr/>
          <p:nvPr/>
        </p:nvSpPr>
        <p:spPr>
          <a:xfrm>
            <a:off x="3286080" y="838080"/>
            <a:ext cx="128174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9900" spc="-1" strike="noStrike">
                <a:solidFill>
                  <a:srgbClr val="0070c0"/>
                </a:solidFill>
                <a:latin typeface="Times New Roman"/>
                <a:ea typeface="方正流行体简体"/>
              </a:rPr>
              <a:t>动 物 笑 谈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1"/>
          <p:cNvSpPr/>
          <p:nvPr/>
        </p:nvSpPr>
        <p:spPr>
          <a:xfrm>
            <a:off x="11896560" y="4713120"/>
            <a:ext cx="50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康拉德</a:t>
            </a:r>
            <a:r>
              <a:rPr b="0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·</a:t>
            </a:r>
            <a:r>
              <a:rPr b="0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劳伦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2"/>
          <p:cNvSpPr/>
          <p:nvPr/>
        </p:nvSpPr>
        <p:spPr>
          <a:xfrm>
            <a:off x="771480" y="1971720"/>
            <a:ext cx="1630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从作者身上发现了什么？你又受到了哪些启发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作者专注于动物行为研究，为了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探求真理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，不惜放下人类的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高贵身段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，与动物们打成一片。不明原委的人很容易把他的行为视为怪诞或发疯。由此看来，科学工作者不但要承受科学研究的艰苦劳动，还要能忍受人们的误解，这是尤其难能可贵的地方。我么应该认识到科学工作的艰辛，认识到打破世俗观念需要极大的勇气。这一切需要热爱与爱心，洒脱与旷达的胸怀才能实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3" descr="https://timgsa.baidu.com/timg?image&amp;quality=80&amp;size=b10000_10000&amp;sec=1473259068175&amp;di=f8737dcf6aadd25f2a28d1c28757e1b7&amp;imgtype=jpg&amp;src=http%3A%2F%2Fweituibao.qiniudn.com%2Ffiles%2Fphp%2Fupload%2Fimage%2F20150115%2F1421303184595363.jpg%2521editor.jpg"/>
          <p:cNvPicPr/>
          <p:nvPr/>
        </p:nvPicPr>
        <p:blipFill>
          <a:blip r:embed="rId1"/>
          <a:stretch/>
        </p:blipFill>
        <p:spPr>
          <a:xfrm>
            <a:off x="223920" y="476280"/>
            <a:ext cx="6038640" cy="40291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5" descr="https://timgsa.baidu.com/timg?image&amp;quality=80&amp;size=b10000_10000&amp;sec=1473259108883&amp;di=5ac141bc91facf47e13ad879750fdbad&amp;imgtype=jpg&amp;src=http%3A%2F%2Fs11.sinaimg.cn%2Fmw690%2F003AhXAhgy6T0MR4Aauca%26amp%3B690"/>
          <p:cNvPicPr/>
          <p:nvPr/>
        </p:nvPicPr>
        <p:blipFill>
          <a:blip r:embed="rId2"/>
          <a:stretch/>
        </p:blipFill>
        <p:spPr>
          <a:xfrm>
            <a:off x="6296040" y="4362480"/>
            <a:ext cx="5516640" cy="37306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7" descr="https://timgsa.baidu.com/timg?image&amp;quality=80&amp;size=b10000_10000&amp;sec=1473259142095&amp;di=67c02d9d08bcef6afcaf6f352699fd2b&amp;imgtype=jpg&amp;src=http%3A%2F%2Fngdsb.hinews.cn%2Fresfile%2F2013-05-31%2F030%2Fng20130531_030b002.jpg"/>
          <p:cNvPicPr/>
          <p:nvPr/>
        </p:nvPicPr>
        <p:blipFill>
          <a:blip r:embed="rId3"/>
          <a:stretch/>
        </p:blipFill>
        <p:spPr>
          <a:xfrm>
            <a:off x="12125160" y="7958160"/>
            <a:ext cx="409752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Picture 2" descr="https://timgsa.baidu.com/timg?image&amp;quality=80&amp;size=b10000_10000&amp;sec=1473259214825&amp;di=560599d04639916b208eb700c5136d7b&amp;imgtype=jpg&amp;src=http%3A%2F%2Fwww.socar.cc%2Fd%2Ffile%2Flvyou%2Fguonei%2F2016-08-29%2F6b0893cfe757370319191bf9e2406891.jpg"/>
          <p:cNvPicPr/>
          <p:nvPr/>
        </p:nvPicPr>
        <p:blipFill>
          <a:blip r:embed="rId1"/>
          <a:stretch/>
        </p:blipFill>
        <p:spPr>
          <a:xfrm>
            <a:off x="1609560" y="1517760"/>
            <a:ext cx="5276880" cy="30733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https://timgsa.baidu.com/timg?image&amp;quality=80&amp;size=b10000_10000&amp;sec=1473259235886&amp;di=98284a595a98fa9680c3cba32cc1012f&amp;imgtype=jpg&amp;src=http%3A%2F%2Fphotocdn.sohu.com%2F20110111%2FImg278797435.jpg"/>
          <p:cNvPicPr/>
          <p:nvPr/>
        </p:nvPicPr>
        <p:blipFill>
          <a:blip r:embed="rId2"/>
          <a:stretch/>
        </p:blipFill>
        <p:spPr>
          <a:xfrm>
            <a:off x="11287080" y="1305000"/>
            <a:ext cx="4876920" cy="3276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6" descr="https://timgsa.baidu.com/timg?image&amp;quality=80&amp;size=b10000_10000&amp;sec=1473259273930&amp;di=59cc2f5bab0ce912c4b309052147756d&amp;imgtype=jpg&amp;src=http%3A%2F%2Fimg2.3lian.com%2F2014%2Ff4%2F106%2Fd%2F90.jpg"/>
          <p:cNvPicPr/>
          <p:nvPr/>
        </p:nvPicPr>
        <p:blipFill>
          <a:blip r:embed="rId3"/>
          <a:stretch/>
        </p:blipFill>
        <p:spPr>
          <a:xfrm>
            <a:off x="3591000" y="4768920"/>
            <a:ext cx="11048760" cy="6334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350720" y="495360"/>
            <a:ext cx="1245060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1350720" y="2728800"/>
            <a:ext cx="15301800" cy="68198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2" descr="C:\Documents and Settings\zhaoqingju\桌面\{9E048488-6E42-432A-BBB4-CE60C38E2DB4}.bmp"/>
          <p:cNvPicPr/>
          <p:nvPr/>
        </p:nvPicPr>
        <p:blipFill>
          <a:blip r:embed="rId2"/>
          <a:stretch/>
        </p:blipFill>
        <p:spPr>
          <a:xfrm>
            <a:off x="0" y="0"/>
            <a:ext cx="18002160" cy="11120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4"/>
          <p:cNvSpPr/>
          <p:nvPr/>
        </p:nvSpPr>
        <p:spPr>
          <a:xfrm>
            <a:off x="1305000" y="933480"/>
            <a:ext cx="944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5"/>
          <p:cNvSpPr/>
          <p:nvPr/>
        </p:nvSpPr>
        <p:spPr>
          <a:xfrm>
            <a:off x="7788240" y="2400480"/>
            <a:ext cx="967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康拉德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劳伦兹（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903—1989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），奥地利动物行为学家、科普作家。曾获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97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年诺贝尔生理医学奖。除了在学术上的成就之外，劳伦兹最为人所称道的，是他在动物行为方面的通俗写作，著有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所罗门王的指环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攻击的秘密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雁语者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狗的家世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等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6" descr="J77KOXAAPM_M[2P2$7AQ}5I"/>
          <p:cNvPicPr/>
          <p:nvPr/>
        </p:nvPicPr>
        <p:blipFill>
          <a:blip r:embed="rId1"/>
          <a:stretch/>
        </p:blipFill>
        <p:spPr>
          <a:xfrm>
            <a:off x="1457280" y="2610000"/>
            <a:ext cx="5791320" cy="7391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 Box 2"/>
          <p:cNvSpPr/>
          <p:nvPr/>
        </p:nvSpPr>
        <p:spPr>
          <a:xfrm>
            <a:off x="923760" y="1390680"/>
            <a:ext cx="137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3"/>
          <p:cNvSpPr/>
          <p:nvPr/>
        </p:nvSpPr>
        <p:spPr>
          <a:xfrm>
            <a:off x="1990800" y="2762280"/>
            <a:ext cx="11887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了解科学小品的特点，学习科学小品的写法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了解课文内容，体会本文生动幽默的语言风格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感受作者专注、忘我的工作精神和极高的专业素养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4" descr="C:\Documents and Settings\zhaoqingju\桌面\1.bmp"/>
          <p:cNvPicPr/>
          <p:nvPr/>
        </p:nvPicPr>
        <p:blipFill>
          <a:blip r:embed="rId1"/>
          <a:stretch/>
        </p:blipFill>
        <p:spPr>
          <a:xfrm>
            <a:off x="14106600" y="7539120"/>
            <a:ext cx="3843360" cy="3622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ext Box 2"/>
          <p:cNvSpPr/>
          <p:nvPr/>
        </p:nvSpPr>
        <p:spPr>
          <a:xfrm>
            <a:off x="1533600" y="933480"/>
            <a:ext cx="156207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掌握生字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嗔（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chēn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）怪：对人表示不满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怪诞不经：离奇古怪，不合常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孵（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fū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）：鸟类伏在卵上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用体温使卵内的胚胎发育成幼体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凫（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fú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）：野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麝（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shè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）香鸭：一种水鸭，羽毛会散发出近似麝香的香气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大相径庭：彼此相差很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需索：索取，需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3" descr="https://timgsa.baidu.com/timg?image&amp;quality=80&amp;size=b10000_10000&amp;sec=1473258406182&amp;di=9e0e013a3dbbc5318f02b9ecd27de695&amp;imgtype=jpg&amp;src=http%3A%2F%2Fs8.sinaimg.cn%2Fmw690%2F001PnvR9zy6OUoBVsfda7%26690"/>
          <p:cNvPicPr/>
          <p:nvPr/>
        </p:nvPicPr>
        <p:blipFill>
          <a:blip r:embed="rId1"/>
          <a:stretch/>
        </p:blipFill>
        <p:spPr>
          <a:xfrm>
            <a:off x="13192200" y="7659720"/>
            <a:ext cx="4809960" cy="3484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1762200" y="1085760"/>
            <a:ext cx="14934960" cy="9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神采奕奕（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yì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）：形容精神饱满，容光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焕发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秃鹰：又名白头海雕，为北美所有，是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一种大型猛禽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鹳（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ɡuàn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一种形似白鹤的鸟，羽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灰白色或黑色，嘴长而直，生活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江、湖、池沼的近旁，以鱼虾为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蹒跚（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pán shān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）：腿脚不灵便，走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缓慢、摇摆的样子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3" descr="https://timgsa.baidu.com/timg?image&amp;quality=80&amp;size=b10000_10000&amp;sec=1473258698670&amp;di=4f9a01fa0ff0a2e39fe5f64919faf63c&amp;imgtype=jpg&amp;src=http%3A%2F%2Fdimg09.c-ctrip.com%2Fimages%2Ffd%2Ftg%2Fg4%2FM06%2F48%2F73%2FCggYHlX3uMGAUREzABNQZIlUO88428_C_671_10000.jpg"/>
          <p:cNvPicPr/>
          <p:nvPr/>
        </p:nvPicPr>
        <p:blipFill>
          <a:blip r:embed="rId1"/>
          <a:stretch/>
        </p:blipFill>
        <p:spPr>
          <a:xfrm>
            <a:off x="12387240" y="6951600"/>
            <a:ext cx="5614920" cy="4210200"/>
          </a:xfrm>
          <a:prstGeom prst="rect">
            <a:avLst/>
          </a:prstGeom>
          <a:ln w="0">
            <a:noFill/>
          </a:ln>
        </p:spPr>
      </p:pic>
      <p:sp>
        <p:nvSpPr>
          <p:cNvPr id="1117" name="Text Box 2"/>
          <p:cNvSpPr/>
          <p:nvPr/>
        </p:nvSpPr>
        <p:spPr>
          <a:xfrm>
            <a:off x="1152360" y="1314360"/>
            <a:ext cx="1371600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默读课文，说说课文都写了动物哪些可笑的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第一件可笑的事验证小水鸭凭声音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领母亲（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-9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第二件可笑的事是化装撒旦给小穴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上锡环（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0-13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第三件可笑的事是学鸟叫唤回试图远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飞的大鹦鹉“可可”（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1-23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2"/>
          <p:cNvSpPr/>
          <p:nvPr/>
        </p:nvSpPr>
        <p:spPr>
          <a:xfrm>
            <a:off x="542880" y="1547640"/>
            <a:ext cx="123444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重点问题探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可可由“我”养后有什么变化吗？你从这些变化中读出了什么？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开始时不敢随意行动，坐在树枝上想飞却又不敢飞；后来变得活泼而神采奕奕起来，并且对我恋恋不舍。这是因为“我”对动物的尊重与爱，把它们视为平等的朋友，使它恢复了本来的面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Picture 3" descr="https://timgsa.baidu.com/timg?image&amp;quality=80&amp;size=b10000_10000&amp;sec=1473258836723&amp;di=ac489e9aaeb5b66d64d8375a641e4f4a&amp;imgtype=jpg&amp;src=http%3A%2F%2Fm2.quanjing.com%2F2m%2Fminden006%2Fmin00447673.jpg"/>
          <p:cNvPicPr/>
          <p:nvPr/>
        </p:nvPicPr>
        <p:blipFill>
          <a:blip r:embed="rId1"/>
          <a:stretch/>
        </p:blipFill>
        <p:spPr>
          <a:xfrm>
            <a:off x="13039560" y="5118120"/>
            <a:ext cx="4962600" cy="5872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2"/>
          <p:cNvSpPr/>
          <p:nvPr/>
        </p:nvSpPr>
        <p:spPr>
          <a:xfrm>
            <a:off x="542880" y="2000160"/>
            <a:ext cx="1592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老天！这不是可可吗？它的翅膀稳定地动着，不是很清楚地表示它正要去做长途飞行？” 这几句话反映了此时“我”怎样的心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66800"/>
                <a:tab algn="l" pos="3333600"/>
                <a:tab algn="l" pos="5000760"/>
                <a:tab algn="l" pos="6667560"/>
                <a:tab algn="l" pos="8334360"/>
                <a:tab algn="l" pos="1000116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一个方面为“可可”的飞行感到骄傲，另一个方面又对它的即将离去恋恋不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3" descr="https://timgsa.baidu.com/timg?image&amp;quality=80&amp;size=b10000_10000&amp;sec=1473258959001&amp;di=fc21a16d588eea4f4f575404a96f567d&amp;imgtype=jpg&amp;src=http%3A%2F%2Fimg3.douban.com%2Fview%2Fnote%2Flarge%2Fpublic%2Fp8240473.jpg"/>
          <p:cNvPicPr/>
          <p:nvPr/>
        </p:nvPicPr>
        <p:blipFill>
          <a:blip r:embed="rId1"/>
          <a:stretch/>
        </p:blipFill>
        <p:spPr>
          <a:xfrm>
            <a:off x="12031560" y="6951600"/>
            <a:ext cx="5956560" cy="4210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34440" y="1619280"/>
            <a:ext cx="14609880" cy="681984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83160" bIns="8316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经历了一番反复的思想斗争后，“我到底还是叫了”。揣摩“我”“叫了”之后的心理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叫”一方面表明“我”对鹦鹉可可的依恋之情，另一方面也表明“我”仍在继续自己的实验，看看能不能改变可可的习惯。可可的反应，让“我”尤其惊喜。这也是“我”的爱心所得到的回报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3" name="Picture 2" descr="https://timgsa.baidu.com/timg?image&amp;quality=80&amp;size=b10000_10000&amp;sec=1473259004210&amp;di=23a2bb97e975cf8153bd45e736854d0a&amp;imgtype=jpg&amp;src=http%3A%2F%2Fpic250.quanjing.com%2Fage_foto111%2Fn88-1745326.jpg"/>
          <p:cNvPicPr/>
          <p:nvPr/>
        </p:nvPicPr>
        <p:blipFill>
          <a:blip r:embed="rId1"/>
          <a:stretch/>
        </p:blipFill>
        <p:spPr>
          <a:xfrm>
            <a:off x="14868360" y="6461280"/>
            <a:ext cx="3133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07:55:43Z</dcterms:created>
  <dc:creator>语文备课大师【全免费】</dc:creator>
  <dc:description>语文备课大师【全免费】</dc:description>
  <dc:language>en-US</dc:language>
  <cp:lastModifiedBy>zhaoqingju</cp:lastModifiedBy>
  <dcterms:modified xsi:type="dcterms:W3CDTF">2017-09-16T18:05:59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Version">
    <vt:r8>1</vt:r8>
  </property>
</Properties>
</file>