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type.wav" ContentType="audio/x-wav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media/image24.wmf" ContentType="image/x-wmf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A69-CACD-468A-8AD5-C79EE1F5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1BE-616A-4830-90B0-D79EBCD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5AF-27DD-4D1E-AEB9-808EB4F1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4CA-F296-4FC2-B700-7EB4A270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851-C2F2-45D6-A5CF-AF1BDD9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E9F-0348-4BA9-9AD7-A2B39D93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0A8-01D0-4B66-B5E2-DECB797E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52D-053C-4881-B690-5A93122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2F7-A6F1-4A6D-A1B7-89CFEE32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F2F-25AA-4B77-B0DD-8A0A6EDE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E6D-1ACC-408B-8071-F27A584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08B-A922-4F14-9BB9-5081B3C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cai.7cxk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963-1B42-4102-9331-9A299A780E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6962" t="78985" r="0" b="0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66880" y="6548400"/>
            <a:ext cx="24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http://cai.7cxk.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中小学课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image" Target="../media/image24.wmf"/><Relationship Id="rId11" Type="http://schemas.openxmlformats.org/officeDocument/2006/relationships/image" Target="../media/image24.wmf"/><Relationship Id="rId12" Type="http://schemas.openxmlformats.org/officeDocument/2006/relationships/image" Target="../media/image24.wmf"/><Relationship Id="rId13" Type="http://schemas.openxmlformats.org/officeDocument/2006/relationships/image" Target="../media/image24.wmf"/><Relationship Id="rId1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shreg.wav" TargetMode="External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M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924360" y="315072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教会学生诵读，让学生在吟咏之中加深理解，熟读成诵。 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引导学生从形象入手，体会诗的意境，领会诗所表达的深刻的思想感情。 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隶书"/>
              </a:rPr>
              <a:t>引导学生了解有关诗歌产生的历史背景以及作者的生平、思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125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探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主题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本诗主题是什么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答：借月抒怀，表达惊讶、悲愤、同情、关切、安慰 之情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行楷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4920" y="189000"/>
            <a:ext cx="9144000" cy="662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我寄愁心与明月，随君直到夜郎西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句紧承上文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集中抒写了诗人此时此地的情怀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君”字一作“风”。这里所谓“夜郎”并不是指汉代的夜郎国，而是指隋代的夜郎县，其地当在今湖南辰溪一带；而龙标恰恰在辰溪以西，所以才有“直到夜郎西”的说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句中“愁心”二字也是蕴藏着丰富内容的，值得细细玩味。这里既有对老友遭遇的深刻忧虑，也有对当时现实的愤慨不平，有恳切的思念，也有热诚的关怀。王昌龄贬官前为江宁丞，去龙标是由江宁溯江而上的；远在扬州、行止不定的诗人自然无法与老友当面话别，只好把一片深情托付给千里明月，向老友遥致思念之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03280" y="262080"/>
            <a:ext cx="6554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登飞来峰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安石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飞 来 山 上 千 寻 塔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闻 说 鸡 鸣 见 日 升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 畏 浮 云 遮 望 眼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 缘 身 在 最 高 层。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12193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348000" y="404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飞来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0080" y="22096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安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029200" y="2438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95640" y="33336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24000" y="3286080"/>
            <a:ext cx="8686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Arial"/>
                <a:ea typeface="长城行楷体"/>
              </a:rPr>
              <a:t>作者简介：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华文行楷"/>
              </a:rPr>
              <a:t>王安石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字介甫，晚号半山。唐宋八大家之一。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华文行楷"/>
              </a:rPr>
              <a:t>著有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临川先生文集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  <a:ea typeface="华文行楷"/>
              </a:rPr>
              <a:t>》。宋神宗时，他致力于政治改革，表现了他勇于革新，不畏众议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8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0707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56360" y="11430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6880" y="934920"/>
            <a:ext cx="3273120" cy="4480920"/>
            <a:chOff x="5546880" y="934920"/>
            <a:chExt cx="3273120" cy="4480920"/>
          </a:xfrm>
        </p:grpSpPr>
        <p:sp>
          <p:nvSpPr>
            <p:cNvPr id="89" name="Text Box 6"/>
            <p:cNvSpPr/>
            <p:nvPr/>
          </p:nvSpPr>
          <p:spPr>
            <a:xfrm>
              <a:off x="5546880" y="934920"/>
              <a:ext cx="3273120" cy="448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飞来峰，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浙江绍兴城外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宝林山，唐宋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其上有应天塔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俗称塔山，古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传说此山自琅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县城东武县（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在山东诸城）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隶书"/>
                </a:rPr>
                <a:t>来，故名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"/>
            <p:cNvSpPr/>
            <p:nvPr/>
          </p:nvSpPr>
          <p:spPr>
            <a:xfrm>
              <a:off x="5655600" y="990360"/>
              <a:ext cx="246240" cy="304920"/>
            </a:xfrm>
            <a:prstGeom prst="star5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登飞来峰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思路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登飞来峰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是一首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哲理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诗。这首诗借写景抒发了诗人广阔的政治胸怀，以理入诗，表现了作者高瞻远瞩、不畏困难的心怀。一二句叙述自己行动，为后文议论打好基础。三四句议论，由前两句自己的生活经验体悟到一种人生哲理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4320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0880" y="609480"/>
            <a:ext cx="831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不畏浮云遮望眼，只缘身在最高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022840" y="170172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释义：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行楷"/>
              </a:rPr>
              <a:t>不怕被漂浮的云彩遮挡住双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华文行楷"/>
              </a:rPr>
              <a:t>只是因为自己处在（山）的最高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66560" y="321300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哲理：</a:t>
            </a:r>
            <a:r>
              <a:rPr b="1" lang="zh-CN" sz="4000" spc="-1" strike="noStrike">
                <a:solidFill>
                  <a:srgbClr val="666633"/>
                </a:solidFill>
                <a:latin typeface="Arial"/>
                <a:ea typeface="华文行楷"/>
              </a:rPr>
              <a:t>观察事物，解决问题，要站得高，看得远，否则会被眼前的小事所羁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破山寺后禅院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唐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常建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常建简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708-765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生卒年、字号不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代诗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长安（今陕西西安）人。开元十五年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进士。天宝中年为盱眙尉。后隐居西山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生沉沦失意，耿介自守，交游无显贵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王昌龄有文字相酬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诗意境清迥，语言洗炼自然，艺术上有独特造诣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现存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首，题材较窄，绝大部分是描写田园风光、山林逸趣的。名作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题破山寺后禅院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吊王将军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一些优秀的边塞诗。今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建诗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卷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建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卷。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诗名：破山寺简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破山寺是指佛寺名。在今江苏省常熟市虞山北岭下。南朝齐始兴五年邑人郴州刺史倪德光舍宅建，唐咸通九年，赐额“破山兴福寺”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067280" y="3573360"/>
            <a:ext cx="45622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02920" y="693720"/>
            <a:ext cx="61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闻王昌龄左迁龙标遥有此寄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李白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杨花落尽子规啼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闻道龙标过五溪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我寄愁心与明月，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随君直到夜郎西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诗人的仕途失意，所以寄情山水，游览名山古刹，云游四海，寻幽探胜。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竹径通幽，花木掩映，天光、山色、澄波，不仅使鸟儿欢悦，而且令人杂念顿消。中间四句不仅写出环境的极静极美，而且体现出诗人内心的旨趣，富有言外之意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36480" y="1484280"/>
            <a:ext cx="8507520" cy="5073840"/>
          </a:xfrm>
          <a:prstGeom prst="rect">
            <a:avLst/>
          </a:prstGeom>
          <a:solidFill>
            <a:srgbClr val="808080">
              <a:alpha val="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：进入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初日：初升的太阳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竹径：一作曲径，径：小路。幽处：幽深的地方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禅房：僧侣的住所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悦：使愉快。鸟性：鸟的性情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空：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空，使没有杂念，使净化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籁：各种声音。此：这里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但：只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磬：寺院诵经、斋供时敲钟击磬作为信号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564000" y="404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词语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题破山寺后禅院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常建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晨入古寺，初日照高林。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竹径通幽处，禅房花木深。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光悦鸟性，潭影空人心。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籁此俱寂，但余钟磬音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清晨入古寺，初日照高林 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晨我走进这破山古寺，初升的太阳映照着高高的树林。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首联：清晨入古寺，初日照高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9528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清晨入古寺，初日照高林。”首句 “清晨”二字点明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出游的时间和地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诗人一大早就“入古寺”，可见他对这块佛教圣地的向往之切。“古寺”“高林”突出了破山寺的幽雅和宁静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曲径通幽处，禅房花木深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竹间小路通向幽静的去处，清静的禅房更显得草木深深。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颔联：曲径通幽处，禅房花木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2332080"/>
            <a:ext cx="82296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一联诗人抓住寺中独特的景物，以静衬静，形象地描绘了山寺幽深、清寂的景色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光悦鸟性，潭影空人心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明媚的山野风光使飞鸟更加快乐，潭中的清影使人的心境得到净化。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颈联：山光悦鸟性，潭影空人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8360" y="907920"/>
            <a:ext cx="82296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一联紧承上联，进一步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渲染了僧房幽深、清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“山光”山中的景色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“悦”，用作动词，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欢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“空人心”，使人心中的杂念消除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“空”，消除。形容词用作动词，“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句表面上是写山光使飞鸟也怡然自乐，实际上，鸟的怡然自乐是诗人心情愉悦的反映。下句写人心对潭影而空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既是诗人表达了宁静的内心感受，也隐约流露了对现实的愤慨和反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籁此俱寂，但余钟磬音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各种声响都在这里消失，只能听到寺院里撞击钟磬发出悠扬的声音。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李白"/>
          <p:cNvPicPr/>
          <p:nvPr/>
        </p:nvPicPr>
        <p:blipFill>
          <a:blip r:embed="rId1"/>
          <a:stretch/>
        </p:blipFill>
        <p:spPr>
          <a:xfrm>
            <a:off x="0" y="44280"/>
            <a:ext cx="2843280" cy="6813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987640" y="333360"/>
            <a:ext cx="60832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【作者简介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-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李白】</a:t>
            </a:r>
            <a:br>
              <a:rPr sz="3200"/>
            </a:b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　　李白，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701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～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762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字太白，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唐宗室凉武昭王九世孙，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青莲居士。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祖籍陇西成纪（甘肃天水县），先世于隋末流徙中亚，诞生在中亚的碎叶（前苏联）。五岁随父迁绵州的彰明县（四川江油）清廉乡。青年时接近过戴天山的道士和纵横家赵蕤，也受过儒家的影响。二十五岁“仗剑去国，辞亲远游”，后寓居安陆。</a:t>
            </a:r>
            <a:br>
              <a:rPr sz="3200"/>
            </a:br>
            <a:r>
              <a:rPr b="1" lang="zh-CN" sz="3200" spc="-1" strike="noStrike">
                <a:solidFill>
                  <a:srgbClr val="3399ff"/>
                </a:solidFill>
                <a:latin typeface="Times New Roman"/>
                <a:ea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尾联：万籁此俱寂，但余钟磬声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是上一联的补充，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进一步以钟磬音响轻轻回荡，以动衬静，映衬山寺万籁俱寂的宁静气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万籁”，指自然界万物发出的各种声响。“俱”，都，全部。“寂”，寂静，没有声音。成语“万籁俱寂”出于此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97000" y="2079720"/>
            <a:ext cx="83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首诗题咏的是佛寺禅院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抒发的是作者忘却世俗、寄情山水的隐逸胸怀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抓住山寺中独特的景物，运用了以静显静，以动显静的表现手法，塑造了一个幽深静寂、安祥和平、自然高远的境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4360" y="692280"/>
            <a:ext cx="302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心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21_2"/>
          <p:cNvPicPr/>
          <p:nvPr/>
        </p:nvPicPr>
        <p:blipFill>
          <a:blip r:embed="rId1"/>
          <a:stretch/>
        </p:blipFill>
        <p:spPr>
          <a:xfrm>
            <a:off x="-33480" y="0"/>
            <a:ext cx="9215640" cy="69152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/>
          <p:nvPr/>
        </p:nvSpPr>
        <p:spPr>
          <a:xfrm>
            <a:off x="1403280" y="907920"/>
            <a:ext cx="4608720" cy="144144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0066">
              <a:alpha val="94000"/>
            </a:srgbClr>
          </a:solidFill>
          <a:ln w="12600">
            <a:solidFill>
              <a:srgbClr val="ff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/>
          <p:nvPr/>
        </p:nvSpPr>
        <p:spPr>
          <a:xfrm rot="5400000">
            <a:off x="6013440" y="2965320"/>
            <a:ext cx="4494240" cy="1764000"/>
          </a:xfrm>
          <a:custGeom>
            <a:avLst/>
            <a:gdLst>
              <a:gd name="textAreaLeft" fmla="*/ 0 w 4494240"/>
              <a:gd name="textAreaRight" fmla="*/ 4494600 w 4494240"/>
              <a:gd name="textAreaTop" fmla="*/ 0 h 1764000"/>
              <a:gd name="textAreaBottom" fmla="*/ 1764360 h 17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0066"/>
          </a:solidFill>
          <a:ln cap="rnd" w="38160">
            <a:solidFill>
              <a:srgbClr val="b2b2b2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hanhu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620360" y="5715000"/>
            <a:ext cx="912240" cy="8251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泰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极顶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919120" y="5649840"/>
            <a:ext cx="1278000" cy="8251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日观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7913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碧霞寺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224720" y="6019920"/>
            <a:ext cx="1552320" cy="642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碧霞元君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高山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6238080" y="6019920"/>
            <a:ext cx="1278000" cy="642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道中石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飞来峰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165760" y="5715000"/>
            <a:ext cx="118656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隶书"/>
              </a:rPr>
              <a:t>飞来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一线天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871320" y="5703840"/>
            <a:ext cx="740160" cy="76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一线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杜甫2"/>
          <p:cNvPicPr/>
          <p:nvPr/>
        </p:nvPicPr>
        <p:blipFill>
          <a:blip r:embed="rId1"/>
          <a:stretch/>
        </p:blipFill>
        <p:spPr>
          <a:xfrm>
            <a:off x="0" y="0"/>
            <a:ext cx="4427640" cy="685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杜甫"/>
          <p:cNvPicPr/>
          <p:nvPr/>
        </p:nvPicPr>
        <p:blipFill>
          <a:blip r:embed="rId2"/>
          <a:stretch/>
        </p:blipFill>
        <p:spPr>
          <a:xfrm>
            <a:off x="4427640" y="-23760"/>
            <a:ext cx="4716360" cy="68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411280" y="117360"/>
            <a:ext cx="6769080" cy="66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杜甫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字子美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，公元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12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生于河南巩县（现巩义市）。二十岁起，漫游吴越、齐赵。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46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赴京应试，落第后旅居长安十年。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55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“安史之乱”爆发后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逃往风翔投奔肃宗拜为左拾遗。故世称杜拾遗。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后因得罪肃宗，被贬华州。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59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弃官西行，经天水同谷入蜀，于成都西郊浣花溪畔筑茅屋而居。前后住了四年，写诗两百四十余首，其中包括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《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蜀相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》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《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茅屋为秋风所破歌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》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等名篇。一度任检校工部员外郎，故世称杜工部。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65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携家经水路出蜀，至夔州又滞留二年。出三峡后飘泊于荆、湘，以舟为家。</a:t>
            </a:r>
            <a:r>
              <a:rPr b="0" lang="zh-CN" sz="2800" spc="-1" strike="noStrike">
                <a:solidFill>
                  <a:srgbClr val="cc66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70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年病逝于湘江舟中，卒年</a:t>
            </a:r>
            <a:r>
              <a:rPr b="0" lang="en-US" sz="2800" spc="-1" strike="noStrike">
                <a:solidFill>
                  <a:srgbClr val="cc6600"/>
                </a:solidFill>
                <a:latin typeface="隶书"/>
              </a:rPr>
              <a:t>59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116000" y="3286080"/>
            <a:ext cx="609480" cy="137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8000" y="333360"/>
            <a:ext cx="1990800" cy="5544720"/>
            <a:chOff x="108000" y="333360"/>
            <a:chExt cx="1990800" cy="5544720"/>
          </a:xfrm>
        </p:grpSpPr>
        <p:sp>
          <p:nvSpPr>
            <p:cNvPr id="150" name="Rectangle 5"/>
            <p:cNvSpPr/>
            <p:nvPr/>
          </p:nvSpPr>
          <p:spPr>
            <a:xfrm>
              <a:off x="345960" y="2815920"/>
              <a:ext cx="762120" cy="3062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6"/>
            <p:cNvSpPr/>
            <p:nvPr/>
          </p:nvSpPr>
          <p:spPr>
            <a:xfrm rot="5400000">
              <a:off x="-718200" y="4045320"/>
              <a:ext cx="2813760" cy="68580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7"/>
            <p:cNvSpPr/>
            <p:nvPr/>
          </p:nvSpPr>
          <p:spPr>
            <a:xfrm rot="5400000">
              <a:off x="864720" y="4369680"/>
              <a:ext cx="1324080" cy="533520"/>
            </a:xfrm>
            <a:custGeom>
              <a:avLst/>
              <a:gdLst>
                <a:gd name="textAreaLeft" fmla="*/ 0 w 1324080"/>
                <a:gd name="textAreaRight" fmla="*/ 1324440 w 1324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8" descr=""/>
            <p:cNvPicPr/>
            <p:nvPr/>
          </p:nvPicPr>
          <p:blipFill>
            <a:blip r:embed="rId1"/>
            <a:stretch/>
          </p:blipFill>
          <p:spPr>
            <a:xfrm>
              <a:off x="108000" y="333360"/>
              <a:ext cx="1990800" cy="2317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宋体"/>
              </a:rPr>
              <a:t>杜甫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宋体"/>
              </a:rPr>
              <a:t>20—35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宋体"/>
              </a:rPr>
              <a:t>岁时曾遍游中国的大江南北。《望岳》这组诗就是在他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宋体"/>
              </a:rPr>
              <a:t>24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宋体"/>
              </a:rPr>
              <a:t>岁时写成的。这组诗共三首，分东岳（泰山）、南岳（衡山）、西岳（华山）。书上这首诗即东岳泰山，是现存杜诗中年代最早的一首，字里行间洋溢着青壮年杜甫那种蓬勃的朝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755640" y="115200"/>
            <a:ext cx="746748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楷体_GB2312"/>
              </a:rPr>
              <a:t>题    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79280" y="1054080"/>
            <a:ext cx="8785440" cy="5327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杜甫“望岳”诗共三首，这一首是写望东岳泰山的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诗以“望”入题，赞叹东岳，讴歌造化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。希望凌顶而小天小，以抒雄心壮志。 开首两句，写泰山的高峻伟大，先写对它的仰慕，再写它横跨齐鲁两地的壮伟。三、四句写近望，所见泰山的神奇秀丽和能分割日夜的巍峨形象。五、六句写遥望，见山中云气层出不穷，心胸为之荡涤。最后两句写望岳而生登临峰顶之意愿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表达了诗人不怕困难，敢于攀登之雄心，显示出他坚韧不拔的性格和远大的政治抱负。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 “会当凌绝顶，一览众山小”千百年来为人们传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1104840" y="2835360"/>
            <a:ext cx="91422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57200" y="1428840"/>
            <a:ext cx="8305920" cy="2239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165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龙标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隶书"/>
              </a:rPr>
              <a:t>今湖南黔阳，唐时甚僻。诗中指王昌龄，古人常用官职或任官之地的州县名来称呼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左迁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隶书"/>
              </a:rPr>
              <a:t>古尊右卑左，即贬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宋体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9933"/>
                </a:solidFill>
                <a:latin typeface="宋体"/>
                <a:ea typeface="隶书"/>
              </a:rPr>
              <a:t>这首诗是作者为好友王昌龄贬官而作的抒发感愤、寄以慰藉的好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/>
          <p:nvPr/>
        </p:nvSpPr>
        <p:spPr>
          <a:xfrm>
            <a:off x="2989440" y="549360"/>
            <a:ext cx="3166920" cy="647640"/>
          </a:xfrm>
          <a:custGeom>
            <a:avLst/>
            <a:gdLst>
              <a:gd name="textAreaLeft" fmla="*/ 0 w 3166920"/>
              <a:gd name="textAreaRight" fmla="*/ 3167280 w 3166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84"/>
          <p:cNvPicPr/>
          <p:nvPr/>
        </p:nvPicPr>
        <p:blipFill>
          <a:blip r:embed="rId1"/>
          <a:stretch/>
        </p:blipFill>
        <p:spPr>
          <a:xfrm>
            <a:off x="457200" y="457200"/>
            <a:ext cx="4267080" cy="60199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4861080" y="117360"/>
            <a:ext cx="4176720" cy="655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观沧海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曹操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东临碣石，以观沧海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水何澹澹，山岛竦峙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树木丛生，百草丰茂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秋风萧瑟，洪波涌起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日月之行，若出其中；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星汉灿烂，若出其里。</a:t>
            </a:r>
            <a:br>
              <a:rPr sz="2800"/>
            </a:b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仿宋_GB2312"/>
              </a:rPr>
              <a:t>幸甚至哉，歌以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j167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3276720" y="0"/>
            <a:ext cx="4647600" cy="1828800"/>
            <a:chOff x="3276720" y="0"/>
            <a:chExt cx="4647600" cy="1828800"/>
          </a:xfrm>
        </p:grpSpPr>
        <p:sp>
          <p:nvSpPr>
            <p:cNvPr id="161" name="AutoShape 4"/>
            <p:cNvSpPr/>
            <p:nvPr/>
          </p:nvSpPr>
          <p:spPr>
            <a:xfrm>
              <a:off x="3276720" y="0"/>
              <a:ext cx="3657240" cy="1828800"/>
            </a:xfrm>
            <a:custGeom>
              <a:avLst/>
              <a:gdLst>
                <a:gd name="textAreaLeft" fmla="*/ 1146600 w 3657240"/>
                <a:gd name="textAreaRight" fmla="*/ 2510640 w 3657240"/>
                <a:gd name="textAreaTop" fmla="*/ 573480 h 1828800"/>
                <a:gd name="textAreaBottom" fmla="*/ 12553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773" y="6773"/>
                  </a:lnTo>
                  <a:lnTo>
                    <a:pt x="10800" y="0"/>
                  </a:lnTo>
                  <a:lnTo>
                    <a:pt x="14827" y="6773"/>
                  </a:lnTo>
                  <a:lnTo>
                    <a:pt x="21600" y="10800"/>
                  </a:lnTo>
                  <a:lnTo>
                    <a:pt x="14827" y="14827"/>
                  </a:lnTo>
                  <a:lnTo>
                    <a:pt x="10800" y="21600"/>
                  </a:lnTo>
                  <a:lnTo>
                    <a:pt x="6773" y="1482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4190760" y="577800"/>
              <a:ext cx="373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作者简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6"/>
          <p:cNvSpPr/>
          <p:nvPr/>
        </p:nvSpPr>
        <p:spPr>
          <a:xfrm>
            <a:off x="1219320" y="16905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曹操  字孟德，东汉末年政治家、军事家、诗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581280" y="2438280"/>
            <a:ext cx="3657600" cy="1295280"/>
            <a:chOff x="3581280" y="2438280"/>
            <a:chExt cx="3657600" cy="1295280"/>
          </a:xfrm>
        </p:grpSpPr>
        <p:sp>
          <p:nvSpPr>
            <p:cNvPr id="165" name="AutoShape 8"/>
            <p:cNvSpPr/>
            <p:nvPr/>
          </p:nvSpPr>
          <p:spPr>
            <a:xfrm>
              <a:off x="3581280" y="2438280"/>
              <a:ext cx="3505320" cy="1295280"/>
            </a:xfrm>
            <a:custGeom>
              <a:avLst/>
              <a:gdLst>
                <a:gd name="textAreaLeft" fmla="*/ 876240 w 3505320"/>
                <a:gd name="textAreaRight" fmla="*/ 2629080 w 3505320"/>
                <a:gd name="textAreaTop" fmla="*/ 38160 h 1295280"/>
                <a:gd name="textAreaBottom" fmla="*/ 971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arcTo wR="21600" hR="20153" stAng="-7304956" swAng="976834"/>
                  <a:lnTo>
                    <a:pt x="5400" y="640"/>
                  </a:lnTo>
                  <a:arcTo wR="21600" hR="20153" stAng="-6328122" swAng="1856244"/>
                  <a:lnTo>
                    <a:pt x="16200" y="3340"/>
                  </a:lnTo>
                  <a:arcTo wR="21600" hR="20153" stAng="-4471878" swAng="976834"/>
                  <a:lnTo>
                    <a:pt x="18900" y="12271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20153" stAng="-3495044" swAng="-1443536"/>
                  <a:lnTo>
                    <a:pt x="13500" y="16358"/>
                  </a:lnTo>
                  <a:arcTo wR="21600" hR="20153" stAng="-4938580" swAng="-922840"/>
                  <a:lnTo>
                    <a:pt x="8100" y="19058"/>
                  </a:lnTo>
                  <a:arcTo wR="21600" hR="20153" stAng="-5861420" swAng="-1443536"/>
                  <a:lnTo>
                    <a:pt x="2700" y="12271"/>
                  </a:lnTo>
                  <a:close/>
                </a:path>
                <a:path fill="none" w="21600" h="21600">
                  <a:moveTo>
                    <a:pt x="8100" y="16358"/>
                  </a:moveTo>
                  <a:arcTo wR="21600" hR="20153" stAng="-5861420" swAng="-466702"/>
                  <a:lnTo>
                    <a:pt x="8100" y="19058"/>
                  </a:lnTo>
                </a:path>
                <a:path fill="none" w="21600" h="21600">
                  <a:moveTo>
                    <a:pt x="13500" y="16358"/>
                  </a:moveTo>
                  <a:arcTo wR="21600" hR="20153" stAng="-4938580" swAng="466702"/>
                  <a:lnTo>
                    <a:pt x="13500" y="19058"/>
                  </a:lnTo>
                </a:path>
                <a:path fill="none" w="21600" h="21600">
                  <a:moveTo>
                    <a:pt x="5400" y="3340"/>
                  </a:moveTo>
                  <a:lnTo>
                    <a:pt x="5400" y="16840"/>
                  </a:lnTo>
                </a:path>
                <a:path fill="none" w="21600" h="21600">
                  <a:moveTo>
                    <a:pt x="16200" y="3340"/>
                  </a:moveTo>
                  <a:lnTo>
                    <a:pt x="16200" y="1684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4343400" y="2590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ahoma"/>
                  <a:ea typeface="华文新魏"/>
                </a:rPr>
                <a:t>写作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0"/>
          <p:cNvSpPr/>
          <p:nvPr/>
        </p:nvSpPr>
        <p:spPr>
          <a:xfrm>
            <a:off x="1447920" y="3670200"/>
            <a:ext cx="73152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观沧海》是曹操的名篇，是他北征乌桓时所作。公元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207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年，曹操亲率大军北上，追歼袁绍残部，五月誓师北伐，七月出卢龙寨，临碣石山。他跃马扬鞭，登山观海，面对洪波涌起的大海，触景生情，写下了这首壮丽的诗篇，透过它，我们可以看到诗人自己的胸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129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00280" y="1401840"/>
            <a:ext cx="8343720" cy="503280"/>
            <a:chOff x="800280" y="1401840"/>
            <a:chExt cx="8343720" cy="503280"/>
          </a:xfrm>
        </p:grpSpPr>
        <p:sp>
          <p:nvSpPr>
            <p:cNvPr id="170" name="Rectangle 4"/>
            <p:cNvSpPr/>
            <p:nvPr/>
          </p:nvSpPr>
          <p:spPr>
            <a:xfrm>
              <a:off x="800280" y="1447920"/>
              <a:ext cx="834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800280" y="1401840"/>
              <a:ext cx="834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曹操此篇，选自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组诗《步出夏门行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又称《陇西行》）属古乐府《相和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瑟调曲》。诗开头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辞（序曲），下分《观沧海》、《冬十月》、《土不同》、 《龟虽寿》四解（章）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当作于建安十二年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207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北征乌桓得胜回师途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东汉末年，军阀逐鹿中原之时，辽西一带的乌桓强盛起来，他们南下攻城掠地，成为严重边患。建安十年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0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曹操打败了袁绍，袁绍死，其子袁谭、袁尚逃到乌桓，勾结乌桓多次入塞为害。曹操于建安十二年夏率师北征。九月，胜利回师，途经碣石等地，借乐府《步出夏门行》旧题，写了这一有名的组诗。诗中描写河朔一带的风土景物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抒发个人的雄心壮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反映了诗人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踌躇满志、叱咤风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英雄气概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39640" y="-23760"/>
            <a:ext cx="29527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观沧海</a:t>
            </a:r>
            <a:br>
              <a:rPr sz="3600"/>
            </a:b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      曹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1371600"/>
            <a:ext cx="4572000" cy="43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东临碣石，以观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水何澹澹，山岛竦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树木丛生，百草丰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秋风萧瑟，洪波涌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日月之行，若出其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星汉灿烂，若出其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幸甚至哉，歌以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09880" y="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9480" y="4344840"/>
            <a:ext cx="241560" cy="514440"/>
            <a:chOff x="609480" y="4344840"/>
            <a:chExt cx="241560" cy="514440"/>
          </a:xfrm>
        </p:grpSpPr>
        <p:sp>
          <p:nvSpPr>
            <p:cNvPr id="177" name="Line 5"/>
            <p:cNvSpPr/>
            <p:nvPr/>
          </p:nvSpPr>
          <p:spPr>
            <a:xfrm>
              <a:off x="609480" y="4344840"/>
              <a:ext cx="241560" cy="514440"/>
            </a:xfrm>
            <a:prstGeom prst="line">
              <a:avLst/>
            </a:prstGeom>
            <a:ln cap="sq" w="572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09480" y="4344840"/>
              <a:ext cx="24156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160" y="4665240"/>
            <a:ext cx="3733920" cy="514440"/>
            <a:chOff x="533160" y="4665240"/>
            <a:chExt cx="3733920" cy="514440"/>
          </a:xfrm>
        </p:grpSpPr>
        <p:sp>
          <p:nvSpPr>
            <p:cNvPr id="180" name="Line 6"/>
            <p:cNvSpPr/>
            <p:nvPr/>
          </p:nvSpPr>
          <p:spPr>
            <a:xfrm flipV="1">
              <a:off x="533520" y="4665240"/>
              <a:ext cx="3733560" cy="514440"/>
            </a:xfrm>
            <a:prstGeom prst="line">
              <a:avLst/>
            </a:prstGeom>
            <a:ln cap="sq" w="572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533160" y="4665240"/>
              <a:ext cx="373356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7" descr="31"/>
          <p:cNvPicPr/>
          <p:nvPr/>
        </p:nvPicPr>
        <p:blipFill>
          <a:blip r:embed="rId1"/>
          <a:stretch/>
        </p:blipFill>
        <p:spPr>
          <a:xfrm>
            <a:off x="228600" y="5791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书"/>
          <p:cNvPicPr/>
          <p:nvPr/>
        </p:nvPicPr>
        <p:blipFill>
          <a:blip r:embed="rId2"/>
          <a:stretch/>
        </p:blipFill>
        <p:spPr>
          <a:xfrm>
            <a:off x="7391520" y="0"/>
            <a:ext cx="1199880" cy="993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5076720" y="1054080"/>
            <a:ext cx="3733920" cy="53308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临：登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沧海：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何：诗中是“多么”的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萧瑟：形容风吹草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：动词，停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造化：天地，大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决眦：决，裂开。眦，眼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0"/>
                            </p:stCondLst>
                            <p:childTnLst>
                              <p:par>
                                <p:cTn id="6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121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9960" y="1212840"/>
            <a:ext cx="8344080" cy="503280"/>
            <a:chOff x="399960" y="1212840"/>
            <a:chExt cx="8344080" cy="503280"/>
          </a:xfrm>
        </p:grpSpPr>
        <p:sp>
          <p:nvSpPr>
            <p:cNvPr id="187" name="Rectangle 4"/>
            <p:cNvSpPr/>
            <p:nvPr/>
          </p:nvSpPr>
          <p:spPr>
            <a:xfrm>
              <a:off x="399960" y="1258920"/>
              <a:ext cx="834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399960" y="1212840"/>
              <a:ext cx="834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6"/>
          <p:cNvSpPr/>
          <p:nvPr/>
        </p:nvSpPr>
        <p:spPr>
          <a:xfrm>
            <a:off x="179280" y="620640"/>
            <a:ext cx="8763120" cy="2244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东临碣石，以观沧海。水何澹澹，山岛竦峙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句点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观沧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的位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诗人登上碣石山顶，居高临海，大海的壮阔景象尽收眼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十句描写，由此拓展而来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何澹澹，山岛竦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望海初得的大致印象。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在 这水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澹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的海上，最先映入眼帘的是那突兀耸立的山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它们点缀在平阔的海面上，使大海显得神奇壮观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这两句写出了大海远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一般轮廓，下面再层层深入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50920" y="44280"/>
            <a:ext cx="8610480" cy="327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树木丛生，百草丰茂。秋风萧瑟，洪波涌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前二句具体写竦峙的山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虽然已到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秋风萧瑟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草木摇落的季节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但岛上树木繁茂，百草丰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给人生意盎然之感。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后二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则是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水何澹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句的进一层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描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定神细看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在秋风萧瑟中的海面竟是洪波巨澜，汹涌起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这儿，虽是秋天的典型环境，却无半点萧瑟凄凉的悲秋意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曹操面对萧瑟秋风，极写大海的辽阔壮美：在秋风萧瑟中，大海汹涌澎湃，浩淼接天；山岛高耸挺拔，草木繁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没有丝毫凋衰感伤的情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这种新的境界，新的格调，正反映了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老骥伏枥，志在千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烈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胸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50920" y="189000"/>
            <a:ext cx="8458200" cy="27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日月之行，若出其中；星汉灿烂，若出其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四句则联系廓落无垠的宇宙，将大海的气势和威力托现在读者面前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茫茫大海与天相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空蒙浑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在这雄奇壮丽的大海面前，日、月、星、汉（银河）都显得渺小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诗人在这里描写的大海，既是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眼前实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又融进了自己的想象和夸张，展现出一派吞吐宇宙的宏伟　气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这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笼盖吞吐气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诗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眼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景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交融而成的艺术境界，言为心声，如果诗人</a:t>
            </a:r>
            <a:r>
              <a:rPr b="1" i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没有宏伟的政治抱负，没有建功立业的雄心壮志，没有对前途充满信心的乐观气度，那是无论如何也写不出这样壮丽的诗境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08000" y="189000"/>
            <a:ext cx="883908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幸甚至哉，歌以咏志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这是合乐时的套语，与诗的内容无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观沧海》这首诗，从字面看，海水、山岛、草木、秋风，乃至日月星汉，全是眼前景物，这样纯写自然景物的诗歌，在我国文学史上，曹操以前似还不曾有过。它不但通篇写景，而且独具一格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堪称中国山水诗的最早佳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特别受到文学史家的厚爱。这首诗写秋天的大海，能够一洗悲秋的感伤情调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写得沉雄健爽，气象壮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这与曹操的气度、品格乃至美学情趣都是紧密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990720" y="1066680"/>
            <a:ext cx="777240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6" name="Picture 5" descr="DD00448_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6" descr="DD00448_"/>
            <p:cNvPicPr/>
            <p:nvPr/>
          </p:nvPicPr>
          <p:blipFill>
            <a:blip r:embed="rId2"/>
            <a:stretch/>
          </p:blipFill>
          <p:spPr>
            <a:xfrm>
              <a:off x="1066680" y="0"/>
              <a:ext cx="91440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DD00448_"/>
            <p:cNvPicPr/>
            <p:nvPr/>
          </p:nvPicPr>
          <p:blipFill>
            <a:blip r:embed="rId3"/>
            <a:stretch/>
          </p:blipFill>
          <p:spPr>
            <a:xfrm>
              <a:off x="0" y="114300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8" descr="DD00448_"/>
            <p:cNvPicPr/>
            <p:nvPr/>
          </p:nvPicPr>
          <p:blipFill>
            <a:blip r:embed="rId4"/>
            <a:stretch/>
          </p:blipFill>
          <p:spPr>
            <a:xfrm>
              <a:off x="0" y="236232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9" descr="DD00448_"/>
            <p:cNvPicPr/>
            <p:nvPr/>
          </p:nvPicPr>
          <p:blipFill>
            <a:blip r:embed="rId5"/>
            <a:stretch/>
          </p:blipFill>
          <p:spPr>
            <a:xfrm>
              <a:off x="228600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DD00448_"/>
            <p:cNvPicPr/>
            <p:nvPr/>
          </p:nvPicPr>
          <p:blipFill>
            <a:blip r:embed="rId6"/>
            <a:stretch/>
          </p:blipFill>
          <p:spPr>
            <a:xfrm>
              <a:off x="350532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1" descr="DD00448_"/>
            <p:cNvPicPr/>
            <p:nvPr/>
          </p:nvPicPr>
          <p:blipFill>
            <a:blip r:embed="rId7"/>
            <a:stretch/>
          </p:blipFill>
          <p:spPr>
            <a:xfrm>
              <a:off x="472428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2" descr="DD00448_"/>
            <p:cNvPicPr/>
            <p:nvPr/>
          </p:nvPicPr>
          <p:blipFill>
            <a:blip r:embed="rId8"/>
            <a:stretch/>
          </p:blipFill>
          <p:spPr>
            <a:xfrm>
              <a:off x="593100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3" descr="DD00448_"/>
            <p:cNvPicPr/>
            <p:nvPr/>
          </p:nvPicPr>
          <p:blipFill>
            <a:blip r:embed="rId9"/>
            <a:stretch/>
          </p:blipFill>
          <p:spPr>
            <a:xfrm>
              <a:off x="7162920" y="0"/>
              <a:ext cx="8506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4" descr="DD00448_"/>
            <p:cNvPicPr/>
            <p:nvPr/>
          </p:nvPicPr>
          <p:blipFill>
            <a:blip r:embed="rId10"/>
            <a:stretch/>
          </p:blipFill>
          <p:spPr>
            <a:xfrm>
              <a:off x="8292960" y="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5" descr="DD00448_"/>
            <p:cNvPicPr/>
            <p:nvPr/>
          </p:nvPicPr>
          <p:blipFill>
            <a:blip r:embed="rId11"/>
            <a:stretch/>
          </p:blipFill>
          <p:spPr>
            <a:xfrm>
              <a:off x="0" y="358128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6" descr="DD00448_"/>
            <p:cNvPicPr/>
            <p:nvPr/>
          </p:nvPicPr>
          <p:blipFill>
            <a:blip r:embed="rId12"/>
            <a:stretch/>
          </p:blipFill>
          <p:spPr>
            <a:xfrm>
              <a:off x="0" y="4724280"/>
              <a:ext cx="8510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DD00448_"/>
            <p:cNvPicPr/>
            <p:nvPr/>
          </p:nvPicPr>
          <p:blipFill>
            <a:blip r:embed="rId13"/>
            <a:stretch/>
          </p:blipFill>
          <p:spPr>
            <a:xfrm>
              <a:off x="0" y="5905440"/>
              <a:ext cx="85104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1523880" y="3429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514600" y="25448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Arial"/>
                <a:ea typeface="隶书"/>
              </a:rPr>
              <a:t>状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51460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Arial"/>
                <a:ea typeface="隶书"/>
              </a:rPr>
              <a:t>声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590920" y="4983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Arial"/>
                <a:ea typeface="隶书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657600" y="2147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水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 澹澹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山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竦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3657600" y="2986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树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丛生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草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丰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581280" y="3809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秋风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萧瑟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洪波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涌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1447920" y="3200400"/>
            <a:ext cx="79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c866"/>
                </a:solidFill>
                <a:latin typeface="Arial"/>
                <a:ea typeface="隶书"/>
              </a:rPr>
              <a:t>观沧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581280" y="4572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日月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若出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3657600" y="5500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星汉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若出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8"/>
          <p:cNvSpPr/>
          <p:nvPr/>
        </p:nvSpPr>
        <p:spPr>
          <a:xfrm>
            <a:off x="2286000" y="28954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9"/>
          <p:cNvSpPr/>
          <p:nvPr/>
        </p:nvSpPr>
        <p:spPr>
          <a:xfrm>
            <a:off x="3581280" y="23623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3581280" y="48769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6781680" y="2895480"/>
            <a:ext cx="381240" cy="2514600"/>
          </a:xfrm>
          <a:custGeom>
            <a:avLst/>
            <a:gdLst>
              <a:gd name="textAreaLeft" fmla="*/ 0 w 381240"/>
              <a:gd name="textAreaRight" fmla="*/ 137520 w 3812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7253280" y="3352680"/>
            <a:ext cx="6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Arial"/>
                <a:ea typeface="隶书"/>
              </a:rPr>
              <a:t>博大胸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7786800" y="3352680"/>
            <a:ext cx="67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c866"/>
                </a:solidFill>
                <a:latin typeface="Arial"/>
                <a:ea typeface="隶书"/>
              </a:rPr>
              <a:t>建功立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-2359080" y="0"/>
            <a:ext cx="830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观沧海</a:t>
            </a:r>
            <a:br>
              <a:rPr sz="3600"/>
            </a:b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      曹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371600"/>
            <a:ext cx="45720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东临碣石，以观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水何澹澹，山岛竦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树木丛生，百草丰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秋风萧瑟，洪波涌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日月之行，若出其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星汉灿烂，若出其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仿宋_GB2312"/>
              </a:rPr>
              <a:t>幸甚至哉，歌以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315200" y="13716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总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257800" y="1523880"/>
            <a:ext cx="228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     </a:t>
            </a: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     </a:t>
            </a: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876920" y="3886200"/>
            <a:ext cx="152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4952880" y="2514600"/>
            <a:ext cx="457200" cy="768240"/>
          </a:xfrm>
          <a:custGeom>
            <a:avLst/>
            <a:gdLst>
              <a:gd name="textAreaLeft" fmla="*/ 61200 w 457200"/>
              <a:gd name="textAreaRight" fmla="*/ 396000 w 457200"/>
              <a:gd name="textAreaTop" fmla="*/ 134280 h 768240"/>
              <a:gd name="textAreaBottom" fmla="*/ 55692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029200" y="4130640"/>
            <a:ext cx="457200" cy="768240"/>
          </a:xfrm>
          <a:custGeom>
            <a:avLst/>
            <a:gdLst>
              <a:gd name="textAreaLeft" fmla="*/ 61200 w 457200"/>
              <a:gd name="textAreaRight" fmla="*/ 396000 w 457200"/>
              <a:gd name="textAreaTop" fmla="*/ 134280 h 768240"/>
              <a:gd name="textAreaBottom" fmla="*/ 55692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6477120" y="3425760"/>
            <a:ext cx="609480" cy="768240"/>
          </a:xfrm>
          <a:custGeom>
            <a:avLst/>
            <a:gdLst>
              <a:gd name="textAreaLeft" fmla="*/ 81360 w 609480"/>
              <a:gd name="textAreaRight" fmla="*/ 528120 w 609480"/>
              <a:gd name="textAreaTop" fmla="*/ 134280 h 768240"/>
              <a:gd name="textAreaBottom" fmla="*/ 55692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3915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分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809880" y="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480" y="4344840"/>
            <a:ext cx="241560" cy="514440"/>
            <a:chOff x="609480" y="4344840"/>
            <a:chExt cx="241560" cy="514440"/>
          </a:xfrm>
        </p:grpSpPr>
        <p:sp>
          <p:nvSpPr>
            <p:cNvPr id="236" name="Line 12"/>
            <p:cNvSpPr/>
            <p:nvPr/>
          </p:nvSpPr>
          <p:spPr>
            <a:xfrm>
              <a:off x="609480" y="4344840"/>
              <a:ext cx="241560" cy="514440"/>
            </a:xfrm>
            <a:prstGeom prst="line">
              <a:avLst/>
            </a:prstGeom>
            <a:ln cap="sq" w="572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09480" y="4344840"/>
              <a:ext cx="24156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160" y="4665240"/>
            <a:ext cx="3733920" cy="514440"/>
            <a:chOff x="533160" y="4665240"/>
            <a:chExt cx="3733920" cy="514440"/>
          </a:xfrm>
        </p:grpSpPr>
        <p:sp>
          <p:nvSpPr>
            <p:cNvPr id="239" name="Line 13"/>
            <p:cNvSpPr/>
            <p:nvPr/>
          </p:nvSpPr>
          <p:spPr>
            <a:xfrm flipV="1">
              <a:off x="533520" y="4665240"/>
              <a:ext cx="3733560" cy="514440"/>
            </a:xfrm>
            <a:prstGeom prst="line">
              <a:avLst/>
            </a:prstGeom>
            <a:ln cap="sq" w="572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533160" y="4665240"/>
              <a:ext cx="373356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4"/>
          <p:cNvSpPr/>
          <p:nvPr/>
        </p:nvSpPr>
        <p:spPr>
          <a:xfrm>
            <a:off x="121932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Arial"/>
                <a:ea typeface="隶书"/>
              </a:rPr>
              <a:t>主旨：借写大海的雄伟壮阔之景，抒发自己统一天下、建功立业的雄心壮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5" descr="31"/>
          <p:cNvPicPr/>
          <p:nvPr/>
        </p:nvPicPr>
        <p:blipFill>
          <a:blip r:embed="rId2"/>
          <a:stretch/>
        </p:blipFill>
        <p:spPr>
          <a:xfrm>
            <a:off x="228600" y="5791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6" descr="书"/>
          <p:cNvPicPr/>
          <p:nvPr/>
        </p:nvPicPr>
        <p:blipFill>
          <a:blip r:embed="rId3"/>
          <a:stretch/>
        </p:blipFill>
        <p:spPr>
          <a:xfrm>
            <a:off x="7543800" y="0"/>
            <a:ext cx="1200240" cy="9936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7"/>
          <p:cNvSpPr/>
          <p:nvPr/>
        </p:nvSpPr>
        <p:spPr>
          <a:xfrm>
            <a:off x="5562720" y="2133720"/>
            <a:ext cx="1600200" cy="152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2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440" y="2835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04920" y="461880"/>
            <a:ext cx="85341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王昌龄左迁龙标遥有此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[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唐</a:t>
            </a: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]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杨花落尽子规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道龙标过五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我寄愁心与明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随君直到夜郎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2"/>
          </p:cNvPr>
          <p:cNvSpPr/>
          <p:nvPr/>
        </p:nvSpPr>
        <p:spPr>
          <a:xfrm>
            <a:off x="85345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1990"/>
                </a:moveTo>
                <a:lnTo>
                  <a:pt x="8224" y="11990"/>
                </a:lnTo>
                <a:lnTo>
                  <a:pt x="12645" y="7377"/>
                </a:lnTo>
                <a:lnTo>
                  <a:pt x="12645" y="21390"/>
                </a:lnTo>
                <a:lnTo>
                  <a:pt x="8224" y="16777"/>
                </a:lnTo>
                <a:lnTo>
                  <a:pt x="3794" y="16777"/>
                </a:lnTo>
                <a:close/>
              </a:path>
              <a:path fill="darken" w="21600" h="28766">
                <a:moveTo>
                  <a:pt x="14299" y="14383"/>
                </a:moveTo>
                <a:lnTo>
                  <a:pt x="17806" y="14383"/>
                </a:lnTo>
              </a:path>
              <a:path fill="darken" w="21600" h="28766">
                <a:moveTo>
                  <a:pt x="14299" y="11990"/>
                </a:moveTo>
                <a:lnTo>
                  <a:pt x="17806" y="9222"/>
                </a:lnTo>
              </a:path>
              <a:path fill="darken" w="21600" h="28766">
                <a:moveTo>
                  <a:pt x="14299" y="16777"/>
                </a:moveTo>
                <a:lnTo>
                  <a:pt x="17806" y="19544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64"/>
          <p:cNvSpPr/>
          <p:nvPr/>
        </p:nvSpPr>
        <p:spPr>
          <a:xfrm>
            <a:off x="295200" y="476280"/>
            <a:ext cx="8534520" cy="610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王昌龄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左迁龙标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遥有此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[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唐</a:t>
            </a: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]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隶书"/>
              </a:rPr>
              <a:t>杨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花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落尽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子规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隶书"/>
              </a:rPr>
              <a:t>啼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道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龙标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过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五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隶书"/>
              </a:rPr>
              <a:t>溪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我寄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愁心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与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明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随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隶书"/>
              </a:rPr>
              <a:t>君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直到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夜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隶书"/>
              </a:rPr>
              <a:t>郎</a:t>
            </a:r>
            <a:r>
              <a:rPr b="1" lang="en-US" sz="4800" spc="-1" strike="noStrike">
                <a:solidFill>
                  <a:srgbClr val="000066"/>
                </a:solidFill>
                <a:latin typeface="宋体"/>
                <a:ea typeface="隶书"/>
              </a:rPr>
              <a:t>/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65">
            <a:hlinkClick r:id="rId3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648320" y="189000"/>
            <a:ext cx="4244760" cy="6192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情景交融手法的运用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情景交融的手法的运用，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我国古代诗歌深厚、含蓄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精练、意味隽永的特色更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突出。本课的五首诗歌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景物时都用了情景交融的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法。如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日月之行，若出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中；星汉灿烂，若出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这几句诗创造了一种宏大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意境。表现了曹操吞吐日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imes New Roman"/>
                <a:ea typeface="宋体"/>
              </a:rPr>
              <a:t>的博大胸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guancanghai"/>
          <p:cNvPicPr/>
          <p:nvPr/>
        </p:nvPicPr>
        <p:blipFill>
          <a:blip r:embed="rId1"/>
          <a:stretch/>
        </p:blipFill>
        <p:spPr>
          <a:xfrm>
            <a:off x="0" y="533520"/>
            <a:ext cx="4191120" cy="55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75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75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8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75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7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75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6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75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75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75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3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2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75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1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75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90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75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45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75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8600" y="581040"/>
            <a:ext cx="8839080" cy="5456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阅读下面一首唐诗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然后回答问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闻王昌龄左迁龙标，遥有此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李 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杨花落尽子规啼，闻道龙标过五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寄愁心与明月，随风直到夜郎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这首诗抒写对遭贬谪的友人的思念和关切之情，其中   “我寄愁心与明月，随风直到夜郎西” 两句写得尤其精彩。诗人在句中运用了什么修辞手法？这样写有什么好处？请作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2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-281160" y="2744640"/>
            <a:ext cx="9142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04920" y="0"/>
            <a:ext cx="85341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华文新魏"/>
              </a:rPr>
              <a:t>闻王昌龄左迁龙标遥有此寄（翻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杨花落尽子规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闻道龙标过五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我寄愁心与明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随君直到夜郎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381760" y="22068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隶书"/>
              </a:rPr>
              <a:t>杨花落尽啦，子规鸟儿不住地在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85800" y="3362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宋体"/>
                <a:ea typeface="隶书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隶书"/>
              </a:rPr>
              <a:t>听说你遭贬了，被贬到龙标去，一路上要经过辰溪、西溪、巫溪、武溪和沅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57120" y="5273640"/>
            <a:ext cx="80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隶书"/>
              </a:rPr>
              <a:t>让我把为你而忧愁的心托付给天上的明月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05160" y="6207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隶书"/>
              </a:rPr>
              <a:t>伴随着君子你一直走到那夜郎以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28760" y="6174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说王昌龄被贬到龙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遥远的地方写下这首诗寄给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9640" y="6206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李白通过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丰富的想象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男女情爱的方式以抒写志同道合的友情，给予抽象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愁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物的属性，它竟会随风逐月到夜郎西。这种将自己的感情赋予客观事物，使之同样具有感情，也就是使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格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像惊人，气概超逸，笔势灵动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分地显示出李白的艺术个性，这也是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王昌龄左迁龙标遥有此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所以有长久的艺术魅力的真正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332000" cy="549360"/>
            <a:chOff x="0" y="0"/>
            <a:chExt cx="1332000" cy="549360"/>
          </a:xfrm>
        </p:grpSpPr>
        <p:sp>
          <p:nvSpPr>
            <p:cNvPr id="69" name="Oval 4"/>
            <p:cNvSpPr/>
            <p:nvPr/>
          </p:nvSpPr>
          <p:spPr>
            <a:xfrm>
              <a:off x="0" y="0"/>
              <a:ext cx="1332000" cy="549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0" y="0"/>
              <a:ext cx="12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总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探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诗中找出与怀化有关的内容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龙标、五溪、夜郎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作者为何要写杨花与子规？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写“杨花”且“落尽”是先点时令，这样的“暮春”在古诗中是一个花与泪同落的季节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就奠定了全诗伤感的基调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“杨花”漂泊无定，暗写王昌龄被贬荒僻之地给人的飘零流落之感；“子规”即杜鹃，传说它是蜀国国王杜宇魂化而成，叫声凄凉哀婉。因此，可以说，诗中开头一句的写景，不着悲痛之语，而悲痛之意自现。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c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探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作者为何“寄愁心与明月”？运用了什么修辞手法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答 ：远在扬州、行止不定的诗人只好把一片深情托付给千里明月，向老友遥致思念之忧了。 运用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拟人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修辞手法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里既有对老友遭遇的深刻忧虑，也有对当时现实的愤慨不平，有恳切的思念，也有热诚的关怀。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8:17:00Z</dcterms:created>
  <dc:creator>语文备课大师【全免费】</dc:creator>
  <dc:description>语文备课大师【全免费】</dc:description>
  <cp:keywords>语文备课大师【全免费】</cp:keywords>
  <dc:language>en-US</dc:language>
  <cp:lastModifiedBy/>
  <dcterms:modified xsi:type="dcterms:W3CDTF">2018-09-23T07:17:23Z</dcterms:modified>
  <cp:revision>0</cp:revision>
  <dc:subject>语文备课大师【全免费】</dc:subject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