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chimes.wav" ContentType="audio/x-wav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B5DF-AB17-487D-BEF2-49AA3A2DD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E959-04AF-4C4A-92BD-428E7CD7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C86EA-5740-4CFD-82B5-8C3B616C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07DC9-6F7C-4199-926A-47A2C8F4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9D43E-1A51-468F-A6DF-B35DDE16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B4B8D-2F00-417D-B0B0-BC4DA612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0C3D5-ECD6-4584-B013-800692C5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D4582-850E-41ED-81A8-BAAB163C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DE91D-22F5-4CEC-8A3A-ED395CAA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FC596-9674-4B52-836C-0B1E8B935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C6E5E6-18FA-44D6-8523-6CF772632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8A2EE-89A9-40F8-B944-AF98BEECF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6FB3-1481-4D7D-B0B9-096B5FC1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014EC9-6F9B-4F5C-A100-ED4676D3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77A06F-D234-46B3-AAAD-33BC8DF5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1A4716-DBB4-4BB8-9D26-DF8B1EB1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BE443-6241-4F0D-B82E-91AEDCEE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616C8-BF8A-4C46-B9B3-9432C837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9E0A21-462C-4EC7-837A-84F655AC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C09B5-D567-46F1-A94C-2324B0AB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67C90-8929-40B7-981D-C44A2295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52064-FDCC-4631-807A-5CC8378F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EAFBA-5ADE-4E7F-A071-242ECD0E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BEC4-7DAC-42B8-B21D-81D255BA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F9B43-8EF3-4894-802C-E7E60435A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0FE76-B794-4ADE-9FCC-A927D3A27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7D8C7-A0B0-40A7-B8F4-1E418DB4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B541D-B790-48CD-88F9-67E515D0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72F00-B626-4473-BDD2-FC4461E0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30A02-2C05-466D-BC47-E343B57D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3519F-ED0A-482C-86B9-62FDDD89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EFF9B-6194-4F53-B97C-C9A36C88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3D5A1-C341-4F32-9260-FD4BC73F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D046D-CBCB-4ED0-9E76-B63015E3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1194-C87F-49A8-9AED-654BEA794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C3065-E32A-4A1C-B93D-B7BD37C8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D7261-9554-4EDD-B53D-674C1A00D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9537D-2812-433B-8C76-FD082F08F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312C8D-608A-417A-88F1-EDBFE175C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5FC562-7385-4FF9-A6AD-DBD84D21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B4AE26-98FD-4499-BC53-CEA73417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803B27-FDDD-4DBF-A44C-D3C08D72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5442C6-04D4-4ACC-BB04-C5C07D83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AC60E-98EA-41D1-A955-CC3CCB4B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133F5-B4A7-4A17-8EE0-AEFF4062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9BD2-A0DC-4BF6-A795-9421FD7E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65FB3A-60C1-47F0-A533-C4673081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3D0D17-0606-4639-A4F4-596974EC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3AD1B-15CA-4884-AA36-BDE06174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B1A315-1A9A-4D84-8CBF-F41DC9D29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8F405-3D2C-4B87-9560-27FE6280F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267785-D5F6-46D9-97B4-21FAA1487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06367A-F6FC-40BB-B0F3-972C8938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22428B-4EF4-4AB6-95EB-053FDA88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E4810D-3653-4761-8EDA-BAD045B3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A39736-A32B-4C09-A585-2AFD06A9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FDD1-0B64-4AE3-BA59-29BC7268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C7C452-F99F-4B8E-99EC-06BC19DE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924EFB-6CFA-4B91-938B-12CEF553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1EA1FF-72DB-448F-8702-E7D01AAF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13EDE6-723B-486F-89B7-DA6C4BD3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30B94F-2074-4090-9AF5-6FAAC251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FB5F81-3026-4C3C-8202-B8E19F355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BD28DD-31AD-4B17-908D-F320D135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10EF3B-3AC1-450F-B356-D7967EFE3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83DC90-A438-4127-AF17-72B0214F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3F992F-41BC-4508-8042-E1327433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D0C5-25B8-45B3-8338-5E26DD48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AE3939-C80B-4375-8DFF-4229E0CC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E2D469-9473-46B9-943B-B44C5A7F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CE6C5D-71DB-4E34-A4AA-B1E311FA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F325F0-6FF6-496B-BECF-24F17597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7C94CC-4422-4D7F-A42C-3703626D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D3FC57-BFB3-4766-A7E7-CBDA361E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9E06C8-F6BF-414F-9649-7A1D32C0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A02A82-FB41-46EE-976D-DC70D0DFC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430E16-DB9D-4599-8306-660DD3436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976109-D540-42DE-9FD9-A53590A75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9703-1938-4127-A24F-65CB139F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9687C8-AB37-4B7F-BE85-A77083AE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210CA1-4237-4592-B4FE-F2E04E16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9D8E6C-7F97-4B30-9273-C2ACED0D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65B89E-50D6-455E-AEB2-ADB80A5C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AEEF28-23FA-4209-852D-FD63F4E1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F58FE9-9D8C-4DE2-A2AF-391239D6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4B7E2F-1BF1-440B-84AA-420356EB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89C1B4-7504-4BB5-BD11-C396A5CA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7B6F20-0B75-4C47-B781-3AECBDF1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F19F77-93B8-4E74-A2AC-10A0CDF09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8FBC-2E00-4B95-B119-0B555800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0D2F9C-53B4-4373-93A1-8F6D10D57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D5C6-B337-4D94-A2B9-51F1C3E2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5F6F-0B3D-44E1-B016-E9CD140C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255C-4CC3-4359-8090-878A0B99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589E-8308-4F61-BA88-8EE49BEC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89BD-72E6-4916-863A-D3E611B4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87A1-74AB-42E0-8053-CC0934AAA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8935-3313-4520-A4E6-BFD486EBA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675D4-0636-492C-A0C8-A2ADE19E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BCEB4-518E-4D63-BDAD-3F8B9D8D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B0217-97D2-41D3-8BA7-E4BDA393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51F7A-EFA9-4354-8C37-C2249E50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1FE4F-DEE1-4796-A4E8-2A90C9AF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02BE-37DA-4D18-9821-E216249A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1A3D3-05ED-476A-8017-E7E589F0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F90B5-4C8D-4138-83DB-59321982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453F0-0034-4BD9-8A02-34241879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6DA9C-DD58-47DC-95F6-89E1263B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85A00-A545-4203-A4E8-5E81D252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CC21A-0DB1-485C-AAF3-50D0E0C06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B6344-06E8-45AE-A78B-4096A08E5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A6A7A-EDC4-49EB-BEE4-C4F461F5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A4787-7002-48B9-AEB4-EE34DE14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5C03A-260F-4D62-A411-AE3F8BE2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8313-02C7-4368-961B-D0EAA8A2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6BDC4-7ADC-4C20-BF3D-F39BC275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F502B-006C-48CD-81F6-D045920C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7753A-4236-4971-80A8-E83F31EE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E8AB5-6097-48BD-B730-BFA19F0A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D7D29-F310-412C-BB0F-4B77AC0D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DEC06-43DF-446B-8D08-99544700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49A75-597C-42C7-A5A3-34B67E1C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5491A-D9F4-4C01-BA8A-C63886DAB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A5DAF-9AA6-4F70-A199-372500B7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C29EA-EBBA-47AC-B8E9-FB38CD63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F32E-9807-40B1-A697-DF1A3EC8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EB540-2E25-4B42-99EC-00C59B67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85849-C14B-4557-99F9-08D921AF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90152-7E32-4AE7-B106-A5F7DDCB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24581-677F-4FBD-9B58-A5E8814C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04D37-2DB7-4EDE-87C9-E49DDA52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A89A1-B1D4-4F2B-A65B-1582CD1A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BDAAF-F838-40E4-BC1C-02E9E35A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11824-CD8B-4C17-ADBB-49993157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9BEBB-0242-45BF-A3D7-C52735F2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505CE-42B1-417B-AD89-8089DB83E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845A-A9D2-4F48-A5F1-6E7678A4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29793-22D6-440D-8E03-4DD8DA7E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DAEEE-254F-49F7-9E72-1B31D3D6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B5C2A-DB0B-449B-A335-36817563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D9186-9536-445A-A212-6A1D9652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E8DC0-8208-4934-A18A-7CE60F28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F4B23-71F8-41F8-8098-31E9CB7E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89854-C674-49DF-AE95-D2FC3CA8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B8CCB-4045-4A46-A2E0-28F0316C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CB81A-C4F3-4952-9233-C43EA651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AFFB6-FCC4-4FF0-941D-F3625386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00DF-68D6-421A-B5F6-5B7DD6D0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1D362-AC71-48C9-B0C4-0B5A4A13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69194-A20C-4534-9CEF-6F3D60E09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BFB12-1011-460C-9A05-2656AA21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5EACE-C797-41C0-B6A4-D0E73777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2C2FC-95DB-4709-97AC-6FD26846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27E6B-67DF-49AF-AB91-B8F0C436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C1BC7-473D-4031-85ED-1B006020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50485-EFA7-402F-A8F9-F9DE2459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B7DBB-DFDC-4932-9317-8DDD52BF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52A8C-D994-464E-AB8F-F4773D97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2B9E-8FC5-4061-B349-7B1671D9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62925-CE67-4F31-A666-46984BF6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D3116-0FE1-4B33-BAFA-119E2050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D1D71-094E-42F5-9312-DCC2E8EB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DEB3F-FF87-44F6-9574-5EBFD2F42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68B70-2DA8-42BC-909D-F9B5C214F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1EAFE-2696-4A4F-84B2-C567E956E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970E9-C92B-4F89-B357-A355718E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90A43-4372-4BAF-BB64-58AF1FAB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06BBB-B3F5-4FED-94E3-1A928049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59848-785F-427A-8590-AEF58952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A683-6684-4517-9261-1928A75F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A7043-03DE-46E7-9899-2C7C4190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16CBD-4E5E-4182-8552-70131582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95407-013E-44BB-A645-406F1467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9C628-2DEA-4408-B85F-3646C03D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59050-9BB2-46D6-BF59-34AE6819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C7A0B-15C5-4A9C-9373-FDB8FB461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000A3-3A9F-48A0-BD26-BDD9BEDB4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1A494-9A68-45C5-8303-FF5CC923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D2927-C750-416B-9BF5-92860601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EA12F-83AC-4488-B41F-4F88045C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5D00-76FF-4BAD-8D14-048EE26BD5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F7C1-A824-427D-A0C0-60CED21523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3E0B-6EFA-4FF7-A674-B45E24445B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7948-8FB5-4DBD-88F2-706A3BD7C8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F12F-37A0-43F0-820A-4AEC4F86C7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7F54-1459-45D9-B20F-B7BE9A97A6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6971-6826-4D1D-84E5-30A55F49DE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3CA3-3357-4A17-878A-3E440E33AC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513B-A5BE-4A6F-B1B3-CEE361DEBD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B5ED-96FA-4E76-A49A-55FB79E4E4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AC1F-B063-46C2-B86D-22FB35A46B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4F96-F5B6-45A9-9BC4-F4B30FC91F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99B4-770A-41E2-8B8E-AD07E3AAB0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0BDA-DB04-4FA7-9F2A-69C3466FB3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1FFB-A7C1-4A72-9B63-22951A0FDD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AutoShape 7"/>
          <p:cNvSpPr/>
          <p:nvPr/>
        </p:nvSpPr>
        <p:spPr>
          <a:xfrm>
            <a:off x="0" y="6454800"/>
            <a:ext cx="9144000" cy="40320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MH_Text_1"/>
          <p:cNvSpPr/>
          <p:nvPr/>
        </p:nvSpPr>
        <p:spPr>
          <a:xfrm>
            <a:off x="735120" y="466884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MH_SubTitle_1">
            <a:hlinkClick r:id="rId1" action="ppaction://hlinksldjump"/>
          </p:cNvPr>
          <p:cNvSpPr/>
          <p:nvPr/>
        </p:nvSpPr>
        <p:spPr>
          <a:xfrm>
            <a:off x="73332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MH_Other_1"/>
          <p:cNvSpPr/>
          <p:nvPr/>
        </p:nvSpPr>
        <p:spPr>
          <a:xfrm>
            <a:off x="21607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MH_Text_2"/>
          <p:cNvSpPr/>
          <p:nvPr/>
        </p:nvSpPr>
        <p:spPr>
          <a:xfrm>
            <a:off x="2700360" y="46530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MH_SubTitle_2">
            <a:hlinkClick r:id="rId2" action="ppaction://hlinksldjump"/>
          </p:cNvPr>
          <p:cNvSpPr/>
          <p:nvPr/>
        </p:nvSpPr>
        <p:spPr>
          <a:xfrm>
            <a:off x="2722680" y="4940280"/>
            <a:ext cx="16650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MH_Other_2"/>
          <p:cNvSpPr/>
          <p:nvPr/>
        </p:nvSpPr>
        <p:spPr>
          <a:xfrm>
            <a:off x="275760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MH_Other_3"/>
          <p:cNvSpPr/>
          <p:nvPr/>
        </p:nvSpPr>
        <p:spPr>
          <a:xfrm>
            <a:off x="41911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MH_Text_3"/>
          <p:cNvSpPr/>
          <p:nvPr/>
        </p:nvSpPr>
        <p:spPr>
          <a:xfrm>
            <a:off x="4730760" y="4667400"/>
            <a:ext cx="166680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MH_SubTitle_3">
            <a:hlinkClick r:id="rId3" action="ppaction://hlinksldjump"/>
          </p:cNvPr>
          <p:cNvSpPr/>
          <p:nvPr/>
        </p:nvSpPr>
        <p:spPr>
          <a:xfrm>
            <a:off x="473076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MH_Other_4"/>
          <p:cNvSpPr/>
          <p:nvPr/>
        </p:nvSpPr>
        <p:spPr>
          <a:xfrm>
            <a:off x="4788000" y="5108400"/>
            <a:ext cx="1699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MH_Other_5"/>
          <p:cNvSpPr/>
          <p:nvPr/>
        </p:nvSpPr>
        <p:spPr>
          <a:xfrm>
            <a:off x="618984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MH_Text_4"/>
          <p:cNvSpPr/>
          <p:nvPr/>
        </p:nvSpPr>
        <p:spPr>
          <a:xfrm>
            <a:off x="6738840" y="4667400"/>
            <a:ext cx="166536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MH_SubTitle_4">
            <a:hlinkClick r:id="rId4" action="ppaction://hlinksldjump"/>
          </p:cNvPr>
          <p:cNvSpPr/>
          <p:nvPr/>
        </p:nvSpPr>
        <p:spPr>
          <a:xfrm>
            <a:off x="6738840" y="494028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当堂检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MH_Other_6"/>
          <p:cNvSpPr/>
          <p:nvPr/>
        </p:nvSpPr>
        <p:spPr>
          <a:xfrm>
            <a:off x="678816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组合 3093"/>
          <p:cNvGrpSpPr/>
          <p:nvPr/>
        </p:nvGrpSpPr>
        <p:grpSpPr>
          <a:xfrm>
            <a:off x="2097000" y="5064120"/>
            <a:ext cx="890640" cy="266760"/>
            <a:chOff x="2097000" y="5064120"/>
            <a:chExt cx="890640" cy="266760"/>
          </a:xfrm>
        </p:grpSpPr>
        <p:pic>
          <p:nvPicPr>
            <p:cNvPr id="603" name="MH_Other_7" descr=""/>
            <p:cNvPicPr/>
            <p:nvPr/>
          </p:nvPicPr>
          <p:blipFill>
            <a:blip r:embed="rId5"/>
            <a:stretch/>
          </p:blipFill>
          <p:spPr>
            <a:xfrm>
              <a:off x="2097000" y="506412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Text Box 24"/>
            <p:cNvSpPr/>
            <p:nvPr/>
          </p:nvSpPr>
          <p:spPr>
            <a:xfrm>
              <a:off x="22082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MH_Other_8"/>
          <p:cNvSpPr/>
          <p:nvPr/>
        </p:nvSpPr>
        <p:spPr>
          <a:xfrm>
            <a:off x="21956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6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组合 3097"/>
          <p:cNvGrpSpPr/>
          <p:nvPr/>
        </p:nvGrpSpPr>
        <p:grpSpPr>
          <a:xfrm>
            <a:off x="4127400" y="5064120"/>
            <a:ext cx="888840" cy="266760"/>
            <a:chOff x="4127400" y="5064120"/>
            <a:chExt cx="888840" cy="266760"/>
          </a:xfrm>
        </p:grpSpPr>
        <p:pic>
          <p:nvPicPr>
            <p:cNvPr id="607" name="MH_Other_9" descr=""/>
            <p:cNvPicPr/>
            <p:nvPr/>
          </p:nvPicPr>
          <p:blipFill>
            <a:blip r:embed="rId7"/>
            <a:stretch/>
          </p:blipFill>
          <p:spPr>
            <a:xfrm>
              <a:off x="4127400" y="506412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Text Box 28"/>
            <p:cNvSpPr/>
            <p:nvPr/>
          </p:nvSpPr>
          <p:spPr>
            <a:xfrm>
              <a:off x="42386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MH_Other_10"/>
          <p:cNvSpPr/>
          <p:nvPr/>
        </p:nvSpPr>
        <p:spPr>
          <a:xfrm>
            <a:off x="42260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8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MH_Other_11" descr=""/>
          <p:cNvPicPr/>
          <p:nvPr/>
        </p:nvPicPr>
        <p:blipFill>
          <a:blip r:embed="rId9"/>
          <a:stretch/>
        </p:blipFill>
        <p:spPr>
          <a:xfrm>
            <a:off x="6126120" y="506412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31"/>
          <p:cNvSpPr/>
          <p:nvPr/>
        </p:nvSpPr>
        <p:spPr>
          <a:xfrm>
            <a:off x="6237360" y="516564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MH_Other_12"/>
          <p:cNvSpPr/>
          <p:nvPr/>
        </p:nvSpPr>
        <p:spPr>
          <a:xfrm>
            <a:off x="622476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10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3"/>
          <p:cNvSpPr/>
          <p:nvPr/>
        </p:nvSpPr>
        <p:spPr>
          <a:xfrm>
            <a:off x="5364000" y="620640"/>
            <a:ext cx="37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学练优七年级语文上（</a:t>
            </a:r>
            <a:r>
              <a:rPr b="1" lang="en-US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RJ</a:t>
            </a: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            </a:t>
            </a: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教学课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4130"/>
          <p:cNvSpPr/>
          <p:nvPr/>
        </p:nvSpPr>
        <p:spPr>
          <a:xfrm>
            <a:off x="393840" y="2276640"/>
            <a:ext cx="78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24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寓言四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文本框 105"/>
          <p:cNvSpPr/>
          <p:nvPr/>
        </p:nvSpPr>
        <p:spPr>
          <a:xfrm>
            <a:off x="825480" y="1482840"/>
            <a:ext cx="50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这则寓言中你获得了怎样的启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文本框 1"/>
          <p:cNvSpPr/>
          <p:nvPr/>
        </p:nvSpPr>
        <p:spPr>
          <a:xfrm>
            <a:off x="1198440" y="2754360"/>
            <a:ext cx="682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讽刺、批评那些爱慕虚荣、自命不凡的人。告诉人们要有自知之明，不能妄自尊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文本框 1"/>
          <p:cNvSpPr/>
          <p:nvPr/>
        </p:nvSpPr>
        <p:spPr>
          <a:xfrm>
            <a:off x="1247040" y="1846440"/>
            <a:ext cx="91188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赫耳莫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左大括号 2"/>
          <p:cNvSpPr/>
          <p:nvPr/>
        </p:nvSpPr>
        <p:spPr>
          <a:xfrm>
            <a:off x="2405160" y="1057320"/>
            <a:ext cx="75960" cy="2879640"/>
          </a:xfrm>
          <a:custGeom>
            <a:avLst/>
            <a:gdLst>
              <a:gd name="textAreaLeft" fmla="*/ 48600 w 75960"/>
              <a:gd name="textAreaRight" fmla="*/ 76320 w 75960"/>
              <a:gd name="textAreaTop" fmla="*/ 1800 h 2879640"/>
              <a:gd name="textAreaBottom" fmla="*/ 287784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"/>
                  <a:pt x="10800" y="48"/>
                </a:cubicBezTo>
                <a:lnTo>
                  <a:pt x="10800" y="10752"/>
                </a:lnTo>
                <a:cubicBezTo>
                  <a:pt x="10800" y="10776"/>
                  <a:pt x="5400" y="10800"/>
                  <a:pt x="0" y="10800"/>
                </a:cubicBezTo>
                <a:cubicBezTo>
                  <a:pt x="5400" y="10800"/>
                  <a:pt x="10800" y="10824"/>
                  <a:pt x="10800" y="10848"/>
                </a:cubicBezTo>
                <a:lnTo>
                  <a:pt x="10800" y="21552"/>
                </a:lnTo>
                <a:cubicBezTo>
                  <a:pt x="10800" y="2157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3"/>
          <p:cNvSpPr/>
          <p:nvPr/>
        </p:nvSpPr>
        <p:spPr>
          <a:xfrm>
            <a:off x="2584440" y="1033560"/>
            <a:ext cx="42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问宙斯雕像         一个银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文本框 4"/>
          <p:cNvSpPr/>
          <p:nvPr/>
        </p:nvSpPr>
        <p:spPr>
          <a:xfrm>
            <a:off x="2568600" y="2308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问赫拉雕像         还要贵一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文本框 5"/>
          <p:cNvSpPr/>
          <p:nvPr/>
        </p:nvSpPr>
        <p:spPr>
          <a:xfrm>
            <a:off x="2550960" y="3584520"/>
            <a:ext cx="51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问自己雕像         算饶头白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右大括号 6"/>
          <p:cNvSpPr/>
          <p:nvPr/>
        </p:nvSpPr>
        <p:spPr>
          <a:xfrm>
            <a:off x="6729480" y="1057320"/>
            <a:ext cx="144360" cy="2879640"/>
          </a:xfrm>
          <a:custGeom>
            <a:avLst/>
            <a:gdLst>
              <a:gd name="textAreaLeft" fmla="*/ 0 w 144360"/>
              <a:gd name="textAreaRight" fmla="*/ 52200 w 144360"/>
              <a:gd name="textAreaTop" fmla="*/ 3600 h 2879640"/>
              <a:gd name="textAreaBottom" fmla="*/ 287604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"/>
                  <a:pt x="10800" y="90"/>
                </a:cubicBezTo>
                <a:lnTo>
                  <a:pt x="10800" y="10710"/>
                </a:lnTo>
                <a:cubicBezTo>
                  <a:pt x="10800" y="10755"/>
                  <a:pt x="16200" y="10800"/>
                  <a:pt x="21600" y="10800"/>
                </a:cubicBezTo>
                <a:cubicBezTo>
                  <a:pt x="16200" y="10800"/>
                  <a:pt x="10800" y="10845"/>
                  <a:pt x="10800" y="10890"/>
                </a:cubicBezTo>
                <a:lnTo>
                  <a:pt x="10800" y="21510"/>
                </a:lnTo>
                <a:cubicBezTo>
                  <a:pt x="10800" y="2155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文本框 8"/>
          <p:cNvSpPr/>
          <p:nvPr/>
        </p:nvSpPr>
        <p:spPr>
          <a:xfrm>
            <a:off x="7224840" y="1911240"/>
            <a:ext cx="5461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雕像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文本框 9"/>
          <p:cNvSpPr/>
          <p:nvPr/>
        </p:nvSpPr>
        <p:spPr>
          <a:xfrm>
            <a:off x="2332080" y="4956120"/>
            <a:ext cx="16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更尊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6" name="直接箭头连接符 10"/>
          <p:cNvCxnSpPr/>
          <p:nvPr/>
        </p:nvCxnSpPr>
        <p:spPr>
          <a:xfrm>
            <a:off x="3562200" y="5184360"/>
            <a:ext cx="2169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7" name="文本框 12"/>
          <p:cNvSpPr/>
          <p:nvPr/>
        </p:nvSpPr>
        <p:spPr>
          <a:xfrm>
            <a:off x="5832360" y="4938840"/>
            <a:ext cx="16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算饶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文本框 13"/>
          <p:cNvSpPr/>
          <p:nvPr/>
        </p:nvSpPr>
        <p:spPr>
          <a:xfrm>
            <a:off x="3890880" y="4813200"/>
            <a:ext cx="16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讽  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文本框 14"/>
          <p:cNvSpPr/>
          <p:nvPr/>
        </p:nvSpPr>
        <p:spPr>
          <a:xfrm>
            <a:off x="3587760" y="5154480"/>
            <a:ext cx="19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盲目自大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图片 1" descr="ht8820051211831199400"/>
          <p:cNvPicPr/>
          <p:nvPr/>
        </p:nvPicPr>
        <p:blipFill>
          <a:blip r:embed="rId1"/>
          <a:stretch/>
        </p:blipFill>
        <p:spPr>
          <a:xfrm>
            <a:off x="2940120" y="1511280"/>
            <a:ext cx="5238720" cy="3811680"/>
          </a:xfrm>
          <a:prstGeom prst="rect">
            <a:avLst/>
          </a:prstGeom>
          <a:ln w="0">
            <a:noFill/>
          </a:ln>
        </p:spPr>
      </p:pic>
      <p:sp>
        <p:nvSpPr>
          <p:cNvPr id="672" name="文本框 3"/>
          <p:cNvSpPr/>
          <p:nvPr/>
        </p:nvSpPr>
        <p:spPr>
          <a:xfrm>
            <a:off x="1579680" y="2127240"/>
            <a:ext cx="546120" cy="27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蚊子和狮子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3"/>
          <p:cNvSpPr/>
          <p:nvPr/>
        </p:nvSpPr>
        <p:spPr>
          <a:xfrm>
            <a:off x="1492560" y="1500120"/>
            <a:ext cx="380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则寓言的故事部分主要写了哪些情节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8"/>
          <p:cNvSpPr/>
          <p:nvPr/>
        </p:nvSpPr>
        <p:spPr>
          <a:xfrm>
            <a:off x="674640" y="2676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蚊子扬长避短战胜了狮子，后因骄傲自满被蜘蛛网粘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3" descr="12"/>
          <p:cNvPicPr/>
          <p:nvPr/>
        </p:nvPicPr>
        <p:blipFill>
          <a:blip r:embed="rId1"/>
          <a:stretch/>
        </p:blipFill>
        <p:spPr>
          <a:xfrm>
            <a:off x="2508120" y="3548160"/>
            <a:ext cx="3996000" cy="2535120"/>
          </a:xfrm>
          <a:prstGeom prst="rect">
            <a:avLst/>
          </a:prstGeom>
          <a:ln w="0">
            <a:noFill/>
          </a:ln>
        </p:spPr>
      </p:pic>
      <p:sp>
        <p:nvSpPr>
          <p:cNvPr id="67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3"/>
          <p:cNvSpPr/>
          <p:nvPr/>
        </p:nvSpPr>
        <p:spPr>
          <a:xfrm>
            <a:off x="1492200" y="2203560"/>
            <a:ext cx="22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蚊子：冲、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8"/>
          <p:cNvSpPr/>
          <p:nvPr/>
        </p:nvSpPr>
        <p:spPr>
          <a:xfrm>
            <a:off x="3200400" y="190512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9"/>
          <p:cNvSpPr/>
          <p:nvPr/>
        </p:nvSpPr>
        <p:spPr>
          <a:xfrm>
            <a:off x="4255560" y="1951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扬长避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11"/>
          <p:cNvSpPr/>
          <p:nvPr/>
        </p:nvSpPr>
        <p:spPr>
          <a:xfrm>
            <a:off x="441972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12"/>
          <p:cNvSpPr/>
          <p:nvPr/>
        </p:nvSpPr>
        <p:spPr>
          <a:xfrm>
            <a:off x="6019920" y="228600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狮子：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3"/>
          <p:cNvSpPr/>
          <p:nvPr/>
        </p:nvSpPr>
        <p:spPr>
          <a:xfrm>
            <a:off x="2370240" y="38545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蚊子：吹、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5"/>
          <p:cNvSpPr/>
          <p:nvPr/>
        </p:nvSpPr>
        <p:spPr>
          <a:xfrm>
            <a:off x="4244400" y="3529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骄傲自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6"/>
          <p:cNvSpPr/>
          <p:nvPr/>
        </p:nvSpPr>
        <p:spPr>
          <a:xfrm>
            <a:off x="4363920" y="4200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7"/>
          <p:cNvSpPr/>
          <p:nvPr/>
        </p:nvSpPr>
        <p:spPr>
          <a:xfrm>
            <a:off x="6019920" y="388620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蜘蛛：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23"/>
          <p:cNvSpPr/>
          <p:nvPr/>
        </p:nvSpPr>
        <p:spPr>
          <a:xfrm>
            <a:off x="4037040" y="2394000"/>
            <a:ext cx="1447920" cy="152280"/>
          </a:xfrm>
          <a:prstGeom prst="rightArrow">
            <a:avLst>
              <a:gd name="adj1" fmla="val 50000"/>
              <a:gd name="adj2" fmla="val 23770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24"/>
          <p:cNvSpPr/>
          <p:nvPr/>
        </p:nvSpPr>
        <p:spPr>
          <a:xfrm>
            <a:off x="4037040" y="4014720"/>
            <a:ext cx="1523880" cy="152640"/>
          </a:xfrm>
          <a:prstGeom prst="rightArrow">
            <a:avLst>
              <a:gd name="adj1" fmla="val 50000"/>
              <a:gd name="adj2" fmla="val 24958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3"/>
          <p:cNvSpPr/>
          <p:nvPr/>
        </p:nvSpPr>
        <p:spPr>
          <a:xfrm>
            <a:off x="325440" y="1866960"/>
            <a:ext cx="883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除此之外，你还懂得了哪些道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5"/>
          <p:cNvSpPr/>
          <p:nvPr/>
        </p:nvSpPr>
        <p:spPr>
          <a:xfrm>
            <a:off x="312840" y="306540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要战胜对方必须知己知彼，要善于以己之长攻敌所短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面对强手和困难，应毫不退缩，勇往直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文本框 105"/>
          <p:cNvSpPr/>
          <p:nvPr/>
        </p:nvSpPr>
        <p:spPr>
          <a:xfrm>
            <a:off x="627120" y="1284120"/>
            <a:ext cx="50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ff"/>
                </a:solidFill>
                <a:uFillTx/>
                <a:latin typeface="宋体"/>
              </a:rPr>
              <a:t>对比探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文本框 1"/>
          <p:cNvSpPr/>
          <p:nvPr/>
        </p:nvSpPr>
        <p:spPr>
          <a:xfrm>
            <a:off x="638280" y="1731960"/>
            <a:ext cx="8196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比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蚊子和狮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赫耳墨斯和雕像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在结构和写法上的异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）相同点：结构相同。都是第一段讲故事，第二段议论并得出道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）不同点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表现方法不同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把神当作人来写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则用拟人手法，赋予动物以人的情感和性格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表达方式不同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主要运用语言、动作和心理描写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主要运用语言描写和动作描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图片 1" descr="27691"/>
          <p:cNvPicPr/>
          <p:nvPr/>
        </p:nvPicPr>
        <p:blipFill>
          <a:blip r:embed="rId1"/>
          <a:stretch/>
        </p:blipFill>
        <p:spPr>
          <a:xfrm>
            <a:off x="2921040" y="1773360"/>
            <a:ext cx="3794040" cy="2552400"/>
          </a:xfrm>
          <a:prstGeom prst="rect">
            <a:avLst/>
          </a:prstGeom>
          <a:ln w="0">
            <a:noFill/>
          </a:ln>
        </p:spPr>
      </p:pic>
      <p:sp>
        <p:nvSpPr>
          <p:cNvPr id="698" name="文本框 2"/>
          <p:cNvSpPr/>
          <p:nvPr/>
        </p:nvSpPr>
        <p:spPr>
          <a:xfrm>
            <a:off x="3352680" y="4564080"/>
            <a:ext cx="293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穿井得一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副标题 5122"/>
          <p:cNvSpPr/>
          <p:nvPr/>
        </p:nvSpPr>
        <p:spPr>
          <a:xfrm>
            <a:off x="752400" y="1054080"/>
            <a:ext cx="770580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宋之丁氏，家无井而出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溉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常一人居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家穿井，告人曰：“吾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穿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得一人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文本框 5124"/>
          <p:cNvSpPr/>
          <p:nvPr/>
        </p:nvSpPr>
        <p:spPr>
          <a:xfrm>
            <a:off x="4314960" y="1544760"/>
            <a:ext cx="30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从井里打水浇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文本框 5125"/>
          <p:cNvSpPr/>
          <p:nvPr/>
        </p:nvSpPr>
        <p:spPr>
          <a:xfrm>
            <a:off x="620640" y="26892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等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文本框 5127"/>
          <p:cNvSpPr/>
          <p:nvPr/>
        </p:nvSpPr>
        <p:spPr>
          <a:xfrm>
            <a:off x="5083200" y="26179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打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5126"/>
          <p:cNvSpPr/>
          <p:nvPr/>
        </p:nvSpPr>
        <p:spPr>
          <a:xfrm>
            <a:off x="812880" y="3560760"/>
            <a:ext cx="749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宋国有一家姓丁的，家中没有井，须到外面打水浇地，因此经常有一个人住在外面。等到他家打了一眼井之后，便对别人说：“我家打井得到一个人。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副标题 6146"/>
          <p:cNvSpPr/>
          <p:nvPr/>
        </p:nvSpPr>
        <p:spPr>
          <a:xfrm>
            <a:off x="250920" y="1341360"/>
            <a:ext cx="871380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传之者，曰：“丁氏穿井得一人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人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，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宋君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文本框 6148"/>
          <p:cNvSpPr/>
          <p:nvPr/>
        </p:nvSpPr>
        <p:spPr>
          <a:xfrm>
            <a:off x="1224000" y="10684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听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6151"/>
          <p:cNvSpPr/>
          <p:nvPr/>
        </p:nvSpPr>
        <p:spPr>
          <a:xfrm>
            <a:off x="880920" y="209232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谈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6153"/>
          <p:cNvSpPr/>
          <p:nvPr/>
        </p:nvSpPr>
        <p:spPr>
          <a:xfrm>
            <a:off x="1863720" y="29638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使听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文本框 6154"/>
          <p:cNvSpPr/>
          <p:nvPr/>
        </p:nvSpPr>
        <p:spPr>
          <a:xfrm>
            <a:off x="3156480" y="20257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向、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文本框 6149"/>
          <p:cNvSpPr/>
          <p:nvPr/>
        </p:nvSpPr>
        <p:spPr>
          <a:xfrm>
            <a:off x="714240" y="3917880"/>
            <a:ext cx="75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有人听到这话，传播说：“丁家打井打出了一个人。”都城的人都谈论这件事，这件事被宋君听见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组合 3"/>
          <p:cNvGrpSpPr/>
          <p:nvPr/>
        </p:nvGrpSpPr>
        <p:grpSpPr>
          <a:xfrm>
            <a:off x="684360" y="909720"/>
            <a:ext cx="1714320" cy="499680"/>
            <a:chOff x="684360" y="909720"/>
            <a:chExt cx="1714320" cy="499680"/>
          </a:xfrm>
        </p:grpSpPr>
        <p:sp>
          <p:nvSpPr>
            <p:cNvPr id="618" name="流程图: 文档 2"/>
            <p:cNvSpPr/>
            <p:nvPr/>
          </p:nvSpPr>
          <p:spPr>
            <a:xfrm>
              <a:off x="684360" y="955800"/>
              <a:ext cx="1671840" cy="453600"/>
            </a:xfrm>
            <a:prstGeom prst="flowChartDocument">
              <a:avLst/>
            </a:prstGeom>
            <a:solidFill>
              <a:srgbClr val="228989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文本框 4101"/>
            <p:cNvSpPr/>
            <p:nvPr/>
          </p:nvSpPr>
          <p:spPr>
            <a:xfrm>
              <a:off x="684360" y="909720"/>
              <a:ext cx="17143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300" spc="-1" strike="noStrike">
                  <a:solidFill>
                    <a:srgbClr val="ffffff"/>
                  </a:solidFill>
                  <a:latin typeface="宋体"/>
                  <a:ea typeface="幼圆"/>
                </a:rPr>
                <a:t>学习目标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文本框 105"/>
          <p:cNvSpPr/>
          <p:nvPr/>
        </p:nvSpPr>
        <p:spPr>
          <a:xfrm>
            <a:off x="1305000" y="1744560"/>
            <a:ext cx="50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了解几则寓言的故事情节和寓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1"/>
          <p:cNvSpPr/>
          <p:nvPr/>
        </p:nvSpPr>
        <p:spPr>
          <a:xfrm>
            <a:off x="1314360" y="2430360"/>
            <a:ext cx="70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习改写及编写寓言，进一步培养发散思维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3"/>
          <p:cNvSpPr/>
          <p:nvPr/>
        </p:nvSpPr>
        <p:spPr>
          <a:xfrm>
            <a:off x="1336680" y="3209760"/>
            <a:ext cx="661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联系生活实际感悟寓言，培养健全人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副标题 7170"/>
          <p:cNvSpPr/>
          <p:nvPr/>
        </p:nvSpPr>
        <p:spPr>
          <a:xfrm>
            <a:off x="1386000" y="1089000"/>
            <a:ext cx="647064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宋君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问之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丁氏。丁氏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得一人之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非得一人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井中也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7172"/>
          <p:cNvSpPr/>
          <p:nvPr/>
        </p:nvSpPr>
        <p:spPr>
          <a:xfrm>
            <a:off x="2813760" y="1495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文本框 7174"/>
          <p:cNvSpPr/>
          <p:nvPr/>
        </p:nvSpPr>
        <p:spPr>
          <a:xfrm>
            <a:off x="4081320" y="15177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7177"/>
          <p:cNvSpPr/>
          <p:nvPr/>
        </p:nvSpPr>
        <p:spPr>
          <a:xfrm>
            <a:off x="6375240" y="15177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回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文本框 7180"/>
          <p:cNvSpPr/>
          <p:nvPr/>
        </p:nvSpPr>
        <p:spPr>
          <a:xfrm>
            <a:off x="2693880" y="279864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劳动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7181"/>
          <p:cNvSpPr/>
          <p:nvPr/>
        </p:nvSpPr>
        <p:spPr>
          <a:xfrm>
            <a:off x="5307120" y="264492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文本框 7173"/>
          <p:cNvSpPr/>
          <p:nvPr/>
        </p:nvSpPr>
        <p:spPr>
          <a:xfrm>
            <a:off x="1158840" y="3549600"/>
            <a:ext cx="735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宋国国君派人去问姓丁的。丁家的人回答说：“得到一个人的劳力，并不是从井中挖出一个人来呀。” 早知道是这个结果，还不如不问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占位符 16386"/>
          <p:cNvSpPr/>
          <p:nvPr/>
        </p:nvSpPr>
        <p:spPr>
          <a:xfrm>
            <a:off x="276120" y="1063800"/>
            <a:ext cx="8623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短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穿井得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事情发展顺序叙述。有开端、发展、结局，但最后也未点出寓意。全文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节，分三层。 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第一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叙述宋国姓丁人家因为要到外面打井水用，常要占一个劳动力。后来自家打了井，趣说为“穿井得一人”。 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第二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别人并未懂这话，就把丁氏的话传开了，直传到国君那里。 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第三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丁氏告诉国君使者自己的话的真正意思。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文本框 8200"/>
          <p:cNvSpPr/>
          <p:nvPr/>
        </p:nvSpPr>
        <p:spPr>
          <a:xfrm>
            <a:off x="230040" y="182556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则寓言故事说明了一个什么道理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文本框 8201"/>
          <p:cNvSpPr/>
          <p:nvPr/>
        </p:nvSpPr>
        <p:spPr>
          <a:xfrm>
            <a:off x="241200" y="2801880"/>
            <a:ext cx="85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告诉人们不可轻信传言并盲目传播，说话、念词不要产生歧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图片 1" descr="f3d3572c11dfa9ecb69c893b61d0f703918fc168"/>
          <p:cNvPicPr/>
          <p:nvPr/>
        </p:nvPicPr>
        <p:blipFill>
          <a:blip r:embed="rId1"/>
          <a:srcRect l="-1001" t="-1044" r="1015" b="8188"/>
          <a:stretch/>
        </p:blipFill>
        <p:spPr>
          <a:xfrm>
            <a:off x="3295800" y="3549600"/>
            <a:ext cx="255240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占位符 17410"/>
          <p:cNvSpPr/>
          <p:nvPr/>
        </p:nvSpPr>
        <p:spPr>
          <a:xfrm>
            <a:off x="457200" y="131292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fffff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写作方法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穿井得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幽默风趣。故事中因对话中有一个多义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”，可指人也可指劳动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或把“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需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得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两音义混用，而被人误解，结果越传越远，居然传到国君耳朵里去了。最后道出真相，事实与传言相差太大，不禁令人发笑。文章就是在笑中教育了人们不可轻信传言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12" descr="qiryt2"/>
          <p:cNvPicPr/>
          <p:nvPr/>
        </p:nvPicPr>
        <p:blipFill>
          <a:blip r:embed="rId1"/>
          <a:stretch/>
        </p:blipFill>
        <p:spPr>
          <a:xfrm>
            <a:off x="3824280" y="1133640"/>
            <a:ext cx="2994120" cy="4433760"/>
          </a:xfrm>
          <a:prstGeom prst="rect">
            <a:avLst/>
          </a:prstGeom>
          <a:ln w="0">
            <a:noFill/>
          </a:ln>
        </p:spPr>
      </p:pic>
      <p:sp>
        <p:nvSpPr>
          <p:cNvPr id="730" name="文本框 1"/>
          <p:cNvSpPr/>
          <p:nvPr/>
        </p:nvSpPr>
        <p:spPr>
          <a:xfrm>
            <a:off x="2164680" y="1854360"/>
            <a:ext cx="60696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杞人忧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4"/>
          <p:cNvSpPr/>
          <p:nvPr/>
        </p:nvSpPr>
        <p:spPr>
          <a:xfrm>
            <a:off x="466560" y="1409760"/>
            <a:ext cx="84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杞国有人忧天地崩坠，身无所寄，废寝食者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5"/>
          <p:cNvSpPr/>
          <p:nvPr/>
        </p:nvSpPr>
        <p:spPr>
          <a:xfrm>
            <a:off x="0" y="2627280"/>
            <a:ext cx="90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音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国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崩 坠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寝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食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6"/>
          <p:cNvSpPr/>
          <p:nvPr/>
        </p:nvSpPr>
        <p:spPr>
          <a:xfrm>
            <a:off x="1127520" y="2263680"/>
            <a:ext cx="4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q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8"/>
          <p:cNvSpPr/>
          <p:nvPr/>
        </p:nvSpPr>
        <p:spPr>
          <a:xfrm>
            <a:off x="2236680" y="222552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bēngzhu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"/>
          <p:cNvSpPr/>
          <p:nvPr/>
        </p:nvSpPr>
        <p:spPr>
          <a:xfrm>
            <a:off x="4743360" y="2230560"/>
            <a:ext cx="9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qǐ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2"/>
          <p:cNvSpPr/>
          <p:nvPr/>
        </p:nvSpPr>
        <p:spPr>
          <a:xfrm>
            <a:off x="0" y="32749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释：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忧：       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崩坠：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所：       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寄：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者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3"/>
          <p:cNvSpPr/>
          <p:nvPr/>
        </p:nvSpPr>
        <p:spPr>
          <a:xfrm>
            <a:off x="2843280" y="386064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4"/>
          <p:cNvSpPr/>
          <p:nvPr/>
        </p:nvSpPr>
        <p:spPr>
          <a:xfrm>
            <a:off x="2411280" y="32814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担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5"/>
          <p:cNvSpPr/>
          <p:nvPr/>
        </p:nvSpPr>
        <p:spPr>
          <a:xfrm>
            <a:off x="5659560" y="328932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崩塌坠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6"/>
          <p:cNvSpPr/>
          <p:nvPr/>
        </p:nvSpPr>
        <p:spPr>
          <a:xfrm>
            <a:off x="2428920" y="4003560"/>
            <a:ext cx="18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地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7"/>
          <p:cNvSpPr/>
          <p:nvPr/>
        </p:nvSpPr>
        <p:spPr>
          <a:xfrm>
            <a:off x="5435640" y="4017960"/>
            <a:ext cx="24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依托，依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9"/>
          <p:cNvSpPr/>
          <p:nvPr/>
        </p:nvSpPr>
        <p:spPr>
          <a:xfrm>
            <a:off x="2362320" y="474012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用在句末，表示停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573120" y="900000"/>
            <a:ext cx="812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又有忧彼之所忧者，因往晓之，曰：“天，积气耳，无处无气。若屈伸呼吸，终日在天中行止，奈何忧崩坠乎？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5"/>
          <p:cNvSpPr/>
          <p:nvPr/>
        </p:nvSpPr>
        <p:spPr>
          <a:xfrm>
            <a:off x="701280" y="2411280"/>
            <a:ext cx="36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音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若</a:t>
            </a:r>
            <a:r>
              <a:rPr b="1" i="1" lang="zh-CN" sz="2400" spc="-1" strike="noStrike">
                <a:solidFill>
                  <a:srgbClr val="003399"/>
                </a:solidFill>
                <a:latin typeface="Times New Roman"/>
              </a:rPr>
              <a:t>　　　　　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6"/>
          <p:cNvSpPr/>
          <p:nvPr/>
        </p:nvSpPr>
        <p:spPr>
          <a:xfrm>
            <a:off x="2463840" y="231624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7"/>
          <p:cNvSpPr/>
          <p:nvPr/>
        </p:nvSpPr>
        <p:spPr>
          <a:xfrm>
            <a:off x="2179800" y="23716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ru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9"/>
          <p:cNvSpPr/>
          <p:nvPr/>
        </p:nvSpPr>
        <p:spPr>
          <a:xfrm>
            <a:off x="5364000" y="2349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zhō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10"/>
          <p:cNvSpPr/>
          <p:nvPr/>
        </p:nvSpPr>
        <p:spPr>
          <a:xfrm>
            <a:off x="758520" y="2987640"/>
            <a:ext cx="5990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释：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彼：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因：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晓：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之：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耳：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若：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呼吸：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12"/>
          <p:cNvSpPr/>
          <p:nvPr/>
        </p:nvSpPr>
        <p:spPr>
          <a:xfrm>
            <a:off x="2987640" y="31608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13"/>
          <p:cNvSpPr/>
          <p:nvPr/>
        </p:nvSpPr>
        <p:spPr>
          <a:xfrm>
            <a:off x="5438880" y="312408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助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14"/>
          <p:cNvSpPr/>
          <p:nvPr/>
        </p:nvSpPr>
        <p:spPr>
          <a:xfrm>
            <a:off x="2871720" y="36702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于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5"/>
          <p:cNvSpPr/>
          <p:nvPr/>
        </p:nvSpPr>
        <p:spPr>
          <a:xfrm>
            <a:off x="5337000" y="36226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前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16"/>
          <p:cNvSpPr/>
          <p:nvPr/>
        </p:nvSpPr>
        <p:spPr>
          <a:xfrm>
            <a:off x="2894040" y="42084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开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8"/>
          <p:cNvSpPr/>
          <p:nvPr/>
        </p:nvSpPr>
        <p:spPr>
          <a:xfrm>
            <a:off x="5294160" y="414972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代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9"/>
          <p:cNvSpPr/>
          <p:nvPr/>
        </p:nvSpPr>
        <p:spPr>
          <a:xfrm>
            <a:off x="2987640" y="4795920"/>
            <a:ext cx="9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罢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20"/>
          <p:cNvSpPr/>
          <p:nvPr/>
        </p:nvSpPr>
        <p:spPr>
          <a:xfrm>
            <a:off x="5370480" y="46846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地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21"/>
          <p:cNvSpPr/>
          <p:nvPr/>
        </p:nvSpPr>
        <p:spPr>
          <a:xfrm>
            <a:off x="3132000" y="530064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22"/>
          <p:cNvSpPr/>
          <p:nvPr/>
        </p:nvSpPr>
        <p:spPr>
          <a:xfrm>
            <a:off x="5686560" y="5334120"/>
            <a:ext cx="27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呼气和吸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1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4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4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4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9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4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9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4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9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4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 Box 4"/>
          <p:cNvSpPr/>
          <p:nvPr/>
        </p:nvSpPr>
        <p:spPr>
          <a:xfrm>
            <a:off x="428760" y="9810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人曰：“天果积气，日月星宿不当坠邪？”晓之者曰：“日月星宿，亦积气中之有光耀者，只使坠，亦不能有所中伤。”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5"/>
          <p:cNvSpPr/>
          <p:nvPr/>
        </p:nvSpPr>
        <p:spPr>
          <a:xfrm>
            <a:off x="430200" y="2779560"/>
            <a:ext cx="72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何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坠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7"/>
          <p:cNvSpPr/>
          <p:nvPr/>
        </p:nvSpPr>
        <p:spPr>
          <a:xfrm>
            <a:off x="1550880" y="246384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nà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8"/>
          <p:cNvSpPr/>
          <p:nvPr/>
        </p:nvSpPr>
        <p:spPr>
          <a:xfrm>
            <a:off x="3385080" y="234792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ā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0"/>
          <p:cNvSpPr/>
          <p:nvPr/>
        </p:nvSpPr>
        <p:spPr>
          <a:xfrm>
            <a:off x="4975560" y="23162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zhò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11"/>
          <p:cNvSpPr/>
          <p:nvPr/>
        </p:nvSpPr>
        <p:spPr>
          <a:xfrm>
            <a:off x="430200" y="3500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释：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果：       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当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者：       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光耀：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只使：　　　　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2"/>
          <p:cNvSpPr/>
          <p:nvPr/>
        </p:nvSpPr>
        <p:spPr>
          <a:xfrm>
            <a:off x="2843280" y="364500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果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3"/>
          <p:cNvSpPr/>
          <p:nvPr/>
        </p:nvSpPr>
        <p:spPr>
          <a:xfrm>
            <a:off x="5651640" y="3645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应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4"/>
          <p:cNvSpPr/>
          <p:nvPr/>
        </p:nvSpPr>
        <p:spPr>
          <a:xfrm>
            <a:off x="2822400" y="4211640"/>
            <a:ext cx="21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的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5"/>
          <p:cNvSpPr/>
          <p:nvPr/>
        </p:nvSpPr>
        <p:spPr>
          <a:xfrm>
            <a:off x="5651640" y="4221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星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6"/>
          <p:cNvSpPr/>
          <p:nvPr/>
        </p:nvSpPr>
        <p:spPr>
          <a:xfrm>
            <a:off x="3059280" y="472428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光亮，光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7"/>
          <p:cNvSpPr/>
          <p:nvPr/>
        </p:nvSpPr>
        <p:spPr>
          <a:xfrm>
            <a:off x="3059280" y="52959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即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8"/>
          <p:cNvSpPr/>
          <p:nvPr/>
        </p:nvSpPr>
        <p:spPr>
          <a:xfrm>
            <a:off x="5938920" y="52992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打中，击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3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8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3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8" dur="2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3" dur="2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8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3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4"/>
          <p:cNvSpPr/>
          <p:nvPr/>
        </p:nvSpPr>
        <p:spPr>
          <a:xfrm>
            <a:off x="611280" y="759240"/>
            <a:ext cx="784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其人曰：“奈地坏何？”晓者曰：“地积块耳，充塞四虚，无处无块。若躇步跐蹈，终日在地上行止，奈何忧其坏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5"/>
          <p:cNvSpPr/>
          <p:nvPr/>
        </p:nvSpPr>
        <p:spPr>
          <a:xfrm>
            <a:off x="1176840" y="2276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步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       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6"/>
          <p:cNvSpPr/>
          <p:nvPr/>
        </p:nvSpPr>
        <p:spPr>
          <a:xfrm>
            <a:off x="1574640" y="1963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h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7"/>
          <p:cNvSpPr/>
          <p:nvPr/>
        </p:nvSpPr>
        <p:spPr>
          <a:xfrm>
            <a:off x="4241880" y="197964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8"/>
          <p:cNvSpPr/>
          <p:nvPr/>
        </p:nvSpPr>
        <p:spPr>
          <a:xfrm>
            <a:off x="466560" y="321300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释：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若：       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躇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跐：       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终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行止：   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奈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10"/>
          <p:cNvSpPr/>
          <p:nvPr/>
        </p:nvSpPr>
        <p:spPr>
          <a:xfrm>
            <a:off x="3121920" y="3354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1"/>
          <p:cNvSpPr/>
          <p:nvPr/>
        </p:nvSpPr>
        <p:spPr>
          <a:xfrm>
            <a:off x="6227640" y="33526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2"/>
          <p:cNvSpPr/>
          <p:nvPr/>
        </p:nvSpPr>
        <p:spPr>
          <a:xfrm>
            <a:off x="3132000" y="393048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3"/>
          <p:cNvSpPr/>
          <p:nvPr/>
        </p:nvSpPr>
        <p:spPr>
          <a:xfrm>
            <a:off x="6199200" y="38656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整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4"/>
          <p:cNvSpPr/>
          <p:nvPr/>
        </p:nvSpPr>
        <p:spPr>
          <a:xfrm>
            <a:off x="3276720" y="443556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行动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6"/>
          <p:cNvSpPr/>
          <p:nvPr/>
        </p:nvSpPr>
        <p:spPr>
          <a:xfrm>
            <a:off x="6229440" y="44355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为什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2"/>
          <p:cNvSpPr/>
          <p:nvPr/>
        </p:nvSpPr>
        <p:spPr>
          <a:xfrm>
            <a:off x="465120" y="851040"/>
            <a:ext cx="8151840" cy="53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杞国有一个人，担心天会坠落下来、地会崩塌下去，自己没有地方依托，（因此）睡不着觉，吃不下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又有一个人，看到这个人这样担心，又为这个人担忧，于是前去开导他，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聚积在一起的气体罢了，没有什么地方没有气。你一屈一伸、一呼一吸，整天都在天中活动，为什么担忧天会坠落呢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那人说：“假如天果真是聚积在一起的气体，日月星辰不应当坠落了吗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开导他的人说：“日月星辰，也只是聚积在一起的有光的气体，即使坠落，也不会击中、打伤人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那人说：“地塌了怎么办呢？”开导者说：“大地是聚积在一起的土块，四处都塞满了，没有地方没有土块。你整天踩踏着它，整天在地上行走，为什么要担心它会崩塌呢？”那人放下心来十分高兴，开导他的人也放下心来非常高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图片 1" descr=""/>
          <p:cNvPicPr/>
          <p:nvPr/>
        </p:nvPicPr>
        <p:blipFill>
          <a:blip r:embed="rId1"/>
          <a:stretch/>
        </p:blipFill>
        <p:spPr>
          <a:xfrm>
            <a:off x="2187720" y="1598760"/>
            <a:ext cx="4768560" cy="2709720"/>
          </a:xfrm>
          <a:prstGeom prst="rect">
            <a:avLst/>
          </a:prstGeom>
          <a:ln w="0">
            <a:noFill/>
          </a:ln>
        </p:spPr>
      </p:pic>
      <p:sp>
        <p:nvSpPr>
          <p:cNvPr id="628" name="Rectangle 2"/>
          <p:cNvSpPr/>
          <p:nvPr/>
        </p:nvSpPr>
        <p:spPr>
          <a:xfrm>
            <a:off x="2048040" y="3287880"/>
            <a:ext cx="5116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96666"/>
                </a:solidFill>
                <a:latin typeface="微软雅黑"/>
                <a:ea typeface="微软雅黑"/>
              </a:rPr>
              <a:t>预习课文    相关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WordArt 4"/>
          <p:cNvSpPr/>
          <p:nvPr/>
        </p:nvSpPr>
        <p:spPr>
          <a:xfrm>
            <a:off x="2335320" y="620640"/>
            <a:ext cx="761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AutoShape 5"/>
          <p:cNvSpPr/>
          <p:nvPr/>
        </p:nvSpPr>
        <p:spPr>
          <a:xfrm>
            <a:off x="2335320" y="1484280"/>
            <a:ext cx="792000" cy="1368360"/>
          </a:xfrm>
          <a:prstGeom prst="downArrow">
            <a:avLst>
              <a:gd name="adj1" fmla="val 50000"/>
              <a:gd name="adj2" fmla="val 43185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6"/>
          <p:cNvSpPr/>
          <p:nvPr/>
        </p:nvSpPr>
        <p:spPr>
          <a:xfrm>
            <a:off x="4330080" y="7650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地崩坠，身无所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WordArt 7"/>
          <p:cNvSpPr/>
          <p:nvPr/>
        </p:nvSpPr>
        <p:spPr>
          <a:xfrm>
            <a:off x="2282760" y="2882880"/>
            <a:ext cx="771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8"/>
          <p:cNvSpPr/>
          <p:nvPr/>
        </p:nvSpPr>
        <p:spPr>
          <a:xfrm>
            <a:off x="3127320" y="1989000"/>
            <a:ext cx="358920" cy="2448000"/>
          </a:xfrm>
          <a:custGeom>
            <a:avLst/>
            <a:gdLst>
              <a:gd name="textAreaLeft" fmla="*/ 229320 w 358920"/>
              <a:gd name="textAreaRight" fmla="*/ 359280 w 35892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9"/>
          <p:cNvSpPr/>
          <p:nvPr/>
        </p:nvSpPr>
        <p:spPr>
          <a:xfrm>
            <a:off x="4318920" y="17208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，积气耳，无处无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0"/>
          <p:cNvSpPr/>
          <p:nvPr/>
        </p:nvSpPr>
        <p:spPr>
          <a:xfrm>
            <a:off x="4257000" y="28526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日月星宿，亦积气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4371120" y="39909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地，积块耳，充塞四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13"/>
          <p:cNvSpPr/>
          <p:nvPr/>
        </p:nvSpPr>
        <p:spPr>
          <a:xfrm>
            <a:off x="2335320" y="3860640"/>
            <a:ext cx="792000" cy="1511640"/>
          </a:xfrm>
          <a:prstGeom prst="downArrow">
            <a:avLst>
              <a:gd name="adj1" fmla="val 50000"/>
              <a:gd name="adj2" fmla="val 4770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5"/>
          <p:cNvSpPr/>
          <p:nvPr/>
        </p:nvSpPr>
        <p:spPr>
          <a:xfrm>
            <a:off x="3268800" y="5229360"/>
            <a:ext cx="521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要消除没有根据或不必要的担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a0000"/>
                </a:solidFill>
                <a:latin typeface="宋体"/>
              </a:rPr>
              <a:t>（天下本无事，庸人自扰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WordArt 16"/>
          <p:cNvSpPr/>
          <p:nvPr/>
        </p:nvSpPr>
        <p:spPr>
          <a:xfrm>
            <a:off x="2252520" y="5149800"/>
            <a:ext cx="76212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0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3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6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4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9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4" dur="2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 Box 29"/>
          <p:cNvSpPr/>
          <p:nvPr/>
        </p:nvSpPr>
        <p:spPr>
          <a:xfrm>
            <a:off x="210960" y="1413000"/>
            <a:ext cx="56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的讲了什么事？寓意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30"/>
          <p:cNvSpPr/>
          <p:nvPr/>
        </p:nvSpPr>
        <p:spPr>
          <a:xfrm>
            <a:off x="250920" y="2354400"/>
            <a:ext cx="846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杞人担心天坠地崩，身无所寄而寝食不安。传统认为，杞人的做法完全是庸人自扰，无根据地瞎担心。告诉我们要消除没有根据或不必要的忧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Picture 2" descr="未标题-1"/>
          <p:cNvPicPr/>
          <p:nvPr/>
        </p:nvPicPr>
        <p:blipFill>
          <a:blip r:embed="rId1"/>
          <a:stretch/>
        </p:blipFill>
        <p:spPr>
          <a:xfrm>
            <a:off x="3514680" y="3890880"/>
            <a:ext cx="3084480" cy="2347920"/>
          </a:xfrm>
          <a:prstGeom prst="rect">
            <a:avLst/>
          </a:prstGeom>
          <a:ln w="0">
            <a:noFill/>
          </a:ln>
        </p:spPr>
      </p:pic>
      <p:sp>
        <p:nvSpPr>
          <p:cNvPr id="80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1138320" y="3197160"/>
            <a:ext cx="714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寓言是文学作品的一种体裁，是带有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讽喻和讽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故事。其篇幅大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简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主人公可以是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可以是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拟人化的生物或非生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主题多是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借此喻彼，借远喻近，借小喻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使深奥的道理从简单的故事中体现出来，具有鲜明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哲理性和讽刺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在创作上常常采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夸张和拟人等表现手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图片 1" descr="003i0MYrzy6L6EUHeoq4a&amp;690"/>
          <p:cNvPicPr/>
          <p:nvPr/>
        </p:nvPicPr>
        <p:blipFill>
          <a:blip r:embed="rId1"/>
          <a:stretch/>
        </p:blipFill>
        <p:spPr>
          <a:xfrm>
            <a:off x="3452760" y="585720"/>
            <a:ext cx="4191120" cy="5686560"/>
          </a:xfrm>
          <a:prstGeom prst="rect">
            <a:avLst/>
          </a:prstGeom>
          <a:ln w="0">
            <a:noFill/>
          </a:ln>
        </p:spPr>
      </p:pic>
      <p:sp>
        <p:nvSpPr>
          <p:cNvPr id="632" name="文本框 2"/>
          <p:cNvSpPr/>
          <p:nvPr/>
        </p:nvSpPr>
        <p:spPr>
          <a:xfrm>
            <a:off x="1658880" y="1206360"/>
            <a:ext cx="5461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赫耳墨斯和雕像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 Box 1028"/>
          <p:cNvSpPr/>
          <p:nvPr/>
        </p:nvSpPr>
        <p:spPr>
          <a:xfrm>
            <a:off x="136440" y="961920"/>
            <a:ext cx="87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赫耳墨斯为什么来到凡间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029"/>
          <p:cNvSpPr/>
          <p:nvPr/>
        </p:nvSpPr>
        <p:spPr>
          <a:xfrm>
            <a:off x="228600" y="1627200"/>
            <a:ext cx="86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因为想赫耳墨斯知道他在人间受到多大的尊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027"/>
          <p:cNvSpPr/>
          <p:nvPr/>
        </p:nvSpPr>
        <p:spPr>
          <a:xfrm>
            <a:off x="157320" y="2133720"/>
            <a:ext cx="80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为什么挑了宙斯和赫拉的雕像来问价，请说出他此刻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心理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030"/>
          <p:cNvSpPr/>
          <p:nvPr/>
        </p:nvSpPr>
        <p:spPr>
          <a:xfrm>
            <a:off x="338040" y="3505320"/>
            <a:ext cx="843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先问宙斯雕像的价格，大有跟最高的神一比高低的想法；知道价钱不高后，他十分满意。问赫拉雕像的价钱之后，他更觉得自己是商人的庇护神，人们对他会更尊重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2"/>
          <p:cNvSpPr/>
          <p:nvPr/>
        </p:nvSpPr>
        <p:spPr>
          <a:xfrm>
            <a:off x="228600" y="29242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个简单的“笑”，传神地写出了赫耳墨斯微妙的内心世界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嘲笑宙斯雕像价格低，讥笑宙斯不如赫拉，暗想商人会把自己的身价抬得很高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这正是他虚荣心的具体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228600" y="955800"/>
            <a:ext cx="855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墨斯三次问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神态、语气一样吗？为什么要“笑着问道”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“笑”有什么含义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2"/>
          <p:cNvSpPr/>
          <p:nvPr/>
        </p:nvSpPr>
        <p:spPr>
          <a:xfrm>
            <a:off x="915840" y="82872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赫耳墨斯和雕像者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5"/>
          <p:cNvSpPr/>
          <p:nvPr/>
        </p:nvSpPr>
        <p:spPr>
          <a:xfrm>
            <a:off x="1650960" y="2340000"/>
            <a:ext cx="55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笑问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8"/>
          <p:cNvSpPr/>
          <p:nvPr/>
        </p:nvSpPr>
        <p:spPr>
          <a:xfrm>
            <a:off x="2451240" y="4971960"/>
            <a:ext cx="45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爱慕虚荣而不被重视的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13"/>
          <p:cNvSpPr/>
          <p:nvPr/>
        </p:nvSpPr>
        <p:spPr>
          <a:xfrm>
            <a:off x="4282920" y="3068640"/>
            <a:ext cx="0" cy="100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14"/>
          <p:cNvSpPr/>
          <p:nvPr/>
        </p:nvSpPr>
        <p:spPr>
          <a:xfrm>
            <a:off x="883440" y="1711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情节发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15"/>
          <p:cNvSpPr/>
          <p:nvPr/>
        </p:nvSpPr>
        <p:spPr>
          <a:xfrm>
            <a:off x="1666800" y="3352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心理描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6"/>
          <p:cNvSpPr/>
          <p:nvPr/>
        </p:nvSpPr>
        <p:spPr>
          <a:xfrm>
            <a:off x="4867200" y="33526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语言、神态描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7"/>
          <p:cNvSpPr/>
          <p:nvPr/>
        </p:nvSpPr>
        <p:spPr>
          <a:xfrm>
            <a:off x="3114720" y="4191120"/>
            <a:ext cx="37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反衬手法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20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20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20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3"/>
          <p:cNvSpPr/>
          <p:nvPr/>
        </p:nvSpPr>
        <p:spPr>
          <a:xfrm>
            <a:off x="723960" y="3314880"/>
            <a:ext cx="73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讽刺、批评那些爱慕虚荣、妄自尊大的人。告诉人们要有自知之明，不能妄自尊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4"/>
          <p:cNvSpPr/>
          <p:nvPr/>
        </p:nvSpPr>
        <p:spPr>
          <a:xfrm>
            <a:off x="663480" y="987480"/>
            <a:ext cx="74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这则寓言生动刻画出一个怎样的赫耳墨斯形象？课文寓意是什么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7"/>
          <p:cNvSpPr/>
          <p:nvPr/>
        </p:nvSpPr>
        <p:spPr>
          <a:xfrm>
            <a:off x="557280" y="2557440"/>
            <a:ext cx="73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生动刻画出一个妄自尊大、爱慕虚荣者的形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语文备课大师【全免费】</dc:creator>
  <dc:description>语文备课大师【全免费】</dc:description>
  <cp:keywords/>
  <dc:language>en-US</dc:language>
  <cp:lastModifiedBy>xuhuachang</cp:lastModifiedBy>
  <dcterms:modified xsi:type="dcterms:W3CDTF">2017-09-16T18:21:24Z</dcterms:modified>
  <cp:revision>0</cp:revision>
  <dc:subject/>
  <dc:title>语文备课大师【全免费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