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CE6-3EDE-4D42-8841-7250CF6F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76A-A93B-4637-9C16-8BC1A0FA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B4A66-68BC-4B71-A69C-424A21BE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764CE-D0F6-457C-BCF3-1BD41F2D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BAF1D-4667-41A5-A5C4-DD30C332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EAF7E-D27B-4AAF-B7CF-71896B7D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82E91-F783-4177-8103-735E97E6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BD44B-EE60-4758-9CFD-794B6C06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31C1F-5C9F-4A1E-BEDB-AF53BF25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03AB3-64EA-4301-9970-3E31621C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783F9-A237-46A8-92FB-4D9BA73F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7249E-C89D-4FDB-B649-7CF5CB89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0C1-1DCB-4880-98DA-0FA43C0F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5AE3A-8127-4220-8A55-A00DA714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C4AF6-ABBC-49F9-998E-F041ED0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782FC-68B7-4291-B158-8D0A305D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C4A88-790B-4019-9337-8392E75C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7317D-03DF-4A27-81A7-DA3665C6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DEBF6-010B-4BDE-8201-FBEB256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3F895-E04C-4CC6-8317-5EDAEF38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00614-0E98-4EE2-91F8-FD53D891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E998E-F117-44CC-8CEE-39AD721E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1A620-4539-4023-935A-428BBC55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425-F5F5-4F3A-AF26-FEE0FF4B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25ACD-1142-4CCC-85E2-A85F59CB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CBB1D-FCBC-4680-B635-475A2EBB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9E125-9EE2-404B-BB2E-B40B9615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BCF86-7601-47D7-8417-38A0E81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3EC1B-1005-473A-A479-4B1A28A1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E61D0-55A2-469F-BB5A-A76815F9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DFA95-7E8D-45BC-AD50-BFBE6298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ADC9B-48CA-4620-9761-BFF7DD5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F2BE2-3235-457F-BBE6-6588071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97086-9AEA-43A3-A829-C7774578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B686-12B9-4F96-9389-FEC10825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06D60-FD2C-483C-99E2-E0BA6595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7624B-9A18-4287-BC4C-F581109B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76C16-C0B4-4F50-9547-581124C1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2B887-A157-4C0B-95F8-CE233CDB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E17B5-F8C6-404B-824C-242AF027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20EE8-44D2-4AAA-8D97-CF00DD64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438BD-287C-4F5B-8806-09529C53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5A269-C674-4319-91B9-FB580413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83F19-791B-49D0-8E5C-74EEF457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B8849-BAE2-4646-A734-9B4969D8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337A-2B55-4D31-9D36-8BE5A8C2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ED6C5-ECAA-4EE0-B239-3045971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95063-2162-4376-B319-976741C4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4CA19-2178-4CFB-AA33-69E34BC3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37FAD-E32C-4B96-B626-D3024EEE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115F4-A8CE-4E08-84E8-6990955A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9CC9B-54F5-4096-8B65-700A4C91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799D3-BD67-4F95-87E3-8083354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01749-A265-4122-9CF1-FD717435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025F1-4A19-4742-8B8B-E14262C7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9DA6A-3BE1-4629-B67B-B17374AC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91B7-4B45-4D17-878C-4050BEED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49C50-4255-44D4-9551-153379D5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332B5-E1CD-42C7-B68E-FD11D3EF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073BE-908E-4BE8-A9E8-44AD53C8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E3C90-05FA-4EEE-B0FD-E6A883CA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F405C-7638-4DCD-9853-3D4C3A7B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45745-67CD-4887-8777-E332384C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77028-C9C5-4FEF-B3FB-6AC8D3CC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6F254-C8E6-43D2-AC9C-7C8EF1A0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253B4-E65A-45BB-A761-59C46E10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2CC73-2AB9-48E5-8D8B-CAFC6410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D177-C37B-46D4-A9B0-21147191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3D346-3189-41E2-A3F1-54B4E4E1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50DEF-1438-47F8-9D48-42759E96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2EA29-B325-4640-A54E-82631BA6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CC5EA-601D-4115-9F8E-57D49F46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C7497-08DF-4C57-80BD-E8DA5865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94F79-6AB5-4C8A-8E7F-CAB41182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C9FFE-4812-44CB-A425-7F475A67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9AD3E-B0CF-47A4-A9BD-F9C0102A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90FD2-9D87-488B-9A26-0957B117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F9A82-A335-4180-ACAC-25115EF5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F3A2-17C1-4B81-9C1B-A95A6A54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AAF22-FF48-408B-B3EC-75C79A2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3A2AF-7E18-4E50-91F1-14CC43EF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337F7-4478-44DB-9A4A-8A2E63F4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F01A7-7432-4904-9262-572B15A8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74973-DAA3-4FB0-8557-5D1F738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1F4A6-9536-43E7-9968-B7EE97E8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65263-BD83-42FC-B5AC-8BC5ECCC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6314E-8956-47FC-B7EE-DF8A15C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9CB02-71D8-4CCD-B5F5-D8147F1B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418B2-4666-46A3-9D8C-DF1E35C7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4FE1-5BC8-47FD-B074-2BF8F3D7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F886E-CB31-4A4B-8B90-D4F017A6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8C51-D8E8-4C85-BAB9-A647A25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249-F992-4CDA-AD80-C8A4EB97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6ABD-DEEF-4A65-9BFC-5545C48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6E53-84D3-47BE-8FC1-1DC47DD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3221-CEC3-46A6-837B-B118022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0E3D-2AAB-4C43-B58A-C3E23FF1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4A3B-4C79-4D81-8173-3D6DD367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C0CA-5E25-4977-9158-A752F97F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CDEB-8D4C-41D9-894E-834C6B73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F3BA-9467-44F4-9726-0B02C062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EB70-92A3-4DF2-B44F-D94109E4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DF57-A003-4F14-AE94-62D6BAFC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CA6-E11D-4EF8-BC89-A9B8740F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82E6-07D9-4445-B647-5653ABE0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74A7-BCA7-4E34-A77A-2A740AF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AC21-FF26-4515-9393-ADA649E8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0C0C-A8EB-4D08-86B5-C69DA67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22E5-CD4A-433C-92AD-8BE30CE9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1FCE-79D5-4CE8-AF5F-E64CB3CF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865D-8F42-4B73-BD1D-254A6868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AF25-AFFC-4A76-9DA3-220B5F9B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EDB7-334E-4FF5-AD8E-C4FC9AE6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DC6C-B447-4873-9DDD-F2FAB721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483-907C-4225-9F79-6AEB268B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E559-B762-49A8-8450-5C017545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0169-297A-47CA-8CA4-A3F7544B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E35AE-46C2-45B9-84C1-B0308A98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0642-B944-48E9-9B35-E57294B3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5DED-CF85-4701-B9F5-47FDD56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E2A62-178E-47AF-AEAF-F2EC577F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05FE-E7A7-4535-82E2-0A1F3B2C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3919-2FA7-47FC-A46D-27DC303B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4F89-8E91-4E91-A0E3-B0DD79E1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1FA4D-9B5A-4562-A2DC-880F5E85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C14-AD9E-421E-BCA6-6131BEAE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6086-580A-46D2-A0BA-068F8D5C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01463-8F41-4D75-8426-D41BE44C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B7C2-C278-445D-9B3B-50349B8B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D271-3882-41C2-AD91-846DDB80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C0E24-B6C6-4A83-9053-4EC081DF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626C-0799-4E7B-BA1E-4EAC62C0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8DEC-34D9-4CEE-9925-F3560D25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A9A55-720C-48D0-B6A8-C0F9670D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B44F3-3199-41E1-B9CD-67DD94A6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BFCE-80EF-4F08-ACA8-456415D5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E89-E472-4375-9BB7-E6103B0B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233E-38BF-4F10-992A-3A5256BF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2961-1411-46D9-89DE-4993F4FB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570CE-A311-40ED-A24E-8B65D3DB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86336-153B-44EA-8411-1741E5A5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F6A0-FAB5-4593-91F0-E1E256A4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4CA74-90DF-444E-9B2F-4047A49C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A1ED8-45C5-4538-A72E-0C2C8D17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EA78F-F979-47AE-AD76-808BFDD6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4B47C-8B6B-43F6-9140-EC1C969B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2D6F1-8F8E-43F5-8446-5F20C28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73C-254A-408D-A476-20B23E4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6566-ABFA-4205-AE4B-F17CD0B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ABB85-9D49-47AC-A332-983119CA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152B0-F186-4176-A20E-2AE09C7A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29312-33D2-41FF-8241-E446B26A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37F54-3368-44D9-9518-05FE1C10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8F8BE-AD4F-4365-92F6-BB86A495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38370-50BD-431C-A5AD-5D4DACE4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FE1E2-71F9-4404-96DC-8984F936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62CD7-7F84-4DA5-A3E5-0AEE785C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1103D-7DF8-47CE-B78B-2235A7F3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2FC-B2A6-433C-8268-361D236D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0DE4-DB3C-4EE5-A737-208574E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6AA78-C484-44BF-8546-3DA249D0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CFC57-D85F-495B-BB66-87B83D59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36F68-7E10-4318-95D6-8BA41641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B16FB-F9F1-4C39-98EB-6F92D47E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FCD67-C427-4370-9229-2E641DD4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EC0CE-7213-4EF2-9045-D36ED2CB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6F9A3-6C8B-42BB-8533-5573D331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EAEF7-1F54-49DB-B8F3-232E4F51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0DBD4-4F4D-4BF0-BA4E-EF9AC261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BA6-657B-481B-AFE3-D5FCA463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9E80-07AB-481E-BF53-C3F57B93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AD039-7030-4F60-B685-C29B8A7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34CC9-C25F-4B9E-B6B0-E0E3C7B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229D4-FB6F-469A-8321-FFE90AC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07D9D-A761-48DE-8C67-9E0EDD6B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8D804-FF99-4B9A-99C8-9AF88574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E8D5-1503-4FF3-86D1-7BC132B4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B8698-A809-4B8C-B920-317D5213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C7FC2-D65F-4160-AFCD-5D13D0FC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9DD67-F3D4-443F-92D2-15A946E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794C-500C-4BDF-8B6B-35D7DDB925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F7D0-5ED4-465F-858D-E4E16C77FE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20F-165C-4E32-BA9B-44971B9863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1DAC-92CD-4606-946C-5042DF4881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356A-EE60-4D09-9F06-9A8F2AF5EA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FA38-421A-4559-B15F-D46B245050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AE11-632A-47BE-94C4-AC86403BA4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D8BE-42BC-46FD-97CC-AE1A3FA0CB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E4BF-2730-4BCE-84F8-B83D10802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9625-50FD-49AE-B157-D3D13CE4A9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6DE9-4358-4979-87AD-CF947D2BB4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7774-83D8-47FA-A36D-2C161CE071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0A98-0F60-4277-9FF0-CB1C309E2C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66FA-D7FE-4634-A509-37850AA894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BCC5-CCD3-4688-AE3A-EAD671C21A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4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寓言四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文本框 105"/>
          <p:cNvSpPr/>
          <p:nvPr/>
        </p:nvSpPr>
        <p:spPr>
          <a:xfrm>
            <a:off x="825480" y="14828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这则寓言中你获得了怎样的启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1"/>
          <p:cNvSpPr/>
          <p:nvPr/>
        </p:nvSpPr>
        <p:spPr>
          <a:xfrm>
            <a:off x="1198440" y="2754360"/>
            <a:ext cx="68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讽刺、批评那些爱慕虚荣、自命不凡的人。告诉人们要有自知之明，不能妄自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文本框 1"/>
          <p:cNvSpPr/>
          <p:nvPr/>
        </p:nvSpPr>
        <p:spPr>
          <a:xfrm>
            <a:off x="1247040" y="1846440"/>
            <a:ext cx="9118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赫耳莫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左大括号 2"/>
          <p:cNvSpPr/>
          <p:nvPr/>
        </p:nvSpPr>
        <p:spPr>
          <a:xfrm>
            <a:off x="2405160" y="1057320"/>
            <a:ext cx="75960" cy="287964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2879640"/>
              <a:gd name="textAreaBottom" fmla="*/ 287784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"/>
                  <a:pt x="10800" y="48"/>
                </a:cubicBezTo>
                <a:lnTo>
                  <a:pt x="10800" y="10752"/>
                </a:lnTo>
                <a:cubicBezTo>
                  <a:pt x="10800" y="10776"/>
                  <a:pt x="5400" y="10800"/>
                  <a:pt x="0" y="10800"/>
                </a:cubicBezTo>
                <a:cubicBezTo>
                  <a:pt x="5400" y="10800"/>
                  <a:pt x="10800" y="10824"/>
                  <a:pt x="10800" y="10848"/>
                </a:cubicBezTo>
                <a:lnTo>
                  <a:pt x="10800" y="21552"/>
                </a:lnTo>
                <a:cubicBezTo>
                  <a:pt x="10800" y="215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3"/>
          <p:cNvSpPr/>
          <p:nvPr/>
        </p:nvSpPr>
        <p:spPr>
          <a:xfrm>
            <a:off x="2584440" y="1033560"/>
            <a:ext cx="42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宙斯雕像         一个银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4"/>
          <p:cNvSpPr/>
          <p:nvPr/>
        </p:nvSpPr>
        <p:spPr>
          <a:xfrm>
            <a:off x="2568600" y="2308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赫拉雕像         还要贵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5"/>
          <p:cNvSpPr/>
          <p:nvPr/>
        </p:nvSpPr>
        <p:spPr>
          <a:xfrm>
            <a:off x="2550960" y="3584520"/>
            <a:ext cx="51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自己雕像         算饶头白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右大括号 6"/>
          <p:cNvSpPr/>
          <p:nvPr/>
        </p:nvSpPr>
        <p:spPr>
          <a:xfrm>
            <a:off x="6729480" y="1057320"/>
            <a:ext cx="144360" cy="2879640"/>
          </a:xfrm>
          <a:custGeom>
            <a:avLst/>
            <a:gdLst>
              <a:gd name="textAreaLeft" fmla="*/ 0 w 144360"/>
              <a:gd name="textAreaRight" fmla="*/ 52200 w 144360"/>
              <a:gd name="textAreaTop" fmla="*/ 3600 h 2879640"/>
              <a:gd name="textAreaBottom" fmla="*/ 287604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8"/>
          <p:cNvSpPr/>
          <p:nvPr/>
        </p:nvSpPr>
        <p:spPr>
          <a:xfrm>
            <a:off x="7224840" y="1911240"/>
            <a:ext cx="546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雕像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9"/>
          <p:cNvSpPr/>
          <p:nvPr/>
        </p:nvSpPr>
        <p:spPr>
          <a:xfrm>
            <a:off x="2332080" y="495612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尊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直接箭头连接符 10"/>
          <p:cNvCxnSpPr/>
          <p:nvPr/>
        </p:nvCxnSpPr>
        <p:spPr>
          <a:xfrm>
            <a:off x="3562200" y="5184360"/>
            <a:ext cx="216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7" name="文本框 12"/>
          <p:cNvSpPr/>
          <p:nvPr/>
        </p:nvSpPr>
        <p:spPr>
          <a:xfrm>
            <a:off x="5832360" y="493884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算饶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3890880" y="481320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讽  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4"/>
          <p:cNvSpPr/>
          <p:nvPr/>
        </p:nvSpPr>
        <p:spPr>
          <a:xfrm>
            <a:off x="3587760" y="51544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盲目自大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1" descr="ht8820051211831199400"/>
          <p:cNvPicPr/>
          <p:nvPr/>
        </p:nvPicPr>
        <p:blipFill>
          <a:blip r:embed="rId1"/>
          <a:stretch/>
        </p:blipFill>
        <p:spPr>
          <a:xfrm>
            <a:off x="2940120" y="1511280"/>
            <a:ext cx="5238720" cy="3811680"/>
          </a:xfrm>
          <a:prstGeom prst="rect">
            <a:avLst/>
          </a:prstGeom>
          <a:ln w="0">
            <a:noFill/>
          </a:ln>
        </p:spPr>
      </p:pic>
      <p:sp>
        <p:nvSpPr>
          <p:cNvPr id="672" name="文本框 3"/>
          <p:cNvSpPr/>
          <p:nvPr/>
        </p:nvSpPr>
        <p:spPr>
          <a:xfrm>
            <a:off x="1579680" y="2127240"/>
            <a:ext cx="54612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蚊子和狮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3"/>
          <p:cNvSpPr/>
          <p:nvPr/>
        </p:nvSpPr>
        <p:spPr>
          <a:xfrm>
            <a:off x="1492560" y="1500120"/>
            <a:ext cx="38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则寓言的故事部分主要写了哪些情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674640" y="2676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蚊子扬长避短战胜了狮子，后因骄傲自满被蜘蛛网粘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12"/>
          <p:cNvPicPr/>
          <p:nvPr/>
        </p:nvPicPr>
        <p:blipFill>
          <a:blip r:embed="rId1"/>
          <a:stretch/>
        </p:blipFill>
        <p:spPr>
          <a:xfrm>
            <a:off x="2508120" y="3548160"/>
            <a:ext cx="3996000" cy="253512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3"/>
          <p:cNvSpPr/>
          <p:nvPr/>
        </p:nvSpPr>
        <p:spPr>
          <a:xfrm>
            <a:off x="1492200" y="22035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蚊子：冲、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3200400" y="1905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4255560" y="195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扬长避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44197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6019920" y="228600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狮子：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2370240" y="3854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蚊子：吹、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4244400" y="3529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骄傲自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4363920" y="4200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6019920" y="38862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蜘蛛：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23"/>
          <p:cNvSpPr/>
          <p:nvPr/>
        </p:nvSpPr>
        <p:spPr>
          <a:xfrm>
            <a:off x="4037040" y="23940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4"/>
          <p:cNvSpPr/>
          <p:nvPr/>
        </p:nvSpPr>
        <p:spPr>
          <a:xfrm>
            <a:off x="4037040" y="4014720"/>
            <a:ext cx="1523880" cy="152640"/>
          </a:xfrm>
          <a:prstGeom prst="rightArrow">
            <a:avLst>
              <a:gd name="adj1" fmla="val 50000"/>
              <a:gd name="adj2" fmla="val 24958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3"/>
          <p:cNvSpPr/>
          <p:nvPr/>
        </p:nvSpPr>
        <p:spPr>
          <a:xfrm>
            <a:off x="325440" y="1866960"/>
            <a:ext cx="88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除此之外，你还懂得了哪些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312840" y="30654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要战胜对方必须知己知彼，要善于以己之长攻敌所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面对强手和困难，应毫不退缩，勇往直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文本框 105"/>
          <p:cNvSpPr/>
          <p:nvPr/>
        </p:nvSpPr>
        <p:spPr>
          <a:xfrm>
            <a:off x="627120" y="128412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对比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1"/>
          <p:cNvSpPr/>
          <p:nvPr/>
        </p:nvSpPr>
        <p:spPr>
          <a:xfrm>
            <a:off x="638280" y="1731960"/>
            <a:ext cx="81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比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子和狮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耳墨斯和雕像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在结构和写法上的异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）相同点：结构相同。都是第一段讲故事，第二段议论并得出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）不同点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表现方法不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把神当作人来写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则用拟人手法，赋予动物以人的情感和性格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表达方式不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主要运用语言、动作和心理描写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主要运用语言描写和动作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图片 1" descr="27691"/>
          <p:cNvPicPr/>
          <p:nvPr/>
        </p:nvPicPr>
        <p:blipFill>
          <a:blip r:embed="rId1"/>
          <a:stretch/>
        </p:blipFill>
        <p:spPr>
          <a:xfrm>
            <a:off x="2921040" y="1773360"/>
            <a:ext cx="3794040" cy="255240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2"/>
          <p:cNvSpPr/>
          <p:nvPr/>
        </p:nvSpPr>
        <p:spPr>
          <a:xfrm>
            <a:off x="3352680" y="4564080"/>
            <a:ext cx="29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井得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副标题 5122"/>
          <p:cNvSpPr/>
          <p:nvPr/>
        </p:nvSpPr>
        <p:spPr>
          <a:xfrm>
            <a:off x="752400" y="1054080"/>
            <a:ext cx="77058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之丁氏，家无井而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溉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常一人居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家穿井，告人曰：“吾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穿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一人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5124"/>
          <p:cNvSpPr/>
          <p:nvPr/>
        </p:nvSpPr>
        <p:spPr>
          <a:xfrm>
            <a:off x="4314960" y="1544760"/>
            <a:ext cx="30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井里打水浇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5125"/>
          <p:cNvSpPr/>
          <p:nvPr/>
        </p:nvSpPr>
        <p:spPr>
          <a:xfrm>
            <a:off x="620640" y="2689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5127"/>
          <p:cNvSpPr/>
          <p:nvPr/>
        </p:nvSpPr>
        <p:spPr>
          <a:xfrm>
            <a:off x="5083200" y="261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打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5126"/>
          <p:cNvSpPr/>
          <p:nvPr/>
        </p:nvSpPr>
        <p:spPr>
          <a:xfrm>
            <a:off x="812880" y="3560760"/>
            <a:ext cx="74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宋国有一家姓丁的，家中没有井，须到外面打水浇地，因此经常有一个人住在外面。等到他家打了一眼井之后，便对别人说：“我家打井得到一个人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副标题 6146"/>
          <p:cNvSpPr/>
          <p:nvPr/>
        </p:nvSpPr>
        <p:spPr>
          <a:xfrm>
            <a:off x="250920" y="1341360"/>
            <a:ext cx="87138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传之者，曰：“丁氏穿井得一人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，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6148"/>
          <p:cNvSpPr/>
          <p:nvPr/>
        </p:nvSpPr>
        <p:spPr>
          <a:xfrm>
            <a:off x="1224000" y="1068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6151"/>
          <p:cNvSpPr/>
          <p:nvPr/>
        </p:nvSpPr>
        <p:spPr>
          <a:xfrm>
            <a:off x="880920" y="20923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谈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6153"/>
          <p:cNvSpPr/>
          <p:nvPr/>
        </p:nvSpPr>
        <p:spPr>
          <a:xfrm>
            <a:off x="1863720" y="29638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使听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6154"/>
          <p:cNvSpPr/>
          <p:nvPr/>
        </p:nvSpPr>
        <p:spPr>
          <a:xfrm>
            <a:off x="3156480" y="2025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、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6149"/>
          <p:cNvSpPr/>
          <p:nvPr/>
        </p:nvSpPr>
        <p:spPr>
          <a:xfrm>
            <a:off x="714240" y="391788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有人听到这话，传播说：“丁家打井打出了一个人。”都城的人都谈论这件事，这件事被宋君听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05"/>
          <p:cNvSpPr/>
          <p:nvPr/>
        </p:nvSpPr>
        <p:spPr>
          <a:xfrm>
            <a:off x="1305000" y="174456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几则寓言的故事情节和寓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"/>
          <p:cNvSpPr/>
          <p:nvPr/>
        </p:nvSpPr>
        <p:spPr>
          <a:xfrm>
            <a:off x="1314360" y="24303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改写及编写寓言，进一步培养发散思维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1336680" y="3209760"/>
            <a:ext cx="66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联系生活实际感悟寓言，培养健全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副标题 7170"/>
          <p:cNvSpPr/>
          <p:nvPr/>
        </p:nvSpPr>
        <p:spPr>
          <a:xfrm>
            <a:off x="1386000" y="1089000"/>
            <a:ext cx="6470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君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问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丁氏。丁氏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一人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非得一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井中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7172"/>
          <p:cNvSpPr/>
          <p:nvPr/>
        </p:nvSpPr>
        <p:spPr>
          <a:xfrm>
            <a:off x="2813760" y="149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7174"/>
          <p:cNvSpPr/>
          <p:nvPr/>
        </p:nvSpPr>
        <p:spPr>
          <a:xfrm>
            <a:off x="4081320" y="1517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7177"/>
          <p:cNvSpPr/>
          <p:nvPr/>
        </p:nvSpPr>
        <p:spPr>
          <a:xfrm>
            <a:off x="6375240" y="15177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回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7180"/>
          <p:cNvSpPr/>
          <p:nvPr/>
        </p:nvSpPr>
        <p:spPr>
          <a:xfrm>
            <a:off x="2693880" y="27986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劳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7181"/>
          <p:cNvSpPr/>
          <p:nvPr/>
        </p:nvSpPr>
        <p:spPr>
          <a:xfrm>
            <a:off x="5307120" y="26449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7173"/>
          <p:cNvSpPr/>
          <p:nvPr/>
        </p:nvSpPr>
        <p:spPr>
          <a:xfrm>
            <a:off x="1158840" y="3549600"/>
            <a:ext cx="73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宋国国君派人去问姓丁的。丁家的人回答说：“得到一个人的劳力，并不是从井中挖出一个人来呀。” 早知道是这个结果，还不如不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占位符 16386"/>
          <p:cNvSpPr/>
          <p:nvPr/>
        </p:nvSpPr>
        <p:spPr>
          <a:xfrm>
            <a:off x="276120" y="1063800"/>
            <a:ext cx="8623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穿井得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事情发展顺序叙述。有开端、发展、结局，但最后也未点出寓意。全文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，分三层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叙述宋国姓丁人家因为要到外面打井水用，常要占一个劳动力。后来自家打了井，趣说为“穿井得一人”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二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人并未懂这话，就把丁氏的话传开了，直传到国君那里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三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丁氏告诉国君使者自己的话的真正意思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8200"/>
          <p:cNvSpPr/>
          <p:nvPr/>
        </p:nvSpPr>
        <p:spPr>
          <a:xfrm>
            <a:off x="230040" y="18255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寓言故事说明了一个什么道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8201"/>
          <p:cNvSpPr/>
          <p:nvPr/>
        </p:nvSpPr>
        <p:spPr>
          <a:xfrm>
            <a:off x="241200" y="280188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告诉人们不可轻信传言并盲目传播，说话、念词不要产生歧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f3d3572c11dfa9ecb69c893b61d0f703918fc168"/>
          <p:cNvPicPr/>
          <p:nvPr/>
        </p:nvPicPr>
        <p:blipFill>
          <a:blip r:embed="rId1"/>
          <a:srcRect l="-1001" t="-1044" r="1015" b="8188"/>
          <a:stretch/>
        </p:blipFill>
        <p:spPr>
          <a:xfrm>
            <a:off x="3295800" y="3549600"/>
            <a:ext cx="2552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占位符 17410"/>
          <p:cNvSpPr/>
          <p:nvPr/>
        </p:nvSpPr>
        <p:spPr>
          <a:xfrm>
            <a:off x="457200" y="13129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fffff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作方法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穿井得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幽默风趣。故事中因对话中有一个多义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”，可指人也可指劳动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把“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得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音义混用，而被人误解，结果越传越远，居然传到国君耳朵里去了。最后道出真相，事实与传言相差太大，不禁令人发笑。文章就是在笑中教育了人们不可轻信传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2" descr="qiryt2"/>
          <p:cNvPicPr/>
          <p:nvPr/>
        </p:nvPicPr>
        <p:blipFill>
          <a:blip r:embed="rId1"/>
          <a:stretch/>
        </p:blipFill>
        <p:spPr>
          <a:xfrm>
            <a:off x="3824280" y="1133640"/>
            <a:ext cx="2994120" cy="443376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1"/>
          <p:cNvSpPr/>
          <p:nvPr/>
        </p:nvSpPr>
        <p:spPr>
          <a:xfrm>
            <a:off x="2164680" y="1854360"/>
            <a:ext cx="60696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杞人忧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466560" y="14097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杞国有人忧天地崩坠，身无所寄，废寝食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0" y="2627280"/>
            <a:ext cx="90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崩 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食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1127520" y="22636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2236680" y="22255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ēngz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4743360" y="223056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0" y="327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忧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崩坠：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所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寄：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3"/>
          <p:cNvSpPr/>
          <p:nvPr/>
        </p:nvSpPr>
        <p:spPr>
          <a:xfrm>
            <a:off x="2843280" y="38606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2411280" y="32814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担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5"/>
          <p:cNvSpPr/>
          <p:nvPr/>
        </p:nvSpPr>
        <p:spPr>
          <a:xfrm>
            <a:off x="5659560" y="32893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崩塌坠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6"/>
          <p:cNvSpPr/>
          <p:nvPr/>
        </p:nvSpPr>
        <p:spPr>
          <a:xfrm>
            <a:off x="2428920" y="4003560"/>
            <a:ext cx="18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7"/>
          <p:cNvSpPr/>
          <p:nvPr/>
        </p:nvSpPr>
        <p:spPr>
          <a:xfrm>
            <a:off x="5435640" y="40179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依托，依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2362320" y="47401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用在句末，表示停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573120" y="900000"/>
            <a:ext cx="81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有忧彼之所忧者，因往晓之，曰：“天，积气耳，无处无气。若屈伸呼吸，终日在天中行止，奈何忧崩坠乎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701280" y="2411280"/>
            <a:ext cx="36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3399"/>
                </a:solidFill>
                <a:latin typeface="Times New Roman"/>
              </a:rPr>
              <a:t>　　　　　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2463840" y="23162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2179800" y="2371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r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5364000" y="234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0"/>
          <p:cNvSpPr/>
          <p:nvPr/>
        </p:nvSpPr>
        <p:spPr>
          <a:xfrm>
            <a:off x="758520" y="2987640"/>
            <a:ext cx="599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彼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因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晓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之：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耳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若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呼吸：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2"/>
          <p:cNvSpPr/>
          <p:nvPr/>
        </p:nvSpPr>
        <p:spPr>
          <a:xfrm>
            <a:off x="2987640" y="3160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3"/>
          <p:cNvSpPr/>
          <p:nvPr/>
        </p:nvSpPr>
        <p:spPr>
          <a:xfrm>
            <a:off x="5438880" y="31240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助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4"/>
          <p:cNvSpPr/>
          <p:nvPr/>
        </p:nvSpPr>
        <p:spPr>
          <a:xfrm>
            <a:off x="2871720" y="36702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5337000" y="362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前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6"/>
          <p:cNvSpPr/>
          <p:nvPr/>
        </p:nvSpPr>
        <p:spPr>
          <a:xfrm>
            <a:off x="2894040" y="42084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294160" y="4149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2987640" y="479592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0"/>
          <p:cNvSpPr/>
          <p:nvPr/>
        </p:nvSpPr>
        <p:spPr>
          <a:xfrm>
            <a:off x="5370480" y="4684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3132000" y="5300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2"/>
          <p:cNvSpPr/>
          <p:nvPr/>
        </p:nvSpPr>
        <p:spPr>
          <a:xfrm>
            <a:off x="5686560" y="53341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呼气和吸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4"/>
          <p:cNvSpPr/>
          <p:nvPr/>
        </p:nvSpPr>
        <p:spPr>
          <a:xfrm>
            <a:off x="428760" y="981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人曰：“天果积气，日月星宿不当坠邪？”晓之者曰：“日月星宿，亦积气中之有光耀者，只使坠，亦不能有所中伤。”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430200" y="2779560"/>
            <a:ext cx="72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1550880" y="24638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3385080" y="23479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4975560" y="23162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1"/>
          <p:cNvSpPr/>
          <p:nvPr/>
        </p:nvSpPr>
        <p:spPr>
          <a:xfrm>
            <a:off x="430200" y="350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果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者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光耀：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只使：　　　　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2"/>
          <p:cNvSpPr/>
          <p:nvPr/>
        </p:nvSpPr>
        <p:spPr>
          <a:xfrm>
            <a:off x="2843280" y="36450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果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3"/>
          <p:cNvSpPr/>
          <p:nvPr/>
        </p:nvSpPr>
        <p:spPr>
          <a:xfrm>
            <a:off x="5651640" y="364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822400" y="421164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5"/>
          <p:cNvSpPr/>
          <p:nvPr/>
        </p:nvSpPr>
        <p:spPr>
          <a:xfrm>
            <a:off x="5651640" y="42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星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6"/>
          <p:cNvSpPr/>
          <p:nvPr/>
        </p:nvSpPr>
        <p:spPr>
          <a:xfrm>
            <a:off x="3059280" y="47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光亮，光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3059280" y="52959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5938920" y="52992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打中，击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4"/>
          <p:cNvSpPr/>
          <p:nvPr/>
        </p:nvSpPr>
        <p:spPr>
          <a:xfrm>
            <a:off x="611280" y="75924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人曰：“奈地坏何？”晓者曰：“地积块耳，充塞四虚，无处无块。若躇步跐蹈，终日在地上行止，奈何忧其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1176840" y="2276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步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1574640" y="1963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4241880" y="197964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466560" y="3213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若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跐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终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行止：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奈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3121920" y="335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6227640" y="3352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3132000" y="39304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6199200" y="3865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整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4"/>
          <p:cNvSpPr/>
          <p:nvPr/>
        </p:nvSpPr>
        <p:spPr>
          <a:xfrm>
            <a:off x="3276720" y="44355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行动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6229440" y="44355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465120" y="851040"/>
            <a:ext cx="815184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杞国有一个人，担心天会坠落下来、地会崩塌下去，自己没有地方依托，（因此）睡不着觉，吃不下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有一个人，看到这个人这样担心，又为这个人担忧，于是前去开导他，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聚积在一起的气体罢了，没有什么地方没有气。你一屈一伸、一呼一吸，整天都在天中活动，为什么担忧天会坠落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人说：“假如天果真是聚积在一起的气体，日月星辰不应当坠落了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导他的人说：“日月星辰，也只是聚积在一起的有光的气体，即使坠落，也不会击中、打伤人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人说：“地塌了怎么办呢？”开导者说：“大地是聚积在一起的土块，四处都塞满了，没有地方没有土块。你整天踩踏着它，整天在地上行走，为什么要担心它会崩塌呢？”那人放下心来十分高兴，开导他的人也放下心来非常高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WordArt 4"/>
          <p:cNvSpPr/>
          <p:nvPr/>
        </p:nvSpPr>
        <p:spPr>
          <a:xfrm>
            <a:off x="2335320" y="62064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5"/>
          <p:cNvSpPr/>
          <p:nvPr/>
        </p:nvSpPr>
        <p:spPr>
          <a:xfrm>
            <a:off x="2335320" y="1484280"/>
            <a:ext cx="792000" cy="1368360"/>
          </a:xfrm>
          <a:prstGeom prst="downArrow">
            <a:avLst>
              <a:gd name="adj1" fmla="val 50000"/>
              <a:gd name="adj2" fmla="val 4318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4330080" y="76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地崩坠，身无所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WordArt 7"/>
          <p:cNvSpPr/>
          <p:nvPr/>
        </p:nvSpPr>
        <p:spPr>
          <a:xfrm>
            <a:off x="2282760" y="2882880"/>
            <a:ext cx="77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3127320" y="1989000"/>
            <a:ext cx="358920" cy="2448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4318920" y="1720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，积气耳，无处无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4257000" y="2852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月星宿，亦积气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4371120" y="3990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，积块耳，充塞四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3"/>
          <p:cNvSpPr/>
          <p:nvPr/>
        </p:nvSpPr>
        <p:spPr>
          <a:xfrm>
            <a:off x="2335320" y="3860640"/>
            <a:ext cx="792000" cy="1511640"/>
          </a:xfrm>
          <a:prstGeom prst="downArrow">
            <a:avLst>
              <a:gd name="adj1" fmla="val 50000"/>
              <a:gd name="adj2" fmla="val 4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5"/>
          <p:cNvSpPr/>
          <p:nvPr/>
        </p:nvSpPr>
        <p:spPr>
          <a:xfrm>
            <a:off x="3268800" y="5229360"/>
            <a:ext cx="52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消除没有根据或不必要的担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0000"/>
                </a:solidFill>
                <a:latin typeface="宋体"/>
              </a:rPr>
              <a:t>（天下本无事，庸人自扰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WordArt 16"/>
          <p:cNvSpPr/>
          <p:nvPr/>
        </p:nvSpPr>
        <p:spPr>
          <a:xfrm>
            <a:off x="2252520" y="5149800"/>
            <a:ext cx="7621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9"/>
          <p:cNvSpPr/>
          <p:nvPr/>
        </p:nvSpPr>
        <p:spPr>
          <a:xfrm>
            <a:off x="210960" y="141300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的讲了什么事？寓意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0"/>
          <p:cNvSpPr/>
          <p:nvPr/>
        </p:nvSpPr>
        <p:spPr>
          <a:xfrm>
            <a:off x="250920" y="235440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杞人担心天坠地崩，身无所寄而寝食不安。传统认为，杞人的做法完全是庸人自扰，无根据地瞎担心。告诉我们要消除没有根据或不必要的忧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2" descr="未标题-1"/>
          <p:cNvPicPr/>
          <p:nvPr/>
        </p:nvPicPr>
        <p:blipFill>
          <a:blip r:embed="rId1"/>
          <a:stretch/>
        </p:blipFill>
        <p:spPr>
          <a:xfrm>
            <a:off x="3514680" y="3890880"/>
            <a:ext cx="3084480" cy="234792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1138320" y="3197160"/>
            <a:ext cx="714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寓言是文学作品的一种体裁，是带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讽喻和讽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故事。其篇幅大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简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人公可以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拟人化的生物或非生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主题多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此喻彼，借远喻近，借小喻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深奥的道理从简单的故事中体现出来，具有鲜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哲理性和讽刺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在创作上常常采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夸张和拟人等表现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1" descr="003i0MYrzy6L6EUHeoq4a&amp;690"/>
          <p:cNvPicPr/>
          <p:nvPr/>
        </p:nvPicPr>
        <p:blipFill>
          <a:blip r:embed="rId1"/>
          <a:stretch/>
        </p:blipFill>
        <p:spPr>
          <a:xfrm>
            <a:off x="3452760" y="585720"/>
            <a:ext cx="4191120" cy="568656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2"/>
          <p:cNvSpPr/>
          <p:nvPr/>
        </p:nvSpPr>
        <p:spPr>
          <a:xfrm>
            <a:off x="1658880" y="1206360"/>
            <a:ext cx="5461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赫耳墨斯和雕像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1028"/>
          <p:cNvSpPr/>
          <p:nvPr/>
        </p:nvSpPr>
        <p:spPr>
          <a:xfrm>
            <a:off x="136440" y="96192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耳墨斯为什么来到凡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029"/>
          <p:cNvSpPr/>
          <p:nvPr/>
        </p:nvSpPr>
        <p:spPr>
          <a:xfrm>
            <a:off x="228600" y="1627200"/>
            <a:ext cx="86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因为想赫耳墨斯知道他在人间受到多大的尊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27"/>
          <p:cNvSpPr/>
          <p:nvPr/>
        </p:nvSpPr>
        <p:spPr>
          <a:xfrm>
            <a:off x="157320" y="213372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为什么挑了宙斯和赫拉的雕像来问价，请说出他此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心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338040" y="3505320"/>
            <a:ext cx="84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先问宙斯雕像的价格，大有跟最高的神一比高低的想法；知道价钱不高后，他十分满意。问赫拉雕像的价钱之后，他更觉得自己是商人的庇护神，人们对他会更尊重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228600" y="2924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个简单的“笑”，传神地写出了赫耳墨斯微妙的内心世界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嘲笑宙斯雕像价格低，讥笑宙斯不如赫拉，暗想商人会把自己的身价抬得很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这正是他虚荣心的具体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228600" y="955800"/>
            <a:ext cx="855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墨斯三次问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态、语气一样吗？为什么要“笑着问道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“笑”有什么含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5840" y="828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赫耳墨斯和雕像者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650960" y="234000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笑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2451240" y="4971960"/>
            <a:ext cx="45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爱慕虚荣而不被重视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4282920" y="306864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883440" y="1711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发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166680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心理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4867200" y="33526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语言、神态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3114720" y="4191120"/>
            <a:ext cx="37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反衬手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723960" y="331488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讽刺、批评那些爱慕虚荣、妄自尊大的人。告诉人们要有自知之明，不能妄自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663480" y="987480"/>
            <a:ext cx="74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则寓言生动刻画出一个怎样的赫耳墨斯形象？课文寓意是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557280" y="2557440"/>
            <a:ext cx="73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动刻画出一个妄自尊大、爱慕虚荣者的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