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F18-21A1-43F2-86EA-07388D44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F8E-DDD0-47F5-BA40-AA998BDB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93CF6-576A-4F7F-B1FB-9E93D7D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522C4-2290-4154-8E7E-EEB97092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7CBC-4FF1-445D-ADC8-DD5E691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371E-138C-4B78-B47E-76F5FB5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EEE36-9080-4E0E-9C19-8852DFA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9624-F6BC-4435-A3FE-30578C0D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8F611-C39E-493D-85AB-1CFDB670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AEC43-7FFD-41CB-824F-527C9039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19A7D-A063-4758-9E55-E0899271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8A1E3-9775-4ABE-9E76-9DD0D73C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CFD-A216-45C7-BB86-7583918E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8F855-1B33-4BB0-8C76-F6573E6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8EDA7-D5D8-46CB-A159-DB9A6288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906C8-4F23-4641-962C-A95CF37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E8FC-6103-4DFC-9299-CEFD58BE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5CE96-E6B2-410A-B138-14332C3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C7B69-7862-4801-AD58-7E5F492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44DE6-3E94-4985-B589-F748B90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47AB9-37BD-4C30-B15A-2A89F36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B1439-8C1A-4D22-9D7F-5EC56089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1FCF6-53CC-4065-B461-5F5CC6DB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7C0-AED1-4EA5-A028-A2E332FE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440C2-54A9-46E2-BE77-89FAECD6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5BF6C-D2BF-4D80-9B92-8BEB1D92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07684-91D9-4FE9-BCAF-E75369C1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59648-B7C7-4A9B-902B-14983DA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83819-4F61-4246-BB30-655B246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D50E-869F-4F99-A9CB-BB32FF6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6CBD-5BD5-4835-997B-7AF7E045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F274C-C92C-4B82-B18B-6BD725DF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7C86-DC0D-4AC3-AB4B-8ED8AF8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9F1B-97B2-4F42-8137-A0324A4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F18-9E29-49CD-A6BF-2DBB91D6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5E71C-80B9-40F0-9BA0-AE6B1DE6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395FE-9BED-4E23-B876-6578F0FD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CEBEF-13AD-43F2-A317-CCA6E9D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9C4D7-99B2-461D-AA9F-52BB52C5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D3A60-8C3A-4CCE-BC9F-80DF5EA5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729DF-D0D2-4F91-AC0C-AE94E12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82BC3-0F8A-43DE-9615-44DD844C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EAE9-1C3B-4464-BB3C-9261412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1F434-049F-4793-85B6-91F0F3F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963A0-0F82-45EA-9E8E-23C4C75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CFA4-2DBF-4F9E-8CA1-47C5659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536F5-72F9-42FE-9728-50BA22F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F3ABD-5861-40BC-8B01-8492A3F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0D328-1E78-48DA-89C5-C0FED321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ADECF-9F49-4877-85AB-22CEDDD3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64979-B4A7-4BBB-8B11-F617BD74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746DB-BDB8-4383-87F5-DEEAEAF2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652D3-754F-4CC6-BC5F-476CC8A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B9D16-AAA7-45D6-8EB9-A44C40C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6CF2C-C2CC-4508-ABFB-CDEE4FB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7CA4B-7BC2-4D4F-93E4-5120826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1630-A26F-4934-86C0-8956CB9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CE602-0EF8-4FA7-AA6D-1C27C81C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3B995-09CB-4ACD-A057-31D0E65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C6D4C-2F20-4743-ADBA-B244351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B2A5C-B595-42C9-9BF1-F808EC5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633C2-71CE-4FF7-9C99-B3CB269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09910-97CD-4B44-8C7A-79C07CB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0FFE2-6FCA-4079-B31C-142D2C63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C8AD6-B58E-48CE-BE1F-E72FA460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6BB54-8BCD-484E-93ED-78F4D187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B9690-2603-49A7-B2FF-7521B7E6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776-814A-4B67-8F5F-52CB0107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1143F-386A-4DE8-BCBE-28936527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B07B2-A279-4011-A91E-392E0B5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7B887-2987-4241-9755-A6AA573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05F3F-38E7-4AB7-B151-891C891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2F583-A8DB-4E91-A111-692EB10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F6A04-423A-4051-9336-0172518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F9D0C-4335-4315-853A-658487DA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73EAA-BC3A-4EEE-AE83-BDBAC0CD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4CC3F-8496-4C5A-AC6D-FF08CC20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09C7C-1FCA-4215-9241-DCF0FD57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7F43-DF8E-4C67-8F76-D5F3CFD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F2361-BE8A-4298-9FBE-4B2D937E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FD4CF-CD88-41D1-9428-AE726F2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E61C4-B6FC-4E95-BF42-B28D7D5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27682-83B4-4417-BD9B-B17ABE7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348AC-5619-4138-916A-41E0ACB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6DD3C-12B1-4763-B65A-08815DC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9127E-812A-4263-9B0F-4FE14C2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7ABF9-B736-4D31-8463-DEE715A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06C6B-B133-43CE-9F9D-A9E78C86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D7AA4-3DC3-42E4-9DC7-C55905FF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923-00E4-4FA0-B6BA-7F270EB3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72F4D-7171-4350-8ABA-BC9D417D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981D-5717-4922-B7D5-D8E4873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16C-CAC1-4D27-AF48-D7428C65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105-EAAB-4F2A-AC65-CBA2DDB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279-2596-47EF-A2D1-69E3DE2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BC7-3519-480E-993C-04E67D0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8A4-5350-4484-93C2-028FEF82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D00-4287-4D02-9571-61513A2E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B084-8CB7-4AC7-932A-BE8FBD91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E529-0730-46A2-9D17-1F5FC23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EF1E-B8B3-4837-A0E3-694B5669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2FCC-064C-4FC5-9A12-4C018914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57F5-47C5-452E-AF13-E3F2258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1EB-59B1-405B-A923-D7D3E293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5D8B-AB28-4866-AE3A-6D8FBBC1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6BD4-CE0C-4A6B-801E-BB11FBE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2948-F30C-404C-9F09-1D0878A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4AF5-A3E8-4BAA-8FD3-7B6928C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2161-8F45-4DE9-9365-EE96C853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47C5-3106-425C-9411-E83BFE6B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9FD8-1086-4B0B-8F68-D82D0830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85FE-25EE-44A1-8941-D9258BA1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E743-5CD3-4DA5-A79D-7337915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9714-7950-48B4-A658-77B7E97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7C2-BA5A-4F37-885A-1F8C053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3894-ED7A-4598-846B-1BA52E44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81BE-76DC-4B54-BB61-424FDC4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4CE2-31C2-454C-97C1-C77E0528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798D-FB83-4A95-8916-0766CAC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F959-8AB3-4F9D-9822-EB09A1D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F5CF-C666-449A-B223-E996164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7AE61-05D8-4F07-8C4B-9C777F98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D020-A14C-4A5C-9288-2AD7660A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0CCE-D180-4C6B-B329-90F12FB6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5AAFC-378C-49BB-9C1E-10D69D68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A7C-C804-4DDE-9A78-FB7D7835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2AC6E-BE39-4947-A55D-C9C6E8E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D311-9F14-46EC-8E7E-C3BB6F4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3600-32B6-407B-A56D-17DBCB3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AFEE-495D-4C73-946C-5E1C0F8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8362-FBCE-4F77-A3D4-90A8D21B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DF5F-85DD-4B1C-B946-04B57BC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33C2-DA7B-452C-8B66-3CC6187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2A299-6D52-4A68-AA1B-6639582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BA86-CD3B-4FA4-B378-1C1EC0A9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965A-2402-4CE4-BB7D-D73E0632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432-BBED-4E71-9F9F-400B442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FC35-0CAC-472F-8DE5-054A9CBC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EB925-18C7-4A59-B0C6-1ED4AEF1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ABAE-6842-40AD-BB9A-4499BF2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4F4F-AE63-48F4-AF39-1246680B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606FE-7C96-4FF9-B65D-7530A60C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5F48-E57F-4556-B2BC-476F5C5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428D-2B17-44F6-A28A-FF23D846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2ED3-E689-4D33-BD26-B4591B3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7EEC-C49C-4760-8B12-1C32E3F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A769-03AA-417A-BAEC-D416B36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125-47F2-41A2-881C-AD364C1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C3FA-FC83-4585-90EC-17E127BE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6655-65F8-41AB-B718-72EB43A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B6AF-3F72-4265-9FE9-BFACAE64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314D8-B743-4D41-A91C-DAFA773C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FA05C-44EF-4F6D-B64C-C28D87D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D8916-CFF5-4FD7-84B9-068D13CB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0EF4-7A5D-4CAC-8E55-5DCCE38A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6529-BCAA-4F63-9CE8-343D591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4021-C831-4953-9086-5D98522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F1CF4-7C40-47E5-9D8F-01B8967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DAA-0F49-425C-BEDB-0956E9D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7D36-AAF4-4C0E-B331-8E7D98D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85EF-6A87-4F80-92A8-07D7FAB9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B631-6ADF-4D25-87BB-3921AC5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DA47-1387-4861-8DEB-621FEBA1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6C84-6AB2-4F32-A296-35E47D0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B8916-61F2-40D7-A723-89422E92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27BE-4797-40E0-BA2F-2533D77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E2794-133B-47A2-83CC-C1AD8BD6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9397-85BD-47B4-AB5C-97954EF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367F-0AF5-4468-8558-2C70A981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E03-BF05-4854-B26C-CB52CDD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F942F-B8DB-43EC-8958-EB555EE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014E-F80A-4CF2-832D-070451A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65A9-B0C8-44FD-B882-02561710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BCBA-8171-47E9-BEA6-1EB25ED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646D-1EAD-4AB1-A7C6-0B4DAAB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56CB3-0C19-4F71-B17E-2446E600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C8AA-20EB-483D-867B-22ACC9D2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B47A3-ED81-4856-B55F-D584563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787C4-A52B-47A7-97F8-77A7FD8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4B2BF-6223-4EE3-A9A4-22F6D9AA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7537-7B4E-4F43-BE1F-30E798886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575-F349-493C-BBFF-32D4FC59F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C4B-34FF-44CC-AAFD-0FA2EF0522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9C2B-9B35-4819-ADCC-2C3C16EB74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2D53-F0EF-4CD2-B971-6698E77B2E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1974-0323-4786-8FA9-9DCDF6D543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996-88BA-4A99-8F77-A18C84229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BB8-EFE2-4F31-BD66-D07B803CD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790-1779-4345-A0DD-7216ED7A5A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A16-5909-4561-9A8B-72AF3EA89D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BF9-786A-4A6A-BC67-B4B16B713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021-95D8-4E04-AB25-9628E3F29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A08-38E1-4B64-875F-7B69FFD51D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3BD-EB90-42DD-B5B7-618858D3BE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395-BF0C-48AB-AD82-EDCDC5814F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2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2672280" y="612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505240" y="148428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505240" y="2347920"/>
            <a:ext cx="10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505240" y="321300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1616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576520" y="49402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352520" y="602460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明   美好   自由   幸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"/>
          <p:cNvSpPr/>
          <p:nvPr/>
        </p:nvSpPr>
        <p:spPr>
          <a:xfrm flipH="1">
            <a:off x="1856880" y="5448240"/>
            <a:ext cx="954360" cy="649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1"/>
          <p:cNvSpPr/>
          <p:nvPr/>
        </p:nvSpPr>
        <p:spPr>
          <a:xfrm flipH="1">
            <a:off x="2792160" y="5443560"/>
            <a:ext cx="215640" cy="6732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3079800" y="5443560"/>
            <a:ext cx="72072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"/>
          <p:cNvSpPr/>
          <p:nvPr/>
        </p:nvSpPr>
        <p:spPr>
          <a:xfrm>
            <a:off x="3368520" y="5443560"/>
            <a:ext cx="1295640" cy="5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3944880" y="620640"/>
            <a:ext cx="723960" cy="1224000"/>
          </a:xfrm>
          <a:custGeom>
            <a:avLst/>
            <a:gdLst>
              <a:gd name="textAreaLeft" fmla="*/ 0 w 723960"/>
              <a:gd name="textAreaRight" fmla="*/ 261360 w 7239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6932520" y="35719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808520" y="98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3008160" y="1128600"/>
            <a:ext cx="0" cy="432000"/>
          </a:xfrm>
          <a:prstGeom prst="line">
            <a:avLst/>
          </a:prstGeom>
          <a:ln w="31680">
            <a:solidFill>
              <a:srgbClr val="8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3008160" y="2065320"/>
            <a:ext cx="1800" cy="358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3008160" y="2855880"/>
            <a:ext cx="0" cy="432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3008160" y="3716280"/>
            <a:ext cx="0" cy="503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3008160" y="4584600"/>
            <a:ext cx="0" cy="360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6176880" y="2563920"/>
            <a:ext cx="723960" cy="2735280"/>
          </a:xfrm>
          <a:custGeom>
            <a:avLst/>
            <a:gdLst>
              <a:gd name="textAreaLeft" fmla="*/ 0 w 723960"/>
              <a:gd name="textAreaRight" fmla="*/ 261360 w 72396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3944880" y="2276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944880" y="313992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944880" y="40766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26659"/>
          <p:cNvSpPr/>
          <p:nvPr/>
        </p:nvSpPr>
        <p:spPr>
          <a:xfrm>
            <a:off x="3452760" y="185112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远的街灯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明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明星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街灯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326660"/>
          <p:cNvSpPr/>
          <p:nvPr/>
        </p:nvSpPr>
        <p:spPr>
          <a:xfrm>
            <a:off x="2223000" y="184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26667"/>
          <p:cNvSpPr/>
          <p:nvPr/>
        </p:nvSpPr>
        <p:spPr>
          <a:xfrm>
            <a:off x="2022480" y="3441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26668"/>
          <p:cNvSpPr/>
          <p:nvPr/>
        </p:nvSpPr>
        <p:spPr>
          <a:xfrm>
            <a:off x="2314440" y="252468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26669"/>
          <p:cNvSpPr/>
          <p:nvPr/>
        </p:nvSpPr>
        <p:spPr>
          <a:xfrm>
            <a:off x="2619360" y="2494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26670"/>
          <p:cNvSpPr/>
          <p:nvPr/>
        </p:nvSpPr>
        <p:spPr>
          <a:xfrm>
            <a:off x="1933560" y="25707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26672">
            <a:hlinkClick r:id="rId1" action="ppaction://hlinksldjump"/>
          </p:cNvPr>
          <p:cNvSpPr/>
          <p:nvPr/>
        </p:nvSpPr>
        <p:spPr>
          <a:xfrm>
            <a:off x="5039280" y="187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26673"/>
          <p:cNvSpPr/>
          <p:nvPr/>
        </p:nvSpPr>
        <p:spPr>
          <a:xfrm>
            <a:off x="412488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26674"/>
          <p:cNvSpPr/>
          <p:nvPr/>
        </p:nvSpPr>
        <p:spPr>
          <a:xfrm>
            <a:off x="5039280" y="29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6675"/>
          <p:cNvSpPr/>
          <p:nvPr/>
        </p:nvSpPr>
        <p:spPr>
          <a:xfrm>
            <a:off x="4062240" y="3527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326678"/>
          <p:cNvSpPr/>
          <p:nvPr/>
        </p:nvSpPr>
        <p:spPr>
          <a:xfrm>
            <a:off x="2403360" y="245124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326679"/>
          <p:cNvSpPr/>
          <p:nvPr/>
        </p:nvSpPr>
        <p:spPr>
          <a:xfrm flipV="1">
            <a:off x="2784600" y="2451240"/>
            <a:ext cx="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26680"/>
          <p:cNvSpPr/>
          <p:nvPr/>
        </p:nvSpPr>
        <p:spPr>
          <a:xfrm>
            <a:off x="4067280" y="660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节赏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57391"/>
          <p:cNvSpPr/>
          <p:nvPr/>
        </p:nvSpPr>
        <p:spPr>
          <a:xfrm>
            <a:off x="3831840" y="4075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间万家灯火的壮观景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357392"/>
          <p:cNvSpPr/>
          <p:nvPr/>
        </p:nvSpPr>
        <p:spPr>
          <a:xfrm>
            <a:off x="2742480" y="409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360463"/>
          <p:cNvSpPr/>
          <p:nvPr/>
        </p:nvSpPr>
        <p:spPr>
          <a:xfrm>
            <a:off x="27154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60464"/>
          <p:cNvSpPr/>
          <p:nvPr/>
        </p:nvSpPr>
        <p:spPr>
          <a:xfrm>
            <a:off x="3592440" y="451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群星闪烁的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61489"/>
          <p:cNvSpPr/>
          <p:nvPr/>
        </p:nvSpPr>
        <p:spPr>
          <a:xfrm>
            <a:off x="2735280" y="49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1490"/>
          <p:cNvSpPr/>
          <p:nvPr/>
        </p:nvSpPr>
        <p:spPr>
          <a:xfrm>
            <a:off x="3603240" y="501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诗人的欣喜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362515"/>
          <p:cNvSpPr/>
          <p:nvPr/>
        </p:nvSpPr>
        <p:spPr>
          <a:xfrm>
            <a:off x="2679840" y="5511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362516"/>
          <p:cNvSpPr/>
          <p:nvPr/>
        </p:nvSpPr>
        <p:spPr>
          <a:xfrm>
            <a:off x="3934440" y="55119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暗示天上有人把街灯点亮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467969"/>
          <p:cNvSpPr/>
          <p:nvPr/>
        </p:nvSpPr>
        <p:spPr>
          <a:xfrm>
            <a:off x="810000" y="131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67970"/>
          <p:cNvSpPr/>
          <p:nvPr/>
        </p:nvSpPr>
        <p:spPr>
          <a:xfrm>
            <a:off x="73404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左大括号 467971"/>
          <p:cNvSpPr/>
          <p:nvPr/>
        </p:nvSpPr>
        <p:spPr>
          <a:xfrm>
            <a:off x="1611360" y="2479680"/>
            <a:ext cx="304920" cy="3962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467976"/>
          <p:cNvSpPr/>
          <p:nvPr/>
        </p:nvSpPr>
        <p:spPr>
          <a:xfrm>
            <a:off x="210564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67977"/>
          <p:cNvSpPr/>
          <p:nvPr/>
        </p:nvSpPr>
        <p:spPr>
          <a:xfrm>
            <a:off x="207360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467978"/>
          <p:cNvSpPr/>
          <p:nvPr/>
        </p:nvSpPr>
        <p:spPr>
          <a:xfrm>
            <a:off x="2105640" y="246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467979"/>
          <p:cNvSpPr/>
          <p:nvPr/>
        </p:nvSpPr>
        <p:spPr>
          <a:xfrm>
            <a:off x="210564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67980"/>
          <p:cNvSpPr/>
          <p:nvPr/>
        </p:nvSpPr>
        <p:spPr>
          <a:xfrm>
            <a:off x="20736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67981"/>
          <p:cNvSpPr/>
          <p:nvPr/>
        </p:nvSpPr>
        <p:spPr>
          <a:xfrm>
            <a:off x="2164320" y="50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67982"/>
          <p:cNvSpPr/>
          <p:nvPr/>
        </p:nvSpPr>
        <p:spPr>
          <a:xfrm>
            <a:off x="2105640" y="609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467983"/>
          <p:cNvSpPr/>
          <p:nvPr/>
        </p:nvSpPr>
        <p:spPr>
          <a:xfrm>
            <a:off x="2286000" y="15238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467984"/>
          <p:cNvSpPr/>
          <p:nvPr/>
        </p:nvSpPr>
        <p:spPr>
          <a:xfrm flipV="1">
            <a:off x="2438280" y="1447920"/>
            <a:ext cx="0" cy="3808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467985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467986"/>
          <p:cNvSpPr/>
          <p:nvPr/>
        </p:nvSpPr>
        <p:spPr>
          <a:xfrm>
            <a:off x="2362320" y="45720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467987"/>
          <p:cNvSpPr/>
          <p:nvPr/>
        </p:nvSpPr>
        <p:spPr>
          <a:xfrm>
            <a:off x="2362320" y="5486400"/>
            <a:ext cx="0" cy="6094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467988"/>
          <p:cNvSpPr/>
          <p:nvPr/>
        </p:nvSpPr>
        <p:spPr>
          <a:xfrm>
            <a:off x="2362320" y="22096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467989"/>
          <p:cNvSpPr/>
          <p:nvPr/>
        </p:nvSpPr>
        <p:spPr>
          <a:xfrm>
            <a:off x="2362320" y="2895480"/>
            <a:ext cx="0" cy="45720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左大括号 467990"/>
          <p:cNvSpPr/>
          <p:nvPr/>
        </p:nvSpPr>
        <p:spPr>
          <a:xfrm>
            <a:off x="1752480" y="1219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467991"/>
          <p:cNvSpPr/>
          <p:nvPr/>
        </p:nvSpPr>
        <p:spPr>
          <a:xfrm>
            <a:off x="233280" y="5205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三四节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467992"/>
          <p:cNvSpPr/>
          <p:nvPr/>
        </p:nvSpPr>
        <p:spPr>
          <a:xfrm>
            <a:off x="29898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67993"/>
          <p:cNvSpPr/>
          <p:nvPr/>
        </p:nvSpPr>
        <p:spPr>
          <a:xfrm>
            <a:off x="2803680" y="329724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列、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右中括号 467994"/>
          <p:cNvSpPr/>
          <p:nvPr/>
        </p:nvSpPr>
        <p:spPr>
          <a:xfrm>
            <a:off x="4495680" y="25909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67995"/>
          <p:cNvSpPr/>
          <p:nvPr/>
        </p:nvSpPr>
        <p:spPr>
          <a:xfrm>
            <a:off x="5142240" y="269712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美好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右中括号 468001"/>
          <p:cNvSpPr/>
          <p:nvPr/>
        </p:nvSpPr>
        <p:spPr>
          <a:xfrm>
            <a:off x="2971800" y="4267080"/>
            <a:ext cx="76320" cy="2133720"/>
          </a:xfrm>
          <a:custGeom>
            <a:avLst/>
            <a:gdLst>
              <a:gd name="textAreaLeft" fmla="*/ 0 w 76320"/>
              <a:gd name="textAreaRight" fmla="*/ 53640 w 76320"/>
              <a:gd name="textAreaTop" fmla="*/ 8856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799"/>
                </a:cubicBezTo>
                <a:lnTo>
                  <a:pt x="21600" y="19801"/>
                </a:lnTo>
                <a:cubicBezTo>
                  <a:pt x="21600" y="20701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468002"/>
          <p:cNvSpPr/>
          <p:nvPr/>
        </p:nvSpPr>
        <p:spPr>
          <a:xfrm>
            <a:off x="4080600" y="4626000"/>
            <a:ext cx="200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黑暗势力压迫的反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自由幸福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587777"/>
          <p:cNvSpPr/>
          <p:nvPr/>
        </p:nvSpPr>
        <p:spPr>
          <a:xfrm>
            <a:off x="762120" y="1523880"/>
            <a:ext cx="5410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信，请看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流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他们提着灯笼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形标注 587779"/>
          <p:cNvSpPr/>
          <p:nvPr/>
        </p:nvSpPr>
        <p:spPr>
          <a:xfrm>
            <a:off x="2622600" y="2236680"/>
            <a:ext cx="4724280" cy="2668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朵”字常用于花，花是美好的象征，把流星比作花，比喻天上的生活像花朵一样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右弧形箭头 587781"/>
          <p:cNvSpPr/>
          <p:nvPr/>
        </p:nvSpPr>
        <p:spPr>
          <a:xfrm>
            <a:off x="3429000" y="1523880"/>
            <a:ext cx="2133720" cy="1828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981"/>
                <a:lnTo>
                  <a:pt x="7195" y="21168"/>
                </a:lnTo>
                <a:lnTo>
                  <a:pt x="0" y="17280"/>
                </a:lnTo>
                <a:lnTo>
                  <a:pt x="7195" y="12528"/>
                </a:lnTo>
                <a:lnTo>
                  <a:pt x="7195" y="14688"/>
                </a:lnTo>
                <a:arcTo wR="21600" hR="7560" stAng="2683981" swAng="-232654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587784"/>
          <p:cNvSpPr/>
          <p:nvPr/>
        </p:nvSpPr>
        <p:spPr>
          <a:xfrm>
            <a:off x="2133720" y="3048120"/>
            <a:ext cx="5257800" cy="243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587785"/>
          <p:cNvSpPr/>
          <p:nvPr/>
        </p:nvSpPr>
        <p:spPr>
          <a:xfrm>
            <a:off x="3352680" y="327672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587786"/>
          <p:cNvSpPr/>
          <p:nvPr/>
        </p:nvSpPr>
        <p:spPr>
          <a:xfrm>
            <a:off x="3276720" y="3276720"/>
            <a:ext cx="0" cy="22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587787"/>
          <p:cNvSpPr/>
          <p:nvPr/>
        </p:nvSpPr>
        <p:spPr>
          <a:xfrm>
            <a:off x="3352680" y="5638680"/>
            <a:ext cx="350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141640" y="1052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57200" y="90792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8525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852560" y="393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852560" y="494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4229280" y="299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4229280" y="3932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浅浅、不甚宽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013280" y="4940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1494000" y="3139920"/>
            <a:ext cx="358560" cy="2160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245280" y="29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美丽富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114560" y="3139920"/>
            <a:ext cx="546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6534000" y="494028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、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39760" y="364500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文本框 105"/>
          <p:cNvSpPr/>
          <p:nvPr/>
        </p:nvSpPr>
        <p:spPr>
          <a:xfrm>
            <a:off x="1406520" y="2552760"/>
            <a:ext cx="65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课时 太阳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99"/>
          <p:cNvSpPr/>
          <p:nvPr/>
        </p:nvSpPr>
        <p:spPr>
          <a:xfrm>
            <a:off x="2459160" y="111132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一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秘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航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划来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镀金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巨船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驶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顶空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子午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缓缓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扯下了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沿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穿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紧密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波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停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云的海岸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卸下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烁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又驶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另一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港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它驶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黑暗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候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船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焚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火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沉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灰色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浪涛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溅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银星千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文本框 99"/>
          <p:cNvSpPr/>
          <p:nvPr/>
        </p:nvSpPr>
        <p:spPr>
          <a:xfrm>
            <a:off x="200160" y="152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热情赞颂了太阳，作者是按什么顺序来描写太阳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的颜色有怎样的变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117360" y="322272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按太阳运行的时间顺序来描写太阳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早晨：金色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太阳升高到日落前：白色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日落时分：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文本框 99"/>
          <p:cNvSpPr/>
          <p:nvPr/>
        </p:nvSpPr>
        <p:spPr>
          <a:xfrm>
            <a:off x="901800" y="1023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要求，赏析下面诗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"/>
          <p:cNvSpPr/>
          <p:nvPr/>
        </p:nvSpPr>
        <p:spPr>
          <a:xfrm>
            <a:off x="846000" y="17254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它卸下批闪烁的白银，又驶向另一个港湾。（从修辞角度赏析该语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"/>
          <p:cNvSpPr/>
          <p:nvPr/>
        </p:nvSpPr>
        <p:spPr>
          <a:xfrm>
            <a:off x="905040" y="3014640"/>
            <a:ext cx="77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用“白银”比喻阳光，“卸下批闪烁的白银”比喻天色已晚，太阳光逐渐变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驶向另一个港湾”比喻太阳即将落山。这两句诗，生动形象地表现出太阳在天空中的位置及光线的变化的，给人以美感及想像的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276200" y="1724040"/>
            <a:ext cx="67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诗中联想和想象的运用，培养联想和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243080" y="30290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对自由幸福美好生活的向往与追求，体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漫主义的创作特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文本框 99"/>
          <p:cNvSpPr/>
          <p:nvPr/>
        </p:nvSpPr>
        <p:spPr>
          <a:xfrm>
            <a:off x="890640" y="995400"/>
            <a:ext cx="76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它沉没于灰色的浪涛，却溅起了银星千颗。”中的“溅”字用得好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"/>
          <p:cNvSpPr/>
          <p:nvPr/>
        </p:nvSpPr>
        <p:spPr>
          <a:xfrm>
            <a:off x="1089000" y="26226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个“溅”字化静为动，它形象地写出了太阳落山，星星出现的场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99"/>
          <p:cNvSpPr/>
          <p:nvPr/>
        </p:nvSpPr>
        <p:spPr>
          <a:xfrm>
            <a:off x="847800" y="1273320"/>
            <a:ext cx="76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言志，作者吴望尧借“太阳船”寄托 自己什么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你的理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"/>
          <p:cNvSpPr/>
          <p:nvPr/>
        </p:nvSpPr>
        <p:spPr>
          <a:xfrm>
            <a:off x="1319040" y="321480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寄托自己对光明与幸福的渴望，对故乡与大陆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99"/>
          <p:cNvSpPr/>
          <p:nvPr/>
        </p:nvSpPr>
        <p:spPr>
          <a:xfrm>
            <a:off x="682560" y="121932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诗想象可谓天马行空，但是又合乎情理。说说诗人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依据现实展开想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968400" y="279252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诗人把天空想象成航线，把太阳想象成船，晴天太阳东升西落，想象成船在天空中穿行，把云想象成海岸，太阳落山，余辉晚霞想象成大火，太阳落山，星星出现，想象合乎情理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2" descr=""/>
          <p:cNvPicPr/>
          <p:nvPr/>
        </p:nvPicPr>
        <p:blipFill>
          <a:blip r:embed="rId1"/>
          <a:stretch/>
        </p:blipFill>
        <p:spPr>
          <a:xfrm>
            <a:off x="5251320" y="2238480"/>
            <a:ext cx="295560" cy="2025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7" name="图片 103" descr=""/>
          <p:cNvPicPr/>
          <p:nvPr/>
        </p:nvPicPr>
        <p:blipFill>
          <a:blip r:embed="rId2"/>
          <a:stretch/>
        </p:blipFill>
        <p:spPr>
          <a:xfrm>
            <a:off x="2376360" y="2222640"/>
            <a:ext cx="219240" cy="2112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8" name="图片 3" descr=""/>
          <p:cNvPicPr/>
          <p:nvPr/>
        </p:nvPicPr>
        <p:blipFill>
          <a:blip r:embed="rId3"/>
          <a:stretch/>
        </p:blipFill>
        <p:spPr>
          <a:xfrm>
            <a:off x="1574640" y="3144960"/>
            <a:ext cx="638280" cy="33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89" name="文本框 105"/>
          <p:cNvSpPr/>
          <p:nvPr/>
        </p:nvSpPr>
        <p:spPr>
          <a:xfrm>
            <a:off x="2611440" y="28544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岸          想象丰富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"/>
          <p:cNvSpPr/>
          <p:nvPr/>
        </p:nvSpPr>
        <p:spPr>
          <a:xfrm>
            <a:off x="2616120" y="23050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105" descr="F:\ly\background.gif"/>
          <p:cNvPicPr/>
          <p:nvPr/>
        </p:nvPicPr>
        <p:blipFill>
          <a:blip r:embed="rId1"/>
          <a:stretch/>
        </p:blipFill>
        <p:spPr>
          <a:xfrm>
            <a:off x="2390760" y="1162080"/>
            <a:ext cx="4865760" cy="35053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4101"/>
          <p:cNvSpPr/>
          <p:nvPr/>
        </p:nvSpPr>
        <p:spPr>
          <a:xfrm>
            <a:off x="2370240" y="496728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喜欢星光灿烂的夜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33795"/>
          <p:cNvSpPr/>
          <p:nvPr/>
        </p:nvSpPr>
        <p:spPr>
          <a:xfrm>
            <a:off x="4365720" y="2554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郭沫若，原名郭开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川乐山人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诗人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代表诗集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女神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星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" descr="54fbb2fb43166d22d9a4bf9b452309f79152d2ea"/>
          <p:cNvPicPr/>
          <p:nvPr/>
        </p:nvPicPr>
        <p:blipFill>
          <a:blip r:embed="rId1"/>
          <a:stretch/>
        </p:blipFill>
        <p:spPr>
          <a:xfrm>
            <a:off x="628560" y="2114640"/>
            <a:ext cx="2527560" cy="340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31747"/>
          <p:cNvSpPr/>
          <p:nvPr/>
        </p:nvSpPr>
        <p:spPr>
          <a:xfrm flipV="1" rot="10812000">
            <a:off x="1036080" y="1148760"/>
            <a:ext cx="73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写作背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这首诗写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代初期，此时，“五四”运动的洪波已经消退，大革命的时代尚未到来。半殖民地牛封建的中国，依旧被帝国主义列强和各派军阀势力窒息着。面对这种现实，诗人感到失望和痛苦，他痛恨黑暗的现实，向往光明的未来。在灿烂星空的诱发下，写下了这首充满浪漫色彩的著名诗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17411"/>
          <p:cNvSpPr/>
          <p:nvPr/>
        </p:nvSpPr>
        <p:spPr>
          <a:xfrm>
            <a:off x="900000" y="568440"/>
            <a:ext cx="8001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　天上的街市  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远远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上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现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e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缥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空中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陈列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些物品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上没有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看，那浅浅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宽广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g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隔着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 定能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骑着牛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w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刻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天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闲游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信，请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朵流星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提着灯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走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174083"/>
          <p:cNvSpPr/>
          <p:nvPr/>
        </p:nvSpPr>
        <p:spPr>
          <a:xfrm>
            <a:off x="533520" y="202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箭头 174084"/>
          <p:cNvSpPr/>
          <p:nvPr/>
        </p:nvSpPr>
        <p:spPr>
          <a:xfrm>
            <a:off x="3124080" y="23274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74085"/>
          <p:cNvSpPr/>
          <p:nvPr/>
        </p:nvSpPr>
        <p:spPr>
          <a:xfrm>
            <a:off x="1752480" y="202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74086"/>
          <p:cNvSpPr/>
          <p:nvPr/>
        </p:nvSpPr>
        <p:spPr>
          <a:xfrm>
            <a:off x="3505320" y="1870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174087"/>
          <p:cNvSpPr/>
          <p:nvPr/>
        </p:nvSpPr>
        <p:spPr>
          <a:xfrm>
            <a:off x="5181480" y="202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74088"/>
          <p:cNvSpPr/>
          <p:nvPr/>
        </p:nvSpPr>
        <p:spPr>
          <a:xfrm>
            <a:off x="1600200" y="278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74089"/>
          <p:cNvSpPr/>
          <p:nvPr/>
        </p:nvSpPr>
        <p:spPr>
          <a:xfrm>
            <a:off x="2057400" y="2708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74091"/>
          <p:cNvSpPr/>
          <p:nvPr/>
        </p:nvSpPr>
        <p:spPr>
          <a:xfrm>
            <a:off x="457200" y="453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74093"/>
          <p:cNvSpPr/>
          <p:nvPr/>
        </p:nvSpPr>
        <p:spPr>
          <a:xfrm>
            <a:off x="1752480" y="453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74094"/>
          <p:cNvSpPr/>
          <p:nvPr/>
        </p:nvSpPr>
        <p:spPr>
          <a:xfrm>
            <a:off x="3276720" y="4842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燕尾形箭头 174095"/>
          <p:cNvSpPr/>
          <p:nvPr/>
        </p:nvSpPr>
        <p:spPr>
          <a:xfrm>
            <a:off x="3200400" y="4842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74096"/>
          <p:cNvSpPr/>
          <p:nvPr/>
        </p:nvSpPr>
        <p:spPr>
          <a:xfrm>
            <a:off x="3429000" y="438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创造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74098"/>
          <p:cNvSpPr/>
          <p:nvPr/>
        </p:nvSpPr>
        <p:spPr>
          <a:xfrm>
            <a:off x="5257800" y="461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74099"/>
          <p:cNvSpPr/>
          <p:nvPr/>
        </p:nvSpPr>
        <p:spPr>
          <a:xfrm>
            <a:off x="1743120" y="5307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不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74081"/>
          <p:cNvSpPr/>
          <p:nvPr/>
        </p:nvSpPr>
        <p:spPr>
          <a:xfrm>
            <a:off x="304920" y="80316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与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