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9FA-8DAF-4F0A-AB95-C5DDDD93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50C-0A1C-42B7-AA70-E63A27FE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7B089-233A-4FA8-9B95-DD2DBF21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2E289-B002-4112-9FE1-CCF27C7A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B1274-10E0-43E2-B0A1-E0225BA2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62024-319D-4A87-8AEA-105F24E2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B5220-FF39-4307-B3EC-94A6DA60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2F62E-F718-4895-BED3-7AD94448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808B5-BAE2-4286-8C3A-683320CF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29DA1-3214-4F39-AE0C-1D713220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84D51-AC39-45AF-8A04-FC02EC7C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DB527-7845-4907-9F39-A0078E90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445-E98D-43BE-93A7-D3E906E5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7A949-5A64-467A-A86A-7E33658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A96EF-9333-4844-A719-AE80FC1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C3DE5-C0F7-4D3B-9D15-45F1FA2B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FCF4A-9FEC-44EC-8B7B-994A8CC7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16B18-C50A-4701-87E5-CB98FFD2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3F6C5-C3A7-4BFC-82BD-C81475C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B6E62-A2C8-4C8B-866F-1333AA7D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4F475-30FF-4D21-9397-3731D979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0A81A-201E-4949-91C1-38C5CB20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66201-B8C2-4B24-87DF-AAEC33F3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3A5-8CE3-4C97-B69C-5EC0ED2F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AE2C6-F614-4F2C-8FA0-8CA60DA6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F97F4-1AE3-4A17-985A-74D6BBFE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3CBCA-1916-4EF4-BF45-149F03CA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869D2-57DE-4462-8247-C9AA8A86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1AF8D-2322-4D2E-8238-4CF57191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580D3-2286-49B4-BAD8-0E7C5387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EF07B-8C51-4C6C-9695-928A94D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4D0EA-AD96-4634-9085-B42393D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CD8C7-067A-4AC9-A9C4-21AF5DDB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B0EB5-B640-43DE-BB76-2E55BDC7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9DB7-B4D7-41CA-87A8-CD6264E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7DD51-B389-49F8-A0D4-21A5699D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40070-27CC-4B10-A027-BA96CF3B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78FA-7FBE-40A1-A841-C758C8C4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0E4AE-1820-4527-8694-3920104B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7EAD0-D8B7-4F9F-9721-819989AB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85315-AE9B-42D4-A060-4373B592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397AC-54B1-4531-BAD1-AEF831AE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D4B8C-8112-41D4-9A85-371F586B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40D34-D793-4AC9-9D1A-E1BB1AA0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845E5-976E-433F-B940-035E068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C582-3118-419E-AA31-EFC65FE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6D343-03BB-45FE-9BC2-E069FB7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47B26-CCD4-4AAF-94DF-7AC362D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581E8-FF8C-4C30-AAFA-D9663A4C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F041D-2C46-4B05-B387-4E8379AB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E8DAE-653F-403F-90E4-6900A249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BD96B-EB20-4456-B63D-02CE8907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FBCD1-872B-4271-9EF7-8807D8C0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EE5E6-92F1-47CD-925A-950B7D99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22D8B-532E-4FA3-BAA4-65173AD7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24E49-B5B1-4845-B915-52D5A441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A2FE-0C0B-4033-93EA-3E236179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CF7E1-142B-40FA-9474-BD6FF4C4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7CACC-64BD-4298-9AD8-184D2465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6932F-75A4-46D0-B5B1-9E2FDC4D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B64D4-CFD8-48C2-9E27-9C21E08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29C48-8910-441B-8D28-C68F5DD1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03237-2FC5-42DC-8C6F-E946D169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3954A-7AD7-4201-A134-E42714D6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2B448-2529-4D71-9EFB-8ED61BF4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636C5-9F67-4117-BBF0-296D2DD1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65860-8605-459C-BFC9-2DD75F2B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65B5-E10E-4E8E-917F-9890D423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ED0E7-6D41-4495-AC6C-4D746B21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C1DDD-6794-4BC8-8E4A-ECEB2082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0B7A3-A30A-4F54-B134-8E07B62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27FA5-C834-4209-8DDC-9977C517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4A034-8BE1-4CEA-A2A2-18721E5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D4949-B8C8-46DE-8B87-15F59D7E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E14A8-F59C-4B0E-8E17-C725CA5B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DCE27-9987-4FC6-8EB5-CBED5A81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C002F-8C3A-4540-A059-8A1F4EBA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9DD66-000D-414C-9B9C-569F86B9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75D3-F77A-4733-BD8B-08AD7730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4311E-0505-422A-B4D3-CA3BF4B8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F38DA-576B-461E-9DB7-1D6F5075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366C5-3FF4-44C0-A4C0-6265D04A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8A5B8-65D6-4C25-9C1D-1E7CC15A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68D58-9A79-4AD7-8B98-D854AED7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E8A8A-04BF-4DDB-9C56-6894F27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59124-A2EA-4EBA-BE03-F85F41E9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4C214-8A28-45C2-8F1B-FC2BEFDF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7F8F3-16F0-42AA-AE34-458D082C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A4F67-85A2-440E-B547-280D7E25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7594-B9EF-4AD0-9B0A-4F58D690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AB3AD-24E3-490A-A24B-07900527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5EC8-4BA3-47F1-AF27-26AB884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3A7-CE26-4DC8-8765-7448F777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A710-16BA-4C67-A95B-6FE1616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C6BB-D150-4C43-AAF4-5617492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EC6A-9F79-4B0B-803C-84FAD0AF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81FA-5DCE-4042-9962-D7762719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D4D1-8F20-466D-A83F-59CA13A4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A723-10A4-4799-AA60-104FFB1C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3C61-C29F-4613-8796-A514E9DE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FF96-BAFF-423D-B4EB-E221692D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CE9D-76CD-40D8-849A-BB16401C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5C6E-E6F1-4935-824E-5A06191B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399-AD45-410B-A80C-44440F6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722D-E903-42B4-A557-A73D1AE0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E06F-B157-4B3A-98A8-A6CD046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BC09-0BE0-45A7-BC2A-5E8F1420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A58E-DE62-4B6E-983A-31743824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5392-72A1-4E3C-BA89-4BE2A250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732A-1688-4147-ACF0-77C9A7B4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407E-26F9-42C1-A998-793A5B33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5FCDA-1989-4FA3-BBEA-3C15DC42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5CD0-7689-4501-A822-13587C4D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C0CC-3FB7-410C-A09C-269481A6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D68-A15B-44C3-AB21-E16B21B4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F612A-56BA-4337-8104-3B1E5F97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3532-31BF-45C9-ADE7-68F4F4A1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150B-FDC8-4061-9AFA-D47B27EB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2EAE-45B1-4759-8935-2FBAD32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863C8-FB28-4B3D-B44D-6E338FD9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210D3-AA7A-4EF2-A442-0495CC4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FA90-4A68-4C3F-B13F-A5CBF5B7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E580-0843-49D2-A6BC-B8AB64B4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36961-526D-4307-93D7-788676E0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99CB-1084-4011-B0BD-EB14EC77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2C4-1B27-410D-B2CB-BDC41027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A1346-5822-47E2-BD3B-59B54CCC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43CFF-EE31-46FA-9375-DC91723F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14B5-A081-49A3-ABA3-A49BEBF3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EE58A-34DC-420B-91CA-9DA0824D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21FA-C052-4764-82E2-10CB03A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8FDF2-77D6-4A56-A633-025440E3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4225-C68F-4BC6-9E84-D392A78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A2BF-93EC-4BB1-80A4-D42F2DC6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36FC3-7DC4-4244-BC84-52FD443F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4C639-8B56-4D59-B935-988EBEB8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5EF-BFA4-41D4-AA72-5A05E008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22E4B-0CB6-430A-BD74-6312FC68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4A2E2-3328-4C57-A8F6-DAE8F428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D0279-F40F-4A80-9110-D04D051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1B917-F058-4031-8727-3F0F305C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5AF5B-89F5-4520-8279-4FC2B5B9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5E8F7-E214-4B4B-8016-CC2EFC5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27271-CFB5-4A99-B1DE-2DDBD462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5A33-5BB2-4830-A7BA-D15AE514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99895-3A66-4142-99BE-177D13AF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9E94-B677-4553-8C0A-230F105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178-E6B3-40F2-8F76-ECB5C19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DBF2-C949-4C1E-8EEC-B63FFC0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6775-5856-4269-9D70-4DE97788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DC9B3-EB12-47B8-9270-891D6AD8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F224B-17F5-4432-B7F2-70468605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DF352-1CBC-45A6-BC6D-7E03D69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C014-3922-437B-B555-8CDADD4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FD703-8671-4D38-9777-36E3CC5C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DC12D-4EEB-4C98-A2A2-B21F7EB3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DA8E-18D4-43FD-9F8C-FC64BE8A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8751F-C460-4540-AFB3-3C938834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860-6659-4222-9FFA-5BA9CA52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20ABC-B470-4BF0-8791-A3B6B7B9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95BBC-19AE-43E1-BEF6-8BC798F6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658C1-422E-431F-B226-FFB725EE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53547-B1AD-47F2-97E7-92304CB9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C24F-E7CD-4B3C-9F13-63770A09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56B98-BA8A-4DC5-ABBA-651F857C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4E06C-05B3-423F-8FBC-9BC769AC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51EDA-2D26-44E8-A790-C551FB77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54C71-5BD5-4E92-B6E4-011558B2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D2CFC-A56D-43BC-816F-A54D9AC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BF9-CE77-4395-BE5E-77CECA0F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823A5-DE1B-48ED-9990-6CFCF9E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FC8C5-386D-44E8-8F2C-560CFDE7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F61DF-3A10-4219-A82D-8B537F0C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8E182-9EB8-43DF-A428-C435D6EE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A3FBA-E8F6-4DE4-B8D1-01B3D4BE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AD12E-BBF9-4A31-BD01-16E3C2F9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D833A-DD16-4953-BE34-CC222A9D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BC68B-1F00-4A41-8C36-E82FD16E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6456C-F193-42C8-9AC3-3FDF0577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88944-493B-4E0F-A57D-14EDA589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16CF-F758-4976-BA17-279D9ACA14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104F-841B-400D-AAFB-4903F7F3CE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8647-C1F9-45B2-9DED-AB0111BFA2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A548-71D7-4CB4-B631-5363105116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4927-3AF2-448B-B5AB-3407C4B978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1ADA-95D7-43AB-93E4-1FA24EE0C3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9E28-64D7-4FE7-9D28-5C5297625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2751-9385-4216-8C02-2B820CC3D7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66D5-D147-48E0-9B0F-C1FDD7D04D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4F0D-B50E-4EB1-9136-BE0341B2C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C96A-BFAC-426E-BB04-475AD1E29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5B9-D346-418E-B767-0A26C25158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71D5-23C6-4C83-B7DA-54D56C5443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0071-0BF4-4972-A81A-E6BAA5EFA4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2086-2524-4459-B7E6-6B8D3CA4D7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3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女娲造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10"/>
          <p:cNvPicPr/>
          <p:nvPr/>
        </p:nvPicPr>
        <p:blipFill>
          <a:blip r:embed="rId1"/>
          <a:stretch/>
        </p:blipFill>
        <p:spPr>
          <a:xfrm>
            <a:off x="666720" y="612720"/>
            <a:ext cx="4613400" cy="25084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7"/>
          <p:cNvPicPr/>
          <p:nvPr/>
        </p:nvPicPr>
        <p:blipFill>
          <a:blip r:embed="rId2"/>
          <a:stretch/>
        </p:blipFill>
        <p:spPr>
          <a:xfrm>
            <a:off x="1469880" y="3413160"/>
            <a:ext cx="2054520" cy="29685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8"/>
          <p:cNvPicPr/>
          <p:nvPr/>
        </p:nvPicPr>
        <p:blipFill>
          <a:blip r:embed="rId3"/>
          <a:stretch/>
        </p:blipFill>
        <p:spPr>
          <a:xfrm>
            <a:off x="5735520" y="1295280"/>
            <a:ext cx="3097440" cy="18892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" descr="9"/>
          <p:cNvPicPr/>
          <p:nvPr/>
        </p:nvPicPr>
        <p:blipFill>
          <a:blip r:embed="rId4"/>
          <a:stretch/>
        </p:blipFill>
        <p:spPr>
          <a:xfrm>
            <a:off x="4883040" y="3505320"/>
            <a:ext cx="2613240" cy="24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8"/>
          <p:cNvSpPr/>
          <p:nvPr/>
        </p:nvSpPr>
        <p:spPr>
          <a:xfrm>
            <a:off x="25909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3046320" y="5952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8334360" y="268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6248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4667400" y="5911920"/>
            <a:ext cx="44766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根据图片，展开想象，讲述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"/>
          <p:cNvSpPr/>
          <p:nvPr/>
        </p:nvSpPr>
        <p:spPr>
          <a:xfrm>
            <a:off x="4018680" y="17622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较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整体感知故事情节，初步感受想象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3"/>
          <p:cNvSpPr/>
          <p:nvPr/>
        </p:nvSpPr>
        <p:spPr>
          <a:xfrm>
            <a:off x="2635560" y="25750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探究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体会神话故事的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"/>
          <p:cNvSpPr/>
          <p:nvPr/>
        </p:nvSpPr>
        <p:spPr>
          <a:xfrm>
            <a:off x="3120120" y="34164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e91303"/>
                </a:solidFill>
                <a:latin typeface="Times New Roman"/>
              </a:rPr>
              <a:t>拓展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运用创造性想象扩写神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0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36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8" name="图片 1" descr="5882b2b7d0a20cf440ab305973094b36acaf9979"/>
          <p:cNvPicPr/>
          <p:nvPr/>
        </p:nvPicPr>
        <p:blipFill>
          <a:blip r:embed="rId1"/>
          <a:stretch/>
        </p:blipFill>
        <p:spPr>
          <a:xfrm>
            <a:off x="536400" y="2324160"/>
            <a:ext cx="2868840" cy="2421000"/>
          </a:xfrm>
          <a:prstGeom prst="rect">
            <a:avLst/>
          </a:prstGeom>
          <a:ln w="0">
            <a:noFill/>
          </a:ln>
        </p:spPr>
      </p:pic>
      <p:sp>
        <p:nvSpPr>
          <p:cNvPr id="639" name="文本框 3"/>
          <p:cNvSpPr/>
          <p:nvPr/>
        </p:nvSpPr>
        <p:spPr>
          <a:xfrm>
            <a:off x="3498840" y="1219320"/>
            <a:ext cx="54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袁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），四川新都人，神话学家。本名袁圣时，笔名丙生、高标、袁展等。著有《中国古代神话》、《中国神话传说》、《古神话选释》、《神话论文集》、《袁珂神话论集》、《中国神话百题》、《神话故事新编》、《中华文化集粹丛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异篇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文本框 1"/>
          <p:cNvSpPr/>
          <p:nvPr/>
        </p:nvSpPr>
        <p:spPr>
          <a:xfrm>
            <a:off x="2180880" y="142236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娲为什么要造人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娲是怎样造人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3"/>
          <p:cNvGrpSpPr/>
          <p:nvPr/>
        </p:nvGrpSpPr>
        <p:grpSpPr>
          <a:xfrm>
            <a:off x="1754280" y="2598840"/>
            <a:ext cx="3036240" cy="2573280"/>
            <a:chOff x="1754280" y="2598840"/>
            <a:chExt cx="3036240" cy="2573280"/>
          </a:xfrm>
        </p:grpSpPr>
        <p:sp>
          <p:nvSpPr>
            <p:cNvPr id="647" name="Text Box 4"/>
            <p:cNvSpPr/>
            <p:nvPr/>
          </p:nvSpPr>
          <p:spPr>
            <a:xfrm>
              <a:off x="1754280" y="3730680"/>
              <a:ext cx="18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女娲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5"/>
            <p:cNvSpPr/>
            <p:nvPr/>
          </p:nvSpPr>
          <p:spPr>
            <a:xfrm>
              <a:off x="3627360" y="2867040"/>
              <a:ext cx="144360" cy="2305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9760 h 2305080"/>
                <a:gd name="textAreaBottom" fmla="*/ 224532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182"/>
                  </a:lnTo>
                  <a:cubicBezTo>
                    <a:pt x="10800" y="10081"/>
                    <a:pt x="5400" y="10979"/>
                    <a:pt x="0" y="10979"/>
                  </a:cubicBezTo>
                  <a:cubicBezTo>
                    <a:pt x="5400" y="10979"/>
                    <a:pt x="10800" y="11878"/>
                    <a:pt x="10800" y="12776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6"/>
            <p:cNvSpPr/>
            <p:nvPr/>
          </p:nvSpPr>
          <p:spPr>
            <a:xfrm>
              <a:off x="3988080" y="259884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原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7"/>
          <p:cNvSpPr/>
          <p:nvPr/>
        </p:nvSpPr>
        <p:spPr>
          <a:xfrm>
            <a:off x="5366520" y="2598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到孤独荒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8"/>
          <p:cNvGrpSpPr/>
          <p:nvPr/>
        </p:nvGrpSpPr>
        <p:grpSpPr>
          <a:xfrm>
            <a:off x="3967560" y="3443400"/>
            <a:ext cx="1028160" cy="1728720"/>
            <a:chOff x="3967560" y="3443400"/>
            <a:chExt cx="1028160" cy="1728720"/>
          </a:xfrm>
        </p:grpSpPr>
        <p:sp>
          <p:nvSpPr>
            <p:cNvPr id="652" name="Text Box 9"/>
            <p:cNvSpPr/>
            <p:nvPr/>
          </p:nvSpPr>
          <p:spPr>
            <a:xfrm>
              <a:off x="3967560" y="4019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过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0"/>
            <p:cNvSpPr/>
            <p:nvPr/>
          </p:nvSpPr>
          <p:spPr>
            <a:xfrm>
              <a:off x="4780080" y="3443400"/>
              <a:ext cx="215640" cy="17287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11"/>
          <p:cNvSpPr/>
          <p:nvPr/>
        </p:nvSpPr>
        <p:spPr>
          <a:xfrm>
            <a:off x="5509080" y="3174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揉团黄泥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12"/>
          <p:cNvGrpSpPr/>
          <p:nvPr/>
        </p:nvGrpSpPr>
        <p:grpSpPr>
          <a:xfrm>
            <a:off x="5509080" y="3659040"/>
            <a:ext cx="1278000" cy="839160"/>
            <a:chOff x="5509080" y="3659040"/>
            <a:chExt cx="1278000" cy="839160"/>
          </a:xfrm>
        </p:grpSpPr>
        <p:sp>
          <p:nvSpPr>
            <p:cNvPr id="656" name="Text Box 13"/>
            <p:cNvSpPr/>
            <p:nvPr/>
          </p:nvSpPr>
          <p:spPr>
            <a:xfrm>
              <a:off x="550908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挥溅泥点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4"/>
            <p:cNvSpPr/>
            <p:nvPr/>
          </p:nvSpPr>
          <p:spPr>
            <a:xfrm>
              <a:off x="6075360" y="36590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5"/>
          <p:cNvGrpSpPr/>
          <p:nvPr/>
        </p:nvGrpSpPr>
        <p:grpSpPr>
          <a:xfrm>
            <a:off x="5496480" y="4522680"/>
            <a:ext cx="1278000" cy="696240"/>
            <a:chOff x="5496480" y="4522680"/>
            <a:chExt cx="1278000" cy="696240"/>
          </a:xfrm>
        </p:grpSpPr>
        <p:sp>
          <p:nvSpPr>
            <p:cNvPr id="659" name="Text Box 16"/>
            <p:cNvSpPr/>
            <p:nvPr/>
          </p:nvSpPr>
          <p:spPr>
            <a:xfrm>
              <a:off x="5496480" y="4759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男女婚配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6075360" y="4522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4"/>
          <p:cNvSpPr/>
          <p:nvPr/>
        </p:nvSpPr>
        <p:spPr>
          <a:xfrm>
            <a:off x="538200" y="71604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事中哪些内容体现出女娲的“神”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事中哪些内容体现出女娲的“人”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825480" y="198612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天变化七十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揉黄泥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挥洒泥浆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826920" y="43624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寂寞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豪欣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忙碌疲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4"/>
          <p:cNvSpPr/>
          <p:nvPr/>
        </p:nvSpPr>
        <p:spPr>
          <a:xfrm>
            <a:off x="3851280" y="45068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3851280" y="20588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4356000" y="22035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神”的非凡能力和神奇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4427640" y="46512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人”的心理、情感、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6732720" y="2058840"/>
            <a:ext cx="216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大胆奇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6732720" y="4506840"/>
            <a:ext cx="241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真实合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05"/>
          <p:cNvSpPr/>
          <p:nvPr/>
        </p:nvSpPr>
        <p:spPr>
          <a:xfrm>
            <a:off x="617400" y="955800"/>
            <a:ext cx="81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娲造人的具体过程是真的吗？你怎样理解这种写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1"/>
          <p:cNvSpPr/>
          <p:nvPr/>
        </p:nvSpPr>
        <p:spPr>
          <a:xfrm>
            <a:off x="836640" y="1765440"/>
            <a:ext cx="77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女蜗造人的情节显然是想象的，神话是在科学水平不发达的远古时代产生的，那时的人们无法对人的诞生做出科学的准确的解释。但是，人类又想要探求自身起源，所以，只好借助于想象来解决这个问题了，而这种大胆而奇特的想象恰恰就是神话故事中的亮点。试想，没有了这种想象，还有神话故事的存在吗？这种想象体现了远古时代人们强烈的探求欲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609480" y="10494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记述了女娲造人的全过程，表现了原始人类对人类起源的好奇和追索，以及在当时社会条件下，所做出的丰富想象，表达了作者对生命诞生的喜悦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图片 1" descr="1439561912"/>
          <p:cNvPicPr/>
          <p:nvPr/>
        </p:nvPicPr>
        <p:blipFill>
          <a:blip r:embed="rId1"/>
          <a:stretch/>
        </p:blipFill>
        <p:spPr>
          <a:xfrm>
            <a:off x="2300400" y="2727360"/>
            <a:ext cx="5048280" cy="333360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