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2D4-CACB-45A6-A3FD-63BD7E86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FDE-BF9D-4501-A2D3-37B5208F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37926-1AEC-4404-A47E-DC3F305E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DD84C-B346-4809-97BF-66DDA36E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EAF3A-C77B-487A-8616-2C7C20E8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2D789-7AEF-4F3F-9164-A55E4C38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4134C-975E-47F8-AE55-07449692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97278-21FA-4859-AA8B-A6353A0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4B667-8DA1-4459-82D7-99C20C41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60F66-BBA3-4675-A279-2469D4B8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5A013-0D67-43BD-899C-D0AC1FCE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6C3DF-A9EA-4FD1-B697-E111C3B8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187-E9EE-43AD-8CD7-CEE2409F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F23D1-C8E2-4C09-A4EA-FD90F0C1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6E6D5-3C7D-4F7A-9EED-2043B759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F46D9-6CA4-4F70-A4BE-2CA9085E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DF4DF-83AF-405D-8D80-96143EA7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8DE85-104C-4FC0-8747-540DA639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6487D-E39A-4027-A783-C86E965C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55DB5-DB13-4BAB-8F8C-1D59F021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D1E3A-AAFF-4F85-A72D-B584A542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7828D-AFEA-4C87-AB95-21B56996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5D50B-5023-417B-A0E3-6E188735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DD8-48ED-4F4D-99E7-18E5B21E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5C30A-F993-4114-BD24-13D681C9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75F28-272F-4896-B662-8306BA3F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7339E-47DF-452F-8258-10A217DC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CB81D-130C-4D6D-8E5D-4B93ED28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88742-0665-4623-90AF-4105129C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B8546-3E2F-4547-AF92-F5AC3129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D635C-26B1-4F72-AFE8-C92DD94D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53F5F-1451-474D-9394-2E3627E7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6B34F-8D1F-4A5F-8996-61D0E1CA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9E7BF-49B2-4F57-A8B4-129616E6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1083-7ED7-4E55-93BC-950AEB02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7B503-95CD-40BF-9E78-2E0DCCE3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63FBB-70DB-479F-93F0-72458819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C2A6E-B2EA-41F4-8BD9-0180274F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C6E1E-34C0-447D-808C-B2AE90AC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0E7C0-105B-4D3F-A788-305DD195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C6ACA-D28A-4AAE-B58C-175E4DD9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4D601-9B8D-44D9-81CD-AF68A114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080BA-F364-4DE1-807E-32D12A65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AF1C5-662A-42F5-8561-6D34811F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8E3F5-A935-4AF0-BD30-8E5DA81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874A-8CA1-4B0F-AD14-15BFB64C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8EB40-E6EB-47E5-94FD-C46D709B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5B576-68BF-4588-B199-B18A37D7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28F65-9DFC-4250-9A73-182C0D3D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3605E-E3F0-4087-8648-F6DCB902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DF3D0-ECE3-4AE3-9AD4-9096CE2B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5D119-DB6E-4FA3-AB72-003DA9DD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2FE57-E8CC-435C-904B-68ED6FD2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0E054-6365-4116-A12B-4082AB76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951C8-192E-4E35-ACBC-D67B515A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64761-3854-41A1-B6A9-47DAC61B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C883-281A-4067-8A5B-F462C453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83627-7808-4170-A246-B4B62DF4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FB654-76AF-47CD-8DD9-1F2ACA79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9BEA7-B6C4-4E69-86ED-775A37CA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6B06A-0915-4A8C-BF92-4DCC9137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8E065-E8CA-4352-B762-27D8E526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DE539-AF00-42CA-9BC5-51225634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3A37C-ED46-4CCD-BFB6-3900CA74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FC6D0-D611-4473-B14F-872E7EFA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66719-FA38-4A94-85A0-CF4D26CA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8761EE-77EB-4CBE-8C54-EDD9FF5C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7C60-7F14-4FC0-9C31-EDB6B0EF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657465-49B7-41B5-A54F-9A8F0E5B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E7A7F-4DB7-4889-B882-8827E40E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FCE33-31A6-4565-8ACA-123A5E9A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EE32B3-B2AD-450F-80FB-C8EB941A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562CD-D3AE-44C3-9B35-3AAB414E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E585F-F518-4590-A46C-401302D5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F468F3-403E-440A-BADE-1DA7F75A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855AD-8F54-4626-B05E-AE8D8338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A720A4-01F8-4FCC-A2AD-4704FF4B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2C996F-96DD-4728-94CC-588B77BB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10DA-48DC-43C8-BC23-7295662E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D2AE1-92C3-4175-BBB4-B56AE535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152DC-FF29-4B3A-86CB-94BA2368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80E23-8371-4662-8579-A2514E92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B680A-26E5-4F0B-87C8-C2E60DE0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7CBF6A-C140-46AC-B7DF-DE21977C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BE2672-2FFA-4775-B274-F42EA6A0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816EE1-C2A6-4EE5-9961-ECE22183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474A3-F409-4D8B-9514-1250A8AF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47FCF-A1FC-4385-9216-E5221C22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8D422-82BF-403D-BC8E-1AA7247A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B35B-1A7D-4550-9383-E7C091FD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9A3ED5-323F-4BA3-92C3-74C8E885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4707-0788-4AD1-89C9-C231F5EE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357-7E46-4605-883F-87DC7A9A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C1E8-5396-40FC-A427-95C02EA7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C5C1-DF6D-44BE-90B4-2B26780F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30F5-6832-40A3-AF8D-06729B05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A80B-C93F-4108-A9B7-4337DB6D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158C-5D9F-436B-B1C5-BB255DEB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843BE-F643-4FDA-B986-63BC0EEA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730C6-DF53-41AC-B36F-DE7A51A9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223B-3E8B-4076-A4EE-753A0282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5738-1889-45E3-95EE-7869734B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8B77-B9CA-418E-86EF-A42EAD4D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90B-D61A-43D0-BA8E-6EE10583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BCF4A-DBC4-40D7-B065-659F9424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43025-85A5-4BD2-BBD6-A886F29A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642A1-BBE8-4A60-8ED7-CAB4426B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86B4-4D3B-4D1E-8275-E727A992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DBEFB-648E-4303-90F2-5146F007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BA04-6712-4A65-BC95-624E7BC2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3192A-0F0E-40C6-90F2-17014741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85738-C25A-4ACC-9B11-DDC27DCB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4259B-EE38-45FD-9A1F-223112EC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9878E-A2ED-4D80-ACC6-5A7208C7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148-2EF9-4F59-96C8-86C24320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0EFFE-EE86-41B4-A03E-3C78D6D2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062B8-7138-41B3-B258-4FACB0C5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1DA4C-BD8D-457D-AD33-3C64E058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FE7DB-9FBE-4FFD-B287-76DFB74E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14DD5-586A-46AE-831E-5FCF67DF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FE607-1C6E-4595-9FF7-BBF27401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5C49-211C-49D4-B063-07D161E5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8BA42-7345-4166-9F44-530283F8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6DAAD-8A13-480B-B773-C7FC1530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DAE02-CA91-4389-9402-CD904D06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417-F43E-4C82-B10F-3743CB29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A93B5-8499-48EE-B946-BF4432DB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C76F9-C3AB-4E54-91C5-525D85DB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CAC0F-132E-43AB-90CE-2B329C4B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801C6-EF9A-455E-BB1F-1AC827EB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184FA-2ADC-4C03-AF4F-7D34BAD4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F167B-D770-44E3-B647-C31819C5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25BE4-D61E-4E76-A669-BA63575D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4B445-261F-448E-9F2A-18C47965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9A611-32FF-4B7C-A94C-96DE3643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BC280-6335-4B04-ADE8-D372C34B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CE0-1702-4764-844A-C56B2AAD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EFEEC-AE33-422F-AFCB-9BF07CF6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5F263-2F0B-42DF-9E00-1B59CA04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AF3F2-7009-49D4-98D9-68C64B3E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60836-E9D3-4230-9269-C05253BD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6FE96-E1E2-4793-A0D9-AB9844D3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6B838-DCF0-4E50-A851-4EF69E78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E95D3-D9CD-46B9-AF5B-BBCEBD81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E4F65-2518-4750-94F2-B9B58719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40D72-6846-4A32-AA66-79C154FB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5BCD3-7636-404E-83B9-70B11667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230-6A54-445C-9595-6E8576F5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4F41E-0563-48E7-8BAC-7E23D4B7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EE25C-3934-4FE6-BF0E-B08AD0F4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89738-6EFD-4CE2-BEAD-D86E2BD7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46D7E-CC4C-4A05-9D40-8152AF8B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ACBC7-E354-49A2-AAD4-B3D3B080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80103-A4FA-4F2B-BF6F-AA24F742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08414-A0B7-4EB1-8252-776E6826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CA2D7-551E-40C1-AC21-0418246E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C1D5F-2BF9-4478-817D-9AE3E122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B9689-5416-4D35-AB90-5A005227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2AB-B1E6-4430-A1DD-A7F61A42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DFCD0-F497-4C9A-84C8-89FD5A22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973F4-E7B2-45DB-A8CB-37F4DE82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5FC79-B78F-4F5A-9BCA-99B9F1D2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981D0-3D02-4A40-96B3-5A11B266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7D700-2E0C-4942-A134-283E22DA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29192-5F82-4956-83C1-F52265D5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D8F55-780F-425B-9199-0C489597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41C18-A76C-47E5-805B-C999829A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44262-14B6-469D-BDCD-8A25D397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DD891-5BEE-4739-9ACE-3101F531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187-F191-4BCA-B700-37931FC7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EA9B2-ABF2-4F2F-816A-FBFC67FD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B3452-D559-42ED-AC77-FF021476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B1D28-2F34-4955-8D33-88B65FBC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D9C0C-206E-4EBE-9171-E26EEA87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26B8A-70B3-4F0D-8AA1-0F50A887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CE709-6297-43F7-A4CD-7C659780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A6BCF-0A1D-47C1-80F0-EE047D50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DD9D6-CCCE-4948-B880-2A4F9CB1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1F310-E3D2-48A2-BB7E-25DFA3DA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8769C-E26F-4A42-A4F2-8E7F428C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E171-ED5E-4296-98B3-33411C2A17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582E-4B76-43F6-B392-81E0B9BA1C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E3E5-CC35-4FB7-B9C3-56BBF37D03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02C5-7DC7-4818-9530-2CBA6A4FD0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1AF5-A9F0-4DBE-8BB1-82EFF786FF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1433-6B86-4C83-B9EF-EB19002DD3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3D98-6650-44AB-B345-B526FB9494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4872-2CD5-4B03-A7AA-46CEFE1A2E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DFD8-1184-4ACD-827C-1855FA44E5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2CAD-6102-4E66-844D-9DC4322465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AF7F-3CEF-4491-AE53-A7EBBC522B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790B-14F1-4D38-A8FB-3CEBF2DC89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28B3-7A5F-4820-828E-6A784778C5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2F70-F164-4C4C-B3C9-27402D06B1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6286-0F7A-42EA-BC19-8DC6C4E4AA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603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07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1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皇帝的新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精读课文    细节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文本框 18434"/>
          <p:cNvSpPr/>
          <p:nvPr/>
        </p:nvSpPr>
        <p:spPr>
          <a:xfrm>
            <a:off x="304920" y="7621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故事情节发展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骗子们说了一句话起着关键的作用，找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，并说说它为什么是关键语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8435"/>
          <p:cNvSpPr/>
          <p:nvPr/>
        </p:nvSpPr>
        <p:spPr>
          <a:xfrm>
            <a:off x="457200" y="228600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任何不称职的或愚蠢得不可救药的人，都看不见这衣服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8436"/>
          <p:cNvSpPr/>
          <p:nvPr/>
        </p:nvSpPr>
        <p:spPr>
          <a:xfrm>
            <a:off x="457200" y="2978280"/>
            <a:ext cx="84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句话，在故事情节发展中起着关键的推动作用。骗子胡说那衣服具有这样一种“奇怪的特性”，不但抓住了皇帝的昏庸荒政而又想辨别出官员是否称职、是聪明还是愚蠢，以求保住皇位的心理，而且抓住了大臣们只想保住官位的心理，因而骗术步步行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19457"/>
          <p:cNvSpPr/>
          <p:nvPr/>
        </p:nvSpPr>
        <p:spPr>
          <a:xfrm>
            <a:off x="1219320" y="298944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19458"/>
          <p:cNvSpPr/>
          <p:nvPr/>
        </p:nvSpPr>
        <p:spPr>
          <a:xfrm>
            <a:off x="600120" y="965160"/>
            <a:ext cx="7810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根本不存在的“新装”面前，很多人都不敢说真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他们不敢说真话的原因是什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19459"/>
          <p:cNvSpPr/>
          <p:nvPr/>
        </p:nvSpPr>
        <p:spPr>
          <a:xfrm>
            <a:off x="898560" y="2349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大臣、“另外一位诚实的官员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9460"/>
          <p:cNvSpPr/>
          <p:nvPr/>
        </p:nvSpPr>
        <p:spPr>
          <a:xfrm>
            <a:off x="898560" y="2924280"/>
            <a:ext cx="53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怕别人说自己愚蠢，更怕丢了乌纱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9461"/>
          <p:cNvSpPr/>
          <p:nvPr/>
        </p:nvSpPr>
        <p:spPr>
          <a:xfrm>
            <a:off x="895320" y="369396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皇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19462"/>
          <p:cNvSpPr/>
          <p:nvPr/>
        </p:nvSpPr>
        <p:spPr>
          <a:xfrm>
            <a:off x="1814400" y="3679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怕别人说自己愚蠢，也怕丢了王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9463"/>
          <p:cNvSpPr/>
          <p:nvPr/>
        </p:nvSpPr>
        <p:spPr>
          <a:xfrm>
            <a:off x="1130400" y="4602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百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19464"/>
          <p:cNvSpPr/>
          <p:nvPr/>
        </p:nvSpPr>
        <p:spPr>
          <a:xfrm>
            <a:off x="4116600" y="4627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怕人嘲笑愚蠢；怕招杀身之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文本框 20481"/>
          <p:cNvSpPr/>
          <p:nvPr/>
        </p:nvSpPr>
        <p:spPr>
          <a:xfrm>
            <a:off x="858960" y="18860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孩子为什么敢说真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20482"/>
          <p:cNvSpPr/>
          <p:nvPr/>
        </p:nvSpPr>
        <p:spPr>
          <a:xfrm>
            <a:off x="1500120" y="2940120"/>
            <a:ext cx="5977080" cy="64260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因为小孩子单纯，天真活泼，不懂得人情世故无所顾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矩形 21505"/>
          <p:cNvSpPr/>
          <p:nvPr/>
        </p:nvSpPr>
        <p:spPr>
          <a:xfrm>
            <a:off x="896760" y="2349360"/>
            <a:ext cx="1965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皇帝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臣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骗子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孩子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21506"/>
          <p:cNvSpPr/>
          <p:nvPr/>
        </p:nvSpPr>
        <p:spPr>
          <a:xfrm>
            <a:off x="2197080" y="23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昏庸无能、爱慕虚荣、愚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21507"/>
          <p:cNvSpPr/>
          <p:nvPr/>
        </p:nvSpPr>
        <p:spPr>
          <a:xfrm>
            <a:off x="2214720" y="2925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虚伪愚昧、阿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ē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谀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yú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奉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21508"/>
          <p:cNvSpPr/>
          <p:nvPr/>
        </p:nvSpPr>
        <p:spPr>
          <a:xfrm>
            <a:off x="2926440" y="34448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狡猾伪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21509"/>
          <p:cNvSpPr/>
          <p:nvPr/>
        </p:nvSpPr>
        <p:spPr>
          <a:xfrm>
            <a:off x="2235240" y="3979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纯洁天真、无所顾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21510"/>
          <p:cNvSpPr/>
          <p:nvPr/>
        </p:nvSpPr>
        <p:spPr>
          <a:xfrm>
            <a:off x="611280" y="9968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概括出皇帝、大臣及官员、小孩的性格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文本框 22529"/>
          <p:cNvSpPr/>
          <p:nvPr/>
        </p:nvSpPr>
        <p:spPr>
          <a:xfrm>
            <a:off x="614520" y="717480"/>
            <a:ext cx="71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文主要运用了什么艺术手法？有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22530"/>
          <p:cNvSpPr/>
          <p:nvPr/>
        </p:nvSpPr>
        <p:spPr>
          <a:xfrm>
            <a:off x="814320" y="3830760"/>
            <a:ext cx="76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作用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无情地鞭挞了至高无上的皇帝和道貌岸然的大臣，辛辣地嘲笑了他们的愚蠢虚伪卑鄙自私，曲折地反映了现实生活，反映了封建专制制度的腐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22531"/>
          <p:cNvSpPr/>
          <p:nvPr/>
        </p:nvSpPr>
        <p:spPr>
          <a:xfrm>
            <a:off x="831960" y="1422360"/>
            <a:ext cx="77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夸张与想象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本文写出骗子用根本不存在的布料、衣服向皇帝行骗，写出皇帝和大臣们都甘愿受骗、并且骗人，最后写出皇帝赤裸全身在大街上游行，构成了丰富的想象和大胆的夸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图片 27649" descr="a3"/>
          <p:cNvPicPr/>
          <p:nvPr/>
        </p:nvPicPr>
        <p:blipFill>
          <a:blip r:embed="rId1"/>
          <a:stretch/>
        </p:blipFill>
        <p:spPr>
          <a:xfrm>
            <a:off x="1503360" y="1946160"/>
            <a:ext cx="6629400" cy="4068720"/>
          </a:xfrm>
          <a:prstGeom prst="rect">
            <a:avLst/>
          </a:prstGeom>
          <a:ln w="0">
            <a:noFill/>
          </a:ln>
        </p:spPr>
      </p:pic>
      <p:sp>
        <p:nvSpPr>
          <p:cNvPr id="732" name="矩形 27650"/>
          <p:cNvSpPr/>
          <p:nvPr/>
        </p:nvSpPr>
        <p:spPr>
          <a:xfrm>
            <a:off x="558720" y="851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夸张的手法，描述一下皇帝穿着新衣游行时装模作样的丑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文本框 1"/>
          <p:cNvSpPr/>
          <p:nvPr/>
        </p:nvSpPr>
        <p:spPr>
          <a:xfrm>
            <a:off x="876240" y="1825560"/>
            <a:ext cx="80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虽然骗子是最可恨的，但是在这里骗子其实就是一面“镜子”、一把“解剖刀”的角色。通过他们照出了皇帝及大小官吏们的丑恶灵魂，解剖了一个谎言充塞、欺骗成风的病态社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文本框 26626"/>
          <p:cNvSpPr/>
          <p:nvPr/>
        </p:nvSpPr>
        <p:spPr>
          <a:xfrm>
            <a:off x="393840" y="1270080"/>
            <a:ext cx="5461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展开想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26627"/>
          <p:cNvSpPr/>
          <p:nvPr/>
        </p:nvSpPr>
        <p:spPr>
          <a:xfrm>
            <a:off x="1427040" y="1633680"/>
            <a:ext cx="703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皇帝去游行时，两个骗子也混在人群中，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们之间将会有怎样的小声而又得意的对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26628"/>
          <p:cNvSpPr/>
          <p:nvPr/>
        </p:nvSpPr>
        <p:spPr>
          <a:xfrm>
            <a:off x="1467000" y="3173400"/>
            <a:ext cx="717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皇帝游行完毕，在皇宫门口碰到两个骗子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怎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618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"/>
          <p:cNvSpPr txBox="1"/>
          <p:nvPr/>
        </p:nvSpPr>
        <p:spPr>
          <a:xfrm>
            <a:off x="600120" y="1815840"/>
            <a:ext cx="82296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童话以及安徒生的文学常识；积累生字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理清故事情节；分析人物形象；了解童话中夸张和想象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培养真诚、求实、不慕虚荣的品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图片 10242" descr="丑小鸭"/>
          <p:cNvPicPr/>
          <p:nvPr/>
        </p:nvPicPr>
        <p:blipFill>
          <a:blip r:embed="rId1"/>
          <a:stretch/>
        </p:blipFill>
        <p:spPr>
          <a:xfrm>
            <a:off x="1042920" y="3500280"/>
            <a:ext cx="3313080" cy="244980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10243" descr="海的女儿"/>
          <p:cNvPicPr/>
          <p:nvPr/>
        </p:nvPicPr>
        <p:blipFill>
          <a:blip r:embed="rId2"/>
          <a:stretch/>
        </p:blipFill>
        <p:spPr>
          <a:xfrm>
            <a:off x="4716360" y="1197000"/>
            <a:ext cx="3311640" cy="223200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10244" descr="火柴"/>
          <p:cNvPicPr/>
          <p:nvPr/>
        </p:nvPicPr>
        <p:blipFill>
          <a:blip r:embed="rId3"/>
          <a:stretch/>
        </p:blipFill>
        <p:spPr>
          <a:xfrm>
            <a:off x="1042920" y="1268280"/>
            <a:ext cx="3313080" cy="20894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10247" descr="U529P18T90D43050F1532DT20041130104053"/>
          <p:cNvPicPr/>
          <p:nvPr/>
        </p:nvPicPr>
        <p:blipFill>
          <a:blip r:embed="rId4"/>
          <a:stretch/>
        </p:blipFill>
        <p:spPr>
          <a:xfrm>
            <a:off x="4716360" y="3500280"/>
            <a:ext cx="3311640" cy="2448000"/>
          </a:xfrm>
          <a:prstGeom prst="rect">
            <a:avLst/>
          </a:prstGeom>
          <a:ln w="0">
            <a:noFill/>
          </a:ln>
        </p:spPr>
      </p:pic>
      <p:sp>
        <p:nvSpPr>
          <p:cNvPr id="626" name="文本框 1"/>
          <p:cNvSpPr/>
          <p:nvPr/>
        </p:nvSpPr>
        <p:spPr>
          <a:xfrm>
            <a:off x="1647720" y="819000"/>
            <a:ext cx="18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卖火柴的小女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2"/>
          <p:cNvSpPr/>
          <p:nvPr/>
        </p:nvSpPr>
        <p:spPr>
          <a:xfrm>
            <a:off x="5707800" y="720720"/>
            <a:ext cx="12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海的女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3"/>
          <p:cNvSpPr/>
          <p:nvPr/>
        </p:nvSpPr>
        <p:spPr>
          <a:xfrm>
            <a:off x="1942560" y="599904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丑小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4"/>
          <p:cNvSpPr/>
          <p:nvPr/>
        </p:nvSpPr>
        <p:spPr>
          <a:xfrm>
            <a:off x="5784120" y="5997600"/>
            <a:ext cx="12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拇指姑娘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组合 6147"/>
          <p:cNvGrpSpPr/>
          <p:nvPr/>
        </p:nvGrpSpPr>
        <p:grpSpPr>
          <a:xfrm>
            <a:off x="325440" y="334800"/>
            <a:ext cx="2232000" cy="794880"/>
            <a:chOff x="325440" y="334800"/>
            <a:chExt cx="2232000" cy="794880"/>
          </a:xfrm>
        </p:grpSpPr>
        <p:sp>
          <p:nvSpPr>
            <p:cNvPr id="637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6"/>
            <p:cNvSpPr/>
            <p:nvPr/>
          </p:nvSpPr>
          <p:spPr>
            <a:xfrm>
              <a:off x="325440" y="62316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文本框 6151"/>
            <p:cNvSpPr/>
            <p:nvPr/>
          </p:nvSpPr>
          <p:spPr>
            <a:xfrm>
              <a:off x="1168560" y="60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3"/>
          <p:cNvGrpSpPr/>
          <p:nvPr/>
        </p:nvGrpSpPr>
        <p:grpSpPr>
          <a:xfrm>
            <a:off x="684360" y="1268280"/>
            <a:ext cx="1714320" cy="499680"/>
            <a:chOff x="684360" y="1268280"/>
            <a:chExt cx="1714320" cy="499680"/>
          </a:xfrm>
        </p:grpSpPr>
        <p:sp>
          <p:nvSpPr>
            <p:cNvPr id="643" name="流程图: 文档 2"/>
            <p:cNvSpPr/>
            <p:nvPr/>
          </p:nvSpPr>
          <p:spPr>
            <a:xfrm>
              <a:off x="684360" y="131436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文本框 4101"/>
            <p:cNvSpPr/>
            <p:nvPr/>
          </p:nvSpPr>
          <p:spPr>
            <a:xfrm>
              <a:off x="684360" y="126828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5" name="图片 9219" descr="安徒生"/>
          <p:cNvPicPr/>
          <p:nvPr/>
        </p:nvPicPr>
        <p:blipFill>
          <a:blip r:embed="rId1"/>
          <a:stretch/>
        </p:blipFill>
        <p:spPr>
          <a:xfrm>
            <a:off x="563400" y="2135160"/>
            <a:ext cx="2227320" cy="3375000"/>
          </a:xfrm>
          <a:prstGeom prst="rect">
            <a:avLst/>
          </a:prstGeom>
          <a:ln w="0">
            <a:noFill/>
          </a:ln>
        </p:spPr>
      </p:pic>
      <p:sp>
        <p:nvSpPr>
          <p:cNvPr id="646" name="文本框 1"/>
          <p:cNvSpPr/>
          <p:nvPr/>
        </p:nvSpPr>
        <p:spPr>
          <a:xfrm>
            <a:off x="3065400" y="1238400"/>
            <a:ext cx="5926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安徒生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5—18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全名是：汉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克利斯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安徒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丹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学巨匠，世界著名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童话作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他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余篇童话在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中被翻译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种文字，从丹麦传向世界。安徒生生于鞋匠家庭，童年生活穷苦，早期写有诗歌、剧本和长篇小说等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开始写童话，著名的童话有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丑小鸭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海的女儿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卖火柴的小女孩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夜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皇帝的新装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初读课文    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文本框 11265"/>
          <p:cNvSpPr/>
          <p:nvPr/>
        </p:nvSpPr>
        <p:spPr>
          <a:xfrm>
            <a:off x="676440" y="22986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童话是儿童文学的一种，它通过丰富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想象、幻想、夸张、拟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艺术手法来塑造形象，反映社会生活，对儿童进行思想教育。语言通俗易懂，情节曲折离奇，引人入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图片 11266" descr="a2"/>
          <p:cNvPicPr/>
          <p:nvPr/>
        </p:nvPicPr>
        <p:blipFill>
          <a:blip r:embed="rId1"/>
          <a:stretch/>
        </p:blipFill>
        <p:spPr>
          <a:xfrm>
            <a:off x="5940360" y="1971720"/>
            <a:ext cx="2764080" cy="3562200"/>
          </a:xfrm>
          <a:prstGeom prst="rect">
            <a:avLst/>
          </a:prstGeom>
          <a:ln w="0">
            <a:noFill/>
          </a:ln>
        </p:spPr>
      </p:pic>
      <p:sp>
        <p:nvSpPr>
          <p:cNvPr id="654" name="矩形 11267"/>
          <p:cNvSpPr txBox="1"/>
          <p:nvPr/>
        </p:nvSpPr>
        <p:spPr>
          <a:xfrm>
            <a:off x="1676520" y="1135080"/>
            <a:ext cx="196200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童话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5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组合 16387"/>
          <p:cNvGrpSpPr/>
          <p:nvPr/>
        </p:nvGrpSpPr>
        <p:grpSpPr>
          <a:xfrm>
            <a:off x="969840" y="839880"/>
            <a:ext cx="5905440" cy="459720"/>
            <a:chOff x="969840" y="839880"/>
            <a:chExt cx="5905440" cy="459720"/>
          </a:xfrm>
        </p:grpSpPr>
        <p:sp>
          <p:nvSpPr>
            <p:cNvPr id="657" name="文本框 16388">
              <a:hlinkClick r:id="rId1" action="ppaction://hlinksldjump"/>
            </p:cNvPr>
            <p:cNvSpPr/>
            <p:nvPr/>
          </p:nvSpPr>
          <p:spPr>
            <a:xfrm>
              <a:off x="969840" y="83988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爱新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文本框 16389"/>
            <p:cNvSpPr/>
            <p:nvPr/>
          </p:nvSpPr>
          <p:spPr>
            <a:xfrm>
              <a:off x="4425840" y="83988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第一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16390"/>
            <p:cNvSpPr/>
            <p:nvPr/>
          </p:nvSpPr>
          <p:spPr>
            <a:xfrm>
              <a:off x="2871000" y="83988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引子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16391"/>
          <p:cNvGrpSpPr/>
          <p:nvPr/>
        </p:nvGrpSpPr>
        <p:grpSpPr>
          <a:xfrm>
            <a:off x="969840" y="1703520"/>
            <a:ext cx="5682600" cy="459720"/>
            <a:chOff x="969840" y="1703520"/>
            <a:chExt cx="5682600" cy="459720"/>
          </a:xfrm>
        </p:grpSpPr>
        <p:sp>
          <p:nvSpPr>
            <p:cNvPr id="661" name="文本框 16392">
              <a:hlinkClick r:id="rId2" action="ppaction://hlinksldjump"/>
            </p:cNvPr>
            <p:cNvSpPr/>
            <p:nvPr/>
          </p:nvSpPr>
          <p:spPr>
            <a:xfrm>
              <a:off x="969840" y="1703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做新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矩形 16393"/>
            <p:cNvSpPr/>
            <p:nvPr/>
          </p:nvSpPr>
          <p:spPr>
            <a:xfrm>
              <a:off x="4703760" y="1703520"/>
              <a:ext cx="194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第二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—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第四段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矩形 16394"/>
            <p:cNvSpPr/>
            <p:nvPr/>
          </p:nvSpPr>
          <p:spPr>
            <a:xfrm>
              <a:off x="2799360" y="170352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开端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组合 16395"/>
          <p:cNvGrpSpPr/>
          <p:nvPr/>
        </p:nvGrpSpPr>
        <p:grpSpPr>
          <a:xfrm>
            <a:off x="969840" y="2568600"/>
            <a:ext cx="6229440" cy="459720"/>
            <a:chOff x="969840" y="2568600"/>
            <a:chExt cx="6229440" cy="459720"/>
          </a:xfrm>
        </p:grpSpPr>
        <p:sp>
          <p:nvSpPr>
            <p:cNvPr id="665" name="文本框 16396"/>
            <p:cNvSpPr/>
            <p:nvPr/>
          </p:nvSpPr>
          <p:spPr>
            <a:xfrm>
              <a:off x="969840" y="256860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看新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矩形 16397"/>
            <p:cNvSpPr/>
            <p:nvPr/>
          </p:nvSpPr>
          <p:spPr>
            <a:xfrm>
              <a:off x="4897080" y="2568600"/>
              <a:ext cx="23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第五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—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第二十二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矩形 16398"/>
            <p:cNvSpPr/>
            <p:nvPr/>
          </p:nvSpPr>
          <p:spPr>
            <a:xfrm>
              <a:off x="2871000" y="256860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发展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16399"/>
          <p:cNvGrpSpPr/>
          <p:nvPr/>
        </p:nvGrpSpPr>
        <p:grpSpPr>
          <a:xfrm>
            <a:off x="993600" y="3255840"/>
            <a:ext cx="7619760" cy="478800"/>
            <a:chOff x="993600" y="3255840"/>
            <a:chExt cx="7619760" cy="478800"/>
          </a:xfrm>
        </p:grpSpPr>
        <p:sp>
          <p:nvSpPr>
            <p:cNvPr id="669" name="文本框 16400"/>
            <p:cNvSpPr/>
            <p:nvPr/>
          </p:nvSpPr>
          <p:spPr>
            <a:xfrm>
              <a:off x="993600" y="3274920"/>
              <a:ext cx="249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穿新装展新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16401"/>
            <p:cNvSpPr/>
            <p:nvPr/>
          </p:nvSpPr>
          <p:spPr>
            <a:xfrm>
              <a:off x="3948840" y="3274920"/>
              <a:ext cx="46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二十三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—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结尾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文本框 16402"/>
            <p:cNvSpPr/>
            <p:nvPr/>
          </p:nvSpPr>
          <p:spPr>
            <a:xfrm>
              <a:off x="3066840" y="325584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高潮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局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2" name="图片 1" descr="图片1"/>
          <p:cNvPicPr/>
          <p:nvPr/>
        </p:nvPicPr>
        <p:blipFill>
          <a:blip r:embed="rId3"/>
          <a:stretch/>
        </p:blipFill>
        <p:spPr>
          <a:xfrm>
            <a:off x="3451320" y="3914640"/>
            <a:ext cx="2438280" cy="2319480"/>
          </a:xfrm>
          <a:prstGeom prst="rect">
            <a:avLst/>
          </a:prstGeom>
          <a:ln w="0">
            <a:noFill/>
          </a:ln>
        </p:spPr>
      </p:pic>
      <p:sp>
        <p:nvSpPr>
          <p:cNvPr id="6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图片 17409" descr="e"/>
          <p:cNvPicPr/>
          <p:nvPr/>
        </p:nvPicPr>
        <p:blipFill>
          <a:blip r:embed="rId1"/>
          <a:srcRect l="48817" t="42311" r="3855" b="19231"/>
          <a:stretch/>
        </p:blipFill>
        <p:spPr>
          <a:xfrm>
            <a:off x="3809880" y="762120"/>
            <a:ext cx="1600200" cy="1500120"/>
          </a:xfrm>
          <a:prstGeom prst="rect">
            <a:avLst/>
          </a:prstGeom>
          <a:ln w="0">
            <a:noFill/>
          </a:ln>
        </p:spPr>
      </p:pic>
      <p:sp>
        <p:nvSpPr>
          <p:cNvPr id="675" name="文本框 17410"/>
          <p:cNvSpPr/>
          <p:nvPr/>
        </p:nvSpPr>
        <p:spPr>
          <a:xfrm>
            <a:off x="3962520" y="2147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138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皇  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17411"/>
          <p:cNvSpPr/>
          <p:nvPr/>
        </p:nvSpPr>
        <p:spPr>
          <a:xfrm>
            <a:off x="6645240" y="3111480"/>
            <a:ext cx="1033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138f"/>
                </a:solidFill>
                <a:latin typeface="Times New Roman"/>
              </a:rPr>
              <a:t>骗 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17412"/>
          <p:cNvSpPr/>
          <p:nvPr/>
        </p:nvSpPr>
        <p:spPr>
          <a:xfrm>
            <a:off x="4267080" y="327672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直接连接符 17413"/>
          <p:cNvSpPr/>
          <p:nvPr/>
        </p:nvSpPr>
        <p:spPr>
          <a:xfrm>
            <a:off x="4648320" y="25146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直接连接符 17414"/>
          <p:cNvSpPr/>
          <p:nvPr/>
        </p:nvSpPr>
        <p:spPr>
          <a:xfrm flipH="1">
            <a:off x="5028840" y="3200400"/>
            <a:ext cx="106668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直接连接符 17415"/>
          <p:cNvSpPr/>
          <p:nvPr/>
        </p:nvSpPr>
        <p:spPr>
          <a:xfrm flipH="1" flipV="1">
            <a:off x="4876920" y="4038120"/>
            <a:ext cx="1295280" cy="1295640"/>
          </a:xfrm>
          <a:prstGeom prst="line">
            <a:avLst/>
          </a:prstGeom>
          <a:ln w="7632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17416"/>
          <p:cNvSpPr/>
          <p:nvPr/>
        </p:nvSpPr>
        <p:spPr>
          <a:xfrm flipV="1">
            <a:off x="3429000" y="3962160"/>
            <a:ext cx="99072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17417"/>
          <p:cNvSpPr/>
          <p:nvPr/>
        </p:nvSpPr>
        <p:spPr>
          <a:xfrm>
            <a:off x="2895480" y="3200400"/>
            <a:ext cx="14479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17418"/>
          <p:cNvSpPr/>
          <p:nvPr/>
        </p:nvSpPr>
        <p:spPr>
          <a:xfrm>
            <a:off x="7426080" y="5105520"/>
            <a:ext cx="10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138f"/>
                </a:solidFill>
                <a:latin typeface="Times New Roman"/>
              </a:rPr>
              <a:t>小 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17419"/>
          <p:cNvSpPr/>
          <p:nvPr/>
        </p:nvSpPr>
        <p:spPr>
          <a:xfrm>
            <a:off x="51814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7420"/>
          <p:cNvSpPr/>
          <p:nvPr/>
        </p:nvSpPr>
        <p:spPr>
          <a:xfrm>
            <a:off x="40384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文本框 17421"/>
          <p:cNvSpPr/>
          <p:nvPr/>
        </p:nvSpPr>
        <p:spPr>
          <a:xfrm>
            <a:off x="3200400" y="3276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17422"/>
          <p:cNvSpPr/>
          <p:nvPr/>
        </p:nvSpPr>
        <p:spPr>
          <a:xfrm>
            <a:off x="3657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椭圆 17423"/>
          <p:cNvSpPr/>
          <p:nvPr/>
        </p:nvSpPr>
        <p:spPr>
          <a:xfrm>
            <a:off x="5105520" y="4191120"/>
            <a:ext cx="761760" cy="7617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17426"/>
          <p:cNvGrpSpPr/>
          <p:nvPr/>
        </p:nvGrpSpPr>
        <p:grpSpPr>
          <a:xfrm>
            <a:off x="1828800" y="1676520"/>
            <a:ext cx="1174680" cy="2108880"/>
            <a:chOff x="1828800" y="1676520"/>
            <a:chExt cx="1174680" cy="2108880"/>
          </a:xfrm>
        </p:grpSpPr>
        <p:pic>
          <p:nvPicPr>
            <p:cNvPr id="690" name="图片 17427" descr=""/>
            <p:cNvPicPr/>
            <p:nvPr/>
          </p:nvPicPr>
          <p:blipFill>
            <a:blip r:embed="rId2"/>
            <a:stretch/>
          </p:blipFill>
          <p:spPr>
            <a:xfrm>
              <a:off x="1828800" y="1676520"/>
              <a:ext cx="117468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矩形 17428"/>
            <p:cNvSpPr/>
            <p:nvPr/>
          </p:nvSpPr>
          <p:spPr>
            <a:xfrm>
              <a:off x="2172600" y="3386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大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429"/>
          <p:cNvGrpSpPr/>
          <p:nvPr/>
        </p:nvGrpSpPr>
        <p:grpSpPr>
          <a:xfrm>
            <a:off x="1828800" y="4114800"/>
            <a:ext cx="1599840" cy="2065320"/>
            <a:chOff x="1828800" y="4114800"/>
            <a:chExt cx="1599840" cy="2065320"/>
          </a:xfrm>
        </p:grpSpPr>
        <p:graphicFrame>
          <p:nvGraphicFramePr>
            <p:cNvPr id="693" name="对象 17430"/>
            <p:cNvGraphicFramePr/>
            <p:nvPr/>
          </p:nvGraphicFramePr>
          <p:xfrm>
            <a:off x="1828800" y="4114800"/>
            <a:ext cx="1421640" cy="145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对象 1743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28800" y="4114800"/>
                      <a:ext cx="1421640" cy="14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5" name="文本框 17431"/>
            <p:cNvSpPr/>
            <p:nvPr/>
          </p:nvSpPr>
          <p:spPr>
            <a:xfrm>
              <a:off x="2205000" y="5781240"/>
              <a:ext cx="12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百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图片 17432" descr="b"/>
          <p:cNvPicPr/>
          <p:nvPr/>
        </p:nvPicPr>
        <p:blipFill>
          <a:blip r:embed="rId5"/>
          <a:srcRect l="3296" t="35337" r="24227" b="0"/>
          <a:stretch/>
        </p:blipFill>
        <p:spPr>
          <a:xfrm>
            <a:off x="6400800" y="4267080"/>
            <a:ext cx="1380960" cy="190512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7433" descr="d"/>
          <p:cNvPicPr/>
          <p:nvPr/>
        </p:nvPicPr>
        <p:blipFill>
          <a:blip r:embed="rId6"/>
          <a:srcRect l="0" t="28263" r="3123" b="4349"/>
          <a:stretch/>
        </p:blipFill>
        <p:spPr>
          <a:xfrm>
            <a:off x="6302520" y="103356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语文备课大师【全免费】</dc:creator>
  <dc:description>语文备课大师【全免费】</dc:description>
  <cp:keywords/>
  <dc:language>en-US</dc:language>
  <cp:lastModifiedBy>xuhuachang</cp:lastModifiedBy>
  <dcterms:modified xsi:type="dcterms:W3CDTF">2017-09-16T18:21:24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