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354-1A23-4CA9-AB94-7829E6C5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E25-89B1-4EFE-952C-29D4F666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2CDA5-70EE-4091-AB85-60FDA0C1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2233A-9FAA-4BC0-9EE8-978C89E6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F5488-D843-4756-88F7-AFC0408C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30C4D-694F-42CF-B2F6-73E424DA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E04B2-08EF-4A3A-9915-B870759B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FD007-919F-483A-A853-16875313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711C7-C070-4FA1-8A1D-849EE9CB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1DC97-4713-4657-A46B-600E30AD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829D1-EFA6-4EE3-A8B7-ECFDF250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A3331-ED53-4EC8-9440-A6B9356C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D39-ABFD-497B-AA50-EED54EDB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066EB-571C-4163-9254-844E21D8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64DBA-9D88-4D17-BA92-7DF5E5AB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8F84E-852A-477B-9DCA-E4B2A335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E647A-BFE7-4FC2-ADC2-E943EB9D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BB970-2939-4E16-BD31-B98CD229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A820A-FE5A-4E7A-BF5C-6D06D05D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B9AA6-112B-436D-93D4-37C4C8F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EB6ED-09A8-468E-96FD-6A266B11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A288C-8ED1-4EC6-B5A4-96450A60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D5748-9494-4164-AA43-2FDE4AE8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87E-DD17-4632-B411-88876D42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362A0-1CB5-4127-B7CB-7E6B98D3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76FA2-14FB-42DB-AA7E-6511AA06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21C45-050A-45F8-BC42-03C8F65D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8D486-3423-4C45-9217-8B97E6CB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B194C-B15D-4A34-A0CA-1A90FEC6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CB034-3CCA-4306-919B-51DF0695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730CE-84F0-48F5-BF24-15C5CDF3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FE6C3-8A17-4477-9C11-C334C2D5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D69F6-5CD7-4CE9-B157-0682DEEA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4A05A-B406-47F0-B0CF-F1004909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B98D-E4C1-4469-8635-F64EE850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03B68-415A-4D3B-9FEE-507E1A7E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66DDF-04D1-4875-B3F4-9E139A68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EE3EE-1EC9-495C-8C8D-DE04EBAD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C76D0-338E-4819-ADDB-5B287159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8199D-85A4-4FDF-A4A5-AB3345F0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402AD-E219-4635-ABD8-85D16994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E73A5-F6D8-4C6D-9A25-795372B5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43CD1-F41A-4B88-AE1F-85EC83FA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FAB40-E7AA-430E-8249-714B869B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92E78-FB8C-4864-9079-7776017C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D229-AC9F-433C-B6E2-6968C108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50B29-4AE2-4B2E-8DF2-624CAFE9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32E14-31E3-49EA-82A2-942344D0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D53E8-7E88-425F-9825-4892CDBC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48DC5-0EC3-4532-A157-C2D028D6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731F9-3F06-40EF-8422-77544A0B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D155D-B7A4-4A8F-BD01-51D30681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F4C0E-FD6D-4ED5-B050-44F5B68B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028F9-BC50-456A-B8B8-FA0585CC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D42F4-53BE-4D1F-806C-552E8359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8EBAB-C9FA-42A1-94C5-8BB585F9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A776-B86B-447A-947F-1124112A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BB158-49CA-4B88-88E4-DFFCCA3F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3A54C-C70E-4073-9A52-768ACF1F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7333B-B361-4A84-A350-070040F9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D78DA-54F2-4E19-909F-31B4A511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D78C7-7A58-4EB1-B424-F5F286D5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71E5B-0990-4390-A95C-A875BB01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39409-30C3-427B-A131-FAD056D2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3C35B-92E1-4969-966D-6C2A8957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9FE87-943E-4B6E-BAFC-90763A43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173FC8-A918-4726-AFBF-0D4B7EAC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D5C5-F6AF-4A80-9B5B-F1F81AAA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555CD-16D9-40E3-9ECA-AC626994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EAC436-F749-4274-B400-D8998188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E2754-A5D8-4172-8D51-2977C576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42E1F-F438-420E-9E0D-CB70B45C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0E4EB-2BB8-4463-B555-E9E0A21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8241F-BCEF-4537-A207-64DCEDA7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475FB-EDAF-46C6-9514-F74DE061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6756F-1C7E-4965-836E-C521313E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959D1-7D82-4C5D-AFAC-D8BE174F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B9804-E8CD-4FFB-94A1-00063D19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D64E-0767-4EF7-B5B1-55838716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E1D6C-1C4C-408E-8B13-40498714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E16C1-E5C6-4FCE-B365-118C814D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06C2A-7DED-439E-B76C-6BEC6B36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96FE2-DB8D-45B1-B2A1-7E7A9DB4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37C67-1B36-4290-B294-4EF0D54B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81F14-C1AF-4F2C-B2A8-D77240F3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E2EFC-6F05-45EC-8721-54160AC3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817586-366B-4745-B0F3-D0536D64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8CBC24-814B-46E3-B56E-4C213ADA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A364F-BA09-40DA-A5EC-AAFB6638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DDF6-F9FA-4453-9A74-CF665FC5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09E49E-15E8-4FF6-A619-E01571F1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3412-484E-41AD-B8D8-10973BAD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E21-E44A-4CA4-9CB2-5B03EE60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EDD7-BCC4-4501-8600-F71AE459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907B-ED52-4379-AD4F-1CB400C6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A50C-3B69-4487-8159-E54DFCE0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BF8D-0BB2-4C70-A545-7A1C9F38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F94F-C98E-47D9-93BA-5052F9AD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5227-5FF3-447F-9124-2D7F0B11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EEC2B-5B05-4387-89D9-697C8FFE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C3214-049C-4800-AFC5-F9CA29B7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42A1-48D9-4DA1-B82B-A642458F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02AB-DC63-494E-99DF-6F190031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AEA-34D4-4458-B052-B8613DF7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06319-5E35-4CA1-BDB1-758143A6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4FBB-D2CF-4B89-A24A-2096097D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5466-C214-45C4-8FEB-0E7299B6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0A14-E201-4EA1-9170-D77B0DFC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7B3B-CBEF-4C2E-B704-772A842F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2562-AAAE-472C-9630-FA5ABCCE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EE86F-882D-474E-B064-F237D326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A844C-A44F-4BA7-A6D3-2E8347D6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AF2C9-3C07-4A47-8341-413F31D7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819E9-0F87-4306-85D5-34CAACD9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79C-8DCA-45AD-B403-D8040282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3ECB-1753-4B80-9C5A-CF700CAD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6A0A6-6FC6-4202-B99E-DAB0B8A0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6AA7-AB60-474F-A287-FD8EABF0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C2B10-5FCC-44C5-A967-CC3BF1D1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2D95-6E7E-4B3B-94B1-D93C0825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5F3B5-B7C7-47DD-9F48-913E5C7B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CF681-AC3B-47FF-A990-81942831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9CDDA-F02C-43CD-A740-5CF95A23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BB11-0E3D-43AD-BEAE-C4A5C58E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EE115-B326-4CB2-AF8B-70427444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C70-F442-4CD2-95AC-E69A8680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3A0D3-35DF-49A7-9E20-0F412FA0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22D7F-27D1-4870-996D-44A20934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20DF7-F489-4C80-A048-0DA4D269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E5190-E72E-4533-B6AC-2CBA0F3C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5B4C5-B616-4754-A980-41229686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586C6-23B2-403B-9153-3BC70A19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AE20-6D9C-43DE-8DE6-B2274983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329B4-645C-4F94-8722-8FBB206D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63C46-9502-4E05-96B7-F38D6488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848B2-D13B-4300-92EF-89A25868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C39-07BA-45EE-B066-5F94A7BF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86809-48A5-4BE6-AFE3-8EAC192D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B783F-A67A-4E7C-8432-85D2F7E3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625B4-9EC1-4182-BC93-1BC976C7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3A5CA-34E8-4831-B66E-D3BE65F4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EA255-6F1D-405C-8792-A1ADB118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8330E-2EAC-4279-A4F5-4360E58D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D6FB4-E913-4C59-B961-717D7FC5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08E18-72BF-413D-B2D5-319C83CB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1863D-2172-44A4-9A8D-5AA14B1B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6D561-CC4D-45DF-B073-BCB1432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442-05AF-4EA8-9ED7-BDF61564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285B0-DDF5-4225-92E8-A2E5FBE4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87800-299C-4C74-9A46-1035FF27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A7922-8838-4B42-956E-4865EC63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3189A-DDE5-4E59-90D3-81206D9D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DC42C-B73A-4DF3-AE40-AE3D7E34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32024-07C0-4743-B2B8-559214AB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B273-3035-4F88-895F-39A7E3F0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9AA35-FBD4-4576-8B66-7DB91377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296DD-2A00-4722-A485-4CE960A6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699D1-79B1-485B-A05F-DA11805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BB5-2B7C-4EC4-92D7-B0A38E49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3AC65-0F9C-4424-8263-535D94D0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BFCA0-731D-43C7-967A-07EE0458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A7F9A-34F3-4F68-99EC-0B63B8CB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895ED-C13F-49EC-80F6-82BFA548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35490-16D7-4E41-B056-B2EE579A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77B2B-B08A-4C7A-8131-67ABAFC5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1204B-E017-4998-A6BA-DFA3A316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289D9-46B3-4316-9A4A-50A22F5C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CEAEF-89FD-4137-8805-C25B63B0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C4D31-BE6A-435A-85A0-B9BF9066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B9F-68AF-49F0-8879-454A9DA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E9C7F-EBF1-40A0-A189-26DBA2F1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1E396-3522-4F45-8233-B968AD65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0D927-5542-4C9E-A32B-2BD510EE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9F5AE-49E1-4F3C-9120-42CC7824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1CD64-34ED-4E5F-9FDB-B75D4FE9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653E7-BDC4-4902-AB90-58D31CFE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0F0FF-40BB-4C59-813E-7AFFCDCA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311EC-AF5E-4AE3-8733-C07DFAB1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F114D-3A22-48FE-9A2E-D7DD0FCB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03E92-5AF6-41A3-A2FB-B875A841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6F21-E1CC-43F0-A81C-B29D832ED7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EB26-03F0-4558-8BD0-779D23064C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66F7-ED28-4DC0-92B6-652CF94617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A521-94A8-4157-A8D4-3AECC485DB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4585-8143-45D3-86F3-F09ADAAB3A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CC58-7B72-4730-9FAA-626B57E5DF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40C7-F28C-42FD-8737-62100F779F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CE11-9D4E-4230-9360-5CA54DBD1B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068A-3216-4C5F-848D-5D0202E921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28D4-A8D3-4CC5-BFE0-D29DC71914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526D-2E7B-4CC2-B8CD-8833F76900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4F0B-287B-4F21-AE96-4D7DCF5796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B9FA-04EC-4387-ACDD-AE554AEB6D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49FF-6995-4510-9438-78B1ABE906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A396-A36A-4C1D-9A49-7DDF8460A4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2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诗二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3"/>
          <p:cNvSpPr/>
          <p:nvPr/>
        </p:nvSpPr>
        <p:spPr>
          <a:xfrm>
            <a:off x="2672280" y="61272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2505240" y="1484280"/>
            <a:ext cx="11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2505240" y="2347920"/>
            <a:ext cx="102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2505240" y="3213000"/>
            <a:ext cx="11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物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2216160" y="407664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牛郎织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2576520" y="494028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生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9"/>
          <p:cNvSpPr/>
          <p:nvPr/>
        </p:nvSpPr>
        <p:spPr>
          <a:xfrm>
            <a:off x="1352520" y="6024600"/>
            <a:ext cx="46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光明   美好   自由   幸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0"/>
          <p:cNvSpPr/>
          <p:nvPr/>
        </p:nvSpPr>
        <p:spPr>
          <a:xfrm flipH="1">
            <a:off x="1856880" y="5448240"/>
            <a:ext cx="954360" cy="6494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1"/>
          <p:cNvSpPr/>
          <p:nvPr/>
        </p:nvSpPr>
        <p:spPr>
          <a:xfrm flipH="1">
            <a:off x="2792160" y="5443560"/>
            <a:ext cx="215640" cy="6732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2"/>
          <p:cNvSpPr/>
          <p:nvPr/>
        </p:nvSpPr>
        <p:spPr>
          <a:xfrm>
            <a:off x="3079800" y="5443560"/>
            <a:ext cx="72072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3"/>
          <p:cNvSpPr/>
          <p:nvPr/>
        </p:nvSpPr>
        <p:spPr>
          <a:xfrm>
            <a:off x="3368520" y="5443560"/>
            <a:ext cx="1295640" cy="57636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4"/>
          <p:cNvSpPr/>
          <p:nvPr/>
        </p:nvSpPr>
        <p:spPr>
          <a:xfrm>
            <a:off x="3944880" y="620640"/>
            <a:ext cx="723960" cy="1224000"/>
          </a:xfrm>
          <a:custGeom>
            <a:avLst/>
            <a:gdLst>
              <a:gd name="textAreaLeft" fmla="*/ 0 w 723960"/>
              <a:gd name="textAreaRight" fmla="*/ 261360 w 7239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5"/>
          <p:cNvSpPr/>
          <p:nvPr/>
        </p:nvSpPr>
        <p:spPr>
          <a:xfrm>
            <a:off x="6932520" y="35719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想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6"/>
          <p:cNvSpPr/>
          <p:nvPr/>
        </p:nvSpPr>
        <p:spPr>
          <a:xfrm>
            <a:off x="4808520" y="98100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联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7"/>
          <p:cNvSpPr/>
          <p:nvPr/>
        </p:nvSpPr>
        <p:spPr>
          <a:xfrm>
            <a:off x="3008160" y="1128600"/>
            <a:ext cx="0" cy="432000"/>
          </a:xfrm>
          <a:prstGeom prst="line">
            <a:avLst/>
          </a:prstGeom>
          <a:ln w="31680">
            <a:solidFill>
              <a:srgbClr val="800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8"/>
          <p:cNvSpPr/>
          <p:nvPr/>
        </p:nvSpPr>
        <p:spPr>
          <a:xfrm>
            <a:off x="3008160" y="2065320"/>
            <a:ext cx="1800" cy="3589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9"/>
          <p:cNvSpPr/>
          <p:nvPr/>
        </p:nvSpPr>
        <p:spPr>
          <a:xfrm>
            <a:off x="3008160" y="2855880"/>
            <a:ext cx="0" cy="432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0"/>
          <p:cNvSpPr/>
          <p:nvPr/>
        </p:nvSpPr>
        <p:spPr>
          <a:xfrm>
            <a:off x="3008160" y="3716280"/>
            <a:ext cx="0" cy="5032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1"/>
          <p:cNvSpPr/>
          <p:nvPr/>
        </p:nvSpPr>
        <p:spPr>
          <a:xfrm>
            <a:off x="3008160" y="4584600"/>
            <a:ext cx="0" cy="360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6176880" y="2563920"/>
            <a:ext cx="723960" cy="2735280"/>
          </a:xfrm>
          <a:custGeom>
            <a:avLst/>
            <a:gdLst>
              <a:gd name="textAreaLeft" fmla="*/ 0 w 723960"/>
              <a:gd name="textAreaRight" fmla="*/ 261360 w 723960"/>
              <a:gd name="textAreaTop" fmla="*/ 70920 h 2735280"/>
              <a:gd name="textAreaBottom" fmla="*/ 266436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2"/>
          <p:cNvSpPr/>
          <p:nvPr/>
        </p:nvSpPr>
        <p:spPr>
          <a:xfrm>
            <a:off x="3944880" y="227664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美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3944880" y="313992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珍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3944880" y="4076640"/>
            <a:ext cx="23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来往、闲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326659"/>
          <p:cNvSpPr/>
          <p:nvPr/>
        </p:nvSpPr>
        <p:spPr>
          <a:xfrm>
            <a:off x="3452760" y="1851120"/>
            <a:ext cx="327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远远的街灯　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好像　着无数的明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上的明星　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好像　着无数的街灯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326660"/>
          <p:cNvSpPr/>
          <p:nvPr/>
        </p:nvSpPr>
        <p:spPr>
          <a:xfrm>
            <a:off x="2223000" y="184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326667"/>
          <p:cNvSpPr/>
          <p:nvPr/>
        </p:nvSpPr>
        <p:spPr>
          <a:xfrm>
            <a:off x="2022480" y="34416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326668"/>
          <p:cNvSpPr/>
          <p:nvPr/>
        </p:nvSpPr>
        <p:spPr>
          <a:xfrm>
            <a:off x="2314440" y="252468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26669"/>
          <p:cNvSpPr/>
          <p:nvPr/>
        </p:nvSpPr>
        <p:spPr>
          <a:xfrm>
            <a:off x="2619360" y="249444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326670"/>
          <p:cNvSpPr/>
          <p:nvPr/>
        </p:nvSpPr>
        <p:spPr>
          <a:xfrm>
            <a:off x="1933560" y="257076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联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326672">
            <a:hlinkClick r:id="rId1" action="ppaction://hlinksldjump"/>
          </p:cNvPr>
          <p:cNvSpPr/>
          <p:nvPr/>
        </p:nvSpPr>
        <p:spPr>
          <a:xfrm>
            <a:off x="5039280" y="1870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26673"/>
          <p:cNvSpPr/>
          <p:nvPr/>
        </p:nvSpPr>
        <p:spPr>
          <a:xfrm>
            <a:off x="4124880" y="240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26674"/>
          <p:cNvSpPr/>
          <p:nvPr/>
        </p:nvSpPr>
        <p:spPr>
          <a:xfrm>
            <a:off x="5039280" y="29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6675"/>
          <p:cNvSpPr/>
          <p:nvPr/>
        </p:nvSpPr>
        <p:spPr>
          <a:xfrm>
            <a:off x="4062240" y="352728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326678"/>
          <p:cNvSpPr/>
          <p:nvPr/>
        </p:nvSpPr>
        <p:spPr>
          <a:xfrm>
            <a:off x="2403360" y="245124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直接连接符 326679"/>
          <p:cNvSpPr/>
          <p:nvPr/>
        </p:nvSpPr>
        <p:spPr>
          <a:xfrm flipV="1">
            <a:off x="2784600" y="2451240"/>
            <a:ext cx="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326680"/>
          <p:cNvSpPr/>
          <p:nvPr/>
        </p:nvSpPr>
        <p:spPr>
          <a:xfrm>
            <a:off x="4067280" y="660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节赏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357391"/>
          <p:cNvSpPr/>
          <p:nvPr/>
        </p:nvSpPr>
        <p:spPr>
          <a:xfrm>
            <a:off x="3831840" y="40752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人间万家灯火的壮观景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357392"/>
          <p:cNvSpPr/>
          <p:nvPr/>
        </p:nvSpPr>
        <p:spPr>
          <a:xfrm>
            <a:off x="2742480" y="409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360463"/>
          <p:cNvSpPr/>
          <p:nvPr/>
        </p:nvSpPr>
        <p:spPr>
          <a:xfrm>
            <a:off x="27154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60464"/>
          <p:cNvSpPr/>
          <p:nvPr/>
        </p:nvSpPr>
        <p:spPr>
          <a:xfrm>
            <a:off x="3592440" y="451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群星闪烁的姿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361489"/>
          <p:cNvSpPr/>
          <p:nvPr/>
        </p:nvSpPr>
        <p:spPr>
          <a:xfrm>
            <a:off x="2735280" y="49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华文细黑"/>
                <a:ea typeface="华文细黑"/>
              </a:rPr>
              <a:t>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1490"/>
          <p:cNvSpPr/>
          <p:nvPr/>
        </p:nvSpPr>
        <p:spPr>
          <a:xfrm>
            <a:off x="3603240" y="5016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诗人的欣喜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362515"/>
          <p:cNvSpPr/>
          <p:nvPr/>
        </p:nvSpPr>
        <p:spPr>
          <a:xfrm>
            <a:off x="2679840" y="55119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362516"/>
          <p:cNvSpPr/>
          <p:nvPr/>
        </p:nvSpPr>
        <p:spPr>
          <a:xfrm>
            <a:off x="3934440" y="55119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暗示天上有人把街灯点亮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文本框 467969"/>
          <p:cNvSpPr/>
          <p:nvPr/>
        </p:nvSpPr>
        <p:spPr>
          <a:xfrm>
            <a:off x="810000" y="131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467970"/>
          <p:cNvSpPr/>
          <p:nvPr/>
        </p:nvSpPr>
        <p:spPr>
          <a:xfrm>
            <a:off x="734040" y="426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左大括号 467971"/>
          <p:cNvSpPr/>
          <p:nvPr/>
        </p:nvSpPr>
        <p:spPr>
          <a:xfrm>
            <a:off x="1611360" y="2479680"/>
            <a:ext cx="304920" cy="3962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2960 h 3962520"/>
              <a:gd name="textAreaBottom" fmla="*/ 385956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467976"/>
          <p:cNvSpPr/>
          <p:nvPr/>
        </p:nvSpPr>
        <p:spPr>
          <a:xfrm>
            <a:off x="2105640" y="1066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467977"/>
          <p:cNvSpPr/>
          <p:nvPr/>
        </p:nvSpPr>
        <p:spPr>
          <a:xfrm>
            <a:off x="207360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467978"/>
          <p:cNvSpPr/>
          <p:nvPr/>
        </p:nvSpPr>
        <p:spPr>
          <a:xfrm>
            <a:off x="2105640" y="246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467979"/>
          <p:cNvSpPr/>
          <p:nvPr/>
        </p:nvSpPr>
        <p:spPr>
          <a:xfrm>
            <a:off x="2105640" y="3276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467980"/>
          <p:cNvSpPr/>
          <p:nvPr/>
        </p:nvSpPr>
        <p:spPr>
          <a:xfrm>
            <a:off x="2073600" y="414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467981"/>
          <p:cNvSpPr/>
          <p:nvPr/>
        </p:nvSpPr>
        <p:spPr>
          <a:xfrm>
            <a:off x="2164320" y="504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467982"/>
          <p:cNvSpPr/>
          <p:nvPr/>
        </p:nvSpPr>
        <p:spPr>
          <a:xfrm>
            <a:off x="2105640" y="609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467983"/>
          <p:cNvSpPr/>
          <p:nvPr/>
        </p:nvSpPr>
        <p:spPr>
          <a:xfrm>
            <a:off x="2286000" y="1523880"/>
            <a:ext cx="0" cy="38124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467984"/>
          <p:cNvSpPr/>
          <p:nvPr/>
        </p:nvSpPr>
        <p:spPr>
          <a:xfrm flipV="1">
            <a:off x="2438280" y="1447920"/>
            <a:ext cx="0" cy="38088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467985"/>
          <p:cNvSpPr/>
          <p:nvPr/>
        </p:nvSpPr>
        <p:spPr>
          <a:xfrm>
            <a:off x="2362320" y="3657600"/>
            <a:ext cx="0" cy="53352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467986"/>
          <p:cNvSpPr/>
          <p:nvPr/>
        </p:nvSpPr>
        <p:spPr>
          <a:xfrm>
            <a:off x="2362320" y="4572000"/>
            <a:ext cx="0" cy="53352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467987"/>
          <p:cNvSpPr/>
          <p:nvPr/>
        </p:nvSpPr>
        <p:spPr>
          <a:xfrm>
            <a:off x="2362320" y="5486400"/>
            <a:ext cx="0" cy="60948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467988"/>
          <p:cNvSpPr/>
          <p:nvPr/>
        </p:nvSpPr>
        <p:spPr>
          <a:xfrm>
            <a:off x="2362320" y="2209680"/>
            <a:ext cx="0" cy="38124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直接连接符 467989"/>
          <p:cNvSpPr/>
          <p:nvPr/>
        </p:nvSpPr>
        <p:spPr>
          <a:xfrm>
            <a:off x="2362320" y="2895480"/>
            <a:ext cx="0" cy="45720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左大括号 467990"/>
          <p:cNvSpPr/>
          <p:nvPr/>
        </p:nvSpPr>
        <p:spPr>
          <a:xfrm>
            <a:off x="1752480" y="12193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467991"/>
          <p:cNvSpPr/>
          <p:nvPr/>
        </p:nvSpPr>
        <p:spPr>
          <a:xfrm>
            <a:off x="233280" y="5205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三四节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467992"/>
          <p:cNvSpPr/>
          <p:nvPr/>
        </p:nvSpPr>
        <p:spPr>
          <a:xfrm>
            <a:off x="2989800" y="2459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467993"/>
          <p:cNvSpPr/>
          <p:nvPr/>
        </p:nvSpPr>
        <p:spPr>
          <a:xfrm>
            <a:off x="2803680" y="3297240"/>
            <a:ext cx="19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列、珍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右中括号 467994"/>
          <p:cNvSpPr/>
          <p:nvPr/>
        </p:nvSpPr>
        <p:spPr>
          <a:xfrm>
            <a:off x="4495680" y="25909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467995"/>
          <p:cNvSpPr/>
          <p:nvPr/>
        </p:nvSpPr>
        <p:spPr>
          <a:xfrm>
            <a:off x="5142240" y="2697120"/>
            <a:ext cx="16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美好生活的向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右中括号 468001"/>
          <p:cNvSpPr/>
          <p:nvPr/>
        </p:nvSpPr>
        <p:spPr>
          <a:xfrm>
            <a:off x="2971800" y="4267080"/>
            <a:ext cx="76320" cy="2133720"/>
          </a:xfrm>
          <a:custGeom>
            <a:avLst/>
            <a:gdLst>
              <a:gd name="textAreaLeft" fmla="*/ 0 w 76320"/>
              <a:gd name="textAreaRight" fmla="*/ 53640 w 76320"/>
              <a:gd name="textAreaTop" fmla="*/ 88560 h 2133720"/>
              <a:gd name="textAreaBottom" fmla="*/ 204516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799"/>
                </a:cubicBezTo>
                <a:lnTo>
                  <a:pt x="21600" y="19801"/>
                </a:lnTo>
                <a:cubicBezTo>
                  <a:pt x="21600" y="20701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468002"/>
          <p:cNvSpPr/>
          <p:nvPr/>
        </p:nvSpPr>
        <p:spPr>
          <a:xfrm>
            <a:off x="4080600" y="4626000"/>
            <a:ext cx="2009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黑暗势力压迫的反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自由幸福生活的向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矩形 587777"/>
          <p:cNvSpPr/>
          <p:nvPr/>
        </p:nvSpPr>
        <p:spPr>
          <a:xfrm>
            <a:off x="762120" y="1523880"/>
            <a:ext cx="54100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信，请看那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流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他们提着灯笼在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形标注 587779"/>
          <p:cNvSpPr/>
          <p:nvPr/>
        </p:nvSpPr>
        <p:spPr>
          <a:xfrm>
            <a:off x="2622600" y="2236680"/>
            <a:ext cx="4724280" cy="26686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朵”字常用于花，花是美好的象征，把流星比作花，比喻天上的生活像花朵一样美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右弧形箭头 587781"/>
          <p:cNvSpPr/>
          <p:nvPr/>
        </p:nvSpPr>
        <p:spPr>
          <a:xfrm>
            <a:off x="3429000" y="1523880"/>
            <a:ext cx="2133720" cy="1828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981"/>
                <a:lnTo>
                  <a:pt x="7195" y="21168"/>
                </a:lnTo>
                <a:lnTo>
                  <a:pt x="0" y="17280"/>
                </a:lnTo>
                <a:lnTo>
                  <a:pt x="7195" y="12528"/>
                </a:lnTo>
                <a:lnTo>
                  <a:pt x="7195" y="14688"/>
                </a:lnTo>
                <a:arcTo wR="21600" hR="7560" stAng="2683981" swAng="-2326546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587784"/>
          <p:cNvSpPr/>
          <p:nvPr/>
        </p:nvSpPr>
        <p:spPr>
          <a:xfrm>
            <a:off x="2133720" y="3048120"/>
            <a:ext cx="5257800" cy="2438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587785"/>
          <p:cNvSpPr/>
          <p:nvPr/>
        </p:nvSpPr>
        <p:spPr>
          <a:xfrm>
            <a:off x="3352680" y="3276720"/>
            <a:ext cx="3657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587786"/>
          <p:cNvSpPr/>
          <p:nvPr/>
        </p:nvSpPr>
        <p:spPr>
          <a:xfrm>
            <a:off x="3276720" y="3276720"/>
            <a:ext cx="0" cy="228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587787"/>
          <p:cNvSpPr/>
          <p:nvPr/>
        </p:nvSpPr>
        <p:spPr>
          <a:xfrm>
            <a:off x="3352680" y="5638680"/>
            <a:ext cx="3505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2141640" y="10526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--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----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457200" y="907920"/>
            <a:ext cx="5461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联 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185256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1852560" y="3932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1852560" y="494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牛郎织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7"/>
          <p:cNvSpPr/>
          <p:nvPr/>
        </p:nvSpPr>
        <p:spPr>
          <a:xfrm>
            <a:off x="4229280" y="2997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珍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4229280" y="39322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浅浅、不甚宽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4013280" y="4940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来往、闲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0"/>
          <p:cNvSpPr/>
          <p:nvPr/>
        </p:nvSpPr>
        <p:spPr>
          <a:xfrm>
            <a:off x="1494000" y="3139920"/>
            <a:ext cx="358560" cy="2160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245280" y="299736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美丽富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114560" y="3139920"/>
            <a:ext cx="5461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上的街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6534000" y="494028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由、幸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4"/>
          <p:cNvSpPr/>
          <p:nvPr/>
        </p:nvSpPr>
        <p:spPr>
          <a:xfrm>
            <a:off x="239760" y="3645000"/>
            <a:ext cx="54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文本框 105"/>
          <p:cNvSpPr/>
          <p:nvPr/>
        </p:nvSpPr>
        <p:spPr>
          <a:xfrm>
            <a:off x="1406520" y="2552760"/>
            <a:ext cx="65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课时 太阳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文本框 99"/>
          <p:cNvSpPr/>
          <p:nvPr/>
        </p:nvSpPr>
        <p:spPr>
          <a:xfrm>
            <a:off x="2459160" y="1111320"/>
            <a:ext cx="5079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白昼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一条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神秘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航线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划来只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镀金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巨船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它驶过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顶空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子午线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缓缓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扯下了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沿途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它穿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紧密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光波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或停靠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于云的海岸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卸下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闪烁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白银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又驶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另一个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港湾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它驶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黑暗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时候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船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却焚起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大火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使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沉没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于灰色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浪涛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溅起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银星千颗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文本框 99"/>
          <p:cNvSpPr/>
          <p:nvPr/>
        </p:nvSpPr>
        <p:spPr>
          <a:xfrm>
            <a:off x="200160" y="15224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热情赞颂了太阳，作者是按什么顺序来描写太阳船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阳的颜色有怎样的变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1"/>
          <p:cNvSpPr/>
          <p:nvPr/>
        </p:nvSpPr>
        <p:spPr>
          <a:xfrm>
            <a:off x="117360" y="3222720"/>
            <a:ext cx="885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按太阳运行的时间顺序来描写太阳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早晨：金色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→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太阳升高到日落前：白色 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→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日落时分：红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精读课文    细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文本框 99"/>
          <p:cNvSpPr/>
          <p:nvPr/>
        </p:nvSpPr>
        <p:spPr>
          <a:xfrm>
            <a:off x="901800" y="10238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要求，赏析下面诗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2"/>
          <p:cNvSpPr/>
          <p:nvPr/>
        </p:nvSpPr>
        <p:spPr>
          <a:xfrm>
            <a:off x="846000" y="1725480"/>
            <a:ext cx="79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它卸下批闪烁的白银，又驶向另一个港湾。（从修辞角度赏析该语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3"/>
          <p:cNvSpPr/>
          <p:nvPr/>
        </p:nvSpPr>
        <p:spPr>
          <a:xfrm>
            <a:off x="905040" y="3014640"/>
            <a:ext cx="77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用“白银”比喻阳光，“卸下批闪烁的白银”比喻天色已晚，太阳光逐渐变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驶向另一个港湾”比喻太阳即将落山。这两句诗，生动形象地表现出太阳在天空中的位置及光线的变化的，给人以美感及想像的空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05"/>
          <p:cNvSpPr/>
          <p:nvPr/>
        </p:nvSpPr>
        <p:spPr>
          <a:xfrm>
            <a:off x="1276200" y="1724040"/>
            <a:ext cx="67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解诗中联想和想象的运用，培养联想和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1"/>
          <p:cNvSpPr/>
          <p:nvPr/>
        </p:nvSpPr>
        <p:spPr>
          <a:xfrm>
            <a:off x="1243080" y="3029040"/>
            <a:ext cx="67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对自由幸福美好生活的向往与追求，体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浪漫主义的创作特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文本框 99"/>
          <p:cNvSpPr/>
          <p:nvPr/>
        </p:nvSpPr>
        <p:spPr>
          <a:xfrm>
            <a:off x="890640" y="995400"/>
            <a:ext cx="76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使它沉没于灰色的浪涛，却溅起了银星千颗。”中的“溅”字用得好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1"/>
          <p:cNvSpPr/>
          <p:nvPr/>
        </p:nvSpPr>
        <p:spPr>
          <a:xfrm>
            <a:off x="1089000" y="262260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一个“溅”字化静为动，它形象地写出了太阳落山，星星出现的场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文本框 99"/>
          <p:cNvSpPr/>
          <p:nvPr/>
        </p:nvSpPr>
        <p:spPr>
          <a:xfrm>
            <a:off x="847800" y="1273320"/>
            <a:ext cx="76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言志，作者吴望尧借“太阳船”寄托 自己什么情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一说你的理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"/>
          <p:cNvSpPr/>
          <p:nvPr/>
        </p:nvSpPr>
        <p:spPr>
          <a:xfrm>
            <a:off x="1319040" y="321480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寄托自己对光明与幸福的渴望，对故乡与大陆的思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99"/>
          <p:cNvSpPr/>
          <p:nvPr/>
        </p:nvSpPr>
        <p:spPr>
          <a:xfrm>
            <a:off x="682560" y="1219320"/>
            <a:ext cx="79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诗想象可谓天马行空，但是又合乎情理。说说诗人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依据现实展开想象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"/>
          <p:cNvSpPr/>
          <p:nvPr/>
        </p:nvSpPr>
        <p:spPr>
          <a:xfrm>
            <a:off x="968400" y="2792520"/>
            <a:ext cx="74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诗人把天空想象成航线，把太阳想象成船，晴天太阳东升西落，想象成船在天空中穿行，把云想象成海岸，太阳落山，余辉晚霞想象成大火，太阳落山，星星出现，想象合乎情理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图片 2" descr=""/>
          <p:cNvPicPr/>
          <p:nvPr/>
        </p:nvPicPr>
        <p:blipFill>
          <a:blip r:embed="rId1"/>
          <a:stretch/>
        </p:blipFill>
        <p:spPr>
          <a:xfrm>
            <a:off x="5251320" y="2238480"/>
            <a:ext cx="295560" cy="2025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7" name="图片 103" descr=""/>
          <p:cNvPicPr/>
          <p:nvPr/>
        </p:nvPicPr>
        <p:blipFill>
          <a:blip r:embed="rId2"/>
          <a:stretch/>
        </p:blipFill>
        <p:spPr>
          <a:xfrm>
            <a:off x="2376360" y="2222640"/>
            <a:ext cx="219240" cy="2112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8" name="图片 3" descr=""/>
          <p:cNvPicPr/>
          <p:nvPr/>
        </p:nvPicPr>
        <p:blipFill>
          <a:blip r:embed="rId3"/>
          <a:stretch/>
        </p:blipFill>
        <p:spPr>
          <a:xfrm>
            <a:off x="1574640" y="3144960"/>
            <a:ext cx="638280" cy="333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89" name="文本框 105"/>
          <p:cNvSpPr/>
          <p:nvPr/>
        </p:nvSpPr>
        <p:spPr>
          <a:xfrm>
            <a:off x="2611440" y="285444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岸          想象丰富合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4"/>
          <p:cNvSpPr/>
          <p:nvPr/>
        </p:nvSpPr>
        <p:spPr>
          <a:xfrm>
            <a:off x="2616120" y="23050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4105" descr="F:\ly\background.gif"/>
          <p:cNvPicPr/>
          <p:nvPr/>
        </p:nvPicPr>
        <p:blipFill>
          <a:blip r:embed="rId1"/>
          <a:stretch/>
        </p:blipFill>
        <p:spPr>
          <a:xfrm>
            <a:off x="2390760" y="1162080"/>
            <a:ext cx="4865760" cy="350532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4101"/>
          <p:cNvSpPr/>
          <p:nvPr/>
        </p:nvSpPr>
        <p:spPr>
          <a:xfrm>
            <a:off x="2370240" y="4967280"/>
            <a:ext cx="58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喜欢星光灿烂的夜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632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638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矩形 33795"/>
          <p:cNvSpPr/>
          <p:nvPr/>
        </p:nvSpPr>
        <p:spPr>
          <a:xfrm>
            <a:off x="4365720" y="255420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郭沫若，原名郭开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川乐山人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诗人，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代表诗集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女神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星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1" descr="54fbb2fb43166d22d9a4bf9b452309f79152d2ea"/>
          <p:cNvPicPr/>
          <p:nvPr/>
        </p:nvPicPr>
        <p:blipFill>
          <a:blip r:embed="rId1"/>
          <a:stretch/>
        </p:blipFill>
        <p:spPr>
          <a:xfrm>
            <a:off x="628560" y="2114640"/>
            <a:ext cx="2527560" cy="3406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矩形 31747"/>
          <p:cNvSpPr/>
          <p:nvPr/>
        </p:nvSpPr>
        <p:spPr>
          <a:xfrm flipV="1" rot="10812000">
            <a:off x="1036080" y="1148760"/>
            <a:ext cx="73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写作背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这首诗写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代初期，此时，“五四”运动的洪波已经消退，大革命的时代尚未到来。半殖民地牛封建的中国，依旧被帝国主义列强和各派军阀势力窒息着。面对这种现实，诗人感到失望和痛苦，他痛恨黑暗的现实，向往光明的未来。在灿烂星空的诱发下，写下了这首充满浪漫色彩的著名诗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上的街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初读课文  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矩形 17411"/>
          <p:cNvSpPr/>
          <p:nvPr/>
        </p:nvSpPr>
        <p:spPr>
          <a:xfrm>
            <a:off x="900000" y="568440"/>
            <a:ext cx="8001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　　天上的街市  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远远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了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好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闪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数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星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天上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现了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好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数的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灯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e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想那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缥缈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空中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美丽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市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h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市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陈列的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些物品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世上没有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珍奇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q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你看，那浅浅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天河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宽广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gu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那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隔着河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牛郎织女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   定能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骑着牛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来往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w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想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他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此刻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天街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闲游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yo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信，请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那朵流星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他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提着灯笼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走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z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文本框 174083"/>
          <p:cNvSpPr/>
          <p:nvPr/>
        </p:nvSpPr>
        <p:spPr>
          <a:xfrm>
            <a:off x="533520" y="2022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联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燕尾形箭头 174084"/>
          <p:cNvSpPr/>
          <p:nvPr/>
        </p:nvSpPr>
        <p:spPr>
          <a:xfrm>
            <a:off x="3124080" y="232740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174085"/>
          <p:cNvSpPr/>
          <p:nvPr/>
        </p:nvSpPr>
        <p:spPr>
          <a:xfrm>
            <a:off x="1752480" y="202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甲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74086"/>
          <p:cNvSpPr/>
          <p:nvPr/>
        </p:nvSpPr>
        <p:spPr>
          <a:xfrm>
            <a:off x="3505320" y="1870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想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174087"/>
          <p:cNvSpPr/>
          <p:nvPr/>
        </p:nvSpPr>
        <p:spPr>
          <a:xfrm>
            <a:off x="5181480" y="2022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乙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174088"/>
          <p:cNvSpPr/>
          <p:nvPr/>
        </p:nvSpPr>
        <p:spPr>
          <a:xfrm>
            <a:off x="1600200" y="2784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174089"/>
          <p:cNvSpPr/>
          <p:nvPr/>
        </p:nvSpPr>
        <p:spPr>
          <a:xfrm>
            <a:off x="2057400" y="2708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存在                          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174091"/>
          <p:cNvSpPr/>
          <p:nvPr/>
        </p:nvSpPr>
        <p:spPr>
          <a:xfrm>
            <a:off x="457200" y="4537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想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174093"/>
          <p:cNvSpPr/>
          <p:nvPr/>
        </p:nvSpPr>
        <p:spPr>
          <a:xfrm>
            <a:off x="1752480" y="453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甲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174094"/>
          <p:cNvSpPr/>
          <p:nvPr/>
        </p:nvSpPr>
        <p:spPr>
          <a:xfrm>
            <a:off x="3276720" y="48420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燕尾形箭头 174095"/>
          <p:cNvSpPr/>
          <p:nvPr/>
        </p:nvSpPr>
        <p:spPr>
          <a:xfrm>
            <a:off x="3200400" y="484200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174096"/>
          <p:cNvSpPr/>
          <p:nvPr/>
        </p:nvSpPr>
        <p:spPr>
          <a:xfrm>
            <a:off x="3429000" y="438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创造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174098"/>
          <p:cNvSpPr/>
          <p:nvPr/>
        </p:nvSpPr>
        <p:spPr>
          <a:xfrm>
            <a:off x="5257800" y="461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乙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174099"/>
          <p:cNvSpPr/>
          <p:nvPr/>
        </p:nvSpPr>
        <p:spPr>
          <a:xfrm>
            <a:off x="1743120" y="53071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存在                          不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74081"/>
          <p:cNvSpPr/>
          <p:nvPr/>
        </p:nvSpPr>
        <p:spPr>
          <a:xfrm>
            <a:off x="304920" y="80316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想象与联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