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7DA-1F48-4B5E-93E5-6C4A9D4C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C2E-79EE-4B01-8E8B-F954713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0BB9C-601F-40AA-A60B-C044DAE1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F4580-12B3-49B4-8BF8-E091723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EAD03-33B8-4634-82C6-D655BF1D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2E11-D33F-4271-A0B1-E64E150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986C-B8FA-408B-9DF9-874CD60D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8B525-6DD3-4845-BEA1-B9CFE61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8D715-DBFD-468F-9D56-26F8CFA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DEA9B-E8E8-4F92-A935-299D1D7C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9907B-63F3-4BE4-9133-E4C02BBA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9A3DA-2DF8-4007-818A-D566AE4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9CD-9746-460A-977D-F3AEC688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23D1A-CC5E-4B4A-A8DC-A0BE6D9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ABA5F-6E6F-4619-816D-6BB92FE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A437F-F606-4024-A027-052923D9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AC003-2A89-41C6-831D-ACE4892C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ADC9F-DF16-48B4-8021-84C56B1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DEBA2-D18E-455D-92E4-50D36FCF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ED608-2AC7-46E7-83C9-F0B1945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737DE-0BE9-4F79-AE1C-0AA0F73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767E-9772-4F93-B95B-E76F9CC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A8F3C-237D-4B8C-964C-CA1000E9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27A-B430-49BD-A9E7-631948BD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C8596-D880-4F95-B9EB-E078134D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0AE4B-0B81-4ED4-90FE-010E5922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D59CF-03C9-40F4-92C0-451D9D8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4DDB7-4BB8-47B9-A77F-B927CA3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19D63-060E-4AE3-B077-AE9BD28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4DCD8-FB13-4E61-934A-481501E1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7A30-1598-4BE8-96AF-13D54EDD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8C73B-1DBD-4C8A-A247-80B7AC6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AFE62-6A30-4C67-8846-3CCE32EC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7C070-6A8E-49CC-8E6A-C0C5832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716E-CEF2-4C7F-9868-F3B37D1D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E81FD-459D-4BF8-90A8-A56F46B9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0B171-D8C7-41C0-8ABB-AA93E220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45876-8B91-439F-99AB-291F3B64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5482E-FD35-4472-915B-B7D7AC47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DE0E3-A412-487C-AA7C-DE1BCED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9F026-B08F-477B-B453-B6F97C7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B254C-265D-4C08-A3E8-C32CB641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2C19E-D552-4A7A-B21C-C0F8FB8C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67779-4885-44D6-B40E-1C91157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A4FCE-DF93-48F7-A457-B1C283B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F40-FF36-4EB2-93B3-F14C52FE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DDCC6-D87D-4C34-9E0B-BC69DE09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EED6-F8F4-43A9-B0A7-358C024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CA3A0-BC64-426F-B58A-ED852E2B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6F74B-443E-48D4-99F6-9BEC03E4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98C25-D21E-4B6E-B0B7-687D94A9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AC9EE-7731-4223-8D8E-6FEDC57F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521E3-D716-40FA-BBFE-5254B91B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CDBF9-CC21-4D3E-8062-8498223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E63FF-2F2F-4DAC-8C21-29305438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E18A0-0E98-4F18-BF49-E5CCC51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60F9-6F8F-4A6E-9526-FAB6190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F518A-22C8-478B-8E5C-5A695E58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ACDF5-163D-4BF9-A5A5-FDE27FB5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70D48-0D90-4CCF-9876-045D2A4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16D7A-2EB1-4D66-B576-430500D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475E5-5B6B-40FD-B1E2-94045B02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6EDED-2636-44A4-BB79-1C566B48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82F88-A2E4-4FED-B20A-A842B215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9A503-C00C-45A9-A976-C35BCFEC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90994-B2AB-41BA-B262-52D7B3B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FC5DB-615F-48F0-A819-3BAA5390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3010-43DD-4DFD-8CC3-ADCD7E5A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657BD-EC0E-4D45-9E91-F4DE0BC7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3ACA8-DF7A-4180-92CC-A988E2B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21941-EA85-4EC4-A7C2-53F56E5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581BB-8B6F-4F06-8499-AE3EFA6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DA9A4-395B-45E0-A130-C45C376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7985A-4435-4E9A-8214-A898AC6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209DE-F4B3-4EF5-AED6-70DE35D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AB4AD-8C78-4E06-B03B-51DD564F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68082-D4A2-4F5C-A955-404313EE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88157-2451-4D3C-A55E-C07BD81A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150A-FFC9-4B94-A899-88391205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6830E-4BAE-4472-B4AC-27B333DA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27218-1D27-4465-9070-B34828CA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85133-33E8-4984-B332-C7FC5F6A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F2EFD-9279-4E70-98A2-C97A19C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99790-D04B-4B32-9DD7-1C94B34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D2F44-B7F9-47B2-8E2D-42C05BC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C031D-E04D-4528-B0CD-B0A7EE2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B50C4-6BA3-4A76-8F8C-BDD3EF9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48F05-77C6-4EC2-8131-A7D97B7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48EED-BA4A-408D-A78E-5EE0991D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0CA7-9DBB-40D1-80A6-CC5730F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0AF25-FFB2-4BD6-A122-9712F618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7FFB-D246-4D65-9730-2169A4D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01D-912A-4648-8CB1-29C7D3E0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058-8898-45C6-A698-92020E46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FB1D-2857-4CB2-A1AF-404D1942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A9B2-A2A3-442A-AAF9-EB507DD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A35-5D55-46B6-94F2-AFB2A844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BC61-0B08-4496-B3AA-63B10995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681A-CCAD-48B7-88AF-3457BA22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8363-803B-4E02-90C0-A9ACA97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A600-964E-490D-B846-9DEB7726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D90E-71DC-41C9-B301-F2FD14C6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CF21-9A5B-4C6A-8C9C-9166E8AF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80A-C9FB-454A-BF70-849F730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B3D9-CFEF-4615-A953-72BCCD9D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68FD-2EDA-4A52-B555-1A95DD9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C709-4ED0-4F52-A8BE-1522CB3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7A2F-B380-4848-B6FB-A1E92078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6F04-F2E9-45F1-B849-1773E98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8FB4-A37A-4549-9C3D-26E23E64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202F-9FD3-49A0-9A42-303C0F6A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0A5D-C229-47CE-B57F-645D03D6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A94B6-BA42-4AA5-823B-54172CD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586F-459E-4A30-AB53-BCF5839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009-15DE-4B8A-BA2B-B7B0E36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09C2-5929-4369-9B4B-6C9D19BD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06CC-4A43-4B77-BC97-99DA92E0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85DE-656A-4C2B-92A5-E5F6B74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6B7E-EADE-485F-BD55-DFAB9890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D899-13BD-47C8-9100-5442B00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9C27-1D97-4A34-BF44-6DC6186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D439-4C3F-464B-9E34-E828E31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0AD2-88B5-4323-8FCC-E670552A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A482-94A9-4244-9AD7-E2AA6135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2E9A7-F84F-4944-A8C6-99DF0287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2BC-E785-462C-8B66-E17F5A24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549B-8623-4994-979A-4D1FCFD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21AB-2097-45B2-AFC4-3FD13EE2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95E7-7E76-40DB-A142-5E2FC086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C2D8-123B-4D2F-AFE5-E175FC2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9B48-8DB4-4567-8D80-01DFB76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47F31-8486-4606-98B1-E2350F2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3024-3C77-4861-A644-63A544C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48D0-88F0-4A72-8927-7455B03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C1525-AD3A-4ADE-87EC-F241E45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C8F5-D292-4A0A-8520-BDA188CB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228-AB89-45C0-8188-E5CE09FF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728E-C645-448B-9C1E-54F5E972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75798-BF77-4937-BD82-30DCC4B0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F940-2E74-4BF3-B654-176692F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06B40-9DDA-42CD-A070-E4F711AB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A2FC-BEBC-438E-82DC-B87F4D7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1A80-0758-4AD3-A814-6E6D922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9C16-0B8C-4C90-8E99-2BDF3E2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DA76-7FC7-4175-902E-646419E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65E2C-9FA5-46BA-A38C-388695A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68AEA-2C82-4906-A0B9-075700E9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DDD-6A6C-4E6B-96D3-B97B353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6D71-D0F8-43C8-ADCC-B89DD2E0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1AA33-5AC1-4ACF-B278-6DDAA6AA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F75F-2CA1-4711-BFAF-44B01C02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D0A8-17AD-43C0-86C6-E20A6448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7089-40A7-4A78-935C-A225E69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C216-384A-41D7-BF37-D0FAF0A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02075-7994-42D7-908D-A52FE724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40E5-7BF0-4748-814F-B0922A0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AD6DF-BA70-4D84-81C2-36F4D441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5A61-44D5-470A-AD2A-DC06176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785-48E5-4386-8B8F-A2BC190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D1069-BCEB-4D28-9B94-6E682998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7B2A-3D92-4021-B07D-0736DD0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1D16F-7BFD-46B7-9DA3-A4E2F58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44F7-DA6D-4AD7-AC70-C8E1A6B1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8BB6-DAA4-457E-B0A0-3912E87B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FD337-DBDA-44B1-9198-EC8AFD10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7F812-220F-419F-98E6-366B9E8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BD2E5-720E-49EA-8314-95DB552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3F78F-3C6E-46F9-8A76-E6C2B72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6A80-89E2-4CA1-8B71-4DD4ECF2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2BC-D166-43F3-82DA-E809501F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339DD-124C-4231-A621-86A0CBDA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D207-A501-4942-975B-AB494B45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363BC-77BD-4919-B6E3-C55E2D65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E0E88-07F0-4794-BA59-5DAABF8A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FEA0D-023C-4134-9501-76733C44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2CC72-2847-43A6-B0B6-E1DE9F69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16451-F2C5-43F0-B8C4-1A268330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5BE49-97A8-4DF5-8352-F9D583B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D82AA-15D7-4896-95F8-34F2FD2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C7ECD-D0E2-454B-A5A5-4FE3060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220B-B0AB-424E-8333-EB4C01E52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04A-AA5B-4248-AC5F-6FF13CD46E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3BCE-26D1-4FC6-A782-D8A87E2EB6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E23-AF42-4706-B91D-1A1810413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857-C548-46DB-A811-98E28D2DA1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0D5-C319-47E0-B2B7-D8084369C8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B37A-19A4-4FC3-A07F-70FCFD8B15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A847-B6CA-48E9-A9C8-23F345218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9D9F-67F6-44CE-BD27-B2D2EDA912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98C-8C01-42AF-B3FD-D1DFAFABC5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929-A59E-478A-88B4-B569D28C7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4A5E-D54C-4AB6-A787-4B56D749A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7FD5-5F3D-4D32-AF02-8DC566730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A08-F0B6-4178-BFEC-0EA242FA66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ABE-7ABD-4F92-BA11-DC3AAE9FD7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1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皇帝的新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8434"/>
          <p:cNvSpPr/>
          <p:nvPr/>
        </p:nvSpPr>
        <p:spPr>
          <a:xfrm>
            <a:off x="304920" y="7621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故事情节发展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骗子们说了一句话起着关键的作用，找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，并说说它为什么是关键语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8435"/>
          <p:cNvSpPr/>
          <p:nvPr/>
        </p:nvSpPr>
        <p:spPr>
          <a:xfrm>
            <a:off x="457200" y="228600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任何不称职的或愚蠢得不可救药的人，都看不见这衣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8436"/>
          <p:cNvSpPr/>
          <p:nvPr/>
        </p:nvSpPr>
        <p:spPr>
          <a:xfrm>
            <a:off x="457200" y="297828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句话，在故事情节发展中起着关键的推动作用。骗子胡说那衣服具有这样一种“奇怪的特性”，不但抓住了皇帝的昏庸荒政而又想辨别出官员是否称职、是聪明还是愚蠢，以求保住皇位的心理，而且抓住了大臣们只想保住官位的心理，因而骗术步步行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9457"/>
          <p:cNvSpPr/>
          <p:nvPr/>
        </p:nvSpPr>
        <p:spPr>
          <a:xfrm>
            <a:off x="1219320" y="298944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9458"/>
          <p:cNvSpPr/>
          <p:nvPr/>
        </p:nvSpPr>
        <p:spPr>
          <a:xfrm>
            <a:off x="600120" y="96516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根本不存在的“新装”面前，很多人都不敢说真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他们不敢说真话的原因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9459"/>
          <p:cNvSpPr/>
          <p:nvPr/>
        </p:nvSpPr>
        <p:spPr>
          <a:xfrm>
            <a:off x="898560" y="234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大臣、“另外一位诚实的官员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9460"/>
          <p:cNvSpPr/>
          <p:nvPr/>
        </p:nvSpPr>
        <p:spPr>
          <a:xfrm>
            <a:off x="898560" y="292428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更怕丢了乌纱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9461"/>
          <p:cNvSpPr/>
          <p:nvPr/>
        </p:nvSpPr>
        <p:spPr>
          <a:xfrm>
            <a:off x="895320" y="36939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9462"/>
          <p:cNvSpPr/>
          <p:nvPr/>
        </p:nvSpPr>
        <p:spPr>
          <a:xfrm>
            <a:off x="1814400" y="3679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也怕丢了王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9463"/>
          <p:cNvSpPr/>
          <p:nvPr/>
        </p:nvSpPr>
        <p:spPr>
          <a:xfrm>
            <a:off x="1130400" y="4602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百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9464"/>
          <p:cNvSpPr/>
          <p:nvPr/>
        </p:nvSpPr>
        <p:spPr>
          <a:xfrm>
            <a:off x="4116600" y="4627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人嘲笑愚蠢；怕招杀身之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20481"/>
          <p:cNvSpPr/>
          <p:nvPr/>
        </p:nvSpPr>
        <p:spPr>
          <a:xfrm>
            <a:off x="858960" y="18860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子为什么敢说真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0482"/>
          <p:cNvSpPr/>
          <p:nvPr/>
        </p:nvSpPr>
        <p:spPr>
          <a:xfrm>
            <a:off x="1500120" y="2940120"/>
            <a:ext cx="5977080" cy="64260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因为小孩子单纯，天真活泼，不懂得人情世故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1505"/>
          <p:cNvSpPr/>
          <p:nvPr/>
        </p:nvSpPr>
        <p:spPr>
          <a:xfrm>
            <a:off x="896760" y="2349360"/>
            <a:ext cx="1965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臣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骗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孩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1506"/>
          <p:cNvSpPr/>
          <p:nvPr/>
        </p:nvSpPr>
        <p:spPr>
          <a:xfrm>
            <a:off x="2197080" y="23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昏庸无能、爱慕虚荣、愚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1507"/>
          <p:cNvSpPr/>
          <p:nvPr/>
        </p:nvSpPr>
        <p:spPr>
          <a:xfrm>
            <a:off x="2214720" y="292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虚伪愚昧、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ē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ú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奉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1508"/>
          <p:cNvSpPr/>
          <p:nvPr/>
        </p:nvSpPr>
        <p:spPr>
          <a:xfrm>
            <a:off x="2926440" y="3444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狡猾伪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1509"/>
          <p:cNvSpPr/>
          <p:nvPr/>
        </p:nvSpPr>
        <p:spPr>
          <a:xfrm>
            <a:off x="2235240" y="3979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纯洁天真、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1510"/>
          <p:cNvSpPr/>
          <p:nvPr/>
        </p:nvSpPr>
        <p:spPr>
          <a:xfrm>
            <a:off x="611280" y="996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括出皇帝、大臣及官员、小孩的性格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22529"/>
          <p:cNvSpPr/>
          <p:nvPr/>
        </p:nvSpPr>
        <p:spPr>
          <a:xfrm>
            <a:off x="614520" y="717480"/>
            <a:ext cx="71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主要运用了什么艺术手法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2530"/>
          <p:cNvSpPr/>
          <p:nvPr/>
        </p:nvSpPr>
        <p:spPr>
          <a:xfrm>
            <a:off x="814320" y="383076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情地鞭挞了至高无上的皇帝和道貌岸然的大臣，辛辣地嘲笑了他们的愚蠢虚伪卑鄙自私，曲折地反映了现实生活，反映了封建专制制度的腐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22531"/>
          <p:cNvSpPr/>
          <p:nvPr/>
        </p:nvSpPr>
        <p:spPr>
          <a:xfrm>
            <a:off x="831960" y="1422360"/>
            <a:ext cx="77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夸张与想象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文写出骗子用根本不存在的布料、衣服向皇帝行骗，写出皇帝和大臣们都甘愿受骗、并且骗人，最后写出皇帝赤裸全身在大街上游行，构成了丰富的想象和大胆的夸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27649" descr="a3"/>
          <p:cNvPicPr/>
          <p:nvPr/>
        </p:nvPicPr>
        <p:blipFill>
          <a:blip r:embed="rId1"/>
          <a:stretch/>
        </p:blipFill>
        <p:spPr>
          <a:xfrm>
            <a:off x="1503360" y="1946160"/>
            <a:ext cx="6629400" cy="4068720"/>
          </a:xfrm>
          <a:prstGeom prst="rect">
            <a:avLst/>
          </a:prstGeom>
          <a:ln w="0">
            <a:noFill/>
          </a:ln>
        </p:spPr>
      </p:pic>
      <p:sp>
        <p:nvSpPr>
          <p:cNvPr id="732" name="矩形 27650"/>
          <p:cNvSpPr/>
          <p:nvPr/>
        </p:nvSpPr>
        <p:spPr>
          <a:xfrm>
            <a:off x="558720" y="851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夸张的手法，描述一下皇帝穿着新衣游行时装模作样的丑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文本框 1"/>
          <p:cNvSpPr/>
          <p:nvPr/>
        </p:nvSpPr>
        <p:spPr>
          <a:xfrm>
            <a:off x="876240" y="182556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骗子是最可恨的，但是在这里骗子其实就是一面“镜子”、一把“解剖刀”的角色。通过他们照出了皇帝及大小官吏们的丑恶灵魂，解剖了一个谎言充塞、欺骗成风的病态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26626"/>
          <p:cNvSpPr/>
          <p:nvPr/>
        </p:nvSpPr>
        <p:spPr>
          <a:xfrm>
            <a:off x="393840" y="1270080"/>
            <a:ext cx="546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展开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6627"/>
          <p:cNvSpPr/>
          <p:nvPr/>
        </p:nvSpPr>
        <p:spPr>
          <a:xfrm>
            <a:off x="1427040" y="1633680"/>
            <a:ext cx="703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去游行时，两个骗子也混在人群中，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们之间将会有怎样的小声而又得意的对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26628"/>
          <p:cNvSpPr/>
          <p:nvPr/>
        </p:nvSpPr>
        <p:spPr>
          <a:xfrm>
            <a:off x="1467000" y="3173400"/>
            <a:ext cx="717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游行完毕，在皇宫门口碰到两个骗子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600120" y="181584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童话以及安徒生的文学常识；积累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清故事情节；分析人物形象；了解童话中夸张和想象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真诚、求实、不慕虚荣的品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0242" descr="丑小鸭"/>
          <p:cNvPicPr/>
          <p:nvPr/>
        </p:nvPicPr>
        <p:blipFill>
          <a:blip r:embed="rId1"/>
          <a:stretch/>
        </p:blipFill>
        <p:spPr>
          <a:xfrm>
            <a:off x="1042920" y="3500280"/>
            <a:ext cx="3313080" cy="24498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0243" descr="海的女儿"/>
          <p:cNvPicPr/>
          <p:nvPr/>
        </p:nvPicPr>
        <p:blipFill>
          <a:blip r:embed="rId2"/>
          <a:stretch/>
        </p:blipFill>
        <p:spPr>
          <a:xfrm>
            <a:off x="4716360" y="119700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0244" descr="火柴"/>
          <p:cNvPicPr/>
          <p:nvPr/>
        </p:nvPicPr>
        <p:blipFill>
          <a:blip r:embed="rId3"/>
          <a:stretch/>
        </p:blipFill>
        <p:spPr>
          <a:xfrm>
            <a:off x="1042920" y="1268280"/>
            <a:ext cx="3313080" cy="20894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0247" descr="U529P18T90D43050F1532DT20041130104053"/>
          <p:cNvPicPr/>
          <p:nvPr/>
        </p:nvPicPr>
        <p:blipFill>
          <a:blip r:embed="rId4"/>
          <a:stretch/>
        </p:blipFill>
        <p:spPr>
          <a:xfrm>
            <a:off x="4716360" y="350028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1"/>
          <p:cNvSpPr/>
          <p:nvPr/>
        </p:nvSpPr>
        <p:spPr>
          <a:xfrm>
            <a:off x="1647720" y="81900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卖火柴的小女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2"/>
          <p:cNvSpPr/>
          <p:nvPr/>
        </p:nvSpPr>
        <p:spPr>
          <a:xfrm>
            <a:off x="5707800" y="72072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的女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"/>
          <p:cNvSpPr/>
          <p:nvPr/>
        </p:nvSpPr>
        <p:spPr>
          <a:xfrm>
            <a:off x="1942560" y="599904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丑小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5784120" y="599760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拇指姑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7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43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图片 9219" descr="安徒生"/>
          <p:cNvPicPr/>
          <p:nvPr/>
        </p:nvPicPr>
        <p:blipFill>
          <a:blip r:embed="rId1"/>
          <a:stretch/>
        </p:blipFill>
        <p:spPr>
          <a:xfrm>
            <a:off x="563400" y="2135160"/>
            <a:ext cx="2227320" cy="337500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1"/>
          <p:cNvSpPr/>
          <p:nvPr/>
        </p:nvSpPr>
        <p:spPr>
          <a:xfrm>
            <a:off x="3065400" y="1238400"/>
            <a:ext cx="592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5—18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全名是：汉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利斯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丹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学巨匠，世界著名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童话作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余篇童话在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中被翻译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写童话，著名的童话有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丑小鸭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海的女儿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卖火柴的小女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夜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皇帝的新装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1265"/>
          <p:cNvSpPr/>
          <p:nvPr/>
        </p:nvSpPr>
        <p:spPr>
          <a:xfrm>
            <a:off x="676440" y="22986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童话是儿童文学的一种，它通过丰富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象、幻想、夸张、拟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艺术手法来塑造形象，反映社会生活，对儿童进行思想教育。语言通俗易懂，情节曲折离奇，引人入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11266" descr="a2"/>
          <p:cNvPicPr/>
          <p:nvPr/>
        </p:nvPicPr>
        <p:blipFill>
          <a:blip r:embed="rId1"/>
          <a:stretch/>
        </p:blipFill>
        <p:spPr>
          <a:xfrm>
            <a:off x="5940360" y="1971720"/>
            <a:ext cx="2764080" cy="3562200"/>
          </a:xfrm>
          <a:prstGeom prst="rect">
            <a:avLst/>
          </a:prstGeom>
          <a:ln w="0">
            <a:noFill/>
          </a:ln>
        </p:spPr>
      </p:pic>
      <p:sp>
        <p:nvSpPr>
          <p:cNvPr id="654" name="矩形 11267"/>
          <p:cNvSpPr txBox="1"/>
          <p:nvPr/>
        </p:nvSpPr>
        <p:spPr>
          <a:xfrm>
            <a:off x="1676520" y="1135080"/>
            <a:ext cx="1962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童话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16387"/>
          <p:cNvGrpSpPr/>
          <p:nvPr/>
        </p:nvGrpSpPr>
        <p:grpSpPr>
          <a:xfrm>
            <a:off x="969840" y="839880"/>
            <a:ext cx="5905440" cy="459720"/>
            <a:chOff x="969840" y="839880"/>
            <a:chExt cx="5905440" cy="459720"/>
          </a:xfrm>
        </p:grpSpPr>
        <p:sp>
          <p:nvSpPr>
            <p:cNvPr id="657" name="文本框 16388">
              <a:hlinkClick r:id="rId1" action="ppaction://hlinksldjump"/>
            </p:cNvPr>
            <p:cNvSpPr/>
            <p:nvPr/>
          </p:nvSpPr>
          <p:spPr>
            <a:xfrm>
              <a:off x="969840" y="8398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爱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16389"/>
            <p:cNvSpPr/>
            <p:nvPr/>
          </p:nvSpPr>
          <p:spPr>
            <a:xfrm>
              <a:off x="4425840" y="83988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一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6390"/>
            <p:cNvSpPr/>
            <p:nvPr/>
          </p:nvSpPr>
          <p:spPr>
            <a:xfrm>
              <a:off x="2871000" y="8398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引子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16391"/>
          <p:cNvGrpSpPr/>
          <p:nvPr/>
        </p:nvGrpSpPr>
        <p:grpSpPr>
          <a:xfrm>
            <a:off x="969840" y="1703520"/>
            <a:ext cx="5682600" cy="459720"/>
            <a:chOff x="969840" y="1703520"/>
            <a:chExt cx="5682600" cy="459720"/>
          </a:xfrm>
        </p:grpSpPr>
        <p:sp>
          <p:nvSpPr>
            <p:cNvPr id="661" name="文本框 16392">
              <a:hlinkClick r:id="rId2" action="ppaction://hlinksldjump"/>
            </p:cNvPr>
            <p:cNvSpPr/>
            <p:nvPr/>
          </p:nvSpPr>
          <p:spPr>
            <a:xfrm>
              <a:off x="969840" y="1703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做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16393"/>
            <p:cNvSpPr/>
            <p:nvPr/>
          </p:nvSpPr>
          <p:spPr>
            <a:xfrm>
              <a:off x="4703760" y="170352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第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四段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16394"/>
            <p:cNvSpPr/>
            <p:nvPr/>
          </p:nvSpPr>
          <p:spPr>
            <a:xfrm>
              <a:off x="2799360" y="170352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开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16395"/>
          <p:cNvGrpSpPr/>
          <p:nvPr/>
        </p:nvGrpSpPr>
        <p:grpSpPr>
          <a:xfrm>
            <a:off x="969840" y="2568600"/>
            <a:ext cx="6229440" cy="459720"/>
            <a:chOff x="969840" y="2568600"/>
            <a:chExt cx="6229440" cy="459720"/>
          </a:xfrm>
        </p:grpSpPr>
        <p:sp>
          <p:nvSpPr>
            <p:cNvPr id="665" name="文本框 16396"/>
            <p:cNvSpPr/>
            <p:nvPr/>
          </p:nvSpPr>
          <p:spPr>
            <a:xfrm>
              <a:off x="969840" y="25686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看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16397"/>
            <p:cNvSpPr/>
            <p:nvPr/>
          </p:nvSpPr>
          <p:spPr>
            <a:xfrm>
              <a:off x="4897080" y="256860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五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二十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16398"/>
            <p:cNvSpPr/>
            <p:nvPr/>
          </p:nvSpPr>
          <p:spPr>
            <a:xfrm>
              <a:off x="2871000" y="256860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发展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6399"/>
          <p:cNvGrpSpPr/>
          <p:nvPr/>
        </p:nvGrpSpPr>
        <p:grpSpPr>
          <a:xfrm>
            <a:off x="993600" y="3255840"/>
            <a:ext cx="7619760" cy="478800"/>
            <a:chOff x="993600" y="3255840"/>
            <a:chExt cx="7619760" cy="478800"/>
          </a:xfrm>
        </p:grpSpPr>
        <p:sp>
          <p:nvSpPr>
            <p:cNvPr id="669" name="文本框 16400"/>
            <p:cNvSpPr/>
            <p:nvPr/>
          </p:nvSpPr>
          <p:spPr>
            <a:xfrm>
              <a:off x="993600" y="3274920"/>
              <a:ext cx="24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穿新装展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16401"/>
            <p:cNvSpPr/>
            <p:nvPr/>
          </p:nvSpPr>
          <p:spPr>
            <a:xfrm>
              <a:off x="3948840" y="3274920"/>
              <a:ext cx="46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二十三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结尾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16402"/>
            <p:cNvSpPr/>
            <p:nvPr/>
          </p:nvSpPr>
          <p:spPr>
            <a:xfrm>
              <a:off x="3066840" y="325584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高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2" name="图片 1" descr="图片1"/>
          <p:cNvPicPr/>
          <p:nvPr/>
        </p:nvPicPr>
        <p:blipFill>
          <a:blip r:embed="rId3"/>
          <a:stretch/>
        </p:blipFill>
        <p:spPr>
          <a:xfrm>
            <a:off x="3451320" y="3914640"/>
            <a:ext cx="2438280" cy="231948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7409" descr="e"/>
          <p:cNvPicPr/>
          <p:nvPr/>
        </p:nvPicPr>
        <p:blipFill>
          <a:blip r:embed="rId1"/>
          <a:srcRect l="48817" t="42311" r="3855" b="19231"/>
          <a:stretch/>
        </p:blipFill>
        <p:spPr>
          <a:xfrm>
            <a:off x="3809880" y="76212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17410"/>
          <p:cNvSpPr/>
          <p:nvPr/>
        </p:nvSpPr>
        <p:spPr>
          <a:xfrm>
            <a:off x="3962520" y="214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138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 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17411"/>
          <p:cNvSpPr/>
          <p:nvPr/>
        </p:nvSpPr>
        <p:spPr>
          <a:xfrm>
            <a:off x="6645240" y="311148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骗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17412"/>
          <p:cNvSpPr/>
          <p:nvPr/>
        </p:nvSpPr>
        <p:spPr>
          <a:xfrm>
            <a:off x="426708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接连接符 17413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7414"/>
          <p:cNvSpPr/>
          <p:nvPr/>
        </p:nvSpPr>
        <p:spPr>
          <a:xfrm flipH="1">
            <a:off x="5028840" y="3200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7415"/>
          <p:cNvSpPr/>
          <p:nvPr/>
        </p:nvSpPr>
        <p:spPr>
          <a:xfrm flipH="1" flipV="1">
            <a:off x="4876920" y="4038120"/>
            <a:ext cx="1295280" cy="129564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7416"/>
          <p:cNvSpPr/>
          <p:nvPr/>
        </p:nvSpPr>
        <p:spPr>
          <a:xfrm flipV="1">
            <a:off x="3429000" y="39621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7417"/>
          <p:cNvSpPr/>
          <p:nvPr/>
        </p:nvSpPr>
        <p:spPr>
          <a:xfrm>
            <a:off x="2895480" y="32004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7418"/>
          <p:cNvSpPr/>
          <p:nvPr/>
        </p:nvSpPr>
        <p:spPr>
          <a:xfrm>
            <a:off x="7426080" y="5105520"/>
            <a:ext cx="10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小 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7419"/>
          <p:cNvSpPr/>
          <p:nvPr/>
        </p:nvSpPr>
        <p:spPr>
          <a:xfrm>
            <a:off x="51814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7420"/>
          <p:cNvSpPr/>
          <p:nvPr/>
        </p:nvSpPr>
        <p:spPr>
          <a:xfrm>
            <a:off x="4038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7421"/>
          <p:cNvSpPr/>
          <p:nvPr/>
        </p:nvSpPr>
        <p:spPr>
          <a:xfrm>
            <a:off x="32004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7422"/>
          <p:cNvSpPr/>
          <p:nvPr/>
        </p:nvSpPr>
        <p:spPr>
          <a:xfrm>
            <a:off x="3657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17423"/>
          <p:cNvSpPr/>
          <p:nvPr/>
        </p:nvSpPr>
        <p:spPr>
          <a:xfrm>
            <a:off x="5105520" y="4191120"/>
            <a:ext cx="761760" cy="76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17426"/>
          <p:cNvGrpSpPr/>
          <p:nvPr/>
        </p:nvGrpSpPr>
        <p:grpSpPr>
          <a:xfrm>
            <a:off x="1828800" y="1676520"/>
            <a:ext cx="1174680" cy="2108880"/>
            <a:chOff x="1828800" y="1676520"/>
            <a:chExt cx="1174680" cy="2108880"/>
          </a:xfrm>
        </p:grpSpPr>
        <p:pic>
          <p:nvPicPr>
            <p:cNvPr id="690" name="图片 17427" descr=""/>
            <p:cNvPicPr/>
            <p:nvPr/>
          </p:nvPicPr>
          <p:blipFill>
            <a:blip r:embed="rId2"/>
            <a:stretch/>
          </p:blipFill>
          <p:spPr>
            <a:xfrm>
              <a:off x="1828800" y="1676520"/>
              <a:ext cx="117468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矩形 17428"/>
            <p:cNvSpPr/>
            <p:nvPr/>
          </p:nvSpPr>
          <p:spPr>
            <a:xfrm>
              <a:off x="2172600" y="3386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429"/>
          <p:cNvGrpSpPr/>
          <p:nvPr/>
        </p:nvGrpSpPr>
        <p:grpSpPr>
          <a:xfrm>
            <a:off x="1828800" y="4114800"/>
            <a:ext cx="1599840" cy="2065320"/>
            <a:chOff x="1828800" y="4114800"/>
            <a:chExt cx="1599840" cy="2065320"/>
          </a:xfrm>
        </p:grpSpPr>
        <p:graphicFrame>
          <p:nvGraphicFramePr>
            <p:cNvPr id="693" name="对象 17430"/>
            <p:cNvGraphicFramePr/>
            <p:nvPr/>
          </p:nvGraphicFramePr>
          <p:xfrm>
            <a:off x="1828800" y="4114800"/>
            <a:ext cx="1421640" cy="14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对象 174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114800"/>
                      <a:ext cx="142164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文本框 17431"/>
            <p:cNvSpPr/>
            <p:nvPr/>
          </p:nvSpPr>
          <p:spPr>
            <a:xfrm>
              <a:off x="2205000" y="578124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7432" descr="b"/>
          <p:cNvPicPr/>
          <p:nvPr/>
        </p:nvPicPr>
        <p:blipFill>
          <a:blip r:embed="rId5"/>
          <a:srcRect l="3296" t="35337" r="24227" b="0"/>
          <a:stretch/>
        </p:blipFill>
        <p:spPr>
          <a:xfrm>
            <a:off x="6400800" y="426708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7433" descr="d"/>
          <p:cNvPicPr/>
          <p:nvPr/>
        </p:nvPicPr>
        <p:blipFill>
          <a:blip r:embed="rId6"/>
          <a:srcRect l="0" t="28263" r="3123" b="4349"/>
          <a:stretch/>
        </p:blipFill>
        <p:spPr>
          <a:xfrm>
            <a:off x="6302520" y="103356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