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1EA9-0658-458A-879B-80D9030A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FA9A-12AE-41C5-A99F-5712079E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4029B-02A7-4075-B55A-50ADEB15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4BF1B-69ED-439D-9B12-B05B6F2A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4A822-3677-429A-81E0-D5D3A0C8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44191-33BD-403F-8A03-46F61D61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64F38-3320-4EA4-A20A-6BB9D89A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3090F-3EC7-497F-8D4F-FEC947DF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2192D-D79F-4394-A8A8-D0C7D624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CE06C-1AD2-4530-9815-DEA58C67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7ACE0-35D9-4E10-8DA4-C8138C2B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F658C-B22F-4026-9272-56FAEBEC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E8D-21EF-4198-BFA6-8529F39E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1467D-4258-49C0-AF9A-3758C8F8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54B8C-605B-4817-905F-1DFFE7BB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984FF-BEA0-4E26-816F-2859DD77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AAF53-F98E-4C00-BEF5-7CD6A1B3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A2F6D-A3EE-4C6B-A6BE-F3D9ED47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9F600-B7A3-4D55-AE87-809EC45B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B57E6-468F-4DB6-8F51-CACC2E4E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D734F-3415-41AA-80B4-C6FB62FB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E4F43-1E5C-44ED-9608-9DEC4469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6BC1B-AEFF-4228-BFFD-A6D8D290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AB08-264B-4D1A-A469-93A65B02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5EA88-C6CF-4B47-8A3E-972EF73F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6365C-C2EE-403E-8B28-2D96454C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C6D25-C1B9-483E-9CBB-93ACAC9C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9229A-6F71-416B-A2BE-2356AEB7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67941-6B39-4BD9-977F-BF73CE38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0F16C-7A36-4D92-9731-2CEF512D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98495-EABF-4E16-8FB6-1A4E9429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D10FF-6D3B-4BE0-8C8C-09D1CF54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D980A-E06E-437A-81DD-FE47C522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61C02-38FC-4036-9A05-81F8F6BC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90BD-E181-4AE9-8673-39ADA7D4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EC855-5BCC-4639-9353-2971AE44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76E72-E8FD-4C6C-85CF-C4BDA04F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7BBAA-EDB5-4C54-BAE4-4CEA1046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45218-E0CE-4CB7-B8A8-E799EF33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6ADDB-6043-4C6A-952B-8DB70B4D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74B03-4954-4F2C-8FD6-2AF15242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F7161-7F6C-4D53-A708-AF11717E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59B6B-4F47-423D-8824-1704CA0C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7A7D8-3551-4C20-AE63-121E55FF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97AA4-B0D9-4D95-BA84-D28F2D91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E26F-C9F6-4274-905D-59A263BB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49503-F047-4EC4-8A1F-76743640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96CE3-7F2B-4301-8231-8443F865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1F384-B08A-499F-822D-7994FC9B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CEAFB-D67C-4EE6-A1CB-D7099ACE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E37B9-5835-4EC2-AC40-8A7B560E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5BC0F6-E602-4BA5-86E5-FBF56D00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78996-5147-4642-BD32-0FC8A21F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604D17-BF50-4E19-84CC-787570BC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645A92-5FA6-4C6A-A0CF-C005D21B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2F4F04-CFB3-4328-BE4F-C79DF9C4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8693-CDBD-4FA9-81F5-1214A663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91CEEB-F633-4ECC-A5A1-34165F5F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4AB5A6-D246-4A79-82C3-7A519C1C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183100-A2A2-490A-9803-EC1FFBB6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09331F-D6D3-430F-BD84-FA09BCE7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C6BEAA-9DB4-4DA1-882E-10ABC489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6F656-7234-4D31-803F-D66923C3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9B7EF0-8394-4CDF-835A-7B53B8AC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06EC26-0375-403F-B3BC-A3813B11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EA152C-3BB3-4E52-95D1-5000BBE6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FE9CCB-2443-489A-B15B-7183FFB3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D474-B674-4610-ADD3-9F70D979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170C48-5F65-4C38-8925-220E3DFB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D49E67-2251-45B3-AE42-8B9D404C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D41C50-B636-4C3E-A3DE-F7A7516A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2CB938-C1A0-4A98-AB50-E512785C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B5C712-F5C7-4B2A-811D-C8DA47CA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111037-F374-4210-B5A1-E062E385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FEA0DD-F839-4828-B014-E0981B27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B25964-90AA-4A17-9378-29304AC2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7DACB9-6E52-4ECF-A098-588921FA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B092E7-823C-444F-B21F-B1CC3C40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254F-27D0-41FC-8F01-B325F731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EFC54B-B8F2-4658-AF1B-85C50BB6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1EC733-D7E7-4421-BE5B-EFFAEFAC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76EBAC-CEEA-47A5-90EF-C3B85D3C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C01536-37E1-43F3-B4D5-76EB2734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6BDE98-2FEB-4D03-9BCC-BD02B6EF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C4898B-7F8F-4977-A142-5A37E462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EED554-817C-423F-B0AD-0DFB078B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34FFEA-2911-4157-9EF0-3260CD0A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74F863-607F-416D-9E1D-4B1A32BD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9E5236-7611-4598-BC7D-1F9093D2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FF1D-7FE9-4181-9B0A-D10ED011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BBE104-C6E6-4476-B2DD-D90697A1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A33E-402B-4CBC-BDB7-185E379D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3FDE-C61F-4CD4-93F5-3F650664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B56E-9EE8-4897-8035-B9795587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48BF-71FC-433E-9DFA-774846D4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7195-07BD-4424-B0A6-A5E08D8A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8327-1023-4A14-89F0-7D3F6798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8146-97B9-4B1A-B9A7-21C02872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3CE90-B0A5-49FF-BEF3-A317E9C3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99964-78C7-4EF3-8245-D5BF9CBA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C24C7-7831-4F56-8E5B-6577E8E0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D197D-DC5D-476E-AFC9-9209D28C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2BFA1-9E40-4774-987F-5FD3924D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5F14-0867-4D01-82C9-07771121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67B44-AEE6-4B12-80F3-D357809B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93061-0B58-4D14-9082-282536C1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24357-2461-4B23-A06A-E5CDB4A4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31510-96F8-44BD-94E8-BA73C9AF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C5A34-3931-4B3A-A2BC-3522AD4F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8EBD5-3A14-4BB2-8EF2-B445E220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60763-1A20-4864-8CF9-E7FFD530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C255B-D4D9-432F-AD29-A979279B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ED0DF-F270-41D8-934E-07595D61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01939-ED20-4B38-B14C-8465C37D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F2E3-053F-486D-89AC-A44CFE06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7FBD6-05DF-41CA-B64B-7EC78DF7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1202B-F6E9-4227-91BC-F34C864F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88489-85F6-4588-82C1-068933D1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2E83C-F169-4C53-B8E1-43DCB0C9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727E3-191E-48A1-BB46-1162E1AB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6E7DA-4AD0-433D-8F25-CEA3587D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E3267-634D-480C-9EDD-69A4DEE3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83FE8-CA3C-42BC-9A2C-3D77BB1B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97B44-B5A8-4799-80B9-B3108CA9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B8573-FCF3-4BFC-860D-7B174062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5A1-CC75-492F-967B-A73BA923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5D60A-1849-4830-AD3E-0A3EC937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BE2E0-CF9A-4B1F-A75A-F06015B0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91A5A-05A4-49D3-8B84-AE7A5865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62C3B-09D7-4C94-B9EC-F92748CC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05C8E-C48D-439D-A0BE-DD25B22C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C5E78-CCC9-4B3A-9DE7-CBE0A9BC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547B7-FFEE-44BB-A81D-F6F3884E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B1E72-8BD6-4292-9FE0-5BCE5EBD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6CD7F-DA06-4976-92FB-4A5A0163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FF8BD-792B-4D66-9531-347610BF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9AC1-4204-4C93-A605-310ACD15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6775F-9117-4BBE-8C16-7610F18F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E4CB4-674D-4A6F-93D7-969CE03A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07CB0-D952-4E03-9881-8E67A901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E69F5-1403-4697-A2DF-0B80F661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8EA13-8B3A-416A-B9C3-1C37163F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092E5-838A-4BD3-A7D8-E8194183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15BF1-652D-4FC9-9D19-AE7863DA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36626-94AE-4FEE-87E3-4BC76C36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7A256-079E-4A1D-99F0-AF81C920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FAA22-66FE-4A7A-9DC3-24ECAB5A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8AF4-3278-4540-8C96-071CE764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765C4-781A-4180-906B-202339A4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A99E7-699A-4613-8C3B-6B4E83DB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EDC10-6375-400C-A2E4-D70EE701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A362C-A82A-4749-8F47-B01C9751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A7438-04E8-4AB9-ABA5-8B86CD9D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A3593-A85D-402D-A703-4C788FBD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BDFE7-B37B-40CC-BB7B-27A61D79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5B60C-6379-4CF6-87D9-E2B78942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E2C42-CB0C-4BDC-AF6C-D6A95D4B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13D90-0CEB-4861-8085-22CFAA5A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512E-FE97-4119-B4CF-26D9CBB4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42345-0B82-49C9-AF37-34CB9FED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0C26D-7308-445F-A8A2-CB7C1FC3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C81CC-4ECC-41B2-92D5-0053544E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BC7E6-9233-48BE-86C4-87F33201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9A9E9-A708-419F-9E5C-BC70F961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2D410-0DE0-48AB-8CDC-9A9F329A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B9DB7-F21D-48A1-99B9-C1FE49FD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20EB2-625E-43E8-BBCE-C1EF2E00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4C017-FEE6-457A-9882-A42B26A4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49F83-F0D3-487C-82FB-512AD3EF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4AD2-9DB9-46B8-B080-64386602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A9DD8-2541-499B-A36C-036CEB03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4EE33-7CA6-4E55-BDCC-582A04FD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3ED4A-F191-47A9-923D-C213B1EF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BE8BC-F4DF-4C59-85A8-F44B04D9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6D28F-8E92-441D-ADDD-646632FD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87D6E-C229-4EE7-B225-296F35BE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733D1-D49A-412E-9627-A61DBA5C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0783D-112A-47E6-87DA-ACF8FE89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79945-AC47-49E8-B888-DE97C8D8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779F3-1EAC-4AE6-BC0B-70203C4A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9898-7224-46F6-AC2D-9B76EBF0ED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6E26-AF8C-4EF2-AEEF-516130A0DB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E72A-02EC-419E-91F2-B4C42B9E51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CCA8-009B-4090-A27A-8BC9D082B2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60E8-8B33-4C2C-A21E-53FE13D301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E03A-F6B2-4756-B117-09408EC035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AC2F-17A2-439F-B508-70E4F53C30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AE18-D5F0-4FE4-9636-897F75ED63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1819-355A-4762-8D9B-F8E282F21E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51DF-ADD4-4BA4-87A3-F97E57E740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852E-9DE8-4661-B733-C05A42D94F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CE6B-BCA6-40AA-8E04-E19B58E7E6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6F5E-0261-4F58-8808-203FD4EB9E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BC32-91FD-45C7-AD18-93D669A812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163C-740D-410F-9004-18644C5423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MH_SubTitle_1">
            <a:hlinkClick r:id="rId1" action="ppaction://hlinksldjump"/>
          </p:cNvPr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MH_SubTitle_2">
            <a:hlinkClick r:id="rId2" action="ppaction://hlinksldjump"/>
          </p:cNvPr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MH_SubTitle_3">
            <a:hlinkClick r:id="rId3" action="ppaction://hlinksldjump"/>
          </p:cNvPr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MH_SubTitle_4">
            <a:hlinkClick r:id="rId4" action="ppaction://hlinksldjump"/>
          </p:cNvPr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当堂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603" name="MH_Other_7" descr=""/>
            <p:cNvPicPr/>
            <p:nvPr/>
          </p:nvPicPr>
          <p:blipFill>
            <a:blip r:embed="rId5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07" name="MH_Other_9" descr=""/>
            <p:cNvPicPr/>
            <p:nvPr/>
          </p:nvPicPr>
          <p:blipFill>
            <a:blip r:embed="rId7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8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MH_Other_11" descr=""/>
          <p:cNvPicPr/>
          <p:nvPr/>
        </p:nvPicPr>
        <p:blipFill>
          <a:blip r:embed="rId9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10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3"/>
          <p:cNvSpPr/>
          <p:nvPr/>
        </p:nvSpPr>
        <p:spPr>
          <a:xfrm>
            <a:off x="5364000" y="62064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七年级语文上（</a:t>
            </a:r>
            <a:r>
              <a:rPr b="1" lang="en-US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4130"/>
          <p:cNvSpPr/>
          <p:nvPr/>
        </p:nvSpPr>
        <p:spPr>
          <a:xfrm>
            <a:off x="393840" y="2276640"/>
            <a:ext cx="78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23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女娲造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3" descr="10"/>
          <p:cNvPicPr/>
          <p:nvPr/>
        </p:nvPicPr>
        <p:blipFill>
          <a:blip r:embed="rId1"/>
          <a:stretch/>
        </p:blipFill>
        <p:spPr>
          <a:xfrm>
            <a:off x="666720" y="612720"/>
            <a:ext cx="4613400" cy="25084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7"/>
          <p:cNvPicPr/>
          <p:nvPr/>
        </p:nvPicPr>
        <p:blipFill>
          <a:blip r:embed="rId2"/>
          <a:stretch/>
        </p:blipFill>
        <p:spPr>
          <a:xfrm>
            <a:off x="1469880" y="3413160"/>
            <a:ext cx="2054520" cy="296856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5" descr="8"/>
          <p:cNvPicPr/>
          <p:nvPr/>
        </p:nvPicPr>
        <p:blipFill>
          <a:blip r:embed="rId3"/>
          <a:stretch/>
        </p:blipFill>
        <p:spPr>
          <a:xfrm>
            <a:off x="5735520" y="1295280"/>
            <a:ext cx="3097440" cy="18892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6" descr="9"/>
          <p:cNvPicPr/>
          <p:nvPr/>
        </p:nvPicPr>
        <p:blipFill>
          <a:blip r:embed="rId4"/>
          <a:stretch/>
        </p:blipFill>
        <p:spPr>
          <a:xfrm>
            <a:off x="4883040" y="3505320"/>
            <a:ext cx="2613240" cy="242568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8"/>
          <p:cNvSpPr/>
          <p:nvPr/>
        </p:nvSpPr>
        <p:spPr>
          <a:xfrm>
            <a:off x="259092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9"/>
          <p:cNvSpPr/>
          <p:nvPr/>
        </p:nvSpPr>
        <p:spPr>
          <a:xfrm>
            <a:off x="3046320" y="59529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8334360" y="268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1"/>
          <p:cNvSpPr/>
          <p:nvPr/>
        </p:nvSpPr>
        <p:spPr>
          <a:xfrm>
            <a:off x="6248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2"/>
          <p:cNvSpPr/>
          <p:nvPr/>
        </p:nvSpPr>
        <p:spPr>
          <a:xfrm>
            <a:off x="4667400" y="5911920"/>
            <a:ext cx="44766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根据图片，展开想象，讲述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当堂检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3"/>
          <p:cNvGrpSpPr/>
          <p:nvPr/>
        </p:nvGrpSpPr>
        <p:grpSpPr>
          <a:xfrm>
            <a:off x="684360" y="909720"/>
            <a:ext cx="1714320" cy="499680"/>
            <a:chOff x="684360" y="909720"/>
            <a:chExt cx="1714320" cy="499680"/>
          </a:xfrm>
        </p:grpSpPr>
        <p:sp>
          <p:nvSpPr>
            <p:cNvPr id="618" name="流程图: 文档 2"/>
            <p:cNvSpPr/>
            <p:nvPr/>
          </p:nvSpPr>
          <p:spPr>
            <a:xfrm>
              <a:off x="684360" y="95580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文本框 4101"/>
            <p:cNvSpPr/>
            <p:nvPr/>
          </p:nvSpPr>
          <p:spPr>
            <a:xfrm>
              <a:off x="684360" y="90972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学习目标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文本框 1"/>
          <p:cNvSpPr/>
          <p:nvPr/>
        </p:nvSpPr>
        <p:spPr>
          <a:xfrm>
            <a:off x="4018680" y="176220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比较阅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整体感知故事情节，初步感受想象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3"/>
          <p:cNvSpPr/>
          <p:nvPr/>
        </p:nvSpPr>
        <p:spPr>
          <a:xfrm>
            <a:off x="2635560" y="257508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探究阅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体会神话故事的魅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4"/>
          <p:cNvSpPr/>
          <p:nvPr/>
        </p:nvSpPr>
        <p:spPr>
          <a:xfrm>
            <a:off x="3120120" y="341640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e91303"/>
                </a:solidFill>
                <a:latin typeface="Times New Roman"/>
              </a:rPr>
              <a:t>拓展阅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试运用创造性想象扩写神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预习课文    相关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组合 6147"/>
          <p:cNvGrpSpPr/>
          <p:nvPr/>
        </p:nvGrpSpPr>
        <p:grpSpPr>
          <a:xfrm>
            <a:off x="325440" y="334800"/>
            <a:ext cx="2232000" cy="794880"/>
            <a:chOff x="325440" y="334800"/>
            <a:chExt cx="2232000" cy="794880"/>
          </a:xfrm>
        </p:grpSpPr>
        <p:sp>
          <p:nvSpPr>
            <p:cNvPr id="630" name="矩形 7"/>
            <p:cNvSpPr/>
            <p:nvPr/>
          </p:nvSpPr>
          <p:spPr>
            <a:xfrm>
              <a:off x="885240" y="334800"/>
              <a:ext cx="1672200" cy="762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任意多边形 16"/>
            <p:cNvSpPr/>
            <p:nvPr/>
          </p:nvSpPr>
          <p:spPr>
            <a:xfrm>
              <a:off x="325440" y="62316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矩形 17"/>
            <p:cNvSpPr/>
            <p:nvPr/>
          </p:nvSpPr>
          <p:spPr>
            <a:xfrm>
              <a:off x="687240" y="57240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文本框 6151"/>
            <p:cNvSpPr/>
            <p:nvPr/>
          </p:nvSpPr>
          <p:spPr>
            <a:xfrm>
              <a:off x="1168560" y="609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检查预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组合 3"/>
          <p:cNvGrpSpPr/>
          <p:nvPr/>
        </p:nvGrpSpPr>
        <p:grpSpPr>
          <a:xfrm>
            <a:off x="684360" y="1268280"/>
            <a:ext cx="1714320" cy="499680"/>
            <a:chOff x="684360" y="1268280"/>
            <a:chExt cx="1714320" cy="499680"/>
          </a:xfrm>
        </p:grpSpPr>
        <p:sp>
          <p:nvSpPr>
            <p:cNvPr id="636" name="流程图: 文档 2"/>
            <p:cNvSpPr/>
            <p:nvPr/>
          </p:nvSpPr>
          <p:spPr>
            <a:xfrm>
              <a:off x="684360" y="131436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文本框 4101"/>
            <p:cNvSpPr/>
            <p:nvPr/>
          </p:nvSpPr>
          <p:spPr>
            <a:xfrm>
              <a:off x="684360" y="126828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走近作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8" name="图片 1" descr="5882b2b7d0a20cf440ab305973094b36acaf9979"/>
          <p:cNvPicPr/>
          <p:nvPr/>
        </p:nvPicPr>
        <p:blipFill>
          <a:blip r:embed="rId1"/>
          <a:stretch/>
        </p:blipFill>
        <p:spPr>
          <a:xfrm>
            <a:off x="536400" y="2324160"/>
            <a:ext cx="2868840" cy="2421000"/>
          </a:xfrm>
          <a:prstGeom prst="rect">
            <a:avLst/>
          </a:prstGeom>
          <a:ln w="0">
            <a:noFill/>
          </a:ln>
        </p:spPr>
      </p:pic>
      <p:sp>
        <p:nvSpPr>
          <p:cNvPr id="639" name="文本框 3"/>
          <p:cNvSpPr/>
          <p:nvPr/>
        </p:nvSpPr>
        <p:spPr>
          <a:xfrm>
            <a:off x="3498840" y="1219320"/>
            <a:ext cx="54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袁珂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），四川新都人，神话学家。本名袁圣时，笔名丙生、高标、袁展等。著有《中国古代神话》、《中国神话传说》、《古神话选释》、《神话论文集》、《袁珂神话论集》、《中国神话百题》、《神话故事新编》、《中华文化集粹丛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异篇》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初读课文    整体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文本框 1"/>
          <p:cNvSpPr/>
          <p:nvPr/>
        </p:nvSpPr>
        <p:spPr>
          <a:xfrm>
            <a:off x="2180880" y="1422360"/>
            <a:ext cx="37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女娲为什么要造人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娲是怎样造人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3"/>
          <p:cNvGrpSpPr/>
          <p:nvPr/>
        </p:nvGrpSpPr>
        <p:grpSpPr>
          <a:xfrm>
            <a:off x="1754280" y="2598840"/>
            <a:ext cx="3036240" cy="2573280"/>
            <a:chOff x="1754280" y="2598840"/>
            <a:chExt cx="3036240" cy="2573280"/>
          </a:xfrm>
        </p:grpSpPr>
        <p:sp>
          <p:nvSpPr>
            <p:cNvPr id="647" name="Text Box 4"/>
            <p:cNvSpPr/>
            <p:nvPr/>
          </p:nvSpPr>
          <p:spPr>
            <a:xfrm>
              <a:off x="1754280" y="3730680"/>
              <a:ext cx="182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女娲造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5"/>
            <p:cNvSpPr/>
            <p:nvPr/>
          </p:nvSpPr>
          <p:spPr>
            <a:xfrm>
              <a:off x="3627360" y="2867040"/>
              <a:ext cx="144360" cy="23050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59760 h 2305080"/>
                <a:gd name="textAreaBottom" fmla="*/ 2245320 h 23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182"/>
                  </a:lnTo>
                  <a:cubicBezTo>
                    <a:pt x="10800" y="10081"/>
                    <a:pt x="5400" y="10979"/>
                    <a:pt x="0" y="10979"/>
                  </a:cubicBezTo>
                  <a:cubicBezTo>
                    <a:pt x="5400" y="10979"/>
                    <a:pt x="10800" y="11878"/>
                    <a:pt x="10800" y="12776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6"/>
            <p:cNvSpPr/>
            <p:nvPr/>
          </p:nvSpPr>
          <p:spPr>
            <a:xfrm>
              <a:off x="3988080" y="259884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原因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7"/>
          <p:cNvSpPr/>
          <p:nvPr/>
        </p:nvSpPr>
        <p:spPr>
          <a:xfrm>
            <a:off x="5366520" y="2598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到孤独荒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8"/>
          <p:cNvGrpSpPr/>
          <p:nvPr/>
        </p:nvGrpSpPr>
        <p:grpSpPr>
          <a:xfrm>
            <a:off x="3967560" y="3443400"/>
            <a:ext cx="1028160" cy="1728720"/>
            <a:chOff x="3967560" y="3443400"/>
            <a:chExt cx="1028160" cy="1728720"/>
          </a:xfrm>
        </p:grpSpPr>
        <p:sp>
          <p:nvSpPr>
            <p:cNvPr id="652" name="Text Box 9"/>
            <p:cNvSpPr/>
            <p:nvPr/>
          </p:nvSpPr>
          <p:spPr>
            <a:xfrm>
              <a:off x="3967560" y="4019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过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10"/>
            <p:cNvSpPr/>
            <p:nvPr/>
          </p:nvSpPr>
          <p:spPr>
            <a:xfrm>
              <a:off x="4780080" y="3443400"/>
              <a:ext cx="215640" cy="172872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Text Box 11"/>
          <p:cNvSpPr/>
          <p:nvPr/>
        </p:nvSpPr>
        <p:spPr>
          <a:xfrm>
            <a:off x="5509080" y="3174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揉团黄泥造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12"/>
          <p:cNvGrpSpPr/>
          <p:nvPr/>
        </p:nvGrpSpPr>
        <p:grpSpPr>
          <a:xfrm>
            <a:off x="5509080" y="3659040"/>
            <a:ext cx="1278000" cy="839160"/>
            <a:chOff x="5509080" y="3659040"/>
            <a:chExt cx="1278000" cy="839160"/>
          </a:xfrm>
        </p:grpSpPr>
        <p:sp>
          <p:nvSpPr>
            <p:cNvPr id="656" name="Text Box 13"/>
            <p:cNvSpPr/>
            <p:nvPr/>
          </p:nvSpPr>
          <p:spPr>
            <a:xfrm>
              <a:off x="550908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挥溅泥点造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14"/>
            <p:cNvSpPr/>
            <p:nvPr/>
          </p:nvSpPr>
          <p:spPr>
            <a:xfrm>
              <a:off x="6075360" y="36590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15"/>
          <p:cNvGrpSpPr/>
          <p:nvPr/>
        </p:nvGrpSpPr>
        <p:grpSpPr>
          <a:xfrm>
            <a:off x="5496480" y="4522680"/>
            <a:ext cx="1278000" cy="696240"/>
            <a:chOff x="5496480" y="4522680"/>
            <a:chExt cx="1278000" cy="696240"/>
          </a:xfrm>
        </p:grpSpPr>
        <p:sp>
          <p:nvSpPr>
            <p:cNvPr id="659" name="Text Box 16"/>
            <p:cNvSpPr/>
            <p:nvPr/>
          </p:nvSpPr>
          <p:spPr>
            <a:xfrm>
              <a:off x="5496480" y="47592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男女婚配造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6075360" y="45226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4"/>
          <p:cNvSpPr/>
          <p:nvPr/>
        </p:nvSpPr>
        <p:spPr>
          <a:xfrm>
            <a:off x="538200" y="716040"/>
            <a:ext cx="856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故事中哪些内容体现出女娲的“神”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故事中哪些内容体现出女娲的“人”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2"/>
          <p:cNvSpPr/>
          <p:nvPr/>
        </p:nvSpPr>
        <p:spPr>
          <a:xfrm>
            <a:off x="825480" y="1986120"/>
            <a:ext cx="34671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天变化七十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揉黄泥造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挥洒泥浆造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826920" y="4362480"/>
            <a:ext cx="34671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寂寞孤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自豪欣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忙碌疲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4"/>
          <p:cNvSpPr/>
          <p:nvPr/>
        </p:nvSpPr>
        <p:spPr>
          <a:xfrm>
            <a:off x="3851280" y="4506840"/>
            <a:ext cx="289080" cy="1727280"/>
          </a:xfrm>
          <a:custGeom>
            <a:avLst/>
            <a:gdLst>
              <a:gd name="textAreaLeft" fmla="*/ 0 w 289080"/>
              <a:gd name="textAreaRight" fmla="*/ 104400 w 289080"/>
              <a:gd name="textAreaTop" fmla="*/ 44640 h 1727280"/>
              <a:gd name="textAreaBottom" fmla="*/ 168264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5"/>
          <p:cNvSpPr/>
          <p:nvPr/>
        </p:nvSpPr>
        <p:spPr>
          <a:xfrm>
            <a:off x="3851280" y="2058840"/>
            <a:ext cx="289080" cy="1727280"/>
          </a:xfrm>
          <a:custGeom>
            <a:avLst/>
            <a:gdLst>
              <a:gd name="textAreaLeft" fmla="*/ 0 w 289080"/>
              <a:gd name="textAreaRight" fmla="*/ 104400 w 289080"/>
              <a:gd name="textAreaTop" fmla="*/ 44640 h 1727280"/>
              <a:gd name="textAreaBottom" fmla="*/ 168264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4356000" y="22035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神”的非凡能力和神奇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7"/>
          <p:cNvSpPr/>
          <p:nvPr/>
        </p:nvSpPr>
        <p:spPr>
          <a:xfrm>
            <a:off x="4427640" y="46512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人”的心理、情感、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8"/>
          <p:cNvSpPr/>
          <p:nvPr/>
        </p:nvSpPr>
        <p:spPr>
          <a:xfrm>
            <a:off x="6732720" y="2058840"/>
            <a:ext cx="216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想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大胆奇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9"/>
          <p:cNvSpPr/>
          <p:nvPr/>
        </p:nvSpPr>
        <p:spPr>
          <a:xfrm>
            <a:off x="6732720" y="4506840"/>
            <a:ext cx="241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想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真实合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文本框 105"/>
          <p:cNvSpPr/>
          <p:nvPr/>
        </p:nvSpPr>
        <p:spPr>
          <a:xfrm>
            <a:off x="617400" y="955800"/>
            <a:ext cx="81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女娲造人的具体过程是真的吗？你怎样理解这种写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文本框 1"/>
          <p:cNvSpPr/>
          <p:nvPr/>
        </p:nvSpPr>
        <p:spPr>
          <a:xfrm>
            <a:off x="836640" y="1765440"/>
            <a:ext cx="773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女蜗造人的情节显然是想象的，神话是在科学水平不发达的远古时代产生的，那时的人们无法对人的诞生做出科学的准确的解释。但是，人类又想要探求自身起源，所以，只好借助于想象来解决这个问题了，而这种大胆而奇特的想象恰恰就是神话故事中的亮点。试想，没有了这种想象，还有神话故事的存在吗？这种想象体现了远古时代人们强烈的探求欲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3"/>
          <p:cNvSpPr/>
          <p:nvPr/>
        </p:nvSpPr>
        <p:spPr>
          <a:xfrm>
            <a:off x="609480" y="10494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记述了女娲造人的全过程，表现了原始人类对人类起源的好奇和追索，以及在当时社会条件下，所做出的丰富想象，表达了作者对生命诞生的喜悦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图片 1" descr="1439561912"/>
          <p:cNvPicPr/>
          <p:nvPr/>
        </p:nvPicPr>
        <p:blipFill>
          <a:blip r:embed="rId1"/>
          <a:stretch/>
        </p:blipFill>
        <p:spPr>
          <a:xfrm>
            <a:off x="2300400" y="2727360"/>
            <a:ext cx="5048280" cy="3333600"/>
          </a:xfrm>
          <a:prstGeom prst="rect">
            <a:avLst/>
          </a:prstGeom>
          <a:ln w="0">
            <a:noFill/>
          </a:ln>
        </p:spPr>
      </p:pic>
      <p:sp>
        <p:nvSpPr>
          <p:cNvPr id="67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语文备课大师【全免费】</dc:creator>
  <dc:description>语文备课大师【全免费】</dc:description>
  <cp:keywords/>
  <dc:language>en-US</dc:language>
  <cp:lastModifiedBy>xuhuachang</cp:lastModifiedBy>
  <dcterms:modified xsi:type="dcterms:W3CDTF">2017-09-16T18:21:24Z</dcterms:modified>
  <cp:revision>0</cp:revision>
  <dc:subject/>
  <dc:title>语文备课大师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