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5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25.jpeg" ContentType="image/jpeg"/>
  <Override PartName="/ppt/media/applause.wav" ContentType="audio/x-wav"/>
  <Override PartName="/ppt/media/image10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camera.wav" ContentType="audio/x-wav"/>
  <Override PartName="/ppt/media/type.wav" ContentType="audio/x-wav"/>
  <Override PartName="/ppt/media/image15.jpeg" ContentType="image/jpeg"/>
  <Override PartName="/ppt/media/image18.gif" ContentType="image/gif"/>
  <Override PartName="/ppt/media/image13.jpeg" ContentType="image/jpeg"/>
  <Override PartName="/ppt/media/image21.png" ContentType="image/png"/>
  <Override PartName="/ppt/media/image19.png" ContentType="image/png"/>
  <Override PartName="/ppt/media/image12.jpeg" ContentType="image/jpeg"/>
  <Override PartName="/ppt/media/image11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A5C1-85FD-4BAD-92FF-8100C39995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华文行楷"/>
              </a:rPr>
              <a:t>；星汉灿烂，若出其里。幸甚至哉，歌以咏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了解作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CB8-3BE3-446D-97DA-621054EB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58F-CFDD-4F0F-8C49-4202857A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058-AF38-4F9B-A94E-4BFDA6A0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8A6-00EB-4426-AEDE-EA5EAB56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876-E091-4C29-927A-097586A2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CFA-CDD4-4937-B939-4B309342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D91-5228-45F9-AB7E-F0D1F2EB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F28-0BEE-4C91-BDFD-0F600F42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A22-7D52-4E5E-B3B0-DF826E92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360-D8D6-4572-81D2-BD579658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2ED-1F63-4E7C-86CD-8D0765F0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F166-5EF5-4C34-BE36-93EE48BF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0D59-32FD-48C9-ADB6-8FB39837E3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&#12298;&#35266;&#27815;&#28023;&#12299;&#20248;&#31168;&#35829;&#35835;&#21160;&#30011;.swf" TargetMode="External"/><Relationship Id="rId4" Type="http://schemas.openxmlformats.org/officeDocument/2006/relationships/hyperlink" Target="file:///&#12298;&#35266;&#27815;&#28023;&#12299;&#20248;&#31168;&#35829;&#35835;&#21160;&#30011;.swf" TargetMode="External"/><Relationship Id="rId5" Type="http://schemas.openxmlformats.org/officeDocument/2006/relationships/hyperlink" Target="file:///&#12298;&#35266;&#27815;&#28023;&#12299;&#20248;&#31168;&#35829;&#35835;&#21160;&#30011;.swf" TargetMode="External"/><Relationship Id="rId6" Type="http://schemas.openxmlformats.org/officeDocument/2006/relationships/hyperlink" Target="file:///&#12298;&#35266;&#27815;&#28023;&#12299;&#20248;&#31168;&#35829;&#35835;&#21160;&#30011;.swf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79280" y="13381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导入 新课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是一个诗的国度。诗的历史源远流长，名家辈出，名篇佳作卷帙浩繁，在中华文明中蔚为壮观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唐诗、宋词、元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标志着我国古代文学的辉煌。那脍炙人口的绝唱，响彻千年仍生机盎然。今天让我们漫步诗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受一次美的洗礼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2"/>
          <a:stretch/>
        </p:blipFill>
        <p:spPr>
          <a:xfrm>
            <a:off x="1041480" y="1270080"/>
            <a:ext cx="8080200" cy="494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050920" y="460044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东临碣石，以观沧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水何澹澹，山岛竦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SP00712"/>
          <p:cNvPicPr/>
          <p:nvPr/>
        </p:nvPicPr>
        <p:blipFill>
          <a:blip r:embed="rId2"/>
          <a:stretch/>
        </p:blipFill>
        <p:spPr>
          <a:xfrm>
            <a:off x="1346040" y="0"/>
            <a:ext cx="7797960" cy="5746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008080" y="1015920"/>
            <a:ext cx="51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树木丛生，百草丰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2"/>
          <a:stretch/>
        </p:blipFill>
        <p:spPr>
          <a:xfrm>
            <a:off x="1228680" y="0"/>
            <a:ext cx="7915320" cy="5816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581120" y="4808520"/>
            <a:ext cx="6981840" cy="3682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ffff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秋风萧瑟，洪波涌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2"/>
          <a:stretch/>
        </p:blipFill>
        <p:spPr>
          <a:xfrm>
            <a:off x="1249200" y="0"/>
            <a:ext cx="7894800" cy="5921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533600" y="4289400"/>
            <a:ext cx="7213680" cy="8341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日月之行，若出其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星汉灿烂，若出其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23553"/>
          <p:cNvSpPr/>
          <p:nvPr/>
        </p:nvSpPr>
        <p:spPr>
          <a:xfrm>
            <a:off x="228600" y="1066680"/>
            <a:ext cx="8763120" cy="47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东临碣石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以观沧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东行登上碣石山，来观赏苍茫的大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水何澹澹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山岛竦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海水是多么水波荡漾啊，碣石山高高地耸立在海边。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树木丛生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百草丰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碣石山上树木丛生，各种草长得很繁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秋风萧瑟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洪波涌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秋风飒飒，海上涌起巨大的波涛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3554"/>
          <p:cNvSpPr/>
          <p:nvPr/>
        </p:nvSpPr>
        <p:spPr>
          <a:xfrm>
            <a:off x="49572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诗歌翻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4577"/>
          <p:cNvSpPr/>
          <p:nvPr/>
        </p:nvSpPr>
        <p:spPr>
          <a:xfrm>
            <a:off x="101520" y="1103400"/>
            <a:ext cx="8763120" cy="27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日月之行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若出其中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;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星汉灿烂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若出其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日月的运行，灿烂的银河，好象从大海中升起；最后又落入大海之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幸甚至哉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!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歌以咏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真是庆幸极了，用歌唱来表达自己的宏伟心愿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152360" y="1628640"/>
            <a:ext cx="8136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篇点题，交待了观海的地点和目的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统领全篇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是诗的线索，以下十句写观海所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590840" y="404640"/>
            <a:ext cx="73436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东临碣石，以观沧海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26625"/>
          <p:cNvSpPr/>
          <p:nvPr/>
        </p:nvSpPr>
        <p:spPr>
          <a:xfrm>
            <a:off x="11160" y="1066680"/>
            <a:ext cx="898056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曹操“观”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哪几句是他“观”到的景象？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水何澹澹， 山岛竦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树木丛生， 百草丰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秋风萧瑟， 洪波涌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归纳：海水、海岛、海岸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27649"/>
          <p:cNvSpPr/>
          <p:nvPr/>
        </p:nvSpPr>
        <p:spPr>
          <a:xfrm>
            <a:off x="22320" y="1252440"/>
            <a:ext cx="9142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水何澹澹”和“洪波涌起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都是写海水，它们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水何澹澹：风平浪静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洪波涌起：大风大浪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28673"/>
          <p:cNvSpPr/>
          <p:nvPr/>
        </p:nvSpPr>
        <p:spPr>
          <a:xfrm>
            <a:off x="2481120" y="1219320"/>
            <a:ext cx="4143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曹操“观沧海”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什么季节？根据什么判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秋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“秋风萧瑟”可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5"/>
          <p:cNvSpPr/>
          <p:nvPr/>
        </p:nvSpPr>
        <p:spPr>
          <a:xfrm>
            <a:off x="2195640" y="888840"/>
            <a:ext cx="662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古代诗歌四首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488a74db09798a6d10df9b2e"/>
          <p:cNvPicPr/>
          <p:nvPr/>
        </p:nvPicPr>
        <p:blipFill>
          <a:blip r:embed="rId2"/>
          <a:stretch/>
        </p:blipFill>
        <p:spPr>
          <a:xfrm>
            <a:off x="1452600" y="1916280"/>
            <a:ext cx="640404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29697"/>
          <p:cNvSpPr/>
          <p:nvPr/>
        </p:nvSpPr>
        <p:spPr>
          <a:xfrm>
            <a:off x="457200" y="152280"/>
            <a:ext cx="87282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哪些诗句是诗人“观沧海”产生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联想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日月之行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若出其中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星汉灿烂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若出其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9698"/>
          <p:cNvSpPr txBox="1"/>
          <p:nvPr/>
        </p:nvSpPr>
        <p:spPr>
          <a:xfrm>
            <a:off x="1746360" y="528336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cc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气象雄伟，胸怀博大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ransition>
    <p:blinds dir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3" descr=""/>
          <p:cNvPicPr/>
          <p:nvPr/>
        </p:nvPicPr>
        <p:blipFill>
          <a:blip r:embed="rId2"/>
          <a:stretch/>
        </p:blipFill>
        <p:spPr>
          <a:xfrm>
            <a:off x="928800" y="2108160"/>
            <a:ext cx="8165880" cy="5111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1246320" y="33336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日月之行，若出其中； 星汉灿烂，若出其里。”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互文（修辞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342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124000" y="22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124000" y="465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906560" y="2637000"/>
            <a:ext cx="144360" cy="23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61560 h 2376360"/>
              <a:gd name="textAreaBottom" fmla="*/ 231480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348000" y="198900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  山岛   树木 百草         洪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348000" y="414972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日月之行 星汉灿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419640" y="522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宏伟志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2987640" y="443700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124000" y="3357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348000" y="33577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萧瑟秋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557280" y="11224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者看到、听到和想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443640" y="292428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—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句实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5580000" y="47196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—1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句虚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1745"/>
          <p:cNvSpPr/>
          <p:nvPr/>
        </p:nvSpPr>
        <p:spPr>
          <a:xfrm>
            <a:off x="2149560" y="15228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诗歌中，哪些语句是实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哪些语句是虚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746"/>
          <p:cNvSpPr/>
          <p:nvPr/>
        </p:nvSpPr>
        <p:spPr>
          <a:xfrm>
            <a:off x="228600" y="167652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实景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水何澹澹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山岛竦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树木丛生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百草丰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秋风萧瑟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洪波涌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虚景（想象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日月之行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若出其中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星汉灿烂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若出其里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403200" y="11224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首诗表达了诗人怎样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思想感情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90600" y="4362480"/>
            <a:ext cx="85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特点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景抒情，托物言志。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虚实结合，动静结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282600" y="20667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诗借景抒情，诗人以洗练的笔法，神奇的想象，描绘了大海吞吐日月，包蕴万千的壮丽景象，表现了诗人开阔的胸襟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抒发了诗人统一中国建功立业的远大抱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34817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作业：（来自历年中考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观沧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中，表现大海吞吐日月，包蕴万物壮丽景象的千古名句，也即最能表达作者博大胸襟的句子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月之行，若出其中。星汉灿烂，若出其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观沧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诗中，描写草木景色的句子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树木从生，百草丰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观沧海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诗中写大海水波动荡，山岛高耸突兀的句子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水何澹澹，山岛竦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5841"/>
          <p:cNvSpPr/>
          <p:nvPr/>
        </p:nvSpPr>
        <p:spPr>
          <a:xfrm>
            <a:off x="0" y="22860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48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4a4a48"/>
                </a:solidFill>
                <a:latin typeface="隶书"/>
                <a:ea typeface="隶书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观沧海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诗中</a:t>
            </a:r>
            <a:r>
              <a:rPr b="1" lang="zh-CN" sz="3200" spc="-1" strike="noStrike">
                <a:solidFill>
                  <a:srgbClr val="4a4a48"/>
                </a:solidFill>
                <a:latin typeface="隶书"/>
                <a:ea typeface="隶书"/>
              </a:rPr>
              <a:t>对景物作总写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水何澹澹，山岛竦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48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4a4a48"/>
                </a:solidFill>
                <a:latin typeface="隶书"/>
                <a:ea typeface="隶书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观沧海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诗中</a:t>
            </a:r>
            <a:r>
              <a:rPr b="1" lang="zh-CN" sz="3200" spc="-1" strike="noStrike">
                <a:solidFill>
                  <a:srgbClr val="4a4a48"/>
                </a:solidFill>
                <a:latin typeface="隶书"/>
                <a:ea typeface="隶书"/>
              </a:rPr>
              <a:t>详细写诗人见到的景象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树木从生，百草丰茂；秋风萧瑟，洪波涌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48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4a4a48"/>
                </a:solidFill>
                <a:latin typeface="隶书"/>
                <a:ea typeface="隶书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观沧海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诗中</a:t>
            </a:r>
            <a:r>
              <a:rPr b="1" lang="zh-CN" sz="3200" spc="-1" strike="noStrike">
                <a:solidFill>
                  <a:srgbClr val="4a4a48"/>
                </a:solidFill>
                <a:latin typeface="隶书"/>
                <a:ea typeface="隶书"/>
              </a:rPr>
              <a:t>描写诗人想象中的景象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日月之行，若出其中；星汉灿烂，若出其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a48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4a4a48"/>
                </a:solidFill>
                <a:latin typeface="隶书"/>
                <a:ea typeface="隶书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观沧海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一诗</a:t>
            </a:r>
            <a:r>
              <a:rPr b="1" lang="zh-CN" sz="3200" spc="-1" strike="noStrike">
                <a:solidFill>
                  <a:srgbClr val="4a4a48"/>
                </a:solidFill>
                <a:latin typeface="隶书"/>
                <a:ea typeface="隶书"/>
              </a:rPr>
              <a:t>的主要表达方式是描写，但是也有两句诗是叙事的，这两句诗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东临碣石，以观沧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0003"/>
          <p:cNvPicPr/>
          <p:nvPr/>
        </p:nvPicPr>
        <p:blipFill>
          <a:blip r:embed="rId2"/>
          <a:stretch/>
        </p:blipFill>
        <p:spPr>
          <a:xfrm>
            <a:off x="-49320" y="0"/>
            <a:ext cx="9193320" cy="6915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-49320" y="0"/>
            <a:ext cx="84740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闻王昌龄左迁龙标遥有此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行楷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440" y="2835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04920" y="461880"/>
            <a:ext cx="85341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闻王昌龄左迁龙标遥有此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宋体"/>
                <a:ea typeface="隶书"/>
              </a:rPr>
              <a:t>[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唐</a:t>
            </a:r>
            <a:r>
              <a:rPr b="1" lang="en-US" sz="4400" spc="-1" strike="noStrike">
                <a:solidFill>
                  <a:srgbClr val="a50021"/>
                </a:solidFill>
                <a:latin typeface="宋体"/>
                <a:ea typeface="隶书"/>
              </a:rPr>
              <a:t>]</a:t>
            </a: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李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杨花落尽子规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闻道龙标过五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我寄愁心与明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宋体"/>
                <a:ea typeface="隶书"/>
              </a:rPr>
              <a:t>随君直到夜郎西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M_015"/>
          <p:cNvPicPr/>
          <p:nvPr/>
        </p:nvPicPr>
        <p:blipFill>
          <a:blip r:embed="rId2"/>
          <a:stretch/>
        </p:blipFill>
        <p:spPr>
          <a:xfrm>
            <a:off x="2092320" y="0"/>
            <a:ext cx="7051680" cy="5289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354560" y="2504880"/>
            <a:ext cx="427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诵读背默。 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说诗句的大意，领会诗所表达的深刻的思想感情。 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、赏析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716360" y="1125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左大括号 4097"/>
          <p:cNvSpPr/>
          <p:nvPr/>
        </p:nvSpPr>
        <p:spPr>
          <a:xfrm>
            <a:off x="2627280" y="220500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098"/>
          <p:cNvSpPr/>
          <p:nvPr/>
        </p:nvSpPr>
        <p:spPr>
          <a:xfrm>
            <a:off x="2843280" y="184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律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099"/>
          <p:cNvSpPr/>
          <p:nvPr/>
        </p:nvSpPr>
        <p:spPr>
          <a:xfrm>
            <a:off x="2987640" y="4365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绝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100"/>
          <p:cNvSpPr/>
          <p:nvPr/>
        </p:nvSpPr>
        <p:spPr>
          <a:xfrm>
            <a:off x="3154320" y="181080"/>
            <a:ext cx="46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八句、十六句、排律）（首联、颔联、颈联、尾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101"/>
          <p:cNvSpPr/>
          <p:nvPr/>
        </p:nvSpPr>
        <p:spPr>
          <a:xfrm>
            <a:off x="2700360" y="4941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四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左大括号 4102"/>
          <p:cNvSpPr/>
          <p:nvPr/>
        </p:nvSpPr>
        <p:spPr>
          <a:xfrm>
            <a:off x="4140360" y="148428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103"/>
          <p:cNvSpPr/>
          <p:nvPr/>
        </p:nvSpPr>
        <p:spPr>
          <a:xfrm>
            <a:off x="4284720" y="105264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五言律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104"/>
          <p:cNvSpPr/>
          <p:nvPr/>
        </p:nvSpPr>
        <p:spPr>
          <a:xfrm>
            <a:off x="4343400" y="2133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七言律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左大括号 4105"/>
          <p:cNvSpPr/>
          <p:nvPr/>
        </p:nvSpPr>
        <p:spPr>
          <a:xfrm>
            <a:off x="4284720" y="4005360"/>
            <a:ext cx="71280" cy="151272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106"/>
          <p:cNvSpPr/>
          <p:nvPr/>
        </p:nvSpPr>
        <p:spPr>
          <a:xfrm>
            <a:off x="4427640" y="37162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五言绝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107"/>
          <p:cNvSpPr/>
          <p:nvPr/>
        </p:nvSpPr>
        <p:spPr>
          <a:xfrm>
            <a:off x="4500720" y="51577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七言绝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108"/>
          <p:cNvSpPr/>
          <p:nvPr/>
        </p:nvSpPr>
        <p:spPr>
          <a:xfrm>
            <a:off x="6516720" y="1125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每句五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109"/>
          <p:cNvSpPr/>
          <p:nvPr/>
        </p:nvSpPr>
        <p:spPr>
          <a:xfrm>
            <a:off x="6553080" y="220968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每句七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110"/>
          <p:cNvSpPr/>
          <p:nvPr/>
        </p:nvSpPr>
        <p:spPr>
          <a:xfrm>
            <a:off x="6588000" y="3789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每句五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111"/>
          <p:cNvSpPr/>
          <p:nvPr/>
        </p:nvSpPr>
        <p:spPr>
          <a:xfrm>
            <a:off x="6588000" y="5229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每句七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112"/>
          <p:cNvSpPr/>
          <p:nvPr/>
        </p:nvSpPr>
        <p:spPr>
          <a:xfrm>
            <a:off x="3960" y="12916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古代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左大括号 4113"/>
          <p:cNvSpPr/>
          <p:nvPr/>
        </p:nvSpPr>
        <p:spPr>
          <a:xfrm>
            <a:off x="762120" y="1676520"/>
            <a:ext cx="75960" cy="1981080"/>
          </a:xfrm>
          <a:custGeom>
            <a:avLst/>
            <a:gdLst>
              <a:gd name="textAreaLeft" fmla="*/ 48600 w 75960"/>
              <a:gd name="textAreaRight" fmla="*/ 76320 w 759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114"/>
          <p:cNvSpPr/>
          <p:nvPr/>
        </p:nvSpPr>
        <p:spPr>
          <a:xfrm>
            <a:off x="1220760" y="1371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古体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115"/>
          <p:cNvSpPr/>
          <p:nvPr/>
        </p:nvSpPr>
        <p:spPr>
          <a:xfrm>
            <a:off x="1220760" y="25909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近体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形成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唐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1343160" y="1265400"/>
            <a:ext cx="740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李白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代诗人，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号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莲居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诗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称，陇西成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甘肃天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。他是我国文学史上伟大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浪漫主义诗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杜甫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齐名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李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有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太白全集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6"/>
          <p:cNvSpPr txBox="1"/>
          <p:nvPr/>
        </p:nvSpPr>
        <p:spPr>
          <a:xfrm>
            <a:off x="3333600" y="477720"/>
            <a:ext cx="4550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54000" y="196920"/>
            <a:ext cx="9075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隶书"/>
              </a:rPr>
              <a:t>王昌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是盛唐诗坛上一位以写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隶书"/>
              </a:rPr>
              <a:t>边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题材为主的著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隶书"/>
              </a:rPr>
              <a:t>诗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。他特别擅长写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隶书"/>
              </a:rPr>
              <a:t>七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隶书"/>
              </a:rPr>
              <a:t>《出塞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 秦时明月汉时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万里长征人未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但使龙城飞将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不教胡马度阴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隶书"/>
              </a:rPr>
              <a:t>《从军行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 青海长云暗雪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孤城遥望玉门关。      黄沙百战穿金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不破楼兰终不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天宝初年，李白在长安供奉翰林时，与他便有密切的交往。王昌龄一生遭遇坎坷，他的性格与李白的傲岸不羁有着相似之处。据说李白从天宝三年离京漫游，到扬州时，听到王昌龄被贬龙标尉这个不幸的消息，便题诗抒怀，遥寄给远方的友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-1098720" y="2835360"/>
            <a:ext cx="91360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1428840"/>
            <a:ext cx="8305920" cy="2849400"/>
          </a:xfrm>
          <a:prstGeom prst="rect">
            <a:avLst/>
          </a:prstGeom>
          <a:noFill/>
          <a:ln w="165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龙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今湖南黔阳，唐时甚僻。诗中指王昌龄，古人常用官职或任官之地的州县名来称呼一个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左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古尊右卑左，即贬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这首诗是作者为好友王昌龄贬官而作的抒发感愤、寄以慰藉的好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9"/>
          <p:cNvSpPr txBox="1"/>
          <p:nvPr/>
        </p:nvSpPr>
        <p:spPr>
          <a:xfrm>
            <a:off x="2989440" y="549360"/>
            <a:ext cx="31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标题解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PM_029"/>
          <p:cNvPicPr/>
          <p:nvPr/>
        </p:nvPicPr>
        <p:blipFill>
          <a:blip r:embed="rId2"/>
          <a:stretch/>
        </p:blipFill>
        <p:spPr>
          <a:xfrm>
            <a:off x="1262160" y="0"/>
            <a:ext cx="7702560" cy="5892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2174760" y="1397160"/>
            <a:ext cx="54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幼圆"/>
              </a:rPr>
              <a:t>        </a:t>
            </a: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幼圆"/>
              </a:rPr>
              <a:t>根据注释，理解诗歌大意，体会诗的意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74560" y="36360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杨花落尽子规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95280" y="112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译：杨花落尽啦，子规鸟儿不住地在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24000" y="2643120"/>
            <a:ext cx="849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首句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写景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兼点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时令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于景物独取漂泊无定的杨花、叫着“不如归去”的子规，即含有飘零之感、离别之恨在内，切合当时情事，也就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融情入景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684360" y="476280"/>
            <a:ext cx="71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闻道龙标过五溪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50920" y="1197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听说你遭贬了，被贬到龙标去，一路上要经过辰溪、西溪、巫溪、武溪和沅溪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2244600"/>
            <a:ext cx="813564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便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叙其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表示惊惜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五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见迁谪之荒远，道路之艰难。以悲景衬托离情，表现出作者对好友旅途艰辛、贬所荒远的深切同情。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330200" y="333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隶书"/>
                <a:ea typeface="华文隶书"/>
              </a:rPr>
              <a:t>我寄愁心与明月，随风直到夜郎西</a:t>
            </a:r>
            <a:r>
              <a:rPr b="0" lang="zh-CN" sz="3600" spc="-1" strike="noStrike">
                <a:solidFill>
                  <a:srgbClr val="cc0000"/>
                </a:solidFill>
                <a:latin typeface="华文隶书"/>
                <a:ea typeface="华文隶书"/>
              </a:rPr>
              <a:t>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981000"/>
            <a:ext cx="89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译：让我把为你而忧愁的心托付给天上的明月吧，伴随着你一直走到那夜郎以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12760" y="238932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运用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拟人手法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月有了人性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成了诗人的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知音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将“愁心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带到了辽远的夜郎之西，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远方的朋友，诗句生动形象的表达了诗人的忧愁和无奈，以及对友人的思念、同情和关切之情。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明月千里寄相思”，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者展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丰富的想象，表现了诗人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浪漫主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风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27651"/>
          <p:cNvSpPr/>
          <p:nvPr/>
        </p:nvSpPr>
        <p:spPr>
          <a:xfrm>
            <a:off x="75564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7652"/>
          <p:cNvSpPr/>
          <p:nvPr/>
        </p:nvSpPr>
        <p:spPr>
          <a:xfrm>
            <a:off x="755640" y="2421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子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7653"/>
          <p:cNvSpPr/>
          <p:nvPr/>
        </p:nvSpPr>
        <p:spPr>
          <a:xfrm>
            <a:off x="2195640" y="17002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漂泊无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7654"/>
          <p:cNvSpPr/>
          <p:nvPr/>
        </p:nvSpPr>
        <p:spPr>
          <a:xfrm>
            <a:off x="2195640" y="249228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如归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657"/>
          <p:cNvSpPr/>
          <p:nvPr/>
        </p:nvSpPr>
        <p:spPr>
          <a:xfrm>
            <a:off x="4572000" y="1484280"/>
            <a:ext cx="86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7658"/>
          <p:cNvSpPr/>
          <p:nvPr/>
        </p:nvSpPr>
        <p:spPr>
          <a:xfrm>
            <a:off x="5435640" y="2060640"/>
            <a:ext cx="158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写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7660"/>
          <p:cNvSpPr/>
          <p:nvPr/>
        </p:nvSpPr>
        <p:spPr>
          <a:xfrm>
            <a:off x="755640" y="3860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明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7661"/>
          <p:cNvSpPr/>
          <p:nvPr/>
        </p:nvSpPr>
        <p:spPr>
          <a:xfrm>
            <a:off x="2268360" y="386064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陪伴友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7662"/>
          <p:cNvSpPr/>
          <p:nvPr/>
        </p:nvSpPr>
        <p:spPr>
          <a:xfrm>
            <a:off x="4643280" y="3573360"/>
            <a:ext cx="1511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7665"/>
          <p:cNvSpPr/>
          <p:nvPr/>
        </p:nvSpPr>
        <p:spPr>
          <a:xfrm>
            <a:off x="5435640" y="3860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抒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7666"/>
          <p:cNvSpPr/>
          <p:nvPr/>
        </p:nvSpPr>
        <p:spPr>
          <a:xfrm>
            <a:off x="900000" y="530064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达了对朋友的关切和同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7670"/>
          <p:cNvSpPr/>
          <p:nvPr/>
        </p:nvSpPr>
        <p:spPr>
          <a:xfrm>
            <a:off x="6948360" y="2097000"/>
            <a:ext cx="22669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愁别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27671"/>
          <p:cNvSpPr/>
          <p:nvPr/>
        </p:nvSpPr>
        <p:spPr>
          <a:xfrm>
            <a:off x="6948360" y="3860640"/>
            <a:ext cx="21956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怀、思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7672"/>
          <p:cNvSpPr/>
          <p:nvPr/>
        </p:nvSpPr>
        <p:spPr>
          <a:xfrm>
            <a:off x="496332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次北固山下1"/>
          <p:cNvPicPr/>
          <p:nvPr/>
        </p:nvPicPr>
        <p:blipFill>
          <a:blip r:embed="rId2"/>
          <a:stretch/>
        </p:blipFill>
        <p:spPr>
          <a:xfrm>
            <a:off x="3240" y="-87480"/>
            <a:ext cx="9296280" cy="69296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396720" y="108000"/>
            <a:ext cx="619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次北固山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9937"/>
          <p:cNvSpPr/>
          <p:nvPr/>
        </p:nvSpPr>
        <p:spPr>
          <a:xfrm>
            <a:off x="324000" y="62064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作者生平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9938"/>
          <p:cNvGrpSpPr/>
          <p:nvPr/>
        </p:nvGrpSpPr>
        <p:grpSpPr>
          <a:xfrm>
            <a:off x="609480" y="1386000"/>
            <a:ext cx="7846920" cy="3238560"/>
            <a:chOff x="609480" y="1386000"/>
            <a:chExt cx="7846920" cy="3238560"/>
          </a:xfrm>
        </p:grpSpPr>
        <p:pic>
          <p:nvPicPr>
            <p:cNvPr id="170" name="图片 39939" descr="wangwan"/>
            <p:cNvPicPr/>
            <p:nvPr/>
          </p:nvPicPr>
          <p:blipFill>
            <a:blip r:embed="rId2"/>
            <a:stretch/>
          </p:blipFill>
          <p:spPr>
            <a:xfrm>
              <a:off x="609480" y="1386000"/>
              <a:ext cx="2558880" cy="32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39940"/>
            <p:cNvSpPr/>
            <p:nvPr/>
          </p:nvSpPr>
          <p:spPr>
            <a:xfrm>
              <a:off x="3273480" y="2556720"/>
              <a:ext cx="518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4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48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王湾</a:t>
              </a:r>
              <a:r>
                <a:rPr b="1" lang="zh-CN" sz="48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洛阳人，唐代诗人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图片 39941" descr="news_2005410222621"/>
          <p:cNvPicPr/>
          <p:nvPr/>
        </p:nvPicPr>
        <p:blipFill>
          <a:blip r:embed="rId3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7170"/>
          <p:cNvSpPr/>
          <p:nvPr/>
        </p:nvSpPr>
        <p:spPr>
          <a:xfrm>
            <a:off x="1562040" y="792000"/>
            <a:ext cx="6019920" cy="762120"/>
          </a:xfrm>
          <a:prstGeom prst="rect">
            <a:avLst/>
          </a:prstGeom>
          <a:noFill/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观沧海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171"/>
          <p:cNvSpPr/>
          <p:nvPr/>
        </p:nvSpPr>
        <p:spPr>
          <a:xfrm>
            <a:off x="3818520" y="3811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曹 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9219" descr="caocao3_1"/>
          <p:cNvPicPr/>
          <p:nvPr/>
        </p:nvPicPr>
        <p:blipFill>
          <a:blip r:embed="rId2"/>
          <a:stretch/>
        </p:blipFill>
        <p:spPr>
          <a:xfrm>
            <a:off x="5478480" y="1554120"/>
            <a:ext cx="3564000" cy="490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40962"/>
          <p:cNvSpPr/>
          <p:nvPr/>
        </p:nvSpPr>
        <p:spPr>
          <a:xfrm>
            <a:off x="684360" y="83664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家住洛阳，旅于江南，在这座山下停泊，被这里开阔秀丽的景色所吸引，写下了这首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时交通不发达，流落外乡或在外任职的人久不得归，自然会产生乡愁，这首诗是写乡愁的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诗题的“次”字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停留、停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44033"/>
          <p:cNvSpPr/>
          <p:nvPr/>
        </p:nvSpPr>
        <p:spPr>
          <a:xfrm>
            <a:off x="1828800" y="22860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，要求：读准字音，声音洪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42920" y="1266840"/>
            <a:ext cx="792000" cy="13129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品读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479600" y="549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联：“客路青山外，行舟绿水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1258920" y="12589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旅途在青山之外，自已乘坐的船正在绿水中向前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1335240" y="294336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联：“潮平两岸阔，风正一帆悬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882720" y="352908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潮水上涨，江面顿时开阔，江水似乎与岸平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船行江中，和风顺江吹来，船帆端端正正地高挂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142920" y="1552680"/>
            <a:ext cx="792000" cy="13129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品读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0080" y="6364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颈联：“海日生残夜，江春入旧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92240" y="1301760"/>
            <a:ext cx="784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残夜还未消退之时，一轮红日从海上冉冉升起；旧年尚未逝去，江上已呈露春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的是江上行舟，即将天亮的情景。作者无意说理，却在描写景物、节令之中，蕴含着一种自然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趣：海日生于残夜，将驱尽黑暗；江春，那江上景物表现的春意，闯入旧年，将赶走严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仅写景逼真，叙事确切，而且表现出具有普遍意义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活哲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给人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乐观、积极、向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艺术鼓舞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42920" y="1552680"/>
            <a:ext cx="792000" cy="131292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隶书"/>
              </a:rPr>
              <a:t>品读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1042920" y="6872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尾联：“乡书何处达？归雁洛阳边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042920" y="1484280"/>
            <a:ext cx="79218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信不知何时寄回家园？烦劳北归的鸿雁，为我把加薪捎回到洛阳那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言思乡之情，而思乡之情自在其中。看到南雁北归，自然想到鸿雁传书的典故，便想让大雁把他这游子的音讯带给洛阳家乡。流露出身在江南、神驰故里的飘泊羁旅之情，使全篇笼罩着一层清淡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48129"/>
          <p:cNvSpPr/>
          <p:nvPr/>
        </p:nvSpPr>
        <p:spPr>
          <a:xfrm>
            <a:off x="152280" y="1810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品味探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48130"/>
          <p:cNvSpPr/>
          <p:nvPr/>
        </p:nvSpPr>
        <p:spPr>
          <a:xfrm>
            <a:off x="1580400" y="1197000"/>
            <a:ext cx="41432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客路青山外，行舟绿水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一句说明作者正在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绿水”指什么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说明作者为公事奔波劳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绿水”指长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49153"/>
          <p:cNvSpPr/>
          <p:nvPr/>
        </p:nvSpPr>
        <p:spPr>
          <a:xfrm>
            <a:off x="2292840" y="1066680"/>
            <a:ext cx="40024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客路”在“青山外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暗含什么意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路途十分遥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透露出羁旅漂泊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50177"/>
          <p:cNvSpPr/>
          <p:nvPr/>
        </p:nvSpPr>
        <p:spPr>
          <a:xfrm>
            <a:off x="2400480" y="1252440"/>
            <a:ext cx="4447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潮平两岸阔，风正一帆悬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说明当时是什么季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春天到来，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春雨增多，春潮上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52225"/>
          <p:cNvSpPr/>
          <p:nvPr/>
        </p:nvSpPr>
        <p:spPr>
          <a:xfrm>
            <a:off x="0" y="152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诗人写此诗正值什么时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根据什么作出此判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春节之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江春入旧年”说明已到年底，辞旧迎新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提示：此时人们大都回家团聚，而诗人却依然在外奔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55297"/>
          <p:cNvSpPr/>
          <p:nvPr/>
        </p:nvSpPr>
        <p:spPr>
          <a:xfrm>
            <a:off x="2751480" y="1158840"/>
            <a:ext cx="347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该诗中表现思乡之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的是哪一句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乡书何处达？归雁洛阳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8193"/>
          <p:cNvSpPr/>
          <p:nvPr/>
        </p:nvSpPr>
        <p:spPr>
          <a:xfrm>
            <a:off x="495720" y="704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8194"/>
          <p:cNvSpPr/>
          <p:nvPr/>
        </p:nvSpPr>
        <p:spPr>
          <a:xfrm>
            <a:off x="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识记作家、作品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8195"/>
          <p:cNvSpPr/>
          <p:nvPr/>
        </p:nvSpPr>
        <p:spPr>
          <a:xfrm>
            <a:off x="0" y="34290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深刻理解诗歌的内容与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8196"/>
          <p:cNvSpPr/>
          <p:nvPr/>
        </p:nvSpPr>
        <p:spPr>
          <a:xfrm>
            <a:off x="0" y="4419720"/>
            <a:ext cx="7162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教学重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深刻理解诗歌的内容与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8197"/>
          <p:cNvSpPr/>
          <p:nvPr/>
        </p:nvSpPr>
        <p:spPr>
          <a:xfrm>
            <a:off x="0" y="2590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有情感的背诵诗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3640" y="981000"/>
            <a:ext cx="856908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为什么诗人突然想到要寄一封家书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新年来到，正是家人团聚之时，每逢佳节倍思亲，而自己旅食他乡，久不得归，自然想到要借雁给他传递家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622440" y="4513320"/>
            <a:ext cx="8064360" cy="1682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56321"/>
          <p:cNvSpPr/>
          <p:nvPr/>
        </p:nvSpPr>
        <p:spPr>
          <a:xfrm>
            <a:off x="3034440" y="1219320"/>
            <a:ext cx="31068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哪两句是对偶句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潮平两岸阔，风正一帆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海日生残夜，江春入旧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56322"/>
          <p:cNvSpPr/>
          <p:nvPr/>
        </p:nvSpPr>
        <p:spPr>
          <a:xfrm>
            <a:off x="2076480" y="3809880"/>
            <a:ext cx="520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用几个字概括本诗主旨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抒发思乡之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489040" y="2590920"/>
            <a:ext cx="431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独在异乡为异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每逢佳节倍思亲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486160" y="3948120"/>
            <a:ext cx="479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床前明月光，疑是地上霜。举头望明月，低头思故乡。（李白）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489040" y="1216080"/>
            <a:ext cx="431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风又绿江南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月何时照我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557440" y="63036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请你积累思乡的古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6761160" y="4505400"/>
            <a:ext cx="2209680" cy="1879560"/>
            <a:chOff x="6761160" y="4505400"/>
            <a:chExt cx="2209680" cy="1879560"/>
          </a:xfrm>
        </p:grpSpPr>
        <p:pic>
          <p:nvPicPr>
            <p:cNvPr id="201" name="Picture 8" descr="bsj"/>
            <p:cNvPicPr/>
            <p:nvPr/>
          </p:nvPicPr>
          <p:blipFill>
            <a:blip r:embed="rId2"/>
            <a:stretch/>
          </p:blipFill>
          <p:spPr>
            <a:xfrm>
              <a:off x="6761160" y="4963320"/>
              <a:ext cx="1500840" cy="142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9" descr="bsj"/>
            <p:cNvPicPr/>
            <p:nvPr/>
          </p:nvPicPr>
          <p:blipFill>
            <a:blip r:embed="rId3"/>
            <a:stretch/>
          </p:blipFill>
          <p:spPr>
            <a:xfrm>
              <a:off x="7636680" y="4505400"/>
              <a:ext cx="133416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" descr="bsj"/>
            <p:cNvPicPr/>
            <p:nvPr/>
          </p:nvPicPr>
          <p:blipFill>
            <a:blip r:embed="rId4"/>
            <a:stretch/>
          </p:blipFill>
          <p:spPr>
            <a:xfrm>
              <a:off x="7636680" y="5279400"/>
              <a:ext cx="672120" cy="110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Picture 12" descr="图片7"/>
          <p:cNvPicPr/>
          <p:nvPr/>
        </p:nvPicPr>
        <p:blipFill>
          <a:blip r:embed="rId5"/>
          <a:stretch/>
        </p:blipFill>
        <p:spPr>
          <a:xfrm>
            <a:off x="130320" y="1176480"/>
            <a:ext cx="2033280" cy="612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57345"/>
          <p:cNvSpPr/>
          <p:nvPr/>
        </p:nvSpPr>
        <p:spPr>
          <a:xfrm>
            <a:off x="0" y="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背诵诗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7346"/>
          <p:cNvSpPr/>
          <p:nvPr/>
        </p:nvSpPr>
        <p:spPr>
          <a:xfrm>
            <a:off x="246240" y="990720"/>
            <a:ext cx="654804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次北固山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王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客路青山外，行舟绿水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潮平两岸阔，风正一帆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海日生残夜，江春入旧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乡书何处达，归雁洛阳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文本框 58369"/>
          <p:cNvSpPr/>
          <p:nvPr/>
        </p:nvSpPr>
        <p:spPr>
          <a:xfrm>
            <a:off x="152280" y="76212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作业：（来自历年中考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王湾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次北固山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诗中描绘涨潮时水面宽阔，帆船顺风而行的句子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潮平两岸阔，风正一帆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次北固山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诗中，表现时序变迁，新旧交替这一自然规律的诗句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海日生残夜，江春入旧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次北固山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诗中写游子思乡情深的诗句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乡书何处达？归雁洛阳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12600" y="1122480"/>
            <a:ext cx="5245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天净沙  秋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马致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枯藤老树昏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小桥流水人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古道西风瘦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夕阳西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断肠人在天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244440" y="-1870200"/>
            <a:ext cx="8655120" cy="7874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-1494360"/>
            <a:ext cx="1284120" cy="555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华文新魏"/>
              </a:rPr>
              <a:t>天净沙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秋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06497" descr="老树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106498"/>
          <p:cNvSpPr/>
          <p:nvPr/>
        </p:nvSpPr>
        <p:spPr>
          <a:xfrm>
            <a:off x="-591120" y="0"/>
            <a:ext cx="1826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天净沙 秋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6499"/>
          <p:cNvSpPr/>
          <p:nvPr/>
        </p:nvSpPr>
        <p:spPr>
          <a:xfrm>
            <a:off x="7243200" y="2971800"/>
            <a:ext cx="1399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马致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线形标注 1 106500"/>
          <p:cNvSpPr/>
          <p:nvPr/>
        </p:nvSpPr>
        <p:spPr>
          <a:xfrm>
            <a:off x="3505320" y="609480"/>
            <a:ext cx="3276360" cy="990720"/>
          </a:xfrm>
          <a:prstGeom prst="borderCallout1">
            <a:avLst>
              <a:gd name="adj1" fmla="val 18750"/>
              <a:gd name="adj2" fmla="val -8333"/>
              <a:gd name="adj3" fmla="val 35736"/>
              <a:gd name="adj4" fmla="val -74805"/>
            </a:avLst>
          </a:prstGeom>
          <a:solidFill>
            <a:srgbClr val="ffffcc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曲牌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线形标注 1 106501"/>
          <p:cNvSpPr/>
          <p:nvPr/>
        </p:nvSpPr>
        <p:spPr>
          <a:xfrm>
            <a:off x="2895480" y="2373480"/>
            <a:ext cx="1676520" cy="990360"/>
          </a:xfrm>
          <a:prstGeom prst="borderCallout1">
            <a:avLst>
              <a:gd name="adj1" fmla="val 18750"/>
              <a:gd name="adj2" fmla="val -8333"/>
              <a:gd name="adj3" fmla="val 65384"/>
              <a:gd name="adj4" fmla="val -106060"/>
            </a:avLst>
          </a:prstGeom>
          <a:solidFill>
            <a:srgbClr val="ffffcc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题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线形标注 1 106502"/>
          <p:cNvSpPr/>
          <p:nvPr/>
        </p:nvSpPr>
        <p:spPr>
          <a:xfrm>
            <a:off x="3886200" y="5105520"/>
            <a:ext cx="3965400" cy="990360"/>
          </a:xfrm>
          <a:prstGeom prst="borderCallout1">
            <a:avLst>
              <a:gd name="adj1" fmla="val 18750"/>
              <a:gd name="adj2" fmla="val -8333"/>
              <a:gd name="adj3" fmla="val -99837"/>
              <a:gd name="adj4" fmla="val 101921"/>
            </a:avLst>
          </a:prstGeom>
          <a:solidFill>
            <a:srgbClr val="ffffcc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元曲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2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107521" descr="枯树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107522"/>
          <p:cNvSpPr/>
          <p:nvPr/>
        </p:nvSpPr>
        <p:spPr>
          <a:xfrm>
            <a:off x="609480" y="457200"/>
            <a:ext cx="44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07523"/>
          <p:cNvSpPr/>
          <p:nvPr/>
        </p:nvSpPr>
        <p:spPr>
          <a:xfrm>
            <a:off x="179280" y="1989000"/>
            <a:ext cx="73803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一、正确、流利、有感情的朗读诗歌及背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二、理解</a:t>
            </a:r>
            <a:r>
              <a:rPr b="1" lang="en-US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《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天净沙</a:t>
            </a:r>
            <a:r>
              <a:rPr b="1" lang="en-US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·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秋思</a:t>
            </a:r>
            <a:r>
              <a:rPr b="1" lang="en-US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》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所描写的景物和思想感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华文仿宋"/>
                <a:ea typeface="华文仿宋"/>
              </a:rPr>
              <a:t>三、培养学生热爱家乡、热爱祖国的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08548" descr="198901"/>
          <p:cNvPicPr/>
          <p:nvPr/>
        </p:nvPicPr>
        <p:blipFill>
          <a:blip r:embed="rId2"/>
          <a:stretch/>
        </p:blipFill>
        <p:spPr>
          <a:xfrm>
            <a:off x="25560" y="-9360"/>
            <a:ext cx="3139920" cy="45320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"/>
          <p:cNvSpPr/>
          <p:nvPr/>
        </p:nvSpPr>
        <p:spPr>
          <a:xfrm>
            <a:off x="3033720" y="-9360"/>
            <a:ext cx="58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马致远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号东篱，大都（今北京）人，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关汉卿、王实甫、白朴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并称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元代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杂剧四大家。他在元代散曲作家群中位居第一。在他的作品中，更能反映他风格的是散曲；散曲中又以小令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天净沙　秋思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最为有名，元人周德清誉为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秋思之祖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111617" descr="背景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矩形 111618"/>
          <p:cNvSpPr/>
          <p:nvPr/>
        </p:nvSpPr>
        <p:spPr>
          <a:xfrm>
            <a:off x="3048120" y="66600"/>
            <a:ext cx="4572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天净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秋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马致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枯藤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\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老树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\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昏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小桥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\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流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\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人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古道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\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西风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\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瘦马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夕阳西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断肠人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\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天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286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朗读正音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划分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形标注 111620"/>
          <p:cNvSpPr/>
          <p:nvPr/>
        </p:nvSpPr>
        <p:spPr>
          <a:xfrm>
            <a:off x="1828800" y="1295280"/>
            <a:ext cx="1441440" cy="1008360"/>
          </a:xfrm>
          <a:prstGeom prst="wedgeEllipseCallout">
            <a:avLst>
              <a:gd name="adj1" fmla="val 85680"/>
              <a:gd name="adj2" fmla="val 51731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é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形标注 111621"/>
          <p:cNvSpPr/>
          <p:nvPr/>
        </p:nvSpPr>
        <p:spPr>
          <a:xfrm>
            <a:off x="5638680" y="914400"/>
            <a:ext cx="1441440" cy="1008000"/>
          </a:xfrm>
          <a:prstGeom prst="wedgeEllipseCallout">
            <a:avLst>
              <a:gd name="adj1" fmla="val -28305"/>
              <a:gd name="adj2" fmla="val 89999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ū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形标注 111622"/>
          <p:cNvSpPr/>
          <p:nvPr/>
        </p:nvSpPr>
        <p:spPr>
          <a:xfrm>
            <a:off x="7391520" y="2438280"/>
            <a:ext cx="1441440" cy="1008360"/>
          </a:xfrm>
          <a:prstGeom prst="wedgeEllipseCallout">
            <a:avLst>
              <a:gd name="adj1" fmla="val -90638"/>
              <a:gd name="adj2" fmla="val -32361"/>
            </a:avLst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282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走近诗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6248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曹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5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2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字孟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沛国谯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Qiáo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县人，东汉末年的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政治家、军事家、诗人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他的诗以慷慨悲壮见称。著有《孙子略解》《兵法接要》，诗歌《蒿里行》《观沧海》《龟虽寿》《短歌行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9220" descr="曹操1"/>
          <p:cNvPicPr/>
          <p:nvPr/>
        </p:nvPicPr>
        <p:blipFill>
          <a:blip r:embed="rId2"/>
          <a:stretch/>
        </p:blipFill>
        <p:spPr>
          <a:xfrm>
            <a:off x="6248520" y="1241280"/>
            <a:ext cx="2892240" cy="494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114689"/>
          <p:cNvSpPr/>
          <p:nvPr/>
        </p:nvSpPr>
        <p:spPr>
          <a:xfrm>
            <a:off x="0" y="874800"/>
            <a:ext cx="9144000" cy="46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枯藤老树昏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枯死的孤藤，枯槁的老树，黄昏时归巢的乌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小桥流水人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眼前呈现一座小桥，潺潺的流水，还有依稀袅起炊烟的农家小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古道西风瘦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古老荒凉的道路，萧瑟的秋风，一匹疲惫的驮着我蹒跚前行的瘦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夕阳西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夕阳向西缓缓落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断肠人在天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悲伤断肠的人还漂泊在天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文本框 115714"/>
          <p:cNvSpPr/>
          <p:nvPr/>
        </p:nvSpPr>
        <p:spPr>
          <a:xfrm>
            <a:off x="28440" y="-12600"/>
            <a:ext cx="838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枯藤老树昏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烘托游子对家乡的思念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连乌鸦都回窝团聚了，自己却还在西风古道上奔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小桥流水人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引起游子对“家”的思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烘托游子的思乡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17761"/>
          <p:cNvSpPr/>
          <p:nvPr/>
        </p:nvSpPr>
        <p:spPr>
          <a:xfrm>
            <a:off x="317520" y="1143000"/>
            <a:ext cx="780408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古道西风瘦马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烘托游子家远行的凄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古道西风表现荒凉凄冷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由瘦马可以联想到人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7762"/>
          <p:cNvSpPr txBox="1"/>
          <p:nvPr/>
        </p:nvSpPr>
        <p:spPr>
          <a:xfrm>
            <a:off x="954000" y="4911840"/>
            <a:ext cx="6324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马犹如此，人何以堪</a:t>
            </a:r>
            <a:endParaRPr b="0" lang="en-US" sz="1800" spc="1" strike="noStrike">
              <a:ln w="12600">
                <a:solidFill>
                  <a:srgbClr val="0000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vert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118785"/>
          <p:cNvSpPr/>
          <p:nvPr/>
        </p:nvSpPr>
        <p:spPr>
          <a:xfrm>
            <a:off x="289080" y="-9360"/>
            <a:ext cx="88707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夕阳西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点明时间，烘托游子异乡奔波的凄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曲中，点明主旨的句子是哪一句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断肠人在天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文本框 126977"/>
          <p:cNvSpPr/>
          <p:nvPr/>
        </p:nvSpPr>
        <p:spPr>
          <a:xfrm>
            <a:off x="3053520" y="1219320"/>
            <a:ext cx="310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主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表现羁旅之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（表现思乡之情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注：羁旅，长久寄居他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08000" y="1193760"/>
            <a:ext cx="892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净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篇仅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句，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字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景物，寄情于物，把凄苦愁楚之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众多自然景物的罗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把浓重的深秋色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刻画得淋漓尽致。生动地表现了一个长期漂泊他乡的游子的悲哀，堪称悲秋思乡的经典！这首小令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此被后人称赞为“秋思之祖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131073"/>
          <p:cNvSpPr/>
          <p:nvPr/>
        </p:nvSpPr>
        <p:spPr>
          <a:xfrm>
            <a:off x="0" y="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背诵诗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31074"/>
          <p:cNvSpPr/>
          <p:nvPr/>
        </p:nvSpPr>
        <p:spPr>
          <a:xfrm>
            <a:off x="380880" y="965160"/>
            <a:ext cx="746784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天净沙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秋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马致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枯藤老树昏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桥流水人家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古道西风瘦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夕阳西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断肠人在天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32097"/>
          <p:cNvSpPr/>
          <p:nvPr/>
        </p:nvSpPr>
        <p:spPr>
          <a:xfrm>
            <a:off x="152280" y="762120"/>
            <a:ext cx="87631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作业：（来自历年中考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净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秋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写农村晚景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枯藤老树昏鸦，小桥流水人家，古道西风瘦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马致远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净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秋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渲染萧条、冷落、凄凉气氛的写景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枯藤老树昏鸦，古道西风瘦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马致远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净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秋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写游子孤寂愁苦之情的名句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夕阳西下，断肠人在天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该曲的主旨句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夕阳西下，）断肠人在天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5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5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133121"/>
          <p:cNvSpPr/>
          <p:nvPr/>
        </p:nvSpPr>
        <p:spPr>
          <a:xfrm>
            <a:off x="0" y="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净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秋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【马致远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心句是哪一句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长城新魏碑体"/>
                <a:ea typeface="长城新魏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长城新魏碑体"/>
                <a:ea typeface="长城新魏碑体"/>
              </a:rPr>
              <a:t>夕阳西下，断肠人在天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全诗通过丰富的意象，渲染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气氛，抒发了诗人极其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情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小桥流水人家”是令人神往的一幅美景，它被穿插在诗 中，起到怎样的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33122"/>
          <p:cNvSpPr/>
          <p:nvPr/>
        </p:nvSpPr>
        <p:spPr>
          <a:xfrm>
            <a:off x="4951440" y="131112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长城新魏碑体"/>
              </a:rPr>
              <a:t>悲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33123"/>
          <p:cNvSpPr/>
          <p:nvPr/>
        </p:nvSpPr>
        <p:spPr>
          <a:xfrm>
            <a:off x="1128600" y="18302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长城新魏碑体"/>
              </a:rPr>
              <a:t>悲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33125"/>
          <p:cNvSpPr/>
          <p:nvPr/>
        </p:nvSpPr>
        <p:spPr>
          <a:xfrm>
            <a:off x="85680" y="3232080"/>
            <a:ext cx="91440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眼前呈现一座小桥，潺潺的流水，还有依稀炊烟的农家小院。这种有人家安居其间的田园小景是那样幽静而甜蜜。这一切，不能不令浪迹天涯的游子想起自己家乡的小桥、流水和亲人。在这里，以乐景写哀情，令人倍感凄凉，烘托出沦落他乡的游子之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5440" y="-106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理解性背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观沧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中最能表现作者博大胸襟的诗句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月之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若出其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星汉灿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若出其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0241"/>
          <p:cNvSpPr/>
          <p:nvPr/>
        </p:nvSpPr>
        <p:spPr>
          <a:xfrm>
            <a:off x="195120" y="378432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沧海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步出夏门行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第一章。公元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八月，曹操大破盘踞在我国东北部的乌桓族及袁绍的残余势力，统一了北方；九月，在归途中经过碣石山，面对洪波涌起的大海，触景生情，写下了这首壮丽的诗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37217"/>
          <p:cNvSpPr/>
          <p:nvPr/>
        </p:nvSpPr>
        <p:spPr>
          <a:xfrm>
            <a:off x="152280" y="762120"/>
            <a:ext cx="87631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次北固山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表达羁旅之思的句子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乡书何处达？归雁洛阳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次北固山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对偶句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潮平两岸阔，风正一帆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海日生残夜，江春入旧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文本框 139265"/>
          <p:cNvSpPr/>
          <p:nvPr/>
        </p:nvSpPr>
        <p:spPr>
          <a:xfrm>
            <a:off x="152280" y="762120"/>
            <a:ext cx="876312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天净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秋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个画面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枯藤老树昏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小桥流水人家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古道西风瘦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天净沙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秋思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主题句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断肠人在天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2289" descr="2030164_2767848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2290"/>
          <p:cNvSpPr/>
          <p:nvPr/>
        </p:nvSpPr>
        <p:spPr>
          <a:xfrm>
            <a:off x="4495680" y="45720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且听风吟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291"/>
          <p:cNvSpPr/>
          <p:nvPr/>
        </p:nvSpPr>
        <p:spPr>
          <a:xfrm>
            <a:off x="539640" y="2133720"/>
            <a:ext cx="358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观沧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曹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东临碣石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观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何澹澹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山岛竦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树木丛生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百草丰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风萧瑟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洪波涌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月之行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若出其中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星汉灿烂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若出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幸甚至哉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歌以咏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2292"/>
          <p:cNvSpPr/>
          <p:nvPr/>
        </p:nvSpPr>
        <p:spPr>
          <a:xfrm>
            <a:off x="4876920" y="1371600"/>
            <a:ext cx="352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播放录音，听名家泛读，感受语言之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美</a:t>
            </a: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并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给发音不准的生字词注上拼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2294"/>
          <p:cNvSpPr/>
          <p:nvPr/>
        </p:nvSpPr>
        <p:spPr>
          <a:xfrm>
            <a:off x="896040" y="882720"/>
            <a:ext cx="2424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/>
              </a:rPr>
              <a:t>《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4"/>
              </a:rPr>
              <a:t>观沧海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5"/>
              </a:rPr>
              <a:t>》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6"/>
              </a:rPr>
              <a:t>优秀诵读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4337"/>
          <p:cNvSpPr/>
          <p:nvPr/>
        </p:nvSpPr>
        <p:spPr>
          <a:xfrm>
            <a:off x="1828800" y="22860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自由朗读，要求：读准字音，声音洪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23:47:00Z</dcterms:created>
  <dc:creator/>
  <dc:description/>
  <cp:keywords/>
  <dc:language>en-US</dc:language>
  <cp:lastModifiedBy>微软用户</cp:lastModifiedBy>
  <dcterms:modified xsi:type="dcterms:W3CDTF">2018-10-12T03:39:51Z</dcterms:modified>
  <cp:revision>4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1</vt:lpwstr>
  </property>
  <property fmtid="{D5CDD505-2E9C-101B-9397-08002B2CF9AE}" pid="3" name="Version">
    <vt:r8>1</vt:r8>
  </property>
</Properties>
</file>